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3.wmf" ContentType="image/x-wmf"/>
  <Override PartName="/ppt/media/image4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3D6-BFB1-4C77-8F77-E0E9D443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D13-71A8-4ECD-958D-4E6D9273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187-009D-4278-A5B2-789956F5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71C-5124-4686-8FD0-4CF15CE9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9A5-CA4E-4B99-9C21-52E8D7E1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577-E3C7-4A83-BC1A-40D3BDBF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85F-2F0C-4049-BC40-C465A69C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724-3733-4D2B-A37E-C394C260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0FE-1FE7-4AF4-BAED-67400B7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BE5-8BE7-42AE-99E3-B6745FE7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55C-5091-442B-A911-F6F7998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2E7-89B0-45BB-BCB4-D46E46B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CA2-4C8A-47A2-A33D-960980AE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odle.org/" TargetMode="External"/><Relationship Id="rId3" Type="http://schemas.openxmlformats.org/officeDocument/2006/relationships/hyperlink" Target="http://www.moodle.org/" TargetMode="External"/><Relationship Id="rId4" Type="http://schemas.openxmlformats.org/officeDocument/2006/relationships/hyperlink" Target="http://www.moodle.com/" TargetMode="External"/><Relationship Id="rId5" Type="http://schemas.openxmlformats.org/officeDocument/2006/relationships/hyperlink" Target="http://www.moodle.com/" TargetMode="Externa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A Learning portal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–Using Moodl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72360" y="4365720"/>
            <a:ext cx="22636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.F. van He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4941720"/>
            <a:ext cx="43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. Michael’s School for Girls  in collaboration with Centre for Higher Education Studies and Development (CHES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-Learning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378320" cy="5198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Arial"/>
              </a:rPr>
              <a:t>What is the difference between e-learning and conventional teac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2360" cy="537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ner cent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o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concepts &amp;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way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ing learners for LMS”s (Tertiary institu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484280"/>
            <a:ext cx="4032360" cy="537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cher cent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when we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tegration of concepts &amp; knowledge (repe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way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voice spea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preparing learners for LMS’s (Tertiary Institut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Virtual Learning Environ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138708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Virtual Learning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LE)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ystem designed to facilitate teachers in the management of educational cou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ir students, especially by helping teachers and learners with course adminis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 usually run on servers, using one or more databases and a programming or scripting language to serve the course to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internet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77048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 e-learning systems are sometimes also called 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, Course Management System (CMS), Managed Learning Environments (MLE), education via computer-mediated communication (CMC) or Online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00988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mmariese a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LE should make it possible for a course designer/teacher to present to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rough a single, consistent, and intuitive interface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e components required for a course of education, learning and facil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Example of a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3280" y="2133720"/>
            <a:ext cx="56880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60835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t Dog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50000">
                    <a:srgbClr val="f60835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33782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Lessons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19280" y="3573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9363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Activities” present in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027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4500720" y="2997360"/>
            <a:ext cx="30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443280" y="335772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221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3280" y="5084640"/>
            <a:ext cx="252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2852640"/>
            <a:ext cx="11509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40720" y="2924280"/>
            <a:ext cx="792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Surv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5435280" y="263700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80360" y="2421000"/>
            <a:ext cx="9367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he Cou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02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28000" y="2492280"/>
            <a:ext cx="936720" cy="46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665928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904680" y="1143000"/>
            <a:ext cx="7332840" cy="3200400"/>
            <a:chOff x="904680" y="1143000"/>
            <a:chExt cx="7332840" cy="3200400"/>
          </a:xfrm>
        </p:grpSpPr>
        <p:cxnSp>
          <p:nvCxnSpPr>
            <p:cNvPr id="46" name="_s92195"/>
            <p:cNvCxnSpPr>
              <a:stCxn id="47" idx="0"/>
              <a:endCxn id="48" idx="2"/>
            </p:cNvCxnSpPr>
            <p:nvPr/>
          </p:nvCxnSpPr>
          <p:spPr>
            <a:xfrm flipV="1" rot="16200000">
              <a:off x="5809680" y="361440"/>
              <a:ext cx="229320" cy="270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92193"/>
            <p:cNvCxnSpPr>
              <a:stCxn id="50" idx="0"/>
              <a:endCxn id="48" idx="2"/>
            </p:cNvCxnSpPr>
            <p:nvPr/>
          </p:nvCxnSpPr>
          <p:spPr>
            <a:xfrm flipV="1" rot="16200000">
              <a:off x="5116680" y="1054440"/>
              <a:ext cx="229320" cy="1319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92187"/>
            <p:cNvCxnSpPr>
              <a:stCxn id="52" idx="1"/>
              <a:endCxn id="53" idx="2"/>
            </p:cNvCxnSpPr>
            <p:nvPr/>
          </p:nvCxnSpPr>
          <p:spPr>
            <a:xfrm rot="10800000">
              <a:off x="4779360" y="3656880"/>
              <a:ext cx="1418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92184"/>
            <p:cNvCxnSpPr>
              <a:stCxn id="53" idx="1"/>
              <a:endCxn id="55" idx="2"/>
            </p:cNvCxnSpPr>
            <p:nvPr/>
          </p:nvCxnSpPr>
          <p:spPr>
            <a:xfrm rot="10800000">
              <a:off x="4086720" y="2971080"/>
              <a:ext cx="14328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92182"/>
            <p:cNvCxnSpPr>
              <a:stCxn id="55" idx="1"/>
              <a:endCxn id="57" idx="2"/>
            </p:cNvCxnSpPr>
            <p:nvPr/>
          </p:nvCxnSpPr>
          <p:spPr>
            <a:xfrm rot="10800000">
              <a:off x="3118320" y="2285280"/>
              <a:ext cx="1418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92180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1617840" y="239904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92178"/>
            <p:cNvCxnSpPr>
              <a:stCxn id="62" idx="0"/>
              <a:endCxn id="48" idx="2"/>
            </p:cNvCxnSpPr>
            <p:nvPr/>
          </p:nvCxnSpPr>
          <p:spPr>
            <a:xfrm flipH="1" flipV="1" rot="5400000">
              <a:off x="4424040" y="1680120"/>
              <a:ext cx="229320" cy="68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92177"/>
            <p:cNvCxnSpPr>
              <a:stCxn id="57" idx="0"/>
              <a:endCxn id="48" idx="2"/>
            </p:cNvCxnSpPr>
            <p:nvPr/>
          </p:nvCxnSpPr>
          <p:spPr>
            <a:xfrm flipH="1" flipV="1" rot="5400000">
              <a:off x="3731040" y="987120"/>
              <a:ext cx="229320" cy="1454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92176"/>
            <p:cNvCxnSpPr>
              <a:stCxn id="60" idx="0"/>
              <a:endCxn id="48" idx="2"/>
            </p:cNvCxnSpPr>
            <p:nvPr/>
          </p:nvCxnSpPr>
          <p:spPr>
            <a:xfrm flipH="1" flipV="1" rot="5400000">
              <a:off x="3038040" y="294480"/>
              <a:ext cx="229320" cy="283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92172"/>
            <p:cNvSpPr/>
            <p:nvPr/>
          </p:nvSpPr>
          <p:spPr>
            <a:xfrm>
              <a:off x="3898080" y="1143000"/>
              <a:ext cx="134748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-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92173"/>
            <p:cNvSpPr/>
            <p:nvPr/>
          </p:nvSpPr>
          <p:spPr>
            <a:xfrm>
              <a:off x="1110600" y="1828800"/>
              <a:ext cx="124344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rans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174"/>
            <p:cNvSpPr/>
            <p:nvPr/>
          </p:nvSpPr>
          <p:spPr>
            <a:xfrm>
              <a:off x="2496960" y="182880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What is e-Learning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92175"/>
            <p:cNvSpPr/>
            <p:nvPr/>
          </p:nvSpPr>
          <p:spPr>
            <a:xfrm>
              <a:off x="3882600" y="182880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MS &amp; V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179"/>
            <p:cNvSpPr/>
            <p:nvPr/>
          </p:nvSpPr>
          <p:spPr>
            <a:xfrm>
              <a:off x="904680" y="2514600"/>
              <a:ext cx="1654200" cy="457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ern learn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92181"/>
            <p:cNvSpPr/>
            <p:nvPr/>
          </p:nvSpPr>
          <p:spPr>
            <a:xfrm>
              <a:off x="3260160" y="2514600"/>
              <a:ext cx="1654200" cy="4572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hat E-Learning is n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92183"/>
            <p:cNvSpPr/>
            <p:nvPr/>
          </p:nvSpPr>
          <p:spPr>
            <a:xfrm>
              <a:off x="4230000" y="3200400"/>
              <a:ext cx="109800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hy E-Learning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92185"/>
            <p:cNvSpPr/>
            <p:nvPr/>
          </p:nvSpPr>
          <p:spPr>
            <a:xfrm>
              <a:off x="4921200" y="3886200"/>
              <a:ext cx="331632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fferences between e-Learning &amp; Conventional metho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92192"/>
            <p:cNvSpPr/>
            <p:nvPr/>
          </p:nvSpPr>
          <p:spPr>
            <a:xfrm>
              <a:off x="5268600" y="182880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92194"/>
            <p:cNvSpPr/>
            <p:nvPr/>
          </p:nvSpPr>
          <p:spPr>
            <a:xfrm>
              <a:off x="6654240" y="182880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oo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027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0000" y="2276640"/>
            <a:ext cx="936720" cy="463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932360" y="2492280"/>
            <a:ext cx="1728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5580000" y="2637000"/>
            <a:ext cx="1728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524720" y="2421000"/>
            <a:ext cx="9367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 rot="20092800">
            <a:off x="1907640" y="3284640"/>
            <a:ext cx="633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rtiary institutio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sign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er is the person who is responsible for creating the course and making the course content avail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er, who often is also the teacher of the course, can perform multiple tasks, such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quizz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sing th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841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80360" cy="516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907920"/>
            <a:ext cx="723564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’s students are no longer the people our educational system was designed to t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9291800">
            <a:off x="755280" y="2133360"/>
            <a:ext cx="755316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60835"/>
                </a:solidFill>
                <a:latin typeface="Arial Black"/>
              </a:rPr>
              <a:t>Transformation is not opt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6083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tud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not manipulate the course content other than in the student presentation areas as defined by the desig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32720" y="40464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24280" y="1906560"/>
            <a:ext cx="32954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out Mo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24280" y="1906560"/>
            <a:ext cx="3295440" cy="3913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9640" y="155736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odle Acronym: Modular Object Oriented Dynamic Learning Enviro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odle is a open source product that can be freely downloaded, modified and distribu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out Moodle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content management system (CMS) some times also called as a VLE (Virtual Learning Environment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used for online course management and deliv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out Moodle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, installation information availabl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oodl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d support information availabl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mood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ontent for a learning port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se is built around the course content, not the Moodl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318200" cy="5127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s we experie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earning” the old ways /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is still old-technology-transfer, rather than transformation to the 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The Centre for Higher Education Studies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velopment (CHESD), especially Anton Pienaar &amp;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bert Thomas (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-Learning Divisio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there input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pertis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St. Michael’s School for Girls for creating exciting opportunities in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Intel for creating platforms like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Grey College for hosting the con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dern children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77336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ur Children are being socialised in a way that is vastly different from their parents. The numbers are overwhelming: over 10 000 hours playing videogames, over 200 000 e-mails and instant messages sent and received; over 10 000 hours talking on cell phones; over 20 000 hours watching TV (over 500 000 commercials) – all before the kids leave college. And maybe at most 5000 hours of book reading” -200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22480" y="836640"/>
            <a:ext cx="4670280" cy="5545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46280"/>
            <a:ext cx="8353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ildren raised with the computer “think differently” from the rest. They develop hypertext minds. They leap ar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-Dr. Michael S Gazzaniga-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Linear processes that dominate educational systems now can actually retard learning for brains developed through game and web-surfing processes on the computer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-Peter Moo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ademic learning must seek out new and innovative ways to attract, retain &amp; impact learners in the knowledge age.”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ilip La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378320" cy="5198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What is e-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af-ZA" sz="2800" spc="-1" strike="noStrike">
                <a:solidFill>
                  <a:srgbClr val="000000"/>
                </a:solidFill>
                <a:latin typeface="Arial"/>
              </a:rPr>
              <a:t>A process that allows learners to take charge of their own learning.It can be customised to meet the individual needs to different learning styles – any place, any pace. It is learning on deman. Technology is not e – learning, rather a tool to deliver e – learning. I t engages learners to construct knowledge or meaning or understanding from information beyond the classroom walls.” (Spender and Steward:2002: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What e-learning is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773360"/>
            <a:ext cx="820728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not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re use of computers or computer 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just to put content on a computer / learning port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LM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an attempt to take over the job of a teac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a quick fix to “educational proble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saving time in the short r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something that all teachers will embra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Why e-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a range of online learning technolog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and teachers can engage in synchronous as well as asynchronous interaction across space, time, and 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learners for tertiary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2:33:07Z</dcterms:created>
  <dc:creator>soois</dc:creator>
  <dc:description/>
  <dc:language>en-US</dc:language>
  <cp:lastModifiedBy>Soois</cp:lastModifiedBy>
  <dcterms:modified xsi:type="dcterms:W3CDTF">2007-06-24T14:27:17Z</dcterms:modified>
  <cp:revision>46</cp:revision>
  <dc:subject/>
  <dc:title> A Learning portal –Using Moodle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12208975</vt:r8>
  </property>
  <property fmtid="{D5CDD505-2E9C-101B-9397-08002B2CF9AE}" pid="3" name="_AuthorEmail">
    <vt:lpwstr>soois@stms.co.za</vt:lpwstr>
  </property>
  <property fmtid="{D5CDD505-2E9C-101B-9397-08002B2CF9AE}" pid="4" name="_AuthorEmailDisplayName">
    <vt:lpwstr>soois</vt:lpwstr>
  </property>
  <property fmtid="{D5CDD505-2E9C-101B-9397-08002B2CF9AE}" pid="5" name="_EmailSubject">
    <vt:lpwstr>Intel Conference (Francois van Heerden)</vt:lpwstr>
  </property>
</Properties>
</file>