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gif" ContentType="image/gif"/>
  <Override PartName="/ppt/media/image3.wmf" ContentType="image/x-wmf"/>
  <Override PartName="/ppt/media/image4.png" ContentType="image/png"/>
  <Override PartName="/ppt/media/image17.gif" ContentType="image/gif"/>
  <Override PartName="/ppt/media/image2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B42A2-59B4-4916-9A51-9638FE687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A44B5-E3E5-4EC8-A052-93628FB3A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1BD89-920B-420A-B920-60F9586B6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856A0-BD62-4155-BAF5-19694B5D8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C5E9C-E0B2-475E-9D76-B9BA3456F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0ACC5-46FE-46E5-BAE5-CE7836367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E12F9-6EE9-4ACD-BE76-9296C4477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9F746-EB78-4CE8-AA0A-746AEB4C9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0E0F8-5B24-4702-ABF7-B9C91B935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0D85F-95B0-48A8-A3E7-B3A51189E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4F0C5-F5A5-4528-A2D5-BFBD28FD5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8E7BB-37E0-4BBA-8258-180E1DA29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F4C85-AFA1-4F71-BB8D-7AE22B9D00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moodle.org/" TargetMode="External"/><Relationship Id="rId3" Type="http://schemas.openxmlformats.org/officeDocument/2006/relationships/hyperlink" Target="http://www.moodle.org/" TargetMode="External"/><Relationship Id="rId4" Type="http://schemas.openxmlformats.org/officeDocument/2006/relationships/hyperlink" Target="http://www.moodle.com/" TargetMode="External"/><Relationship Id="rId5" Type="http://schemas.openxmlformats.org/officeDocument/2006/relationships/hyperlink" Target="http://www.moodle.com/" TargetMode="External"/><Relationship Id="rId6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28840" y="765000"/>
            <a:ext cx="4367160" cy="51850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ZA" sz="4400" spc="-1" strike="noStrike">
                <a:solidFill>
                  <a:srgbClr val="000000"/>
                </a:solidFill>
                <a:latin typeface="Arial"/>
              </a:rPr>
              <a:t>A Learning portal </a:t>
            </a:r>
            <a:r>
              <a:rPr b="0" lang="en-ZA" sz="1800" spc="-1" strike="noStrike">
                <a:solidFill>
                  <a:srgbClr val="000000"/>
                </a:solidFill>
                <a:latin typeface="Arial"/>
              </a:rPr>
              <a:t>–Using Moodle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372360" y="4365720"/>
            <a:ext cx="226368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600" spc="-1" strike="noStrike">
                <a:solidFill>
                  <a:srgbClr val="000000"/>
                </a:solidFill>
                <a:latin typeface="Arial"/>
              </a:rPr>
              <a:t>L.F. van Heerd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00720" y="4941720"/>
            <a:ext cx="4390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t. Michael’s School for Girls  in collaboration with Centre for Higher Education Studies and Development (CHESD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E-Learning Div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340000" y="692280"/>
            <a:ext cx="4378320" cy="519876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600" spc="-1" strike="noStrike">
                <a:solidFill>
                  <a:srgbClr val="000000"/>
                </a:solidFill>
                <a:latin typeface="Arial"/>
              </a:rPr>
              <a:t>What is the difference between e-learning and conventional teaching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f-ZA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716000" y="1483920"/>
            <a:ext cx="4032360" cy="5373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eaner cent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ear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earning on dem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egration of concepts &amp; knowled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wo way medi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ts of vo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mpet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ynchrono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eparing learners for LMS”s (Tertiary institutio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1484280"/>
            <a:ext cx="4032360" cy="5373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eacher cent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ea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earning when we w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 Integration of concepts &amp; knowledge (repeti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ne way medi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ne voice spea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t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ynchrono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t preparing learners for LMS’s (Tertiary Instituti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8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8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2195640" y="620640"/>
            <a:ext cx="4438440" cy="527040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95280" y="2997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arning Management Systems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Virtual Learning Environ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2328840" y="765000"/>
            <a:ext cx="4367160" cy="51850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395280" y="1387080"/>
            <a:ext cx="83534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Virtual Learning Environm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VLE) is a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ftware system designed to facilitate teachers in the management of educational cours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r their students, especially by helping teachers and learners with course administrat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s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ystems usually run on servers, using one or more databases and a programming or scripting language to serve the course to studen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s internet pag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2328840" y="765000"/>
            <a:ext cx="4367160" cy="51850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50920" y="1770480"/>
            <a:ext cx="8569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ch e-learning systems are sometimes also called Learning Management System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LMS), Course Management System (CMS), Managed Learning Environments (MLE), education via computer-mediated communication (CMC) or Online Educ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2328840" y="765000"/>
            <a:ext cx="4367160" cy="518508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468360" y="2009880"/>
            <a:ext cx="83516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summariese a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LE should make it possible for a course designer/teacher to present to studen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through a single, consistent, and intuitive interface)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l the components required for a course of education, learning and facilit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2195640" y="620640"/>
            <a:ext cx="4438440" cy="527040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000000"/>
                </a:solidFill>
                <a:latin typeface="Arial"/>
              </a:rPr>
              <a:t>Example of a Less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403280" y="2133720"/>
            <a:ext cx="5688000" cy="169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f8b049"/>
                    </a:gs>
                    <a:gs pos="50000">
                      <a:srgbClr val="f60835"/>
                    </a:gs>
                    <a:gs pos="100000">
                      <a:srgbClr val="f8b049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Hot Dog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f8b049"/>
                  </a:gs>
                  <a:gs pos="50000">
                    <a:srgbClr val="f60835"/>
                  </a:gs>
                  <a:gs pos="100000">
                    <a:srgbClr val="f8b049"/>
                  </a:gs>
                </a:gsLst>
                <a:lin ang="54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5003640" y="4508640"/>
            <a:ext cx="3378240" cy="167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000000"/>
                </a:solidFill>
                <a:latin typeface="Arial"/>
              </a:rPr>
              <a:t>Lessons avail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1484280"/>
            <a:ext cx="9144000" cy="502776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619280" y="3573360"/>
            <a:ext cx="13683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611280" y="3357720"/>
            <a:ext cx="936360" cy="46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ZA" sz="4400" spc="-1" strike="noStrike">
                <a:solidFill>
                  <a:srgbClr val="000000"/>
                </a:solidFill>
                <a:latin typeface="Arial"/>
              </a:rPr>
              <a:t>Activities” present in less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1052640"/>
            <a:ext cx="9144000" cy="50274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4500720" y="2997360"/>
            <a:ext cx="30240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6443280" y="3357720"/>
            <a:ext cx="10810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4572000" y="4221000"/>
            <a:ext cx="29527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5003280" y="5084640"/>
            <a:ext cx="25210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524720" y="2852640"/>
            <a:ext cx="1150920" cy="2592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740720" y="2924280"/>
            <a:ext cx="792000" cy="24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333399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333399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333399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333399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333399"/>
                </a:solidFill>
                <a:latin typeface="Arial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333399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333399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333399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333399"/>
                </a:solidFill>
                <a:latin typeface="Arial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000000"/>
                </a:solidFill>
                <a:latin typeface="Arial"/>
              </a:rPr>
              <a:t>Surve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1628640"/>
            <a:ext cx="9144000" cy="502776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 flipH="1">
            <a:off x="5435280" y="2637000"/>
            <a:ext cx="18003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7380360" y="2421000"/>
            <a:ext cx="936720" cy="46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000000"/>
                </a:solidFill>
                <a:latin typeface="Arial"/>
              </a:rPr>
              <a:t>The Counc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1628640"/>
            <a:ext cx="9144000" cy="502776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8028000" y="2492280"/>
            <a:ext cx="936720" cy="46368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 flipH="1">
            <a:off x="6659280" y="2637000"/>
            <a:ext cx="10810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904680" y="1143000"/>
            <a:ext cx="7332840" cy="3200400"/>
            <a:chOff x="904680" y="1143000"/>
            <a:chExt cx="7332840" cy="3200400"/>
          </a:xfrm>
        </p:grpSpPr>
        <p:cxnSp>
          <p:nvCxnSpPr>
            <p:cNvPr id="46" name="_s92195"/>
            <p:cNvCxnSpPr>
              <a:stCxn id="47" idx="0"/>
              <a:endCxn id="48" idx="2"/>
            </p:cNvCxnSpPr>
            <p:nvPr/>
          </p:nvCxnSpPr>
          <p:spPr>
            <a:xfrm flipV="1" rot="16200000">
              <a:off x="5809680" y="361440"/>
              <a:ext cx="229320" cy="27050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9" name="_s92193"/>
            <p:cNvCxnSpPr>
              <a:stCxn id="50" idx="0"/>
              <a:endCxn id="48" idx="2"/>
            </p:cNvCxnSpPr>
            <p:nvPr/>
          </p:nvCxnSpPr>
          <p:spPr>
            <a:xfrm flipV="1" rot="16200000">
              <a:off x="5116680" y="1054440"/>
              <a:ext cx="229320" cy="13190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1" name="_s92187"/>
            <p:cNvCxnSpPr>
              <a:stCxn id="52" idx="1"/>
              <a:endCxn id="53" idx="2"/>
            </p:cNvCxnSpPr>
            <p:nvPr/>
          </p:nvCxnSpPr>
          <p:spPr>
            <a:xfrm rot="10800000">
              <a:off x="4779360" y="3656880"/>
              <a:ext cx="141840" cy="4579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4" name="_s92184"/>
            <p:cNvCxnSpPr>
              <a:stCxn id="53" idx="1"/>
              <a:endCxn id="55" idx="2"/>
            </p:cNvCxnSpPr>
            <p:nvPr/>
          </p:nvCxnSpPr>
          <p:spPr>
            <a:xfrm rot="10800000">
              <a:off x="4086720" y="2971080"/>
              <a:ext cx="143280" cy="4579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6" name="_s92182"/>
            <p:cNvCxnSpPr>
              <a:stCxn id="55" idx="1"/>
              <a:endCxn id="57" idx="2"/>
            </p:cNvCxnSpPr>
            <p:nvPr/>
          </p:nvCxnSpPr>
          <p:spPr>
            <a:xfrm rot="10800000">
              <a:off x="3118320" y="2285280"/>
              <a:ext cx="141840" cy="4579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8" name="_s92180"/>
            <p:cNvCxnSpPr>
              <a:stCxn id="59" idx="0"/>
              <a:endCxn id="60" idx="2"/>
            </p:cNvCxnSpPr>
            <p:nvPr/>
          </p:nvCxnSpPr>
          <p:spPr>
            <a:xfrm flipH="1" flipV="1" rot="5400000">
              <a:off x="1617840" y="2399040"/>
              <a:ext cx="229320" cy="21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1" name="_s92178"/>
            <p:cNvCxnSpPr>
              <a:stCxn id="62" idx="0"/>
              <a:endCxn id="48" idx="2"/>
            </p:cNvCxnSpPr>
            <p:nvPr/>
          </p:nvCxnSpPr>
          <p:spPr>
            <a:xfrm flipH="1" flipV="1" rot="5400000">
              <a:off x="4424040" y="1680120"/>
              <a:ext cx="229320" cy="680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3" name="_s92177"/>
            <p:cNvCxnSpPr>
              <a:stCxn id="57" idx="0"/>
              <a:endCxn id="48" idx="2"/>
            </p:cNvCxnSpPr>
            <p:nvPr/>
          </p:nvCxnSpPr>
          <p:spPr>
            <a:xfrm flipH="1" flipV="1" rot="5400000">
              <a:off x="3731040" y="987120"/>
              <a:ext cx="229320" cy="14540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4" name="_s92176"/>
            <p:cNvCxnSpPr>
              <a:stCxn id="60" idx="0"/>
              <a:endCxn id="48" idx="2"/>
            </p:cNvCxnSpPr>
            <p:nvPr/>
          </p:nvCxnSpPr>
          <p:spPr>
            <a:xfrm flipH="1" flipV="1" rot="5400000">
              <a:off x="3038040" y="294480"/>
              <a:ext cx="229320" cy="2839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48" name="_s92172"/>
            <p:cNvSpPr/>
            <p:nvPr/>
          </p:nvSpPr>
          <p:spPr>
            <a:xfrm>
              <a:off x="3898080" y="1143000"/>
              <a:ext cx="1347480" cy="45720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5200" rIns="25200" tIns="12600" bIns="12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-Learnin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_s92173"/>
            <p:cNvSpPr/>
            <p:nvPr/>
          </p:nvSpPr>
          <p:spPr>
            <a:xfrm>
              <a:off x="1110600" y="1828800"/>
              <a:ext cx="1243440" cy="45720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5200" rIns="25200" tIns="12600" bIns="12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Transforma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_s92174"/>
            <p:cNvSpPr/>
            <p:nvPr/>
          </p:nvSpPr>
          <p:spPr>
            <a:xfrm>
              <a:off x="2496960" y="1828800"/>
              <a:ext cx="1243080" cy="457200"/>
            </a:xfrm>
            <a:prstGeom prst="roundRect">
              <a:avLst>
                <a:gd name="adj" fmla="val 16667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5200" rIns="25200" tIns="12600" bIns="12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Arial"/>
                </a:rPr>
                <a:t>What is e-Learning?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_s92175"/>
            <p:cNvSpPr/>
            <p:nvPr/>
          </p:nvSpPr>
          <p:spPr>
            <a:xfrm>
              <a:off x="3882600" y="1828800"/>
              <a:ext cx="1243080" cy="457200"/>
            </a:xfrm>
            <a:prstGeom prst="roundRect">
              <a:avLst>
                <a:gd name="adj" fmla="val 16667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5200" rIns="25200" tIns="12600" bIns="12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LMS &amp; VL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_s92179"/>
            <p:cNvSpPr/>
            <p:nvPr/>
          </p:nvSpPr>
          <p:spPr>
            <a:xfrm>
              <a:off x="904680" y="2514600"/>
              <a:ext cx="1654200" cy="457200"/>
            </a:xfrm>
            <a:prstGeom prst="roundRect">
              <a:avLst>
                <a:gd name="adj" fmla="val 16667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5200" rIns="25200" tIns="12600" bIns="12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Modern learner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_s92181"/>
            <p:cNvSpPr/>
            <p:nvPr/>
          </p:nvSpPr>
          <p:spPr>
            <a:xfrm>
              <a:off x="3260160" y="2514600"/>
              <a:ext cx="1654200" cy="457200"/>
            </a:xfrm>
            <a:prstGeom prst="roundRect">
              <a:avLst>
                <a:gd name="adj" fmla="val 16667"/>
              </a:avLst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5200" rIns="25200" tIns="12600" bIns="12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What E-Learning is no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_s92183"/>
            <p:cNvSpPr/>
            <p:nvPr/>
          </p:nvSpPr>
          <p:spPr>
            <a:xfrm>
              <a:off x="4230000" y="3200400"/>
              <a:ext cx="1098000" cy="45720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5200" rIns="25200" tIns="12600" bIns="12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Why E-Learning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_s92185"/>
            <p:cNvSpPr/>
            <p:nvPr/>
          </p:nvSpPr>
          <p:spPr>
            <a:xfrm>
              <a:off x="4921200" y="3886200"/>
              <a:ext cx="3316320" cy="457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20" rIns="31320" tIns="15840" bIns="15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Differences between e-Learning &amp; Conventional method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_s92192"/>
            <p:cNvSpPr/>
            <p:nvPr/>
          </p:nvSpPr>
          <p:spPr>
            <a:xfrm>
              <a:off x="5268600" y="1828800"/>
              <a:ext cx="1243080" cy="457200"/>
            </a:xfrm>
            <a:prstGeom prst="roundRect">
              <a:avLst>
                <a:gd name="adj" fmla="val 16667"/>
              </a:avLst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7880" rIns="47880" tIns="23760" bIns="23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Exampl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_s92194"/>
            <p:cNvSpPr/>
            <p:nvPr/>
          </p:nvSpPr>
          <p:spPr>
            <a:xfrm>
              <a:off x="6654240" y="1828800"/>
              <a:ext cx="1243080" cy="457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3640" rIns="53640" tIns="26640" bIns="26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Mood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000000"/>
                </a:solidFill>
                <a:latin typeface="Arial"/>
              </a:rPr>
              <a:t>A Po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0" y="1484280"/>
            <a:ext cx="9144000" cy="502776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7020000" y="2276640"/>
            <a:ext cx="936720" cy="46332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 flipH="1">
            <a:off x="4932360" y="2492280"/>
            <a:ext cx="17287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000000"/>
                </a:solidFill>
                <a:latin typeface="Arial"/>
              </a:rPr>
              <a:t>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1628640"/>
            <a:ext cx="9144000" cy="502776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 flipH="1">
            <a:off x="5580000" y="2637000"/>
            <a:ext cx="17287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7524720" y="2421000"/>
            <a:ext cx="936720" cy="46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2776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 txBox="1"/>
          <p:nvPr/>
        </p:nvSpPr>
        <p:spPr>
          <a:xfrm rot="20092800">
            <a:off x="1907640" y="3284640"/>
            <a:ext cx="633600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Tertiary institutions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0" y="-76320"/>
            <a:ext cx="9144000" cy="701064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20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2195640" y="620640"/>
            <a:ext cx="4438440" cy="527040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he Designer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designer is the person who is responsible for creating the course and making the course content availabl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designer, who often is also the teacher of the course, can perform multiple tasks, such as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ing quizz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itoring prog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stomising the cour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6659640" y="333360"/>
            <a:ext cx="84132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900000" y="836640"/>
            <a:ext cx="7380360" cy="51656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332000" y="907920"/>
            <a:ext cx="7235640" cy="8254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day’s students are no longer the people our educational system was designed to tea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 rot="19291800">
            <a:off x="755280" y="2133360"/>
            <a:ext cx="7553160" cy="2643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60835"/>
                </a:solidFill>
                <a:latin typeface="Arial Black"/>
              </a:rPr>
              <a:t>Transformation is not optiona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60835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2195640" y="620640"/>
            <a:ext cx="4438440" cy="5270400"/>
          </a:xfrm>
          <a:prstGeom prst="rect">
            <a:avLst/>
          </a:prstGeom>
          <a:ln w="0">
            <a:noFill/>
          </a:ln>
        </p:spPr>
      </p:pic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he Student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s cannot manipulate the course content other than in the student presentation areas as defined by the design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6732720" y="404640"/>
            <a:ext cx="124776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000000"/>
                </a:solidFill>
                <a:latin typeface="Arial"/>
              </a:rPr>
              <a:t>Mood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2924280" y="1906560"/>
            <a:ext cx="3295440" cy="391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bout Mood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2924280" y="1906560"/>
            <a:ext cx="3295440" cy="391320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539640" y="1557360"/>
            <a:ext cx="8136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oodle Acronym: Modular Object Oriented Dynamic Learning Environme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oodle is a open source product that can be freely downloaded, modified and distribute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2328840" y="765000"/>
            <a:ext cx="4367160" cy="518508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bout Moodle</a:t>
            </a:r>
            <a:r>
              <a:rPr b="0" lang="en-ZA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t is a content management system (CMS) some times also called as a VLE (Virtual Learning Environment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t is used for online course management and deliver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2328840" y="765000"/>
            <a:ext cx="4367160" cy="5185080"/>
          </a:xfrm>
          <a:prstGeom prst="rect">
            <a:avLst/>
          </a:prstGeom>
          <a:ln w="0">
            <a:noFill/>
          </a:ln>
        </p:spPr>
      </p:pic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bout Moodle</a:t>
            </a:r>
            <a:r>
              <a:rPr b="0" lang="en-ZA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wnload, installation information available at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moodle.or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ercial and support information available at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www.moodle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2195640" y="620640"/>
            <a:ext cx="4438440" cy="527040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000000"/>
                </a:solidFill>
                <a:latin typeface="Arial"/>
              </a:rPr>
              <a:t>Content for a learning portal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urse is built around the course content, not the Moodle too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2411280" y="907920"/>
            <a:ext cx="4318200" cy="512784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roblems we experienc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nlearning” the old ways /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sistance to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ntent is still old-technology-transfer, rather than transformation to the new 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2195640" y="620640"/>
            <a:ext cx="4438440" cy="527040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66"/>
                </a:solidFill>
                <a:latin typeface="Arial"/>
              </a:rPr>
              <a:t>Thanks to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. The Centre for Higher Education Studies and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Development (CHESD), especially Anton Pienaar &amp;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Herbert Thomas (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E-Learning Division)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for there input and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expertise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. St. Michael’s School for Girls for creating exciting opportunities in edu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. Intel for creating platforms like the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. Grey College for hosting the confere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328840" y="765000"/>
            <a:ext cx="4367160" cy="518508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ZA" sz="4400" spc="-1" strike="noStrike">
                <a:solidFill>
                  <a:srgbClr val="000000"/>
                </a:solidFill>
                <a:latin typeface="Arial"/>
              </a:rPr>
              <a:t>Modern children!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11280" y="1773360"/>
            <a:ext cx="79200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Our Children are being socialised in a way that is vastly different from their parents. The numbers are overwhelming: over 10 000 hours playing videogames, over 200 000 e-mails and instant messages sent and received; over 10 000 hours talking on cell phones; over 20 000 hours watching TV (over 500 000 commercials) – all before the kids leave college. And maybe at most 5000 hours of book reading” -2001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2022480" y="836640"/>
            <a:ext cx="4670280" cy="554508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odern childr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24000" y="1646280"/>
            <a:ext cx="8353440" cy="482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Arial"/>
              </a:rPr>
              <a:t>Children raised with the computer “think differently” from the rest. They develop hypertext minds. They leap aroun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400" spc="-1" strike="noStrike">
                <a:solidFill>
                  <a:srgbClr val="000000"/>
                </a:solidFill>
                <a:latin typeface="Arial"/>
              </a:rPr>
              <a:t>-Dr. Michael S Gazzaniga-</a:t>
            </a:r>
            <a:r>
              <a:rPr b="0" lang="en-ZA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Arial"/>
              </a:rPr>
              <a:t>Linear processes that dominate educational systems now can actually retard learning for brains developed through game and web-surfing processes on the computer.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400" spc="-1" strike="noStrike">
                <a:solidFill>
                  <a:srgbClr val="000000"/>
                </a:solidFill>
                <a:latin typeface="Arial"/>
              </a:rPr>
              <a:t>-Peter Moore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2328840" y="765000"/>
            <a:ext cx="4367160" cy="518508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4800" spc="-1" strike="noStrike">
                <a:solidFill>
                  <a:srgbClr val="000000"/>
                </a:solidFill>
                <a:latin typeface="Arial"/>
              </a:rPr>
              <a:t>Academic learning must seek out new and innovative ways to attract, retain &amp; impact learners in the knowledge age.”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hilip Lai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odern childr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2340000" y="692280"/>
            <a:ext cx="4378320" cy="519876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000000"/>
                </a:solidFill>
                <a:latin typeface="Arial"/>
              </a:rPr>
              <a:t>What is e-learni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f-ZA" sz="28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0" lang="af-ZA" sz="2800" spc="-1" strike="noStrike">
                <a:solidFill>
                  <a:srgbClr val="000000"/>
                </a:solidFill>
                <a:latin typeface="Arial"/>
              </a:rPr>
              <a:t>A process that allows learners to take charge of their own learning.It can be customised to meet the individual needs to different learning styles – any place, any pace. It is learning on deman. Technology is not e – learning, rather a tool to deliver e – learning. I t engages learners to construct knowledge or meaning or understanding from information beyond the classroom walls.” (Spender and Steward:2002:9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2195640" y="620640"/>
            <a:ext cx="4438440" cy="52704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000000"/>
                </a:solidFill>
                <a:latin typeface="Arial"/>
              </a:rPr>
              <a:t>What e-learning is no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1773360"/>
            <a:ext cx="8207280" cy="50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-Learning is not the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ere use of computers or computer technology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-Learning is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not just to put content on a computer / learning portal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(LMS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-Learning is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not an attempt to take over the job of a teache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-Learning is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not a quick fix to “educational problem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-Learning is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not saving time in the short ru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-Learning is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not something that all teachers will embrac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2328840" y="765000"/>
            <a:ext cx="4367160" cy="51850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000000"/>
                </a:solidFill>
                <a:latin typeface="Arial"/>
              </a:rPr>
              <a:t>Why e-learni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lexi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ough a range of online learning technologi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rners and teachers can engage in synchronous as well as asynchronous interaction across space, time, and p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paring learners for tertiary institu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5T12:33:07Z</dcterms:created>
  <dc:creator>soois</dc:creator>
  <dc:description/>
  <dc:language>en-US</dc:language>
  <cp:lastModifiedBy>Soois</cp:lastModifiedBy>
  <dcterms:modified xsi:type="dcterms:W3CDTF">2007-06-24T14:27:17Z</dcterms:modified>
  <cp:revision>46</cp:revision>
  <dc:subject/>
  <dc:title> A Learning portal –Using Moodle-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312208975</vt:r8>
  </property>
  <property fmtid="{D5CDD505-2E9C-101B-9397-08002B2CF9AE}" pid="3" name="_AuthorEmail">
    <vt:lpwstr>soois@stms.co.za</vt:lpwstr>
  </property>
  <property fmtid="{D5CDD505-2E9C-101B-9397-08002B2CF9AE}" pid="4" name="_AuthorEmailDisplayName">
    <vt:lpwstr>soois</vt:lpwstr>
  </property>
  <property fmtid="{D5CDD505-2E9C-101B-9397-08002B2CF9AE}" pid="5" name="_EmailSubject">
    <vt:lpwstr>Intel Conference (Francois van Heerden)</vt:lpwstr>
  </property>
</Properties>
</file>