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9004F-8CE5-491C-A70A-419FDEFF3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07025-FC7F-44DB-B53E-52C7740D7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BE389-D4AA-4163-B0C7-594677716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E1EBC-E6DB-4633-BA03-402C90A2E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5BABF-DCF3-4967-B989-42A01C2A8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626C5-8B37-425F-BEB0-AA278F033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5C474-F7A9-44EC-9FEC-1AF1CB218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FB65E-DBCC-472B-BE28-76E337680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20BF2-6284-4A61-BF8D-49EBBABE9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A1809-391D-4BD5-BAD4-F35437C99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AAF1E-9EAC-4CFF-901F-B03115620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BD3CB-E364-44AE-87D6-69CB75BFA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D434D-EAB3-467A-B9AC-1EF1C63A6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757E5-E7B2-4E9D-A735-40432201E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FD6DC-C111-4B74-93AF-6D9420CA5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92017-991D-405F-84C8-5DC912360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B69D7-F69F-4F0B-9CCF-E18B7550D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064D61-9675-44E0-A45E-0A1D513A85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1F1EC-E168-43D9-9789-9F193E63C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739F71-1278-42D9-8EBB-E8A476A6B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246F2-A201-4255-9950-FA9522E6C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68D14-6CC9-43DD-A2EC-6F04892DD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CC39D-72C0-40CE-8C58-7C5B5472E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7FB1B-0DE6-434D-BC0D-6D0AB9262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739B3-3FCE-4272-B04D-68212D828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3C335-9263-47D3-B0AF-E4B8A8C30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CC7A1-27A3-4072-9F67-EA02E7A55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4769B-7138-4DC7-ADF5-B867CE94C4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7CA7A9-33B7-442A-8696-53AE9386CF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3B41C3-6840-4509-B106-5C8A68BAE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37070A-9375-48A2-887E-6C4E6EE1CA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6A2A6-B52E-45A2-98F4-54B3560C8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9E727-844E-46FA-B345-EEF4F9A9C6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83D99-D83F-4626-B82C-36FDDADEA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C9E601-166B-4D9A-83A4-99783DFD0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C50BE5-A15E-4FAE-9134-36ECA69A46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C0DE0-08C0-4B21-A1A4-9EF276BE1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E196C-60B1-41CA-B8A1-27521E676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FFCBA-551B-415E-BA4C-701E4DC6F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756FA-5A16-4F85-8DD0-EAC2699F7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60E194-B466-49DB-826D-D6A6AAF26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483094-CA8A-49F7-9510-3B235B4AF0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B8B2D6-4EE4-45D0-8860-1A20EF62F3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5F1E38-D0DD-4118-8039-746E7B527C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E16ED-370B-4147-9A6D-29C6926E0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D0BB7F-9A89-44DD-B8B5-EC96A2D839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494D1-9D03-4A3B-AD44-677496085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BDEB49-1499-465B-8CD1-F52F81FA1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32831-4293-4508-9774-DF6EA3C3C2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1D7F46-9171-4658-8521-C5C0D0F80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3B301-E2C4-4A60-B390-EF621F564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2F239-27F9-40C8-9B73-6936F088C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A5464B-8EA5-4D02-891E-C25768866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890B51-0C08-4339-9FE5-10120BD558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87B4F0-E5E5-478F-99FB-E9D9714199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2B50E-1D49-4C27-8049-0C11F692C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36B867-FDF3-4E0D-8E58-C8B5019D51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C78BC3-0039-4E70-ACB3-4D6CBA585E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A2F0E-8B2A-4487-BB48-E3183A9CB7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43490-0215-4674-9667-9374B98F8A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271C0B-B1B6-42AD-8A5E-D28DA35E5F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436418-A256-4C45-8D2B-241562961D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EABE49-FECB-4CEF-A32C-486310CE5C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40F538-B32F-44E1-AAF9-D9E5E4E982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46DE8-C6D6-48F0-AD94-A7CCD074A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B1080-EC20-4A5C-9306-CD93C2386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D4967-E05C-447C-AD92-E711B57F3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50C3B-EFC9-4544-8D3E-83F3B2060B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5A6F7E-0EFE-47AD-AA05-16D26590FF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3FDCE0-4D20-41CB-A684-1C4741F391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7E4F2E-AB37-4623-850A-06F6DFED21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6C944E-A60C-48AC-B782-89ED3F30B9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DAE66-50B6-4CA5-A150-4F7D08C53A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6C0EFA-F8DB-4052-9180-401660FA9B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983FAC-7BB1-4878-9EA1-B8F03D331B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5C2D2-52C6-4DE5-B1D7-F7B99C8D3D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BD2175-6A9E-4F9F-B1FA-9A99BF002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346B9-489D-408B-8F7F-99986172D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98A73-4243-4FCA-AEF6-A524395C92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C261D-D826-4937-92BF-F8D13A958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2CE6B3-433D-467A-9E27-902CE8DACE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F9F218-1B78-42DD-AF12-482803E96A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8E96C6-B467-4C55-88EB-F5E2452235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5DE944-6E3D-49A2-80E1-5507C8E2B9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3DD246-C629-488F-AE31-36A357360B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410214-5612-4A6F-815B-57D3F428F7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991A67-B1F9-409C-B33C-5410A4D996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123CCC-5F72-4CC4-9C73-68422B030D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C7568-AC20-4701-8170-BBC54B66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5D592D-8824-4D56-81EC-F522AB01F0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AE41A6-050E-473C-816A-110A7D194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E2099-56C7-4971-9F24-32DE018E6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938412-B7D3-4087-B9D3-264EFD81A9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A7B03-C200-4E84-8B6D-7FE415539B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B5EEC0-0C16-4406-A79F-2734F6FAB1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E6DB49-B361-4F14-9294-48547926D52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2684-EFEF-4E93-8B06-720C4DA3E36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29240" cy="1865880"/>
              <a:chOff x="8640" y="4998600"/>
              <a:chExt cx="9129240" cy="1865880"/>
            </a:xfrm>
          </p:grpSpPr>
          <p:pic>
            <p:nvPicPr>
              <p:cNvPr id="52" name="Freeform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7E37-E7EC-40C3-A857-EE18F1CCFA53}"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1F3D-643A-45A5-9C44-13E9EBF8E25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20FC-A2A7-4A54-BAF0-D3255BB95BA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0665-D767-40AC-8961-2C3B138338D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1B4B-3F8B-4517-B8B4-BD6319085CB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A7B9-8E65-4FB4-95DB-F311141CD55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8360"/>
            <a:ext cx="342108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B76F-C68E-4773-8925-2F79D5E5A21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1755720"/>
            <a:ext cx="77724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قياس الفئوي:</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وزيع درجات الطلبة الى فئات متساو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مكن ان نحدد ما اذا كان شي اكبر او اصغر</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ختبار التحصيل, اختبار الذكاء</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قياس النسبة</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له وحدات متساوية وصفر مطلق</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ستعمل في العلوم ويندر استعمالة في ميدان التربية وعلم النفس.</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ثل الطول + الوزن</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r">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8"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جب صح ام خطأ:</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يختص المقياس الاسمي بترتيب الأفراد أو الأشياء ترتيبا تصاعديا أو تنازليا</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يصنف المقياس الاسمي الفئات ويعطيها قيما عددية أو رقمية</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يحدد مقياس الرتب قيمة عددية  تدل على ما في الشخص أو الشيء موضع القياس من الخاصية التي يقيسها</a:t>
            </a:r>
            <a:endParaRPr b="0" lang="en-US" sz="2700" spc="-1" strike="noStrike">
              <a:solidFill>
                <a:srgbClr val="000000"/>
              </a:solidFill>
              <a:latin typeface="Lucida Sans Unicode"/>
            </a:endParaRPr>
          </a:p>
          <a:p>
            <a:pPr marL="365040" indent="-255600" algn="r">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fontScale="81000"/>
          </a:bodyPr>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ة مستمره:: يعني ان التقويم ليس شيئا ياتي في نهاية التدريس فحسب بل ينبغي ان يسير جنبا الى جنب مع العملية التعليمية.</a:t>
            </a:r>
            <a:endParaRPr b="0" lang="en-US" sz="2500" spc="-1" strike="noStrike">
              <a:solidFill>
                <a:srgbClr val="000000"/>
              </a:solidFill>
              <a:latin typeface="Lucida Sans Unicode"/>
            </a:endParaRPr>
          </a:p>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ة تعاونية : لا ينفرد فية شخص واحد بل يشترك فيه الجميع ( الطالب+ المعلم+ المشرف التربوي+ الاباء)</a:t>
            </a:r>
            <a:endParaRPr b="0" lang="en-US" sz="2500" spc="-1" strike="noStrike">
              <a:solidFill>
                <a:srgbClr val="000000"/>
              </a:solidFill>
              <a:latin typeface="Lucida Sans Unicode"/>
            </a:endParaRPr>
          </a:p>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ة موضوعية: ان يقوم التقويم على اسس عادله بعيدة عن التحيز والذاتية</a:t>
            </a:r>
            <a:endParaRPr b="0" lang="en-US" sz="2500" spc="-1" strike="noStrike">
              <a:solidFill>
                <a:srgbClr val="000000"/>
              </a:solidFill>
              <a:latin typeface="Lucida Sans Unicode"/>
            </a:endParaRPr>
          </a:p>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ة مبنية على اساس علمي من الصدق والثبات والتمييز : صادقة اي تقيس ما وضعت من اجله و الثبات: اي ان الاختبار يعطي نفس النتائج تقريبا عند تطبيقة اكثر من مرة على نفس الطلاب و التمييزهو القدرة على اظهار الفروق الفردية بين الطلاب.</a:t>
            </a:r>
            <a:endParaRPr b="0" lang="en-US" sz="2500" spc="-1" strike="noStrike">
              <a:solidFill>
                <a:srgbClr val="000000"/>
              </a:solidFill>
              <a:latin typeface="Lucida Sans Unicode"/>
            </a:endParaRPr>
          </a:p>
          <a:p>
            <a:pPr marL="295560" indent="-20700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عمليه شاملة: لا يتناول جانب واحد من جوانب الطالب بل يمتد ليشمل جميع جوانب النمو المعرفي-الاجتماعي-الجسمي.</a:t>
            </a:r>
            <a:endParaRPr b="0" lang="en-US" sz="2500" spc="-1" strike="noStrike">
              <a:solidFill>
                <a:srgbClr val="000000"/>
              </a:solidFill>
              <a:latin typeface="Lucida Sans Unicode"/>
            </a:endParaRPr>
          </a:p>
          <a:p>
            <a:pPr marL="295560" indent="-207000"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Lucida Sans Unicode"/>
                <a:cs typeface="Arial"/>
              </a:rPr>
              <a:t>التقويم ليس هدفا في حد ذاته وانما وسيلة لتحسين العملية التعليمية .</a:t>
            </a:r>
            <a:endParaRPr b="0" lang="en-US" sz="2500" spc="-1" strike="noStrike">
              <a:solidFill>
                <a:srgbClr val="000000"/>
              </a:solidFill>
              <a:latin typeface="Lucida Sans Unicode"/>
            </a:endParaRPr>
          </a:p>
          <a:p>
            <a:pPr marL="295560" indent="-2070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02"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Lucida Sans Unicode"/>
                <a:cs typeface="Arial"/>
              </a:rPr>
              <a:t>مجالات التقويم التربوي</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قويم الطالب</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قويم المعلم</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قويم المنهج</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تقويم الادارة التربوية</a:t>
            </a:r>
            <a:endParaRPr b="0" lang="en-US" sz="2700" spc="-1" strike="noStrike">
              <a:solidFill>
                <a:srgbClr val="000000"/>
              </a:solidFill>
              <a:latin typeface="Lucida Sans Unicode"/>
            </a:endParaRPr>
          </a:p>
          <a:p>
            <a:pPr marL="365040" indent="-25560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Lucida Sans Unicode"/>
                <a:cs typeface="Arial"/>
              </a:rPr>
              <a:t>ادوات التقويم التربوي</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لاحظة</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قابلة</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استبانة</a:t>
            </a:r>
            <a:endParaRPr b="0" lang="en-US" sz="2700" spc="-1" strike="noStrike">
              <a:solidFill>
                <a:srgbClr val="000000"/>
              </a:solidFill>
              <a:latin typeface="Lucida Sans Unicode"/>
            </a:endParaRPr>
          </a:p>
          <a:p>
            <a:pPr marL="365040" indent="-255600" algn="r"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اختبارات</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2" descr=""/>
          <p:cNvPicPr/>
          <p:nvPr/>
        </p:nvPicPr>
        <p:blipFill>
          <a:blip r:embed="rId1"/>
          <a:stretch/>
        </p:blipFill>
        <p:spPr>
          <a:xfrm>
            <a:off x="457200" y="274680"/>
            <a:ext cx="8229600" cy="1146240"/>
          </a:xfrm>
          <a:prstGeom prst="rect">
            <a:avLst/>
          </a:prstGeom>
          <a:ln w="0">
            <a:noFill/>
          </a:ln>
        </p:spPr>
      </p:pic>
      <p:sp>
        <p:nvSpPr>
          <p:cNvPr id="372"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اشخاص والاشياء يختلفون في صفاتهم وخصائصهم (الطول + الوزن + العمر + الذكاء ....)</a:t>
            </a:r>
            <a:r>
              <a:rPr b="1" lang="en-US" sz="2700" spc="-1" strike="noStrike">
                <a:solidFill>
                  <a:srgbClr val="000000"/>
                </a:solidFill>
                <a:latin typeface="Lucida Sans Unicode"/>
                <a:ea typeface="Arial"/>
              </a:rPr>
              <a:t>.</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هذه الصفات والخصائص تسمى متغيرا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نحن لا نقيس الاشخاص او الاشياء ولكن نقيس خصائص او صفات هذة الاشياء او لدى الاشخاص ( نقيس طول الغرفه + نقيس درجة حرارة الماء+ الطبيب يقيس ضغط المريض + المعلم يقيس  مستوى تحصيل طلبته في مادة معينه)</a:t>
            </a:r>
            <a:r>
              <a:rPr b="1" lang="en-US" sz="2700" spc="-1" strike="noStrike">
                <a:solidFill>
                  <a:srgbClr val="000000"/>
                </a:solidFill>
                <a:latin typeface="Lucida Sans Unicode"/>
                <a:ea typeface="Arial"/>
              </a:rPr>
              <a: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4" name="Title 2" descr=""/>
          <p:cNvPicPr/>
          <p:nvPr/>
        </p:nvPicPr>
        <p:blipFill>
          <a:blip r:embed="rId1"/>
          <a:stretch/>
        </p:blipFill>
        <p:spPr>
          <a:xfrm>
            <a:off x="457200" y="274680"/>
            <a:ext cx="8229600" cy="1146240"/>
          </a:xfrm>
          <a:prstGeom prst="rect">
            <a:avLst/>
          </a:prstGeom>
          <a:ln w="0">
            <a:noFill/>
          </a:ln>
        </p:spPr>
      </p:pic>
      <p:pic>
        <p:nvPicPr>
          <p:cNvPr id="375" name="Table 3" descr=""/>
          <p:cNvPicPr/>
          <p:nvPr/>
        </p:nvPicPr>
        <p:blipFill>
          <a:blip r:embed="rId2"/>
          <a:stretch/>
        </p:blipFill>
        <p:spPr>
          <a:xfrm>
            <a:off x="457200" y="1474920"/>
            <a:ext cx="8210520" cy="1670040"/>
          </a:xfrm>
          <a:prstGeom prst="rect">
            <a:avLst/>
          </a:prstGeom>
          <a:ln w="0">
            <a:noFill/>
          </a:ln>
        </p:spPr>
      </p:pic>
      <p:pic>
        <p:nvPicPr>
          <p:cNvPr id="376" name="Down Arrow 4" descr=""/>
          <p:cNvPicPr/>
          <p:nvPr/>
        </p:nvPicPr>
        <p:blipFill>
          <a:blip r:embed="rId3"/>
          <a:stretch/>
        </p:blipFill>
        <p:spPr>
          <a:xfrm>
            <a:off x="3498840" y="3103560"/>
            <a:ext cx="2730600" cy="3022560"/>
          </a:xfrm>
          <a:prstGeom prst="rect">
            <a:avLst/>
          </a:prstGeom>
          <a:ln w="0">
            <a:noFill/>
          </a:ln>
        </p:spPr>
      </p:pic>
      <p:pic>
        <p:nvPicPr>
          <p:cNvPr id="377" name="Down Arrow 5" descr=""/>
          <p:cNvPicPr/>
          <p:nvPr/>
        </p:nvPicPr>
        <p:blipFill>
          <a:blip r:embed="rId4"/>
          <a:stretch/>
        </p:blipFill>
        <p:spPr>
          <a:xfrm>
            <a:off x="615960" y="3103560"/>
            <a:ext cx="2730600" cy="302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fontScale="96000"/>
          </a:bodyPr>
          <a:p>
            <a:pPr marL="350280" indent="-24516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القياس: عملية منظمة يتم بواسطتها تحديد كمية او مقدار ما يوجد في الشي من الخاصية او الصفة الخاضعه للقياس بدلالة وحدة قياس مناسبة.</a:t>
            </a:r>
            <a:endParaRPr b="0" lang="en-US" sz="3600" spc="-1" strike="noStrike">
              <a:solidFill>
                <a:srgbClr val="000000"/>
              </a:solidFill>
              <a:latin typeface="Lucida Sans Unicode"/>
            </a:endParaRPr>
          </a:p>
          <a:p>
            <a:pPr marL="350280" indent="-24516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50280" indent="-24516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Arial"/>
              </a:rPr>
              <a:t>التقويم: عملية مبنية على القياس يتم بواسطتها اصدار حكم على الشي المراد قياسه</a:t>
            </a:r>
            <a:r>
              <a:rPr b="1" lang="en-US" sz="3600" spc="-1" strike="noStrike">
                <a:solidFill>
                  <a:srgbClr val="000000"/>
                </a:solidFill>
                <a:latin typeface="Lucida Sans Unicode"/>
                <a:ea typeface="Arial"/>
              </a:rPr>
              <a:t>. </a:t>
            </a:r>
            <a:endParaRPr b="0" lang="en-US" sz="3600" spc="-1" strike="noStrike">
              <a:solidFill>
                <a:srgbClr val="000000"/>
              </a:solidFill>
              <a:latin typeface="Lucida Sans Unicode"/>
            </a:endParaRPr>
          </a:p>
        </p:txBody>
      </p:sp>
      <p:pic>
        <p:nvPicPr>
          <p:cNvPr id="379"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قياس في التربية هو معرفة مدى تحصيل الطالب من الاهداف عن طريق اختبار يعطى للطالب ويحصل على علامه لتحدد موقعه.</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تقويم في التربية هو معرفة مدى ما تحقق لدى الطالب من الاهداف واتخاذ القرارات بشأنها</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r">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ن هنا يمكن القول بأن التقويم اشمل واعم هذه المصطلحات، ثم يأتي القياس الذي هو اعم واشمل من الاختبار، ثم الاختبار الذي يعد مثال وأداة ووسيلة واحدة من أدوات وأساليب القياس التربوي</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 </a:t>
            </a:r>
            <a:r>
              <a:rPr b="0"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457200" y="274680"/>
            <a:ext cx="8229600" cy="1146240"/>
          </a:xfrm>
          <a:prstGeom prst="rect">
            <a:avLst/>
          </a:prstGeom>
          <a:ln w="0">
            <a:noFill/>
          </a:ln>
        </p:spPr>
      </p:pic>
      <p:sp>
        <p:nvSpPr>
          <p:cNvPr id="384" name="Oval 4"/>
          <p:cNvSpPr/>
          <p:nvPr/>
        </p:nvSpPr>
        <p:spPr>
          <a:xfrm>
            <a:off x="1547640" y="3284640"/>
            <a:ext cx="6337440" cy="280836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Box 6"/>
          <p:cNvSpPr/>
          <p:nvPr/>
        </p:nvSpPr>
        <p:spPr>
          <a:xfrm>
            <a:off x="5508720" y="3645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تقويم</a:t>
            </a:r>
            <a:endParaRPr b="0" lang="en-US" sz="1800" spc="-1" strike="noStrike">
              <a:solidFill>
                <a:srgbClr val="000000"/>
              </a:solidFill>
              <a:latin typeface="Arial"/>
            </a:endParaRPr>
          </a:p>
        </p:txBody>
      </p:sp>
      <p:sp>
        <p:nvSpPr>
          <p:cNvPr id="386" name="Oval 7"/>
          <p:cNvSpPr/>
          <p:nvPr/>
        </p:nvSpPr>
        <p:spPr>
          <a:xfrm>
            <a:off x="3059280" y="4149720"/>
            <a:ext cx="3313080" cy="1150920"/>
          </a:xfrm>
          <a:prstGeom prst="ellipse">
            <a:avLst/>
          </a:prstGeom>
          <a:solidFill>
            <a:srgbClr val="ffffff"/>
          </a:solidFill>
          <a:ln w="55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القياس</a:t>
            </a:r>
            <a:r>
              <a:rPr b="1" lang="ar-SA" sz="2000" spc="-1" strike="noStrike">
                <a:solidFill>
                  <a:srgbClr val="000000"/>
                </a:solidFill>
                <a:latin typeface="Lucida Sans Unicode"/>
              </a:rPr>
              <a:t>                                                                    </a:t>
            </a:r>
            <a:endParaRPr b="0" lang="en-US" sz="2000" spc="-1" strike="noStrike">
              <a:solidFill>
                <a:srgbClr val="000000"/>
              </a:solidFill>
              <a:latin typeface="Arial"/>
            </a:endParaRPr>
          </a:p>
        </p:txBody>
      </p:sp>
      <p:sp>
        <p:nvSpPr>
          <p:cNvPr id="387" name="Oval 8"/>
          <p:cNvSpPr/>
          <p:nvPr/>
        </p:nvSpPr>
        <p:spPr>
          <a:xfrm>
            <a:off x="3708360" y="4653000"/>
            <a:ext cx="1079640" cy="36036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اختبا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تغير هو الخاصية او الصفة القابلة للتغير من عنصر لاخر او من شخص لاخر (الطول+ الوزن + الحالة التعليمية).</a:t>
            </a:r>
            <a:endParaRPr b="0" lang="en-US" sz="27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graphicFrame>
        <p:nvGraphicFramePr>
          <p:cNvPr id="390" name=""/>
          <p:cNvGraphicFramePr/>
          <p:nvPr/>
        </p:nvGraphicFramePr>
        <p:xfrm>
          <a:off x="2484360" y="2708280"/>
          <a:ext cx="6096240" cy="1854360"/>
        </p:xfrm>
        <a:graphic>
          <a:graphicData uri="http://schemas.openxmlformats.org/drawingml/2006/table">
            <a:tbl>
              <a:tblPr/>
              <a:tblGrid>
                <a:gridCol w="3048120"/>
                <a:gridCol w="3048120"/>
              </a:tblGrid>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مثل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تغي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70</a:t>
                      </a:r>
                      <a:r>
                        <a:rPr b="1" lang="ar-SA" sz="1800" spc="-1" strike="noStrike">
                          <a:solidFill>
                            <a:srgbClr val="000000"/>
                          </a:solidFill>
                          <a:latin typeface="Lucida Sans Unicode"/>
                        </a:rPr>
                        <a:t>كجم, </a:t>
                      </a:r>
                      <a:r>
                        <a:rPr b="1" lang="ar-SA" sz="1800" spc="-1" strike="noStrike">
                          <a:solidFill>
                            <a:srgbClr val="000000"/>
                          </a:solidFill>
                          <a:latin typeface="Lucida Sans Unicode"/>
                        </a:rPr>
                        <a:t>50</a:t>
                      </a:r>
                      <a:r>
                        <a:rPr b="1" lang="ar-SA" sz="1800" spc="-1" strike="noStrike">
                          <a:solidFill>
                            <a:srgbClr val="000000"/>
                          </a:solidFill>
                          <a:latin typeface="Lucida Sans Unicode"/>
                        </a:rPr>
                        <a:t>كجم, </a:t>
                      </a:r>
                      <a:r>
                        <a:rPr b="1" lang="ar-SA" sz="1800" spc="-1" strike="noStrike">
                          <a:solidFill>
                            <a:srgbClr val="000000"/>
                          </a:solidFill>
                          <a:latin typeface="Lucida Sans Unicode"/>
                        </a:rPr>
                        <a:t>160</a:t>
                      </a:r>
                      <a:r>
                        <a:rPr b="1" lang="ar-SA" sz="1800" spc="-1" strike="noStrike">
                          <a:solidFill>
                            <a:srgbClr val="000000"/>
                          </a:solidFill>
                          <a:latin typeface="Lucida Sans Unicode"/>
                        </a:rPr>
                        <a:t> كج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وز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50 </a:t>
                      </a:r>
                      <a:r>
                        <a:rPr b="1" lang="ar-SA" sz="1800" spc="-1" strike="noStrike">
                          <a:solidFill>
                            <a:srgbClr val="000000"/>
                          </a:solidFill>
                          <a:latin typeface="Lucida Sans Unicode"/>
                        </a:rPr>
                        <a:t>سم, </a:t>
                      </a:r>
                      <a:r>
                        <a:rPr b="1" lang="ar-SA" sz="1800" spc="-1" strike="noStrike">
                          <a:solidFill>
                            <a:srgbClr val="000000"/>
                          </a:solidFill>
                          <a:latin typeface="Lucida Sans Unicode"/>
                        </a:rPr>
                        <a:t>170</a:t>
                      </a:r>
                      <a:r>
                        <a:rPr b="1" lang="ar-SA" sz="1800" spc="-1" strike="noStrike">
                          <a:solidFill>
                            <a:srgbClr val="000000"/>
                          </a:solidFill>
                          <a:latin typeface="Lucida Sans Unicode"/>
                        </a:rPr>
                        <a:t>سم, </a:t>
                      </a:r>
                      <a:r>
                        <a:rPr b="1" lang="ar-SA" sz="1800" spc="-1" strike="noStrike">
                          <a:solidFill>
                            <a:srgbClr val="000000"/>
                          </a:solidFill>
                          <a:latin typeface="Lucida Sans Unicode"/>
                        </a:rPr>
                        <a:t>190</a:t>
                      </a:r>
                      <a:r>
                        <a:rPr b="1" lang="ar-SA" sz="1800" spc="-1" strike="noStrike">
                          <a:solidFill>
                            <a:srgbClr val="000000"/>
                          </a:solidFill>
                          <a:latin typeface="Lucida Sans Unicode"/>
                        </a:rPr>
                        <a:t>س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طو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تعلم , غير متعل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حاله التعليم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26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متاز , جيد جدا, جيد , مقبو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تقدير الطلاب</a:t>
                      </a:r>
                      <a:r>
                        <a:rPr b="1" lang="ar-SA"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391" name="Right Arrow 6"/>
          <p:cNvSpPr/>
          <p:nvPr/>
        </p:nvSpPr>
        <p:spPr>
          <a:xfrm>
            <a:off x="324000" y="3141720"/>
            <a:ext cx="2016000" cy="647640"/>
          </a:xfrm>
          <a:prstGeom prst="rightArrow">
            <a:avLst>
              <a:gd name="adj1" fmla="val 50000"/>
              <a:gd name="adj2" fmla="val 50007"/>
            </a:avLst>
          </a:prstGeom>
          <a:gradFill rotWithShape="0">
            <a:gsLst>
              <a:gs pos="0">
                <a:srgbClr val="000000"/>
              </a:gs>
              <a:gs pos="100000">
                <a:srgbClr val="3c3c3c"/>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كمية</a:t>
            </a:r>
            <a:endParaRPr b="0" lang="en-US" sz="1800" spc="-1" strike="noStrike">
              <a:solidFill>
                <a:srgbClr val="000000"/>
              </a:solidFill>
              <a:latin typeface="Arial"/>
            </a:endParaRPr>
          </a:p>
        </p:txBody>
      </p:sp>
      <p:sp>
        <p:nvSpPr>
          <p:cNvPr id="392" name="Right Arrow 7"/>
          <p:cNvSpPr/>
          <p:nvPr/>
        </p:nvSpPr>
        <p:spPr>
          <a:xfrm>
            <a:off x="395280" y="3860640"/>
            <a:ext cx="2016000" cy="648000"/>
          </a:xfrm>
          <a:prstGeom prst="rightArrow">
            <a:avLst>
              <a:gd name="adj1" fmla="val 50000"/>
              <a:gd name="adj2" fmla="val 49979"/>
            </a:avLst>
          </a:prstGeom>
          <a:solidFill>
            <a:srgbClr val="000000"/>
          </a:solidFill>
          <a:ln w="55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نو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91"/>
                                        </p:tgtEl>
                                        <p:attrNameLst>
                                          <p:attrName>style.visibility</p:attrName>
                                        </p:attrNameLst>
                                      </p:cBhvr>
                                      <p:to>
                                        <p:strVal val="visible"/>
                                      </p:to>
                                    </p:set>
                                    <p:anim calcmode="lin" valueType="num">
                                      <p:cBhvr additive="base">
                                        <p:cTn id="7" dur="500" fill="hold"/>
                                        <p:tgtEl>
                                          <p:spTgt spid="391"/>
                                        </p:tgtEl>
                                        <p:attrNameLst>
                                          <p:attrName>ppt_x</p:attrName>
                                        </p:attrNameLst>
                                      </p:cBhvr>
                                      <p:tavLst>
                                        <p:tav tm="0">
                                          <p:val>
                                            <p:strVal val="#ppt_x"/>
                                          </p:val>
                                        </p:tav>
                                        <p:tav tm="100000">
                                          <p:val>
                                            <p:strVal val="#ppt_x"/>
                                          </p:val>
                                        </p:tav>
                                      </p:tavLst>
                                    </p:anim>
                                    <p:anim calcmode="lin" valueType="num">
                                      <p:cBhvr additive="base">
                                        <p:cTn id="8" dur="500" fill="hold"/>
                                        <p:tgtEl>
                                          <p:spTgt spid="391"/>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91">
                                            <p:txEl>
                                              <p:pRg st="0" end="0"/>
                                            </p:txEl>
                                          </p:spTgt>
                                        </p:tgtEl>
                                        <p:attrNameLst>
                                          <p:attrName>style.visibility</p:attrName>
                                        </p:attrNameLst>
                                      </p:cBhvr>
                                      <p:to>
                                        <p:strVal val="visible"/>
                                      </p:to>
                                    </p:set>
                                    <p:anim calcmode="lin" valueType="num">
                                      <p:cBhvr additive="base">
                                        <p:cTn id="11"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392"/>
                                        </p:tgtEl>
                                        <p:attrNameLst>
                                          <p:attrName>style.visibility</p:attrName>
                                        </p:attrNameLst>
                                      </p:cBhvr>
                                      <p:to>
                                        <p:strVal val="visible"/>
                                      </p:to>
                                    </p:set>
                                    <p:anim calcmode="lin" valueType="num">
                                      <p:cBhvr additive="base">
                                        <p:cTn id="17" dur="500" fill="hold"/>
                                        <p:tgtEl>
                                          <p:spTgt spid="392"/>
                                        </p:tgtEl>
                                        <p:attrNameLst>
                                          <p:attrName>ppt_x</p:attrName>
                                        </p:attrNameLst>
                                      </p:cBhvr>
                                      <p:tavLst>
                                        <p:tav tm="0">
                                          <p:val>
                                            <p:strVal val="#ppt_x"/>
                                          </p:val>
                                        </p:tav>
                                        <p:tav tm="100000">
                                          <p:val>
                                            <p:strVal val="#ppt_x"/>
                                          </p:val>
                                        </p:tav>
                                      </p:tavLst>
                                    </p:anim>
                                    <p:anim calcmode="lin" valueType="num">
                                      <p:cBhvr additive="base">
                                        <p:cTn id="18" dur="500" fill="hold"/>
                                        <p:tgtEl>
                                          <p:spTgt spid="392"/>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392">
                                            <p:txEl>
                                              <p:pRg st="0" end="0"/>
                                            </p:txEl>
                                          </p:spTgt>
                                        </p:tgtEl>
                                        <p:attrNameLst>
                                          <p:attrName>style.visibility</p:attrName>
                                        </p:attrNameLst>
                                      </p:cBhvr>
                                      <p:to>
                                        <p:strVal val="visible"/>
                                      </p:to>
                                    </p:set>
                                    <p:anim calcmode="lin" valueType="num">
                                      <p:cBhvr additive="base">
                                        <p:cTn id="21"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تغيرات نوعا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تغيرات نوعية: وهي التي تاخذ اسماء او اوصاف عند تحديدها في الاشياء او الاشخاص ( الحالة التعليم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تغيرات كميه: وهي التي تقاس بالكم اي تاخد قيمة عددية ( الوزن + الطول)</a:t>
            </a:r>
            <a:r>
              <a:rPr b="1"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fontScale="84000"/>
          </a:bodyPr>
          <a:p>
            <a:pPr marL="306360" indent="-21456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المقياس الاسمي:</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يختص هذا المقياس بالمتغيرات او الصفات النوعية للاشياء او الاشخاص.</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هو مقياس يصنف الخاصية في فئات ولا يعطيها قيما عددية او رقمية.</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صنيف الطلاب الي ناجح وراسب</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وزيع الطلاب الى علمي وادبي وتقني</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وزيع الطلاب حسب التخصص في الجامعه</a:t>
            </a:r>
            <a:r>
              <a:rPr b="1"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06360" indent="-21456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مقياس الرتب:</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هذا المقياس يرتب الاشخاص او الاشياء ترتيبا تصاعديا او تنازليا وفق مقدار امتلاكهم للخاصية.</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هذا المقياس لا يحدد قيمه عددية تدل على ما في الشخص او الشي من الخاصية ولكنة يبين اسبقيته في هذة الخاصية على غيره من الاشخاص او الاشياء.</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رتيب الطلاب في الصف وفق تحصيلهم الدراسي ( الاول والثاني والثالث).</a:t>
            </a:r>
            <a:endParaRPr b="0" lang="en-US" sz="2300" spc="-1" strike="noStrike">
              <a:solidFill>
                <a:srgbClr val="000000"/>
              </a:solidFill>
              <a:latin typeface="Lucida Sans Unicode"/>
            </a:endParaRPr>
          </a:p>
          <a:p>
            <a:pPr marL="306360" indent="-214560" algn="r" rtl="1">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Lucida Sans Unicode"/>
                <a:cs typeface="Arial"/>
              </a:rPr>
              <a:t>تقدير الطلاب ( ممتاز , جيد جدا, جيد, مقبول, ضعيف).</a:t>
            </a:r>
            <a:r>
              <a:rPr b="1"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06360" indent="-214560" algn="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6"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1:50:33Z</dcterms:created>
  <dc:creator>user</dc:creator>
  <dc:description/>
  <dc:language>en-US</dc:language>
  <cp:lastModifiedBy>Syed Ehsan</cp:lastModifiedBy>
  <dcterms:modified xsi:type="dcterms:W3CDTF">2016-09-25T18:39:24Z</dcterms:modified>
  <cp:revision>30</cp:revision>
  <dc:subject/>
  <dc:title>القياس والتقويم التربوي</dc:title>
</cp:coreProperties>
</file>