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F322-9BA3-469B-8DAB-DF1520618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3BD7-45BB-42B4-880E-8E40F5397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7BE-03C4-48C1-899B-7E3AB77A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159-C0D8-44C0-A0AF-74F7BEE4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2E7-DCEF-4C89-9D98-666CE980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D4F-0100-47CA-A5FE-3F9E7FC7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E990-B973-4567-8D0F-E068BDE0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472C-B1F5-4BDE-9B41-E8F84792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93FF-80A7-44D0-98A1-67E42A89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307D-BD78-4FDB-9F52-AEF0444B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EE3C-F7B1-4C09-A311-FA1CE3F1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5584-BA6F-404E-B403-FCCD6198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CAA0-EFEB-44CC-8E5B-4300200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D28-F8F1-49CB-9347-A336BA21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B235-CDF6-44A2-B2C0-65E4005E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A65B-4659-4BD4-9B78-888F5AE6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BA66-45AA-4318-9E27-07A1B444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E54F-6508-4137-A6FC-2C571BBB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B6EF-CCD1-491D-B63B-69D250A1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BB6E-D7F5-470D-9478-2C1636A1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8C40-EE27-4146-B8B2-74E28384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41C08-BBDB-4B35-B4D1-242CCA10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9FED3-AA39-4638-8D89-50FE1B0B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81948-A963-4573-9F8B-5C3A6CD4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A0A2-390B-4656-B134-3DF505BB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B78C-8923-4248-80C2-DAF787F8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92A6E-81F1-4792-87EF-3DAC160A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39B6-7C60-48F4-A780-239DDD17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E16F8-21E3-44C5-8A8E-4977D733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0B7E-B7F6-4119-8FF1-A34AE2C9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BA991-A17E-4B03-89F8-85F9F1D5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AE18-82B7-4B88-A016-1D3E35E7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DEA39-8EA4-4F47-86C8-81D667FC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A4A2-7FD7-424D-A5DF-264CE3CA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2BEA-2802-4722-AC93-07FA8126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772-9BE4-44D7-9B5D-9FD88462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69309-4AC9-4A40-9C02-F331C4EB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FAEF-2277-41B0-BEA5-046B2A15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9064-205E-41C1-A7BB-672A7045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3B33A-16BD-4B7B-9947-A46E3021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B7D72-2F10-4AFB-86B9-BB7DF9F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93C5-E995-4F8C-B313-F8A4EDE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5F1B-601F-4A4A-AC57-F9EBC98C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A08C9-C033-41F0-849E-8F48FDDB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C75E4-F34A-40AC-AD0B-2D0C3C97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3DED8-2F81-4829-8B03-72827E39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748-9BB6-4535-AC63-083844E3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D2DFB-FBE7-4EED-A358-A8B8602C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8E841-253E-469A-8BEB-B7548E60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08558-6AD2-4CC7-9F40-948B50FC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22B7D-DBD9-48CA-B21F-211521F0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B24CE-E656-4293-83AB-821964E8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7F297-9EAB-4151-8BFB-B56AA053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E130D-2B72-4694-B1E9-A547D4C8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79C64-7E8A-4A75-8FCA-A90AE18D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044ED-794F-4094-9D1C-7FB20AC1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5A292-64CB-4477-A677-FDCFD3E5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620-EC78-4611-AC9C-6D113482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35E98-8A39-4D8A-8488-26BB89CF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129AD-2617-4C95-9341-B82F2847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DC19-ABB6-4935-8DA9-4E0EE373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A87D-C7A0-4D3E-8D18-FFE68F7D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1B22A-AABD-40AA-B7FB-51D128C7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AC288-67FD-4855-BA83-A1803E81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DC3BD-30AD-4A42-963D-343C2B84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140AB-4793-491E-963F-FA231878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6458E-C26F-47FF-AF92-CD061E2B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62B79-D182-4729-905A-5C410307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6CE-62FC-49B6-AA19-E5235626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3526E-5F88-4D0A-9085-55DE1E96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C01CA-6C77-4251-BC30-BD0753D4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995C4-43F4-49F0-8F28-B738C2CA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A1B3C-D175-4CDB-9229-26602CB7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ECB7E-B122-45E2-B821-E454E412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9F76E-E815-4B2E-BA34-029A6C2B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DB525-44DD-418D-9FFB-B7580F54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0B697-BD84-4B9A-9C00-1848DA79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7A882-3D50-461A-ABBD-2F7AB98E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425E7-9D91-4998-B635-5FD1E16D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15F-C8A8-4967-9504-A9ED79F6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D8B6F-CB9A-400D-A4AA-B0A1E7E4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2F090-BDBD-46B4-B4F8-08BBB55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67C64-D378-4144-A48F-F0777AC7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236DB-E57A-4D5D-874F-9D08B213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B7E18-92A6-4B94-91A6-277DD326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147FD-3DFC-4B33-AF9F-C36CF764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2C2C1-6E3A-4E98-AF56-EB0D1C42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6E95C-781B-4635-97DC-924CA6F3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E2470-3530-4C80-8DC6-7516B4A1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67D45-2BB1-428E-B216-6F56B9EA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803-75A6-4850-8AC2-83750F44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E7CBF-DFE5-476A-84E0-B30ED608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35236-80C1-4738-B0D7-A37ECD7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BA02F-80DA-44DB-B441-7E101144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FE8EF-B4CD-4A1D-8350-6E0F9671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C4E66-0595-4084-937E-0681F60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07467-EDB9-45D7-AF18-A3012A35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707CC-91F6-4D62-94F1-CF48058B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D14B-D662-452D-B4A2-48BF7D67A43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344D-9939-4D54-830F-75F49DAF625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4C2C-EA3A-41EA-8BB0-0B7D6C78EB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C98E-3049-4487-ADB4-AE86E6FB4BB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1F12-5E7D-4815-82CB-EF20C31A5A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3D4D-F427-45EE-92F5-5D111A33BAD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54FE-0F2E-4EA4-B84D-8155268C513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B6BA-9F3D-455C-B540-6929D150760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64646"/>
                </a:solidFill>
                <a:latin typeface="Lucida Sans Unicode"/>
                <a:cs typeface="Arial"/>
              </a:rPr>
              <a:t>المحاضره رقم </a:t>
            </a:r>
            <a:r>
              <a:rPr b="0" lang="ar-SA" sz="2700" spc="-1" strike="noStrike">
                <a:solidFill>
                  <a:srgbClr val="464646"/>
                </a:solidFill>
                <a:latin typeface="Lucida Sans Unicode"/>
                <a:ea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حلي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قدره على تجزئه المادة الى عناصرها المكونه لها, واكتشاف العلاقات بين هذة العناصر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ثا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حدد الطالب مكونات مركب كيميائي عن طريق المختبر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قارن الطالب بين مفهوم الحرية ومفهوم العبودية في ضوء قراءته للقصيد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ركيب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قدرة الطالب على تجميع العناصر والاجزاء والتفاصيل المتفرقه باسلوب او شكل من الاشكال للحصول على موضوعات جديدة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ثلا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كتب مقال او قصه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نظم ابيات من الشعر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ثله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صمم الطالب برنامج حاسوبيا على الاكسس لمجموعه من البيانات المعطاه وبدقه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ضع الطالب خطة تعالج ظاهرة الانحباس الحراري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ؤلف الطالب قصه قصيرة عن اهمية الصدق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ركب الطالب دائره كهربائيه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 algn="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قويم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قدرة الطالب على اصدار احكام على الافكار والاعمال و الاشياء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الافعال المستخدمة ينقد يقارن يقابل يميز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ثلا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حكم على قيمه عمل ادبي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بين الاخطاء المنطقيه في المناقشات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قارن عملا او انتاجا بغيره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ثلة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بدي الطالب رايه في ابيات القصيده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فند الطالب ادعاءات الفرق الضاله بالرجوع الى اصول منهج السلف الصالح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نقد الطالب اسباب ضعف الموارد اللقتصادية للدوله المعطاه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ختار الطالب الطريقة الاكثر ملاءمه لتنصيف القطعة المستقيمه وباسلوب علمى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 algn="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457200" y="1481040"/>
          <a:ext cx="8229600" cy="3475080"/>
        </p:xfrm>
        <a:graphic>
          <a:graphicData uri="http://schemas.openxmlformats.org/drawingml/2006/table">
            <a:tbl>
              <a:tblPr/>
              <a:tblGrid>
                <a:gridCol w="1811160"/>
                <a:gridCol w="64184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ذكر الطالب اسماء الخلفاء الراشدين بالترتي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فسر الطالب معنى الاية ”ولا تقل لهما اف ولا تنهرهما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“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تلو الطالب سورة القلم مراعيا احكام التجويد الصحيح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ستخلص الطالب اثر معركة اليرموك في التاريخ الاسلام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كتب الطالب موضوعا انشائيا في حدود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0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كلمة يبين فية حق الجار على الجار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بين الطالب المغالطات المنطقية في برهان خاطي لاستنتاج رياضي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468360" y="1484280"/>
            <a:ext cx="1800000" cy="5047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ذك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468360" y="1916280"/>
            <a:ext cx="1800000" cy="4330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ف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468360" y="2349360"/>
            <a:ext cx="1800000" cy="5032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طبي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468360" y="2852640"/>
            <a:ext cx="1800000" cy="43200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حل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468360" y="3348000"/>
            <a:ext cx="1800000" cy="80028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ركي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457200" y="4148280"/>
            <a:ext cx="1811160" cy="80784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حدد مستوى كل هدف من هذة الاهداف؟؟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5" name=""/>
          <p:cNvGraphicFramePr/>
          <p:nvPr/>
        </p:nvGraphicFramePr>
        <p:xfrm>
          <a:off x="611280" y="2060640"/>
          <a:ext cx="7848360" cy="3566880"/>
        </p:xfrm>
        <a:graphic>
          <a:graphicData uri="http://schemas.openxmlformats.org/drawingml/2006/table">
            <a:tbl>
              <a:tblPr/>
              <a:tblGrid>
                <a:gridCol w="1298520"/>
                <a:gridCol w="654984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عطي الطالب مثال على فعل متعدي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بدي الطالب رأيه في شعر المتنبي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ذكر الطالب اركان الاسلام الخمسه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برز الطالب الصور البلاغية في قصيدة المتنبي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عرب الطالب الجمله التالية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قترح الطالب خطة مكتوبة تتضمن حلولا مناسبة لمشكلة تلوث البيئة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وضح اهمية اصلاح ذات البين في استقرار حياة المسلمين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Rounded Rectangle 5"/>
          <p:cNvSpPr/>
          <p:nvPr/>
        </p:nvSpPr>
        <p:spPr>
          <a:xfrm>
            <a:off x="611280" y="2060640"/>
            <a:ext cx="1296720" cy="4381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ف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ounded Rectangle 6"/>
          <p:cNvSpPr/>
          <p:nvPr/>
        </p:nvSpPr>
        <p:spPr>
          <a:xfrm>
            <a:off x="611280" y="2565360"/>
            <a:ext cx="1296720" cy="3920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قو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ounded Rectangle 7"/>
          <p:cNvSpPr/>
          <p:nvPr/>
        </p:nvSpPr>
        <p:spPr>
          <a:xfrm>
            <a:off x="611280" y="2997360"/>
            <a:ext cx="1296720" cy="4316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ذك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le 8"/>
          <p:cNvSpPr/>
          <p:nvPr/>
        </p:nvSpPr>
        <p:spPr>
          <a:xfrm>
            <a:off x="611280" y="3462480"/>
            <a:ext cx="1296720" cy="47124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حل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ounded Rectangle 9"/>
          <p:cNvSpPr/>
          <p:nvPr/>
        </p:nvSpPr>
        <p:spPr>
          <a:xfrm>
            <a:off x="611280" y="3965400"/>
            <a:ext cx="1296720" cy="4003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طبي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le 10"/>
          <p:cNvSpPr/>
          <p:nvPr/>
        </p:nvSpPr>
        <p:spPr>
          <a:xfrm>
            <a:off x="611280" y="4397400"/>
            <a:ext cx="1296720" cy="7603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ركي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le 11"/>
          <p:cNvSpPr/>
          <p:nvPr/>
        </p:nvSpPr>
        <p:spPr>
          <a:xfrm>
            <a:off x="611280" y="5189400"/>
            <a:ext cx="1296720" cy="400320"/>
          </a:xfrm>
          <a:prstGeom prst="roundRect">
            <a:avLst>
              <a:gd name="adj" fmla="val 166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ركي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ارأيك في الاهداف السلوكية مع او ضد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ثارت صياغة الاهداف في عبارات سلوكية جدلا ونقاشا بين العلماء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منهم من نادى بضرورة وضع الاهداف السلوكية لفوائدها في تحسين عملية التعليم بالنسبة للمعلم والطالب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ومنهم من عارضها لسبب او لاخر كعدم جدواها او عدم واقعيتها او عدم قدرتها على تغطية كافة النشاطات التعليم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ومنهم من اتخد موقفا معتدلا فنادى بتطوير اهداف اخرى مساعدة. ومنهم من قبل ببعض الغموض فيها بينما قبل الاخر بقصرها على المعلمين الجد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ع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مبررات التي يسوقها مؤيدو الاهداف السلوك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ساعد المعلم على وضع خطة دراس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وجه الاهداف السلوكية جهود الطالب اثناء التعليم. فالطالب الذي يعرف مسبقا ما يترتب علية اداؤه في نهاية التعليم يستطيع توجية جهودة وتركيزه لتحقيق الهد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جعل عملية التعليم والتعلم اكثر فعالية اذ يكون واضح في ذهن المعلم الهدف الذي يحاول ان يحقق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الهدف يمكن المعلم من صياغة الاسئله بسهوله ويسر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ضد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نتقادات على الاهداف السلوك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ها تركز على الاهداف الفورية والمباشرة للتعليم, وذلك على حساب النتائج بعيده المدى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ها تركز على السلوك السطحي وتهمل السلوك الاكثر اهمية كالادراك والتفكير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صياغة الاهداف تاخذ وقت وجهد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فتقر الى الواقعية لان العديد من المعلمين الناجحين لا يستخدمونها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فما موقفك كمعلم تجاه هذه الحجج المتعارضه؟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  <a:cs typeface="Arial"/>
              </a:rPr>
              <a:t>ويمر الاختبار بسلسله من الخطوات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الغرض من الاختبار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الاهداف السلوكية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ليل محتوى المادة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عداد جدول المواصفات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كتابة الاسئلة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طبيق الاختبار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ليل الاختبار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هداف السلوكية يجب ان تكون واضحه وضوح الشمس في كبد السماء والا انتفى التعليم الهادف الفعال والتقويم الناجح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هداف السلوكية هي التي تصف السلوك المطلوب اداؤه بعبارات يمكن قياسها وملاحظت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ثال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قرأ الطالب سورة الفاتحة بدون اخطا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ذكر الطالب اسماء الخلفاء الراشدين بالترتيب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هداف تساعد المعلم في عملية التقويم وصياغة الاسئ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ثال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5" name=""/>
          <p:cNvGraphicFramePr/>
          <p:nvPr/>
        </p:nvGraphicFramePr>
        <p:xfrm>
          <a:off x="684360" y="2565360"/>
          <a:ext cx="7391160" cy="3241800"/>
        </p:xfrm>
        <a:graphic>
          <a:graphicData uri="http://schemas.openxmlformats.org/drawingml/2006/table">
            <a:tbl>
              <a:tblPr/>
              <a:tblGrid>
                <a:gridCol w="2463480"/>
                <a:gridCol w="2463840"/>
                <a:gridCol w="2463840"/>
              </a:tblGrid>
              <a:tr h="442440"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طريقة التقويم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الهدف السلوكي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المحتوى</a:t>
                      </a: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01720">
                <a:tc>
                  <a:txBody>
                    <a:bodyPr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Lucida Sans Unicode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سؤال قصير عر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Lucida Sans Unicode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Lucida Sans Unicode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جمل للاعرا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Lucida Sans Unicode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Lucida Sans Unicode"/>
                        <a:buAutoNum type="arabicPeriod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موضوع انشائي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عرف  الطالب المثنى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عرب الطالب  المثنى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ان يستعمل الطالب المثنى عشرين مرة استعمالا صحيحا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قواعد المثن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هداف السلوكيه في المجال المعرفي تشمل </a:t>
            </a: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6</a:t>
            </a: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مستويات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ذه المستويات متدرجة من البسيط الى الاكثر تعقيدا.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3492360" y="2492280"/>
            <a:ext cx="8136000" cy="3961080"/>
          </a:xfrm>
          <a:prstGeom prst="rect">
            <a:avLst/>
          </a:prstGeom>
          <a:ln w="0">
            <a:noFill/>
          </a:ln>
        </p:spPr>
      </p:pic>
      <p:sp>
        <p:nvSpPr>
          <p:cNvPr id="389" name="Right Arrow 5"/>
          <p:cNvSpPr/>
          <p:nvPr/>
        </p:nvSpPr>
        <p:spPr>
          <a:xfrm>
            <a:off x="611280" y="4869000"/>
            <a:ext cx="2592360" cy="936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قدرات دني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ight Arrow 7"/>
          <p:cNvSpPr/>
          <p:nvPr/>
        </p:nvSpPr>
        <p:spPr>
          <a:xfrm>
            <a:off x="611280" y="2924280"/>
            <a:ext cx="3097080" cy="18000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Lucida Sans Unicode"/>
              </a:rPr>
              <a:t>قدرات علي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ذكر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ذا المستوى ادنى مستويات المجال المعرفي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عني بتذكر المعلومات التي تم تعلمها سابقا اي استدعاؤها من الذاكره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الافعال المستخدمة : يسمي, يعرف, يذكر, يصف, يرتب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ثال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ذكر الطالب اسماء الخلفاء الراشدين بالترتيب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عرف الطالب الزاوية الحا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عرف الطالب المستطيل تعريفا دقيقا وفي حدود سطر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50560" y="1125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فهم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Lucida Sans Unicode"/>
                <a:cs typeface="Arial"/>
              </a:rPr>
              <a:t>وهو القدرة على تفسير أو أعادة صياغة المعلومات التى حصلها الطالب في مستوى التذكر بلعتة الخاصة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Lucida Sans Unicode"/>
                <a:cs typeface="Arial"/>
              </a:rPr>
              <a:t>ويشمل ثلاثه اقسام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Lucida Sans Unicode"/>
                <a:cs typeface="Arial"/>
              </a:rPr>
              <a:t>الترجمه</a:t>
            </a:r>
            <a:r>
              <a:rPr b="1" lang="ar-SA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: تحويل النص او الكلام من صيغة لاخرى او من لغة الى اخرى بحيث يتم المحافظه على المعنى الاساسي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ثلا:يعبر عن فكرة او موضوع بكلماته الخاصه</a:t>
            </a:r>
            <a:r>
              <a:rPr b="0" lang="ar-SA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,</a:t>
            </a:r>
            <a:r>
              <a:rPr b="1" lang="ar-SA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يترجم من اللغة العربيه الى الانجليزيه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Lucida Sans Unicode"/>
                <a:cs typeface="Arial"/>
              </a:rPr>
              <a:t>التفسير</a:t>
            </a:r>
            <a:r>
              <a:rPr b="1" lang="ar-SA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: قدرة الطالب على شرح او اعطاء معنى للنص او الفكره او تلخيص المعلومات والكلا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مثلا: يفسر ايات قرانية, يلخص فكرة او نص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Lucida Sans Unicode"/>
                <a:cs typeface="Arial"/>
              </a:rPr>
              <a:t>التأويل</a:t>
            </a:r>
            <a:r>
              <a:rPr b="1" lang="ar-SA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: تتخطى حدود المادة المقدمة او النص للوصول الى استنتاجات او توقعات تعتمد على فه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ثال:يستخلص علاقة او قاعدة معينة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3920" indent="-219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فهم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مثله التي يضعها المعلم لغرض قياس الفهم يجب ان الا تكون مرتبطه بنفس نص الماده التي تم تدريسها في الصف والا تكون في مستوى التذكر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الافعال في هذا المستوى: يشرح, يفسر, يلخص, يترجم, يعلل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ثلة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علل الطالب اسباب تركيز المعتزله على نصرة العقل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1920" indent="-23256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لخص الطالب اهمية الاسرة في بناء المجتم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طبيق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ستخدام الطالب ما تعلمه في مواقف جديده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الافعال السلوكيه في هذا المستوى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حسب, يحل, يطبق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عرب الجمل المعطاه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حل المسائل والتمارين غير مالوفه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ثلة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طبق الطالب احكام التجويد عند قراءته السورة بدون اخطاء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حسب الطالب مساحه قطعة ارض مستطيله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ن يستخرج الطالب الضمائر المفرد الغائب من القطعه الادبيه المعطاة وبدقه تامه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 algn="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7T13:18:51Z</dcterms:created>
  <dc:creator>user</dc:creator>
  <dc:description/>
  <dc:language>en-US</dc:language>
  <cp:lastModifiedBy>Syed Ehsan</cp:lastModifiedBy>
  <dcterms:modified xsi:type="dcterms:W3CDTF">2016-09-25T18:53:10Z</dcterms:modified>
  <cp:revision>40</cp:revision>
  <dc:subject/>
  <dc:title>القياس والتقويم التربوي</dc:title>
</cp:coreProperties>
</file>