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935-73AC-46BD-BC4A-47017DCF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996-CB34-4D46-AC01-F9EF2EB1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D25-B1D4-4ABD-94EB-B1E06B23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72A-0100-4FE9-B808-A39D2AB1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94D3-C552-4D22-ACE7-7CE9F979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776E-28E2-43C7-A0C5-379A3460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18BE-7F3F-46F3-8078-C61EB0AF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A75E-A1E5-4708-801E-A1F28085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3430-F7D2-4F16-8D0A-09EFC58E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7928-7A61-4151-B2FD-FBC57C98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AD6A-CF2C-4818-A228-AAA169ED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1B8-9997-4AF9-B88E-0EF29A3A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B685-B012-4625-83AA-C77596F9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8013-5DC2-41DC-B6F8-8208CCC1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3D4F-FB11-450C-BA58-D10EDF89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3F9A-8077-4A9D-9006-E040C727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7638-A9D5-432C-90A2-D4E5ADA4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E01-2222-4855-9276-6AFEB9A2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EFD-A824-42A3-AF4C-381D1F54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74F-CEE7-42C0-982B-CAC6F711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685-429F-455F-896C-DDEB644E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080-5F62-4A55-9472-49660A97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304-C78B-4879-B8E3-CC5763FE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11A-73C8-4FA7-B7DD-91451E05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94CB-181B-4CD9-BD67-E5DFDBF2126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E1FC-C2FC-4DAA-BFF8-855E4069D8E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596520"/>
            <a:ext cx="8037360" cy="54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Verdana"/>
              </a:rPr>
              <a:t>Stress</a:t>
            </a:r>
            <a:r>
              <a:rPr b="1" lang="en-US" sz="6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6600"/>
            </a:b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and </a:t>
            </a:r>
            <a:br>
              <a:rPr sz="5400"/>
            </a:br>
            <a:r>
              <a:rPr b="1" lang="en-US" sz="6100" spc="-1" strike="noStrike">
                <a:solidFill>
                  <a:srgbClr val="ff66ff"/>
                </a:solidFill>
                <a:latin typeface="Verdana"/>
              </a:rPr>
              <a:t>well-being</a:t>
            </a:r>
            <a:br>
              <a:rPr sz="6100"/>
            </a:br>
            <a:br>
              <a:rPr sz="61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Dr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Ali K. Al-Juboori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Ph. D. PSYCH. NSG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Med. Psychology</a:t>
            </a: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Thanks 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FOR your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patience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STRESS Defined a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A state produced by a change in the environment that is perceived as challenging, threatening, or damaging to the persons dynamic equilibrium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ources of stres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.Family stres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nancial problem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lationship problem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llnes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mily changes such as birth, death, marriage or divor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2. Career development stres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der promotion, frustration, and boredom with current rol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uck of a clear plan for career developmen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uck of job securit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3. organizational stres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essures from your boss or from above in your organiz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ference in your work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mands from client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sruptions to work plan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telepho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4. Environmental stres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rowding and invasion of personal spa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ufficient working and living spa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oi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rty or untidy condi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llu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5.life style and job stres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oo much or too little work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aving to performed beyond your experience or perceived abiliti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ime pressur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eeping up with new developmen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hange in procedures and polici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ack of relevant inform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ack of clear objectiv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Symptoms of stress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hysical symptom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-increase adrenalin (fight and fligh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-headach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-Abdominal discomfor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-Chest tigh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Emotional symptom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- Sense of being on overloa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- Lack of clarit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- Feeling of confus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- Wanting to run awa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9:37:33Z</dcterms:created>
  <dc:creator>Ali</dc:creator>
  <dc:description/>
  <dc:language>en-US</dc:language>
  <cp:lastModifiedBy>NCC@2011</cp:lastModifiedBy>
  <dcterms:modified xsi:type="dcterms:W3CDTF">2011-10-29T20:05:09Z</dcterms:modified>
  <cp:revision>11</cp:revision>
  <dc:subject/>
  <dc:title>Stress  and well-being  Ali Kareem  Ph. D. </dc:title>
</cp:coreProperties>
</file>