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CA8-6AFA-4C43-A8DD-BF18F654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E8D-A957-4DC5-B788-9591EAC2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7AA-F24D-4232-B3DE-7CCA72C5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A71-4B5C-404F-8EEE-A46FCF20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E3F3-4C5B-4F62-B976-66513ADE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7707-240B-4C2C-A0C7-7E856994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B632-9094-49D0-BC74-5453EEDA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F54E-B6F9-4871-8A25-4F095A8E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6D05-38F8-494E-8DED-AFF1363A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29F2-0D83-457E-89D1-42D52F64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2CEA-6942-4EB8-B474-8C4801F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A72-0619-44D4-8ABB-EBD72EA6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0C28-CC76-4308-A235-65930AB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EAF0-5DFA-4515-BCE1-FFF7BCE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7274-8439-438D-8B4D-81812D02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68D6-3CEA-40F6-99E9-2149B70E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B04D-6D06-432A-8255-048E5159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4C0-767C-4E09-87F7-647C2D68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475-8A33-4F2F-A234-69BB9A83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A24-39D6-486B-A161-84F0AF95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477-5030-4A46-A317-815F1EBE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63B-8C97-498C-ADC2-4D4D61A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4A5-F3E6-460F-A319-4B2CC150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AAE-BA23-403C-86E3-C6EECB4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479B-B146-4130-A8E0-0531BA3A7FA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D8B0-B313-4FFE-B76C-8DFE4152660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96520"/>
            <a:ext cx="803736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Verdana"/>
              </a:rPr>
              <a:t>Stress</a:t>
            </a: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6600"/>
            </a:b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and </a:t>
            </a:r>
            <a:br>
              <a:rPr sz="5400"/>
            </a:br>
            <a:r>
              <a:rPr b="1" lang="en-US" sz="6100" spc="-1" strike="noStrike">
                <a:solidFill>
                  <a:srgbClr val="ff66ff"/>
                </a:solidFill>
                <a:latin typeface="Verdana"/>
              </a:rPr>
              <a:t>well-being</a:t>
            </a:r>
            <a:br>
              <a:rPr sz="6100"/>
            </a:br>
            <a:br>
              <a:rPr sz="61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Dr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Ali K. Al-Juboori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h. D. PSYCH. NSG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Med. Psychology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Thanks 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FOR your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patience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STRESS Defined a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A state produced by a change in the environment that is perceived as challenging, threatening, or damaging to the persons dynamic equilibrium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urces of stres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.Family stres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nancial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lationship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llnes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ily changes such as birth, death, marriage or divor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2. Career development stres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der promotion, frustration, and boredom with current ro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uck of a clear plan for career developmen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uck of job secur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. organizational str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ssures from your boss or from above in your organiz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ference in your wor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mands from clien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sruptions to work plan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telepho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4. Environmental stres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owding and invasion of personal sp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ufficient working and living sp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i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rty or untidy condi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llu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5.life style and job stres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o much or too little wor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ving to performed beyond your experience or perceived abiliti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ime pressur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eeping up with new developmen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hange in procedures and polici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ck of relevant inform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ck of clear objectiv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Symptoms of stress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hysical symptom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-increase adrenalin (fight and fligh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-headach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-Abdominal discomfor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-Chest tigh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Emotional symptom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- Sense of being on overloa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- Lack of clar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- Feeling of confus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- Wanting to run awa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37:33Z</dcterms:created>
  <dc:creator>Ali</dc:creator>
  <dc:description/>
  <dc:language>en-US</dc:language>
  <cp:lastModifiedBy>NCC@2011</cp:lastModifiedBy>
  <dcterms:modified xsi:type="dcterms:W3CDTF">2011-10-29T20:05:09Z</dcterms:modified>
  <cp:revision>11</cp:revision>
  <dc:subject/>
  <dc:title>Stress  and well-being  Ali Kareem  Ph. D. </dc:title>
</cp:coreProperties>
</file>