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F850-C9BF-4848-82B2-7D95ADA9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0C3C-5F94-4D09-B645-436F33F7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9011-B9C8-43E5-9986-A0E388B31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4BFD-E9CD-4153-A4B6-176648CF4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EDDA-3A53-4670-87AB-20EFCA60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69F1-43B7-4286-B3FA-746C7502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4A1E-799F-49D0-A4B6-2AAB0A58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56AA-D4CD-4407-AD28-36E4985E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6A7E-151A-4416-839F-4412C4D0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78B9-A39C-4F93-8D7D-AB985473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97A5-D5F7-49C3-ACB4-68BE537C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B620-368A-4E54-A6C5-4D6D5897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51FC-C1A8-46B4-8F07-19E7CDFB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47D0-112D-49B3-ADDB-8246190E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AF69-8027-41ED-AAB2-EFC85C41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9A77-1D4E-442D-9C45-BA5CF03E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AC5F-5F20-48DA-86E5-C6094E40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CE7A-C629-4DF2-BFFD-C3D149EB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CA46-F09A-4C03-9A0D-43845580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537B-F885-4478-9BA2-46F6DA70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A460-9ACD-41F8-9873-65629DCE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1EBA-B763-47D5-BB6D-4039E26C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BC17-9686-460A-8BE4-E8E20464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CBE2-3372-4D46-B072-D5EC8B9C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9E2D-CCC0-4614-BB14-8F66584D9B9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CEA8-02BB-4DEF-B530-81A689C7805C}" type="slidenum">
              <a:rPr b="0" lang="ar-SA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zpo1.ask.com/r?t=a&amp;d=mys&amp;s=ads&amp;c=p&amp;app=aoth&amp;ti=1&amp;ai=30751&amp;l=dis&amp;o=15561&amp;sv=0a5c4235&amp;ip=6de01de1&amp;cu.wz=0&amp;u=http%3A%2F%2Fwww.moksha.biz%2Fbroadening%2Fimage005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4864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66"/>
                </a:solidFill>
                <a:latin typeface="Lucida Calligraphy"/>
              </a:rPr>
              <a:t>Relaxation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964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r.Ali K. Al-Juboor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Ph.D Psych. Nurs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50752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</a:t>
            </a:r>
            <a:r>
              <a:rPr b="0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Recommendati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inimize background nois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pproach each exercise without excep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o not judge a relaxation techniqu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based on what happens while you are doing i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t is not necessary to understand why it works to experience the benefits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A basic relaxation routin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. Choose  a quiet place where you won’t be interrupted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. before you start, do a few gentle stretching exercise to relieve muscular tens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. make yourself comfortable, either sitting or lying dow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4.start to breathe slowly and deeply, in a calm and effortless wa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68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68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68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68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5. Gently tense, then relax, each part of your body, starting with your feet and working your way up to your face and head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6. as you focus on each area, think of warmth , heaviness, and relaxa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7. push any distracting thoughts to the back of your mind, imagine them floating away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5075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8. Simply let go of the tension in your muscle and allow them to become relaxed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9. let your mind go empty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( visualize a calm, beautiful place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0. Stay like this for about 20 minutes,  then take some deep breaths and open your eyes, but stay sitting for a few moments before you get up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urther relaxation techniqu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Yog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xercis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edita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ypnosi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assag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istening to music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419640" y="2006640"/>
            <a:ext cx="40320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9600" spc="-1" strike="noStrike">
                <a:solidFill>
                  <a:srgbClr val="006699"/>
                </a:solidFill>
                <a:latin typeface="Verdana"/>
              </a:rPr>
              <a:t>Thanks</a:t>
            </a:r>
            <a:endParaRPr b="0" lang="en-US" sz="9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Understanding Relaxa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mind – body process of effectively moving from the stress response to the relaxation respons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ctivation of para-sympathetic nervous system (heart rate, secretion of bile, insulin, digestive juices, peripheral b. vessels dilatation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4400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ntroduction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0755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tress is un avoidable- we cannot just rely on prevention techniqu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educe stress and tension  through techniques that put the body into a relaxed stat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orks primarily on the mental and the physical dimensi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" descr="image00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4941720"/>
            <a:ext cx="38829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00244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urn off stress response, increase alertness  and mental ability and physical energ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anceling arousal of the nervous system, the muscles, and the mind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opposite of the stressed stat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195640" y="4508640"/>
            <a:ext cx="4752720" cy="208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440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mportant poin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 relaxation technique does not work at the same for everyone-practice to identify the techniques that work for you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ry each method several times-regular practice produces noticeable result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se techniques have been shown to be effective, even if they made seem odd at firs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6" dur="indefinite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4" dur="indefinite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Benefits of Relaxa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Physiologicall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.slowed heart rate and respiration     rat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.Reduced blood pressur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.Reduced need for oxyge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4.Reduced muscle tens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5.Fewer physical symptoms: backache, stomach and head ach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Psychologicall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. Fewer emotional responses such as anger, frustra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. Batter concentration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. greater ability to handle problem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Unusual sensa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ingling</a:t>
            </a:r>
            <a:r>
              <a:rPr b="0" lang="ar-IQ" sz="3200" spc="-1" strike="noStrike">
                <a:solidFill>
                  <a:srgbClr val="006699"/>
                </a:solidFill>
                <a:latin typeface="Verdana"/>
              </a:rPr>
              <a:t>وخز</a:t>
            </a:r>
            <a:r>
              <a:rPr b="0" lang="ar-IQ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r numbness</a:t>
            </a:r>
            <a:r>
              <a:rPr b="0" lang="ar-IQ" sz="3200" spc="-1" strike="noStrike">
                <a:solidFill>
                  <a:srgbClr val="006699"/>
                </a:solidFill>
                <a:latin typeface="Verdana"/>
              </a:rPr>
              <a:t>خدر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armth or coolnes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loating or lightheadedness </a:t>
            </a:r>
            <a:r>
              <a:rPr b="0" lang="ar-IQ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r Heaviness in some peopl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pinning</a:t>
            </a:r>
            <a:r>
              <a:rPr b="0" lang="ar-IQ" sz="3200" spc="-1" strike="noStrike">
                <a:solidFill>
                  <a:srgbClr val="006699"/>
                </a:solidFill>
                <a:latin typeface="Verdana"/>
              </a:rPr>
              <a:t>دوران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onounced heartbea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9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98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98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98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98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98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Recommenda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actice relaxation 10 -20 minutes each da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lude yourself to avoid interrup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actice technique at the recommended time of da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o not hurry to end the exercis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8:38:15Z</dcterms:created>
  <dc:creator>Ali</dc:creator>
  <dc:description/>
  <dc:language>en-US</dc:language>
  <cp:lastModifiedBy>NCC@2011</cp:lastModifiedBy>
  <dcterms:modified xsi:type="dcterms:W3CDTF">2012-01-02T19:21:46Z</dcterms:modified>
  <cp:revision>9</cp:revision>
  <dc:subject/>
  <dc:title>Stress management for life RELAXATION</dc:title>
</cp:coreProperties>
</file>