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A40-0295-44D0-ADC0-C7FBFF63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98C-054B-4A73-AA16-08849ADC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770-E725-423C-A077-7C03C3E6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A78-FA2F-44C4-A92F-669BF785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9ED-4BAE-4D86-886F-AF9AB31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C22-AAB2-4A47-A102-D664509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712-3F0F-43F5-A6A4-7BD575F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FB99-7B8E-4BCC-B7E2-6309DDC7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C9DB-EA6F-49E6-8F26-EB950E86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62B6-F045-446C-A554-8988F9B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3B5-DE41-4186-A521-912457F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0B4-EC5E-4041-8542-14068BE9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E63-90DA-421A-BD53-2E4E2B0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9C2-F08D-4324-B5D0-70124CA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6A0-A6EA-41E1-BFA3-5A099D7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3146-5184-4287-B194-BF4C954A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C051-AF65-481A-B1BD-AF9593C2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A7D-8114-4366-BDF2-B0D06EB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4D5-0AB7-4081-82F9-65486D6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9DF-08BE-44A9-8FBB-F00A206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8C8-3FF3-4E0F-A610-EDB4F73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EAF-478F-4617-9043-B88CA63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DD6-38AB-4E1B-BB76-9BFF32F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86E-6817-4C86-AA82-65E4D9A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9192-5E1C-491A-862A-0F033EF6AAE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1C7-8A9D-41E5-872B-534B9A42BAB3}" type="slidenum">
              <a:rPr b="0" lang="ar-SA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zpo1.ask.com/r?t=a&amp;d=mys&amp;s=ads&amp;c=p&amp;app=aoth&amp;ti=1&amp;ai=30751&amp;l=dis&amp;o=15561&amp;sv=0a5c4235&amp;ip=6de01de1&amp;cu.wz=0&amp;u=http%3A%2F%2Fwww.moksha.biz%2Fbroadening%2Fimage0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48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Lucida Calligraphy"/>
              </a:rPr>
              <a:t>Relaxation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r.Ali K. Al-Juboor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.D Psych. Nurs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Recommend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nimize background noi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proach each exercise without excep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not judge a relaxation techniqu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ased on what happens while you are doing i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t is not necessary to understand why it works to experience the benefi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A basic relaxation routin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Choose  a quiet place where you won’t be interrupt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before you start, do a few gentle stretching exercise to relieve muscular ten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make yourself comfortable, either sitting or lying dow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start to breathe slowly and deeply, in a calm and effortless 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Gently tense, then relax, each part of your body, starting with your feet and working your way up to your face and he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 as you focus on each area, think of warmth , heaviness, and relax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 push any distracting thoughts to the back of your mind, imagine them floating away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507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8. Simply let go of the tension in your muscle and allow them to become relax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9. let your mind go empt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 visualize a calm, beautiful plac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0. Stay like this for about 20 minutes,  then take some deep breaths and open your eyes, but stay sitting for a few moments before you get u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urther relaxation techniqu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g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erc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dit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ypno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ss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stening to mus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419640" y="2006640"/>
            <a:ext cx="4032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9600" spc="-1" strike="noStrike">
                <a:solidFill>
                  <a:srgbClr val="006699"/>
                </a:solidFill>
                <a:latin typeface="Verdana"/>
              </a:rPr>
              <a:t>Thanks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nderstanding Relax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mind – body process of effectively moving from the stress response to the relaxation respon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tivation of para-sympathetic nervous system (heart rate, secretion of bile, insulin, digestive juices, peripheral b. vessels dilatatio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440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ntroduction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075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ress is un avoidable- we cannot just rely on prevention techniqu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duce stress and tension  through techniques that put the body into a relaxed st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orks primarily on the mental and the physical dimens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image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941720"/>
            <a:ext cx="3882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02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urn off stress response, increase alertness  and mental ability and physical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celing arousal of the nervous system, the muscles, and the min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opposite of the stressed st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4752720" cy="208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mportant poi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relaxation technique does not work at the same for everyone-practice to identify the techniques that work for yo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y each method several times-regular practice produces noticeable resul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techniques have been shown to be effective, even if they made seem odd at fir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nefits of Relax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ological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slowed heart rate and respiration     r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Reduced blood pressur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Reduced need for oxyg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Reduced muscle ten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Fewer physical symptoms: backache, stomach and head ach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sychological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Fewer emotional responses such as anger, frustr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Batter concentration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greater ability to handle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nusual sensa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ngling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وخز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 numbness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خدر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armth or coo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loating or lightheadedness 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 Heaviness in some peop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inning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دوران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nounced heartbea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Recommenda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ctice relaxation 10 -20 minutes each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lude yourself to avoid interrup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ctice technique at the recommended time of d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not hurry to end the exerc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8:38:15Z</dcterms:created>
  <dc:creator>Ali</dc:creator>
  <dc:description/>
  <dc:language>en-US</dc:language>
  <cp:lastModifiedBy>NCC@2011</cp:lastModifiedBy>
  <dcterms:modified xsi:type="dcterms:W3CDTF">2012-01-02T19:21:46Z</dcterms:modified>
  <cp:revision>9</cp:revision>
  <dc:subject/>
  <dc:title>Stress management for life RELAXATION</dc:title>
</cp:coreProperties>
</file>