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8.jpeg" ContentType="image/jpeg"/>
  <Override PartName="/ppt/media/image10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670-0193-4EF3-8CB4-BEBB6041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2E4-DDED-4466-A2C5-55BD178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B67-C7A7-4AB1-90B3-42587801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BFF-430A-47D7-BCAA-9E7A43C4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1A3D-5D86-4581-8B69-6DCEF554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7C9-0142-4400-907C-48E2F42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11A2-4AC2-4305-9040-A74F6234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E94-E618-47FC-B361-4DFA0394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E361-5C3C-4B30-8A94-34A53B5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F9E-BC04-4FA1-A3A7-DD3000A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C34C-EF67-4710-9D8B-52A2B85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51E-797B-430C-8A0C-7FF2817D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8F0-B905-4FC5-96C6-1457F8E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9EC-8540-43DB-BDCF-2D40EF8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D1A-E7C2-4709-A54A-2EE5EB1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F4F-8380-4284-AE4F-6E1D7557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7D6A-B2E5-4347-8D85-5AFECB1B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4231-513F-494E-827A-66FAD08D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4AC3-EFB5-4C40-8D46-0ABA9B8A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24C9-DFF5-47FB-8145-263918F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BF02-D63B-4333-A19C-E1E2EBA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7EEA-6172-4D92-9095-58FDC17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579-1556-46DE-A47D-58FCC4E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DF6E-E5D2-43B0-9CE0-E1D1C1B0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EC2C-C763-41DD-87D1-00D26E8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9C37-36AD-4011-919D-50605A9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DB97-4C0B-4F84-AA62-F8795AFE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54D5-EE26-493B-92DB-F611BE7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ACD3-57F8-4086-A073-29C5C8A0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CC1B-6CEA-4DF3-A4DD-BCAEBCAF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C1B-390C-4E06-9F4D-1DA3C0AE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12E-4496-496D-A024-E4A276A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53B-CAA5-4454-B417-32D3CC55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744-E402-4299-916F-E079033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013-79C0-43A9-B649-608C027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1FD-B048-4D76-82E0-AAE6C86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DE4-20C2-4AEB-AB4F-9532094274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C81-4656-479D-83E5-F03543F49A42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8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>
                <a:gd name="textAreaLeft" fmla="*/ 0 w 4978440"/>
                <a:gd name="textAreaRight" fmla="*/ 4978440 w 4978440"/>
                <a:gd name="textAreaTop" fmla="*/ 0 h 4976640"/>
                <a:gd name="textAreaBottom" fmla="*/ 4977000 h 4976640"/>
              </a:gdLst>
              <a:ahLst/>
              <a:rect l="textAreaLeft" t="textAreaTop" r="textAreaRight" b="textAreaBottom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>
                <a:gd name="textAreaLeft" fmla="*/ 0 w 4821120"/>
                <a:gd name="textAreaRight" fmla="*/ 4821480 w 4821120"/>
                <a:gd name="textAreaTop" fmla="*/ 0 h 4851360"/>
                <a:gd name="textAreaBottom" fmla="*/ 4851720 h 4851360"/>
              </a:gdLst>
              <a:ahLst/>
              <a:rect l="textAreaLeft" t="textAreaTop" r="textAreaRight" b="textAreaBottom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>
                <a:gd name="textAreaLeft" fmla="*/ 0 w 4368600"/>
                <a:gd name="textAreaRight" fmla="*/ 4368960 w 436860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>
                <a:gd name="textAreaLeft" fmla="*/ 0 w 3860640"/>
                <a:gd name="textAreaRight" fmla="*/ 3861000 w 3860640"/>
                <a:gd name="textAreaTop" fmla="*/ 0 h 3965400"/>
                <a:gd name="textAreaBottom" fmla="*/ 3965760 h 3965400"/>
              </a:gdLst>
              <a:ahLst/>
              <a:rect l="textAreaLeft" t="textAreaTop" r="textAreaRight" b="textAreaBottom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>
                <a:gd name="textAreaLeft" fmla="*/ 0 w 4604040"/>
                <a:gd name="textAreaRight" fmla="*/ 4604400 w 4604040"/>
                <a:gd name="textAreaTop" fmla="*/ 0 h 4604040"/>
                <a:gd name="textAreaBottom" fmla="*/ 4604400 h 4604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>
                <a:gd name="textAreaLeft" fmla="*/ 0 w 4458960"/>
                <a:gd name="textAreaRight" fmla="*/ 4459320 w 4458960"/>
                <a:gd name="textAreaTop" fmla="*/ 0 h 4486320"/>
                <a:gd name="textAreaBottom" fmla="*/ 4486680 h 4486320"/>
              </a:gdLst>
              <a:ahLst/>
              <a:rect l="textAreaLeft" t="textAreaTop" r="textAreaRight" b="textAreaBottom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>
                <a:gd name="textAreaLeft" fmla="*/ 0 w 4043160"/>
                <a:gd name="textAreaRight" fmla="*/ 4043520 w 4043160"/>
                <a:gd name="textAreaTop" fmla="*/ 0 h 4100400"/>
                <a:gd name="textAreaBottom" fmla="*/ 4100760 h 4100400"/>
              </a:gdLst>
              <a:ahLst/>
              <a:rect l="textAreaLeft" t="textAreaTop" r="textAreaRight" b="textAreaBottom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>
                <a:gd name="textAreaLeft" fmla="*/ 0 w 3570120"/>
                <a:gd name="textAreaRight" fmla="*/ 3570480 w 3570120"/>
                <a:gd name="textAreaTop" fmla="*/ 0 h 3668760"/>
                <a:gd name="textAreaBottom" fmla="*/ 3669120 h 3668760"/>
              </a:gdLst>
              <a:ahLst/>
              <a:rect l="textAreaLeft" t="textAreaTop" r="textAreaRight" b="textAreaBottom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>
                <a:gd name="textAreaLeft" fmla="*/ 0 w 2038320"/>
                <a:gd name="textAreaRight" fmla="*/ 2038680 w 2038320"/>
                <a:gd name="textAreaTop" fmla="*/ 0 h 2038320"/>
                <a:gd name="textAreaBottom" fmla="*/ 2038680 h 2038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BB4-0A67-4791-9E45-FA80CE0A47F8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ANGER </a:t>
            </a:r>
            <a:r>
              <a:rPr b="1" i="1" lang="en-US" sz="5400" spc="-1" strike="noStrike">
                <a:solidFill>
                  <a:srgbClr val="00ff00"/>
                </a:solidFill>
                <a:latin typeface="Tahoma"/>
              </a:rPr>
              <a:t>MANAGEMENT</a:t>
            </a:r>
            <a:br>
              <a:rPr sz="5400"/>
            </a:br>
            <a:br>
              <a:rPr sz="5400"/>
            </a:br>
            <a:r>
              <a:rPr b="1" i="1" lang="en-US" sz="3600" spc="-1" strike="noStrike">
                <a:solidFill>
                  <a:srgbClr val="00ccff"/>
                </a:solidFill>
                <a:latin typeface="Tahoma"/>
              </a:rPr>
              <a:t>Ali K.  Al-Juboori</a:t>
            </a:r>
            <a:br>
              <a:rPr sz="3600"/>
            </a:br>
            <a:r>
              <a:rPr b="1" i="1" lang="en-US" sz="3600" spc="-1" strike="noStrike">
                <a:solidFill>
                  <a:srgbClr val="00ccff"/>
                </a:solidFill>
                <a:latin typeface="Tahoma"/>
              </a:rPr>
              <a:t>Ph. D. Psych. Nursi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ys to Keep Co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ind a quiet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Take a time out 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وقتك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اقض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ind fun distractions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تلهية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Make good decisions about what you see and h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Choose friends who make you feel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Learn to forgive  </a:t>
            </a:r>
            <a:r>
              <a:rPr b="0" lang="ar-IQ" sz="2800" spc="-1" strike="noStrike">
                <a:solidFill>
                  <a:srgbClr val="00ff00"/>
                </a:solidFill>
                <a:latin typeface="Tahoma"/>
              </a:rPr>
              <a:t>يعفو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and forg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tential consequ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your anger to others and yourself…what can that mean for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2880" y="1981080"/>
            <a:ext cx="463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hysical harm to someone or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struction of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family/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social privi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ing to j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d reputation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سم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 flipV="1">
            <a:off x="2514600" y="4419720"/>
            <a:ext cx="1295280" cy="581040"/>
          </a:xfrm>
          <a:prstGeom prst="rightArrow">
            <a:avLst>
              <a:gd name="adj1" fmla="val 50000"/>
              <a:gd name="adj2" fmla="val 55731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lf-destruct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…How does that help or hur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gative self-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ming everyone 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vereating, dr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riving reckless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aking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oking for f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eling out raged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غضبه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يثور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2743200" y="4267080"/>
            <a:ext cx="1204920" cy="638280"/>
          </a:xfrm>
          <a:prstGeom prst="rightArrow">
            <a:avLst>
              <a:gd name="adj1" fmla="val 50000"/>
              <a:gd name="adj2" fmla="val 47194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p blaming others and your 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ming only keeps people ups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ming is a way of not respecting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5102280" y="2604960"/>
          <a:ext cx="358452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2280" y="2604960"/>
                    <a:ext cx="358452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oughts prior to aggressive ac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1460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id that on purpose……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wanted to hurt m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eserve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تستاهل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never even asked m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’re being unreasonabl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think you’re so good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started i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re’s no justic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4114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internal cues to feelings of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gets tight/up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art is beating f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enching fists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قبض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sure on  temples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صد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weaty pal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enched j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4290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avoid holding on  your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ind ways to let it 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alk about hurt and angry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ook for someone to discuss your an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iscuss your words and actions that hurt oth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5502240" y="1981080"/>
          <a:ext cx="29178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1981080"/>
                    <a:ext cx="291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indefinite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indefinite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4" dur="indefinite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8" dur="indefinite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2" dur="indefinite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10" dur="indefinite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eps to taming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روض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now what pushes your buttons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ازرار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now your body’s anger sig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op and thin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age your rage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غضبك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احبس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…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it’s your ch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ecide what to 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181480" y="3087720"/>
          <a:ext cx="3227400" cy="15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087720"/>
                    <a:ext cx="32274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you take pow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and up for yourself and others being hu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earn to defeat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يحبط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egative self-tal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eel good about learning about yoursel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are strong when you use fair words instead of firm fists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قبضتين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5021280" y="2543040"/>
          <a:ext cx="366552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1280" y="2543040"/>
                    <a:ext cx="36655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member that people are precious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ثمين</a:t>
            </a:r>
            <a:r>
              <a:rPr b="1" lang="ar-IQ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avoid losing peo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watch your thoughts, words, and 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op hurting people with your words and 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ake ownership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مالك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of the hurtful things you do and s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Bullying”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الشقاوة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hurts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5102280" y="3089160"/>
          <a:ext cx="3584520" cy="16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2280" y="3089160"/>
                    <a:ext cx="35845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emotion.  It is ok to be ang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g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cting out inappropriately and is not ok.  Learn to check your aggression and express your anger appropria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52640" y="1676520"/>
            <a:ext cx="403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olving confl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alm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how mutual re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ame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i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hoose the best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ongratulate your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Review the solution that was picked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يلتقط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457200" y="3162240"/>
          <a:ext cx="3836880" cy="18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162240"/>
                    <a:ext cx="383688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3716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anks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For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iste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ANGER </a:t>
            </a:r>
            <a:r>
              <a:rPr b="0" i="1" lang="en-US" sz="4400" spc="-1" strike="noStrike">
                <a:solidFill>
                  <a:srgbClr val="00ff00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ills needed in dealing with your ang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320040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 range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elin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mbarrass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رتباك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cite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تهي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isappoint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خيبةامل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Jealousy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حماس،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حسد،غير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lp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276720" y="3200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12408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are in charge of your own feelin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own your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It is okay to feel ang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Anger is part of being hu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learn how to express your anger in helpful way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12444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ggressive 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own by self and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239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row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Kick someone or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et in someone’s 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hoving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يدفع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, grabbing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يمس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hit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Break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ive someone a dirty lo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lent trea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et others to “gang up”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تحزب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pread rumors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اشاع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352680" y="3352680"/>
            <a:ext cx="1143000" cy="486000"/>
          </a:xfrm>
          <a:prstGeom prst="rightArrow">
            <a:avLst>
              <a:gd name="adj1" fmla="val 50000"/>
              <a:gd name="adj2" fmla="val 58796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choose to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eel good about yoursel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through expressing your feel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xpress angry feelings in ways that are fair to others and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use fai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lick To Download"/>
          <p:cNvPicPr/>
          <p:nvPr/>
        </p:nvPicPr>
        <p:blipFill>
          <a:blip r:embed="rId2"/>
          <a:stretch/>
        </p:blipFill>
        <p:spPr>
          <a:xfrm>
            <a:off x="4503600" y="336060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181480" y="2795760"/>
            <a:ext cx="3124440" cy="238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987480" y="2209680"/>
          <a:ext cx="311472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209680"/>
                    <a:ext cx="31147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ore you learn to take care of  your anger the more powerful you bec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need to control what you do with your an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ontrol how you let your anger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actice cooling o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watch your thou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s to Keep Coo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Get exercise every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Eat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Get enough sle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earn to rela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Know your fee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Write about those fee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7:10:34Z</dcterms:created>
  <dc:creator>Amy Eller</dc:creator>
  <dc:description/>
  <dc:language>en-US</dc:language>
  <cp:lastModifiedBy>NCC@2011</cp:lastModifiedBy>
  <dcterms:modified xsi:type="dcterms:W3CDTF">2012-05-01T19:31:27Z</dcterms:modified>
  <cp:revision>34</cp:revision>
  <dc:subject/>
  <dc:title>ANGER MANAGEMENT</dc:title>
</cp:coreProperties>
</file>