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8.jpeg" ContentType="image/jpeg"/>
  <Override PartName="/ppt/media/image10.wmf" ContentType="image/x-wmf"/>
  <Override PartName="/ppt/media/image1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4E4-056E-4234-B778-92C1E6BB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442-3070-49B1-B141-6D5EBE46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490-601E-4314-A860-36C1F41E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992-1B56-4995-B817-F9F248BD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B92A-A265-4D94-BE9B-40AF58ED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CABE-FD67-42B5-BF45-0B4FA929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E850-B973-4B34-ACB1-A22738ED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608E-395A-47D5-969F-E4A2A07A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87E7-0BE5-4B94-B022-9F25DA96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A2E4-13A3-4771-A9C5-81ADA3DB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8021-E528-42B5-9FC1-D7A9D860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BBB-BA33-47B9-AD0B-AAF2B355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37FC-F3DC-4467-926B-E2636258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DC99-A77C-404D-93F0-1442B5C6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0B24-6F55-431A-AB7C-B1BF1755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D980-CE94-40E2-A7AD-EB258D94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5E87-C3A8-4229-82D8-6607E528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34F0-445F-4F5D-83E7-5459D49D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8FB1-F180-4656-A01A-B1FB0F9A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2D83C-F85F-425C-B47F-A3664F6B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EC56-CE20-4A3E-8987-D1056D06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94FED-3CD3-4B89-AB80-81096AB3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308-2A5A-4CA5-A205-01516565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CCBDE-C724-450F-96B0-2C8D21B6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D8F8E-B355-4348-8467-BD57A035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BBF36-7E50-4A76-84D2-66F00C0B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60E0-4DAB-4D38-9A51-10AD2D18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63AE-6230-498E-B00D-172F8CCA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5F72-4208-4370-8FEF-7B39AEA8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9BCAB-0034-43F4-B010-C97F9EF8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19B-4901-46FA-BA58-DF580D6A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F1A-D67B-4573-99B9-7822F3CF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DD9-C9B2-49BB-8623-935B0A8A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F91D-9C74-4A9F-AAD7-3177EACB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256-D180-41F2-81F8-261ABA99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978-0926-472F-99A1-CC3A4BB6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7D72-9305-49E8-9622-CBBB289B19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BA09-E173-4916-9DBA-56C7786A45CE}" type="slidenum">
              <a:rPr b="0" lang="ar-S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054080" y="-1427040"/>
            <a:ext cx="7039440" cy="7203960"/>
            <a:chOff x="1054080" y="-1427040"/>
            <a:chExt cx="7039440" cy="7203960"/>
          </a:xfrm>
        </p:grpSpPr>
        <p:sp>
          <p:nvSpPr>
            <p:cNvPr id="83" name="Arc 3"/>
            <p:cNvSpPr/>
            <p:nvPr/>
          </p:nvSpPr>
          <p:spPr>
            <a:xfrm rot="18900000">
              <a:off x="2084400" y="-395280"/>
              <a:ext cx="4978440" cy="4976640"/>
            </a:xfrm>
            <a:custGeom>
              <a:avLst/>
              <a:gdLst>
                <a:gd name="textAreaLeft" fmla="*/ 0 w 4978440"/>
                <a:gd name="textAreaRight" fmla="*/ 4978440 w 4978440"/>
                <a:gd name="textAreaTop" fmla="*/ 0 h 4976640"/>
                <a:gd name="textAreaBottom" fmla="*/ 4977000 h 4976640"/>
              </a:gdLst>
              <a:ahLst/>
              <a:rect l="textAreaLeft" t="textAreaTop" r="textAreaRight" b="textAreaBottom"/>
              <a:pathLst>
                <a:path fill="none" w="21607" h="21600">
                  <a:moveTo>
                    <a:pt x="0" y="0"/>
                  </a:moveTo>
                  <a:cubicBezTo>
                    <a:pt x="2" y="0"/>
                    <a:pt x="4" y="-1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</a:path>
                <a:path stroke="0" w="21607" h="21600">
                  <a:moveTo>
                    <a:pt x="0" y="0"/>
                  </a:moveTo>
                  <a:cubicBezTo>
                    <a:pt x="2" y="0"/>
                    <a:pt x="4" y="-1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  <a:lnTo>
                    <a:pt x="7" y="2160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rc 4"/>
            <p:cNvSpPr/>
            <p:nvPr/>
          </p:nvSpPr>
          <p:spPr>
            <a:xfrm rot="18900000">
              <a:off x="2141640" y="-257040"/>
              <a:ext cx="4821120" cy="4851360"/>
            </a:xfrm>
            <a:custGeom>
              <a:avLst/>
              <a:gdLst>
                <a:gd name="textAreaLeft" fmla="*/ 0 w 4821120"/>
                <a:gd name="textAreaRight" fmla="*/ 4821480 w 4821120"/>
                <a:gd name="textAreaTop" fmla="*/ 0 h 4851360"/>
                <a:gd name="textAreaBottom" fmla="*/ 4851720 h 4851360"/>
              </a:gdLst>
              <a:ahLst/>
              <a:rect l="textAreaLeft" t="textAreaTop" r="textAreaRight" b="textAreaBottom"/>
              <a:pathLst>
                <a:path fill="none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</a:path>
                <a:path stroke="0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  <a:lnTo>
                    <a:pt x="0" y="21053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rc 5"/>
            <p:cNvSpPr/>
            <p:nvPr/>
          </p:nvSpPr>
          <p:spPr>
            <a:xfrm rot="18900000">
              <a:off x="2339640" y="256680"/>
              <a:ext cx="4368600" cy="4432320"/>
            </a:xfrm>
            <a:custGeom>
              <a:avLst/>
              <a:gdLst>
                <a:gd name="textAreaLeft" fmla="*/ 0 w 4368600"/>
                <a:gd name="textAreaRight" fmla="*/ 4368960 w 4368600"/>
                <a:gd name="textAreaTop" fmla="*/ 0 h 4432320"/>
                <a:gd name="textAreaBottom" fmla="*/ 4432680 h 4432320"/>
              </a:gdLst>
              <a:ahLst/>
              <a:rect l="textAreaLeft" t="textAreaTop" r="textAreaRight" b="textAreaBottom"/>
              <a:pathLst>
                <a:path fill="none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</a:path>
                <a:path stroke="0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  <a:lnTo>
                    <a:pt x="0" y="19239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rc 6"/>
            <p:cNvSpPr/>
            <p:nvPr/>
          </p:nvSpPr>
          <p:spPr>
            <a:xfrm rot="18900000">
              <a:off x="2663640" y="809280"/>
              <a:ext cx="3860640" cy="3965400"/>
            </a:xfrm>
            <a:custGeom>
              <a:avLst/>
              <a:gdLst>
                <a:gd name="textAreaLeft" fmla="*/ 0 w 3860640"/>
                <a:gd name="textAreaRight" fmla="*/ 3861000 w 3860640"/>
                <a:gd name="textAreaTop" fmla="*/ 0 h 3965400"/>
                <a:gd name="textAreaBottom" fmla="*/ 3965760 h 3965400"/>
              </a:gdLst>
              <a:ahLst/>
              <a:rect l="textAreaLeft" t="textAreaTop" r="textAreaRight" b="textAreaBottom"/>
              <a:pathLst>
                <a:path fill="none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</a:path>
                <a:path stroke="0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  <a:lnTo>
                    <a:pt x="0" y="17212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rc 7"/>
            <p:cNvSpPr/>
            <p:nvPr/>
          </p:nvSpPr>
          <p:spPr>
            <a:xfrm rot="18900000">
              <a:off x="2295360" y="90000"/>
              <a:ext cx="4604040" cy="4604040"/>
            </a:xfrm>
            <a:custGeom>
              <a:avLst/>
              <a:gdLst>
                <a:gd name="textAreaLeft" fmla="*/ 0 w 4604040"/>
                <a:gd name="textAreaRight" fmla="*/ 4604400 w 4604040"/>
                <a:gd name="textAreaTop" fmla="*/ 0 h 4604040"/>
                <a:gd name="textAreaBottom" fmla="*/ 4604400 h 46040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Arc 8"/>
            <p:cNvSpPr/>
            <p:nvPr/>
          </p:nvSpPr>
          <p:spPr>
            <a:xfrm rot="18900000">
              <a:off x="2346480" y="217080"/>
              <a:ext cx="4458960" cy="4486320"/>
            </a:xfrm>
            <a:custGeom>
              <a:avLst/>
              <a:gdLst>
                <a:gd name="textAreaLeft" fmla="*/ 0 w 4458960"/>
                <a:gd name="textAreaRight" fmla="*/ 4459320 w 4458960"/>
                <a:gd name="textAreaTop" fmla="*/ 0 h 4486320"/>
                <a:gd name="textAreaBottom" fmla="*/ 4486680 h 4486320"/>
              </a:gdLst>
              <a:ahLst/>
              <a:rect l="textAreaLeft" t="textAreaTop" r="textAreaRight" b="textAreaBottom"/>
              <a:pathLst>
                <a:path fill="none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</a:path>
                <a:path stroke="0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  <a:lnTo>
                    <a:pt x="0" y="21052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Arc 9"/>
            <p:cNvSpPr/>
            <p:nvPr/>
          </p:nvSpPr>
          <p:spPr>
            <a:xfrm rot="18900000">
              <a:off x="2552760" y="677520"/>
              <a:ext cx="4043160" cy="4100400"/>
            </a:xfrm>
            <a:custGeom>
              <a:avLst/>
              <a:gdLst>
                <a:gd name="textAreaLeft" fmla="*/ 0 w 4043160"/>
                <a:gd name="textAreaRight" fmla="*/ 4043520 w 4043160"/>
                <a:gd name="textAreaTop" fmla="*/ 0 h 4100400"/>
                <a:gd name="textAreaBottom" fmla="*/ 4100760 h 4100400"/>
              </a:gdLst>
              <a:ahLst/>
              <a:rect l="textAreaLeft" t="textAreaTop" r="textAreaRight" b="textAreaBottom"/>
              <a:pathLst>
                <a:path fill="none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</a:path>
                <a:path stroke="0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  <a:lnTo>
                    <a:pt x="0" y="19237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10"/>
            <p:cNvSpPr/>
            <p:nvPr/>
          </p:nvSpPr>
          <p:spPr>
            <a:xfrm rot="18900000">
              <a:off x="2830320" y="1188720"/>
              <a:ext cx="3570120" cy="3668760"/>
            </a:xfrm>
            <a:custGeom>
              <a:avLst/>
              <a:gdLst>
                <a:gd name="textAreaLeft" fmla="*/ 0 w 3570120"/>
                <a:gd name="textAreaRight" fmla="*/ 3570480 w 3570120"/>
                <a:gd name="textAreaTop" fmla="*/ 0 h 3668760"/>
                <a:gd name="textAreaBottom" fmla="*/ 3669120 h 3668760"/>
              </a:gdLst>
              <a:ahLst/>
              <a:rect l="textAreaLeft" t="textAreaTop" r="textAreaRight" b="textAreaBottom"/>
              <a:pathLst>
                <a:path fill="none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</a:path>
                <a:path stroke="0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  <a:lnTo>
                    <a:pt x="0" y="17213"/>
                  </a:lnTo>
                  <a:close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Arc 11"/>
            <p:cNvSpPr/>
            <p:nvPr/>
          </p:nvSpPr>
          <p:spPr>
            <a:xfrm rot="18900000">
              <a:off x="3553920" y="3316320"/>
              <a:ext cx="2038320" cy="2038320"/>
            </a:xfrm>
            <a:custGeom>
              <a:avLst/>
              <a:gdLst>
                <a:gd name="textAreaLeft" fmla="*/ 0 w 2038320"/>
                <a:gd name="textAreaRight" fmla="*/ 2038680 w 2038320"/>
                <a:gd name="textAreaTop" fmla="*/ 0 h 2038320"/>
                <a:gd name="textAreaBottom" fmla="*/ 2038680 h 20383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D199-8908-4F73-924F-3F2529B68C29}" type="slidenum">
              <a:rPr b="0" lang="ar-S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ahoma"/>
              </a:rPr>
              <a:t>ANGER </a:t>
            </a:r>
            <a:r>
              <a:rPr b="1" i="1" lang="en-US" sz="5400" spc="-1" strike="noStrike">
                <a:solidFill>
                  <a:srgbClr val="00ff00"/>
                </a:solidFill>
                <a:latin typeface="Tahoma"/>
              </a:rPr>
              <a:t>MANAGEMENT</a:t>
            </a:r>
            <a:br>
              <a:rPr sz="5400"/>
            </a:br>
            <a:br>
              <a:rPr sz="5400"/>
            </a:br>
            <a:r>
              <a:rPr b="1" i="1" lang="en-US" sz="3600" spc="-1" strike="noStrike">
                <a:solidFill>
                  <a:srgbClr val="00ccff"/>
                </a:solidFill>
                <a:latin typeface="Tahoma"/>
              </a:rPr>
              <a:t>Ali K.  Al-Juboori</a:t>
            </a:r>
            <a:br>
              <a:rPr sz="3600"/>
            </a:br>
            <a:r>
              <a:rPr b="1" i="1" lang="en-US" sz="3600" spc="-1" strike="noStrike">
                <a:solidFill>
                  <a:srgbClr val="00ccff"/>
                </a:solidFill>
                <a:latin typeface="Tahoma"/>
              </a:rPr>
              <a:t>Ph. D. Psych. Nursing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ays to Keep Co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Find a quiet pl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Take a time out 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وقتك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اقض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Find fun distractions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تلهية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Make good decisions about what you see and h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Choose friends who make you feel g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Learn to forgive  </a:t>
            </a:r>
            <a:r>
              <a:rPr b="0" lang="ar-IQ" sz="2800" spc="-1" strike="noStrike">
                <a:solidFill>
                  <a:srgbClr val="00ff00"/>
                </a:solidFill>
                <a:latin typeface="Tahoma"/>
              </a:rPr>
              <a:t>يعفو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and forg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otential consequenc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your anger to others and yourself…what can that mean for yo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52880" y="1981080"/>
            <a:ext cx="4633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hysical harm to someone or 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struction of prope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oss of family/fri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oss of jo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oss of social privile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oing to j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ad reputation 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سمع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5"/>
          <p:cNvSpPr/>
          <p:nvPr/>
        </p:nvSpPr>
        <p:spPr>
          <a:xfrm flipV="1">
            <a:off x="2514600" y="4419720"/>
            <a:ext cx="1295280" cy="581040"/>
          </a:xfrm>
          <a:prstGeom prst="rightArrow">
            <a:avLst>
              <a:gd name="adj1" fmla="val 50000"/>
              <a:gd name="adj2" fmla="val 55731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lf-destructiv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havior…How does that help or hurt yo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26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egative self-ta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laming everyone el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Overeating, drin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riving reckless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aking dru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ooking for f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eeling out raged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غضبه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يثور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2743200" y="4267080"/>
            <a:ext cx="1204920" cy="638280"/>
          </a:xfrm>
          <a:prstGeom prst="rightArrow">
            <a:avLst>
              <a:gd name="adj1" fmla="val 50000"/>
              <a:gd name="adj2" fmla="val 47194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op blaming others and your 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ming only keeps people ups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ming is a way of not respecting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5102280" y="2604960"/>
          <a:ext cx="3584520" cy="254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2280" y="2604960"/>
                    <a:ext cx="3584520" cy="25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thoughts prior to aggressive ac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1460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ou did that on purpose…………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ou wanted to hurt m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ou deserve 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تستاهل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s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ou never even asked m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ou’re being unreasonabl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ou think you’re so good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ou started it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ere’s no justic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411480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internal cues to feelings of ang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omach gets tight/up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eart is beating f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enching fists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قبض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essure on  temples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صد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weaty pal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enched j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3429000" y="3657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22720" indent="-522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avoid holding on  your ang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find ways to let it 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talk about hurt and angry feel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look for someone to discuss your ang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discuss your words and actions that hurt othe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6" name="Object 4"/>
          <p:cNvGraphicFramePr/>
          <p:nvPr/>
        </p:nvGraphicFramePr>
        <p:xfrm>
          <a:off x="5502240" y="1981080"/>
          <a:ext cx="291780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2240" y="1981080"/>
                    <a:ext cx="2917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indefinite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indefinite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indefinite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indefinite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94" dur="indefinite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98" dur="indefinite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02" dur="indefinite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06" dur="indefinite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10" dur="indefinite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eps to taming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يروض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g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Know what pushes your buttons</a:t>
            </a:r>
            <a:r>
              <a:rPr b="0" lang="ar-SA" sz="2400" spc="-1" strike="noStrike">
                <a:solidFill>
                  <a:srgbClr val="00ff00"/>
                </a:solidFill>
                <a:latin typeface="Tahoma"/>
              </a:rPr>
              <a:t>ازرار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Know your body’s anger sig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Stop and think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Cage your rage</a:t>
            </a:r>
            <a:r>
              <a:rPr b="0" lang="ar-SA" sz="2400" spc="-1" strike="noStrike">
                <a:solidFill>
                  <a:srgbClr val="00ff00"/>
                </a:solidFill>
                <a:latin typeface="Tahoma"/>
              </a:rPr>
              <a:t>غضبك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00ff00"/>
                </a:solidFill>
                <a:latin typeface="Tahoma"/>
              </a:rPr>
              <a:t>احبس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…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it’s your cho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Decide what to 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5181480" y="3087720"/>
          <a:ext cx="3227400" cy="15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3087720"/>
                    <a:ext cx="32274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w you take pow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stand up for yourself and others being hu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learn to defeat</a:t>
            </a:r>
            <a:r>
              <a:rPr b="0" lang="ar-IQ" sz="2400" spc="-1" strike="noStrike">
                <a:solidFill>
                  <a:srgbClr val="00ff00"/>
                </a:solidFill>
                <a:latin typeface="Tahoma"/>
              </a:rPr>
              <a:t>يحبط</a:t>
            </a:r>
            <a:r>
              <a:rPr b="0" lang="ar-IQ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negative self-tal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feel good about learning about yoursel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You are strong when you use fair words instead of firm fists</a:t>
            </a:r>
            <a:r>
              <a:rPr b="0" lang="ar-SA" sz="2400" spc="-1" strike="noStrike">
                <a:solidFill>
                  <a:srgbClr val="00ff00"/>
                </a:solidFill>
                <a:latin typeface="Tahoma"/>
              </a:rPr>
              <a:t>قبضتين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5021280" y="2543040"/>
          <a:ext cx="3665520" cy="27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1280" y="2543040"/>
                    <a:ext cx="36655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member that people are precious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ثمين</a:t>
            </a:r>
            <a:r>
              <a:rPr b="1" lang="ar-IQ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avoid losing peo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watch your thoughts, words, and a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stop hurting people with your words and a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take ownership</a:t>
            </a:r>
            <a:r>
              <a:rPr b="0" lang="ar-IQ" sz="2400" spc="-1" strike="noStrike">
                <a:solidFill>
                  <a:srgbClr val="00ff00"/>
                </a:solidFill>
                <a:latin typeface="Tahoma"/>
              </a:rPr>
              <a:t>مالك</a:t>
            </a:r>
            <a:r>
              <a:rPr b="0" lang="ar-IQ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of the hurtful things you do and s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Bullying”</a:t>
            </a:r>
            <a:r>
              <a:rPr b="0" lang="ar-IQ" sz="2400" spc="-1" strike="noStrike">
                <a:solidFill>
                  <a:srgbClr val="00ff00"/>
                </a:solidFill>
                <a:latin typeface="Tahoma"/>
              </a:rPr>
              <a:t>الشقاوة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hurts every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5102280" y="3089160"/>
          <a:ext cx="3584520" cy="168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2280" y="3089160"/>
                    <a:ext cx="358452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Ang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emotion.  It is ok to be ang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Aggress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cting out inappropriately and is not ok.  Learn to check your aggression and express your anger appropriat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" dur="indefinite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52640" y="1676520"/>
            <a:ext cx="4033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solving confli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Calm d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Show mutual resp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Name the probl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Find sol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Choose the best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Congratulate yoursel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Review the solution that was picked</a:t>
            </a:r>
            <a:r>
              <a:rPr b="0" lang="ar-IQ" sz="2400" spc="-1" strike="noStrike">
                <a:solidFill>
                  <a:srgbClr val="00ff00"/>
                </a:solidFill>
                <a:latin typeface="Tahoma"/>
              </a:rPr>
              <a:t>يلتقط</a:t>
            </a:r>
            <a:r>
              <a:rPr b="0" lang="ar-IQ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2" name="Object 5"/>
          <p:cNvGraphicFramePr/>
          <p:nvPr/>
        </p:nvGraphicFramePr>
        <p:xfrm>
          <a:off x="457200" y="3162240"/>
          <a:ext cx="3836880" cy="18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162240"/>
                    <a:ext cx="383688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371600" y="685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Thanks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For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Listen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ANGER </a:t>
            </a:r>
            <a:r>
              <a:rPr b="0" i="1" lang="en-US" sz="4400" spc="-1" strike="noStrike">
                <a:solidFill>
                  <a:srgbClr val="00ff00"/>
                </a:solidFill>
                <a:latin typeface="Tahoma"/>
              </a:rPr>
              <a:t>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ills needed in dealing with your ang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62320" y="3200400"/>
            <a:ext cx="419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a range of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eeling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ing ang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667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mbarrassment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ارتباك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xcitement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تهي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isappointment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خيبةامل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Jealousy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حماس،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حسد،غير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elp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276720" y="32004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3124080" y="3886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90680" indent="-4906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ou are in charge of your own feeling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you own your feel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It is okay to feel ang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Anger is part of being hum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you learn how to express your anger in helpful way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81480" y="2666880"/>
            <a:ext cx="3124440" cy="243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68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68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ggressive 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hown by self and oth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239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hrow someth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Kick someone or someth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et in someone’s f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hoving </a:t>
            </a:r>
            <a:r>
              <a:rPr b="0" lang="ar-SA" sz="2000" spc="-1" strike="noStrike">
                <a:solidFill>
                  <a:srgbClr val="ffff00"/>
                </a:solidFill>
                <a:latin typeface="Tahoma"/>
              </a:rPr>
              <a:t>يدفع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, grabbing </a:t>
            </a:r>
            <a:r>
              <a:rPr b="0" lang="ar-SA" sz="2000" spc="-1" strike="noStrike">
                <a:solidFill>
                  <a:srgbClr val="ffff00"/>
                </a:solidFill>
                <a:latin typeface="Tahoma"/>
              </a:rPr>
              <a:t>يمس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hit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Break someth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ive someone a dirty lo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lent trea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et others to “gang up” </a:t>
            </a:r>
            <a:r>
              <a:rPr b="0" lang="ar-SA" sz="2000" spc="-1" strike="noStrike">
                <a:solidFill>
                  <a:srgbClr val="ffff00"/>
                </a:solidFill>
                <a:latin typeface="Tahoma"/>
              </a:rPr>
              <a:t>تحزب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pread rumors </a:t>
            </a:r>
            <a:r>
              <a:rPr b="0" lang="ar-SA" sz="2000" spc="-1" strike="noStrike">
                <a:solidFill>
                  <a:srgbClr val="ffff00"/>
                </a:solidFill>
                <a:latin typeface="Tahoma"/>
              </a:rPr>
              <a:t>اشاعات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352680" y="3352680"/>
            <a:ext cx="1143000" cy="486000"/>
          </a:xfrm>
          <a:prstGeom prst="rightArrow">
            <a:avLst>
              <a:gd name="adj1" fmla="val 50000"/>
              <a:gd name="adj2" fmla="val 58796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ou choose to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feel good about yourself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through expressing your feeli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express angry feelings in ways that are fair to others and yo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use fair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Click To Download"/>
          <p:cNvPicPr/>
          <p:nvPr/>
        </p:nvPicPr>
        <p:blipFill>
          <a:blip r:embed="rId2"/>
          <a:stretch/>
        </p:blipFill>
        <p:spPr>
          <a:xfrm>
            <a:off x="4503600" y="3360600"/>
            <a:ext cx="136800" cy="136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181480" y="2795760"/>
            <a:ext cx="3124440" cy="238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987480" y="2209680"/>
          <a:ext cx="311472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2209680"/>
                    <a:ext cx="31147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526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more you learn to take care of  your anger the more powerful you beco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you need to control what you do with your ang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control how you let your anger o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practice cooling o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watch your though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ANGER MAN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s to Keep Coo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Get exercise every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Eat r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Get enough slee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Learn to rela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Know your feel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Write about those feel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7:10:34Z</dcterms:created>
  <dc:creator>Amy Eller</dc:creator>
  <dc:description/>
  <dc:language>en-US</dc:language>
  <cp:lastModifiedBy>NCC@2011</cp:lastModifiedBy>
  <dcterms:modified xsi:type="dcterms:W3CDTF">2012-05-01T19:31:27Z</dcterms:modified>
  <cp:revision>34</cp:revision>
  <dc:subject/>
  <dc:title>ANGER MANAGEMENT</dc:title>
</cp:coreProperties>
</file>