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E17-8F03-4C9E-BF5D-016CE59E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560-F6F2-43A9-95AC-EA931303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3BA-E520-452D-9644-7CEA7F39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972-81A9-4AF1-B768-87ED10AE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45CF-25E5-41D5-95BC-94BA71B8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1EE9-3B98-4D78-8056-C3D436F1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8813-BAE5-43A9-B207-6CC937FE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C978-D5CA-4F3B-B1D8-D0C28710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06C8-2310-43D2-9E9F-FFC369E8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2A36-5166-42BC-856A-66E35893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2D12-76F2-4587-B9AD-DBDF8D4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14F-7290-456E-9271-C67D2B94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71BB-41E7-45C0-943D-743F2511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804E-598B-4D54-A336-6176D94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B89D-E0F3-4F0B-B308-ABF79A8F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AD86-C466-4F05-A422-579770DC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86FD-9BFC-4003-AF87-5899D18E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565-4512-4AB7-A92F-A152E215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B7E6-6490-4553-BE5F-2636DA6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7B4-F3B8-4715-9132-5EF51BF0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6AB-3744-4518-AD55-4C1D2393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5E7-6274-4704-BA95-DAA53F35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411A-1D43-41BF-99CC-AF083D9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26B-25AF-4D18-8084-7F3D214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9350-A9C2-4DCB-92FE-4EC5229FDD4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C877-407D-4F29-8D43-394D2D5C2B4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96520"/>
            <a:ext cx="803736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Verdana"/>
              </a:rPr>
              <a:t>Stress</a:t>
            </a: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6600"/>
            </a:b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and </a:t>
            </a:r>
            <a:br>
              <a:rPr sz="5400"/>
            </a:br>
            <a:r>
              <a:rPr b="1" lang="en-US" sz="6100" spc="-1" strike="noStrike">
                <a:solidFill>
                  <a:srgbClr val="ff66ff"/>
                </a:solidFill>
                <a:latin typeface="Verdana"/>
              </a:rPr>
              <a:t>well-being</a:t>
            </a:r>
            <a:br>
              <a:rPr sz="6100"/>
            </a:br>
            <a:br>
              <a:rPr sz="61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Dr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Ali K. Al-Juboori</a:t>
            </a: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Ph. D. PSYCH. NSG</a:t>
            </a: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Med. Psychology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Thanks 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FOR your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8800" spc="-1" strike="noStrike">
                <a:solidFill>
                  <a:srgbClr val="006699"/>
                </a:solidFill>
                <a:latin typeface="Verdana"/>
              </a:rPr>
              <a:t>patience</a:t>
            </a: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STRESS Defined as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A state produced by a change in the environment that is perceived as challenging, threatening, or damaging to the persons dynamic equilibrium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urces of stres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.Family stres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nancial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lationship problem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llnes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amily changes such as birth, death, marriage or divor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2. Career development stres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nder promotion, frustration, and boredom with current ro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uck of a clear plan for career developmen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uck of job secur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. organizational str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essures from your boss or from above in your organiz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terference in your wor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mands from clien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sruptions to work plan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telephon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4. Environmental stres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owding and invasion of personal sp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sufficient working and living spac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is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rty or untidy condi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llu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5.life style and job stres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o much or too little work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ving to performed beyond your experience or perceived abiliti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ime pressur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Keeping up with new developmen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hange in procedures and polici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ck of relevant informa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ack of clear objectiv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Symptoms of stress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hysical symptom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-increase adrenalin (fight and fligh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-headach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-Abdominal discomfor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-Chest tigh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Emotional symptom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- Sense of being on overloa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- Lack of clarit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- Feeling of confus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- Wanting to run awa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37:33Z</dcterms:created>
  <dc:creator>Ali</dc:creator>
  <dc:description/>
  <dc:language>en-US</dc:language>
  <cp:lastModifiedBy>NCC@2011</cp:lastModifiedBy>
  <dcterms:modified xsi:type="dcterms:W3CDTF">2011-10-29T20:05:09Z</dcterms:modified>
  <cp:revision>11</cp:revision>
  <dc:subject/>
  <dc:title>Stress  and well-being  Ali Kareem  Ph. D. </dc:title>
</cp:coreProperties>
</file>