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6F9-90DB-4415-A3C7-B1478103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307-8A14-4C44-8C71-056B6EBB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283-3D3C-446F-9BC7-0B2140E4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6A2-250D-4924-B8E9-A9BFEF44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D591-58F5-48A6-9E24-74D1A825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0A25-8F85-4451-BDB0-63BBBAAC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E7B8-6DE9-4DAF-8C62-1C11BEAB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CEA6-64AB-42FC-9306-2E0118A5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E5CD-50AB-4921-9A76-9EEB94EC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BDBB-B98B-41CE-833D-FEFB5D1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08E9-4FC4-4D13-9953-7A072275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E18-330F-416A-BEB7-08A0EA63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8905-207E-452A-BEFC-85E065F6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7644-569D-45EE-96B8-46B81537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C8B9-D954-484F-B729-8FB24DD0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8B81-0BAE-4B48-9270-7B538AA5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20BF-0DFA-4D36-8FCC-E0256E00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C1D-DC46-4D04-BF10-9C7B0BA3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22E-4B10-4F27-B3CE-126F6B1E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788-2622-4424-94BC-EF66D943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457-C983-4CD5-BF8F-B60C12D7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0FF-99CD-4788-81AE-11B6D849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51A-C30D-4483-AFA9-5B1BC8AC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557-50BE-4B02-A6A7-C63D94BD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3387-5D8F-43F5-8567-384C9ECB672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DCA3-DB6F-4FBB-9758-8033D176184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96520"/>
            <a:ext cx="803736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Verdana"/>
              </a:rPr>
              <a:t>Stress</a:t>
            </a:r>
            <a:r>
              <a:rPr b="1" lang="en-US" sz="6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6600"/>
            </a:b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and </a:t>
            </a:r>
            <a:br>
              <a:rPr sz="5400"/>
            </a:br>
            <a:r>
              <a:rPr b="1" lang="en-US" sz="6100" spc="-1" strike="noStrike">
                <a:solidFill>
                  <a:srgbClr val="ff66ff"/>
                </a:solidFill>
                <a:latin typeface="Verdana"/>
              </a:rPr>
              <a:t>well-being</a:t>
            </a:r>
            <a:br>
              <a:rPr sz="6100"/>
            </a:br>
            <a:br>
              <a:rPr sz="61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Dr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Ali K. Al-Juboori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h. D. PSYCH. NSG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Med. Psychology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Thanks 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FOR your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patience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STRESS Defined a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A state produced by a change in the environment that is perceived as challenging, threatening, or damaging to the persons dynamic equilibrium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urces of stres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.Family stres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nancial problem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lationship problem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llnes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mily changes such as birth, death, marriage or divor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2. Career development stres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der promotion, frustration, and boredom with current ro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uck of a clear plan for career developmen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uck of job securi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. organizational str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ssures from your boss or from above in your organiz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ference in your wor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mands from clien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sruptions to work plan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telepho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4. Environmental stres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owding and invasion of personal sp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ufficient working and living sp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i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rty or untidy condi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llu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5.life style and job stres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o much or too little wor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aving to performed beyond your experience or perceived abiliti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ime pressur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eeping up with new developmen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hange in procedures and polici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ck of relevant inform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ck of clear objectiv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Symptoms of stress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hysical symptom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-increase adrenalin (fight and fligh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-headach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-Abdominal discomfor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-Chest tigh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Emotional symptom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- Sense of being on overloa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- Lack of clari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- Feeling of confus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- Wanting to run awa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37:33Z</dcterms:created>
  <dc:creator>Ali</dc:creator>
  <dc:description/>
  <dc:language>en-US</dc:language>
  <cp:lastModifiedBy>NCC@2011</cp:lastModifiedBy>
  <dcterms:modified xsi:type="dcterms:W3CDTF">2011-10-29T20:05:09Z</dcterms:modified>
  <cp:revision>11</cp:revision>
  <dc:subject/>
  <dc:title>Stress  and well-being  Ali Kareem  Ph. D. </dc:title>
</cp:coreProperties>
</file>