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9187-6480-4C4E-BBEE-E32D4D82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90F-0D54-441C-998B-79ACFB4A9877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5320" y="4346640"/>
            <a:ext cx="506736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rt at 9:15—10 minutes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ish at 9: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C407-FC69-4E60-90B7-B0BF6DF88AB9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15BA-4231-4429-8890-29233C4ADD70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3D18-EADB-41BA-ADB2-0782C84EB241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mentioned—add re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 Wagner at Dynex Institute does have a good training on how to do a strategic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Rhinhart also ha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6B5B-48DF-4210-A2C3-2718359C10DE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8495-ECB4-4BC0-B211-8E3DD53FDF9B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ORTANT – PAUSE HERE AND EMPHA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6B91-16D0-4AC9-AD17-AF6FCEA3A325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009-C6F8-4205-B8E3-51F5A5D30B07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F665-3F97-4568-92B6-87F927033F0A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38C-E35E-4851-BF90-1682683D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643-972C-4E07-9B5A-6E693181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237-FF17-4025-B6EC-96F10F06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A34-4E1F-49F8-B995-98AEA02A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C18-A35B-453D-B447-0F8690A2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3DC-12C0-49BB-A3F8-B0FB7212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C49-CF4B-44CB-A16D-E5299085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18E-A7DC-422A-8A6A-931291CB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99E-7E8C-466D-B57F-7C61073E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418-75D7-4548-86A7-9422B672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87B-7829-4357-B565-BD02ABB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4EE-33FE-416E-A71E-2C2F4899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5E76-D464-4DF8-A094-1D196D682EF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la.org/ala/pla/plaevents/elearningpla/elearningpla.htm" TargetMode="External"/><Relationship Id="rId2" Type="http://schemas.openxmlformats.org/officeDocument/2006/relationships/hyperlink" Target="http://www.imls.gov/grants/current/crnt_log.ht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62120" y="26668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6a215"/>
                </a:solidFill>
                <a:latin typeface="Arial"/>
              </a:rPr>
              <a:t>What is Planning?</a:t>
            </a:r>
            <a:endParaRPr b="0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Initiatives Cover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vocacy and government re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munity outreach and partnership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echnology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rvices to ethnic popu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rketing and public rela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ministration and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uccessful Planning Proces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eryone participates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educated about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explore new idea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takes advantages of opportun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ecessary resources availabl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A Plan “Litmus” Test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pport mission and vision of librar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atisfy identified community need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elp market and brand the library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sider library resource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dress multiple goals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vide favorable return on investmen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09480" y="19051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Does it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Five Phases of Planning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rganiz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delegate rol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itiat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information gather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alyz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data, identify goals &amp; objectiv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rit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the new strategic p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rke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nd disseminate the p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gress needs to be evaluat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bjectives determine progr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comes need to be assess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cide if plan is still vali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nges can be mad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e at least once a yea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Measures for Evalua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put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sources used by a progra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llections, materials, equipment, suppl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taff, volunteer time and expertise, community part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eeds assessment find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acilities, computers, online ac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nstraints - law, regulation, fundi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put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swer “How many?” (extensivenes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duct volume or evidence of delive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 of inputs and activ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rom staff perspecti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Quantified by neutral observ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come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swer “So what?” (effectiveness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mpact or benefit to end us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sults of inputs and activit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rom customer’s perspectiv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ten quantified by percep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easured by professional assessme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utcomes Are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nticipated and planned fo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ake project expectations explici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ssumptions of contributions towards meeting the goal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2895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What is the use of running if you’re not on the right road?”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048120" y="48006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German Proverb</a:t>
            </a:r>
            <a:endParaRPr b="0" i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ther Type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easures (circulation, visits, etc…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enchmarking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ustomer satisfaction survey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ebsite user survey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of quality of progra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  <a:ea typeface="Times New Roman"/>
              </a:rPr>
              <a:t>Group Exercis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pic>
        <p:nvPicPr>
          <p:cNvPr id="95" name="Picture 4" descr="bd06995_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200400" y="3048120"/>
            <a:ext cx="2863800" cy="203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New Planning for Result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 online cour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www.pla.org/ala/pla/plaevents/elearningpla/elearningpla.ht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LS Outcome Based Evalu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mls.gov/grants/current/crnt_log.ht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 list of books is at the end of this section in your toolki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  <a:ea typeface="Times New Roman"/>
              </a:rPr>
              <a:t>REVIEW 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ement of pla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ow to apply a “litmus test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is necessar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types of measures neede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4" descr="bd05537_"/>
          <p:cNvPicPr/>
          <p:nvPr/>
        </p:nvPicPr>
        <p:blipFill>
          <a:blip r:embed="rId1"/>
          <a:stretch/>
        </p:blipFill>
        <p:spPr>
          <a:xfrm>
            <a:off x="7238880" y="472428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28954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Every library – large or small – needs a strategic plan.  It is the blueprint that sets the direction for where your organization is going.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quirements for suc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lements of pla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lanning process and what it cove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valuation and output measur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ypes of evalua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540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Lesson Objective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escribe a successful planning pro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st the five phases of plan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xplain the importance of evaluation, measur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y the end of this lesson you will be able to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What is a Plan?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verview of current library statu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ssessment of trends in the community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ission and vision stateme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trategies and action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762120" y="2057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elements in plans are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What is a Plan?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3123720"/>
            <a:ext cx="937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ationale for strategie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nticipated cos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ime line and implementation pla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uidelines for measurement and evalua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porting data gathered in planning proc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cknowledge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2133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mmon elements in plans are:</a:t>
            </a:r>
            <a:endParaRPr b="0" i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Plans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firm and articulate purpo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vide decision mak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stablish priorities and measure succes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gnal good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y efficienci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nsure services are customer dri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dentify opportunities and proble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400"/>
                </a:solidFill>
                <a:latin typeface="Arial"/>
              </a:rPr>
              <a:t>Strategic Initiatives Cover:</a:t>
            </a:r>
            <a:endParaRPr b="0" lang="en-US" sz="4400" spc="-1" strike="noStrike">
              <a:solidFill>
                <a:srgbClr val="0094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oard and staff development/traini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unding/financial manage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acilities planning and maintenan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llection develop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gram developme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dult and children’s servic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0T14:40:21Z</dcterms:created>
  <dc:creator>na</dc:creator>
  <dc:description/>
  <dc:language>en-US</dc:language>
  <cp:lastModifiedBy>na</cp:lastModifiedBy>
  <cp:lastPrinted>2009-04-22T19:24:48Z</cp:lastPrinted>
  <dcterms:modified xsi:type="dcterms:W3CDTF">2015-06-28T17:19:15Z</dcterms:modified>
  <cp:revision>35</cp:revision>
  <dc:subject/>
  <dc:title>PowerPoint Presentation</dc:title>
</cp:coreProperties>
</file>