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EAAA-A233-423D-881B-DD0B53B5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865-CBEF-4BEE-AF7C-0E01DCCB9078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5320" y="4346640"/>
            <a:ext cx="506736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at 9:15—10 minutes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ish at 9: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2B5-1432-4093-8C50-FC0281A2F489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048-60F6-43C8-B772-2FDFCCBB282F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461-27B3-4702-B0BC-A0CD92479D9C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mentioned—add re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 Wagner at Dynex Institute does have a good training on how to do a strategic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Rhinhart also ha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17E-26C5-4490-9044-10464CF8E8FD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83B-FC85-47E3-A9B3-B236D380917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559A-6648-470A-8D16-B2AF622DD5B4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636-6D61-4296-96BF-012A7EE9E3B4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0090-C97E-41C0-AC63-B5AF746DEBD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D87-B779-4380-AF99-A60B30A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B9-5444-41BC-A0A7-CD85F14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AE3-BE8B-4E7D-853E-25D770A0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62F-16BE-4306-98C9-2125FBFD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BC3-F1E0-4617-8721-5CBE483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E7E-4FD4-44BA-8D70-D85E8E2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E7D-29D6-44B6-B6DE-379F6DB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8D5-B76C-4CB2-9F5A-F701D97F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62E-7999-44AD-9700-38B7EE4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723-CF4B-4FF7-9421-95CC0F1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6C6-3BEC-4BE3-BB02-71D6E61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B81-DEF5-4D28-9204-2149B65A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C8D-61AE-443E-BF0F-549B2A33210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la.org/ala/pla/plaevents/elearningpla/elearningpla.htm" TargetMode="External"/><Relationship Id="rId2" Type="http://schemas.openxmlformats.org/officeDocument/2006/relationships/hyperlink" Target="http://www.imls.gov/grants/current/crnt_log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62120" y="2666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6a215"/>
                </a:solidFill>
                <a:latin typeface="Arial"/>
              </a:rPr>
              <a:t>What is Planning?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vocacy and government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unity outreach and partnership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chnology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rvices to ethnic popu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rketing and public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ministration an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uccessful Planning Proces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eryone participates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ducated about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xplore new ide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takes advantages of opportun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ecessary resources availab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A Plan “Litmus” Tes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pport mission and vision of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atisfy identified community need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lp market and brand the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sider library resource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dress multiple goal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favorable return on investmen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09480" y="1905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Does it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Five Phases of Planning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gani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elegate ro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itia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information gather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aly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data, identify goals &amp; objectiv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the new strategic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isseminate the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ess needs to be evaluat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bjectives determine progr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 need to be assess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cide if plan is still vali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nges can be mad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e at least once a y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Measures for 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put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sources used by a progra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llections, materials, equipment, suppl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aff, volunteer time and expertise, community part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eds assessment find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cilities, computers, online ac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aints - law, regulation, fundi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put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How many?” (extens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duct volume or evidence of delive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staff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uantified by neutral obser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So what?” (effect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mpact or benefit to end us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customer’s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ten quantified by percep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d by professional assess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ticipated and planned f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ke project expectations explici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umptions of contributions towards meeting the goal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895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the use of running if you’re not on the right road?”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8120" y="4800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German Proverb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ther Typ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s (circulation, visits, etc…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enchmarking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stomer satisfaction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bsite user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of quality of progra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Group Exercis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pic>
        <p:nvPicPr>
          <p:cNvPr id="95" name="Picture 4" descr="bd06995_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00400" y="3048120"/>
            <a:ext cx="2863800" cy="203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New Planning for Result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online cour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la.org/ala/pla/plaevents/elearningpla/elearningpla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LS Outcome Base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mls.gov/grants/current/crnt_log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 list of books is at the end of this section in your toolki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REVIEW 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to apply a “litmus test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is necessa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ypes of measures need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bd05537_"/>
          <p:cNvPicPr/>
          <p:nvPr/>
        </p:nvPicPr>
        <p:blipFill>
          <a:blip r:embed="rId1"/>
          <a:stretch/>
        </p:blipFill>
        <p:spPr>
          <a:xfrm>
            <a:off x="7238880" y="472428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28954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ery library – large or small – needs a strategic plan.  It is the blueprint that sets the direction for where your organization is going.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quirements for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s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lanning process and what it co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and output meas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ypes of evalua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5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Lesson Objectiv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scribe a successful planning pro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st the five phases of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xplain the importance of evaluation, measur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y the end of this lesson you will be able to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view of current library statu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essment of trends in the communi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ission and vision state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trategies and ac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2120" y="2057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3123720"/>
            <a:ext cx="937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ationale for strategie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nticipated cos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ime line and implementation pla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uidelines for measurement an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rting data gathered in planning pro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133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Plans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firm and articulate purpo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decision mak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stablish priorities and measure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gnal goo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efficienc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ure services are customer dri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opportunities and proble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development/trai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unding/financial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acilities planning and mainten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llection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am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ult and children’s servic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14:40:21Z</dcterms:created>
  <dc:creator>na</dc:creator>
  <dc:description/>
  <dc:language>en-US</dc:language>
  <cp:lastModifiedBy>na</cp:lastModifiedBy>
  <cp:lastPrinted>2009-04-22T19:24:48Z</cp:lastPrinted>
  <dcterms:modified xsi:type="dcterms:W3CDTF">2015-06-28T17:19:15Z</dcterms:modified>
  <cp:revision>35</cp:revision>
  <dc:subject/>
  <dc:title>PowerPoint Presentation</dc:title>
</cp:coreProperties>
</file>