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829D-549E-4A4A-958B-C68664E1F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5110-D138-46C8-9739-30696C3A0C6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65681-80C5-4D60-BD6C-585324E0FDA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C8232-745A-4E2D-B42F-10ACD8AD39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1FB0C8-D8CF-46FF-BC6E-11B98FF13A9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5AA4FA-44EF-49D2-A2B0-C7D98DBA7E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EFFD0-2D29-4527-9846-E4F087B12B1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8A4E5-2F71-4415-BA1A-2AFAFC5E5E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BD07E-E0C3-4610-B8D8-7D6D5C961C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120E9-6E59-471D-9398-5B82A1D051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96C3DE-0F99-4040-895D-7CDC313512D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75C93-A65A-4A8C-A4C5-203200E4A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9CC7-6765-4FC0-A830-F56C842E05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3C1CC-7176-4C8C-B94E-66FC5FAE3F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74AE-8AD7-4686-86EF-955DD87155F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A5C5-612D-4E3C-B029-B91A9FE1C12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6C28-88F2-43EF-AAB9-65B7554608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FABB-E916-415E-9109-96F5E38F25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129C3-AE90-4C5E-8ACD-EC0065024C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5731-4D9E-4402-BEFB-BAEC8DD93CE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9E533-47CA-479D-A91E-D18EAD8E7D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82B07-2B28-47C0-A159-A509DE52E0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E120C-099F-48B7-8E0B-05582F6F2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2B27-3CD0-4BA1-8308-9FCFCE5DC26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8AE8-A04A-4CB4-8899-65B31A892FF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E35E2-FD94-472B-A804-3BA28C4C6D0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BC1F3-7FE0-4DFA-8713-950A137559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ED540-6E3C-4364-84DA-D685E32B9E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90529-C73E-4952-9460-8A3284E1996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F8ADE-F8E1-4B7F-811A-0180B0846F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D7266-2111-4BB6-8557-B355C0AE61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F7C88-32E6-405E-8C1B-0B7CEC30A2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0996D-AFE0-4BE2-8C78-DC95A927D5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70084-ED64-47FD-9CCE-D125FC6AF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12AA3-0AE6-4649-AB33-D9E5AB7DAA1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8FF4D-2F19-40A2-8E07-2D4ECB28867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F1C7E-93CB-4446-8D38-3717149AE2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203A90-E27D-4BCD-B476-D9D771D942B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43E85-CAAD-4CA7-A796-C189A1B97FE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C816CB-BD56-4971-BA59-5996D113574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BDABC7-1785-4500-A777-BE1C05B88B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BBC1DF-C707-4AFD-96EB-43CD0D60E0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788E4-2E82-49B6-A0A8-5E66DFE56B9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5A815-8165-446E-8BB1-A65DEB6AE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7A4189-378F-45E5-BBE6-92EDA22677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19B45E-5E7C-4EBA-AE17-E6EF833158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2DFDB4-8DC1-441C-9CF6-9B0A9509D3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3D38B5-AD7E-4145-9BFB-4B18DCE66D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586316-E396-44DB-B014-E263A7BA101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21E4-D341-478F-BC72-D5B48DDEB8B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349C6-940B-4192-939D-E7E2886E692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76F0B-572E-4030-A6AF-E63C5AAA1A6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76E6C-BB5E-4594-9FFB-DA7530B24D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544BF-8D67-4CEC-BCE4-9C5F6B572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60AC-8DA5-4F02-A3EB-C01B8F2C9CD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45C20-1FA4-4FAE-8101-83C30E49FB7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18185-DC95-40F5-85EB-F11E3B7D7A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F36F-F3F1-42D3-9F20-0ED96EE915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3ABA-92C5-49A2-969A-8DB018CA2C6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A3538-2918-40C3-B188-229B0EDFF7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4601A-C90E-43C8-8386-571841640D4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5DF2B-6815-4AD1-96BE-31F9765F727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BA8FD-5BC4-483B-BF63-EAE15B7E5AF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41509-B130-4852-BD8B-299F4CFA8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350D17-6446-4B70-B11D-FD22A248A2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4EEDDA-C827-4963-A09B-541BB1E08D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9FB923-C86E-4A89-8EF3-79B137E468E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42331-A8C9-4544-8324-D09A7E27384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E822F-E47B-4644-843B-DB72B4E39AB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9FAF8-F5F7-4676-A834-12E1133BD41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364DF7-CDB6-4341-A1C5-2AA2721F741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7A76AB-9745-4E3B-AA13-F06E3B8272D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936AE-4BE4-4262-A0F2-1137AA9F2E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1BF9-D7A1-47F6-A44B-873FF92FE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211F7-74EA-47B7-BCB2-C3C232E740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FC2F9-6368-4361-A894-9050FEB2AC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8557C-E543-45DF-8AB2-A7FAC04147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5224E-E867-445B-85EF-9D3B437F0B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E9A0A-AEC0-4A48-B7E4-12733A97C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0564-E17B-48AA-888B-22938EC697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C7334-F8BB-4867-BDBB-2B3527B036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939EE-94CF-47B9-B18F-56C073CA1D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295F2-9DDC-479D-AD98-63B1FAEAAE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9D449-C814-402C-8724-5B9A588734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582D2-A956-44E2-B223-5F86CD36F8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666B2-195A-4232-B0A5-D1330BE635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CBD8A-FE7E-489C-B224-588D9EB16F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2D8D-9540-4DF8-9208-FE1B7A30E4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8594-E04F-47E6-B08F-FB875D5948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A80F-4B86-45CF-8373-342C5F13D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A3C4-4353-43BD-8779-7709892BA8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2940-9DD5-4898-9F3B-E01DF4F8A7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74A-E5D5-4D83-8826-9F2005B288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9446-14F3-42FF-9A0C-FD1518B10F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9BE6-2C49-438F-99C8-2FE2391EF8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43CB-80F1-45E2-BD10-4D72F5D077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10AE-85A5-43E4-805D-2D0AFB978A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69FA-75F1-4A1C-8D67-98F0A6C9B1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6B6E-A92F-4C78-ACD7-09260BA5E4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3289-8982-4AB8-BE22-634AF50093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BBC1A-E127-4CF3-AA34-B3383F078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2AC5-9C30-4A12-A04D-586C8D8F15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F457B-68FB-4B86-83C8-60E86E76B1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AE023-3FAB-4FCC-96DA-AC528AB583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6A205-C6C1-4797-B09C-EE2B5BC8E03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29368-4483-40E3-ACC6-E5F03209F0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4B573-F23D-4F1E-9046-77E15C1F8B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0A43D-AB07-4330-A95F-6786B2B894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B8C76-D4BF-4CA9-B393-CDC00D8EDC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3B684-9DDB-4504-8F0E-FA6D9E8F65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FE753-DF8F-4A44-B995-0F3140AACD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99F3C-6B86-4E98-8B84-90066BCBC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B444-D969-48CB-BA7B-8259F110B7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96778-BF80-47A1-AB06-632DF2260C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2CF3C-B2EF-4657-822D-D36868CCF6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0A21B-9A51-4159-8A9E-1A3DC67D4B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3C2C7-B756-42BC-A9A8-50EABF6E4A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8CA43-236B-4FF1-B3B0-EC13161B27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6E9BC-F096-4231-A3C2-FDBFB0C7EF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586C4-3F33-4C06-B059-61E76B3492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2778C-CDC1-4276-912D-9ED9A0F50E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0C306-85CF-4988-85FA-FFF0D192F1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3CB1E-A7EF-4FD4-B274-20D57E4FA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ECEA-CEDF-4D0D-868A-F2239E3E39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C2CF7-AFBE-41F5-8DA1-DC1287AB6A0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3C9B7-B4FC-467E-BD34-D28D150829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63CD0-55B5-40C9-9D24-19321AFA56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08CB-8EFB-403E-A176-28DF0343B4A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7F1A-EEAC-4457-89C6-CE5CFF8D8E5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6230-8F9B-457A-B22D-4D31F3A7FC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ACAE-C0E1-48A8-A423-328BA9535B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305E-B544-4830-9F16-4AEBD8079C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BADD-CE57-4C66-B816-96C6D2D7D2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FAFA6-C0D3-4C1E-9E57-E3335081F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4F0C-83D8-41B9-A324-4F37CBAFDB4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0F69-D348-4F7D-9F12-0FEC266801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A9DF-3F40-4E85-87A0-D06404A58A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9CDB-0EE6-49B3-80C5-FF99AA0D2BC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FF71-02B1-4F49-9865-548FC0581B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8E6D1-BD6F-4EC3-A39C-684D792B48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4B1B4-CE29-4F63-B155-06B8FAB700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013E3-9E36-4AFB-8740-A2DEA319DD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0B945-8A4F-4FE7-BCE4-0071E19920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F59FA-FB99-4272-B587-E4D32C1304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CA961-4AB8-4090-A280-3054D04FA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EE54-5835-4050-ABF1-4138F73EA3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A368F-BC5E-44B1-912E-F9416ED140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15664-3E6A-4DC5-B621-7EF8D3C2BB9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C4846-49C9-41B7-B607-E101BF58EEE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25607-EBD2-4D82-B005-B527E704C5D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E9C27-3408-445D-B06E-A13DC10F04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0B016-2DFE-427E-B1E6-A22987FE99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63CFC-905B-403C-98ED-5FBE8621DF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32151-479C-43A3-960E-2E1880F935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415FE-5F6E-4672-B0B3-0EBF9B2AC0C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7F2CA-8433-407E-AA90-0B5E75B90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7DCC0984-32CA-47C1-8600-4EBE31E55D6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DE8A0041-5FE5-4549-B359-F2F156B51F2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69196458-FFA3-4A5E-843A-6AF57935FCA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2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CDDDFCA5-249F-46FB-BE1D-32DBB17CA15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2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2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2CF18899-ACA2-4124-882A-323298D5055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2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2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096B671A-3677-4897-BC23-C923270DD7F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BB724903-80A3-4440-B446-F96680F469F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B19A23B8-ED06-4F01-A32F-FAE4B2D9AEA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2F37898B-FD33-4683-8E38-1483F072C8A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83DFADB1-67AB-4EE3-86AE-C04F0E34571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959DD9E4-1B66-4949-BBD4-055528A65D8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A219CECA-7A16-4FD7-A324-E2053D8DC51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3FD2FEF2-08AB-4E9C-B4F4-6D7BFD15EF3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affing-and-recruiting-essentials.com/Sample-Job-Analysis.html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nline.onetcenter.org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7C4DE0A0-1E81-4F18-8CE5-3B0E0B0F90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6" descr="covertitle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838080" y="1905120"/>
            <a:ext cx="57150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c2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c2"/>
                </a:solidFill>
                <a:latin typeface="Arial"/>
              </a:rPr>
              <a:t>Human Resource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c2"/>
                </a:solidFill>
                <a:latin typeface="Arial"/>
              </a:rPr>
              <a:t>and Job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001B8196-47B0-4CCE-8072-058E732870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uman Resource Planning</a:t>
            </a:r>
            <a:endParaRPr b="0" lang="en-US" sz="20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36560" y="1066320"/>
            <a:ext cx="7493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edicts the future labor supp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unit’s supply of human resources come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gent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s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returning from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dicting these can range from simple to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s are more difficult to predict since they depend on actions in other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2EACF069-51A9-487F-82BA-40E8190AFF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657000" y="979560"/>
            <a:ext cx="68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reases in internal supply come about throug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1832040" y="1546200"/>
            <a:ext cx="5530680" cy="4667760"/>
          </a:xfrm>
          <a:prstGeom prst="rect">
            <a:avLst/>
          </a:prstGeom>
          <a:gradFill rotWithShape="0">
            <a:gsLst>
              <a:gs pos="0">
                <a:srgbClr val="e6e6c2">
                  <a:alpha val="21176"/>
                </a:srgbClr>
              </a:gs>
              <a:gs pos="100000">
                <a:srgbClr val="a30d09"/>
              </a:gs>
            </a:gsLst>
            <a:lin ang="5400000"/>
          </a:gradFill>
          <a:ln w="5724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s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f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bbatic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qu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onged illn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s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763AFC70-0430-4A9C-B014-F372A57BA9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711360" y="1036800"/>
            <a:ext cx="72388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didates come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on into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 gradu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returning from milita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in the number of unemployed and employed individuals seeking other opportunities, either part-time or ful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57200" y="55292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The potential labor supply can be expanded by formal or</a:t>
            </a:r>
            <a:br>
              <a:rPr sz="2000"/>
            </a:b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 on-the-job t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FA14096-8D9A-4B3F-93B2-4F3DCE2198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929880" y="1293480"/>
            <a:ext cx="716292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o match labor demand and supply,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forecasts for demand and supply of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s current and future shortages, and overstaffing. Sometimes, strategic goals must change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downsizing to reduce supply and balance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1D5CC7D0-86C8-4BC2-A85F-5AF9A8BE7E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447920" y="12762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ment Plann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grpSp>
        <p:nvGrpSpPr>
          <p:cNvPr id="680" name="Group 56"/>
          <p:cNvGrpSpPr/>
          <p:nvPr/>
        </p:nvGrpSpPr>
        <p:grpSpPr>
          <a:xfrm>
            <a:off x="4626000" y="2984400"/>
            <a:ext cx="1241280" cy="690840"/>
            <a:chOff x="4626000" y="2984400"/>
            <a:chExt cx="1241280" cy="690840"/>
          </a:xfrm>
        </p:grpSpPr>
        <p:sp>
          <p:nvSpPr>
            <p:cNvPr id="681" name="Line 44"/>
            <p:cNvSpPr/>
            <p:nvPr/>
          </p:nvSpPr>
          <p:spPr>
            <a:xfrm>
              <a:off x="5251320" y="3138480"/>
              <a:ext cx="18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0"/>
            <p:cNvSpPr/>
            <p:nvPr/>
          </p:nvSpPr>
          <p:spPr>
            <a:xfrm>
              <a:off x="4626000" y="2984400"/>
              <a:ext cx="1241280" cy="2613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mand for lab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4570920" y="3745080"/>
            <a:ext cx="1476000" cy="596160"/>
            <a:chOff x="4570920" y="3745080"/>
            <a:chExt cx="1476000" cy="596160"/>
          </a:xfrm>
        </p:grpSpPr>
        <p:sp>
          <p:nvSpPr>
            <p:cNvPr id="684" name="Line 50"/>
            <p:cNvSpPr/>
            <p:nvPr/>
          </p:nvSpPr>
          <p:spPr>
            <a:xfrm>
              <a:off x="5248440" y="4322880"/>
              <a:ext cx="79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51"/>
            <p:cNvSpPr/>
            <p:nvPr/>
          </p:nvSpPr>
          <p:spPr>
            <a:xfrm>
              <a:off x="5243400" y="3817800"/>
              <a:ext cx="79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1"/>
            <p:cNvSpPr/>
            <p:nvPr/>
          </p:nvSpPr>
          <p:spPr>
            <a:xfrm>
              <a:off x="4570920" y="3745080"/>
              <a:ext cx="127188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are dem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 and supply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35"/>
          <p:cNvSpPr/>
          <p:nvPr/>
        </p:nvSpPr>
        <p:spPr>
          <a:xfrm>
            <a:off x="7572240" y="3368520"/>
            <a:ext cx="1127160" cy="61164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6"/>
          <p:cNvSpPr/>
          <p:nvPr/>
        </p:nvSpPr>
        <p:spPr>
          <a:xfrm>
            <a:off x="7561440" y="4264200"/>
            <a:ext cx="1122120" cy="61164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rui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53"/>
          <p:cNvGrpSpPr/>
          <p:nvPr/>
        </p:nvGrpSpPr>
        <p:grpSpPr>
          <a:xfrm>
            <a:off x="415800" y="3689280"/>
            <a:ext cx="1098720" cy="596160"/>
            <a:chOff x="415800" y="3689280"/>
            <a:chExt cx="1098720" cy="596160"/>
          </a:xfrm>
        </p:grpSpPr>
        <p:sp>
          <p:nvSpPr>
            <p:cNvPr id="690" name="Text Box 27"/>
            <p:cNvSpPr/>
            <p:nvPr/>
          </p:nvSpPr>
          <p:spPr>
            <a:xfrm>
              <a:off x="415800" y="3689280"/>
              <a:ext cx="94284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37"/>
            <p:cNvSpPr/>
            <p:nvPr/>
          </p:nvSpPr>
          <p:spPr>
            <a:xfrm>
              <a:off x="1413000" y="400212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54"/>
          <p:cNvGrpSpPr/>
          <p:nvPr/>
        </p:nvGrpSpPr>
        <p:grpSpPr>
          <a:xfrm>
            <a:off x="1569600" y="3683160"/>
            <a:ext cx="1300680" cy="596160"/>
            <a:chOff x="1569600" y="3683160"/>
            <a:chExt cx="1300680" cy="596160"/>
          </a:xfrm>
        </p:grpSpPr>
        <p:sp>
          <p:nvSpPr>
            <p:cNvPr id="693" name="Text Box 28"/>
            <p:cNvSpPr/>
            <p:nvPr/>
          </p:nvSpPr>
          <p:spPr>
            <a:xfrm>
              <a:off x="1569600" y="3683160"/>
              <a:ext cx="114696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rporate go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objectiv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8"/>
            <p:cNvSpPr/>
            <p:nvPr/>
          </p:nvSpPr>
          <p:spPr>
            <a:xfrm>
              <a:off x="2768760" y="402264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67"/>
          <p:cNvGrpSpPr/>
          <p:nvPr/>
        </p:nvGrpSpPr>
        <p:grpSpPr>
          <a:xfrm>
            <a:off x="6066000" y="3463920"/>
            <a:ext cx="1455480" cy="428760"/>
            <a:chOff x="6066000" y="3463920"/>
            <a:chExt cx="1455480" cy="428760"/>
          </a:xfrm>
        </p:grpSpPr>
        <p:sp>
          <p:nvSpPr>
            <p:cNvPr id="696" name="Text Box 34"/>
            <p:cNvSpPr/>
            <p:nvPr/>
          </p:nvSpPr>
          <p:spPr>
            <a:xfrm>
              <a:off x="6066000" y="3463920"/>
              <a:ext cx="1293480" cy="4287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mand excee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0"/>
            <p:cNvSpPr/>
            <p:nvPr/>
          </p:nvSpPr>
          <p:spPr>
            <a:xfrm>
              <a:off x="7419960" y="366084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8"/>
          <p:cNvGrpSpPr/>
          <p:nvPr/>
        </p:nvGrpSpPr>
        <p:grpSpPr>
          <a:xfrm>
            <a:off x="6097680" y="4210200"/>
            <a:ext cx="1423800" cy="459000"/>
            <a:chOff x="6097680" y="4210200"/>
            <a:chExt cx="1423800" cy="459000"/>
          </a:xfrm>
        </p:grpSpPr>
        <p:sp>
          <p:nvSpPr>
            <p:cNvPr id="699" name="Text Box 33"/>
            <p:cNvSpPr/>
            <p:nvPr/>
          </p:nvSpPr>
          <p:spPr>
            <a:xfrm>
              <a:off x="6097680" y="4210200"/>
              <a:ext cx="1274760" cy="45900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ly exc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1"/>
            <p:cNvSpPr/>
            <p:nvPr/>
          </p:nvSpPr>
          <p:spPr>
            <a:xfrm>
              <a:off x="7419960" y="443232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55"/>
          <p:cNvGrpSpPr/>
          <p:nvPr/>
        </p:nvGrpSpPr>
        <p:grpSpPr>
          <a:xfrm>
            <a:off x="2963880" y="3102120"/>
            <a:ext cx="1547640" cy="1944720"/>
            <a:chOff x="2963880" y="3102120"/>
            <a:chExt cx="1547640" cy="1944720"/>
          </a:xfrm>
        </p:grpSpPr>
        <p:sp>
          <p:nvSpPr>
            <p:cNvPr id="702" name="Text Box 29"/>
            <p:cNvSpPr/>
            <p:nvPr/>
          </p:nvSpPr>
          <p:spPr>
            <a:xfrm>
              <a:off x="2963880" y="3565440"/>
              <a:ext cx="1317240" cy="9309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ssess curren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- - - - - - - - - - - 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RM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ob analy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2"/>
            <p:cNvSpPr/>
            <p:nvPr/>
          </p:nvSpPr>
          <p:spPr>
            <a:xfrm>
              <a:off x="3714840" y="503244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3"/>
            <p:cNvSpPr/>
            <p:nvPr/>
          </p:nvSpPr>
          <p:spPr>
            <a:xfrm>
              <a:off x="3713040" y="3108240"/>
              <a:ext cx="79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6"/>
            <p:cNvSpPr/>
            <p:nvPr/>
          </p:nvSpPr>
          <p:spPr>
            <a:xfrm flipV="1">
              <a:off x="3728880" y="46846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7"/>
            <p:cNvSpPr/>
            <p:nvPr/>
          </p:nvSpPr>
          <p:spPr>
            <a:xfrm>
              <a:off x="3733920" y="3102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49"/>
            <p:cNvSpPr/>
            <p:nvPr/>
          </p:nvSpPr>
          <p:spPr>
            <a:xfrm>
              <a:off x="3719520" y="5032440"/>
              <a:ext cx="7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 Box 62"/>
          <p:cNvSpPr/>
          <p:nvPr/>
        </p:nvSpPr>
        <p:spPr>
          <a:xfrm>
            <a:off x="7680960" y="30243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69"/>
          <p:cNvGrpSpPr/>
          <p:nvPr/>
        </p:nvGrpSpPr>
        <p:grpSpPr>
          <a:xfrm>
            <a:off x="4658040" y="4437000"/>
            <a:ext cx="1264320" cy="798840"/>
            <a:chOff x="4658040" y="4437000"/>
            <a:chExt cx="1264320" cy="798840"/>
          </a:xfrm>
        </p:grpSpPr>
        <p:sp>
          <p:nvSpPr>
            <p:cNvPr id="710" name="Line 45"/>
            <p:cNvSpPr/>
            <p:nvPr/>
          </p:nvSpPr>
          <p:spPr>
            <a:xfrm>
              <a:off x="5245200" y="443700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66"/>
            <p:cNvSpPr/>
            <p:nvPr/>
          </p:nvSpPr>
          <p:spPr>
            <a:xfrm>
              <a:off x="4658040" y="4807080"/>
              <a:ext cx="1264320" cy="4287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pply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67188D01-8DA1-4927-B86E-5655DDF0F8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630000" y="1595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ob analysis is a systematic exploration of the activities within a j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defines and documents the duties, responsibilities, and accountabilities of a job and the conditions under which a job is per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682560" y="5167440"/>
            <a:ext cx="78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804dff"/>
                </a:solidFill>
                <a:uFillTx/>
                <a:latin typeface="Arial"/>
                <a:hlinkClick r:id="rId1"/>
              </a:rPr>
              <a:t>http://www.staffing-and-recruiting-essentials.com/Sample-Job-Analysi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 sample job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63410F71-1BF6-4020-B93A-58AA792918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ob analysis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bser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job analyst watches employees directly or reviews film of workers on the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dividual int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a team of job incumbents is selected and extensively interview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oup int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a number of job incumbents are interviewed simultaneous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ructured questionn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rkers complete a specifically designed questionn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chnical co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uses supervisors with an extensive knowledge of the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job incumbents record their daily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2440" y="5867280"/>
            <a:ext cx="82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22626"/>
                </a:solidFill>
                <a:latin typeface="Arial"/>
              </a:rPr>
              <a:t>The best results are usually achieved with some combination of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BC9659C2-9EDC-40D1-9A5B-9AD21315CC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25" name="Text Box 18"/>
          <p:cNvSpPr/>
          <p:nvPr/>
        </p:nvSpPr>
        <p:spPr>
          <a:xfrm>
            <a:off x="961200" y="1447920"/>
            <a:ext cx="2872080" cy="703800"/>
          </a:xfrm>
          <a:prstGeom prst="rect">
            <a:avLst/>
          </a:prstGeom>
          <a:solidFill>
            <a:srgbClr val="b22626"/>
          </a:solidFill>
          <a:ln w="5724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understand the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of the job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9"/>
          <p:cNvSpPr/>
          <p:nvPr/>
        </p:nvSpPr>
        <p:spPr>
          <a:xfrm>
            <a:off x="929520" y="2971800"/>
            <a:ext cx="2925720" cy="70380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understand the ro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jobs in th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6248520" y="4419720"/>
            <a:ext cx="2143080" cy="88632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seek cla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5791320" y="2971800"/>
            <a:ext cx="2151000" cy="85608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develop draf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5231880" y="1523880"/>
            <a:ext cx="2021760" cy="70380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review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with supervi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6"/>
          <p:cNvSpPr/>
          <p:nvPr/>
        </p:nvSpPr>
        <p:spPr>
          <a:xfrm>
            <a:off x="243828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7"/>
          <p:cNvSpPr/>
          <p:nvPr/>
        </p:nvSpPr>
        <p:spPr>
          <a:xfrm>
            <a:off x="2438280" y="3733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42"/>
          <p:cNvGrpSpPr/>
          <p:nvPr/>
        </p:nvGrpSpPr>
        <p:grpSpPr>
          <a:xfrm>
            <a:off x="944280" y="4495680"/>
            <a:ext cx="2939040" cy="1219320"/>
            <a:chOff x="944280" y="4495680"/>
            <a:chExt cx="2939040" cy="1219320"/>
          </a:xfrm>
        </p:grpSpPr>
        <p:sp>
          <p:nvSpPr>
            <p:cNvPr id="733" name="Text Box 20"/>
            <p:cNvSpPr/>
            <p:nvPr/>
          </p:nvSpPr>
          <p:spPr>
            <a:xfrm>
              <a:off x="944280" y="4495680"/>
              <a:ext cx="2939040" cy="85608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benchmark positions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40"/>
            <p:cNvGrpSpPr/>
            <p:nvPr/>
          </p:nvGrpSpPr>
          <p:grpSpPr>
            <a:xfrm>
              <a:off x="2438280" y="5334120"/>
              <a:ext cx="1143000" cy="380880"/>
              <a:chOff x="2438280" y="5334120"/>
              <a:chExt cx="1143000" cy="380880"/>
            </a:xfrm>
          </p:grpSpPr>
          <p:sp>
            <p:nvSpPr>
              <p:cNvPr id="735" name="Line 28"/>
              <p:cNvSpPr/>
              <p:nvPr/>
            </p:nvSpPr>
            <p:spPr>
              <a:xfrm>
                <a:off x="2467080" y="53341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9"/>
              <p:cNvSpPr/>
              <p:nvPr/>
            </p:nvSpPr>
            <p:spPr>
              <a:xfrm>
                <a:off x="2438280" y="5715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0"/>
              <p:cNvSpPr/>
              <p:nvPr/>
            </p:nvSpPr>
            <p:spPr>
              <a:xfrm>
                <a:off x="2438280" y="571500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43"/>
          <p:cNvGrpSpPr/>
          <p:nvPr/>
        </p:nvGrpSpPr>
        <p:grpSpPr>
          <a:xfrm>
            <a:off x="3618720" y="5257800"/>
            <a:ext cx="3724920" cy="932400"/>
            <a:chOff x="3618720" y="5257800"/>
            <a:chExt cx="3724920" cy="932400"/>
          </a:xfrm>
        </p:grpSpPr>
        <p:sp>
          <p:nvSpPr>
            <p:cNvPr id="739" name="Text Box 21"/>
            <p:cNvSpPr/>
            <p:nvPr/>
          </p:nvSpPr>
          <p:spPr>
            <a:xfrm>
              <a:off x="3618720" y="5486400"/>
              <a:ext cx="2925360" cy="70380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determine how to coll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job analysis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41"/>
            <p:cNvGrpSpPr/>
            <p:nvPr/>
          </p:nvGrpSpPr>
          <p:grpSpPr>
            <a:xfrm>
              <a:off x="6705720" y="5257800"/>
              <a:ext cx="637920" cy="457200"/>
              <a:chOff x="6705720" y="5257800"/>
              <a:chExt cx="637920" cy="457200"/>
            </a:xfrm>
          </p:grpSpPr>
          <p:sp>
            <p:nvSpPr>
              <p:cNvPr id="741" name="Line 34"/>
              <p:cNvSpPr/>
              <p:nvPr/>
            </p:nvSpPr>
            <p:spPr>
              <a:xfrm>
                <a:off x="6705720" y="5715000"/>
                <a:ext cx="637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5"/>
              <p:cNvSpPr/>
              <p:nvPr/>
            </p:nvSpPr>
            <p:spPr>
              <a:xfrm flipV="1">
                <a:off x="7315200" y="52578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Line 38"/>
          <p:cNvSpPr/>
          <p:nvPr/>
        </p:nvSpPr>
        <p:spPr>
          <a:xfrm>
            <a:off x="6846840" y="38098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9"/>
          <p:cNvSpPr/>
          <p:nvPr/>
        </p:nvSpPr>
        <p:spPr>
          <a:xfrm>
            <a:off x="6400800" y="23623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186A4101-9142-4B73-B168-A9451797E7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Occupational Information Network (O*NET) content model inclu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1754280" y="52610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</a:t>
            </a:r>
            <a:r>
              <a:rPr b="0" lang="en-US" sz="2400" spc="-1" strike="noStrike" u="sng">
                <a:solidFill>
                  <a:srgbClr val="804dff"/>
                </a:solidFill>
                <a:uFillTx/>
                <a:latin typeface="Arial"/>
                <a:ea typeface="Arial"/>
                <a:hlinkClick r:id="rId1"/>
              </a:rPr>
              <a:t>http://online.onetcente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808640" y="2517840"/>
            <a:ext cx="536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pation-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for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pa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4F2904A8-5BB5-48E9-B952-D48DB41D74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nalysis questionnaire (P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bs are rated on 194 elements, grouped in six major divisions and 28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lements represent requirements applicable to all types of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s quantitative structure allows many job comparisons, however, it appears to apply to only higher-level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8CE394A8-2B3F-4285-A398-08D5D540D7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44560" y="1555920"/>
            <a:ext cx="6897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resource plan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process by which an organization ensures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has the right number and kind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righ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righ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ble of effectively and efficiently completing those tasks that will help the organization achieve its overall strategic objec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8DF7FA0B-290E-47DF-AE2B-813465DFED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219320" y="1218960"/>
            <a:ext cx="7162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b descriptions li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duties/essential functions in order of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specifications - minimal qualifications for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219320" y="3505320"/>
            <a:ext cx="67053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critical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job to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ing new-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performance evalu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ng job’s compensation w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عنصر نائب للتذييل 4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عنصر نائب لرقم الشريحة 5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C076E4FE-3ACA-4611-A5F0-470A2D4396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20"/>
          <p:cNvGrpSpPr/>
          <p:nvPr/>
        </p:nvGrpSpPr>
        <p:grpSpPr>
          <a:xfrm>
            <a:off x="914400" y="1295280"/>
            <a:ext cx="7467480" cy="5032440"/>
            <a:chOff x="914400" y="1295280"/>
            <a:chExt cx="7467480" cy="5032440"/>
          </a:xfrm>
        </p:grpSpPr>
        <p:sp>
          <p:nvSpPr>
            <p:cNvPr id="763" name="AutoShape 89"/>
            <p:cNvSpPr/>
            <p:nvPr/>
          </p:nvSpPr>
          <p:spPr>
            <a:xfrm>
              <a:off x="914400" y="1295280"/>
              <a:ext cx="7467480" cy="50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0"/>
            <p:cNvSpPr/>
            <p:nvPr/>
          </p:nvSpPr>
          <p:spPr>
            <a:xfrm flipH="1" flipV="1">
              <a:off x="3809880" y="2654280"/>
              <a:ext cx="557280" cy="77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1"/>
            <p:cNvSpPr/>
            <p:nvPr/>
          </p:nvSpPr>
          <p:spPr>
            <a:xfrm>
              <a:off x="3048120" y="178596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lab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rel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2"/>
            <p:cNvSpPr/>
            <p:nvPr/>
          </p:nvSpPr>
          <p:spPr>
            <a:xfrm flipH="1" flipV="1">
              <a:off x="3292560" y="3368160"/>
              <a:ext cx="906480" cy="2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3"/>
            <p:cNvSpPr/>
            <p:nvPr/>
          </p:nvSpPr>
          <p:spPr>
            <a:xfrm>
              <a:off x="2355840" y="273996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safety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94"/>
            <p:cNvSpPr/>
            <p:nvPr/>
          </p:nvSpPr>
          <p:spPr>
            <a:xfrm flipH="1">
              <a:off x="3292200" y="3957480"/>
              <a:ext cx="90972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95"/>
            <p:cNvSpPr/>
            <p:nvPr/>
          </p:nvSpPr>
          <p:spPr>
            <a:xfrm>
              <a:off x="2355840" y="3919680"/>
              <a:ext cx="960480" cy="96012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96"/>
            <p:cNvSpPr/>
            <p:nvPr/>
          </p:nvSpPr>
          <p:spPr>
            <a:xfrm flipH="1">
              <a:off x="3812760" y="4194000"/>
              <a:ext cx="560520" cy="77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7"/>
            <p:cNvSpPr/>
            <p:nvPr/>
          </p:nvSpPr>
          <p:spPr>
            <a:xfrm>
              <a:off x="3048120" y="48736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98"/>
            <p:cNvSpPr/>
            <p:nvPr/>
          </p:nvSpPr>
          <p:spPr>
            <a:xfrm>
              <a:off x="4651200" y="4281480"/>
              <a:ext cx="0" cy="9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9"/>
            <p:cNvSpPr/>
            <p:nvPr/>
          </p:nvSpPr>
          <p:spPr>
            <a:xfrm>
              <a:off x="4172040" y="52354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00"/>
            <p:cNvSpPr/>
            <p:nvPr/>
          </p:nvSpPr>
          <p:spPr>
            <a:xfrm>
              <a:off x="4929120" y="4191120"/>
              <a:ext cx="560520" cy="76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1"/>
            <p:cNvSpPr/>
            <p:nvPr/>
          </p:nvSpPr>
          <p:spPr>
            <a:xfrm>
              <a:off x="5291280" y="4870440"/>
              <a:ext cx="96012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02"/>
            <p:cNvSpPr/>
            <p:nvPr/>
          </p:nvSpPr>
          <p:spPr>
            <a:xfrm>
              <a:off x="5100480" y="3952800"/>
              <a:ext cx="90648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03"/>
            <p:cNvSpPr/>
            <p:nvPr/>
          </p:nvSpPr>
          <p:spPr>
            <a:xfrm>
              <a:off x="5943600" y="388620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04"/>
            <p:cNvSpPr/>
            <p:nvPr/>
          </p:nvSpPr>
          <p:spPr>
            <a:xfrm flipV="1">
              <a:off x="5100480" y="3365280"/>
              <a:ext cx="906480" cy="29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5"/>
            <p:cNvSpPr/>
            <p:nvPr/>
          </p:nvSpPr>
          <p:spPr>
            <a:xfrm>
              <a:off x="5985000" y="273672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H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06"/>
            <p:cNvSpPr/>
            <p:nvPr/>
          </p:nvSpPr>
          <p:spPr>
            <a:xfrm flipV="1">
              <a:off x="4929120" y="2650680"/>
              <a:ext cx="557280" cy="7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7"/>
            <p:cNvSpPr/>
            <p:nvPr/>
          </p:nvSpPr>
          <p:spPr>
            <a:xfrm>
              <a:off x="5257800" y="17524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08"/>
            <p:cNvSpPr/>
            <p:nvPr/>
          </p:nvSpPr>
          <p:spPr>
            <a:xfrm flipV="1">
              <a:off x="4648320" y="238104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9"/>
            <p:cNvSpPr/>
            <p:nvPr/>
          </p:nvSpPr>
          <p:spPr>
            <a:xfrm>
              <a:off x="4191120" y="1447920"/>
              <a:ext cx="96192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0"/>
            <p:cNvSpPr/>
            <p:nvPr/>
          </p:nvSpPr>
          <p:spPr>
            <a:xfrm>
              <a:off x="4167360" y="3330720"/>
              <a:ext cx="961920" cy="9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64800"/>
            <a:ext cx="241308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most all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H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ctivities are tied to job analysis; it is the starting point for sound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H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87"/>
          <p:cNvSpPr/>
          <p:nvPr/>
        </p:nvSpPr>
        <p:spPr>
          <a:xfrm>
            <a:off x="3886200" y="3124080"/>
            <a:ext cx="1523880" cy="1447920"/>
          </a:xfrm>
          <a:prstGeom prst="octagon">
            <a:avLst>
              <a:gd name="adj" fmla="val 29287"/>
            </a:avLst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spec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13"/>
          <p:cNvSpPr/>
          <p:nvPr/>
        </p:nvSpPr>
        <p:spPr>
          <a:xfrm>
            <a:off x="3047040" y="5168880"/>
            <a:ext cx="95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performan</a:t>
            </a: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14"/>
          <p:cNvSpPr/>
          <p:nvPr/>
        </p:nvSpPr>
        <p:spPr>
          <a:xfrm>
            <a:off x="2363760" y="4267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ompen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5"/>
          <p:cNvSpPr/>
          <p:nvPr/>
        </p:nvSpPr>
        <p:spPr>
          <a:xfrm>
            <a:off x="5362920" y="51055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6"/>
          <p:cNvSpPr/>
          <p:nvPr/>
        </p:nvSpPr>
        <p:spPr>
          <a:xfrm>
            <a:off x="5939640" y="4067280"/>
            <a:ext cx="982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employ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7"/>
          <p:cNvSpPr/>
          <p:nvPr/>
        </p:nvSpPr>
        <p:spPr>
          <a:xfrm>
            <a:off x="4203720" y="5486400"/>
            <a:ext cx="90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8"/>
          <p:cNvSpPr/>
          <p:nvPr/>
        </p:nvSpPr>
        <p:spPr>
          <a:xfrm>
            <a:off x="4238640" y="17827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recru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19"/>
          <p:cNvSpPr/>
          <p:nvPr/>
        </p:nvSpPr>
        <p:spPr>
          <a:xfrm>
            <a:off x="5376240" y="20574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30F959E3-5460-40F4-9A2C-08A43E865A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8" descr="The Coverimage"/>
          <p:cNvPicPr/>
          <p:nvPr/>
        </p:nvPicPr>
        <p:blipFill>
          <a:blip r:embed="rId1"/>
          <a:stretch/>
        </p:blipFill>
        <p:spPr>
          <a:xfrm>
            <a:off x="380880" y="5257800"/>
            <a:ext cx="933480" cy="10098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29"/>
          <p:cNvSpPr/>
          <p:nvPr/>
        </p:nvSpPr>
        <p:spPr>
          <a:xfrm>
            <a:off x="1371600" y="571500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be16"/>
                </a:solidFill>
                <a:latin typeface="Arial"/>
              </a:rPr>
              <a:t>Video: Jim Harris, Three Keys to Maximize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234720" y="106668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ign is how a position and its tasks are orga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1371600" y="1676520"/>
            <a:ext cx="5943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job design enriches and motivat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skill variety      task identity      task signific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autonomy      feedback from job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1371600" y="2819520"/>
            <a:ext cx="6469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work schedules keep employees motivated and loy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lex time   job sharing   telecomm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1389240" y="4038480"/>
            <a:ext cx="6933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0" lang="en-US" sz="2000" spc="-1" strike="noStrike">
                <a:solidFill>
                  <a:srgbClr val="b22626"/>
                </a:solidFill>
                <a:latin typeface="Arial"/>
              </a:rPr>
              <a:t>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nning and job analysis is find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echnical and interpersonal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5D74946F-EA3D-40D2-9127-8D95F62129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True or False?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333360" y="841320"/>
            <a:ext cx="770904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R planning must be separate from the organization’s overall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mission statement defines what business the organization is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o forecast staff requirements, HR creates an inventory of future staffing needs for job level and type, broken down by dec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Job analysis is a systematic exploration of the activities within a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 position analysis questionnaire is more qualitative than quantitative in n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Job design is how a position and its tasks are orga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45212A19-BA41-436E-A8B1-EF9DDD6E97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92080" y="154908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must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ed to the organization’s overall strategy to compete domestically and glob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ed into the number and types of workers need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1258920" y="5419800"/>
            <a:ext cx="56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Senior HRM staff need to lead top management in planning for HRM issues</a:t>
            </a:r>
            <a:r>
              <a:rPr b="1" lang="en-US" sz="2000" spc="-1" strike="noStrike">
                <a:solidFill>
                  <a:srgbClr val="b226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87A4148B-ED2F-48A6-86B8-90096F3F3F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60948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ssion stat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defines what business the organization is in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y it ex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o its custom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goals set by senior management to establish targets for the organization to achie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An Organizational Framework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1150200" y="561672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Goals are generally defined for the next 5-2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6332135F-2A51-4239-9C26-A3C65E3069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96600" y="1574280"/>
            <a:ext cx="6659640" cy="23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a corporate assess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WOT (Strengths-Weaknesses-Opportunities-Threats) analysis determines what is needed to meet 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engths and weaknesses and core competencies are ident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0880" y="5181480"/>
            <a:ext cx="851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HRM determines what knowledge, skills, and abilities are needed by the organization’s human resources through a job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3E1470E4-009D-4FBB-B0DA-B9D1711BA5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066680" y="1828800"/>
            <a:ext cx="3124440" cy="7318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1066680" y="276228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objectives an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1066680" y="3654360"/>
            <a:ext cx="3124440" cy="7318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1066680" y="454824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1066680" y="544212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1143000" y="1295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IC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4724280" y="1295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8"/>
          <p:cNvSpPr/>
          <p:nvPr/>
        </p:nvSpPr>
        <p:spPr>
          <a:xfrm>
            <a:off x="838080" y="1868400"/>
            <a:ext cx="0" cy="422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28"/>
          <p:cNvGrpSpPr/>
          <p:nvPr/>
        </p:nvGrpSpPr>
        <p:grpSpPr>
          <a:xfrm>
            <a:off x="4267080" y="1905120"/>
            <a:ext cx="3962520" cy="642600"/>
            <a:chOff x="4267080" y="1905120"/>
            <a:chExt cx="3962520" cy="642600"/>
          </a:xfrm>
        </p:grpSpPr>
        <p:sp>
          <p:nvSpPr>
            <p:cNvPr id="631" name="Text Box 11"/>
            <p:cNvSpPr/>
            <p:nvPr/>
          </p:nvSpPr>
          <p:spPr>
            <a:xfrm>
              <a:off x="4800600" y="19051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organization’s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>
              <a:off x="4267080" y="2193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29"/>
          <p:cNvGrpSpPr/>
          <p:nvPr/>
        </p:nvGrpSpPr>
        <p:grpSpPr>
          <a:xfrm>
            <a:off x="4267080" y="2819520"/>
            <a:ext cx="3353040" cy="642600"/>
            <a:chOff x="4267080" y="2819520"/>
            <a:chExt cx="3353040" cy="642600"/>
          </a:xfrm>
        </p:grpSpPr>
        <p:sp>
          <p:nvSpPr>
            <p:cNvPr id="634" name="Text Box 12"/>
            <p:cNvSpPr/>
            <p:nvPr/>
          </p:nvSpPr>
          <p:spPr>
            <a:xfrm>
              <a:off x="4800600" y="281952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ing goals and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3"/>
            <p:cNvSpPr/>
            <p:nvPr/>
          </p:nvSpPr>
          <p:spPr>
            <a:xfrm>
              <a:off x="4267080" y="316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0"/>
          <p:cNvGrpSpPr/>
          <p:nvPr/>
        </p:nvGrpSpPr>
        <p:grpSpPr>
          <a:xfrm>
            <a:off x="4267080" y="3733920"/>
            <a:ext cx="3657600" cy="642600"/>
            <a:chOff x="4267080" y="3733920"/>
            <a:chExt cx="3657600" cy="642600"/>
          </a:xfrm>
        </p:grpSpPr>
        <p:sp>
          <p:nvSpPr>
            <p:cNvPr id="637" name="Text Box 13"/>
            <p:cNvSpPr/>
            <p:nvPr/>
          </p:nvSpPr>
          <p:spPr>
            <a:xfrm>
              <a:off x="4800600" y="373392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how to attain goals and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4"/>
            <p:cNvSpPr/>
            <p:nvPr/>
          </p:nvSpPr>
          <p:spPr>
            <a:xfrm>
              <a:off x="4267080" y="40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31"/>
          <p:cNvGrpSpPr/>
          <p:nvPr/>
        </p:nvGrpSpPr>
        <p:grpSpPr>
          <a:xfrm>
            <a:off x="4267080" y="4572000"/>
            <a:ext cx="4114800" cy="642600"/>
            <a:chOff x="4267080" y="4572000"/>
            <a:chExt cx="4114800" cy="642600"/>
          </a:xfrm>
        </p:grpSpPr>
        <p:sp>
          <p:nvSpPr>
            <p:cNvPr id="640" name="Text Box 14"/>
            <p:cNvSpPr/>
            <p:nvPr/>
          </p:nvSpPr>
          <p:spPr>
            <a:xfrm>
              <a:off x="4800600" y="457200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what jobs need to be done and by wh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5"/>
            <p:cNvSpPr/>
            <p:nvPr/>
          </p:nvSpPr>
          <p:spPr>
            <a:xfrm>
              <a:off x="4267080" y="487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32"/>
          <p:cNvGrpSpPr/>
          <p:nvPr/>
        </p:nvGrpSpPr>
        <p:grpSpPr>
          <a:xfrm>
            <a:off x="4267080" y="5442120"/>
            <a:ext cx="3733920" cy="642600"/>
            <a:chOff x="4267080" y="5442120"/>
            <a:chExt cx="3733920" cy="642600"/>
          </a:xfrm>
        </p:grpSpPr>
        <p:sp>
          <p:nvSpPr>
            <p:cNvPr id="643" name="Text Box 5"/>
            <p:cNvSpPr/>
            <p:nvPr/>
          </p:nvSpPr>
          <p:spPr>
            <a:xfrm>
              <a:off x="4800600" y="54421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ching skills, knowledge, and abilities to required jo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6"/>
            <p:cNvSpPr/>
            <p:nvPr/>
          </p:nvSpPr>
          <p:spPr>
            <a:xfrm>
              <a:off x="4267080" y="5765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CB3130B6-D76F-40C8-A685-8FC6E546A6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894960" y="1553760"/>
            <a:ext cx="717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must ensure staff levels meet strateg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goal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ventory report summarizes information on current workers and their sk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formation systems (HR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employee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ickly generate analyse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compensation/benefits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34478D31-5008-4187-8AA0-69A6D22B2E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25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ion planning includes the development of replacement charts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ray middle- to upper-level management positions that may become vacant in the near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 information about individuals who might qualify to fill the pos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DD07A085-460F-4768-A3BB-E108623D56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must forecast staff require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reates an inventory of future staffing needs for job level and type, broken down by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s must detail the specific knowledge, skills, and abilities needed, not just “we need 25 new employee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4:46:00Z</dcterms:created>
  <dc:creator>dkear</dc:creator>
  <dc:description/>
  <dc:language>en-US</dc:language>
  <cp:lastModifiedBy>na</cp:lastModifiedBy>
  <dcterms:modified xsi:type="dcterms:W3CDTF">2015-06-28T18:00:08Z</dcterms:modified>
  <cp:revision>149</cp:revision>
  <dc:subject/>
  <dc:title>Introduction</dc:title>
</cp:coreProperties>
</file>