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A9B52-7B96-465C-8F0B-9BE26DEBB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5EDE-D914-4A1F-94D7-00B82ACE8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D7895-851A-42DD-B5E2-380603502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BBD52-F08F-4080-9114-3C7F30835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73BBE-B7E9-47D1-8025-C10E766E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8FBD0-EC70-4AC9-BC61-77DAEFEF7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635D4-3BB0-4B19-9A9A-77E8C0CCF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7BABD-5586-4F17-B140-69CFFBC47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0EDC-9D3F-4682-856C-5F01BD0E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7161-554F-42CF-B043-AD631354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3A145-F0D3-4A5C-8AD1-BE6D4CC1F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CC7ED-1755-4837-852B-5654538CA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5C17-D5C6-4087-907A-70ABC3D246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
          <p:cNvSpPr txBox="1"/>
          <p:nvPr/>
        </p:nvSpPr>
        <p:spPr>
          <a:xfrm>
            <a:off x="1403280" y="1125360"/>
            <a:ext cx="6337440" cy="2159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لافقريات</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2" name=""/>
          <p:cNvSpPr txBox="1"/>
          <p:nvPr/>
        </p:nvSpPr>
        <p:spPr>
          <a:xfrm>
            <a:off x="1619280" y="3645000"/>
            <a:ext cx="612144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vertebrates </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
          <p:cNvSpPr/>
          <p:nvPr/>
        </p:nvSpPr>
        <p:spPr>
          <a:xfrm>
            <a:off x="0" y="-247680"/>
            <a:ext cx="9144000" cy="7405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صنيف الابتدائيات</a:t>
            </a:r>
            <a:r>
              <a:rPr b="0" lang="ar-IQ" sz="3200" spc="-1" strike="noStrike">
                <a:solidFill>
                  <a:srgbClr val="000000"/>
                </a:solidFill>
                <a:latin typeface="Arial"/>
              </a:rPr>
              <a:t> </a:t>
            </a:r>
            <a:r>
              <a:rPr b="0" lang="en-US" sz="3200" spc="-1" strike="noStrike">
                <a:solidFill>
                  <a:srgbClr val="000000"/>
                </a:solidFill>
                <a:latin typeface="Arial"/>
              </a:rPr>
              <a:t>Classification of Protozoa</a:t>
            </a:r>
            <a:r>
              <a:rPr b="0" lang="ar-IQ"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r>
              <a:rPr b="0" lang="en-US" sz="3200" spc="-1" strike="noStrike">
                <a:solidFill>
                  <a:srgbClr val="000000"/>
                </a:solidFill>
                <a:latin typeface="Arial"/>
              </a:rPr>
              <a:t>Phylum : Protozoa</a:t>
            </a:r>
            <a:r>
              <a:rPr b="0" lang="ar-IQ"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جاريات                                                                      </a:t>
            </a:r>
            <a:r>
              <a:rPr b="0" lang="ar-IQ" sz="3200" spc="-1" strike="noStrike">
                <a:solidFill>
                  <a:srgbClr val="000000"/>
                </a:solidFill>
                <a:latin typeface="Arial"/>
              </a:rPr>
              <a:t>1</a:t>
            </a:r>
            <a:r>
              <a:rPr b="0" lang="en-US" sz="3200" spc="-1" strike="noStrike">
                <a:solidFill>
                  <a:srgbClr val="000000"/>
                </a:solidFill>
                <a:latin typeface="Arial"/>
              </a:rPr>
              <a:t>Subphylum</a:t>
            </a:r>
            <a:r>
              <a:rPr b="0" lang="ar-IQ" sz="3200" spc="-1" strike="noStrike">
                <a:solidFill>
                  <a:srgbClr val="000000"/>
                </a:solidFill>
                <a:latin typeface="Arial"/>
              </a:rPr>
              <a:t>:: </a:t>
            </a:r>
            <a:r>
              <a:rPr b="0" lang="en-US" sz="3200" spc="-1" strike="noStrike">
                <a:solidFill>
                  <a:srgbClr val="000000"/>
                </a:solidFill>
                <a:latin typeface="Arial"/>
              </a:rPr>
              <a:t>Plasmodrom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سوطيات</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 </a:t>
            </a:r>
            <a:r>
              <a:rPr b="0" lang="en-US" sz="3200" spc="-1" strike="noStrike">
                <a:solidFill>
                  <a:srgbClr val="000000"/>
                </a:solidFill>
                <a:latin typeface="Arial"/>
              </a:rPr>
              <a:t>Flagellate</a:t>
            </a:r>
            <a:r>
              <a:rPr b="0" lang="ar-IQ" sz="3200" spc="-1" strike="noStrike">
                <a:solidFill>
                  <a:srgbClr val="000000"/>
                </a:solidFill>
                <a:latin typeface="Arial"/>
              </a:rPr>
              <a:t>                           </a:t>
            </a:r>
            <a:r>
              <a:rPr b="0" lang="en-US" sz="3200" spc="-1" strike="noStrike">
                <a:solidFill>
                  <a:srgbClr val="000000"/>
                </a:solidFill>
                <a:latin typeface="Arial"/>
              </a:rPr>
              <a:t>    </a:t>
            </a:r>
            <a:r>
              <a:rPr b="0" lang="ar-IQ" sz="3200" spc="-1" strike="noStrike">
                <a:solidFill>
                  <a:srgbClr val="000000"/>
                </a:solidFill>
                <a:latin typeface="Arial"/>
              </a:rPr>
              <a:t>    </a:t>
            </a:r>
            <a:r>
              <a:rPr b="0" lang="en-US" sz="3200" spc="-1" strike="noStrike">
                <a:solidFill>
                  <a:srgbClr val="000000"/>
                </a:solidFill>
                <a:latin typeface="Arial"/>
              </a:rPr>
              <a:t>                      </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متاز أفرادها بوجود سوط واحد أو أكثر تحتفظ بها مدى الحياة أو في دور من أدوار حياتها على الاقل مثل طفيلي</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panosoma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
          <p:cNvSpPr/>
          <p:nvPr/>
        </p:nvSpPr>
        <p:spPr>
          <a:xfrm>
            <a:off x="0" y="-116280"/>
            <a:ext cx="9144000" cy="5455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لحميات أو جذرية الاقدام</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a:t>
            </a:r>
            <a:r>
              <a:rPr b="0" lang="en-US" sz="3200" spc="-1" strike="noStrike">
                <a:solidFill>
                  <a:srgbClr val="000000"/>
                </a:solidFill>
                <a:latin typeface="Arial"/>
              </a:rPr>
              <a:t>Sarcodina Or Rhizopod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أبرز مميزات أفرادها أنها تمتلك أقدام كاذبة أو وهمية تستخدمها في الحركة واقتناص الغذاء مثل</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moeba</a:t>
            </a:r>
            <a:r>
              <a:rPr b="0" i="1" lang="ar-IQ" sz="3200" spc="-1" strike="noStrike">
                <a:solidFill>
                  <a:srgbClr val="000000"/>
                </a:solidFill>
                <a:latin typeface="Arial"/>
              </a:rPr>
              <a:t>, </a:t>
            </a:r>
            <a:r>
              <a:rPr b="0" i="1" lang="en-US" sz="3200" spc="-1" strike="noStrike">
                <a:solidFill>
                  <a:srgbClr val="000000"/>
                </a:solidFill>
                <a:latin typeface="Arial"/>
              </a:rPr>
              <a:t>Entamoeba</a:t>
            </a:r>
            <a:r>
              <a:rPr b="0" i="1"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IQ" sz="3200" spc="-1" strike="noStrike">
                <a:solidFill>
                  <a:srgbClr val="000000"/>
                </a:solidFill>
                <a:latin typeface="Arial"/>
              </a:rPr>
              <a:t>السبوريات</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a:t>
            </a:r>
            <a:r>
              <a:rPr b="0" lang="ar-IQ" sz="3200" spc="-1" strike="noStrike">
                <a:solidFill>
                  <a:srgbClr val="000000"/>
                </a:solidFill>
                <a:latin typeface="Arial"/>
              </a:rPr>
              <a:t>::</a:t>
            </a:r>
            <a:r>
              <a:rPr b="0" lang="en-US" sz="3200" spc="-1" strike="noStrike">
                <a:solidFill>
                  <a:srgbClr val="000000"/>
                </a:solidFill>
                <a:latin typeface="Arial"/>
              </a:rPr>
              <a:t>Sporozo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IQ" sz="3200" spc="-1" strike="noStrike">
                <a:solidFill>
                  <a:srgbClr val="000000"/>
                </a:solidFill>
                <a:latin typeface="Arial"/>
              </a:rPr>
              <a:t>تمتاز أفرادها بامتلاكها سبورات خالية من الخيوط والمحافظ القطبية مثل</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en-US" sz="3200" spc="-1" strike="noStrike">
                <a:solidFill>
                  <a:srgbClr val="000000"/>
                </a:solidFill>
                <a:latin typeface="Arial"/>
              </a:rPr>
              <a:t>Plasmodium </a:t>
            </a:r>
            <a:endParaRPr b="0" lang="en-US" sz="32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
          <p:cNvSpPr/>
          <p:nvPr/>
        </p:nvSpPr>
        <p:spPr>
          <a:xfrm>
            <a:off x="0" y="-541080"/>
            <a:ext cx="9144000" cy="6918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حاملات الاهداب                                                            </a:t>
            </a:r>
            <a:r>
              <a:rPr b="0" lang="ar-IQ" sz="3200" spc="-1" strike="noStrike">
                <a:solidFill>
                  <a:srgbClr val="000000"/>
                </a:solidFill>
                <a:latin typeface="Arial"/>
              </a:rPr>
              <a:t>2</a:t>
            </a:r>
            <a:r>
              <a:rPr b="0" lang="en-US" sz="3200" spc="-1" strike="noStrike">
                <a:solidFill>
                  <a:srgbClr val="000000"/>
                </a:solidFill>
                <a:latin typeface="Arial"/>
              </a:rPr>
              <a:t>.Subphylum</a:t>
            </a:r>
            <a:r>
              <a:rPr b="0" lang="ar-IQ" sz="3200" spc="-1" strike="noStrike">
                <a:solidFill>
                  <a:srgbClr val="000000"/>
                </a:solidFill>
                <a:latin typeface="Arial"/>
              </a:rPr>
              <a:t> : </a:t>
            </a:r>
            <a:r>
              <a:rPr b="0" lang="en-US" sz="3200" spc="-1" strike="noStrike">
                <a:solidFill>
                  <a:srgbClr val="000000"/>
                </a:solidFill>
                <a:latin typeface="Arial"/>
              </a:rPr>
              <a:t>Ciliphor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هد بيات</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 </a:t>
            </a:r>
            <a:r>
              <a:rPr b="0" lang="en-US" sz="3200" spc="-1" strike="noStrike">
                <a:solidFill>
                  <a:srgbClr val="000000"/>
                </a:solidFill>
                <a:latin typeface="Arial"/>
              </a:rPr>
              <a:t>Ciliat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متاز أفرادها باحتفاظها بالأهداب طوال حياتها مثل</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cium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ممصات</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 :: </a:t>
            </a:r>
            <a:r>
              <a:rPr b="0" lang="en-US" sz="3200" spc="-1" strike="noStrike">
                <a:solidFill>
                  <a:srgbClr val="000000"/>
                </a:solidFill>
                <a:latin typeface="Arial"/>
              </a:rPr>
              <a:t>Suctori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متاز بأنها تحمل الاهداب في المراحل الاولى من حياتها وتستبدل عند البلوغ بعدد من المجسات التي قد تكون ثاقبة .مثل</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cineta</a:t>
            </a:r>
            <a:r>
              <a:rPr b="0" i="1" lang="ar-IQ" sz="3200" spc="-1" strike="noStrike">
                <a:solidFill>
                  <a:srgbClr val="000000"/>
                </a:solidFill>
                <a:latin typeface="Arial"/>
              </a:rPr>
              <a:t>  , </a:t>
            </a:r>
            <a:r>
              <a:rPr b="0" i="1" lang="en-US" sz="3200" spc="-1" strike="noStrike">
                <a:solidFill>
                  <a:srgbClr val="000000"/>
                </a:solidFill>
                <a:latin typeface="Arial"/>
              </a:rPr>
              <a:t>Ephelota</a:t>
            </a:r>
            <a:r>
              <a:rPr b="0" i="1" lang="en-US"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
          <p:cNvSpPr/>
          <p:nvPr/>
        </p:nvSpPr>
        <p:spPr>
          <a:xfrm>
            <a:off x="0" y="-668160"/>
            <a:ext cx="9144000" cy="771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3200" spc="-1" strike="noStrike">
                <a:solidFill>
                  <a:srgbClr val="000000"/>
                </a:solidFill>
                <a:latin typeface="Arial"/>
              </a:rPr>
              <a:t>Amoeba</a:t>
            </a:r>
            <a:r>
              <a:rPr b="0" i="1" lang="ar-IQ"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قطن الاميبا المياه العذبة كالبرك والمستنقعات والبحيرات وتفضل المياه الراكدة وتحت أوراق النباتات المائ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اميبا حيوان يتألف جسمه من خلية واحدة تمتاز بالشفافية ولذا فمن الصعب رؤيتها بالعين المجردة ولكنها تظهر تحت المجهر على شكل كتلة شفافة من الهلام الذي يغير شكله بصورة مستمرة يمثل هذا الهلام البروتوبلازم الذي تظهر منه بروزات على شكل أصابع تعرف بالأقدام الوهمية يحيط بالبروتوبلازم غشاء بلازمي رقيق تسمح للبروتوبلازم بالجريان والانسياب بحرية يمكن تمييز منطقتين من البروتوبلازم منطقة خارجية تدعى الاكتوبلازم وداخلية الاندوبلازم</a:t>
            </a:r>
            <a:r>
              <a:rPr b="0" lang="ar-IQ"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
          <p:cNvSpPr/>
          <p:nvPr/>
        </p:nvSpPr>
        <p:spPr>
          <a:xfrm>
            <a:off x="0" y="438480"/>
            <a:ext cx="9144000" cy="44830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وجد في  الاندوبلازم النواة التي تكون كثيفة الصبغة الكروماتينية كما يوجد بالقرب من النواة فجوة شفافة تسمى المتقلصة وعادة توجد في الجزء الخلفي للحيوان وتقوم بالمحافظة على الضغط الازموزي كما يوجد في الاندوبلازم فجوات داكنة الصبغة تسمى الغذائية الحاوية على الغذاء الذي تحتاجه الاميبا ، حيث تحيط الاقدام الكاذبة بالغذاء وتكون الفجوة الغذائية</a:t>
            </a:r>
            <a:r>
              <a:rPr b="0" lang="ar-IQ" sz="3600" spc="-1" strike="noStrike">
                <a:solidFill>
                  <a:srgbClr val="000000"/>
                </a:solidFill>
                <a:latin typeface="Arial"/>
              </a:rPr>
              <a:t> </a:t>
            </a:r>
            <a:r>
              <a:rPr b="0" lang="ar-IQ" sz="3600" spc="-1" strike="noStrike">
                <a:solidFill>
                  <a:srgbClr val="000000"/>
                </a:solidFill>
                <a:latin typeface="Arial"/>
              </a:rPr>
              <a:t>. </a:t>
            </a:r>
            <a:endParaRPr b="0" lang="en-US" sz="36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اميبا</a:t>
            </a:r>
            <a:endParaRPr b="0" lang="en-US" sz="4400" spc="-1" strike="noStrike">
              <a:solidFill>
                <a:srgbClr val="ffff99"/>
              </a:solidFill>
              <a:latin typeface="Arial"/>
            </a:endParaRPr>
          </a:p>
        </p:txBody>
      </p:sp>
      <p:pic>
        <p:nvPicPr>
          <p:cNvPr id="61" name="" descr=""/>
          <p:cNvPicPr/>
          <p:nvPr/>
        </p:nvPicPr>
        <p:blipFill>
          <a:blip r:embed="rId1"/>
          <a:stretch/>
        </p:blipFill>
        <p:spPr>
          <a:xfrm>
            <a:off x="539640" y="2060640"/>
            <a:ext cx="4038840" cy="3849480"/>
          </a:xfrm>
          <a:prstGeom prst="rect">
            <a:avLst/>
          </a:prstGeom>
          <a:ln w="0">
            <a:noFill/>
          </a:ln>
        </p:spPr>
      </p:pic>
      <p:pic>
        <p:nvPicPr>
          <p:cNvPr id="62" name="" descr=""/>
          <p:cNvPicPr/>
          <p:nvPr/>
        </p:nvPicPr>
        <p:blipFill>
          <a:blip r:embed="rId2"/>
          <a:stretch/>
        </p:blipFill>
        <p:spPr>
          <a:xfrm>
            <a:off x="5219640" y="1628640"/>
            <a:ext cx="3673440" cy="453708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3" name=""/>
          <p:cNvSpPr/>
          <p:nvPr/>
        </p:nvSpPr>
        <p:spPr>
          <a:xfrm>
            <a:off x="0" y="-150840"/>
            <a:ext cx="9144000" cy="44830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تكاثر الاميبا بطريقتين الانقسام الثنائي البسيط وهذا يحدث في الظروف الملائمة لتوفر الماء والغذاء والحرارة المناسب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أما الانقسام المضاعف فيحدث في الظروف غير الملائمة حيث تقوم الاميبا بإحاطة جسمها بغلاف سميك ثم تقوم النواة بأنقسامات متتالية وعند توفر الظروف الملائمة يذوب هذا الغلاف ويخرج منه العديد من الاميبات</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4" name=""/>
          <p:cNvSpPr/>
          <p:nvPr/>
        </p:nvSpPr>
        <p:spPr>
          <a:xfrm>
            <a:off x="0" y="-11880"/>
            <a:ext cx="9144000" cy="6616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3200" spc="-1" strike="noStrike">
                <a:solidFill>
                  <a:srgbClr val="000000"/>
                </a:solidFill>
                <a:latin typeface="Arial"/>
              </a:rPr>
              <a:t>Paramecium</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يعيش هذا الكائن بصورة حرة في المياه العذبة وخاصة الراكدة مثل البرك والمستنقعات التي تكثر فيها المواد العضوية المتفسخ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براميسيوم حيوان مجهري كما يمكن رؤيته بالعين المجردة على شكل جسم طويل صغير رمادي أو أبيض اللون ويكون طوله أثر من عرضه أربع مرات تقريبا ً وله شكل مغزلي وتكون مقدمته أثر استدارة من مؤخرته</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يغطي جسم البراميسيوم غلاف يدعى الجليد الحاوي على تراكيب خيطية دقيقة تسمى الاهداب وهي تمثل العضيات الحركية</a:t>
            </a:r>
            <a:r>
              <a:rPr b="0" lang="ar-IQ" sz="3600" spc="-1" strike="noStrike">
                <a:solidFill>
                  <a:srgbClr val="000000"/>
                </a:solidFill>
                <a:latin typeface="Arial"/>
              </a:rPr>
              <a:t> </a:t>
            </a:r>
            <a:endParaRPr b="0" lang="en-US" sz="36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
          <p:cNvSpPr/>
          <p:nvPr/>
        </p:nvSpPr>
        <p:spPr>
          <a:xfrm>
            <a:off x="0" y="-306720"/>
            <a:ext cx="9144000" cy="61290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اهداب عبارة عن إستطالات نحيفة موزعة على سطح الجسم ومرتبة بصفوف طولية لاتتحرك الاهداب سوية بل أن حركة كل هدب تسبق حركة الهدب الذي يليه وهذه العملية تجعل البراميسيوم يتحرك حركة لولبية أو حلزونية حول نفسه ، ويؤثر على الحركة درجة حرارة الماء والحوامض والأملاح الموجودة فيه</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سايتوبلازم يتكون من منطقتين الخارجية هي الاكتوبلازم وهي منطقة  محيطية شفافة تحتوي على تراكيب مغزلية تسمى الاكياس الشعرية ولها وظيفة دفاعية</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6" name=""/>
          <p:cNvSpPr/>
          <p:nvPr/>
        </p:nvSpPr>
        <p:spPr>
          <a:xfrm>
            <a:off x="0" y="-398520"/>
            <a:ext cx="9144000" cy="66776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أما الطبقة الداخلية هي الاندوبلازم الحاوية على العضيات الخلوية وهي الانوية (الكبيرة والصغيرة) الكبيرة أو الخضرية ذات شكل يشبه حبة الفاصوليا وهي مسؤولة عن جميع الافعال الحيوية عدا التكاثر أما الصغيرة وهي نواة تكاثرية تقع في تقعر النواة الكبيرة وهي مسؤولة عن عملية التكاثر</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كما يحوي على الفجوات المتقلصة حيث يوجد عند كل طرف فجوة يحيط بها حزام من الاقنية الشعاعية الدقيقة والطويلة وهي مسؤولة عن طرح الفضلات تسمى الاقنية المساعدة ، الامامية كبيرة والخلفية صغير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
          <p:cNvSpPr/>
          <p:nvPr/>
        </p:nvSpPr>
        <p:spPr>
          <a:xfrm>
            <a:off x="0" y="-132480"/>
            <a:ext cx="9144000" cy="558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هي تلك الحيوانات التي تفتقر الى العمود الفقري وتضم أنواعا ً عديدة يختلف بعضها عن البعض الاخر إختلافا ً كبيرا ً من حيث التركيب الداخلي  والمظهر الخارجي</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ضم اللافقريات شعب المملكة الحيوانية كلها إبتداءا ً بالاوليات (الابتدائيات) وإنتهاءا ً بالحبليات الاول</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إن دراسة اللافقريات ضرورية جدا ً لأنها ذات علاقة مباشرة بحياة الانسان سواءا ً بالفوائد أو الاضرار الناجمة ومنها</a:t>
            </a:r>
            <a:r>
              <a:rPr b="0" lang="ar-IQ" sz="3600" spc="-1" strike="noStrike">
                <a:solidFill>
                  <a:srgbClr val="ffffff"/>
                </a:solidFill>
                <a:latin typeface="Arial"/>
              </a:rPr>
              <a:t> </a:t>
            </a:r>
            <a:r>
              <a:rPr b="0" lang="ar-IQ" sz="3600" spc="-1" strike="noStrike">
                <a:solidFill>
                  <a:srgbClr val="ffffff"/>
                </a:solidFill>
                <a:latin typeface="Arial"/>
              </a:rPr>
              <a:t>: </a:t>
            </a:r>
            <a:endParaRPr b="0" lang="en-US" sz="3600" spc="-1" strike="noStrike">
              <a:solidFill>
                <a:srgbClr val="ffffff"/>
              </a:solidFill>
              <a:latin typeface="Arial"/>
            </a:endParaRPr>
          </a:p>
        </p:txBody>
      </p:sp>
      <p:sp>
        <p:nvSpPr>
          <p:cNvPr id="44" name=""/>
          <p:cNvSpPr/>
          <p:nvPr/>
        </p:nvSpPr>
        <p:spPr>
          <a:xfrm>
            <a:off x="0" y="4627800"/>
            <a:ext cx="9144000" cy="17398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عد مصادر غذائية مهمة في مختلف بلدان العالم مثل الروبيان والسرطان والمحار والقواقع وغيرها .</a:t>
            </a:r>
            <a:endParaRPr b="0" lang="en-US" sz="36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7" name=""/>
          <p:cNvSpPr/>
          <p:nvPr/>
        </p:nvSpPr>
        <p:spPr>
          <a:xfrm>
            <a:off x="0" y="-634320"/>
            <a:ext cx="9144000" cy="558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كما تحوي على الفجوات الغذائية التي تتكون عند دخول الغذاء عن طريق الدهليز الفمي الذي يكون مع القليل من الماء الفجوة الغذائية وتنفصل الفجوة وتتحرك في أنحاء الجسم حيث تتم عملية الهضم والامتصاص للمواد الغذائية الى أن يتم طرح الفضلات عن طريق فتحة المخرج المؤقتة في جدار الجسم</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يتكاثر بالانشطار الثنائي المستعرض في الظروف الملائمة أما الاقتران الثنائي في الظروف غير الملائم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براميسيوم</a:t>
            </a:r>
            <a:endParaRPr b="0" lang="en-US" sz="4400" spc="-1" strike="noStrike">
              <a:solidFill>
                <a:srgbClr val="ffff99"/>
              </a:solidFill>
              <a:latin typeface="Arial"/>
            </a:endParaRPr>
          </a:p>
        </p:txBody>
      </p:sp>
      <p:pic>
        <p:nvPicPr>
          <p:cNvPr id="69" name="" descr=""/>
          <p:cNvPicPr/>
          <p:nvPr/>
        </p:nvPicPr>
        <p:blipFill>
          <a:blip r:embed="rId1"/>
          <a:stretch/>
        </p:blipFill>
        <p:spPr>
          <a:xfrm rot="1177800">
            <a:off x="468000" y="2421000"/>
            <a:ext cx="4038480" cy="2935080"/>
          </a:xfrm>
          <a:prstGeom prst="rect">
            <a:avLst/>
          </a:prstGeom>
          <a:ln w="0">
            <a:noFill/>
          </a:ln>
        </p:spPr>
      </p:pic>
      <p:pic>
        <p:nvPicPr>
          <p:cNvPr id="70" name="" descr=""/>
          <p:cNvPicPr/>
          <p:nvPr/>
        </p:nvPicPr>
        <p:blipFill>
          <a:blip r:embed="rId2"/>
          <a:stretch/>
        </p:blipFill>
        <p:spPr>
          <a:xfrm>
            <a:off x="4427640" y="1484280"/>
            <a:ext cx="4114800" cy="475452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
          <p:cNvSpPr/>
          <p:nvPr/>
        </p:nvSpPr>
        <p:spPr>
          <a:xfrm>
            <a:off x="0" y="-371160"/>
            <a:ext cx="9144000" cy="77749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كما أن بعضها تنتج مواد مفيدة كالعسل والشمع والحرير مثل النحل ودودة القز كما ينتج الاسفنج التجاري من الاسفنج الحقيقي</a:t>
            </a:r>
            <a:r>
              <a:rPr b="0" lang="ar-IQ" sz="3600" spc="-1" strike="noStrike">
                <a:solidFill>
                  <a:srgbClr val="000000"/>
                </a:solidFill>
                <a:latin typeface="Arial"/>
              </a:rPr>
              <a:t> </a:t>
            </a:r>
            <a:r>
              <a:rPr b="0" lang="en-US" sz="3600" spc="-1" strike="noStrike">
                <a:solidFill>
                  <a:srgbClr val="000000"/>
                </a:solidFill>
                <a:latin typeface="Arial"/>
              </a:rPr>
              <a:t>Euspongia</a:t>
            </a:r>
            <a:r>
              <a:rPr b="0" lang="ar-IQ" sz="3600" spc="-1" strike="noStrike">
                <a:solidFill>
                  <a:srgbClr val="000000"/>
                </a:solidFill>
                <a:latin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فائدة ديدان الارض في تفتيت التربة وتقليبها وتهويتها كما أنها تحول المواد العضوية المتفسخة التي تمر عبر قناتها الهضمية الى مواد بسيطة تضاف الى التربة فتزيد من خصوبتها</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قوم الحشرات بعملية التلقيح حيث تنتقل من زهرة الى أخرى بحثا ً عن الرحيق بنقل حبوب اللقاح وهذا بدوره يزيد الانتاج ويؤدي الى تحسينه</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سبب منها أمراض فتاكة للإنسان ولحيواناته منها طفيلي الزحار</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
          <p:cNvSpPr/>
          <p:nvPr/>
        </p:nvSpPr>
        <p:spPr>
          <a:xfrm>
            <a:off x="0" y="57240"/>
            <a:ext cx="9144000" cy="1739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a:t>
            </a:r>
            <a:r>
              <a:rPr b="0" lang="ar-IQ" sz="3600" spc="-1" strike="noStrike">
                <a:solidFill>
                  <a:srgbClr val="000000"/>
                </a:solidFill>
                <a:latin typeface="Arial"/>
              </a:rPr>
              <a:t>بعض أنواعها تعد آفات زراع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عمل بعض اللافقريات مضائف ثانوية لطفيليات مختلفة حيث تكمل دورة الحياة داخلها</a:t>
            </a:r>
            <a:r>
              <a:rPr b="0" lang="ar-IQ" sz="3200" spc="-1" strike="noStrike">
                <a:solidFill>
                  <a:srgbClr val="000000"/>
                </a:solidFill>
                <a:latin typeface="Arial"/>
              </a:rPr>
              <a:t> </a:t>
            </a:r>
            <a:endParaRPr b="0" lang="en-US" sz="32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
          <p:cNvSpPr/>
          <p:nvPr/>
        </p:nvSpPr>
        <p:spPr>
          <a:xfrm>
            <a:off x="2587320" y="3139200"/>
            <a:ext cx="406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endParaRPr b="0" lang="en-US" sz="3200" spc="-1" strike="noStrike">
              <a:solidFill>
                <a:srgbClr val="ffffff"/>
              </a:solidFill>
              <a:latin typeface="Arial"/>
            </a:endParaRPr>
          </a:p>
        </p:txBody>
      </p:sp>
      <p:sp>
        <p:nvSpPr>
          <p:cNvPr id="48" name=""/>
          <p:cNvSpPr/>
          <p:nvPr/>
        </p:nvSpPr>
        <p:spPr>
          <a:xfrm>
            <a:off x="1763640" y="1628640"/>
            <a:ext cx="511344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txBox="1"/>
          <p:nvPr/>
        </p:nvSpPr>
        <p:spPr>
          <a:xfrm>
            <a:off x="755640" y="333360"/>
            <a:ext cx="7345440" cy="2951280"/>
          </a:xfrm>
          <a:prstGeom prst="rect">
            <a:avLst/>
          </a:prstGeom>
        </p:spPr>
        <p:txBody>
          <a:bodyPr wrap="none" lIns="90000" rIns="90000" tIns="46800" bIns="46800" anchor="t" anchorCtr="1">
            <a:prstTxWarp prst="textPlain">
              <a:avLst>
                <a:gd name="adj" fmla="val 50009"/>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9080">
                  <a:solidFill>
                    <a:srgbClr val="99ccff"/>
                  </a:solidFill>
                  <a:miter/>
                </a:ln>
                <a:solidFill>
                  <a:srgbClr val="0066cc"/>
                </a:solidFill>
                <a:effectLst>
                  <a:outerShdw dist="17819" dir="2700000" blurRad="0" rotWithShape="0">
                    <a:srgbClr val="990000"/>
                  </a:outerShdw>
                </a:effectLst>
                <a:latin typeface="Impact"/>
              </a:rPr>
              <a:t>شعبة الابتدائيات</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 name=""/>
          <p:cNvSpPr txBox="1"/>
          <p:nvPr/>
        </p:nvSpPr>
        <p:spPr>
          <a:xfrm>
            <a:off x="1258920" y="3573360"/>
            <a:ext cx="6553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Protozoa </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
          <p:cNvSpPr/>
          <p:nvPr/>
        </p:nvSpPr>
        <p:spPr>
          <a:xfrm>
            <a:off x="0" y="218520"/>
            <a:ext cx="9144000" cy="6616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a:t>
            </a:r>
            <a:r>
              <a:rPr b="0" lang="ar-IQ" sz="3600" spc="-1" strike="noStrike">
                <a:solidFill>
                  <a:srgbClr val="000000"/>
                </a:solidFill>
                <a:latin typeface="Arial"/>
              </a:rPr>
              <a:t>تعد الابتدائيات أكثر الحيوانات بساطة وبدائ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أغلبها صغيرة جدا ً لاترى بالعين المجردة بل تحتاج مجهر لدراسة تركيبها</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 </a:t>
            </a:r>
            <a:r>
              <a:rPr b="0" lang="ar-IQ" sz="3600" spc="-1" strike="noStrike">
                <a:solidFill>
                  <a:srgbClr val="000000"/>
                </a:solidFill>
                <a:latin typeface="Arial"/>
              </a:rPr>
              <a:t>تدعى بالحيوانات اللاخلوية لأن أجسامها غير مقسمة الى خلايا كما تسمى أحادية الخلية لأن أجسامها تتكون من خلية واحدة فقط والتي تؤدي جميع الافعال الحيو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عيش إما بهيئة منفردة أو قد تشكل مستعمرات وتكون أفرادها متشابهة تقريبا ً ومستقل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تناظر فيها مختلف إختلافا ً كبيرا ً فقد يكون جانبيا ً ، شعاعيا ً أو معدوما</a:t>
            </a:r>
            <a:r>
              <a:rPr b="0" lang="ar-IQ" sz="3600" spc="-1" strike="noStrike">
                <a:solidFill>
                  <a:srgbClr val="000000"/>
                </a:solidFill>
                <a:latin typeface="Arial"/>
              </a:rPr>
              <a:t> ً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a:t>
            </a:r>
            <a:endParaRPr b="0" lang="en-US" sz="32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
          <p:cNvSpPr/>
          <p:nvPr/>
        </p:nvSpPr>
        <p:spPr>
          <a:xfrm>
            <a:off x="0" y="600840"/>
            <a:ext cx="9144000" cy="61290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أشكالها مختلفة جدا ً فمنها الكروي ، البيضوي ، البوقي ، القرصي ، الطويل ، الملتوي ، الناقوسي ، الاسطواني ، المغزلي ...الخ وقد لايمتلك بعضها شكلا ً ثابتا ً بل يتغير باستمرار</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أجسامها مقسمة الى طبقة بروتوبلازمية خارجية وأخرى داخلية وتحاط الخارجية بغشاء خلوي رقيق أو يحاط بالجليد</a:t>
            </a:r>
            <a:r>
              <a:rPr b="0" lang="ar-IQ" sz="3600" spc="-1" strike="noStrike">
                <a:solidFill>
                  <a:srgbClr val="000000"/>
                </a:solidFill>
                <a:latin typeface="Arial"/>
              </a:rPr>
              <a:t> </a:t>
            </a:r>
            <a:r>
              <a:rPr b="0" lang="en-US" sz="3600" spc="-1" strike="noStrike">
                <a:solidFill>
                  <a:srgbClr val="000000"/>
                </a:solidFill>
                <a:latin typeface="Arial"/>
              </a:rPr>
              <a:t>Pellicle</a:t>
            </a:r>
            <a:r>
              <a:rPr b="0" lang="ar-IQ" sz="3600" spc="-1" strike="noStrike">
                <a:solidFill>
                  <a:srgbClr val="000000"/>
                </a:solidFill>
                <a:latin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معظم الابتدائيات عارية وبعضها مغطى بقشور أو قد تمتلك هياكل داخلية أحيانا</a:t>
            </a:r>
            <a:r>
              <a:rPr b="0" lang="ar-IQ" sz="3600" spc="-1" strike="noStrike">
                <a:solidFill>
                  <a:srgbClr val="000000"/>
                </a:solidFill>
                <a:latin typeface="Arial"/>
              </a:rPr>
              <a:t> ً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قطن الابتدائيات مختلف البيئات فمنها مايعيش في المياه العذبة أو البحرية أو الترب الرطبة</a:t>
            </a:r>
            <a:r>
              <a:rPr b="0" lang="ar-IQ" sz="3200" spc="-1" strike="noStrike">
                <a:solidFill>
                  <a:srgbClr val="000000"/>
                </a:solidFill>
                <a:latin typeface="Arial"/>
              </a:rPr>
              <a:t> </a:t>
            </a:r>
            <a:r>
              <a:rPr b="0" lang="ar-IQ" sz="3200" spc="-1" strike="noStrike">
                <a:solidFill>
                  <a:srgbClr val="000000"/>
                </a:solidFill>
                <a:latin typeface="Arial"/>
              </a:rPr>
              <a:t>.</a:t>
            </a:r>
            <a:endParaRPr b="0" lang="en-US" sz="32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
          <p:cNvSpPr/>
          <p:nvPr/>
        </p:nvSpPr>
        <p:spPr>
          <a:xfrm>
            <a:off x="0" y="-323640"/>
            <a:ext cx="9144000" cy="7226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تغذية فيها متباينة فمنها مايتغذى بالطريقة الحيوانية وبعضها بالطريقة النباتية وبعضها الآخر بالطريقة الرمية أو بطريقة طفيلية أو بطريقة مختلطة</a:t>
            </a:r>
            <a:r>
              <a:rPr b="0" lang="ar-IQ" sz="3600" spc="-1" strike="noStrike">
                <a:solidFill>
                  <a:srgbClr val="000000"/>
                </a:solidFill>
                <a:latin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يحدث الهضم داخل الخلايا وضمن الفجوات الغذائية</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تنفس بطريقة الانتشار من خلال السطح العام للخل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ابراز إما عن طريق عضيات منظمة للضغط الازموزي كالفجوات المتقلصة التي تقوم بالتخلص من الماء الزائد والفضلات النتروجينية السائلة وطرحها خارج الجسم ، أو قد يحدث بطريقة الانتشار من خلال السطح العام للخل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
          <p:cNvSpPr/>
          <p:nvPr/>
        </p:nvSpPr>
        <p:spPr>
          <a:xfrm>
            <a:off x="0" y="-351720"/>
            <a:ext cx="9144000" cy="558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اوالي تتحرك بواسطة عضيات حركية قد تكون أقدام وهمية أو أسواط أو أهداب أو عديمة العضيات الحركية ، وهذه العضيات تلعب دور مهم في تصنيف الشعب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تكاثر بالطريقتين الجنسية واللاجنسية تضم اللاجنسية التي تتكاثر بها جميع الاوالي أربعة طرائق الانقسام الثنائي البسيط والانقسام المضاعف وتضم والتبرعم و الانقسام السايتوبلازمي الجنسية نمطين هما الاخصاب المتبادل والاقتران</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13:21:53Z</dcterms:created>
  <dc:creator>rafal</dc:creator>
  <dc:description/>
  <dc:language>en-US</dc:language>
  <cp:lastModifiedBy>rafal</cp:lastModifiedBy>
  <dcterms:modified xsi:type="dcterms:W3CDTF">2012-10-06T11:24:08Z</dcterms:modified>
  <cp:revision>26</cp:revision>
  <dc:subject/>
  <dc:title>الشريحة 1</dc:title>
</cp:coreProperties>
</file>