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0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dt" idx="91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ftr" idx="92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 type="sldNum" idx="93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9EAB-CADD-4020-8904-E81CB55E5F0C}" type="slidenum">
              <a:rPr b="0" lang="ar-IQ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E46E-0B23-495F-8F1E-72488215DCD7}" type="slidenum">
              <a:rPr b="0" lang="ar-IQ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3A4-3C16-48EF-A864-9C21FDB4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0BA-988C-4895-B21B-B1100D49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D8C89-4821-4964-B2E7-31C0440B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357FE-6CFA-4F53-8AF9-48CEC669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5722D-3A86-4CCA-BA80-E49292C5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C4373-9291-4173-A56C-D7092212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129E1-D4CE-4BD8-91D8-FDBAAA6E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EF245-8FD3-4D96-8C83-966FDEC8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A1116-4A71-46C3-9772-8197A507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DEA7D-AE4B-42F3-8C02-3D7E45FC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6D51D-2BD9-4271-8842-BC160059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8B3CD-70A1-49A8-B0D0-5C21E4C9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20B-86A6-49AA-85E3-4C0FC8DE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1F598-B63F-4DB3-9B64-AD992A81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24DA1-AEEA-41BD-AD62-55EBB9BD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B6461-AB7A-4D51-800F-FABC40B9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9BE2B-AF30-47E1-93E1-988EDBA9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22530-411B-4C47-B7BB-2991AB65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E556B-9BCA-4FCF-A8A0-E2FE7075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EA94F-E2AD-4650-AA73-368D59A5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5CC56-87CB-410E-B8CD-6DCA0ABF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3F138-040A-42BD-8B08-FC04A7FC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08F1B-566F-4868-BC79-FF8C5C43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297-F8C8-4754-ACA1-2AE54EBF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D8225-D832-4D90-B104-32D66426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C99C8-6843-4C44-AB18-75D6DECA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6B70E-4548-4A0C-B9DF-45855079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3AF3F-1B51-4A6F-B151-46A2F46F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C4D67-9916-4BFF-9509-27FE269D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9B685-4C0F-4B37-9546-89A9BE37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E1F94-2A00-4801-AFCD-5F0BCA92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C7F91-14A7-4942-B157-275ED03F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9ED4D-4BAE-4999-9E16-66D6E080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B6399-5C1F-4A8D-8C7E-E23406C5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11AD-EFBE-40F5-A6F0-D031EBBE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A69FA-D9CA-4D1A-BC7A-77608ABB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6696B-2E9C-4964-8933-2969206E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F878C-0623-4125-A0E8-C9598694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D24AF-ECE2-4A67-B15F-48E3A65F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FE678-E7F5-4DBA-B038-5767C2C9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8D621-1D0F-4A6E-A055-A1F822CE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F114F-0818-47FE-9037-6FBF3A11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29DAF-0AC4-473B-BDE8-ACA2931F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77A2E-5E97-439E-8C3F-C5627B20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A21F5-22FB-446D-B1EA-1C8D7044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13EB-F26D-4FA0-AB40-C73EAC31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E2BDC-864E-40F5-83D1-0D845EFB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D6B52-8881-4742-8D54-03F7D63F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CB354-DC7C-40D7-9AA5-46AAD0D8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417A9-C328-42A7-A7BA-F514D349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7499A-5E40-4F55-9D58-34B32C26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33AF5-52DE-4724-AEB2-3940C047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2B60A-ABAC-4AA4-B7A8-F6D69303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C6C40-73AC-41A9-BC50-CD39010F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385FE-2A4B-4322-A1F8-D1B92EF7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E7011-588F-4DD1-B5F1-09A09D13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40B5-C11A-4133-BC31-C9F28137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9EA93-3929-4029-B581-35BCAB43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66487-A9D2-4ECD-96D4-9AC988FE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2EEA0-BFFE-4452-9213-B843E57C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78491-5CA6-4BD7-A7CD-D8CC35A1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9D641-1EF2-473F-AC49-93B3C193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81B05-ABCF-4D53-94FF-7858D76B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FA08F-7458-46A2-99FE-1B51D391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5AC33F-ED97-4A6E-B4D6-F663CB10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24A5B-2AEF-4A88-98AC-69DB01D8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842940-FAE1-4C13-BEC5-D5186D09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41CE-F69F-411E-9F30-E0E991ED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C6A7C-F78D-4EC7-B328-1CA66AB5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482BC4-21E0-488A-8293-109779EC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26E88F-5034-4084-A057-9D051B7A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798F4-AEAB-43C2-8DBD-1D20AAD9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9DD2F5-5249-45DD-ABA5-1B797C3C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CE1B3-8189-4056-82D7-63955B3D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27E50-59B6-4778-BE0E-CC610DA0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D8AA0C-06BF-4E78-AD47-AB9B1503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BCA40-1B3D-456D-A20D-64E05DBC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E7EFD-B163-4432-B54B-6B00F0E4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EAF8-3E37-46CC-8317-AC3F60D7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8638B5-F7AD-4268-B007-0C8BEB3A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15CC0-016E-4CDF-9972-BF380A58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A482CB-2428-41D0-B715-A4F15F9F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E3F846-3554-4F95-97DA-D503F0E1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01ACA-D119-45E5-AF20-8B6E5741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D0242-82DA-4989-BAB3-337FC0FF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D38C59-C652-4776-B568-91B2F996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7E472-F794-4C79-B48A-36B2D4AD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35451A-7376-4504-8518-A544BE61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DA8617-2A2A-457A-9FBE-9427AAAA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0BF1-C1A0-40CB-98AB-0FD21A56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228B59-0F11-4D66-AC94-FB2B85A8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12FD76-4C1F-4692-BAFB-FFBC36DA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0A117B-7CBF-4849-AA80-0E93E9C5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48698A-0A75-43E8-BC8F-95A2DB7F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527706-7AAF-4EB7-9C9F-83E315FB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099E50-1FAE-4B38-B806-C7E76587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A431E7-6720-4258-9B99-32773A90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27986F-E082-4ABC-A23C-456AB685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261F21-0EE4-4D14-BE16-077433EF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2BF69D-20E5-4859-A9CE-C0C7F78C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1037-F3C6-4A47-9EF4-A304DDE1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7675C9-10B4-4343-BA20-F08D0063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9EFE19-A3FD-4D66-AB60-8730DC26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E6C66-DF88-4B4B-BBB1-EDEBFF19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2327DC-C2B7-43F1-8165-2272B2E0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3F6140-AA2B-4155-B63D-38F50A78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94E134-7286-4A35-8547-E25A9A91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50CB83-B321-4568-8FBF-04EEC14D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BE8549-79B8-4B5D-87AC-4FB3B4CB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9F5736-CB17-4887-A2C8-FE754174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E6C6AD-E6E9-48B2-8DD0-084B115D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35D-C147-43F2-A591-6908AEB2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0C83-365E-4F75-82BE-40EFB696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BEDEFF-1B49-4AC1-8DDB-B8BB0858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05B5A5-2DCA-4B8C-969A-1C842341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7C867A-E7A8-480B-B868-D3311468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0EC6A-635F-475E-9F7C-DD7ACB07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E7319A-CCAC-49FB-9052-9EEF9C72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96E75C-3835-4AA1-91FC-0F172626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9CD308-6072-427C-BAA0-808EE423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EF3BFE-85C9-431C-A138-B841308C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9E3714-CDC7-4E30-8FF2-1FB90710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184276-DD00-4F42-96FB-44BD4D65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9C7A-D02D-4EA1-B01B-18E946B6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789E3A-69F1-4E0D-BB17-FE3D8216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3439C5-2FD4-4FE6-A000-165CFC27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64D731-F19F-41C2-88DF-7D3B5F83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F3DBB-A91A-4AF6-A90A-AD15D488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CEA70-098B-48E7-849C-5C91450D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4CED58-E2F8-416C-9396-A8669755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C5EF1-2E2C-40CD-9F84-474CB05D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92FE69-BD70-429E-850A-1918EB46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9760D0-3FCB-4C23-B38D-8DB8155E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E0A1A-57E1-4ECA-8FED-493E2969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B48F-19D2-4EE8-A157-9DE09E36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F6FD40-5E05-44B0-9482-83EDE780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63FCD0-D8B2-4AEF-9827-B4229651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3FF689-9F4F-4867-AE15-53EB5E4B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8C0727-947B-4C39-B23F-5FC705A4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F92F1D-56EF-4212-A1A5-8642236C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CC0E28-5CC7-4B55-8E51-84199F67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E85938-6394-4D23-9BE5-54A5CFEB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22FB4E-73F8-442D-A767-7372A800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AE21C-253D-4316-922C-5F06DA93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1A0E32-C5FA-47E7-B09B-A99968F6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9F0A-55FC-45E2-AF13-84DF028E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1C5660-2E05-4CFD-8DB8-B70D4CD1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076AE7-1C8F-476B-ABB4-D72B322E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6A2203-5700-4A37-9141-1869FD56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72A076-3295-4199-ADC4-8F63C335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3FA14E-8900-4702-91E9-6F8BA5B8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A763F3-8BA6-44AB-9ABF-2E63829E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A1CF26-A646-4293-98C3-19EF936F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BB17E6-BF6E-4BBF-923A-016EFB7A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E5023C-C6C2-42FB-83A1-B5BEE77A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6461C6-C51C-45B5-B642-11A23505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E38E-CD9F-4AF5-A069-53F93AE1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40A2A5-B09C-44B4-8E86-93059EB3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05A45A-F0CA-41E9-8475-39FBFBB4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688EE7-3237-4187-B6A2-EE75E803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B3534B-56DE-49B4-9EA8-CCC7518B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3826CC-09FE-43DA-A90F-4E89587C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762F02-C62C-4DEE-8ED6-B1499C3E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415DA7-AABE-4D5E-9A71-CB037357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870834-357C-44C4-B7C8-FB9A1400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B89336-4614-49D3-A7EC-9C3CE9AC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7A5A6E-9A30-4F8E-BFE6-4DC8E2BD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51718-19FA-460A-AB06-934BEFC3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FF2295-46A9-45D2-93A9-29BDBFCA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C3F6D6-E89A-4A6E-A45B-1B732CFA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7424E8-6275-4491-B56C-F325C9DF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0063E0-DECB-4C91-832C-047CA9A9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F265FE-5676-45FA-BC00-87E4291A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09685B-926A-40EC-9115-CA1D3E48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09DEB4-89B4-4B9C-9CDD-420FBBDC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0C3AD3-02C7-4337-9F0A-81EF662C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81ABEC-143F-40AB-B767-D15E002F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089012-AF2F-4636-AA81-20047FC2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A478-02D9-4DB8-83EC-5AFE0EFA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BF883B-BF48-4819-8C7D-3ABC3159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F51469-93FA-4654-B9A4-60E29802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487DCF-F093-4154-A0F7-1231F416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5803D7-34BA-4B3E-80B7-F492EC85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CD4443-3A8F-498F-A5DC-B1F83C42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C8C1B9-E500-4A46-8F55-5C351176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930912-DE1C-4098-891F-B8FDBA2E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8306AF-C00F-4DC8-839A-CD0942D1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431262-2753-42B3-BC89-E6548BB5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969902-3A1B-47E9-8471-C96A5EAE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BE4D9-D864-4562-99D5-1D4B0F9E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E4F1BB-99EC-49C0-9846-A4263054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1CC791-A6C0-4304-8B5F-3A73FB6B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6A7BDE-82F3-4AFC-9154-31950E4A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7F56C7-310B-4444-8790-566B234B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15AC5F-6F1A-47DD-881A-B1A592B0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DE80FD-8C79-4565-B942-B92B7C40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63525A-40D3-4772-AA27-52C544AC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42CA9E-BF5B-4BE8-BB41-A2FAF065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86B90F-F521-4355-814E-C316EB0A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69FACA-343F-40D5-9DD6-8B51F428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253F8-DE0B-4408-9C7C-D4F235F7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7ACA1A-24CA-4AF1-A498-61296424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F9DA52-DB22-49D0-A50E-9F4430F5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D35045-0F12-4432-8B72-A04656AC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562ED4-B661-41D0-B3C8-29F21382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C1CE5F-5A55-4150-AE49-46861B08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D649CD-0D01-46C6-A97B-0994AA9D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A86783-3E22-460F-8ED1-2CF75364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C76881-AA92-4638-83B0-034B86FF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695E0C-F884-4FE4-B7A3-8E7437DA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0744C9-E874-4C73-B111-FC8FD298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D2E3F-4227-4136-8009-0B1A162E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117D45-10F0-43AA-8054-CCA0122A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DD2631-0835-4D04-BA91-4E09F011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8CB036-758D-41A6-A542-47791393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615191-BE4A-4D29-B781-340B7B4E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3C3C55-49F4-4835-B7B2-9EBD54C0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E15626-3E74-48F3-9045-08FC9D47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9A82D9-B884-4128-83D7-3231057A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665F15-776A-4CA7-8E8D-8AFF84FC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926BF1-2D83-44B1-9905-0E59586F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DE13A0-E410-4FBE-A99E-423D6132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B5C-4EA7-41B6-B53E-10286ED2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FB1FB-8F32-4883-A38B-5767536D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1AFF53-E58F-4CAF-81C8-75BA9155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AD4715-3AE8-487E-AFFC-302ADA6B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D88A33-A11C-4F90-8FAA-4607AAC7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6B3724-F850-40E5-80EA-CB0E6A57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DE8762-0CDF-434B-A7A1-6D38FCEE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85E234-621E-4813-8423-3749968A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F857DD-7FB6-4B8B-87CE-2176D166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001A94-70EE-4F7F-B84B-51599513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AEFDA8-EFCE-4E4D-B7E7-C72E82D2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F74425-C432-4032-BE9F-BBD450B4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E5420-DC4D-45E6-A0A0-8C9215BF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BBCFD4-6B35-4814-B892-CF15A11D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21C05C-40B1-4D2F-B95D-A005EF36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15B495-0D2B-4676-9527-432D3CCF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41664B-41D1-47F5-AD61-51C7A97A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8092B6-2B3D-4B39-BE16-79B23DCB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11DB76-7E71-4FEF-AD21-AA4E1E42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39157F-073E-4385-8061-BE43F09A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7B6F17-7CAE-406C-967A-476AF37D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A09C47-77D6-49EE-9739-D41D9066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4D0FBB-AFF2-44B3-BEFD-348AAE16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BB14F-C88C-445A-AFF5-ADB2A3ED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4AD314-6762-443C-BBEE-816B2DA3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B3D3A0-71A6-4E67-A8B0-7B2FDF9E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39F4FA-CC78-472C-A704-2DE762A0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B2EC63-34C4-479D-9D22-1A30F470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7FA3E5-9FBA-4BE9-B8D7-56DAA051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E68D3C-DDD3-4FC6-947B-D52CF4D7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155891-F969-4350-BB21-2DDE0F37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669EC2-8378-4B0F-8413-CD759D06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0D720C-A496-427A-ACB4-F89FDB5A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4724CE-4B4F-4324-99CD-AFD01B3F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6B74-26C4-4C0F-8C2F-A743877F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8724BD-5B6B-400B-8EB1-3D94015F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BB7471-0A5C-4CDA-894C-56F81424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5405B3-6003-4970-96C7-D1CF5120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B7039E-019F-4A15-900D-065733BF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6D6780-9490-4A0E-9071-523C01AC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80694B-0238-48A1-B10F-4003D4F1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0BB16C-04E9-4F3A-AFE3-1421EB4E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EE6BCA-4F12-4BF6-ABC6-06041BEC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5B7445-4E58-4AD7-AEAB-60866912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C16C07-8D0D-43DF-A798-82D40AD9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4243F-E64B-42AB-A9CF-D84758B4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A987D7-620B-4BDD-A8C7-094C6C24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F86A8B-75F5-4DB7-993E-C2E7DF58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82D63D-DE35-461B-A57C-06DA8425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712141-D989-4E26-8293-34FAC42F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855AA4-F466-4CC7-89E9-919E2E06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B114CF-79A3-4147-BDBE-E4B6A76F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94BC81-BE16-432C-AC8E-A060524C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14D35B-9C09-4F5B-9A2A-EE1B4B79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D2C91B-9659-4D5D-93DB-0ACC2D42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814D09-8FF8-42C0-A388-481882E7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149CA-2D31-4786-B31F-48DE9DE7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EDCA91-B285-45AC-B044-3312C24B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03877E-5DAA-4535-A592-9305093F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6B966A-FC50-4C77-AC2D-269AEADF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A3B842-F606-4099-8FBB-4CB1B16C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0CE5D9-A8C4-4E60-89C3-8C1B455D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683E4F-9C4B-4F74-95DB-81FD32B2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033ECA-2828-4107-B9B0-4A028C6D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FBEE16-D25D-4196-B123-7C06018D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17CAAD-00A6-439F-9C27-2FD1938B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850B9E-885B-4664-961D-D085A5F3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F373B-F2DE-4D08-9FA1-57FD3421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B9F191-2547-44A7-BBBA-FD83E3D9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A25D1-DA3E-4507-98C8-296EC633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11F4E-2237-4DDC-B3B8-408B2576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B0C4A-5A09-4D59-BEB3-A252E32C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85C-8188-4B50-9B01-4EE79146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6A6D2-7385-49CF-8CD0-8B342386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F5D6B-A2FC-4751-BCD9-8F5CF1BA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48165-B344-417D-9A73-B215E630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9D42-7B63-468C-AF64-21A7C8CD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F8B9B-6CD5-4F3E-8A5D-DCD44192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4B3AF-7894-4BDA-B3A5-4AD6FD03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145E7-DCD7-468F-B2AE-6363060D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CC5D9-3322-4836-82D4-5E6443C7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9AD3E-E105-49A1-A13B-C7A619C4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643E8-875B-4D16-A7E5-855AE410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859-B171-497A-AC7A-CD015496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A2A79-F945-4F33-B006-A344BC30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44D2B-479B-4BBE-B0CB-A33FA49F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2FC46-48D9-4051-9D91-ACADA294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97736-4F60-4A13-B51F-254628C1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6BFD8-12DA-4DBF-8AF7-ECFCAB8A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73E0B-BA8F-417B-91D4-7F0A1349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B557E-146E-4BD3-8D68-622DF47E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E26D3-E28E-4CBA-B6B4-39D7D0FC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08BD8-0F94-494E-9043-94017BF8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0E04F-B1C5-4C20-8BDE-EB402CCA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584-1C36-4EC6-A5D4-B9B629B5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B0A68-FB70-4D75-9ACA-6258ADE0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5608A-3530-4DFF-A1D8-C708FBC5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12E3F-EF33-4F8D-B641-70210FD4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7DB41-B3B0-4DA3-9E11-EB4D00FD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B4E61-BC13-4253-9E69-16D100A0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283C2-49FE-40EB-8322-FF0E6E2B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5D818-0353-4CE8-83AF-ECB82E2A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C9B93-FD49-405E-A141-E353C055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916B1-0642-4A12-8F4E-CF1A923E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D41E9-4EC1-4B97-B63F-EE046F79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CFF-5FEA-4666-9598-36A94553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6C7B4-0C9D-42A1-BA36-25FB1C96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ED1DA-52EA-4EF6-9C54-8DE61CFD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7F513-DFA4-4FDF-93E5-17889E1F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D6F46-2D68-462C-8679-914705A0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6CAB8-D19D-4877-89B2-253C1772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14A77-98CC-4E0D-9221-1D35FA9D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07299-8252-4AE8-AE19-FA6AAEF6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09E63-A938-4F97-AF35-8E052709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33B51-D8A7-4C8F-973C-A5573E94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B0160-8305-4188-A6A0-3F776981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6F2-CEF2-4845-83DE-8988AFA1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05F88-80CB-42C1-BEBA-21C80B25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D9984-17BD-443D-B3D7-E0A60ADC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1D8E5-2898-41BD-AEB8-F5C5F6F5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D7686-A4D0-432F-A59E-71FAA57C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4553A-9963-473D-9CD5-6E0B0C99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8FF0F-C5FA-4F0A-A16D-C9D62E54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2F681-680C-4AE6-AFA1-465F4A35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9AB7A-C8E8-402F-8539-E98CC478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1F791-181E-4495-828A-5724672A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D249B-D149-4311-9277-4264D990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978-1DFD-4F3E-A864-9D39719B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69A2F-69C9-4A5D-9C44-9D5CFB27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64C3B-192C-4F3E-AEBB-0D24B32E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6E455-0F19-49C0-ACFB-417A5CDB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794CF-ACDF-443C-8C4E-2E05274E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9AC5F-2AF6-418D-9A51-13194151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974E7-0814-40AB-AC4D-C1FA683E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A34B1-DA51-4975-A852-2CD7B798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FDC89-52AD-489C-B836-12BD051D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135BA-551F-47E4-84F8-8FB6EDCF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89DBE-0DC1-4A31-94E4-D4366724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37.xml"/><Relationship Id="rId8" Type="http://schemas.openxmlformats.org/officeDocument/2006/relationships/slideLayout" Target="../slideLayouts/slideLayout338.xml"/><Relationship Id="rId9" Type="http://schemas.openxmlformats.org/officeDocument/2006/relationships/slideLayout" Target="../slideLayouts/slideLayout339.xml"/><Relationship Id="rId10" Type="http://schemas.openxmlformats.org/officeDocument/2006/relationships/slideLayout" Target="../slideLayouts/slideLayout340.xml"/><Relationship Id="rId11" Type="http://schemas.openxmlformats.org/officeDocument/2006/relationships/slideLayout" Target="../slideLayouts/slideLayout341.xml"/><Relationship Id="rId12" Type="http://schemas.openxmlformats.org/officeDocument/2006/relationships/slideLayout" Target="../slideLayouts/slideLayout342.xml"/><Relationship Id="rId13" Type="http://schemas.openxmlformats.org/officeDocument/2006/relationships/slideLayout" Target="../slideLayouts/slideLayout343.xml"/><Relationship Id="rId14" Type="http://schemas.openxmlformats.org/officeDocument/2006/relationships/slideLayout" Target="../slideLayouts/slideLayout344.xml"/><Relationship Id="rId15" Type="http://schemas.openxmlformats.org/officeDocument/2006/relationships/slideLayout" Target="../slideLayouts/slideLayout345.xml"/><Relationship Id="rId16" Type="http://schemas.openxmlformats.org/officeDocument/2006/relationships/slideLayout" Target="../slideLayouts/slideLayout346.xml"/><Relationship Id="rId17" Type="http://schemas.openxmlformats.org/officeDocument/2006/relationships/slideLayout" Target="../slideLayouts/slideLayout347.xml"/><Relationship Id="rId18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49.xml"/><Relationship Id="rId8" Type="http://schemas.openxmlformats.org/officeDocument/2006/relationships/slideLayout" Target="../slideLayouts/slideLayout350.xml"/><Relationship Id="rId9" Type="http://schemas.openxmlformats.org/officeDocument/2006/relationships/slideLayout" Target="../slideLayouts/slideLayout351.xml"/><Relationship Id="rId10" Type="http://schemas.openxmlformats.org/officeDocument/2006/relationships/slideLayout" Target="../slideLayouts/slideLayout352.xml"/><Relationship Id="rId11" Type="http://schemas.openxmlformats.org/officeDocument/2006/relationships/slideLayout" Target="../slideLayouts/slideLayout353.xml"/><Relationship Id="rId12" Type="http://schemas.openxmlformats.org/officeDocument/2006/relationships/slideLayout" Target="../slideLayouts/slideLayout354.xml"/><Relationship Id="rId13" Type="http://schemas.openxmlformats.org/officeDocument/2006/relationships/slideLayout" Target="../slideLayouts/slideLayout355.xml"/><Relationship Id="rId14" Type="http://schemas.openxmlformats.org/officeDocument/2006/relationships/slideLayout" Target="../slideLayouts/slideLayout356.xml"/><Relationship Id="rId15" Type="http://schemas.openxmlformats.org/officeDocument/2006/relationships/slideLayout" Target="../slideLayouts/slideLayout357.xml"/><Relationship Id="rId16" Type="http://schemas.openxmlformats.org/officeDocument/2006/relationships/slideLayout" Target="../slideLayouts/slideLayout358.xml"/><Relationship Id="rId17" Type="http://schemas.openxmlformats.org/officeDocument/2006/relationships/slideLayout" Target="../slideLayouts/slideLayout359.xml"/><Relationship Id="rId18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A969-8DD5-4524-89EE-BA8FFA3D0F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966C-8B19-447C-87BC-2E01526C0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619C-A744-4E38-A4F5-A478FC725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1516-1427-4A9E-B194-118651A41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72DE-F9A5-45FC-A96B-AE31318DF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A95B-BE93-410E-B758-4125908F1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563E-2593-43BF-A200-C8B39F7E1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41B4-D4B7-4752-AB59-08B70CA55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E903-CE10-4080-B928-9DBEEC837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B2DA-59B0-41B8-8C2C-7CEA7ECF0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DC13-E8BB-4231-8A57-2BA3F9424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043F-D2C6-4859-91CD-F3F44A7A6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4171-0763-4A54-9B34-5F858C635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3E41-531E-4EFA-9547-78BB5BFB0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2B26-0564-41DD-BE26-11A38E579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B7D1-83F9-415F-AB58-49C5617DB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A028-E5D0-488E-A36F-C0F4BFD60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6DF2-45A2-428E-9886-5BA5D3E27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6802-9033-48BC-A646-BCFCE7BB5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9BAC-E23C-4DE6-826A-EC851E242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8ED3-EAF3-4A40-9354-285C3452A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0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4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 type="dt" idx="8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F2D0-F6D6-4409-ABAE-B786F28A52D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7"/>
    <p:sldLayoutId id="2147484014" r:id="rId8"/>
    <p:sldLayoutId id="2147484015" r:id="rId9"/>
    <p:sldLayoutId id="2147484016" r:id="rId10"/>
    <p:sldLayoutId id="2147484017" r:id="rId11"/>
    <p:sldLayoutId id="2147484018" r:id="rId12"/>
    <p:sldLayoutId id="2147484019" r:id="rId13"/>
    <p:sldLayoutId id="2147484020" r:id="rId14"/>
    <p:sldLayoutId id="2147484021" r:id="rId15"/>
    <p:sldLayoutId id="2147484022" r:id="rId16"/>
    <p:sldLayoutId id="2147484023" r:id="rId17"/>
    <p:sldLayoutId id="2147484024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BCD9-5C28-48A0-8C30-26BF648D8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9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42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8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F5A0-CFF5-4A10-B856-42EDEC9E895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7"/>
    <p:sldLayoutId id="2147484027" r:id="rId8"/>
    <p:sldLayoutId id="2147484028" r:id="rId9"/>
    <p:sldLayoutId id="2147484029" r:id="rId10"/>
    <p:sldLayoutId id="2147484030" r:id="rId11"/>
    <p:sldLayoutId id="2147484031" r:id="rId12"/>
    <p:sldLayoutId id="2147484032" r:id="rId13"/>
    <p:sldLayoutId id="2147484033" r:id="rId14"/>
    <p:sldLayoutId id="2147484034" r:id="rId15"/>
    <p:sldLayoutId id="2147484035" r:id="rId16"/>
    <p:sldLayoutId id="2147484036" r:id="rId17"/>
    <p:sldLayoutId id="2147484037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825A-7CF7-4EEF-8275-4330ACFD4E9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C12D-7C23-4EBF-B42C-14D8BFD2026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2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6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153C-8EAF-460B-A1C3-F5FF49754C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61B6-DAF6-4B42-8E32-D8471C07F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9A8D-52C2-4325-99D1-0166FF76E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35C7-3410-4479-A89D-6D46D6096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rlc.dcccd.edu/mathsci/reynolds/micro/lab_manual/Litmsmk.jpg&amp;imgrefurl=http://www.rlc.dcccd.edu/mathsci/reynolds/micro/lab_manual/litmus_milk.html&amp;h=171&amp;w=168&amp;sz=7&amp;hl=en&amp;start=15&amp;tbnid=FhT_hEMDEmq5-M:&amp;tbnh=100&amp;tbnw=98&amp;prev=/images%3Fq%3DLitmus%2Bmilk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ostri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Gram posi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ight or slightly curved rods with slightly rounded e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erobic bacill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e bear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e do not germinate and growth does not normally proceed unless a suitably low redo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prophy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are commensals of the animal &amp; human gut which invade the blood and tissue when host die and initiate the decomposition of the corpse (dead bod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s diseases such a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gas gangre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etan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otuli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seudo-membranous colit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producing toxins which attack the neurons pathway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agler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8" name="Picture 4" descr="A Nagler plate "/>
          <p:cNvPicPr/>
          <p:nvPr/>
        </p:nvPicPr>
        <p:blipFill>
          <a:blip r:embed="rId1"/>
          <a:stretch/>
        </p:blipFill>
        <p:spPr>
          <a:xfrm>
            <a:off x="684360" y="2276640"/>
            <a:ext cx="3867120" cy="2828880"/>
          </a:xfrm>
          <a:prstGeom prst="rect">
            <a:avLst/>
          </a:prstGeom>
          <a:ln w="0">
            <a:noFill/>
          </a:ln>
        </p:spPr>
      </p:pic>
      <p:pic>
        <p:nvPicPr>
          <p:cNvPr id="1559" name="Picture 6" descr="untitled"/>
          <p:cNvPicPr/>
          <p:nvPr/>
        </p:nvPicPr>
        <p:blipFill>
          <a:blip r:embed="rId2"/>
          <a:stretch/>
        </p:blipFill>
        <p:spPr>
          <a:xfrm>
            <a:off x="5003640" y="1989000"/>
            <a:ext cx="2953080" cy="3024360"/>
          </a:xfrm>
          <a:prstGeom prst="rect">
            <a:avLst/>
          </a:prstGeom>
          <a:ln w="0">
            <a:noFill/>
          </a:ln>
        </p:spPr>
      </p:pic>
      <p:sp>
        <p:nvSpPr>
          <p:cNvPr id="1560" name="Text Box 8"/>
          <p:cNvSpPr/>
          <p:nvPr/>
        </p:nvSpPr>
        <p:spPr>
          <a:xfrm>
            <a:off x="5009760" y="5440320"/>
            <a:ext cx="31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sitive Nagler Re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Text Box 9"/>
          <p:cNvSpPr/>
          <p:nvPr/>
        </p:nvSpPr>
        <p:spPr>
          <a:xfrm>
            <a:off x="744120" y="558324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cedure of Nagler Re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Anaerobic Cul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oxygen &amp; replacing it with inert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erobic J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SzPct val="10106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especially plastic jar with a tightly fitted l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SzPct val="10106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drogen is introduced from commercially available hydrogen generators envel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SzPct val="10106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 ml of water is added to envelop  immediately before placing it in the j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SzPct val="10106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drogen and carbon dioxide will release and react with oxygen in the presence of catalyst to form water dropl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SzPct val="10106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aerobic indicator (Methylene blue) is placed in the j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106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thylene blue is blue in oxidized state (Aerobic condition) while turns colorless in reduced state (Anaerobic condition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Anaerobic Cul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Media containing reducing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oglycollate bro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ont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 thioglycollate (Reducing ag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zazurin (redox indica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 percentage of Agar-Agar to increase viscosity of med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oked Meat 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ont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t particles (prepared from heart muscles) which contain hematin &amp; glutathione that act as reducing a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Growth on Fluid Thioglycolat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7" name="Picture 4" descr="thio4"/>
          <p:cNvPicPr/>
          <p:nvPr/>
        </p:nvPicPr>
        <p:blipFill>
          <a:blip r:embed="rId1"/>
          <a:stretch/>
        </p:blipFill>
        <p:spPr>
          <a:xfrm>
            <a:off x="179280" y="1916280"/>
            <a:ext cx="5543640" cy="4271760"/>
          </a:xfrm>
          <a:prstGeom prst="rect">
            <a:avLst/>
          </a:prstGeom>
          <a:ln w="0">
            <a:noFill/>
          </a:ln>
        </p:spPr>
      </p:pic>
      <p:pic>
        <p:nvPicPr>
          <p:cNvPr id="1568" name="Picture 6" descr="thio"/>
          <p:cNvPicPr/>
          <p:nvPr/>
        </p:nvPicPr>
        <p:blipFill>
          <a:blip r:embed="rId2"/>
          <a:stretch/>
        </p:blipFill>
        <p:spPr>
          <a:xfrm>
            <a:off x="7308720" y="2060640"/>
            <a:ext cx="1076400" cy="3095640"/>
          </a:xfrm>
          <a:prstGeom prst="rect">
            <a:avLst/>
          </a:prstGeom>
          <a:ln w="0">
            <a:noFill/>
          </a:ln>
        </p:spPr>
      </p:pic>
      <p:sp>
        <p:nvSpPr>
          <p:cNvPr id="1569" name="Rectangle 7"/>
          <p:cNvSpPr/>
          <p:nvPr/>
        </p:nvSpPr>
        <p:spPr>
          <a:xfrm>
            <a:off x="6192720" y="119664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Clostridium sporogene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owing in Thioglycolate Medium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Rectangle 8"/>
          <p:cNvSpPr/>
          <p:nvPr/>
        </p:nvSpPr>
        <p:spPr>
          <a:xfrm>
            <a:off x="6588000" y="5229360"/>
            <a:ext cx="23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ucing agents in the medium absorb oxygen and allow obligate anaerobes to grow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Reaction on Cooked Meat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ccharolyt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causes fermentation of glycogen of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ion of acid and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t particles remain i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l. perferg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teolyt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causes digestion of meat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ion of black, foul smelling due to sulfur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5" name="Picture 9" descr="anjar"/>
          <p:cNvPicPr/>
          <p:nvPr/>
        </p:nvPicPr>
        <p:blipFill>
          <a:blip r:embed="rId3"/>
          <a:stretch/>
        </p:blipFill>
        <p:spPr>
          <a:xfrm>
            <a:off x="1380960" y="1600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576" name="Picture 10" descr="cndljr"/>
          <p:cNvPicPr/>
          <p:nvPr/>
        </p:nvPicPr>
        <p:blipFill>
          <a:blip r:embed="rId4"/>
          <a:stretch/>
        </p:blipFill>
        <p:spPr>
          <a:xfrm>
            <a:off x="5572080" y="1600200"/>
            <a:ext cx="2189160" cy="2189160"/>
          </a:xfrm>
          <a:prstGeom prst="rect">
            <a:avLst/>
          </a:prstGeom>
          <a:ln w="0">
            <a:noFill/>
          </a:ln>
        </p:spPr>
      </p:pic>
      <p:sp>
        <p:nvSpPr>
          <p:cNvPr id="1577" name="Text Box 11"/>
          <p:cNvSpPr/>
          <p:nvPr/>
        </p:nvSpPr>
        <p:spPr>
          <a:xfrm>
            <a:off x="1612800" y="12621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aerobic J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Text Box 12"/>
          <p:cNvSpPr/>
          <p:nvPr/>
        </p:nvSpPr>
        <p:spPr>
          <a:xfrm>
            <a:off x="5807160" y="11970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andle J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9" name="Picture 4" descr="ClostridiumCellulitisPhoto"/>
          <p:cNvPicPr/>
          <p:nvPr/>
        </p:nvPicPr>
        <p:blipFill>
          <a:blip r:embed="rId1"/>
          <a:stretch/>
        </p:blipFill>
        <p:spPr>
          <a:xfrm>
            <a:off x="1803240" y="1143000"/>
            <a:ext cx="5596200" cy="5289480"/>
          </a:xfrm>
          <a:prstGeom prst="rect">
            <a:avLst/>
          </a:prstGeom>
          <a:ln w="0">
            <a:noFill/>
          </a:ln>
        </p:spPr>
      </p:pic>
      <p:sp>
        <p:nvSpPr>
          <p:cNvPr id="1580" name="Text Box 5"/>
          <p:cNvSpPr/>
          <p:nvPr/>
        </p:nvSpPr>
        <p:spPr>
          <a:xfrm>
            <a:off x="12600" y="228600"/>
            <a:ext cx="913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4078b"/>
                </a:solidFill>
                <a:latin typeface="Arial"/>
              </a:rPr>
              <a:t>Clostridial Cellu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1" name="Picture 2" descr="TetanusRisusSardonicusPhoto"/>
          <p:cNvPicPr/>
          <p:nvPr/>
        </p:nvPicPr>
        <p:blipFill>
          <a:blip r:embed="rId1"/>
          <a:stretch/>
        </p:blipFill>
        <p:spPr>
          <a:xfrm>
            <a:off x="1447920" y="1371600"/>
            <a:ext cx="6324480" cy="4738680"/>
          </a:xfrm>
          <a:prstGeom prst="rect">
            <a:avLst/>
          </a:prstGeom>
          <a:ln w="0">
            <a:noFill/>
          </a:ln>
        </p:spPr>
      </p:pic>
      <p:sp>
        <p:nvSpPr>
          <p:cNvPr id="1582" name="Text Box 3"/>
          <p:cNvSpPr/>
          <p:nvPr/>
        </p:nvSpPr>
        <p:spPr>
          <a:xfrm>
            <a:off x="12600" y="289080"/>
            <a:ext cx="913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4078b"/>
                </a:solidFill>
                <a:latin typeface="Arial"/>
              </a:rPr>
              <a:t>Risus Sardonicus in Tetanu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14078b"/>
                </a:solidFill>
                <a:latin typeface="Arial"/>
              </a:rPr>
              <a:t>Pati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ox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oxins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. perfringe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oxi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hospholipase C, lecithinase) is the most important tox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yses of RBCs, platelets, leucocytes and endothelial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vascular permeability with massive hemolysis and bleeding tissue de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patic toxicity and myocardial dys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-tox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sponsible for necrotic lesions in necrotizing enterocol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nterotoxi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heat labile toxin produced in colon → food pois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ox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. tetan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es two types of tox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etanolys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ich causes lysis of RB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etanospas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neurotoxin and essential pathogenic produ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tanospasmin is toxic to humans and various animals when injected parenterally, but it is not toxic by the oral ro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tanospasmin which causes increasing excitability of spinal cord neurons and muscle sp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ostridia of medical impor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0" name="Organization Chart 6"/>
          <p:cNvGrpSpPr/>
          <p:nvPr/>
        </p:nvGrpSpPr>
        <p:grpSpPr>
          <a:xfrm>
            <a:off x="457200" y="1600200"/>
            <a:ext cx="8229600" cy="4530600"/>
            <a:chOff x="457200" y="1600200"/>
            <a:chExt cx="8229600" cy="4530600"/>
          </a:xfrm>
        </p:grpSpPr>
        <p:cxnSp>
          <p:nvCxnSpPr>
            <p:cNvPr id="1481" name="_s1028"/>
            <p:cNvCxnSpPr/>
            <p:nvPr/>
          </p:nvCxnSpPr>
          <p:spPr>
            <a:xfrm flipV="1" rot="16200000">
              <a:off x="3156840" y="4058280"/>
              <a:ext cx="1577160" cy="1612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2" name="_s1029"/>
            <p:cNvCxnSpPr>
              <a:stCxn id="1483" idx="0"/>
              <a:endCxn id="1484" idx="2"/>
            </p:cNvCxnSpPr>
            <p:nvPr/>
          </p:nvCxnSpPr>
          <p:spPr>
            <a:xfrm flipV="1" rot="16200000">
              <a:off x="5716800" y="1438200"/>
              <a:ext cx="483480" cy="2774160"/>
            </a:xfrm>
            <a:prstGeom prst="bentConnector3">
              <a:avLst>
                <a:gd name="adj1" fmla="val 408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5" name="_s1030"/>
            <p:cNvCxnSpPr/>
            <p:nvPr/>
          </p:nvCxnSpPr>
          <p:spPr>
            <a:xfrm flipV="1" rot="16200000">
              <a:off x="4493520" y="1821960"/>
              <a:ext cx="1139040" cy="3847320"/>
            </a:xfrm>
            <a:prstGeom prst="bentConnector3">
              <a:avLst>
                <a:gd name="adj1" fmla="val 17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6" name="_s1031"/>
            <p:cNvCxnSpPr/>
            <p:nvPr/>
          </p:nvCxnSpPr>
          <p:spPr>
            <a:xfrm flipH="1" flipV="1" rot="5400000">
              <a:off x="2287800" y="3462840"/>
              <a:ext cx="1139040" cy="565560"/>
            </a:xfrm>
            <a:prstGeom prst="bentConnector3">
              <a:avLst>
                <a:gd name="adj1" fmla="val 17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7" name="_s1032"/>
            <p:cNvCxnSpPr>
              <a:stCxn id="1488" idx="0"/>
              <a:endCxn id="1484" idx="2"/>
            </p:cNvCxnSpPr>
            <p:nvPr/>
          </p:nvCxnSpPr>
          <p:spPr>
            <a:xfrm flipV="1" rot="16200000">
              <a:off x="4519080" y="2635920"/>
              <a:ext cx="483480" cy="378720"/>
            </a:xfrm>
            <a:prstGeom prst="bentConnector3">
              <a:avLst>
                <a:gd name="adj1" fmla="val 408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9" name="_s1033"/>
            <p:cNvCxnSpPr>
              <a:stCxn id="1490" idx="0"/>
              <a:endCxn id="1484" idx="2"/>
            </p:cNvCxnSpPr>
            <p:nvPr/>
          </p:nvCxnSpPr>
          <p:spPr>
            <a:xfrm flipH="1" flipV="1" rot="5400000">
              <a:off x="3569760" y="2064600"/>
              <a:ext cx="483480" cy="1521720"/>
            </a:xfrm>
            <a:prstGeom prst="bentConnector3">
              <a:avLst>
                <a:gd name="adj1" fmla="val 408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1" name="_s1034"/>
            <p:cNvCxnSpPr>
              <a:stCxn id="1492" idx="0"/>
              <a:endCxn id="1484" idx="2"/>
            </p:cNvCxnSpPr>
            <p:nvPr/>
          </p:nvCxnSpPr>
          <p:spPr>
            <a:xfrm flipH="1" flipV="1" rot="5400000">
              <a:off x="2675520" y="1170360"/>
              <a:ext cx="483480" cy="3310560"/>
            </a:xfrm>
            <a:prstGeom prst="bentConnector3">
              <a:avLst>
                <a:gd name="adj1" fmla="val 408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4" name="_s1035"/>
            <p:cNvSpPr/>
            <p:nvPr/>
          </p:nvSpPr>
          <p:spPr>
            <a:xfrm>
              <a:off x="2603520" y="1600200"/>
              <a:ext cx="3936960" cy="9842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cc0000"/>
                  </a:solidFill>
                  <a:latin typeface="Times New Roman"/>
                </a:rPr>
                <a:t>Clostridium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cc0000"/>
                  </a:solidFill>
                  <a:latin typeface="Times New Roman"/>
                </a:rPr>
                <a:t>Causing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_s1036"/>
            <p:cNvSpPr/>
            <p:nvPr/>
          </p:nvSpPr>
          <p:spPr>
            <a:xfrm>
              <a:off x="457200" y="3067200"/>
              <a:ext cx="1609560" cy="699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Tetan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Times New Roman"/>
                </a:rPr>
                <a:t>e.g. 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Times New Roman"/>
                </a:rPr>
                <a:t>Cl. tetan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_s1037"/>
            <p:cNvSpPr/>
            <p:nvPr/>
          </p:nvSpPr>
          <p:spPr>
            <a:xfrm>
              <a:off x="2246400" y="3067200"/>
              <a:ext cx="1609560" cy="699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Gas gangre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_s1038"/>
            <p:cNvSpPr/>
            <p:nvPr/>
          </p:nvSpPr>
          <p:spPr>
            <a:xfrm>
              <a:off x="4035600" y="3067200"/>
              <a:ext cx="1828800" cy="699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Botulis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Times New Roman"/>
                </a:rPr>
                <a:t>e.g. 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Times New Roman"/>
                </a:rPr>
                <a:t>Cl. botulin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_s1039"/>
            <p:cNvSpPr/>
            <p:nvPr/>
          </p:nvSpPr>
          <p:spPr>
            <a:xfrm>
              <a:off x="934920" y="4357800"/>
              <a:ext cx="3279960" cy="887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Saccharolyt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cc0000"/>
                  </a:solidFill>
                  <a:latin typeface="Times New Roman"/>
                </a:rPr>
                <a:t>e.g. </a:t>
              </a:r>
              <a:r>
                <a:rPr b="0" i="1" lang="en-US" sz="1500" spc="-1" strike="noStrike">
                  <a:solidFill>
                    <a:srgbClr val="cc0000"/>
                  </a:solidFill>
                  <a:latin typeface="Times New Roman"/>
                </a:rPr>
                <a:t>Cl. perfringens</a:t>
              </a:r>
              <a:r>
                <a:rPr b="0" lang="en-US" sz="1500" spc="-1" strike="noStrike">
                  <a:solidFill>
                    <a:srgbClr val="cc0000"/>
                  </a:solidFill>
                  <a:latin typeface="Times New Roman"/>
                </a:rPr>
                <a:t> &amp;</a:t>
              </a:r>
              <a:r>
                <a:rPr b="0" i="1" lang="en-US" sz="1500" spc="-1" strike="noStrike">
                  <a:solidFill>
                    <a:srgbClr val="cc0000"/>
                  </a:solidFill>
                  <a:latin typeface="Times New Roman"/>
                </a:rPr>
                <a:t>Cl. septicum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_s1040"/>
            <p:cNvSpPr/>
            <p:nvPr/>
          </p:nvSpPr>
          <p:spPr>
            <a:xfrm>
              <a:off x="5465880" y="4357800"/>
              <a:ext cx="3041640" cy="887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Proteolyt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cc0000"/>
                  </a:solidFill>
                  <a:latin typeface="Times New Roman"/>
                </a:rPr>
                <a:t>e.g. </a:t>
              </a:r>
              <a:r>
                <a:rPr b="0" i="1" lang="en-US" sz="1500" spc="-1" strike="noStrike">
                  <a:solidFill>
                    <a:srgbClr val="cc0000"/>
                  </a:solidFill>
                  <a:latin typeface="Times New Roman"/>
                </a:rPr>
                <a:t>Cl. sporogen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_s1041"/>
            <p:cNvSpPr/>
            <p:nvPr/>
          </p:nvSpPr>
          <p:spPr>
            <a:xfrm>
              <a:off x="6004080" y="3067200"/>
              <a:ext cx="2682720" cy="699840"/>
            </a:xfrm>
            <a:prstGeom prst="roundRect">
              <a:avLst>
                <a:gd name="adj" fmla="val 190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500" spc="-1" strike="noStrike">
                  <a:solidFill>
                    <a:srgbClr val="cc0000"/>
                  </a:solidFill>
                  <a:latin typeface="Times New Roman"/>
                  <a:cs typeface="Times New Roman"/>
                </a:rPr>
                <a:t>ِ</a:t>
              </a:r>
              <a:r>
                <a:rPr b="1" lang="en-US" sz="1500" spc="-1" strike="noStrike">
                  <a:solidFill>
                    <a:srgbClr val="cc0000"/>
                  </a:solidFill>
                  <a:latin typeface="Times New Roman"/>
                </a:rPr>
                <a:t>Antibiotic associated diarrhe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c0000"/>
                  </a:solidFill>
                  <a:latin typeface="Times New Roman"/>
                </a:rPr>
                <a:t>e.g. </a:t>
              </a:r>
              <a:r>
                <a:rPr b="0" i="1" lang="en-US" sz="1700" spc="-1" strike="noStrike">
                  <a:solidFill>
                    <a:srgbClr val="cc0000"/>
                  </a:solidFill>
                  <a:latin typeface="Times New Roman"/>
                </a:rPr>
                <a:t>Cl. difficill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_s1042"/>
            <p:cNvSpPr/>
            <p:nvPr/>
          </p:nvSpPr>
          <p:spPr>
            <a:xfrm>
              <a:off x="2962440" y="5351400"/>
              <a:ext cx="3755880" cy="779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Mixed: </a:t>
              </a:r>
              <a:r>
                <a:rPr b="0" i="1" lang="en-US" sz="1500" spc="-1" strike="noStrike">
                  <a:solidFill>
                    <a:srgbClr val="cc0000"/>
                  </a:solidFill>
                  <a:latin typeface="Times New Roman"/>
                </a:rPr>
                <a:t>Cl. histolyticum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lostridium Causing Tetanus</a:t>
            </a:r>
            <a:br>
              <a:rPr sz="4000"/>
            </a:br>
            <a:r>
              <a:rPr b="0" i="1" lang="en-US" sz="4000" spc="-1" strike="noStrike">
                <a:solidFill>
                  <a:srgbClr val="cc0000"/>
                </a:solidFill>
                <a:latin typeface="Arial"/>
              </a:rPr>
              <a:t>Cl. teta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590400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m positive, straight, slender rod with rounded e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species form endospore (drumstick with a large round 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en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te anaerob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ile by peritrichous flagel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s well in cooked meat broth and produces a thin spreading film when grown on enriched blood ag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es are highly resistant to adverse condi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dine (1%) in water is able to kill the spores within a few hou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8" name="Picture 4" descr="PHOTO77"/>
          <p:cNvPicPr/>
          <p:nvPr/>
        </p:nvPicPr>
        <p:blipFill>
          <a:blip r:embed="rId9"/>
          <a:stretch/>
        </p:blipFill>
        <p:spPr>
          <a:xfrm>
            <a:off x="6407280" y="2421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6" descr="Clostridium"/>
          <p:cNvPicPr/>
          <p:nvPr/>
        </p:nvPicPr>
        <p:blipFill>
          <a:blip r:embed="rId10"/>
          <a:stretch/>
        </p:blipFill>
        <p:spPr>
          <a:xfrm>
            <a:off x="6227640" y="5248440"/>
            <a:ext cx="29163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lostridium Causing Gas Gangre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1" name="Organization Chart 6"/>
          <p:cNvGrpSpPr/>
          <p:nvPr/>
        </p:nvGrpSpPr>
        <p:grpSpPr>
          <a:xfrm>
            <a:off x="457200" y="1600200"/>
            <a:ext cx="8229240" cy="4362120"/>
            <a:chOff x="457200" y="1600200"/>
            <a:chExt cx="8229240" cy="4362120"/>
          </a:xfrm>
        </p:grpSpPr>
        <p:cxnSp>
          <p:nvCxnSpPr>
            <p:cNvPr id="1502" name="_s2052"/>
            <p:cNvCxnSpPr/>
            <p:nvPr/>
          </p:nvCxnSpPr>
          <p:spPr>
            <a:xfrm flipV="1">
              <a:off x="4482360" y="2010240"/>
              <a:ext cx="1440" cy="292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3" name="_s2053"/>
            <p:cNvCxnSpPr/>
            <p:nvPr/>
          </p:nvCxnSpPr>
          <p:spPr>
            <a:xfrm flipV="1" rot="16200000">
              <a:off x="5104080" y="1171800"/>
              <a:ext cx="1171440" cy="2415960"/>
            </a:xfrm>
            <a:prstGeom prst="bentConnector3">
              <a:avLst>
                <a:gd name="adj1" fmla="val 166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4" name="_s2054"/>
            <p:cNvCxnSpPr/>
            <p:nvPr/>
          </p:nvCxnSpPr>
          <p:spPr>
            <a:xfrm flipH="1" flipV="1" rot="5400000">
              <a:off x="2778480" y="1261440"/>
              <a:ext cx="1171440" cy="2237040"/>
            </a:xfrm>
            <a:prstGeom prst="bentConnector3">
              <a:avLst>
                <a:gd name="adj1" fmla="val 166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05" name="_s2055"/>
            <p:cNvSpPr/>
            <p:nvPr/>
          </p:nvSpPr>
          <p:spPr>
            <a:xfrm>
              <a:off x="2424960" y="1600200"/>
              <a:ext cx="4114800" cy="781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Times New Roman"/>
                </a:rPr>
                <a:t>Clostridia causing gas gangrene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_s2056"/>
            <p:cNvSpPr/>
            <p:nvPr/>
          </p:nvSpPr>
          <p:spPr>
            <a:xfrm>
              <a:off x="457200" y="2966760"/>
              <a:ext cx="3756600" cy="1732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c0000"/>
                  </a:solidFill>
                  <a:latin typeface="Times New Roman"/>
                </a:rPr>
                <a:t>Saccharolytic organism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cc0000"/>
                  </a:solidFill>
                  <a:latin typeface="Times New Roman"/>
                </a:rPr>
                <a:t>Cl. perfringens, Cl. septicum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99"/>
                  </a:solidFill>
                  <a:latin typeface="Times New Roman"/>
                </a:rPr>
                <a:t>Ferment carbohydrat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99"/>
                  </a:solidFill>
                  <a:latin typeface="Times New Roman"/>
                </a:rPr>
                <a:t>Acid and gas are produce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_s2057"/>
            <p:cNvSpPr/>
            <p:nvPr/>
          </p:nvSpPr>
          <p:spPr>
            <a:xfrm>
              <a:off x="5108400" y="2966760"/>
              <a:ext cx="3578040" cy="1732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c0000"/>
                  </a:solidFill>
                  <a:latin typeface="Times New Roman"/>
                </a:rPr>
                <a:t>Proteolytic organisms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cc0000"/>
                  </a:solidFill>
                  <a:latin typeface="Times New Roman"/>
                </a:rPr>
                <a:t>Cl. sporogene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99"/>
                  </a:solidFill>
                  <a:latin typeface="Times New Roman"/>
                </a:rPr>
                <a:t>Digest proteins with blackening bad smell producti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_s2058"/>
            <p:cNvSpPr/>
            <p:nvPr/>
          </p:nvSpPr>
          <p:spPr>
            <a:xfrm>
              <a:off x="2268000" y="4941000"/>
              <a:ext cx="4608720" cy="102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c0000"/>
                  </a:solidFill>
                  <a:latin typeface="Times New Roman"/>
                </a:rPr>
                <a:t>Mixed saccharolytic &amp; proteolytic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cc0000"/>
                  </a:solidFill>
                  <a:latin typeface="Times New Roman"/>
                </a:rPr>
                <a:t>Cl. histolyticum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action on Litmus Mi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Text Box 4"/>
          <p:cNvSpPr/>
          <p:nvPr/>
        </p:nvSpPr>
        <p:spPr>
          <a:xfrm>
            <a:off x="3512880" y="166860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tmus M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Line 5"/>
          <p:cNvSpPr/>
          <p:nvPr/>
        </p:nvSpPr>
        <p:spPr>
          <a:xfrm flipH="1">
            <a:off x="2557440" y="2205000"/>
            <a:ext cx="1943280" cy="100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Line 6"/>
          <p:cNvSpPr/>
          <p:nvPr/>
        </p:nvSpPr>
        <p:spPr>
          <a:xfrm>
            <a:off x="4500720" y="2205000"/>
            <a:ext cx="2376360" cy="11509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Text Box 7"/>
          <p:cNvSpPr/>
          <p:nvPr/>
        </p:nvSpPr>
        <p:spPr>
          <a:xfrm>
            <a:off x="1361880" y="330372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mmed Mi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ithout F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Text Box 8"/>
          <p:cNvSpPr/>
          <p:nvPr/>
        </p:nvSpPr>
        <p:spPr>
          <a:xfrm>
            <a:off x="5618160" y="33037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mus indi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Line 9"/>
          <p:cNvSpPr/>
          <p:nvPr/>
        </p:nvSpPr>
        <p:spPr>
          <a:xfrm>
            <a:off x="6948360" y="3716280"/>
            <a:ext cx="0" cy="1441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 Box 10"/>
          <p:cNvSpPr/>
          <p:nvPr/>
        </p:nvSpPr>
        <p:spPr>
          <a:xfrm>
            <a:off x="5589360" y="514980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id Base and Redox ind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Line 11"/>
          <p:cNvSpPr/>
          <p:nvPr/>
        </p:nvSpPr>
        <p:spPr>
          <a:xfrm flipH="1">
            <a:off x="1403280" y="4076640"/>
            <a:ext cx="1008000" cy="647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Text Box 12"/>
          <p:cNvSpPr/>
          <p:nvPr/>
        </p:nvSpPr>
        <p:spPr>
          <a:xfrm>
            <a:off x="853560" y="48895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t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Line 13"/>
          <p:cNvSpPr/>
          <p:nvPr/>
        </p:nvSpPr>
        <p:spPr>
          <a:xfrm>
            <a:off x="2484360" y="4076640"/>
            <a:ext cx="1150920" cy="79236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Text Box 14"/>
          <p:cNvSpPr/>
          <p:nvPr/>
        </p:nvSpPr>
        <p:spPr>
          <a:xfrm>
            <a:off x="3183480" y="496080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Oval 15"/>
          <p:cNvSpPr/>
          <p:nvPr/>
        </p:nvSpPr>
        <p:spPr>
          <a:xfrm>
            <a:off x="3851280" y="2421000"/>
            <a:ext cx="1368360" cy="647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action on Litmus Mi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Text Box 4"/>
          <p:cNvSpPr/>
          <p:nvPr/>
        </p:nvSpPr>
        <p:spPr>
          <a:xfrm>
            <a:off x="468360" y="2768760"/>
            <a:ext cx="849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tos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                            Pink Col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ilk Sug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Line 5"/>
          <p:cNvSpPr/>
          <p:nvPr/>
        </p:nvSpPr>
        <p:spPr>
          <a:xfrm>
            <a:off x="1979640" y="3068640"/>
            <a:ext cx="216072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Text Box 6"/>
          <p:cNvSpPr/>
          <p:nvPr/>
        </p:nvSpPr>
        <p:spPr>
          <a:xfrm>
            <a:off x="2050920" y="25272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er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Line 7"/>
          <p:cNvSpPr/>
          <p:nvPr/>
        </p:nvSpPr>
        <p:spPr>
          <a:xfrm>
            <a:off x="5003640" y="2997360"/>
            <a:ext cx="216072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Text Box 8"/>
          <p:cNvSpPr/>
          <p:nvPr/>
        </p:nvSpPr>
        <p:spPr>
          <a:xfrm>
            <a:off x="5003640" y="2492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tmus Indic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Text Box 9"/>
          <p:cNvSpPr/>
          <p:nvPr/>
        </p:nvSpPr>
        <p:spPr>
          <a:xfrm>
            <a:off x="3160080" y="175752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- Acidic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Text Box 11"/>
          <p:cNvSpPr/>
          <p:nvPr/>
        </p:nvSpPr>
        <p:spPr>
          <a:xfrm>
            <a:off x="3375720" y="3989520"/>
            <a:ext cx="31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- Basic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Text Box 12"/>
          <p:cNvSpPr/>
          <p:nvPr/>
        </p:nvSpPr>
        <p:spPr>
          <a:xfrm>
            <a:off x="250920" y="5145120"/>
            <a:ext cx="885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i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ne amines                            Blue Col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ilk Protei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Line 13"/>
          <p:cNvSpPr/>
          <p:nvPr/>
        </p:nvSpPr>
        <p:spPr>
          <a:xfrm>
            <a:off x="1547640" y="5373720"/>
            <a:ext cx="151164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Text Box 14"/>
          <p:cNvSpPr/>
          <p:nvPr/>
        </p:nvSpPr>
        <p:spPr>
          <a:xfrm>
            <a:off x="1547640" y="4832280"/>
            <a:ext cx="14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g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Text Box 15"/>
          <p:cNvSpPr/>
          <p:nvPr/>
        </p:nvSpPr>
        <p:spPr>
          <a:xfrm>
            <a:off x="5219640" y="4761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tmus Indic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Line 16"/>
          <p:cNvSpPr/>
          <p:nvPr/>
        </p:nvSpPr>
        <p:spPr>
          <a:xfrm>
            <a:off x="5291280" y="5373720"/>
            <a:ext cx="216036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action on Litmus Mi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Text Box 4"/>
          <p:cNvSpPr/>
          <p:nvPr/>
        </p:nvSpPr>
        <p:spPr>
          <a:xfrm>
            <a:off x="2847960" y="1773360"/>
            <a:ext cx="40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ormy Clot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Line 6"/>
          <p:cNvSpPr/>
          <p:nvPr/>
        </p:nvSpPr>
        <p:spPr>
          <a:xfrm>
            <a:off x="2484360" y="3500280"/>
            <a:ext cx="172728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Text Box 7"/>
          <p:cNvSpPr/>
          <p:nvPr/>
        </p:nvSpPr>
        <p:spPr>
          <a:xfrm>
            <a:off x="2539440" y="29973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Line 8"/>
          <p:cNvSpPr/>
          <p:nvPr/>
        </p:nvSpPr>
        <p:spPr>
          <a:xfrm>
            <a:off x="4859280" y="3789360"/>
            <a:ext cx="0" cy="100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Text Box 9"/>
          <p:cNvSpPr/>
          <p:nvPr/>
        </p:nvSpPr>
        <p:spPr>
          <a:xfrm>
            <a:off x="4055760" y="4816440"/>
            <a:ext cx="17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k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Line 10"/>
          <p:cNvSpPr/>
          <p:nvPr/>
        </p:nvSpPr>
        <p:spPr>
          <a:xfrm>
            <a:off x="5724360" y="5157720"/>
            <a:ext cx="180036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Text Box 11"/>
          <p:cNvSpPr/>
          <p:nvPr/>
        </p:nvSpPr>
        <p:spPr>
          <a:xfrm>
            <a:off x="5152320" y="407052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ag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Line 14"/>
          <p:cNvSpPr/>
          <p:nvPr/>
        </p:nvSpPr>
        <p:spPr>
          <a:xfrm>
            <a:off x="6372360" y="3500280"/>
            <a:ext cx="93636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Line 15"/>
          <p:cNvSpPr/>
          <p:nvPr/>
        </p:nvSpPr>
        <p:spPr>
          <a:xfrm flipV="1">
            <a:off x="7956720" y="3787560"/>
            <a:ext cx="0" cy="9363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Oval 17"/>
          <p:cNvSpPr/>
          <p:nvPr/>
        </p:nvSpPr>
        <p:spPr>
          <a:xfrm>
            <a:off x="5508720" y="3141720"/>
            <a:ext cx="792000" cy="718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Oval 20"/>
          <p:cNvSpPr/>
          <p:nvPr/>
        </p:nvSpPr>
        <p:spPr>
          <a:xfrm>
            <a:off x="7596360" y="4726080"/>
            <a:ext cx="792000" cy="718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Oval 21"/>
          <p:cNvSpPr/>
          <p:nvPr/>
        </p:nvSpPr>
        <p:spPr>
          <a:xfrm>
            <a:off x="7380360" y="3213000"/>
            <a:ext cx="1692360" cy="576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my C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Text Box 23"/>
          <p:cNvSpPr/>
          <p:nvPr/>
        </p:nvSpPr>
        <p:spPr>
          <a:xfrm>
            <a:off x="862920" y="37101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k Su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Text Box 24"/>
          <p:cNvSpPr/>
          <p:nvPr/>
        </p:nvSpPr>
        <p:spPr>
          <a:xfrm>
            <a:off x="801000" y="32320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t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Oval 26"/>
          <p:cNvSpPr/>
          <p:nvPr/>
        </p:nvSpPr>
        <p:spPr>
          <a:xfrm>
            <a:off x="4500720" y="3141720"/>
            <a:ext cx="792000" cy="718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Text Box 27"/>
          <p:cNvSpPr/>
          <p:nvPr/>
        </p:nvSpPr>
        <p:spPr>
          <a:xfrm>
            <a:off x="5219640" y="3232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action on Litmus Mi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3" name="Picture 5" descr="Litmsm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565360"/>
            <a:ext cx="3684600" cy="3760920"/>
          </a:xfrm>
          <a:prstGeom prst="rect">
            <a:avLst/>
          </a:prstGeom>
          <a:ln w="0">
            <a:noFill/>
          </a:ln>
        </p:spPr>
      </p:pic>
      <p:pic>
        <p:nvPicPr>
          <p:cNvPr id="1554" name="Picture 7" descr="litmus"/>
          <p:cNvPicPr/>
          <p:nvPr/>
        </p:nvPicPr>
        <p:blipFill>
          <a:blip r:embed="rId3"/>
          <a:stretch/>
        </p:blipFill>
        <p:spPr>
          <a:xfrm>
            <a:off x="5867280" y="2451240"/>
            <a:ext cx="24544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agler’s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test is done to detect the lecithinas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.O is inoculated on the medium containing human serum or egg yolk (contains lecith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late is incubated anaerobically at 37 C for 24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es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l. perfringe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surrounded by zones of turbidity due to lecithinase activity and the effect is specifically inhibited i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l. perfringe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tiserum containin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titoxin is present on the medi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5:34:04Z</dcterms:created>
  <dc:creator>User</dc:creator>
  <dc:description/>
  <dc:language>en-US</dc:language>
  <cp:lastModifiedBy>waf</cp:lastModifiedBy>
  <cp:lastPrinted>2012-03-20T00:34:47Z</cp:lastPrinted>
  <dcterms:modified xsi:type="dcterms:W3CDTF">2015-03-05T08:30:01Z</dcterms:modified>
  <cp:revision>27</cp:revision>
  <dc:subject/>
  <dc:title>Clostridium sp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