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dt" idx="91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ftr" idx="92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 type="sldNum" idx="93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4203-2397-481B-AF60-AA6C3F4F3F3F}" type="slidenum">
              <a:rPr b="0" lang="ar-IQ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84F9-3AF6-43DC-B6EE-700CA2913A9B}" type="slidenum">
              <a:rPr b="0" lang="ar-IQ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FB2-D1F5-447E-A742-BC79E120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5CE-0E5E-4844-8326-E6486294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C5F0B-CDB2-488D-99D0-A649BBD0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471FA-8D2E-45F4-ABA5-94F209D3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E716F-C338-4B5F-8753-18D83CBF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31D0A-E8F2-4755-85B4-3DA198A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C6C11-EC96-4B43-BB0C-2284DC6E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7503E-8F2A-412D-A3CA-782F36A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BD965-7C6B-484C-98CC-1D657DC0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36D16-4810-424A-9B8B-B535CFD0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0AA45-69AA-4CE6-89E7-72A63721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44534-31D6-46F2-B827-C0827A4B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388-13DF-47F3-9C25-CF85ACDE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FE301-87F1-4C96-868D-5091C4AB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786F2-5BFC-45D2-8B07-DD53C950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A449B-38DB-4FB6-96E7-19DB03FB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1236A-45BF-4F8D-91C1-61E26420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3051E-3669-4624-A401-5C6EAC0E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EFDE1-3B70-4929-B47B-4CDCD283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ACB99-AFE2-4A84-A18D-9D89DC1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73459-254B-4B69-BFC8-412EDB4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C9BBC-33A5-4AA6-BB84-9C438D39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0A34C-EFF5-451A-85C8-13C1A897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EE5-A3C5-4111-A40E-A26C5908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EABCD-DFD9-4F79-B0FA-DB8ECFFF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598E1-EF76-4021-9307-B244FAF8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ED2A7-3BCB-4542-BC12-33E2F10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51E09-0200-4D29-B3ED-212D62AA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79344-B190-42F7-A92A-02AC70D8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CA2C1-234A-4CD7-8DE9-A8B26224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9EB9C-342B-4C0B-AB1C-14464B6D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791F-E04E-47EC-BBBF-A465863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BEF2F-84D2-4D8A-A751-BEA6561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7B73D-211C-4514-BFB9-41AD4B3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1F1D-6933-426D-8C42-D1FDCCB8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6A20F-0825-494E-A781-B160B7E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0A2BE-33BD-411E-A677-60480B51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80F77-A610-4616-BC68-67CFCDB1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272D1-5D03-4985-8DDD-B886F06C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83AFD-77A0-444B-AFEA-58DAA41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7DECD-C988-43B2-AE05-DDB45DC6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E5DF7-E282-44DC-8F48-0CAE1D7B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EE987-F8C4-4031-8BD6-06BD381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DF891-114A-4F5D-B0F6-BC792A34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5DF86-573C-4787-B7BB-BEEE44C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EBDA-D954-46C8-9851-084AD70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B9906-BE91-4E19-8CF8-DE258CE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BBA71-563C-4128-8874-EA19F350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7F9FE-73ED-40E1-896A-03E3FCC4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DD3DE-20DE-4C74-A52C-754FFF06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7CBC4-3DA6-4354-9E60-FE98D9F7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28D5B-8EDA-4C37-A699-7C450E1A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106E8-E75C-4AFB-A872-F60E45AB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CA883-71C9-4450-B69B-BF379A2D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E6852-DA58-4700-A348-F26D524C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FA919-F1B4-49C0-BCCD-2F9C0B2F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8D9A-A1ED-4268-A936-2DE3DACB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10044-44CD-4F50-9ABB-83A8FFFA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03DF3-57C1-4D5D-802F-E4FACE3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A2DF5-F9C6-4855-869A-ACDB6635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C153B-1ACD-4490-9140-6B105992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A51D3-986B-4665-A388-596A1A3D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47C08-367A-420E-826A-6345857C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D9590-D233-4F31-9C11-4C50F410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18A5A-8A6F-4FE4-97B7-24D2F589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AF0C7-84BE-4A9F-B596-65115B88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953FE-3E6A-4C54-A832-98EA37DE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FDCB-CF64-47E1-B755-6B48ED12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7E6C9-0644-4D65-8EF9-7D7F8A5E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3E5CA-EE55-4A73-87B5-B7D6135C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18E1E-D85A-4E7D-84B7-50E23D30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36C35-5B10-4CC4-8007-5C2D2AE6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21662-8E3A-4F81-A353-BAF3610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2154B-06E6-4911-89F0-A5309455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1D537-E0B9-429B-B082-170A2C2E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80446-1761-4881-A119-4D98DBCD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41EBE-16AD-4C9C-A85C-DF19AA37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500B6-CBBD-42C3-A167-973EF4AE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8638-46EF-42E3-B7E8-295DB37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F30C3-8DD3-49A1-AB9B-E81B5440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E875D-4E50-4D73-8D0F-B760887E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8B708-E6F2-4F6B-9BB7-3E0CE6D0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10BEC-A203-4973-A3F4-09C15C82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E2835-7EA6-4983-935C-5B0AFDEF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48A57-4776-4132-AE4E-9745AF5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FEDF7-902D-4A46-87C6-18BA071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1FBBC-AAAB-40CB-A65D-FF8AE818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E9CA6-3DE1-44EA-97A6-A39DAC4E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D7529-3C2A-4FCE-808E-FF418ED5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983C-DF9B-49B9-9B73-0586DAA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9A6A6-0110-48EA-9A3E-C1085349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5C08E-FA0D-4F5C-BA04-CE522525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FCE08-DBF8-41B7-BFD5-B42B3929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8FFA8-FAC4-4628-8130-369B6FA6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B3EF4-4C39-491E-8676-F8210F13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06D19-A1DB-43ED-894B-DF7A1430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36671-61DA-497C-88F4-2A41630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CC4DE-B4A8-4227-A33B-393335B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3E31B-5E09-4955-99AE-EF8288D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EF52F-D5DC-4E97-A826-F393007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1D3A-9D4E-48F7-A909-4A559FE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98B84-4DFB-47AF-B6C1-46016BBA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98B30-2C2E-4636-9C21-B5312F23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938E0-66B6-47F3-B26D-E1234664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64DB3-4969-4101-BB32-44F142CE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F6B31-8E08-439B-A231-D6FE458C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01FEEE-F3F7-48F5-9BC2-6D39B278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36D7F-37EB-44AA-A169-FF0E78E3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EE686-736D-41DF-8F00-B697B3F6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DEF61-52B5-464E-AFF8-D0AB568D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7FC73-FB95-40DC-B2ED-C2C6928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690-3DA9-44F6-9D4C-53D4D5BF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CFA6-91DC-4DA7-AAFC-9A964FC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7A438-EE4D-49C3-8795-90522BD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00D8C8-942D-4333-8B6C-BA54CF5F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F1820-D7EA-4CD8-B59B-E757A08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75478-5D6E-431E-ACB3-B37967B1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DDE09-D2C5-4ABE-88F1-5805ABB0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04072-06F9-48B8-BD74-59AD823C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FC0839-CEBC-4325-A23A-082F0084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D6E9A-F8D7-41E0-B681-66DB98B6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0C873-D4CC-4531-8BE0-C0415F1F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95F6B-5771-458A-B6B3-0F14C21D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3234-098E-48C3-8382-94A54F8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BC8C5-E460-4F0C-BDF8-706FD658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C5E512-57D6-4EAD-802A-A0B90793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08F1E-69ED-4CA7-B0F7-EF188B7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38298-B43C-4F4F-BCFA-8D972320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504A6-27C3-4DE0-A467-B70E7DD2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14C95-CE23-4C2B-A952-9B3D8786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2585A-71B1-4C40-B787-F55893C2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AA665-E0FE-4603-A566-8B40A5AE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D0AB8-54CE-4E7E-95B3-FF648ED5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55A9D-4A41-47AA-9193-AC1325F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941E-BDF5-4272-811D-5760B345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B9339-1AF2-4FEB-92DC-6D8FDCD9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8F712-D947-4F2A-9494-9019BAD3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8F03A-0E03-4B58-A6BE-6DC273E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06475-AAF6-4287-9287-06CCFB0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77A40-E672-4409-B1D3-6CA2F76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AC788E-FAC9-40ED-AABE-3ED9196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494D8-AA8E-4401-B01A-1817D040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BE966B-D419-4F27-A861-5BECFB66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4794A-29C3-4027-94D8-816AD4E0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6B9FB-1450-435A-97D1-13C81E0B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3230-0E55-4AAD-B8C1-5BF4EE88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985E4-6F9F-480C-8A89-A2A4A68A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04E71A-5BD5-4FC6-95E7-2473DC88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BF28A-2866-4205-922B-B5DE768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54618-5FA3-4609-AD5A-BB46C15F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2B751-6562-4A31-9A7B-20F2EDF4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8F726-DAD2-4A6E-B5DF-A93F035B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12F04-4059-4B70-B01B-235D9CF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8B9325-32F2-47DC-973B-89153ED7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4A583-F5FC-43FC-BA5C-881733D6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7DCDE-B5E8-4BE2-AE9F-770789C3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F14B-E636-4529-945E-E9F16A08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D0E54-BD2B-4367-B7D2-D320903B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FB119-6B01-485D-BC2A-D59BCBEF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16835F-5695-4AD3-B162-C96C198C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114C8-2961-4D4B-A63F-A11297EB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6CA40-0E0F-4BBE-A6D8-AB3225F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F6264-280C-4123-867B-D51F985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C7C21-D7CF-4B93-A78C-1CA6A6DA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E1B9C-4CBC-4EE7-9427-412F320F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4DD4D2-D1CE-492A-A85E-BA202C4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D38B3-8D5B-4B0D-8687-7202991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47A6-1A33-4DA2-9BA7-69B5732D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14590-47C7-4AFA-929D-F07C2467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2E97E1-173F-460C-934A-B4E3A57E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5744A-0120-4ACE-B5E0-8F003D42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39BDD-DB0A-4676-8935-3F3BFE5F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5F5D69-F6B5-4EBF-836F-7188AB41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1858C2-DEF1-45C0-A023-B460242F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74F6F3-2AC8-4AAE-AE34-C78635B4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69EA2-4CF0-41EA-8A50-691E93B2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E21A4-F2C4-4961-BA00-2ABB4C1A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68E0C8-A43E-40A8-8F39-C1AF623F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2449-3AC6-40DD-945D-0391487E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37CAA-C92B-4FAC-928D-3CA8ED8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1BE8BD-EA64-4F43-828B-0ED0396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76536F-12B4-48D2-B214-AEF5B26E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610F4-E319-4E63-8983-4ECE9A3A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291EC0-C272-4999-9AAD-4F536647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4D00BB-BB51-437D-A3E4-097F46AE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5C0034-9638-45B8-9767-D16DBF21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2305C2-98E6-4261-BD60-1C85747A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52E509-CD61-451C-B987-F4FAD03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EE941C-245A-4475-A60E-82F0144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02D9-6A45-4122-97A5-D85397CA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5BBF22-CC9E-40B1-9029-C71245E4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46B286-5D77-4A41-8FAE-79617B28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9A0B37-A641-41C2-A325-CDFA603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CF8F74-EAEC-408C-8D0B-561214A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EAB38-58F1-47CD-8B84-9E80D890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E4FBFC-D2A4-4BC0-AE9F-5440ECBD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168969-7BD2-44EC-8AC9-EBC7A417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5AB037-91D6-4FDC-A59F-D07BF5C9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E23057-40F0-49A8-ACCB-47CA4B11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D8FD80-0A66-4840-80CD-B07AF9D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8361-34DE-4B1E-9427-95307DE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A50115-9501-4C91-A7B1-01A1AAA1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589548-41FE-411E-AB6E-E5960B4C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C43144-AAB4-407D-8EAA-7853A480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F35E7C-AC26-4159-947B-D1A4BCBF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74011D-9E12-4D50-A8B1-00F008C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E72EA0-D9A4-460A-B932-FF159AE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B1BA36-EE3A-448B-B6FC-7ECFF91B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17643F-A1E1-4F18-9BAB-21B037BC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61825F-4E75-4DA0-BE3F-DA3077A5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368FD6-6F40-4E33-9FB2-9692C79D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32A0-9808-45A3-A8D1-C74FFCBF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B9E4FE-8F88-4257-9448-418DF3C3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118222-6F70-4DD4-B974-8FDADF83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4DBDCC-E548-478B-9029-BEFD65CA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B6268F-0E0D-4741-B305-6387E1EE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2A902B-7BFA-4C2B-ACA4-054FD0FD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8089F8-DDB1-4B2D-8BCE-8AD9400A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A05C7F-9A44-4151-A269-F45C4A52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64653B-81C0-4A9C-B32C-9DD3914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5CC2CD-F952-49C8-B368-D60EEB08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BEDB69-32EE-4A64-A5AA-2639825A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2C4-D6BE-407B-894A-9DF4DE61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1588-67C8-4011-90F3-D5C15EF8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773F68-205F-432B-BCB5-3E8D79F5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F633C7-219A-4928-A2D8-3AB34381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39E5AA-6C8F-415D-A264-8F1B232F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3A850F-8DB2-430A-9F38-DEAF24FE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2BDBED-F840-4297-BB91-2860E2A8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A37824-9D21-4B31-94C1-6BF07FB4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F05FD8-BB5A-465C-9F5D-100BEAC4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7E2BB5-DDCE-4C44-AED6-B0DAC4ED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E37500-AB19-4791-9C45-40F82C5E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9C26B0-0F98-4FE3-B8A3-A7C6027D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A412-3DA9-45F0-A586-4E5162A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2F3A90-6DEB-410F-938A-3B6664C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80CC5B-9247-42FA-82AB-237D4DD8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A7C5CF-4D3A-4FC1-A3A9-558729BD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291614-6FF7-45DF-B3BD-62CC123A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7DBEC0-CAD1-45EB-BBCB-8EBDE8A6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52B1BC-A9E5-4E36-B905-F93300D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4106F9-74F5-4989-B27A-56036EC2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3E43A1-AE9D-49CD-8227-259CCE1F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9B60C2-EC94-4811-9C2C-A732DC28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A39496-BBDB-44ED-8D24-91738BD0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7D14B-2250-4BC3-B2C5-DEFAB6B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5CD8E6-083C-4831-9FE8-0B14313B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DCDD2B-C851-4DF7-BCFA-CDE98BB0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9B63EA-500B-4CE9-A69E-2FC9254B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CBFDBF-E26A-4D4A-8890-DA8EDD5B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A77E14-C031-4B9C-AE3F-34CBCF61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E68264-125E-4F24-BB4A-1091F9B3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FFE73D-6BB7-4474-B64B-6F4CBEC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1083CD-64E0-4991-9715-57E43525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E5C724-D1A9-495B-A727-BEBE4262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9937D1-D085-411D-82FF-A4BEF5FF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F626-23CD-44A7-9DA5-DE0462D4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724AB7-F97F-4875-B767-A2F65385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B92EE9-4642-48B5-91D7-65087AF7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34D7C8-564A-4983-B37B-C08675E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9B4F71-2FAE-4C51-AF6A-D0BBF961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1FD317-9C1C-40FA-ACFA-D3C3CE3E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63327A-0505-4813-91D8-FC1BBC07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AF7ED0-A269-4FB7-BC49-26B7DBE2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249BD1-042D-4AE7-BE1E-1B3898B9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2DEA6F-75AD-4961-8F70-596FFBA2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BD609D-D542-4CDC-B328-C282EAFC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36DC-D386-4104-86DB-692AC2D4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2448B4-2776-47B0-A57E-BCB633BE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A51D2F-57BB-48E8-B89B-AFF98D41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838095-3315-42A8-BDFC-9CC29D5D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3B9F3F-E219-4EC6-BDA6-E831AA3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06B773-2ECD-4D8C-838F-549ABF55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6DDDCA-1948-4E3C-BE54-2F9D067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E865AD-CD2F-4AAF-84E8-0DF80C1A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B37AAC-9CE7-476C-B8FF-EA78F436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F56582-8D52-4E83-B161-846B3819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78C864-3FAB-4833-9998-5EE29B33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FF7D-5A2D-4F0C-BC76-E1AF9DB7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6BE37B-22BC-43D1-A766-E7439CC7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EB6FD7-2BFD-4D35-AFED-C4CCEC11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4F5B41-8D22-4F84-B07E-3626BE72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91353B-DE68-44A9-A30F-F1A89324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E85C7E-00ED-4AF4-865B-F996F7E9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85EB71-69F0-4331-9239-FC89C97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113210-9519-41AD-95DA-9D1368A9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7FA2C9-BF3C-4602-BC68-FC2CAFD8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32FD4B-172D-41A2-8085-3BFDA2F7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7A9FF1-59EE-4E8D-A2C9-31E89616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7C8B-4305-4C93-8C30-B30D214D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141E6D-07DB-454B-BC79-8AE713C7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DE33-0F26-42F5-BBDB-7D20374C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0C68-C22F-4701-A0EA-BCB9FC8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52AF-41B6-4F2E-84E9-EECB5BBE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4D7-B7A9-4CAF-80EE-22A35B58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928B-7F47-406B-8845-4AD9D4A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0D89-F51B-42C2-B3EC-537E0F9D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4C3C-3706-485A-8B27-EC9262D0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D455-F6FA-46A4-9632-E5E83DAC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92CB-C638-4070-BEF3-1D6A1704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AE5B-197B-4DA2-88CC-424B2A0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9B417-48E6-428E-8F96-6DC68C8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E9848-51A8-488F-B455-385F73B8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21240-2550-4234-8509-B4600547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7488A-C5C6-4BAF-8EAC-128752DA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45E-AB4A-43C5-A88C-649D955B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3CCD8-7C86-43D2-8BC4-592172D9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67D07-3921-426D-821E-7BC3B4C4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F3A97-AE5B-477D-ADBE-7C6C1397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269F-C1F8-4409-A6D4-16A59C86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3B8D7-699E-4CFE-AD0B-03010B1E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03EEB-8574-4A76-B279-44F763AA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3D47-AD5A-44EF-8C70-566B26D0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B561-51F4-4467-9FA4-219003A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13AC-AF99-4A5F-8D41-15DBF21E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D19A-0CD6-463C-826D-445CD83C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A6F-1A0F-4E43-9A12-DEF6194E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9B1F-457F-4354-942F-E05C01C1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B349-9F3B-47F6-BE18-A4A0530F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A739-C457-486C-9DE8-C0923383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6AB6-0827-4139-8949-A119FC8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FAE36-7304-40DD-940A-2761B8E7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EBB78-53AD-4624-B350-7DCAFA69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8092-2293-4A3D-8459-A1EAF8E2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9E2FB-A112-4C97-A47A-1A33C194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E25D-3FE8-4DDF-8E67-977842E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7896-AC08-4E05-9535-A2B7DBD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5A1-2CFB-482A-80B3-D192D0E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A06A-72EF-43E6-9281-50EF90BD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765DF-CB84-44A8-B043-A24DDC03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1EE3-37BE-4D95-A6EF-8853CC2F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24FC-DA4A-4005-82AC-7D4BD832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5BBAC-BE3C-4087-B7AE-861B5DBC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98114-8950-4785-BDD4-E420052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1D26-B13A-4658-95D0-367E8609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3FA7-0642-4AE0-9C9B-4495CA15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5AB37-6C1D-4A4F-A749-0A00C5ED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974C3-8627-4F68-A952-281B6E14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F85-68AD-4617-9F5D-97F52035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1D0B7-7B15-4067-9765-56F34E4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56085-D631-4FE9-8F3F-6E253C8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837D5-7DF8-4D18-83FD-6422B95F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0EDC-FFD3-4125-8E99-5DAFC9EC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446BE-295A-4CE6-BB2D-0B838865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50BE-B0A4-421D-B053-BF119E3B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48501-E0CE-4580-A8B5-3AE28F46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98205-0664-49D4-8F4B-952C32E3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6AF8C-6C12-4F0A-907C-971B1F83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DB9C-AA8A-4CE1-A59C-E5AA85D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ACE-EFF2-4400-B613-9D95CDED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4AD8-10AB-46DD-902D-DAF9469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21B3-EEAC-4725-9467-3590DE34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D8971-D132-4450-9B44-B95D702B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9DD09-89FC-4E4E-98D3-A262193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770A1-8ACE-4B25-826F-549B627D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2A198-80B8-466B-B65D-B0E2C864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86715-9173-408D-AB68-C443E49B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C8ED7-2887-46E3-BD49-F417F0DA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62CB2-7302-421D-9C1B-04B84618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05CAD-20AE-4A06-A409-51255D4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49.xml"/><Relationship Id="rId8" Type="http://schemas.openxmlformats.org/officeDocument/2006/relationships/slideLayout" Target="../slideLayouts/slideLayout350.xml"/><Relationship Id="rId9" Type="http://schemas.openxmlformats.org/officeDocument/2006/relationships/slideLayout" Target="../slideLayouts/slideLayout351.xml"/><Relationship Id="rId10" Type="http://schemas.openxmlformats.org/officeDocument/2006/relationships/slideLayout" Target="../slideLayouts/slideLayout352.xml"/><Relationship Id="rId11" Type="http://schemas.openxmlformats.org/officeDocument/2006/relationships/slideLayout" Target="../slideLayouts/slideLayout353.xml"/><Relationship Id="rId12" Type="http://schemas.openxmlformats.org/officeDocument/2006/relationships/slideLayout" Target="../slideLayouts/slideLayout354.xml"/><Relationship Id="rId13" Type="http://schemas.openxmlformats.org/officeDocument/2006/relationships/slideLayout" Target="../slideLayouts/slideLayout355.xml"/><Relationship Id="rId14" Type="http://schemas.openxmlformats.org/officeDocument/2006/relationships/slideLayout" Target="../slideLayouts/slideLayout356.xml"/><Relationship Id="rId15" Type="http://schemas.openxmlformats.org/officeDocument/2006/relationships/slideLayout" Target="../slideLayouts/slideLayout357.xml"/><Relationship Id="rId16" Type="http://schemas.openxmlformats.org/officeDocument/2006/relationships/slideLayout" Target="../slideLayouts/slideLayout358.xml"/><Relationship Id="rId17" Type="http://schemas.openxmlformats.org/officeDocument/2006/relationships/slideLayout" Target="../slideLayouts/slideLayout359.xml"/><Relationship Id="rId18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D534-E20C-4A95-8548-457596AAE8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AAE9-EAE7-44A7-A146-9F5C0E147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5C97-FFA8-4124-B47D-BD885D383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743-9B18-414A-8533-1224730A8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82E6-1518-4C93-9C8E-74FA9EFD3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6054-CC9B-4350-B5CE-5199AFF01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F402-CF85-4376-B502-5F7D00EDC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82EA-9323-4916-80AE-525EF7566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8E5D-CF1A-4CA2-87B4-494EADAC4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815F-D485-46C7-92D7-4C99C4F8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13A0-8BC4-4E2F-83A5-7E26EE63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1634-7DDA-42E1-9969-0DE09D34E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EAF3-E54E-4A02-9BAF-C3A027F8C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8C0B-E49C-4C83-9C9C-19DEFFBF8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3859-23F6-4209-9285-5ED911B70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DB2-67F2-4EB2-AA80-715441E3D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F904-44C2-4BE6-8C9C-17A85461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345-4286-48A6-9EE8-A39D26461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E93F-803D-4909-ADF2-20CB042AE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DA41-9E04-42B8-A135-9EEB3B4AA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9403-78BB-4118-8729-3345DEF33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625A-E6E3-4552-8B1E-C75D7C3DF92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E547-F582-4E22-BC2F-3EF3A30E5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2D49-8A9C-461F-9F40-DE675968E0A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7"/>
    <p:sldLayoutId id="2147484027" r:id="rId8"/>
    <p:sldLayoutId id="2147484028" r:id="rId9"/>
    <p:sldLayoutId id="2147484029" r:id="rId10"/>
    <p:sldLayoutId id="2147484030" r:id="rId11"/>
    <p:sldLayoutId id="2147484031" r:id="rId12"/>
    <p:sldLayoutId id="2147484032" r:id="rId13"/>
    <p:sldLayoutId id="2147484033" r:id="rId14"/>
    <p:sldLayoutId id="2147484034" r:id="rId15"/>
    <p:sldLayoutId id="2147484035" r:id="rId16"/>
    <p:sldLayoutId id="2147484036" r:id="rId17"/>
    <p:sldLayoutId id="2147484037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C1A9-E2F6-43B8-AC51-73A481E0291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F79C-E134-419A-A448-09FC989E200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2AA3-AFA9-4EDA-9355-58CC938145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C62C-8498-4278-A6D6-1B35CAC89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50B8-E016-468E-A745-E734E532E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F215-44A9-4E2C-926D-27DBF286E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rlc.dcccd.edu/mathsci/reynolds/micro/lab_manual/Litmsmk.jpg&amp;imgrefurl=http://www.rlc.dcccd.edu/mathsci/reynolds/micro/lab_manual/litmus_milk.html&amp;h=171&amp;w=168&amp;sz=7&amp;hl=en&amp;start=15&amp;tbnid=FhT_hEMDEmq5-M:&amp;tbnh=100&amp;tbnw=98&amp;prev=/images%3Fq%3DLitmus%2Bmilk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ostri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Gram posi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ight or slightly curved rods with slightly rounded e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erobic bacill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e bear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e do not germinate and growth does not normally proceed unless a suitably low red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prophy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are commensals of the animal &amp; human gut which invade the blood and tissue when host die and initiate the decomposition of the corpse (dead bod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diseases such a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gas gangre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etan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otul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seudo-membranous colit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producing toxins which attack the neurons pathw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agler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8" name="Picture 4" descr="A Nagler plate "/>
          <p:cNvPicPr/>
          <p:nvPr/>
        </p:nvPicPr>
        <p:blipFill>
          <a:blip r:embed="rId1"/>
          <a:stretch/>
        </p:blipFill>
        <p:spPr>
          <a:xfrm>
            <a:off x="684360" y="2276640"/>
            <a:ext cx="3867120" cy="282888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6" descr="untitled"/>
          <p:cNvPicPr/>
          <p:nvPr/>
        </p:nvPicPr>
        <p:blipFill>
          <a:blip r:embed="rId2"/>
          <a:stretch/>
        </p:blipFill>
        <p:spPr>
          <a:xfrm>
            <a:off x="5003640" y="1989000"/>
            <a:ext cx="2953080" cy="3024360"/>
          </a:xfrm>
          <a:prstGeom prst="rect">
            <a:avLst/>
          </a:prstGeom>
          <a:ln w="0">
            <a:noFill/>
          </a:ln>
        </p:spPr>
      </p:pic>
      <p:sp>
        <p:nvSpPr>
          <p:cNvPr id="1560" name="Text Box 8"/>
          <p:cNvSpPr/>
          <p:nvPr/>
        </p:nvSpPr>
        <p:spPr>
          <a:xfrm>
            <a:off x="5009760" y="544032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ve Nagler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Text Box 9"/>
          <p:cNvSpPr/>
          <p:nvPr/>
        </p:nvSpPr>
        <p:spPr>
          <a:xfrm>
            <a:off x="744120" y="558324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cedure of Nagler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naerobic Cul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oxygen &amp; replacing it with inert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erobic J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especially plastic jar with a tightly fitted l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drogen is introduced from commercially available hydrogen generators envel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ml of water is added to envelop  immediately before placing it in the 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drogen and carbon dioxide will release and react with oxygen in the presence of catalyst to form water dropl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aerobic indicator (Methylene blue) is placed in the 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106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thylene blue is blue in oxidized state (Aerobic condition) while turns colorless in reduced state (Anaerobic condition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naerobic Cul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Media containing reduc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oglycollate br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nt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 thioglycollate (Reducing ag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zazurin (redox indica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percentage of Agar-Agar to increase viscosity of me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oked Meat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nt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t particles (prepared from heart muscles) which contain hematin &amp; glutathione that act as reducing a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Growth on Fluid Thioglycolat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7" name="Picture 4" descr="thio4"/>
          <p:cNvPicPr/>
          <p:nvPr/>
        </p:nvPicPr>
        <p:blipFill>
          <a:blip r:embed="rId1"/>
          <a:stretch/>
        </p:blipFill>
        <p:spPr>
          <a:xfrm>
            <a:off x="179280" y="1916280"/>
            <a:ext cx="5543640" cy="427176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6" descr="thio"/>
          <p:cNvPicPr/>
          <p:nvPr/>
        </p:nvPicPr>
        <p:blipFill>
          <a:blip r:embed="rId2"/>
          <a:stretch/>
        </p:blipFill>
        <p:spPr>
          <a:xfrm>
            <a:off x="7308720" y="2060640"/>
            <a:ext cx="1076400" cy="3095640"/>
          </a:xfrm>
          <a:prstGeom prst="rect">
            <a:avLst/>
          </a:prstGeom>
          <a:ln w="0">
            <a:noFill/>
          </a:ln>
        </p:spPr>
      </p:pic>
      <p:sp>
        <p:nvSpPr>
          <p:cNvPr id="1569" name="Rectangle 7"/>
          <p:cNvSpPr/>
          <p:nvPr/>
        </p:nvSpPr>
        <p:spPr>
          <a:xfrm>
            <a:off x="6192720" y="119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Clostridium sporogene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owing in Thioglycolate Medium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Rectangle 8"/>
          <p:cNvSpPr/>
          <p:nvPr/>
        </p:nvSpPr>
        <p:spPr>
          <a:xfrm>
            <a:off x="6588000" y="5229360"/>
            <a:ext cx="23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ucing agents in the medium absorb oxygen and allow obligate anaerobes to grow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action on Cooked Meat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ccharoly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uses fermentation of glycogen of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on of acid and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t particles remain i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l. perferg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eoly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uses digestion of meat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ion of black, foul smelling due to sulfur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5" name="Picture 9" descr="anjar"/>
          <p:cNvPicPr/>
          <p:nvPr/>
        </p:nvPicPr>
        <p:blipFill>
          <a:blip r:embed="rId3"/>
          <a:stretch/>
        </p:blipFill>
        <p:spPr>
          <a:xfrm>
            <a:off x="138096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10" descr="cndljr"/>
          <p:cNvPicPr/>
          <p:nvPr/>
        </p:nvPicPr>
        <p:blipFill>
          <a:blip r:embed="rId4"/>
          <a:stretch/>
        </p:blipFill>
        <p:spPr>
          <a:xfrm>
            <a:off x="5572080" y="160020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1577" name="Text Box 11"/>
          <p:cNvSpPr/>
          <p:nvPr/>
        </p:nvSpPr>
        <p:spPr>
          <a:xfrm>
            <a:off x="1612800" y="12621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aerobic 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Text Box 12"/>
          <p:cNvSpPr/>
          <p:nvPr/>
        </p:nvSpPr>
        <p:spPr>
          <a:xfrm>
            <a:off x="5807160" y="1197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ndle 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4" descr="ClostridiumCellulitisPhoto"/>
          <p:cNvPicPr/>
          <p:nvPr/>
        </p:nvPicPr>
        <p:blipFill>
          <a:blip r:embed="rId1"/>
          <a:stretch/>
        </p:blipFill>
        <p:spPr>
          <a:xfrm>
            <a:off x="1803240" y="1143000"/>
            <a:ext cx="5596200" cy="528948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5"/>
          <p:cNvSpPr/>
          <p:nvPr/>
        </p:nvSpPr>
        <p:spPr>
          <a:xfrm>
            <a:off x="12600" y="228600"/>
            <a:ext cx="91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78b"/>
                </a:solidFill>
                <a:latin typeface="Arial"/>
              </a:rPr>
              <a:t>Clostridial Cellu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1" name="Picture 2" descr="TetanusRisusSardonicusPhoto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4738680"/>
          </a:xfrm>
          <a:prstGeom prst="rect">
            <a:avLst/>
          </a:prstGeom>
          <a:ln w="0">
            <a:noFill/>
          </a:ln>
        </p:spPr>
      </p:pic>
      <p:sp>
        <p:nvSpPr>
          <p:cNvPr id="1582" name="Text Box 3"/>
          <p:cNvSpPr/>
          <p:nvPr/>
        </p:nvSpPr>
        <p:spPr>
          <a:xfrm>
            <a:off x="12600" y="289080"/>
            <a:ext cx="913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4078b"/>
                </a:solidFill>
                <a:latin typeface="Arial"/>
              </a:rPr>
              <a:t>Risus Sardonicus in Tetanu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14078b"/>
                </a:solidFill>
                <a:latin typeface="Arial"/>
              </a:rPr>
              <a:t>Pat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ox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oxins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. perfringe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oxi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hospholipase C, lecithinase) is the most important tox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ses of RBCs, platelets, leucocytes and endotheli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vascular permeability with massive hemolysis and bleeding tissue de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patic toxicity and myocardial dys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tox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sponsible for necrotic lesions in necrotizing enteroco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nterotoxi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heat labile toxin produced in colon → food poi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ox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. tetan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es two types of tox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etanolys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causes lysis of RB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etanospas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neurotoxin and essential pathogenic produ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tanospasmin is toxic to humans and various animals when injected parenterally, but it is not toxic by the oral ro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tanospasmin which causes increasing excitability of spinal cord neurons and muscle sp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ostridia of medical impor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0" name="Organization Chart 6"/>
          <p:cNvGrpSpPr/>
          <p:nvPr/>
        </p:nvGrpSpPr>
        <p:grpSpPr>
          <a:xfrm>
            <a:off x="457200" y="1600200"/>
            <a:ext cx="8229600" cy="4530600"/>
            <a:chOff x="457200" y="1600200"/>
            <a:chExt cx="8229600" cy="4530600"/>
          </a:xfrm>
        </p:grpSpPr>
        <p:cxnSp>
          <p:nvCxnSpPr>
            <p:cNvPr id="1481" name="_s1028"/>
            <p:cNvCxnSpPr/>
            <p:nvPr/>
          </p:nvCxnSpPr>
          <p:spPr>
            <a:xfrm flipV="1" rot="16200000">
              <a:off x="3156840" y="4058280"/>
              <a:ext cx="1577160" cy="16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2" name="_s1029"/>
            <p:cNvCxnSpPr>
              <a:stCxn id="1483" idx="0"/>
              <a:endCxn id="1484" idx="2"/>
            </p:cNvCxnSpPr>
            <p:nvPr/>
          </p:nvCxnSpPr>
          <p:spPr>
            <a:xfrm flipV="1" rot="16200000">
              <a:off x="5716800" y="1438200"/>
              <a:ext cx="483480" cy="2774160"/>
            </a:xfrm>
            <a:prstGeom prst="bentConnector3">
              <a:avLst>
                <a:gd name="adj1" fmla="val 408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5" name="_s1030"/>
            <p:cNvCxnSpPr/>
            <p:nvPr/>
          </p:nvCxnSpPr>
          <p:spPr>
            <a:xfrm flipV="1" rot="16200000">
              <a:off x="4493520" y="1821960"/>
              <a:ext cx="1139040" cy="3847320"/>
            </a:xfrm>
            <a:prstGeom prst="bentConnector3">
              <a:avLst>
                <a:gd name="adj1" fmla="val 17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6" name="_s1031"/>
            <p:cNvCxnSpPr/>
            <p:nvPr/>
          </p:nvCxnSpPr>
          <p:spPr>
            <a:xfrm flipH="1" flipV="1" rot="5400000">
              <a:off x="2287800" y="3462840"/>
              <a:ext cx="1139040" cy="565560"/>
            </a:xfrm>
            <a:prstGeom prst="bentConnector3">
              <a:avLst>
                <a:gd name="adj1" fmla="val 17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7" name="_s1032"/>
            <p:cNvCxnSpPr>
              <a:stCxn id="1488" idx="0"/>
              <a:endCxn id="1484" idx="2"/>
            </p:cNvCxnSpPr>
            <p:nvPr/>
          </p:nvCxnSpPr>
          <p:spPr>
            <a:xfrm flipV="1" rot="16200000">
              <a:off x="4519080" y="2635920"/>
              <a:ext cx="483480" cy="378720"/>
            </a:xfrm>
            <a:prstGeom prst="bentConnector3">
              <a:avLst>
                <a:gd name="adj1" fmla="val 408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9" name="_s1033"/>
            <p:cNvCxnSpPr>
              <a:stCxn id="1490" idx="0"/>
              <a:endCxn id="1484" idx="2"/>
            </p:cNvCxnSpPr>
            <p:nvPr/>
          </p:nvCxnSpPr>
          <p:spPr>
            <a:xfrm flipH="1" flipV="1" rot="5400000">
              <a:off x="3569760" y="2064600"/>
              <a:ext cx="483480" cy="1521720"/>
            </a:xfrm>
            <a:prstGeom prst="bentConnector3">
              <a:avLst>
                <a:gd name="adj1" fmla="val 408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1" name="_s1034"/>
            <p:cNvCxnSpPr>
              <a:stCxn id="1492" idx="0"/>
              <a:endCxn id="1484" idx="2"/>
            </p:cNvCxnSpPr>
            <p:nvPr/>
          </p:nvCxnSpPr>
          <p:spPr>
            <a:xfrm flipH="1" flipV="1" rot="5400000">
              <a:off x="2675520" y="1170360"/>
              <a:ext cx="483480" cy="3310560"/>
            </a:xfrm>
            <a:prstGeom prst="bentConnector3">
              <a:avLst>
                <a:gd name="adj1" fmla="val 408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4" name="_s1035"/>
            <p:cNvSpPr/>
            <p:nvPr/>
          </p:nvSpPr>
          <p:spPr>
            <a:xfrm>
              <a:off x="2603520" y="1600200"/>
              <a:ext cx="3936960" cy="984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cc0000"/>
                  </a:solidFill>
                  <a:latin typeface="Times New Roman"/>
                </a:rPr>
                <a:t>Clostridium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cc0000"/>
                  </a:solidFill>
                  <a:latin typeface="Times New Roman"/>
                </a:rPr>
                <a:t>Causing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_s1036"/>
            <p:cNvSpPr/>
            <p:nvPr/>
          </p:nvSpPr>
          <p:spPr>
            <a:xfrm>
              <a:off x="457200" y="3067200"/>
              <a:ext cx="1609560" cy="69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Tetan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Times New Roman"/>
                </a:rPr>
                <a:t>Cl. tetan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_s1037"/>
            <p:cNvSpPr/>
            <p:nvPr/>
          </p:nvSpPr>
          <p:spPr>
            <a:xfrm>
              <a:off x="2246400" y="3067200"/>
              <a:ext cx="1609560" cy="69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Gas gangre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_s1038"/>
            <p:cNvSpPr/>
            <p:nvPr/>
          </p:nvSpPr>
          <p:spPr>
            <a:xfrm>
              <a:off x="4035600" y="3067200"/>
              <a:ext cx="1828800" cy="69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Botulis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Times New Roman"/>
                </a:rPr>
                <a:t>Cl. botul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_s1039"/>
            <p:cNvSpPr/>
            <p:nvPr/>
          </p:nvSpPr>
          <p:spPr>
            <a:xfrm>
              <a:off x="934920" y="4357800"/>
              <a:ext cx="3279960" cy="88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Saccharoly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500" spc="-1" strike="noStrike">
                  <a:solidFill>
                    <a:srgbClr val="cc0000"/>
                  </a:solidFill>
                  <a:latin typeface="Times New Roman"/>
                </a:rPr>
                <a:t>Cl. perfringens</a:t>
              </a:r>
              <a:r>
                <a:rPr b="0" lang="en-US" sz="1500" spc="-1" strike="noStrike">
                  <a:solidFill>
                    <a:srgbClr val="cc0000"/>
                  </a:solidFill>
                  <a:latin typeface="Times New Roman"/>
                </a:rPr>
                <a:t> &amp;</a:t>
              </a:r>
              <a:r>
                <a:rPr b="0" i="1" lang="en-US" sz="1500" spc="-1" strike="noStrike">
                  <a:solidFill>
                    <a:srgbClr val="cc0000"/>
                  </a:solidFill>
                  <a:latin typeface="Times New Roman"/>
                </a:rPr>
                <a:t>Cl. septicum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_s1040"/>
            <p:cNvSpPr/>
            <p:nvPr/>
          </p:nvSpPr>
          <p:spPr>
            <a:xfrm>
              <a:off x="5465880" y="4357800"/>
              <a:ext cx="3041640" cy="88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Proteoly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500" spc="-1" strike="noStrike">
                  <a:solidFill>
                    <a:srgbClr val="cc0000"/>
                  </a:solidFill>
                  <a:latin typeface="Times New Roman"/>
                </a:rPr>
                <a:t>Cl. sporogen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_s1041"/>
            <p:cNvSpPr/>
            <p:nvPr/>
          </p:nvSpPr>
          <p:spPr>
            <a:xfrm>
              <a:off x="6004080" y="3067200"/>
              <a:ext cx="2682720" cy="699840"/>
            </a:xfrm>
            <a:prstGeom prst="roundRect">
              <a:avLst>
                <a:gd name="adj" fmla="val 190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500" spc="-1" strike="noStrike">
                  <a:solidFill>
                    <a:srgbClr val="cc0000"/>
                  </a:solidFill>
                  <a:latin typeface="Times New Roman"/>
                  <a:cs typeface="Times New Roman"/>
                </a:rPr>
                <a:t>ِ</a:t>
              </a:r>
              <a:r>
                <a:rPr b="1" lang="en-US" sz="1500" spc="-1" strike="noStrike">
                  <a:solidFill>
                    <a:srgbClr val="cc0000"/>
                  </a:solidFill>
                  <a:latin typeface="Times New Roman"/>
                </a:rPr>
                <a:t>Antibiotic associated diarrhe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700" spc="-1" strike="noStrike">
                  <a:solidFill>
                    <a:srgbClr val="cc0000"/>
                  </a:solidFill>
                  <a:latin typeface="Times New Roman"/>
                </a:rPr>
                <a:t>Cl. difficill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_s1042"/>
            <p:cNvSpPr/>
            <p:nvPr/>
          </p:nvSpPr>
          <p:spPr>
            <a:xfrm>
              <a:off x="2962440" y="5351400"/>
              <a:ext cx="3755880" cy="779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Mixed: </a:t>
              </a:r>
              <a:r>
                <a:rPr b="0" i="1" lang="en-US" sz="1500" spc="-1" strike="noStrike">
                  <a:solidFill>
                    <a:srgbClr val="cc0000"/>
                  </a:solidFill>
                  <a:latin typeface="Times New Roman"/>
                </a:rPr>
                <a:t>Cl. histolyticum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lostridium Causing Tetanus</a:t>
            </a:r>
            <a:br>
              <a:rPr sz="4000"/>
            </a:br>
            <a:r>
              <a:rPr b="0" i="1" lang="en-US" sz="4000" spc="-1" strike="noStrike">
                <a:solidFill>
                  <a:srgbClr val="cc0000"/>
                </a:solidFill>
                <a:latin typeface="Arial"/>
              </a:rPr>
              <a:t>Cl. teta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9040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 positive, straight, slender rod with rounded e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pecies form endospore (drumstick with a large round 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en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te anaero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le by peritrichous flagel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s well in cooked meat broth and produces a thin spreading film when grown on enriched blood ag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es are highly resistant to adverse cond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dine (1%) in water is able to kill the spores within a few h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4" descr="PHOTO77"/>
          <p:cNvPicPr/>
          <p:nvPr/>
        </p:nvPicPr>
        <p:blipFill>
          <a:blip r:embed="rId9"/>
          <a:stretch/>
        </p:blipFill>
        <p:spPr>
          <a:xfrm>
            <a:off x="6407280" y="2421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6" descr="Clostridium"/>
          <p:cNvPicPr/>
          <p:nvPr/>
        </p:nvPicPr>
        <p:blipFill>
          <a:blip r:embed="rId10"/>
          <a:stretch/>
        </p:blipFill>
        <p:spPr>
          <a:xfrm>
            <a:off x="6227640" y="5248440"/>
            <a:ext cx="2916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lostridium Causing Gas Gangre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1" name="Organization Chart 6"/>
          <p:cNvGrpSpPr/>
          <p:nvPr/>
        </p:nvGrpSpPr>
        <p:grpSpPr>
          <a:xfrm>
            <a:off x="457200" y="1600200"/>
            <a:ext cx="8229240" cy="4362120"/>
            <a:chOff x="457200" y="1600200"/>
            <a:chExt cx="8229240" cy="4362120"/>
          </a:xfrm>
        </p:grpSpPr>
        <p:cxnSp>
          <p:nvCxnSpPr>
            <p:cNvPr id="1502" name="_s2052"/>
            <p:cNvCxnSpPr/>
            <p:nvPr/>
          </p:nvCxnSpPr>
          <p:spPr>
            <a:xfrm flipV="1">
              <a:off x="4482360" y="2010240"/>
              <a:ext cx="1440" cy="292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3" name="_s2053"/>
            <p:cNvCxnSpPr/>
            <p:nvPr/>
          </p:nvCxnSpPr>
          <p:spPr>
            <a:xfrm flipV="1" rot="16200000">
              <a:off x="5104080" y="1171800"/>
              <a:ext cx="1171440" cy="2415960"/>
            </a:xfrm>
            <a:prstGeom prst="bentConnector3">
              <a:avLst>
                <a:gd name="adj1" fmla="val 166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4" name="_s2054"/>
            <p:cNvCxnSpPr/>
            <p:nvPr/>
          </p:nvCxnSpPr>
          <p:spPr>
            <a:xfrm flipH="1" flipV="1" rot="5400000">
              <a:off x="2778480" y="1261440"/>
              <a:ext cx="1171440" cy="2237040"/>
            </a:xfrm>
            <a:prstGeom prst="bentConnector3">
              <a:avLst>
                <a:gd name="adj1" fmla="val 166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5" name="_s2055"/>
            <p:cNvSpPr/>
            <p:nvPr/>
          </p:nvSpPr>
          <p:spPr>
            <a:xfrm>
              <a:off x="2424960" y="1600200"/>
              <a:ext cx="4114800" cy="78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Times New Roman"/>
                </a:rPr>
                <a:t>Clostridia causing gas gangrene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_s2056"/>
            <p:cNvSpPr/>
            <p:nvPr/>
          </p:nvSpPr>
          <p:spPr>
            <a:xfrm>
              <a:off x="457200" y="2966760"/>
              <a:ext cx="3756600" cy="1732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c0000"/>
                  </a:solidFill>
                  <a:latin typeface="Times New Roman"/>
                </a:rPr>
                <a:t>Saccharolytic organism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cc0000"/>
                  </a:solidFill>
                  <a:latin typeface="Times New Roman"/>
                </a:rPr>
                <a:t>Cl. perfringens, Cl. septicum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Times New Roman"/>
                </a:rPr>
                <a:t>Ferment carbohydrat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Times New Roman"/>
                </a:rPr>
                <a:t>Acid and gas are produc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_s2057"/>
            <p:cNvSpPr/>
            <p:nvPr/>
          </p:nvSpPr>
          <p:spPr>
            <a:xfrm>
              <a:off x="5108400" y="2966760"/>
              <a:ext cx="3578040" cy="1732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c0000"/>
                  </a:solidFill>
                  <a:latin typeface="Times New Roman"/>
                </a:rPr>
                <a:t>Proteolytic organism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cc0000"/>
                  </a:solidFill>
                  <a:latin typeface="Times New Roman"/>
                </a:rPr>
                <a:t>Cl. sporogen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Times New Roman"/>
                </a:rPr>
                <a:t>Digest proteins with blackening bad smell produc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_s2058"/>
            <p:cNvSpPr/>
            <p:nvPr/>
          </p:nvSpPr>
          <p:spPr>
            <a:xfrm>
              <a:off x="2268000" y="4941000"/>
              <a:ext cx="4608720" cy="102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c0000"/>
                  </a:solidFill>
                  <a:latin typeface="Times New Roman"/>
                </a:rPr>
                <a:t>Mixed saccharolytic &amp; proteolytic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cc0000"/>
                  </a:solidFill>
                  <a:latin typeface="Times New Roman"/>
                </a:rPr>
                <a:t>Cl. histolyticum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action on Litmus Mi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Text Box 4"/>
          <p:cNvSpPr/>
          <p:nvPr/>
        </p:nvSpPr>
        <p:spPr>
          <a:xfrm>
            <a:off x="3512880" y="166860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tmus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"/>
          <p:cNvSpPr/>
          <p:nvPr/>
        </p:nvSpPr>
        <p:spPr>
          <a:xfrm flipH="1">
            <a:off x="2557440" y="2205000"/>
            <a:ext cx="1943280" cy="100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6"/>
          <p:cNvSpPr/>
          <p:nvPr/>
        </p:nvSpPr>
        <p:spPr>
          <a:xfrm>
            <a:off x="4500720" y="2205000"/>
            <a:ext cx="2376360" cy="11509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7"/>
          <p:cNvSpPr/>
          <p:nvPr/>
        </p:nvSpPr>
        <p:spPr>
          <a:xfrm>
            <a:off x="1361880" y="330372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mmed Mi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out F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 Box 8"/>
          <p:cNvSpPr/>
          <p:nvPr/>
        </p:nvSpPr>
        <p:spPr>
          <a:xfrm>
            <a:off x="5618160" y="33037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mus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9"/>
          <p:cNvSpPr/>
          <p:nvPr/>
        </p:nvSpPr>
        <p:spPr>
          <a:xfrm>
            <a:off x="6948360" y="3716280"/>
            <a:ext cx="0" cy="1441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10"/>
          <p:cNvSpPr/>
          <p:nvPr/>
        </p:nvSpPr>
        <p:spPr>
          <a:xfrm>
            <a:off x="5589360" y="514980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 Base and Redox ind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11"/>
          <p:cNvSpPr/>
          <p:nvPr/>
        </p:nvSpPr>
        <p:spPr>
          <a:xfrm flipH="1">
            <a:off x="1403280" y="4076640"/>
            <a:ext cx="1008000" cy="647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12"/>
          <p:cNvSpPr/>
          <p:nvPr/>
        </p:nvSpPr>
        <p:spPr>
          <a:xfrm>
            <a:off x="853560" y="4889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Line 13"/>
          <p:cNvSpPr/>
          <p:nvPr/>
        </p:nvSpPr>
        <p:spPr>
          <a:xfrm>
            <a:off x="2484360" y="4076640"/>
            <a:ext cx="1150920" cy="7923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Text Box 14"/>
          <p:cNvSpPr/>
          <p:nvPr/>
        </p:nvSpPr>
        <p:spPr>
          <a:xfrm>
            <a:off x="3183480" y="49608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Oval 15"/>
          <p:cNvSpPr/>
          <p:nvPr/>
        </p:nvSpPr>
        <p:spPr>
          <a:xfrm>
            <a:off x="3851280" y="2421000"/>
            <a:ext cx="1368360" cy="647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action on Litmus Mi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4"/>
          <p:cNvSpPr/>
          <p:nvPr/>
        </p:nvSpPr>
        <p:spPr>
          <a:xfrm>
            <a:off x="468360" y="2768760"/>
            <a:ext cx="849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tos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                            Pink C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ilk Sug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Line 5"/>
          <p:cNvSpPr/>
          <p:nvPr/>
        </p:nvSpPr>
        <p:spPr>
          <a:xfrm>
            <a:off x="1979640" y="3068640"/>
            <a:ext cx="216072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2050920" y="25272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er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Line 7"/>
          <p:cNvSpPr/>
          <p:nvPr/>
        </p:nvSpPr>
        <p:spPr>
          <a:xfrm>
            <a:off x="5003640" y="2997360"/>
            <a:ext cx="216072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Text Box 8"/>
          <p:cNvSpPr/>
          <p:nvPr/>
        </p:nvSpPr>
        <p:spPr>
          <a:xfrm>
            <a:off x="5003640" y="2492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tmus Indic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3160080" y="17575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- Acidic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Text Box 11"/>
          <p:cNvSpPr/>
          <p:nvPr/>
        </p:nvSpPr>
        <p:spPr>
          <a:xfrm>
            <a:off x="3375720" y="398952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Basic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 Box 12"/>
          <p:cNvSpPr/>
          <p:nvPr/>
        </p:nvSpPr>
        <p:spPr>
          <a:xfrm>
            <a:off x="250920" y="5145120"/>
            <a:ext cx="885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ne amines                            Blue C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ilk Prote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Line 13"/>
          <p:cNvSpPr/>
          <p:nvPr/>
        </p:nvSpPr>
        <p:spPr>
          <a:xfrm>
            <a:off x="1547640" y="5373720"/>
            <a:ext cx="151164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 Box 14"/>
          <p:cNvSpPr/>
          <p:nvPr/>
        </p:nvSpPr>
        <p:spPr>
          <a:xfrm>
            <a:off x="1547640" y="4832280"/>
            <a:ext cx="14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g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Text Box 15"/>
          <p:cNvSpPr/>
          <p:nvPr/>
        </p:nvSpPr>
        <p:spPr>
          <a:xfrm>
            <a:off x="5219640" y="4761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tmus Indic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Line 16"/>
          <p:cNvSpPr/>
          <p:nvPr/>
        </p:nvSpPr>
        <p:spPr>
          <a:xfrm>
            <a:off x="5291280" y="5373720"/>
            <a:ext cx="216036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action on Litmus Mi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4"/>
          <p:cNvSpPr/>
          <p:nvPr/>
        </p:nvSpPr>
        <p:spPr>
          <a:xfrm>
            <a:off x="2847960" y="177336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ormy Clot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6"/>
          <p:cNvSpPr/>
          <p:nvPr/>
        </p:nvSpPr>
        <p:spPr>
          <a:xfrm>
            <a:off x="2484360" y="3500280"/>
            <a:ext cx="17272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 Box 7"/>
          <p:cNvSpPr/>
          <p:nvPr/>
        </p:nvSpPr>
        <p:spPr>
          <a:xfrm>
            <a:off x="2539440" y="2997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Line 8"/>
          <p:cNvSpPr/>
          <p:nvPr/>
        </p:nvSpPr>
        <p:spPr>
          <a:xfrm>
            <a:off x="4859280" y="3789360"/>
            <a:ext cx="0" cy="100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Text Box 9"/>
          <p:cNvSpPr/>
          <p:nvPr/>
        </p:nvSpPr>
        <p:spPr>
          <a:xfrm>
            <a:off x="4055760" y="481644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Line 10"/>
          <p:cNvSpPr/>
          <p:nvPr/>
        </p:nvSpPr>
        <p:spPr>
          <a:xfrm>
            <a:off x="5724360" y="5157720"/>
            <a:ext cx="180036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Text Box 11"/>
          <p:cNvSpPr/>
          <p:nvPr/>
        </p:nvSpPr>
        <p:spPr>
          <a:xfrm>
            <a:off x="5152320" y="4070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a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Line 14"/>
          <p:cNvSpPr/>
          <p:nvPr/>
        </p:nvSpPr>
        <p:spPr>
          <a:xfrm>
            <a:off x="6372360" y="3500280"/>
            <a:ext cx="93636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Line 15"/>
          <p:cNvSpPr/>
          <p:nvPr/>
        </p:nvSpPr>
        <p:spPr>
          <a:xfrm flipV="1">
            <a:off x="7956720" y="3787560"/>
            <a:ext cx="0" cy="936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Oval 17"/>
          <p:cNvSpPr/>
          <p:nvPr/>
        </p:nvSpPr>
        <p:spPr>
          <a:xfrm>
            <a:off x="5508720" y="3141720"/>
            <a:ext cx="792000" cy="718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Oval 20"/>
          <p:cNvSpPr/>
          <p:nvPr/>
        </p:nvSpPr>
        <p:spPr>
          <a:xfrm>
            <a:off x="7596360" y="4726080"/>
            <a:ext cx="792000" cy="718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Oval 21"/>
          <p:cNvSpPr/>
          <p:nvPr/>
        </p:nvSpPr>
        <p:spPr>
          <a:xfrm>
            <a:off x="7380360" y="3213000"/>
            <a:ext cx="1692360" cy="576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my C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 Box 23"/>
          <p:cNvSpPr/>
          <p:nvPr/>
        </p:nvSpPr>
        <p:spPr>
          <a:xfrm>
            <a:off x="862920" y="3710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k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 Box 24"/>
          <p:cNvSpPr/>
          <p:nvPr/>
        </p:nvSpPr>
        <p:spPr>
          <a:xfrm>
            <a:off x="801000" y="3232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t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Oval 26"/>
          <p:cNvSpPr/>
          <p:nvPr/>
        </p:nvSpPr>
        <p:spPr>
          <a:xfrm>
            <a:off x="4500720" y="3141720"/>
            <a:ext cx="792000" cy="718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 Box 27"/>
          <p:cNvSpPr/>
          <p:nvPr/>
        </p:nvSpPr>
        <p:spPr>
          <a:xfrm>
            <a:off x="5219640" y="3232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action on Litmus Mi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3" name="Picture 5" descr="Litmsm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565360"/>
            <a:ext cx="3684600" cy="376092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7" descr="litmus"/>
          <p:cNvPicPr/>
          <p:nvPr/>
        </p:nvPicPr>
        <p:blipFill>
          <a:blip r:embed="rId3"/>
          <a:stretch/>
        </p:blipFill>
        <p:spPr>
          <a:xfrm>
            <a:off x="5867280" y="2451240"/>
            <a:ext cx="2454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agler’s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test is done to detect the lecithinas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.O is inoculated on the medium containing human serum or egg yolk (contains lecith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te is incubated anaerobically at 37 C for 24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e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l. perfringe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urrounded by zones of turbidity due to lecithinase activity and the effect is specifically inhibited 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l. perfringe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tiserum contain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titoxin is present on the med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5:34:04Z</dcterms:created>
  <dc:creator>User</dc:creator>
  <dc:description/>
  <dc:language>en-US</dc:language>
  <cp:lastModifiedBy>waf</cp:lastModifiedBy>
  <cp:lastPrinted>2012-03-20T00:34:47Z</cp:lastPrinted>
  <dcterms:modified xsi:type="dcterms:W3CDTF">2015-03-05T08:30:01Z</dcterms:modified>
  <cp:revision>27</cp:revision>
  <dc:subject/>
  <dc:title>Clostridium sp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