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C5C-88C8-43F0-B3E1-3DEA2F2F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220-395B-4F12-A42B-4D3EA263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1C7-4449-46B4-ABCA-64AE7451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5D6-ABF1-4A09-87FE-7FB5EF41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270-972C-4229-8550-96CAF6E2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A3F-DFDA-4F64-AFBF-7243E1E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66A-08FE-4C23-BBBA-B29D866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DEB-BCA1-48E4-8C1C-1CA397D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E21-94F5-4A05-B150-AD5279F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A8A-32AB-4D23-878E-A865BC9B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A29-F0D2-457A-85C0-6FF72FC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F8F-ACF3-401E-A5DB-092B314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7C2-BF25-496E-BE16-DBD17A4F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icrotome%20pics/MVI_3845.AVI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to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Ch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ard Hw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Y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5335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ecision Engineering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ample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of the Knife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tome Knife Materi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al Guide 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Digital Volumetric 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 of the S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edded sample is held against a flat surface and clamped 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kinematic Constraint With A Lin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86400" y="2971800"/>
            <a:ext cx="3429000" cy="281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971800" y="274320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 of the Knife B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ife is placed in a retaining platform and secured rigidly in place to the microt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y preloading the opposite side of the knif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sposable knives are used, the knife is first held in a fi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fixture is secured to the mi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943600" cy="301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4324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lternative Constrain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er microtomes may use additional methods to secure the bl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ightening Screws For Additional Point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ife Holder With Magnetic Retain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tome Knife Mater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microtome blades are manufactured from high carbon steel or heat-treated tool grade st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From Imp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corrosive And Rust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of steel kn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trongly Plano Conc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Plano Conc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Wedge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Wedge Angle 2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Plane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Wedge Angle 4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562720" y="5638680"/>
          <a:ext cx="19047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638680"/>
                    <a:ext cx="19047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562720" y="4267080"/>
          <a:ext cx="213336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267080"/>
                    <a:ext cx="21333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562720" y="2819520"/>
          <a:ext cx="2657520" cy="63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819520"/>
                    <a:ext cx="26575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Microtome Kn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the applic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for bl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gsten Carb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p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able Blades (Stainless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 shar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shar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ed less with the introduction of disposable kn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al Guide R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rails with V-grooves used to limit motion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DOF trans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Knife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Raising And Lowering Of The Rigidly Held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0719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liding Guides Replaced With Rigid And 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Cross-roller Linear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Wear On The Gro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ves Stress In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ore Load With Increasing Contact Su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er bearings have less tendency to move out of position, or cr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270324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924680" y="48769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Pictures From References 6 and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Digital Volumetric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to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sc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sc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wing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umet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(D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to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igital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ograp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ompu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3-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is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to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stem and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oscop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971800" cy="1704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8520" y="48006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Picture From Reference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Examples of DVI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114720" cy="2522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3047760" cy="259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124080" y="1219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57800" y="3352680"/>
            <a:ext cx="302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Pictures From Reference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liest form of microtomy was the freehand sectioning of fresh or fixed material using a sharp ra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tome used were manual sectioning instruments made from wood, that were mainly used in Botany for cutting pl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microtomes are precision instruments that cut uniformly thin sections of a variety of materials for microscopic exa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ocus and Color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CD Ch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Grayscal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굴림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  <a:ea typeface="굴림"/>
              </a:rPr>
              <a:t>l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  <a:ea typeface="굴림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r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apturing Images: Time-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llumination and Mot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H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Expan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Focu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olu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Expansion of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Refriger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dd Auto Foc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bjective Lens on Pie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ore Precis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igher Magnification Requires Thinner S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ross Roller Bearing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Air Bearing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tepper Motor &amp; Linkag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Linear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teedman, H.F.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ection Cutting in Micros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Blackwell Scientific Publications Ltd, Oxford; England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eitz,Erns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eitz 1512/1516 rotary microtomes Instruc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Germany; 198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aterials-section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ds and Ellis, Microtome: function and design http://home.primus.com.au/royellis/microt/micro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biomicro.sdstate.edu/Hildrethm/Bio545/Techniques/Microto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hneeberger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ellesgriot.com/glossary/wordlist/glossarydetails.asp?wID=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heproductfinder.com/component/croro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llins, Rodney; Personal Interview; San Francisco General Hospital, March 14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eyerinst.com/html/resolve3d/defaul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Very Mu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Parts of a Microt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360" y="1143000"/>
            <a:ext cx="3829320" cy="510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38480" y="1541520"/>
            <a:ext cx="510552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90560"/>
            <a:ext cx="5334120" cy="484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72280" y="762120"/>
            <a:ext cx="37717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microtomes are used to cut paraffin imbedded tissue specimens into thin plane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ed material must be reproducible from only a fraction of a micron to a few microns thick. (Leitz 151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s must be precisely controlled to ensure quality of the sectioned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ry Microtom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paraffin-embedded sample into sample holder and release spring loaded cla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mp blade into blade ho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648320" cy="1923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3400" y="3530520"/>
            <a:ext cx="48006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blade holder angle and tig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000680" cy="533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40006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hickness of sample 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ounter dial to 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crank (one revolution per sec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595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58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microtome pics\MVI_3845.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1066680"/>
          <a:ext cx="5943600" cy="468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066680"/>
                    <a:ext cx="59436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 Jose State University              College of Engineer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11:51:47Z</dcterms:created>
  <dc:creator>Dave</dc:creator>
  <dc:description/>
  <dc:language>en-US</dc:language>
  <cp:lastModifiedBy>beno hwang</cp:lastModifiedBy>
  <dcterms:modified xsi:type="dcterms:W3CDTF">2003-03-20T21:02:29Z</dcterms:modified>
  <cp:revision>25</cp:revision>
  <dc:subject/>
  <dc:title>The Microtome</dc:title>
</cp:coreProperties>
</file>