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987-66E9-4A95-A615-248C024657DE}" type="slidenum">
              <a:rPr b="1" lang="en-GB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BED9-8F78-4543-A73E-AC37ED11A8D7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5A9-8B3B-4221-ACB8-3F9CC7D91B22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3600" y="73980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9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77B-1859-42F8-8DC8-3AD54CACF3EC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3600" y="73980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9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1" descr="F:\Powerpoint Corp Slides\Logo files\lwsmlogoblu.bmp"/>
          <p:cNvPicPr/>
          <p:nvPr/>
        </p:nvPicPr>
        <p:blipFill>
          <a:blip r:embed="rId2"/>
          <a:stretch/>
        </p:blipFill>
        <p:spPr>
          <a:xfrm>
            <a:off x="6508800" y="6019920"/>
            <a:ext cx="250020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990720" y="2666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What is a Tumour?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LONALITY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4480" y="12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ations in genes regulating growth and behaviour occur in every cell – monoclon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idence from studying G6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heterozygotes cells contain either G6PD A or G6PD B, but tumours in those people consist of cells that all have the same enz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102680" y="58672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NORMAL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737960" y="58672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CANCER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68720" y="51451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1188720" y="4648320"/>
            <a:ext cx="504720" cy="457200"/>
            <a:chOff x="1188720" y="4648320"/>
            <a:chExt cx="504720" cy="457200"/>
          </a:xfrm>
        </p:grpSpPr>
        <p:sp>
          <p:nvSpPr>
            <p:cNvPr id="68" name="Oval 8"/>
            <p:cNvSpPr/>
            <p:nvPr/>
          </p:nvSpPr>
          <p:spPr>
            <a:xfrm>
              <a:off x="12189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1490040" y="48006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188720" y="47102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1279080" y="5334120"/>
            <a:ext cx="495720" cy="457200"/>
            <a:chOff x="1279080" y="5334120"/>
            <a:chExt cx="495720" cy="457200"/>
          </a:xfrm>
        </p:grpSpPr>
        <p:sp>
          <p:nvSpPr>
            <p:cNvPr id="72" name="Oval 12"/>
            <p:cNvSpPr/>
            <p:nvPr/>
          </p:nvSpPr>
          <p:spPr>
            <a:xfrm>
              <a:off x="1301400" y="5334120"/>
              <a:ext cx="4734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1571760" y="5486760"/>
              <a:ext cx="13500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1279080" y="539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1947600" y="5181480"/>
            <a:ext cx="504720" cy="457200"/>
            <a:chOff x="1947600" y="5181480"/>
            <a:chExt cx="504720" cy="457200"/>
          </a:xfrm>
        </p:grpSpPr>
        <p:sp>
          <p:nvSpPr>
            <p:cNvPr id="76" name="Oval 16"/>
            <p:cNvSpPr/>
            <p:nvPr/>
          </p:nvSpPr>
          <p:spPr>
            <a:xfrm>
              <a:off x="1977840" y="518148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7" name="Oval 17"/>
            <p:cNvSpPr/>
            <p:nvPr/>
          </p:nvSpPr>
          <p:spPr>
            <a:xfrm>
              <a:off x="2248920" y="53337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1947600" y="5243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3812040" y="5410080"/>
            <a:ext cx="486720" cy="457200"/>
            <a:chOff x="3812040" y="5410080"/>
            <a:chExt cx="486720" cy="457200"/>
          </a:xfrm>
        </p:grpSpPr>
        <p:sp>
          <p:nvSpPr>
            <p:cNvPr id="80" name="Oval 20"/>
            <p:cNvSpPr/>
            <p:nvPr/>
          </p:nvSpPr>
          <p:spPr>
            <a:xfrm>
              <a:off x="3823920" y="5410080"/>
              <a:ext cx="4748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4095360" y="55623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3812040" y="54720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421880" y="5257800"/>
            <a:ext cx="486360" cy="457200"/>
            <a:chOff x="4421880" y="5257800"/>
            <a:chExt cx="486360" cy="457200"/>
          </a:xfrm>
        </p:grpSpPr>
        <p:sp>
          <p:nvSpPr>
            <p:cNvPr id="84" name="Oval 24"/>
            <p:cNvSpPr/>
            <p:nvPr/>
          </p:nvSpPr>
          <p:spPr>
            <a:xfrm>
              <a:off x="4433760" y="525780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Oval 25"/>
            <p:cNvSpPr/>
            <p:nvPr/>
          </p:nvSpPr>
          <p:spPr>
            <a:xfrm>
              <a:off x="4704840" y="541008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4421880" y="531972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87" name="Group 27"/>
          <p:cNvGrpSpPr/>
          <p:nvPr/>
        </p:nvGrpSpPr>
        <p:grpSpPr>
          <a:xfrm>
            <a:off x="3880440" y="4876920"/>
            <a:ext cx="486360" cy="457200"/>
            <a:chOff x="3880440" y="4876920"/>
            <a:chExt cx="486360" cy="457200"/>
          </a:xfrm>
        </p:grpSpPr>
        <p:sp>
          <p:nvSpPr>
            <p:cNvPr id="88" name="Oval 28"/>
            <p:cNvSpPr/>
            <p:nvPr/>
          </p:nvSpPr>
          <p:spPr>
            <a:xfrm>
              <a:off x="3892320" y="48769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Oval 29"/>
            <p:cNvSpPr/>
            <p:nvPr/>
          </p:nvSpPr>
          <p:spPr>
            <a:xfrm>
              <a:off x="4163400" y="50292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3880440" y="49388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4421880" y="4648320"/>
            <a:ext cx="486360" cy="457200"/>
            <a:chOff x="4421880" y="4648320"/>
            <a:chExt cx="486360" cy="457200"/>
          </a:xfrm>
        </p:grpSpPr>
        <p:sp>
          <p:nvSpPr>
            <p:cNvPr id="92" name="Oval 32"/>
            <p:cNvSpPr/>
            <p:nvPr/>
          </p:nvSpPr>
          <p:spPr>
            <a:xfrm>
              <a:off x="44337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Oval 33"/>
            <p:cNvSpPr/>
            <p:nvPr/>
          </p:nvSpPr>
          <p:spPr>
            <a:xfrm>
              <a:off x="4704840" y="48006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Text Box 34"/>
            <p:cNvSpPr/>
            <p:nvPr/>
          </p:nvSpPr>
          <p:spPr>
            <a:xfrm>
              <a:off x="4421880" y="47102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1888920" y="4572000"/>
            <a:ext cx="495360" cy="457200"/>
            <a:chOff x="1888920" y="4572000"/>
            <a:chExt cx="495360" cy="457200"/>
          </a:xfrm>
        </p:grpSpPr>
        <p:sp>
          <p:nvSpPr>
            <p:cNvPr id="96" name="Oval 36"/>
            <p:cNvSpPr/>
            <p:nvPr/>
          </p:nvSpPr>
          <p:spPr>
            <a:xfrm>
              <a:off x="1911240" y="4572000"/>
              <a:ext cx="4730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Oval 37"/>
            <p:cNvSpPr/>
            <p:nvPr/>
          </p:nvSpPr>
          <p:spPr>
            <a:xfrm>
              <a:off x="2181600" y="4724640"/>
              <a:ext cx="13500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1888920" y="4633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9" name="Group 39"/>
          <p:cNvGrpSpPr/>
          <p:nvPr/>
        </p:nvGrpSpPr>
        <p:grpSpPr>
          <a:xfrm>
            <a:off x="6462000" y="5334120"/>
            <a:ext cx="478080" cy="457200"/>
            <a:chOff x="6462000" y="5334120"/>
            <a:chExt cx="478080" cy="457200"/>
          </a:xfrm>
        </p:grpSpPr>
        <p:sp>
          <p:nvSpPr>
            <p:cNvPr id="100" name="Oval 40"/>
            <p:cNvSpPr/>
            <p:nvPr/>
          </p:nvSpPr>
          <p:spPr>
            <a:xfrm>
              <a:off x="6465600" y="53341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6736680" y="54867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Text Box 42"/>
            <p:cNvSpPr/>
            <p:nvPr/>
          </p:nvSpPr>
          <p:spPr>
            <a:xfrm>
              <a:off x="6462000" y="539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03" name="Group 43"/>
          <p:cNvGrpSpPr/>
          <p:nvPr/>
        </p:nvGrpSpPr>
        <p:grpSpPr>
          <a:xfrm>
            <a:off x="6258960" y="4648320"/>
            <a:ext cx="478080" cy="457200"/>
            <a:chOff x="6258960" y="4648320"/>
            <a:chExt cx="478080" cy="457200"/>
          </a:xfrm>
        </p:grpSpPr>
        <p:sp>
          <p:nvSpPr>
            <p:cNvPr id="104" name="Oval 44"/>
            <p:cNvSpPr/>
            <p:nvPr/>
          </p:nvSpPr>
          <p:spPr>
            <a:xfrm>
              <a:off x="62625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Oval 45"/>
            <p:cNvSpPr/>
            <p:nvPr/>
          </p:nvSpPr>
          <p:spPr>
            <a:xfrm>
              <a:off x="6533640" y="48009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6258960" y="47102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07" name="Group 47"/>
          <p:cNvGrpSpPr/>
          <p:nvPr/>
        </p:nvGrpSpPr>
        <p:grpSpPr>
          <a:xfrm>
            <a:off x="5852520" y="5257800"/>
            <a:ext cx="478080" cy="457200"/>
            <a:chOff x="5852520" y="5257800"/>
            <a:chExt cx="478080" cy="457200"/>
          </a:xfrm>
        </p:grpSpPr>
        <p:sp>
          <p:nvSpPr>
            <p:cNvPr id="108" name="Oval 48"/>
            <p:cNvSpPr/>
            <p:nvPr/>
          </p:nvSpPr>
          <p:spPr>
            <a:xfrm>
              <a:off x="5856120" y="525780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6127200" y="541044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Text Box 50"/>
            <p:cNvSpPr/>
            <p:nvPr/>
          </p:nvSpPr>
          <p:spPr>
            <a:xfrm>
              <a:off x="5852520" y="5319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11" name="Group 51"/>
          <p:cNvGrpSpPr/>
          <p:nvPr/>
        </p:nvGrpSpPr>
        <p:grpSpPr>
          <a:xfrm>
            <a:off x="5649120" y="4724280"/>
            <a:ext cx="478440" cy="457200"/>
            <a:chOff x="5649120" y="4724280"/>
            <a:chExt cx="478440" cy="457200"/>
          </a:xfrm>
        </p:grpSpPr>
        <p:sp>
          <p:nvSpPr>
            <p:cNvPr id="112" name="Oval 52"/>
            <p:cNvSpPr/>
            <p:nvPr/>
          </p:nvSpPr>
          <p:spPr>
            <a:xfrm>
              <a:off x="5652720" y="4724280"/>
              <a:ext cx="4748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3" name="Oval 53"/>
            <p:cNvSpPr/>
            <p:nvPr/>
          </p:nvSpPr>
          <p:spPr>
            <a:xfrm>
              <a:off x="5924160" y="487692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Text Box 54"/>
            <p:cNvSpPr/>
            <p:nvPr/>
          </p:nvSpPr>
          <p:spPr>
            <a:xfrm>
              <a:off x="5649120" y="4786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NEOPLASTIC CELLS DIFFER FROM NORMAL CELLS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s in growth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ctors regulating growth an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s in cellular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str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GROWTH CONTROL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cell prolif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cells enter cell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 cycle “speeded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s have changed life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ations in cell death-decreased apop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ification of cell met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gi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GROWTH CONTROL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360" y="1981080"/>
            <a:ext cx="74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d or decreased growth factor receptors or altered rece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nthesis of growth factors – autocrine or paracrine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ss/modified growth control proteins e.g. onco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ELLULAR INTERACTION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7520" y="182880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cell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stromal interactions with basement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ortant for cell and tissue differentiation, embryogenesis, growth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th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scularity/nec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asion/meta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1292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uclear variation in size and shape minim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plo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w mitotic count, normal mit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tention of specialis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5120" y="15238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uclear variation in size and shape minimal to marked, often vari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ange of ploi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w to high mitotic count, abnormal mit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ss of special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09280" y="15238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ructural differentiation retained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rgani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unctional differentiation usuall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05120" y="15238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ructural differentiation shows wide range of 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 organi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unctional differentiation often l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YSPLASIA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malignant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cel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ular aty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ed differen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range from mild to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tes -cerv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IN-SITU MALIGNANCY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pithelial neoplasm with features of 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ed cel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logical aty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ed differe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-no invasion through basement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WHAT IS A TUMOUR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flammatory – abs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oplasm -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I:\Users_Files\Malcolm\scans\Rosemary\Neoplasia 1\24.jpg"/>
          <p:cNvPicPr/>
          <p:nvPr/>
        </p:nvPicPr>
        <p:blipFill>
          <a:blip r:embed="rId1"/>
          <a:stretch/>
        </p:blipFill>
        <p:spPr>
          <a:xfrm>
            <a:off x="1150920" y="762120"/>
            <a:ext cx="6762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:\Users_Files\Malcolm\scans\Rosemary\Neoplasia 1\25.jpg"/>
          <p:cNvPicPr/>
          <p:nvPr/>
        </p:nvPicPr>
        <p:blipFill>
          <a:blip r:embed="rId1"/>
          <a:stretch/>
        </p:blipFill>
        <p:spPr>
          <a:xfrm>
            <a:off x="1320840" y="920880"/>
            <a:ext cx="650232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ENIGN EPITHELIAL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pillo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qua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i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en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lan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:\Users_Files\Malcolm\scans\Rosemary\Neoplasia 1\29.jpg"/>
          <p:cNvPicPr/>
          <p:nvPr/>
        </p:nvPicPr>
        <p:blipFill>
          <a:blip r:embed="rId1"/>
          <a:stretch/>
        </p:blipFill>
        <p:spPr>
          <a:xfrm>
            <a:off x="2922480" y="866880"/>
            <a:ext cx="3151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I:\Users_Files\Malcolm\scans\Rosemary\Neoplasia 1\30.jpg"/>
          <p:cNvPicPr/>
          <p:nvPr/>
        </p:nvPicPr>
        <p:blipFill>
          <a:blip r:embed="rId1"/>
          <a:stretch/>
        </p:blipFill>
        <p:spPr>
          <a:xfrm>
            <a:off x="1123920" y="990720"/>
            <a:ext cx="6896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3160" y="60912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MALIGNANT EPITHELIAL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ci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quamous: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itional: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eno: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mach,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sal cell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Users_Files\Malcolm\scans\Rosemary\Neoplasia 1\32.jpg"/>
          <p:cNvPicPr/>
          <p:nvPr/>
        </p:nvPicPr>
        <p:blipFill>
          <a:blip r:embed="rId1"/>
          <a:stretch/>
        </p:blipFill>
        <p:spPr>
          <a:xfrm>
            <a:off x="1222200" y="920880"/>
            <a:ext cx="649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:\Users_Files\Malcolm\scans\Rosemary\Neoplasia 1\34.jpg"/>
          <p:cNvPicPr/>
          <p:nvPr/>
        </p:nvPicPr>
        <p:blipFill>
          <a:blip r:embed="rId1"/>
          <a:stretch/>
        </p:blipFill>
        <p:spPr>
          <a:xfrm>
            <a:off x="1374840" y="892080"/>
            <a:ext cx="63133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59652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ONNECTIVE TISSUE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718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oth muscl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iomy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us tissu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n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nd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p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fib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 sheath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ilemm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al cell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:\Users_Files\Malcolm\scans\Rosemary\Neoplasia 1\36.jpg"/>
          <p:cNvPicPr/>
          <p:nvPr/>
        </p:nvPicPr>
        <p:blipFill>
          <a:blip r:embed="rId1"/>
          <a:stretch/>
        </p:blipFill>
        <p:spPr>
          <a:xfrm>
            <a:off x="1305000" y="893880"/>
            <a:ext cx="6529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680" y="1622520"/>
            <a:ext cx="819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growth of cells which persists after initiating stimulus has been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growth has escaped  from normal regulatory 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8600" y="636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ONNECTIVE TISSUE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170028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oth muscl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iomy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n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us tissu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nd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p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fib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 sheath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ilemm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al cell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lignant gli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:\Users_Files\Malcolm\scans\Rosemary\Neoplasia 1\38.jpg"/>
          <p:cNvPicPr/>
          <p:nvPr/>
        </p:nvPicPr>
        <p:blipFill>
          <a:blip r:embed="rId1"/>
          <a:stretch/>
        </p:blipFill>
        <p:spPr>
          <a:xfrm>
            <a:off x="1969920" y="825480"/>
            <a:ext cx="520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LYMPHOID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ignant lymphoma (B and 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dgkins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ONE MA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ute and chronic leuka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I:\Users_Files\Malcolm\scans\Rosemary\Neoplasia 1\40.jpg"/>
          <p:cNvPicPr/>
          <p:nvPr/>
        </p:nvPicPr>
        <p:blipFill>
          <a:blip r:embed="rId1"/>
          <a:stretch/>
        </p:blipFill>
        <p:spPr>
          <a:xfrm>
            <a:off x="2760840" y="1225440"/>
            <a:ext cx="36223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ENIGN 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372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ells grow as a compact mass and remain at their site of 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:\Users_Files\Malcolm\scans\Rosemary\Neoplasia 1\6.jpg"/>
          <p:cNvPicPr/>
          <p:nvPr/>
        </p:nvPicPr>
        <p:blipFill>
          <a:blip r:embed="rId1"/>
          <a:stretch/>
        </p:blipFill>
        <p:spPr>
          <a:xfrm>
            <a:off x="1241280" y="965160"/>
            <a:ext cx="666144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MALIGNANT 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owth of cells is uncontrol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ells can spread into surrounding tissue and spread to distant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ncer = a malignant 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:\Users_Files\Malcolm\scans\Rosemary\Neoplasia 1\9.jpg"/>
          <p:cNvPicPr/>
          <p:nvPr/>
        </p:nvPicPr>
        <p:blipFill>
          <a:blip r:embed="rId1"/>
          <a:stretch/>
        </p:blipFill>
        <p:spPr>
          <a:xfrm>
            <a:off x="1320840" y="895320"/>
            <a:ext cx="6502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TUMOURS DEVELOP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has to be a change to 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nge must cause an alteration in cell growth and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nge must be non-lethal and be passed onto daughte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TUMOURS DEVELOP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 is to more than one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concerned are oncogenes/tumour suppressor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quence of gene alterations from normal to benign to mali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insic and extrinsic / inheritance and environment key fac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7:03:04Z</dcterms:created>
  <dc:creator>Malcolm J L Rae</dc:creator>
  <dc:description/>
  <dc:language>en-US</dc:language>
  <cp:lastModifiedBy>I-TEC</cp:lastModifiedBy>
  <cp:lastPrinted>2000-01-18T10:14:21Z</cp:lastPrinted>
  <dcterms:modified xsi:type="dcterms:W3CDTF">2015-05-20T10:19:58Z</dcterms:modified>
  <cp:revision>6</cp:revision>
  <dc:subject/>
  <dc:title>PowerPoint Presentation</dc:title>
</cp:coreProperties>
</file>