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1D17-6E71-4FC8-95E3-D34CAEF30093}" type="slidenum">
              <a:rPr b="1" lang="en-GB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C3CB-61EB-4B5B-AF90-603014C05B53}" type="slidenum">
              <a:rPr b="1" lang="en-GB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A7D6-B9BE-4D9B-AB53-6AE48CCDADB2}" type="slidenum">
              <a:rPr b="1" lang="en-GB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3600" y="73980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920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53E5-50FC-413D-886E-56509CF4AB76}" type="slidenum">
              <a:rPr b="1" lang="en-GB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3600" y="73980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3280"/>
            <a:ext cx="502920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1" descr="F:\Powerpoint Corp Slides\Logo files\lwsmlogoblu.bmp"/>
          <p:cNvPicPr/>
          <p:nvPr/>
        </p:nvPicPr>
        <p:blipFill>
          <a:blip r:embed="rId2"/>
          <a:stretch/>
        </p:blipFill>
        <p:spPr>
          <a:xfrm>
            <a:off x="6508800" y="6019920"/>
            <a:ext cx="250020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Text Box 24"/>
          <p:cNvSpPr/>
          <p:nvPr/>
        </p:nvSpPr>
        <p:spPr>
          <a:xfrm>
            <a:off x="990720" y="26668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What is a Tumour?</a:t>
            </a:r>
            <a:r>
              <a:rPr b="1" lang="en-GB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CLONALITY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4480" y="1243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terations in genes regulating growth and behaviour occur in every cell – monoclona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idence from studying G6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heterozygotes cells contain either G6PD A or G6PD B, but tumours in those people consist of cells that all have the same enzy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102680" y="586728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eorgia"/>
              </a:rPr>
              <a:t>NORMAL</a:t>
            </a: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737960" y="58672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eorgia"/>
              </a:rPr>
              <a:t>CANCER</a:t>
            </a: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968720" y="514512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eorgia"/>
              </a:rPr>
              <a:t>OR</a:t>
            </a: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1188720" y="4648320"/>
            <a:ext cx="504720" cy="457200"/>
            <a:chOff x="1188720" y="4648320"/>
            <a:chExt cx="504720" cy="457200"/>
          </a:xfrm>
        </p:grpSpPr>
        <p:sp>
          <p:nvSpPr>
            <p:cNvPr id="68" name="Oval 8"/>
            <p:cNvSpPr/>
            <p:nvPr/>
          </p:nvSpPr>
          <p:spPr>
            <a:xfrm>
              <a:off x="1218960" y="464832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69" name="Oval 9"/>
            <p:cNvSpPr/>
            <p:nvPr/>
          </p:nvSpPr>
          <p:spPr>
            <a:xfrm>
              <a:off x="1490040" y="480060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1188720" y="471024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71" name="Group 11"/>
          <p:cNvGrpSpPr/>
          <p:nvPr/>
        </p:nvGrpSpPr>
        <p:grpSpPr>
          <a:xfrm>
            <a:off x="1279080" y="5334120"/>
            <a:ext cx="495720" cy="457200"/>
            <a:chOff x="1279080" y="5334120"/>
            <a:chExt cx="495720" cy="457200"/>
          </a:xfrm>
        </p:grpSpPr>
        <p:sp>
          <p:nvSpPr>
            <p:cNvPr id="72" name="Oval 12"/>
            <p:cNvSpPr/>
            <p:nvPr/>
          </p:nvSpPr>
          <p:spPr>
            <a:xfrm>
              <a:off x="1301400" y="5334120"/>
              <a:ext cx="47340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3" name="Oval 13"/>
            <p:cNvSpPr/>
            <p:nvPr/>
          </p:nvSpPr>
          <p:spPr>
            <a:xfrm>
              <a:off x="1571760" y="5486760"/>
              <a:ext cx="13500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4" name="Text Box 14"/>
            <p:cNvSpPr/>
            <p:nvPr/>
          </p:nvSpPr>
          <p:spPr>
            <a:xfrm>
              <a:off x="1279080" y="5396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75" name="Group 15"/>
          <p:cNvGrpSpPr/>
          <p:nvPr/>
        </p:nvGrpSpPr>
        <p:grpSpPr>
          <a:xfrm>
            <a:off x="1947600" y="5181480"/>
            <a:ext cx="504720" cy="457200"/>
            <a:chOff x="1947600" y="5181480"/>
            <a:chExt cx="504720" cy="457200"/>
          </a:xfrm>
        </p:grpSpPr>
        <p:sp>
          <p:nvSpPr>
            <p:cNvPr id="76" name="Oval 16"/>
            <p:cNvSpPr/>
            <p:nvPr/>
          </p:nvSpPr>
          <p:spPr>
            <a:xfrm>
              <a:off x="1977840" y="518148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7" name="Oval 17"/>
            <p:cNvSpPr/>
            <p:nvPr/>
          </p:nvSpPr>
          <p:spPr>
            <a:xfrm>
              <a:off x="2248920" y="533376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8" name="Text Box 18"/>
            <p:cNvSpPr/>
            <p:nvPr/>
          </p:nvSpPr>
          <p:spPr>
            <a:xfrm>
              <a:off x="1947600" y="524340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3812040" y="5410080"/>
            <a:ext cx="486720" cy="457200"/>
            <a:chOff x="3812040" y="5410080"/>
            <a:chExt cx="486720" cy="457200"/>
          </a:xfrm>
        </p:grpSpPr>
        <p:sp>
          <p:nvSpPr>
            <p:cNvPr id="80" name="Oval 20"/>
            <p:cNvSpPr/>
            <p:nvPr/>
          </p:nvSpPr>
          <p:spPr>
            <a:xfrm>
              <a:off x="3823920" y="5410080"/>
              <a:ext cx="4748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4095360" y="556236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3812040" y="547200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4421880" y="5257800"/>
            <a:ext cx="486360" cy="457200"/>
            <a:chOff x="4421880" y="5257800"/>
            <a:chExt cx="486360" cy="457200"/>
          </a:xfrm>
        </p:grpSpPr>
        <p:sp>
          <p:nvSpPr>
            <p:cNvPr id="84" name="Oval 24"/>
            <p:cNvSpPr/>
            <p:nvPr/>
          </p:nvSpPr>
          <p:spPr>
            <a:xfrm>
              <a:off x="4433760" y="525780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5" name="Oval 25"/>
            <p:cNvSpPr/>
            <p:nvPr/>
          </p:nvSpPr>
          <p:spPr>
            <a:xfrm>
              <a:off x="4704840" y="541008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6" name="Text Box 26"/>
            <p:cNvSpPr/>
            <p:nvPr/>
          </p:nvSpPr>
          <p:spPr>
            <a:xfrm>
              <a:off x="4421880" y="531972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87" name="Group 27"/>
          <p:cNvGrpSpPr/>
          <p:nvPr/>
        </p:nvGrpSpPr>
        <p:grpSpPr>
          <a:xfrm>
            <a:off x="3880440" y="4876920"/>
            <a:ext cx="486360" cy="457200"/>
            <a:chOff x="3880440" y="4876920"/>
            <a:chExt cx="486360" cy="457200"/>
          </a:xfrm>
        </p:grpSpPr>
        <p:sp>
          <p:nvSpPr>
            <p:cNvPr id="88" name="Oval 28"/>
            <p:cNvSpPr/>
            <p:nvPr/>
          </p:nvSpPr>
          <p:spPr>
            <a:xfrm>
              <a:off x="3892320" y="487692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9" name="Oval 29"/>
            <p:cNvSpPr/>
            <p:nvPr/>
          </p:nvSpPr>
          <p:spPr>
            <a:xfrm>
              <a:off x="4163400" y="502920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0" name="Text Box 30"/>
            <p:cNvSpPr/>
            <p:nvPr/>
          </p:nvSpPr>
          <p:spPr>
            <a:xfrm>
              <a:off x="3880440" y="493884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91" name="Group 31"/>
          <p:cNvGrpSpPr/>
          <p:nvPr/>
        </p:nvGrpSpPr>
        <p:grpSpPr>
          <a:xfrm>
            <a:off x="4421880" y="4648320"/>
            <a:ext cx="486360" cy="457200"/>
            <a:chOff x="4421880" y="4648320"/>
            <a:chExt cx="486360" cy="457200"/>
          </a:xfrm>
        </p:grpSpPr>
        <p:sp>
          <p:nvSpPr>
            <p:cNvPr id="92" name="Oval 32"/>
            <p:cNvSpPr/>
            <p:nvPr/>
          </p:nvSpPr>
          <p:spPr>
            <a:xfrm>
              <a:off x="4433760" y="464832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3" name="Oval 33"/>
            <p:cNvSpPr/>
            <p:nvPr/>
          </p:nvSpPr>
          <p:spPr>
            <a:xfrm>
              <a:off x="4704840" y="480060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4" name="Text Box 34"/>
            <p:cNvSpPr/>
            <p:nvPr/>
          </p:nvSpPr>
          <p:spPr>
            <a:xfrm>
              <a:off x="4421880" y="471024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95" name="Group 35"/>
          <p:cNvGrpSpPr/>
          <p:nvPr/>
        </p:nvGrpSpPr>
        <p:grpSpPr>
          <a:xfrm>
            <a:off x="1888920" y="4572000"/>
            <a:ext cx="495360" cy="457200"/>
            <a:chOff x="1888920" y="4572000"/>
            <a:chExt cx="495360" cy="457200"/>
          </a:xfrm>
        </p:grpSpPr>
        <p:sp>
          <p:nvSpPr>
            <p:cNvPr id="96" name="Oval 36"/>
            <p:cNvSpPr/>
            <p:nvPr/>
          </p:nvSpPr>
          <p:spPr>
            <a:xfrm>
              <a:off x="1911240" y="4572000"/>
              <a:ext cx="4730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7" name="Oval 37"/>
            <p:cNvSpPr/>
            <p:nvPr/>
          </p:nvSpPr>
          <p:spPr>
            <a:xfrm>
              <a:off x="2181600" y="4724640"/>
              <a:ext cx="13500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8" name="Text Box 38"/>
            <p:cNvSpPr/>
            <p:nvPr/>
          </p:nvSpPr>
          <p:spPr>
            <a:xfrm>
              <a:off x="1888920" y="46339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99" name="Group 39"/>
          <p:cNvGrpSpPr/>
          <p:nvPr/>
        </p:nvGrpSpPr>
        <p:grpSpPr>
          <a:xfrm>
            <a:off x="6462000" y="5334120"/>
            <a:ext cx="478080" cy="457200"/>
            <a:chOff x="6462000" y="5334120"/>
            <a:chExt cx="478080" cy="457200"/>
          </a:xfrm>
        </p:grpSpPr>
        <p:sp>
          <p:nvSpPr>
            <p:cNvPr id="100" name="Oval 40"/>
            <p:cNvSpPr/>
            <p:nvPr/>
          </p:nvSpPr>
          <p:spPr>
            <a:xfrm>
              <a:off x="6465600" y="533412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1" name="Oval 41"/>
            <p:cNvSpPr/>
            <p:nvPr/>
          </p:nvSpPr>
          <p:spPr>
            <a:xfrm>
              <a:off x="6736680" y="548676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2" name="Text Box 42"/>
            <p:cNvSpPr/>
            <p:nvPr/>
          </p:nvSpPr>
          <p:spPr>
            <a:xfrm>
              <a:off x="6462000" y="5396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103" name="Group 43"/>
          <p:cNvGrpSpPr/>
          <p:nvPr/>
        </p:nvGrpSpPr>
        <p:grpSpPr>
          <a:xfrm>
            <a:off x="6258960" y="4648320"/>
            <a:ext cx="478080" cy="457200"/>
            <a:chOff x="6258960" y="4648320"/>
            <a:chExt cx="478080" cy="457200"/>
          </a:xfrm>
        </p:grpSpPr>
        <p:sp>
          <p:nvSpPr>
            <p:cNvPr id="104" name="Oval 44"/>
            <p:cNvSpPr/>
            <p:nvPr/>
          </p:nvSpPr>
          <p:spPr>
            <a:xfrm>
              <a:off x="6262560" y="464832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5" name="Oval 45"/>
            <p:cNvSpPr/>
            <p:nvPr/>
          </p:nvSpPr>
          <p:spPr>
            <a:xfrm>
              <a:off x="6533640" y="480096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6" name="Text Box 46"/>
            <p:cNvSpPr/>
            <p:nvPr/>
          </p:nvSpPr>
          <p:spPr>
            <a:xfrm>
              <a:off x="6258960" y="47102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107" name="Group 47"/>
          <p:cNvGrpSpPr/>
          <p:nvPr/>
        </p:nvGrpSpPr>
        <p:grpSpPr>
          <a:xfrm>
            <a:off x="5852520" y="5257800"/>
            <a:ext cx="478080" cy="457200"/>
            <a:chOff x="5852520" y="5257800"/>
            <a:chExt cx="478080" cy="457200"/>
          </a:xfrm>
        </p:grpSpPr>
        <p:sp>
          <p:nvSpPr>
            <p:cNvPr id="108" name="Oval 48"/>
            <p:cNvSpPr/>
            <p:nvPr/>
          </p:nvSpPr>
          <p:spPr>
            <a:xfrm>
              <a:off x="5856120" y="5257800"/>
              <a:ext cx="4744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9" name="Oval 49"/>
            <p:cNvSpPr/>
            <p:nvPr/>
          </p:nvSpPr>
          <p:spPr>
            <a:xfrm>
              <a:off x="6127200" y="541044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0" name="Text Box 50"/>
            <p:cNvSpPr/>
            <p:nvPr/>
          </p:nvSpPr>
          <p:spPr>
            <a:xfrm>
              <a:off x="5852520" y="53197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111" name="Group 51"/>
          <p:cNvGrpSpPr/>
          <p:nvPr/>
        </p:nvGrpSpPr>
        <p:grpSpPr>
          <a:xfrm>
            <a:off x="5649120" y="4724280"/>
            <a:ext cx="478440" cy="457200"/>
            <a:chOff x="5649120" y="4724280"/>
            <a:chExt cx="478440" cy="457200"/>
          </a:xfrm>
        </p:grpSpPr>
        <p:sp>
          <p:nvSpPr>
            <p:cNvPr id="112" name="Oval 52"/>
            <p:cNvSpPr/>
            <p:nvPr/>
          </p:nvSpPr>
          <p:spPr>
            <a:xfrm>
              <a:off x="5652720" y="4724280"/>
              <a:ext cx="4748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3" name="Oval 53"/>
            <p:cNvSpPr/>
            <p:nvPr/>
          </p:nvSpPr>
          <p:spPr>
            <a:xfrm>
              <a:off x="5924160" y="4876920"/>
              <a:ext cx="135360" cy="152280"/>
            </a:xfrm>
            <a:prstGeom prst="ellipse">
              <a:avLst/>
            </a:prstGeom>
            <a:solidFill>
              <a:srgbClr val="d9411d"/>
            </a:solidFill>
            <a:ln w="9360">
              <a:solidFill>
                <a:srgbClr val="d9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4" name="Text Box 54"/>
            <p:cNvSpPr/>
            <p:nvPr/>
          </p:nvSpPr>
          <p:spPr>
            <a:xfrm>
              <a:off x="5649120" y="47862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eorgia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HOW DO NEOPLASTIC CELLS DIFFER FROM NORMAL CELLS?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terations in growth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lif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actors regulating growth and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terations in cellular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-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-str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GROWTH CONTROL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ed cell prolif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e cells enter cell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ell cycle “speeded u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ells have changed life 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terations in cell death-decreased apop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ification of cell metabo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gioge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GROWTH CONTROL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3360" y="1981080"/>
            <a:ext cx="743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reased or decreased growth factor receptors or altered rece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ynthesis of growth factors – autocrine or paracrine effe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ess/modified growth control proteins e.g. onco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CELLULAR INTERACTION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7520" y="182880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-cell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-stromal interactions with basement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ortant for cell and tissue differentiation, embryogenesis, growth re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DIFFERENCES BETWEEN BENIGN AND MALIGNANT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wth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scularity/nec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vasion/meta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41292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EN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uclear variation in size and shape minim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plo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ow mitotic count, normal mito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etention of specialis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05120" y="15238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ALIGN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uclear variation in size and shape minimal to marked, often vari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ange of ploi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ow to high mitotic count, abnormal mito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oss of specialis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DIFFERENCES BETWEEN BENIGN AND MALIGNANT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09280" y="152388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EN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tructural differentiation retained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Organi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unctional differentiation usuall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05120" y="15238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ALIGN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tructural differentiation shows wide range of chan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ot organi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unctional differentiation often l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DIFFERENCES BETWEEN BENIGN AND MALIGNANT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DYSPLASIA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malignant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ed cel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ellular atyp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tered different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n range from mild to 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tes -cerv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stom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IN-SITU MALIGNANCY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pithelial neoplasm with features of mali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tered cell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ytological aty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tered differen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-no invasion through basement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WHAT IS A TUMOUR?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sw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flammatory – abs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oplasm -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I:\Users_Files\Malcolm\scans\Rosemary\Neoplasia 1\24.jpg"/>
          <p:cNvPicPr/>
          <p:nvPr/>
        </p:nvPicPr>
        <p:blipFill>
          <a:blip r:embed="rId1"/>
          <a:stretch/>
        </p:blipFill>
        <p:spPr>
          <a:xfrm>
            <a:off x="1150920" y="762120"/>
            <a:ext cx="6762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I:\Users_Files\Malcolm\scans\Rosemary\Neoplasia 1\25.jpg"/>
          <p:cNvPicPr/>
          <p:nvPr/>
        </p:nvPicPr>
        <p:blipFill>
          <a:blip r:embed="rId1"/>
          <a:stretch/>
        </p:blipFill>
        <p:spPr>
          <a:xfrm>
            <a:off x="1320840" y="920880"/>
            <a:ext cx="650232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BENIGN EPITHELIAL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pillo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qua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nsi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en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land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I:\Users_Files\Malcolm\scans\Rosemary\Neoplasia 1\29.jpg"/>
          <p:cNvPicPr/>
          <p:nvPr/>
        </p:nvPicPr>
        <p:blipFill>
          <a:blip r:embed="rId1"/>
          <a:stretch/>
        </p:blipFill>
        <p:spPr>
          <a:xfrm>
            <a:off x="2922480" y="866880"/>
            <a:ext cx="31514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I:\Users_Files\Malcolm\scans\Rosemary\Neoplasia 1\30.jpg"/>
          <p:cNvPicPr/>
          <p:nvPr/>
        </p:nvPicPr>
        <p:blipFill>
          <a:blip r:embed="rId1"/>
          <a:stretch/>
        </p:blipFill>
        <p:spPr>
          <a:xfrm>
            <a:off x="1123920" y="990720"/>
            <a:ext cx="6896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3160" y="60912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MALIGNANT EPITHELIAL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cino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quamous: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nsitional: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eno: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mach, co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sal cell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Users_Files\Malcolm\scans\Rosemary\Neoplasia 1\32.jpg"/>
          <p:cNvPicPr/>
          <p:nvPr/>
        </p:nvPicPr>
        <p:blipFill>
          <a:blip r:embed="rId1"/>
          <a:stretch/>
        </p:blipFill>
        <p:spPr>
          <a:xfrm>
            <a:off x="1222200" y="920880"/>
            <a:ext cx="649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:\Users_Files\Malcolm\scans\Rosemary\Neoplasia 1\34.jpg"/>
          <p:cNvPicPr/>
          <p:nvPr/>
        </p:nvPicPr>
        <p:blipFill>
          <a:blip r:embed="rId1"/>
          <a:stretch/>
        </p:blipFill>
        <p:spPr>
          <a:xfrm>
            <a:off x="1374840" y="892080"/>
            <a:ext cx="63133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59652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CONNECTIVE TISSUE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718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ooth muscl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iomy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brous tissu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br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n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ste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tilag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ondr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t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p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rv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rofibr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rve sheath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rilemm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lial cells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li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I:\Users_Files\Malcolm\scans\Rosemary\Neoplasia 1\36.jpg"/>
          <p:cNvPicPr/>
          <p:nvPr/>
        </p:nvPicPr>
        <p:blipFill>
          <a:blip r:embed="rId1"/>
          <a:stretch/>
        </p:blipFill>
        <p:spPr>
          <a:xfrm>
            <a:off x="1305000" y="893880"/>
            <a:ext cx="65293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NEOPLASM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2680" y="1622520"/>
            <a:ext cx="819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normal growth of cells which persists after initiating stimulus has been rem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growth has escaped  from normal regulatory  mech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n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lig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88600" y="636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CONNECTIVE TISSUE NEOPLASMS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200" y="170028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ooth muscl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iomy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n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ste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brous tissu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br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tilag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ondr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t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p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rv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rofibr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rve sheath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rilemmosar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lial cells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lignant gli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:\Users_Files\Malcolm\scans\Rosemary\Neoplasia 1\38.jpg"/>
          <p:cNvPicPr/>
          <p:nvPr/>
        </p:nvPicPr>
        <p:blipFill>
          <a:blip r:embed="rId1"/>
          <a:stretch/>
        </p:blipFill>
        <p:spPr>
          <a:xfrm>
            <a:off x="1969920" y="825480"/>
            <a:ext cx="52041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LYMPHOID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lignant lymphoma (B and 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dgkins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BONE MAR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ute and chronic leuka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I:\Users_Files\Malcolm\scans\Rosemary\Neoplasia 1\40.jpg"/>
          <p:cNvPicPr/>
          <p:nvPr/>
        </p:nvPicPr>
        <p:blipFill>
          <a:blip r:embed="rId1"/>
          <a:stretch/>
        </p:blipFill>
        <p:spPr>
          <a:xfrm>
            <a:off x="2760840" y="1225440"/>
            <a:ext cx="36223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BENIGN NEOPLASM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372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ells grow as a compact mass and remain at their site of orig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:\Users_Files\Malcolm\scans\Rosemary\Neoplasia 1\6.jpg"/>
          <p:cNvPicPr/>
          <p:nvPr/>
        </p:nvPicPr>
        <p:blipFill>
          <a:blip r:embed="rId1"/>
          <a:stretch/>
        </p:blipFill>
        <p:spPr>
          <a:xfrm>
            <a:off x="1241280" y="965160"/>
            <a:ext cx="666144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MALIGNANT NEOPLASM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72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owth of cells is uncontrol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ells can spread into surrounding tissue and spread to distant 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ancer = a malignant 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:\Users_Files\Malcolm\scans\Rosemary\Neoplasia 1\9.jpg"/>
          <p:cNvPicPr/>
          <p:nvPr/>
        </p:nvPicPr>
        <p:blipFill>
          <a:blip r:embed="rId1"/>
          <a:stretch/>
        </p:blipFill>
        <p:spPr>
          <a:xfrm>
            <a:off x="1320840" y="895320"/>
            <a:ext cx="6502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HOW DO TUMOURS DEVELOP?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has to be a change to 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change must cause an alteration in cell growth and behavi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change must be non-lethal and be passed onto daughter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Arial"/>
              </a:rPr>
              <a:t>HOW DO TUMOURS DEVELOP?</a:t>
            </a:r>
            <a:endParaRPr b="0" i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3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teration is to more than one g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es concerned are oncogenes/tumour suppressor 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quence of gene alterations from normal to benign to malig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insic and extrinsic / inheritance and environment key fact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7:03:04Z</dcterms:created>
  <dc:creator>Malcolm J L Rae</dc:creator>
  <dc:description/>
  <dc:language>en-US</dc:language>
  <cp:lastModifiedBy>I-TEC</cp:lastModifiedBy>
  <cp:lastPrinted>2000-01-18T10:14:21Z</cp:lastPrinted>
  <dcterms:modified xsi:type="dcterms:W3CDTF">2015-05-20T10:19:58Z</dcterms:modified>
  <cp:revision>6</cp:revision>
  <dc:subject/>
  <dc:title>PowerPoint Presentation</dc:title>
</cp:coreProperties>
</file>