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3E391-0213-4B60-BCA4-2D9078D40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614D2-584F-4BBD-A656-F3E0EA109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9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2263CE-332C-4A25-BDA7-52FE1371B7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37D145-7A9E-46CB-8FD4-63313347FE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5DB481-F913-4BB7-9502-1BBD48C977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7AB6F0-5D4E-4F61-A5DA-B3E98D8885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0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81AE15-D831-457C-82F3-3C589C241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0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678DC7-3EBD-4CD1-A24B-8DDA6841B4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1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C2DD8B-C892-4C05-A528-0C6253C4F4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D55E79-C4F7-40D0-8127-6438358A7F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2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61C7A0-6690-4605-A88A-5595542334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AFA9F7-F13E-4AD4-AAC5-A9A2CFF449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9A6BD-ABDA-4873-896C-15E775220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9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AB566C-AC5D-479D-8B81-43130E23E4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483512-9DB5-4E1D-941E-2B8CD91FDE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0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F2B861-3799-4009-A9AC-06E442DB60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274221-504D-42C6-A9F5-F598E3AC6D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F8B400-7CFB-4125-8073-E778AA0DEB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AEB042-564C-4066-9358-15C005C7BE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960273-662F-416F-B2C7-6BF88DFEC5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B1027E-1AFE-4549-AC02-D174EA97C3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1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4AF37E-A444-431A-9611-B38AA991EB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10C713-4CF4-44CC-8F43-56A3B7D1DD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77F3B-A29D-41E1-ACA0-B2E492790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2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67FD149-C4CF-4DC5-AD0E-135D4F912F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ACB414-5B7C-44F7-ABB6-0D4307530B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0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C0A34E-2FB3-4C52-BD52-7A6A48CE28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3FAC66-478F-498F-9309-2C4EE99C45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0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C3C0AD-678A-4FD9-A7FB-793F7BB7D1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B33FB3-0ECB-4EBE-827E-CEFB9B2D87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C1D509-518A-4245-8460-70173664B6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1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A0EA80-0D8E-4ED6-90F0-D19528C83F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A18651-C30B-44E6-A26B-41E7D4BC7B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2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138C59-562F-45BD-A83B-B3A8227150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53BC6-008E-4F7B-8387-6E05A7B1C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2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F6DCBF-41C4-4E41-B826-0278497133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D19F70-7762-4EDB-8438-AA34C8E00B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3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2C16CF-18F1-49C7-B6E2-9D1C173EBE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3F2FAB-9D79-4C87-A7B4-42A3816EE7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1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B59C54-57D3-4D67-A493-F43FFA5A03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723767-8FFB-414B-98F2-C756B8CC3D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1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A2A6AD-4FFC-472F-8FF6-68F75B7B58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DCB2C5-9B2A-4840-A978-F7E6818B4A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660376-D0E1-4A56-8D56-6377DEC13D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608520-49BB-44D3-B572-E7137B0661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EB139-512A-48EF-BB86-E37326A70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FB5FD2-550C-4697-8DD6-405BF8B631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47FF08-1A03-470B-B2F6-8BF9A16A32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3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6CC8B7-C6C7-4634-86E6-463DA78AEC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6FB5C2-AB08-4926-974F-AB9B05128B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3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D3D8356-5128-4CAE-963F-57891D3DE79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EF6A645-9614-402D-803F-B0C4D8C47D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1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79ED57-4635-462C-9622-BF88EEC47A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30121D-956F-4C2E-B896-6DF2240020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1E4D39-4E7E-4CF0-8A7F-7DA199210B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BDA448-82F2-4E55-80E1-E7EA9D8F35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BD7C2-54AA-48B4-BDCE-F2B3182A2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514438-23D7-4288-AE18-FB7DF37ACB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7F6AE1-4414-4E84-9B6F-2A853702E3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2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3E3637-D818-4D69-B68B-6074959941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0324B7-1871-4B53-B286-9D720C6BA6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3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EA172A-9427-4D25-BA44-E292FF3454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4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620E562-EF3B-462F-A5F8-54D7D2011F2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4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0ED4B1A-0AD7-43EA-861E-AA1CD4FCE78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7312B26-CCE4-4857-B886-8888C7460F7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2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E03BC74-2848-4B90-B5CF-ABB56B3F060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9BC62D-008F-4854-B6EB-E8A3E99EF0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08344-B366-4738-A603-4E5E149CF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C6A984A-69A6-47DE-9E76-E09231C639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54CC42-A8E6-46EC-A18B-650E59244A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5F0597-B657-47EF-A7AE-4572050F42E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F4D094-3F1E-49D0-AA4F-0F13596C59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3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A31D09-5747-412D-80BA-846C33EC68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6F83FD-A3FD-4913-93ED-EC846DA3DA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4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673C3F-D031-4E3C-8815-401E2C754A5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655A2A6-EE99-4EB9-9886-1C0BFA010A9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5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D60752-D6EE-472E-ADBC-1E035B67C22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90E3212-03D0-441F-9404-52F5C3662D6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ADCB1-39BA-4A28-ACD7-84395C619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2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6A69A9B-B15B-434A-AA1B-E290EF1816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DAA9BF0-9611-4FD0-9288-EB6440EBF0F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3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19122C-ED84-444C-BA1E-94BF7F65DD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1E870F-A1D7-4A62-9007-92BA052965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870F932-F87D-40AB-ACB8-38BCE4224F4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83372D5-0FC2-4E30-92E2-A98BEDFFB9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4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5CB84C-A209-4346-AC9A-ED6F93E611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4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140E46-B2E5-40A8-851D-8AACE1EBAC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4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3F6C0E2-449A-4991-9B45-56271F101F7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5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3FA99DE-E06F-4DD1-B82A-72CF0F2B327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DCC48-F3F3-4BFB-B041-048D82413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5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49CEE10-3A40-4C33-9A74-23B80A6B5BE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1108A66-CA2E-4DBE-A52F-F2F0AF8543F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3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F98CE5-6A50-4707-B3FD-A1A24F28E0E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022C2F9-888A-48BF-8592-070B7E511F2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3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6735104-079B-4E63-A430-9DECF101261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D811AF7-A649-4BCA-944E-F72757ABDBF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B43CF83-1A01-4663-9B28-5ABD94894E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4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7C74CB-562F-4F91-9026-CC7502F327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4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57E912-3156-4B4B-AD26-A58397F3016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5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2DDE43-D173-4C22-A5E4-813FE2B59CA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C66D0-410B-44FC-A394-4E40C35EE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5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3B7D0DE-14AD-4CD0-8E05-DDD66A4205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5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0F96702-3670-47AC-B58F-C6C728CB027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6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A38F001-DFF0-46F6-A94D-87DBC8BEDE2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DE586-A027-458D-856A-9E47F6746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4785F-7B98-4F91-8661-5BC6669A8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DD27F-C341-44A7-BF77-11D59CD6A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B2198-8BBF-4D51-BF4B-69BCF9E0B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93D9F-4BE0-4A90-8F18-1A79955F4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8DCF6-D2B6-4E19-B3F0-855D874A2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BB8013-32D5-4D9D-B89D-3AD4F995CC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1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A2BD1-CCAE-4257-9DB0-E123F74D1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2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98FB68-45A8-4D8B-916A-E372575719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A3D91F-6891-449C-94BE-D2D258093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DBF704-536D-4E01-A699-477CC2F58A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EA526-344A-4CD6-8D2F-143FBE13A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DBC93-F1A5-4DEA-96F9-0CFB7173D7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993D8A-35A2-4025-AD51-A896E9F1D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3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9793D-DF56-4D16-B5C6-350D7EB16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3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FAD9C-0A68-4339-93BF-8B78120E9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4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634D2-3652-4E36-BD02-27C43E048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4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1D93BA-DBE0-492C-9F66-FFDB851C28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4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DC96B2-D3B3-4867-859A-C6FC4993AE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D49E00-FB11-48E8-985C-ABEF4358FF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9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603F97-4BEE-4B29-8C41-68AC74308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DF66F-592F-4E61-98F1-CA3C1E18B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6D436-3901-4076-BE8C-5EDFCE2A6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9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C52C1D-468F-489C-8283-097B15EC9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D5CB0-AF5F-4AF1-975F-D335489907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EB63D-B6FA-4DAF-BDA6-D2DA4C0CE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40F0D-B296-4D28-B8B9-DE24209942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43B81-CA2E-4E93-BCB0-BB2483A41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1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C7554-DEA6-4027-AC55-81C0343B4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1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FD5721-53B6-4202-A815-6047C5E83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8170A2-AB12-4C13-BF13-B273448519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2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99FC03-8283-4A5B-9F35-8C4AA0CA41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68605D-094C-43B2-B5CD-4245782838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8DD3F-0782-443E-80AC-6C9A4ED32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6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EABF36-3639-459D-9D51-A89D338D17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3B04D0-A5B6-4C2B-B0B1-E9150A1662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9EEA99-7896-43A1-ADD4-A3C253A4E3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DA8142-8BC5-42DF-B480-D7EC69057C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0AF8A-D889-45A2-B879-997B92DE5B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CBADC-E361-4C64-9475-049362B525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8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3E22C-2CEB-47DD-8963-3C1DC16DB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0C08B-F9E8-47AA-AAE1-3AAE8ACB1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9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D55AC1-9B62-43F0-93CB-A2A53BBC5C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3F8DB3-B2C6-4811-A23A-1DE9EC6696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FB8A8-FBD3-4572-8283-079AE6934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9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4F04F8-4FD2-4E59-B09B-A5AE9FB60B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FDF574-D1C3-41E0-A218-0216761C8B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7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3CAD86-E8F3-45DA-B617-F8D775295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DBB810-AEC1-431E-AF08-C885F1E624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7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6C79DB-9962-4B19-906C-99324A02C2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3F5411-4E27-4044-AA46-032A6DD5EE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D46992-1C51-41D9-AC73-D4177BE1C8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8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EF09DE-D6DE-4AC2-A3F4-5A9E4B569D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8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77EE27-5EDF-479F-B3AE-2A14EE089F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9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651AE0-DEDB-4D43-890B-BD46763C7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1669-7C4A-4B8C-BC94-46ED99074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9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B4B12F-6E2A-4FA6-BF96-72DA79BF85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9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D044D1-9429-4F3A-A7CC-E27EAB7CE5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0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021B81-4CBE-4C58-A37D-A14E7CB58E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5159B4-E05B-427A-AEA2-5135094157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8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EA715-06A8-4CDD-8F9D-23E9568F88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66AF49-0B59-4804-8B65-96B6D9F359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24728F-1A4C-4810-BE16-A3A85FEB5B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A8C985-E924-4EE0-9C8C-CC0CA21FBA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4B772F-6F06-4F84-A6AF-FFE5009B6B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618D3C-DDFF-43EE-A7CA-7F9658A05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D798-48E4-4E4A-9949-42E33A679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9844C0-3569-4B9A-86B9-E4189C778B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90E49-0BC9-4B25-8AFE-EB33B7D71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0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429374-65DA-4F8F-9337-023B2AB5A4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977C91-CDFD-43EC-8A22-0E10BCB33A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0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A6759D-73D2-4E70-B105-08C4A1FF60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47F23E-4494-4CF8-8708-7E36496419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8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837EA5-F0D0-47A1-94F2-8084AD6D6B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E00539-2E67-483C-B8E8-FBC7FCFC9B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9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AB93FC-E28D-45AB-BAE1-B15612A4C0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389D61-4140-4464-A602-6408D31BFB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DC168-CF64-46EE-B9AD-B67FE2560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79C8AE-7FCC-4AB2-8AB1-E487C6CA6E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9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68B49B-F865-4EBA-ACBF-854C9FCFB3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9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D815C2-4999-4849-A0A4-A0A786D1D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231BE-1367-4B00-86E8-49EAC64FB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0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6EED6F-BBE1-4CC2-917F-BB09273D81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1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0BFA7E-8E28-4AEA-8737-140674B7BD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1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5B6AF6-9FEB-4BB0-9E18-D5B7CDAACC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E91EEB-43DE-4F26-99D4-B46CB27074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9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A57718-F3E1-4A25-9C3F-2BE41B2B82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9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563E0E-9D3F-4FAA-ADF2-FE874C849A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00000"/>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50BF81-DB91-4F9D-8024-51F4094CA575}" type="slidenum">
              <a:rPr b="0" lang="en-US"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7"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828" name="Group 3"/>
          <p:cNvGrpSpPr/>
          <p:nvPr/>
        </p:nvGrpSpPr>
        <p:grpSpPr>
          <a:xfrm>
            <a:off x="3240" y="4267080"/>
            <a:ext cx="9140760" cy="2590920"/>
            <a:chOff x="3240" y="4267080"/>
            <a:chExt cx="9140760" cy="2590920"/>
          </a:xfrm>
        </p:grpSpPr>
        <p:sp>
          <p:nvSpPr>
            <p:cNvPr id="829"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830" name="Group 5"/>
            <p:cNvGrpSpPr/>
            <p:nvPr/>
          </p:nvGrpSpPr>
          <p:grpSpPr>
            <a:xfrm>
              <a:off x="5600880" y="5897520"/>
              <a:ext cx="1256760" cy="827280"/>
              <a:chOff x="5600880" y="5897520"/>
              <a:chExt cx="1256760" cy="827280"/>
            </a:xfrm>
          </p:grpSpPr>
          <p:sp>
            <p:nvSpPr>
              <p:cNvPr id="831"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37"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38"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39"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40"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41"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42" name="Group 17"/>
            <p:cNvGrpSpPr/>
            <p:nvPr/>
          </p:nvGrpSpPr>
          <p:grpSpPr>
            <a:xfrm>
              <a:off x="2819520" y="5764320"/>
              <a:ext cx="2581200" cy="1084320"/>
              <a:chOff x="2819520" y="5764320"/>
              <a:chExt cx="2581200" cy="1084320"/>
            </a:xfrm>
          </p:grpSpPr>
          <p:sp>
            <p:nvSpPr>
              <p:cNvPr id="843"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2"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3"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4"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5"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6"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7"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8"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9"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0"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861" name="Group 36"/>
            <p:cNvGrpSpPr/>
            <p:nvPr/>
          </p:nvGrpSpPr>
          <p:grpSpPr>
            <a:xfrm>
              <a:off x="6553080" y="5334120"/>
              <a:ext cx="2144880" cy="1303200"/>
              <a:chOff x="6553080" y="5334120"/>
              <a:chExt cx="2144880" cy="1303200"/>
            </a:xfrm>
          </p:grpSpPr>
          <p:sp>
            <p:nvSpPr>
              <p:cNvPr id="862"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3"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4"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5"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6"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7"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8"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9"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70"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71"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72"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73"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79" name="Group 54"/>
            <p:cNvGrpSpPr/>
            <p:nvPr/>
          </p:nvGrpSpPr>
          <p:grpSpPr>
            <a:xfrm>
              <a:off x="8381880" y="4800600"/>
              <a:ext cx="674640" cy="409680"/>
              <a:chOff x="8381880" y="4800600"/>
              <a:chExt cx="674640" cy="409680"/>
            </a:xfrm>
          </p:grpSpPr>
          <p:sp>
            <p:nvSpPr>
              <p:cNvPr id="880"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1"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2"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3"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4"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5"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6"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887" name="Group 62"/>
              <p:cNvGrpSpPr/>
              <p:nvPr/>
            </p:nvGrpSpPr>
            <p:grpSpPr>
              <a:xfrm>
                <a:off x="8542440" y="4897440"/>
                <a:ext cx="360360" cy="209520"/>
                <a:chOff x="8542440" y="4897440"/>
                <a:chExt cx="360360" cy="209520"/>
              </a:xfrm>
            </p:grpSpPr>
            <p:sp>
              <p:nvSpPr>
                <p:cNvPr id="888"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9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9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CFBDB55-3E94-4761-A0B6-47BB607B5E55}"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934" name="Group 3"/>
          <p:cNvGrpSpPr/>
          <p:nvPr/>
        </p:nvGrpSpPr>
        <p:grpSpPr>
          <a:xfrm>
            <a:off x="3240" y="4267080"/>
            <a:ext cx="9140760" cy="2590920"/>
            <a:chOff x="3240" y="4267080"/>
            <a:chExt cx="9140760" cy="2590920"/>
          </a:xfrm>
        </p:grpSpPr>
        <p:sp>
          <p:nvSpPr>
            <p:cNvPr id="935"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936" name="Group 5"/>
            <p:cNvGrpSpPr/>
            <p:nvPr/>
          </p:nvGrpSpPr>
          <p:grpSpPr>
            <a:xfrm>
              <a:off x="5600880" y="5897520"/>
              <a:ext cx="1256760" cy="827280"/>
              <a:chOff x="5600880" y="5897520"/>
              <a:chExt cx="1256760" cy="827280"/>
            </a:xfrm>
          </p:grpSpPr>
          <p:sp>
            <p:nvSpPr>
              <p:cNvPr id="937"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3"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4"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5"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6"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7"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948" name="Group 17"/>
            <p:cNvGrpSpPr/>
            <p:nvPr/>
          </p:nvGrpSpPr>
          <p:grpSpPr>
            <a:xfrm>
              <a:off x="2819520" y="5764320"/>
              <a:ext cx="2581200" cy="1084320"/>
              <a:chOff x="2819520" y="5764320"/>
              <a:chExt cx="2581200" cy="1084320"/>
            </a:xfrm>
          </p:grpSpPr>
          <p:sp>
            <p:nvSpPr>
              <p:cNvPr id="949"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58"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59"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0"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1"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2"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3"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4"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5"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6"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967" name="Group 36"/>
            <p:cNvGrpSpPr/>
            <p:nvPr/>
          </p:nvGrpSpPr>
          <p:grpSpPr>
            <a:xfrm>
              <a:off x="6553080" y="5334120"/>
              <a:ext cx="2144880" cy="1303200"/>
              <a:chOff x="6553080" y="5334120"/>
              <a:chExt cx="2144880" cy="1303200"/>
            </a:xfrm>
          </p:grpSpPr>
          <p:sp>
            <p:nvSpPr>
              <p:cNvPr id="968"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9"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0"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1"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2"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3"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4"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5"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6"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7"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8"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9"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985" name="Group 54"/>
            <p:cNvGrpSpPr/>
            <p:nvPr/>
          </p:nvGrpSpPr>
          <p:grpSpPr>
            <a:xfrm>
              <a:off x="8381880" y="4800600"/>
              <a:ext cx="674640" cy="409680"/>
              <a:chOff x="8381880" y="4800600"/>
              <a:chExt cx="674640" cy="409680"/>
            </a:xfrm>
          </p:grpSpPr>
          <p:sp>
            <p:nvSpPr>
              <p:cNvPr id="986"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87"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88"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89"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90"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91"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92"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993" name="Group 62"/>
              <p:cNvGrpSpPr/>
              <p:nvPr/>
            </p:nvGrpSpPr>
            <p:grpSpPr>
              <a:xfrm>
                <a:off x="8542440" y="4897440"/>
                <a:ext cx="360360" cy="209520"/>
                <a:chOff x="8542440" y="4897440"/>
                <a:chExt cx="360360" cy="209520"/>
              </a:xfrm>
            </p:grpSpPr>
            <p:sp>
              <p:nvSpPr>
                <p:cNvPr id="994"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5"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6"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7"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0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0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9441D61-2A23-49D6-87B9-206D322E27FC}"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39"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040" name="Group 3"/>
          <p:cNvGrpSpPr/>
          <p:nvPr/>
        </p:nvGrpSpPr>
        <p:grpSpPr>
          <a:xfrm>
            <a:off x="3240" y="4267080"/>
            <a:ext cx="9140760" cy="2590920"/>
            <a:chOff x="3240" y="4267080"/>
            <a:chExt cx="9140760" cy="2590920"/>
          </a:xfrm>
        </p:grpSpPr>
        <p:sp>
          <p:nvSpPr>
            <p:cNvPr id="104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042" name="Group 5"/>
            <p:cNvGrpSpPr/>
            <p:nvPr/>
          </p:nvGrpSpPr>
          <p:grpSpPr>
            <a:xfrm>
              <a:off x="5600880" y="5897520"/>
              <a:ext cx="1256760" cy="827280"/>
              <a:chOff x="5600880" y="5897520"/>
              <a:chExt cx="1256760" cy="827280"/>
            </a:xfrm>
          </p:grpSpPr>
          <p:sp>
            <p:nvSpPr>
              <p:cNvPr id="1043"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49"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50"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51"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52"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53"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054" name="Group 17"/>
            <p:cNvGrpSpPr/>
            <p:nvPr/>
          </p:nvGrpSpPr>
          <p:grpSpPr>
            <a:xfrm>
              <a:off x="2819520" y="5764320"/>
              <a:ext cx="2581200" cy="1084320"/>
              <a:chOff x="2819520" y="5764320"/>
              <a:chExt cx="2581200" cy="1084320"/>
            </a:xfrm>
          </p:grpSpPr>
          <p:sp>
            <p:nvSpPr>
              <p:cNvPr id="1055"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4"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5"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6"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7"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8"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9"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0"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1"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2"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073" name="Group 36"/>
            <p:cNvGrpSpPr/>
            <p:nvPr/>
          </p:nvGrpSpPr>
          <p:grpSpPr>
            <a:xfrm>
              <a:off x="6553080" y="5334120"/>
              <a:ext cx="2144880" cy="1303200"/>
              <a:chOff x="6553080" y="5334120"/>
              <a:chExt cx="2144880" cy="1303200"/>
            </a:xfrm>
          </p:grpSpPr>
          <p:sp>
            <p:nvSpPr>
              <p:cNvPr id="1074"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5"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6"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7"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8"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9"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0"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1"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2"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3"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4"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5"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091" name="Group 54"/>
            <p:cNvGrpSpPr/>
            <p:nvPr/>
          </p:nvGrpSpPr>
          <p:grpSpPr>
            <a:xfrm>
              <a:off x="8381880" y="4800600"/>
              <a:ext cx="674640" cy="409680"/>
              <a:chOff x="8381880" y="4800600"/>
              <a:chExt cx="674640" cy="409680"/>
            </a:xfrm>
          </p:grpSpPr>
          <p:sp>
            <p:nvSpPr>
              <p:cNvPr id="1092"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3"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4"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5"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6"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7"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8"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099" name="Group 62"/>
              <p:cNvGrpSpPr/>
              <p:nvPr/>
            </p:nvGrpSpPr>
            <p:grpSpPr>
              <a:xfrm>
                <a:off x="8542440" y="4897440"/>
                <a:ext cx="360360" cy="209520"/>
                <a:chOff x="8542440" y="4897440"/>
                <a:chExt cx="360360" cy="209520"/>
              </a:xfrm>
            </p:grpSpPr>
            <p:sp>
              <p:nvSpPr>
                <p:cNvPr id="1100"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0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0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0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684DEE6-8A9B-49E3-81BB-A9E60E7A0DF2}"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5"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146" name="Group 3"/>
          <p:cNvGrpSpPr/>
          <p:nvPr/>
        </p:nvGrpSpPr>
        <p:grpSpPr>
          <a:xfrm>
            <a:off x="3240" y="4267080"/>
            <a:ext cx="9140760" cy="2590920"/>
            <a:chOff x="3240" y="4267080"/>
            <a:chExt cx="9140760" cy="2590920"/>
          </a:xfrm>
        </p:grpSpPr>
        <p:sp>
          <p:nvSpPr>
            <p:cNvPr id="1147"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148" name="Group 5"/>
            <p:cNvGrpSpPr/>
            <p:nvPr/>
          </p:nvGrpSpPr>
          <p:grpSpPr>
            <a:xfrm>
              <a:off x="5600880" y="5897520"/>
              <a:ext cx="1256760" cy="827280"/>
              <a:chOff x="5600880" y="5897520"/>
              <a:chExt cx="1256760" cy="827280"/>
            </a:xfrm>
          </p:grpSpPr>
          <p:sp>
            <p:nvSpPr>
              <p:cNvPr id="1149"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55"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56"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57"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58"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59"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60" name="Group 17"/>
            <p:cNvGrpSpPr/>
            <p:nvPr/>
          </p:nvGrpSpPr>
          <p:grpSpPr>
            <a:xfrm>
              <a:off x="2819520" y="5764320"/>
              <a:ext cx="2581200" cy="1084320"/>
              <a:chOff x="2819520" y="5764320"/>
              <a:chExt cx="2581200" cy="1084320"/>
            </a:xfrm>
          </p:grpSpPr>
          <p:sp>
            <p:nvSpPr>
              <p:cNvPr id="1161"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0"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1"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2"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3"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4"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5"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6"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7"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8"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179" name="Group 36"/>
            <p:cNvGrpSpPr/>
            <p:nvPr/>
          </p:nvGrpSpPr>
          <p:grpSpPr>
            <a:xfrm>
              <a:off x="6553080" y="5334120"/>
              <a:ext cx="2144880" cy="1303200"/>
              <a:chOff x="6553080" y="5334120"/>
              <a:chExt cx="2144880" cy="1303200"/>
            </a:xfrm>
          </p:grpSpPr>
          <p:sp>
            <p:nvSpPr>
              <p:cNvPr id="1180"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1"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2"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3"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4"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5"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6"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7"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8"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9"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90"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91"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97" name="Group 54"/>
            <p:cNvGrpSpPr/>
            <p:nvPr/>
          </p:nvGrpSpPr>
          <p:grpSpPr>
            <a:xfrm>
              <a:off x="8381880" y="4800600"/>
              <a:ext cx="674640" cy="409680"/>
              <a:chOff x="8381880" y="4800600"/>
              <a:chExt cx="674640" cy="409680"/>
            </a:xfrm>
          </p:grpSpPr>
          <p:sp>
            <p:nvSpPr>
              <p:cNvPr id="1198"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99"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00"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01"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02"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03"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04"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205" name="Group 62"/>
              <p:cNvGrpSpPr/>
              <p:nvPr/>
            </p:nvGrpSpPr>
            <p:grpSpPr>
              <a:xfrm>
                <a:off x="8542440" y="4897440"/>
                <a:ext cx="360360" cy="209520"/>
                <a:chOff x="8542440" y="4897440"/>
                <a:chExt cx="360360" cy="209520"/>
              </a:xfrm>
            </p:grpSpPr>
            <p:sp>
              <p:nvSpPr>
                <p:cNvPr id="1206"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1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1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701283-F63B-4BE1-9B31-D29AE7C15A30}"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51"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252" name="Group 3"/>
          <p:cNvGrpSpPr/>
          <p:nvPr/>
        </p:nvGrpSpPr>
        <p:grpSpPr>
          <a:xfrm>
            <a:off x="3240" y="4267080"/>
            <a:ext cx="9140760" cy="2590920"/>
            <a:chOff x="3240" y="4267080"/>
            <a:chExt cx="9140760" cy="2590920"/>
          </a:xfrm>
        </p:grpSpPr>
        <p:sp>
          <p:nvSpPr>
            <p:cNvPr id="1253"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254" name="Group 5"/>
            <p:cNvGrpSpPr/>
            <p:nvPr/>
          </p:nvGrpSpPr>
          <p:grpSpPr>
            <a:xfrm>
              <a:off x="5600880" y="5897520"/>
              <a:ext cx="1256760" cy="827280"/>
              <a:chOff x="5600880" y="5897520"/>
              <a:chExt cx="1256760" cy="827280"/>
            </a:xfrm>
          </p:grpSpPr>
          <p:sp>
            <p:nvSpPr>
              <p:cNvPr id="125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61"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62"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63"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64"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6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66" name="Group 17"/>
            <p:cNvGrpSpPr/>
            <p:nvPr/>
          </p:nvGrpSpPr>
          <p:grpSpPr>
            <a:xfrm>
              <a:off x="2819520" y="5764320"/>
              <a:ext cx="2581200" cy="1084320"/>
              <a:chOff x="2819520" y="5764320"/>
              <a:chExt cx="2581200" cy="1084320"/>
            </a:xfrm>
          </p:grpSpPr>
          <p:sp>
            <p:nvSpPr>
              <p:cNvPr id="126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76"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77"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78"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79"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0"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1"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2"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3"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4"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285" name="Group 36"/>
            <p:cNvGrpSpPr/>
            <p:nvPr/>
          </p:nvGrpSpPr>
          <p:grpSpPr>
            <a:xfrm>
              <a:off x="6553080" y="5334120"/>
              <a:ext cx="2144880" cy="1303200"/>
              <a:chOff x="6553080" y="5334120"/>
              <a:chExt cx="2144880" cy="1303200"/>
            </a:xfrm>
          </p:grpSpPr>
          <p:sp>
            <p:nvSpPr>
              <p:cNvPr id="1286"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7"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8"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9"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0"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2"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3"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4"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5"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6"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3" name="Group 54"/>
            <p:cNvGrpSpPr/>
            <p:nvPr/>
          </p:nvGrpSpPr>
          <p:grpSpPr>
            <a:xfrm>
              <a:off x="8381880" y="4800600"/>
              <a:ext cx="674640" cy="409680"/>
              <a:chOff x="8381880" y="4800600"/>
              <a:chExt cx="674640" cy="409680"/>
            </a:xfrm>
          </p:grpSpPr>
          <p:sp>
            <p:nvSpPr>
              <p:cNvPr id="1304"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05"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06"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07"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0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09"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10"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311" name="Group 62"/>
              <p:cNvGrpSpPr/>
              <p:nvPr/>
            </p:nvGrpSpPr>
            <p:grpSpPr>
              <a:xfrm>
                <a:off x="8542440" y="4897440"/>
                <a:ext cx="360360" cy="209520"/>
                <a:chOff x="8542440" y="4897440"/>
                <a:chExt cx="360360" cy="209520"/>
              </a:xfrm>
            </p:grpSpPr>
            <p:sp>
              <p:nvSpPr>
                <p:cNvPr id="131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3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1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1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2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CABBB4-59AF-408F-B99F-D7678E596238}"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357"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358" name="Group 3"/>
          <p:cNvGrpSpPr/>
          <p:nvPr/>
        </p:nvGrpSpPr>
        <p:grpSpPr>
          <a:xfrm>
            <a:off x="3240" y="4267080"/>
            <a:ext cx="9140760" cy="2590920"/>
            <a:chOff x="3240" y="4267080"/>
            <a:chExt cx="9140760" cy="2590920"/>
          </a:xfrm>
        </p:grpSpPr>
        <p:sp>
          <p:nvSpPr>
            <p:cNvPr id="1359"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360" name="Group 5"/>
            <p:cNvGrpSpPr/>
            <p:nvPr/>
          </p:nvGrpSpPr>
          <p:grpSpPr>
            <a:xfrm>
              <a:off x="5600880" y="5897520"/>
              <a:ext cx="1256760" cy="827280"/>
              <a:chOff x="5600880" y="5897520"/>
              <a:chExt cx="1256760" cy="827280"/>
            </a:xfrm>
          </p:grpSpPr>
          <p:sp>
            <p:nvSpPr>
              <p:cNvPr id="1361"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67"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68"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69"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70"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71"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72" name="Group 17"/>
            <p:cNvGrpSpPr/>
            <p:nvPr/>
          </p:nvGrpSpPr>
          <p:grpSpPr>
            <a:xfrm>
              <a:off x="2819520" y="5764320"/>
              <a:ext cx="2581200" cy="1084320"/>
              <a:chOff x="2819520" y="5764320"/>
              <a:chExt cx="2581200" cy="1084320"/>
            </a:xfrm>
          </p:grpSpPr>
          <p:sp>
            <p:nvSpPr>
              <p:cNvPr id="1373"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2"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3"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4"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5"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6"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7"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8"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9"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0"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391" name="Group 36"/>
            <p:cNvGrpSpPr/>
            <p:nvPr/>
          </p:nvGrpSpPr>
          <p:grpSpPr>
            <a:xfrm>
              <a:off x="6553080" y="5334120"/>
              <a:ext cx="2144880" cy="1303200"/>
              <a:chOff x="6553080" y="5334120"/>
              <a:chExt cx="2144880" cy="1303200"/>
            </a:xfrm>
          </p:grpSpPr>
          <p:sp>
            <p:nvSpPr>
              <p:cNvPr id="1392"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3"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4"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5"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6"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7"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8"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9"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00"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01"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02"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03"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09" name="Group 54"/>
            <p:cNvGrpSpPr/>
            <p:nvPr/>
          </p:nvGrpSpPr>
          <p:grpSpPr>
            <a:xfrm>
              <a:off x="8381880" y="4800600"/>
              <a:ext cx="674640" cy="409680"/>
              <a:chOff x="8381880" y="4800600"/>
              <a:chExt cx="674640" cy="409680"/>
            </a:xfrm>
          </p:grpSpPr>
          <p:sp>
            <p:nvSpPr>
              <p:cNvPr id="1410"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1"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2"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3"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4"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5"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6"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417" name="Group 62"/>
              <p:cNvGrpSpPr/>
              <p:nvPr/>
            </p:nvGrpSpPr>
            <p:grpSpPr>
              <a:xfrm>
                <a:off x="8542440" y="4897440"/>
                <a:ext cx="360360" cy="209520"/>
                <a:chOff x="8542440" y="4897440"/>
                <a:chExt cx="360360" cy="209520"/>
              </a:xfrm>
            </p:grpSpPr>
            <p:sp>
              <p:nvSpPr>
                <p:cNvPr id="1418"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24"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2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26"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CF862C8-77ED-457C-B879-4C29C8AC4595}"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46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464" name="Group 3"/>
          <p:cNvGrpSpPr/>
          <p:nvPr/>
        </p:nvGrpSpPr>
        <p:grpSpPr>
          <a:xfrm>
            <a:off x="3240" y="4267080"/>
            <a:ext cx="9140760" cy="2590920"/>
            <a:chOff x="3240" y="4267080"/>
            <a:chExt cx="9140760" cy="2590920"/>
          </a:xfrm>
        </p:grpSpPr>
        <p:sp>
          <p:nvSpPr>
            <p:cNvPr id="1465"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466" name="Group 5"/>
            <p:cNvGrpSpPr/>
            <p:nvPr/>
          </p:nvGrpSpPr>
          <p:grpSpPr>
            <a:xfrm>
              <a:off x="5600880" y="5897520"/>
              <a:ext cx="1256760" cy="827280"/>
              <a:chOff x="5600880" y="5897520"/>
              <a:chExt cx="1256760" cy="827280"/>
            </a:xfrm>
          </p:grpSpPr>
          <p:sp>
            <p:nvSpPr>
              <p:cNvPr id="1467"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73"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74"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75"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76"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77"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78" name="Group 17"/>
            <p:cNvGrpSpPr/>
            <p:nvPr/>
          </p:nvGrpSpPr>
          <p:grpSpPr>
            <a:xfrm>
              <a:off x="2819520" y="5764320"/>
              <a:ext cx="2581200" cy="1084320"/>
              <a:chOff x="2819520" y="5764320"/>
              <a:chExt cx="2581200" cy="1084320"/>
            </a:xfrm>
          </p:grpSpPr>
          <p:sp>
            <p:nvSpPr>
              <p:cNvPr id="1479"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88"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89"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0"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1"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2"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3"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4"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5"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6"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497" name="Group 36"/>
            <p:cNvGrpSpPr/>
            <p:nvPr/>
          </p:nvGrpSpPr>
          <p:grpSpPr>
            <a:xfrm>
              <a:off x="6553080" y="5334120"/>
              <a:ext cx="2144880" cy="1303200"/>
              <a:chOff x="6553080" y="5334120"/>
              <a:chExt cx="2144880" cy="1303200"/>
            </a:xfrm>
          </p:grpSpPr>
          <p:sp>
            <p:nvSpPr>
              <p:cNvPr id="1498"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9"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0"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1"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2"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3"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4"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5"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6"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7"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8"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9"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5" name="Group 54"/>
            <p:cNvGrpSpPr/>
            <p:nvPr/>
          </p:nvGrpSpPr>
          <p:grpSpPr>
            <a:xfrm>
              <a:off x="8381880" y="4800600"/>
              <a:ext cx="674640" cy="409680"/>
              <a:chOff x="8381880" y="4800600"/>
              <a:chExt cx="674640" cy="409680"/>
            </a:xfrm>
          </p:grpSpPr>
          <p:sp>
            <p:nvSpPr>
              <p:cNvPr id="1516"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17"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18"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19"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20"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21"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22"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523" name="Group 62"/>
              <p:cNvGrpSpPr/>
              <p:nvPr/>
            </p:nvGrpSpPr>
            <p:grpSpPr>
              <a:xfrm>
                <a:off x="8542440" y="4897440"/>
                <a:ext cx="360360" cy="209520"/>
                <a:chOff x="8542440" y="4897440"/>
                <a:chExt cx="360360" cy="209520"/>
              </a:xfrm>
            </p:grpSpPr>
            <p:sp>
              <p:nvSpPr>
                <p:cNvPr id="1524"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0"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31"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32"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351004-DB47-45C1-A7CB-236353AB6BCE}"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464653"/>
                </a:solidFill>
                <a:latin typeface="Arial"/>
              </a:rPr>
              <a:t>Click to edit the title text format</a:t>
            </a:r>
            <a:endParaRPr b="1" lang="en-US" sz="3900" spc="-1" strike="noStrike">
              <a:solidFill>
                <a:srgbClr val="464653"/>
              </a:solidFill>
              <a:latin typeface="Arial"/>
            </a:endParaRPr>
          </a:p>
        </p:txBody>
      </p:sp>
      <p:sp>
        <p:nvSpPr>
          <p:cNvPr id="7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46465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46465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6b56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00000"/>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3D9F54-BD59-4637-B493-8DDB87EEECD3}" type="slidenum">
              <a:rPr b="0" lang="en-US"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grpSp>
        <p:nvGrpSpPr>
          <p:cNvPr id="80" name="Group 8"/>
          <p:cNvGrpSpPr/>
          <p:nvPr/>
        </p:nvGrpSpPr>
        <p:grpSpPr>
          <a:xfrm>
            <a:off x="8153280" y="152280"/>
            <a:ext cx="792000" cy="1295280"/>
            <a:chOff x="8153280" y="152280"/>
            <a:chExt cx="792000" cy="1295280"/>
          </a:xfrm>
        </p:grpSpPr>
        <p:sp>
          <p:nvSpPr>
            <p:cNvPr id="81" name="Oval 9"/>
            <p:cNvSpPr/>
            <p:nvPr/>
          </p:nvSpPr>
          <p:spPr>
            <a:xfrm>
              <a:off x="8153280" y="15228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2" name="Oval 10"/>
            <p:cNvSpPr/>
            <p:nvPr/>
          </p:nvSpPr>
          <p:spPr>
            <a:xfrm>
              <a:off x="8321040" y="15228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3" name="Oval 11"/>
            <p:cNvSpPr/>
            <p:nvPr/>
          </p:nvSpPr>
          <p:spPr>
            <a:xfrm>
              <a:off x="8489160" y="15228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4" name="Oval 12"/>
            <p:cNvSpPr/>
            <p:nvPr/>
          </p:nvSpPr>
          <p:spPr>
            <a:xfrm>
              <a:off x="8153280" y="32004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 name="Oval 13"/>
            <p:cNvSpPr/>
            <p:nvPr/>
          </p:nvSpPr>
          <p:spPr>
            <a:xfrm>
              <a:off x="8321040" y="32004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 name="Oval 14"/>
            <p:cNvSpPr/>
            <p:nvPr/>
          </p:nvSpPr>
          <p:spPr>
            <a:xfrm>
              <a:off x="8489160" y="32004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7" name="Oval 15"/>
            <p:cNvSpPr/>
            <p:nvPr/>
          </p:nvSpPr>
          <p:spPr>
            <a:xfrm>
              <a:off x="8657280" y="32004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 name="Oval 16"/>
            <p:cNvSpPr/>
            <p:nvPr/>
          </p:nvSpPr>
          <p:spPr>
            <a:xfrm>
              <a:off x="8153280" y="48816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9" name="Oval 17"/>
            <p:cNvSpPr/>
            <p:nvPr/>
          </p:nvSpPr>
          <p:spPr>
            <a:xfrm>
              <a:off x="8321040" y="48816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0" name="Oval 18"/>
            <p:cNvSpPr/>
            <p:nvPr/>
          </p:nvSpPr>
          <p:spPr>
            <a:xfrm>
              <a:off x="8489160" y="48816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1" name="Oval 19"/>
            <p:cNvSpPr/>
            <p:nvPr/>
          </p:nvSpPr>
          <p:spPr>
            <a:xfrm>
              <a:off x="8657280" y="48816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2" name="Oval 20"/>
            <p:cNvSpPr/>
            <p:nvPr/>
          </p:nvSpPr>
          <p:spPr>
            <a:xfrm>
              <a:off x="8825400" y="48816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3" name="Oval 21"/>
            <p:cNvSpPr/>
            <p:nvPr/>
          </p:nvSpPr>
          <p:spPr>
            <a:xfrm>
              <a:off x="8153280" y="65592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 name="Oval 22"/>
            <p:cNvSpPr/>
            <p:nvPr/>
          </p:nvSpPr>
          <p:spPr>
            <a:xfrm>
              <a:off x="8321040" y="65592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5" name="Oval 23"/>
            <p:cNvSpPr/>
            <p:nvPr/>
          </p:nvSpPr>
          <p:spPr>
            <a:xfrm>
              <a:off x="8489160" y="65592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 name="Oval 24"/>
            <p:cNvSpPr/>
            <p:nvPr/>
          </p:nvSpPr>
          <p:spPr>
            <a:xfrm>
              <a:off x="8657280" y="65592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 name="Oval 25"/>
            <p:cNvSpPr/>
            <p:nvPr/>
          </p:nvSpPr>
          <p:spPr>
            <a:xfrm>
              <a:off x="8153280" y="82404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8" name="Oval 26"/>
            <p:cNvSpPr/>
            <p:nvPr/>
          </p:nvSpPr>
          <p:spPr>
            <a:xfrm>
              <a:off x="8321040" y="82404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9" name="Oval 27"/>
            <p:cNvSpPr/>
            <p:nvPr/>
          </p:nvSpPr>
          <p:spPr>
            <a:xfrm>
              <a:off x="8489160" y="82404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0" name="Oval 28"/>
            <p:cNvSpPr/>
            <p:nvPr/>
          </p:nvSpPr>
          <p:spPr>
            <a:xfrm>
              <a:off x="8657280" y="82404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1" name="Oval 29"/>
            <p:cNvSpPr/>
            <p:nvPr/>
          </p:nvSpPr>
          <p:spPr>
            <a:xfrm>
              <a:off x="8825400" y="824040"/>
              <a:ext cx="119880" cy="119880"/>
            </a:xfrm>
            <a:prstGeom prst="ellipse">
              <a:avLst/>
            </a:prstGeom>
            <a:solidFill>
              <a:srgbClr val="6b568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2" name="Oval 30"/>
            <p:cNvSpPr/>
            <p:nvPr/>
          </p:nvSpPr>
          <p:spPr>
            <a:xfrm>
              <a:off x="8153280" y="99216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3" name="Oval 31"/>
            <p:cNvSpPr/>
            <p:nvPr/>
          </p:nvSpPr>
          <p:spPr>
            <a:xfrm>
              <a:off x="8321040" y="99216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4" name="Oval 32"/>
            <p:cNvSpPr/>
            <p:nvPr/>
          </p:nvSpPr>
          <p:spPr>
            <a:xfrm>
              <a:off x="8489160" y="99216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5" name="Oval 33"/>
            <p:cNvSpPr/>
            <p:nvPr/>
          </p:nvSpPr>
          <p:spPr>
            <a:xfrm>
              <a:off x="8657280" y="992160"/>
              <a:ext cx="119880" cy="119880"/>
            </a:xfrm>
            <a:prstGeom prst="ellipse">
              <a:avLst/>
            </a:prstGeom>
            <a:solidFill>
              <a:srgbClr val="6b568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 name="Oval 34"/>
            <p:cNvSpPr/>
            <p:nvPr/>
          </p:nvSpPr>
          <p:spPr>
            <a:xfrm>
              <a:off x="8153280" y="1159920"/>
              <a:ext cx="119880" cy="119520"/>
            </a:xfrm>
            <a:prstGeom prst="ellipse">
              <a:avLst/>
            </a:prstGeom>
            <a:solidFill>
              <a:srgbClr val="727ca3"/>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 name="Oval 35"/>
            <p:cNvSpPr/>
            <p:nvPr/>
          </p:nvSpPr>
          <p:spPr>
            <a:xfrm>
              <a:off x="8321040" y="1159920"/>
              <a:ext cx="119880" cy="119520"/>
            </a:xfrm>
            <a:prstGeom prst="ellipse">
              <a:avLst/>
            </a:prstGeom>
            <a:solidFill>
              <a:srgbClr val="727ca3"/>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 name="Oval 36"/>
            <p:cNvSpPr/>
            <p:nvPr/>
          </p:nvSpPr>
          <p:spPr>
            <a:xfrm>
              <a:off x="8489160" y="1159920"/>
              <a:ext cx="119880" cy="119520"/>
            </a:xfrm>
            <a:prstGeom prst="ellipse">
              <a:avLst/>
            </a:prstGeom>
            <a:solidFill>
              <a:srgbClr val="6b568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 name="Oval 37"/>
            <p:cNvSpPr/>
            <p:nvPr/>
          </p:nvSpPr>
          <p:spPr>
            <a:xfrm>
              <a:off x="8657280" y="1159920"/>
              <a:ext cx="119880" cy="119520"/>
            </a:xfrm>
            <a:prstGeom prst="ellipse">
              <a:avLst/>
            </a:prstGeom>
            <a:solidFill>
              <a:srgbClr val="6b568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0" name="Oval 38"/>
            <p:cNvSpPr/>
            <p:nvPr/>
          </p:nvSpPr>
          <p:spPr>
            <a:xfrm>
              <a:off x="8321040" y="1328040"/>
              <a:ext cx="119880" cy="119520"/>
            </a:xfrm>
            <a:prstGeom prst="ellipse">
              <a:avLst/>
            </a:prstGeom>
            <a:solidFill>
              <a:srgbClr val="6b568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1" name="Oval 39"/>
            <p:cNvSpPr/>
            <p:nvPr/>
          </p:nvSpPr>
          <p:spPr>
            <a:xfrm>
              <a:off x="8657280" y="1328040"/>
              <a:ext cx="119880" cy="119520"/>
            </a:xfrm>
            <a:prstGeom prst="ellipse">
              <a:avLst/>
            </a:prstGeom>
            <a:solidFill>
              <a:srgbClr val="6b568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48"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49" name="Group 3"/>
          <p:cNvGrpSpPr/>
          <p:nvPr/>
        </p:nvGrpSpPr>
        <p:grpSpPr>
          <a:xfrm>
            <a:off x="3240" y="4267080"/>
            <a:ext cx="9140760" cy="2590920"/>
            <a:chOff x="3240" y="4267080"/>
            <a:chExt cx="9140760" cy="2590920"/>
          </a:xfrm>
        </p:grpSpPr>
        <p:sp>
          <p:nvSpPr>
            <p:cNvPr id="150"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51" name="Group 5"/>
            <p:cNvGrpSpPr/>
            <p:nvPr/>
          </p:nvGrpSpPr>
          <p:grpSpPr>
            <a:xfrm>
              <a:off x="5600880" y="5897520"/>
              <a:ext cx="1256760" cy="827280"/>
              <a:chOff x="5600880" y="5897520"/>
              <a:chExt cx="1256760" cy="827280"/>
            </a:xfrm>
          </p:grpSpPr>
          <p:sp>
            <p:nvSpPr>
              <p:cNvPr id="152"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8"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9"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60"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61"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62"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3" name="Group 17"/>
            <p:cNvGrpSpPr/>
            <p:nvPr/>
          </p:nvGrpSpPr>
          <p:grpSpPr>
            <a:xfrm>
              <a:off x="2819520" y="5764320"/>
              <a:ext cx="2581200" cy="1084320"/>
              <a:chOff x="2819520" y="5764320"/>
              <a:chExt cx="2581200" cy="1084320"/>
            </a:xfrm>
          </p:grpSpPr>
          <p:sp>
            <p:nvSpPr>
              <p:cNvPr id="164"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3"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4"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5"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6"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7"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8"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9"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0"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1"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82" name="Group 36"/>
            <p:cNvGrpSpPr/>
            <p:nvPr/>
          </p:nvGrpSpPr>
          <p:grpSpPr>
            <a:xfrm>
              <a:off x="6553080" y="5334120"/>
              <a:ext cx="2144880" cy="1303200"/>
              <a:chOff x="6553080" y="5334120"/>
              <a:chExt cx="2144880" cy="1303200"/>
            </a:xfrm>
          </p:grpSpPr>
          <p:sp>
            <p:nvSpPr>
              <p:cNvPr id="183"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4"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5"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6"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7"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8"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9"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0"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1"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2"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3"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4"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00" name="Group 54"/>
            <p:cNvGrpSpPr/>
            <p:nvPr/>
          </p:nvGrpSpPr>
          <p:grpSpPr>
            <a:xfrm>
              <a:off x="8381880" y="4800600"/>
              <a:ext cx="674640" cy="409680"/>
              <a:chOff x="8381880" y="4800600"/>
              <a:chExt cx="674640" cy="409680"/>
            </a:xfrm>
          </p:grpSpPr>
          <p:sp>
            <p:nvSpPr>
              <p:cNvPr id="201"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2"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3"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4"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5"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6"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7"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208" name="Group 62"/>
              <p:cNvGrpSpPr/>
              <p:nvPr/>
            </p:nvGrpSpPr>
            <p:grpSpPr>
              <a:xfrm>
                <a:off x="8542440" y="4897440"/>
                <a:ext cx="360360" cy="209520"/>
                <a:chOff x="8542440" y="4897440"/>
                <a:chExt cx="360360" cy="209520"/>
              </a:xfrm>
            </p:grpSpPr>
            <p:sp>
              <p:nvSpPr>
                <p:cNvPr id="209"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1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1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4C6A-CAE5-4488-982F-E7FBD55014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255" name="Group 8"/>
          <p:cNvGrpSpPr/>
          <p:nvPr/>
        </p:nvGrpSpPr>
        <p:grpSpPr>
          <a:xfrm>
            <a:off x="7493040" y="2992320"/>
            <a:ext cx="1337760" cy="2189160"/>
            <a:chOff x="7493040" y="2992320"/>
            <a:chExt cx="1337760" cy="2189160"/>
          </a:xfrm>
        </p:grpSpPr>
        <p:sp>
          <p:nvSpPr>
            <p:cNvPr id="25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5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5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5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sp>
        <p:nvSpPr>
          <p:cNvPr id="28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8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0"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9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92"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00000"/>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87CBC02-22DD-4CD5-9659-093ACD384AB8}" type="slidenum">
              <a:rPr b="0" lang="en-US"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330" name="Group 8"/>
          <p:cNvGrpSpPr/>
          <p:nvPr/>
        </p:nvGrpSpPr>
        <p:grpSpPr>
          <a:xfrm>
            <a:off x="7493040" y="2992320"/>
            <a:ext cx="1337760" cy="2189160"/>
            <a:chOff x="7493040" y="2992320"/>
            <a:chExt cx="1337760" cy="2189160"/>
          </a:xfrm>
        </p:grpSpPr>
        <p:sp>
          <p:nvSpPr>
            <p:cNvPr id="331" name="Oval 9"/>
            <p:cNvSpPr/>
            <p:nvPr/>
          </p:nvSpPr>
          <p:spPr>
            <a:xfrm>
              <a:off x="7493040" y="29923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2" name="Oval 10"/>
            <p:cNvSpPr/>
            <p:nvPr/>
          </p:nvSpPr>
          <p:spPr>
            <a:xfrm>
              <a:off x="7777080" y="29923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3" name="Oval 11"/>
            <p:cNvSpPr/>
            <p:nvPr/>
          </p:nvSpPr>
          <p:spPr>
            <a:xfrm>
              <a:off x="8061120" y="29923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4" name="Oval 12"/>
            <p:cNvSpPr/>
            <p:nvPr/>
          </p:nvSpPr>
          <p:spPr>
            <a:xfrm>
              <a:off x="7493040" y="32767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5" name="Oval 13"/>
            <p:cNvSpPr/>
            <p:nvPr/>
          </p:nvSpPr>
          <p:spPr>
            <a:xfrm>
              <a:off x="7777080" y="32767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6" name="Oval 14"/>
            <p:cNvSpPr/>
            <p:nvPr/>
          </p:nvSpPr>
          <p:spPr>
            <a:xfrm>
              <a:off x="8061120" y="32767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7" name="Oval 15"/>
            <p:cNvSpPr/>
            <p:nvPr/>
          </p:nvSpPr>
          <p:spPr>
            <a:xfrm>
              <a:off x="8345160" y="3276720"/>
              <a:ext cx="201240" cy="2016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8" name="Oval 16"/>
            <p:cNvSpPr/>
            <p:nvPr/>
          </p:nvSpPr>
          <p:spPr>
            <a:xfrm>
              <a:off x="7493040" y="356076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9" name="Oval 17"/>
            <p:cNvSpPr/>
            <p:nvPr/>
          </p:nvSpPr>
          <p:spPr>
            <a:xfrm>
              <a:off x="7777080" y="356076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0" name="Oval 18"/>
            <p:cNvSpPr/>
            <p:nvPr/>
          </p:nvSpPr>
          <p:spPr>
            <a:xfrm>
              <a:off x="8061120" y="3560760"/>
              <a:ext cx="201240" cy="2016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1" name="Oval 19"/>
            <p:cNvSpPr/>
            <p:nvPr/>
          </p:nvSpPr>
          <p:spPr>
            <a:xfrm>
              <a:off x="8345160" y="3560760"/>
              <a:ext cx="201240" cy="2016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2" name="Oval 20"/>
            <p:cNvSpPr/>
            <p:nvPr/>
          </p:nvSpPr>
          <p:spPr>
            <a:xfrm>
              <a:off x="8629560" y="3560760"/>
              <a:ext cx="201240" cy="2016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3" name="Oval 21"/>
            <p:cNvSpPr/>
            <p:nvPr/>
          </p:nvSpPr>
          <p:spPr>
            <a:xfrm>
              <a:off x="7493040" y="3843360"/>
              <a:ext cx="201240" cy="20304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4" name="Oval 22"/>
            <p:cNvSpPr/>
            <p:nvPr/>
          </p:nvSpPr>
          <p:spPr>
            <a:xfrm>
              <a:off x="7777080" y="3843360"/>
              <a:ext cx="201240" cy="20304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5" name="Oval 23"/>
            <p:cNvSpPr/>
            <p:nvPr/>
          </p:nvSpPr>
          <p:spPr>
            <a:xfrm>
              <a:off x="8061120" y="3843360"/>
              <a:ext cx="201240" cy="20304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6" name="Oval 24"/>
            <p:cNvSpPr/>
            <p:nvPr/>
          </p:nvSpPr>
          <p:spPr>
            <a:xfrm>
              <a:off x="8345160" y="3843360"/>
              <a:ext cx="201240" cy="20304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7" name="Oval 25"/>
            <p:cNvSpPr/>
            <p:nvPr/>
          </p:nvSpPr>
          <p:spPr>
            <a:xfrm>
              <a:off x="7493040" y="4127400"/>
              <a:ext cx="201240" cy="2034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8" name="Oval 26"/>
            <p:cNvSpPr/>
            <p:nvPr/>
          </p:nvSpPr>
          <p:spPr>
            <a:xfrm>
              <a:off x="7777080" y="4127400"/>
              <a:ext cx="201240" cy="2034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9" name="Oval 27"/>
            <p:cNvSpPr/>
            <p:nvPr/>
          </p:nvSpPr>
          <p:spPr>
            <a:xfrm>
              <a:off x="8061120" y="4127400"/>
              <a:ext cx="201240" cy="2034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0" name="Oval 28"/>
            <p:cNvSpPr/>
            <p:nvPr/>
          </p:nvSpPr>
          <p:spPr>
            <a:xfrm>
              <a:off x="8345160" y="4127400"/>
              <a:ext cx="201240" cy="2034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1" name="Oval 29"/>
            <p:cNvSpPr/>
            <p:nvPr/>
          </p:nvSpPr>
          <p:spPr>
            <a:xfrm>
              <a:off x="8629560" y="4127400"/>
              <a:ext cx="201240" cy="2034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2" name="Oval 30"/>
            <p:cNvSpPr/>
            <p:nvPr/>
          </p:nvSpPr>
          <p:spPr>
            <a:xfrm>
              <a:off x="7493040" y="4411800"/>
              <a:ext cx="201240" cy="2016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3" name="Oval 31"/>
            <p:cNvSpPr/>
            <p:nvPr/>
          </p:nvSpPr>
          <p:spPr>
            <a:xfrm>
              <a:off x="7777080" y="4411800"/>
              <a:ext cx="201240" cy="2016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4" name="Oval 32"/>
            <p:cNvSpPr/>
            <p:nvPr/>
          </p:nvSpPr>
          <p:spPr>
            <a:xfrm>
              <a:off x="8061120" y="4411800"/>
              <a:ext cx="201240" cy="2016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5" name="Oval 33"/>
            <p:cNvSpPr/>
            <p:nvPr/>
          </p:nvSpPr>
          <p:spPr>
            <a:xfrm>
              <a:off x="8345160" y="4411800"/>
              <a:ext cx="201240" cy="2016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6" name="Oval 34"/>
            <p:cNvSpPr/>
            <p:nvPr/>
          </p:nvSpPr>
          <p:spPr>
            <a:xfrm>
              <a:off x="7493040" y="4695840"/>
              <a:ext cx="201240" cy="2016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7" name="Oval 35"/>
            <p:cNvSpPr/>
            <p:nvPr/>
          </p:nvSpPr>
          <p:spPr>
            <a:xfrm>
              <a:off x="7777080" y="4695840"/>
              <a:ext cx="201240" cy="2016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8" name="Oval 36"/>
            <p:cNvSpPr/>
            <p:nvPr/>
          </p:nvSpPr>
          <p:spPr>
            <a:xfrm>
              <a:off x="8061120" y="4695840"/>
              <a:ext cx="201240" cy="2016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9" name="Oval 37"/>
            <p:cNvSpPr/>
            <p:nvPr/>
          </p:nvSpPr>
          <p:spPr>
            <a:xfrm>
              <a:off x="8345160" y="4695840"/>
              <a:ext cx="201240" cy="2016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0" name="Oval 38"/>
            <p:cNvSpPr/>
            <p:nvPr/>
          </p:nvSpPr>
          <p:spPr>
            <a:xfrm>
              <a:off x="7777080" y="4979880"/>
              <a:ext cx="201240" cy="2016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1" name="Oval 39"/>
            <p:cNvSpPr/>
            <p:nvPr/>
          </p:nvSpPr>
          <p:spPr>
            <a:xfrm>
              <a:off x="8345160" y="4979880"/>
              <a:ext cx="201240" cy="2016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sp>
        <p:nvSpPr>
          <p:cNvPr id="362"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464653"/>
                </a:solidFill>
                <a:latin typeface="Arial"/>
              </a:rPr>
              <a:t>Click to edit the title text format</a:t>
            </a:r>
            <a:endParaRPr b="1" lang="en-US" sz="3900" spc="-1" strike="noStrike">
              <a:solidFill>
                <a:srgbClr val="464653"/>
              </a:solidFill>
              <a:latin typeface="Arial"/>
            </a:endParaRPr>
          </a:p>
        </p:txBody>
      </p:sp>
      <p:sp>
        <p:nvSpPr>
          <p:cNvPr id="36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46465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46465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6b56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65"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7"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00000"/>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1672A8-A7C7-42E7-BB92-DED35AD6A60A}" type="slidenum">
              <a:rPr b="0" lang="en-US"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04" name="Group 2"/>
          <p:cNvGrpSpPr/>
          <p:nvPr/>
        </p:nvGrpSpPr>
        <p:grpSpPr>
          <a:xfrm>
            <a:off x="3240" y="4267080"/>
            <a:ext cx="9140760" cy="2590920"/>
            <a:chOff x="3240" y="4267080"/>
            <a:chExt cx="9140760" cy="2590920"/>
          </a:xfrm>
        </p:grpSpPr>
        <p:sp>
          <p:nvSpPr>
            <p:cNvPr id="405"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406" name="Group 4"/>
            <p:cNvGrpSpPr/>
            <p:nvPr/>
          </p:nvGrpSpPr>
          <p:grpSpPr>
            <a:xfrm>
              <a:off x="5600880" y="5897520"/>
              <a:ext cx="1256760" cy="827280"/>
              <a:chOff x="5600880" y="5897520"/>
              <a:chExt cx="1256760" cy="827280"/>
            </a:xfrm>
          </p:grpSpPr>
          <p:sp>
            <p:nvSpPr>
              <p:cNvPr id="407"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13"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14"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15"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16"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17"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18" name="Group 16"/>
            <p:cNvGrpSpPr/>
            <p:nvPr/>
          </p:nvGrpSpPr>
          <p:grpSpPr>
            <a:xfrm>
              <a:off x="2819520" y="5764320"/>
              <a:ext cx="2581200" cy="1084320"/>
              <a:chOff x="2819520" y="5764320"/>
              <a:chExt cx="2581200" cy="1084320"/>
            </a:xfrm>
          </p:grpSpPr>
          <p:sp>
            <p:nvSpPr>
              <p:cNvPr id="419"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28"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29"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0"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1"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2"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3"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4"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5"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6"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437" name="Group 35"/>
            <p:cNvGrpSpPr/>
            <p:nvPr/>
          </p:nvGrpSpPr>
          <p:grpSpPr>
            <a:xfrm>
              <a:off x="6553080" y="5334120"/>
              <a:ext cx="2144880" cy="1303200"/>
              <a:chOff x="6553080" y="5334120"/>
              <a:chExt cx="2144880" cy="1303200"/>
            </a:xfrm>
          </p:grpSpPr>
          <p:sp>
            <p:nvSpPr>
              <p:cNvPr id="438"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9"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0"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1"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2"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3"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4"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5"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6"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7"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8"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9"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5" name="Group 53"/>
            <p:cNvGrpSpPr/>
            <p:nvPr/>
          </p:nvGrpSpPr>
          <p:grpSpPr>
            <a:xfrm>
              <a:off x="8381880" y="4800600"/>
              <a:ext cx="674640" cy="409680"/>
              <a:chOff x="8381880" y="4800600"/>
              <a:chExt cx="674640" cy="409680"/>
            </a:xfrm>
          </p:grpSpPr>
          <p:sp>
            <p:nvSpPr>
              <p:cNvPr id="456"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57"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58"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59"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60"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61"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62"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463" name="Group 61"/>
              <p:cNvGrpSpPr/>
              <p:nvPr/>
            </p:nvGrpSpPr>
            <p:grpSpPr>
              <a:xfrm>
                <a:off x="8542440" y="4897440"/>
                <a:ext cx="360360" cy="209520"/>
                <a:chOff x="8542440" y="4897440"/>
                <a:chExt cx="360360" cy="209520"/>
              </a:xfrm>
            </p:grpSpPr>
            <p:sp>
              <p:nvSpPr>
                <p:cNvPr id="464"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0"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7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72"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8FC0C16-5676-475C-8EF4-D953AAFF4D90}"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9"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510" name="Group 3"/>
          <p:cNvGrpSpPr/>
          <p:nvPr/>
        </p:nvGrpSpPr>
        <p:grpSpPr>
          <a:xfrm>
            <a:off x="3240" y="4267080"/>
            <a:ext cx="9140760" cy="2590920"/>
            <a:chOff x="3240" y="4267080"/>
            <a:chExt cx="9140760" cy="2590920"/>
          </a:xfrm>
        </p:grpSpPr>
        <p:sp>
          <p:nvSpPr>
            <p:cNvPr id="51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512" name="Group 5"/>
            <p:cNvGrpSpPr/>
            <p:nvPr/>
          </p:nvGrpSpPr>
          <p:grpSpPr>
            <a:xfrm>
              <a:off x="5600880" y="5897520"/>
              <a:ext cx="1256760" cy="827280"/>
              <a:chOff x="5600880" y="5897520"/>
              <a:chExt cx="1256760" cy="827280"/>
            </a:xfrm>
          </p:grpSpPr>
          <p:sp>
            <p:nvSpPr>
              <p:cNvPr id="513"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19"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20"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21"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22"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23"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524" name="Group 17"/>
            <p:cNvGrpSpPr/>
            <p:nvPr/>
          </p:nvGrpSpPr>
          <p:grpSpPr>
            <a:xfrm>
              <a:off x="2819520" y="5764320"/>
              <a:ext cx="2581200" cy="1084320"/>
              <a:chOff x="2819520" y="5764320"/>
              <a:chExt cx="2581200" cy="1084320"/>
            </a:xfrm>
          </p:grpSpPr>
          <p:sp>
            <p:nvSpPr>
              <p:cNvPr id="525"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4"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5"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6"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7"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8"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9"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0"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1"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2"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543" name="Group 36"/>
            <p:cNvGrpSpPr/>
            <p:nvPr/>
          </p:nvGrpSpPr>
          <p:grpSpPr>
            <a:xfrm>
              <a:off x="6553080" y="5334120"/>
              <a:ext cx="2144880" cy="1303200"/>
              <a:chOff x="6553080" y="5334120"/>
              <a:chExt cx="2144880" cy="1303200"/>
            </a:xfrm>
          </p:grpSpPr>
          <p:sp>
            <p:nvSpPr>
              <p:cNvPr id="544"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5"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6"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7"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8"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9"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0"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1"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2"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3"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4"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5"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561" name="Group 54"/>
            <p:cNvGrpSpPr/>
            <p:nvPr/>
          </p:nvGrpSpPr>
          <p:grpSpPr>
            <a:xfrm>
              <a:off x="8381880" y="4800600"/>
              <a:ext cx="674640" cy="409680"/>
              <a:chOff x="8381880" y="4800600"/>
              <a:chExt cx="674640" cy="409680"/>
            </a:xfrm>
          </p:grpSpPr>
          <p:sp>
            <p:nvSpPr>
              <p:cNvPr id="562"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3"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4"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5"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6"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7"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8"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569" name="Group 62"/>
              <p:cNvGrpSpPr/>
              <p:nvPr/>
            </p:nvGrpSpPr>
            <p:grpSpPr>
              <a:xfrm>
                <a:off x="8542440" y="4897440"/>
                <a:ext cx="360360" cy="209520"/>
                <a:chOff x="8542440" y="4897440"/>
                <a:chExt cx="360360" cy="209520"/>
              </a:xfrm>
            </p:grpSpPr>
            <p:sp>
              <p:nvSpPr>
                <p:cNvPr id="570"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7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7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C99408C-1109-4D5E-9CB4-5317E4BDB5B9}"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5"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616" name="Group 3"/>
          <p:cNvGrpSpPr/>
          <p:nvPr/>
        </p:nvGrpSpPr>
        <p:grpSpPr>
          <a:xfrm>
            <a:off x="3240" y="4267080"/>
            <a:ext cx="9140760" cy="2590920"/>
            <a:chOff x="3240" y="4267080"/>
            <a:chExt cx="9140760" cy="2590920"/>
          </a:xfrm>
        </p:grpSpPr>
        <p:sp>
          <p:nvSpPr>
            <p:cNvPr id="617"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618" name="Group 5"/>
            <p:cNvGrpSpPr/>
            <p:nvPr/>
          </p:nvGrpSpPr>
          <p:grpSpPr>
            <a:xfrm>
              <a:off x="5600880" y="5897520"/>
              <a:ext cx="1256760" cy="827280"/>
              <a:chOff x="5600880" y="5897520"/>
              <a:chExt cx="1256760" cy="827280"/>
            </a:xfrm>
          </p:grpSpPr>
          <p:sp>
            <p:nvSpPr>
              <p:cNvPr id="619"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25"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26"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27"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28"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29"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30" name="Group 17"/>
            <p:cNvGrpSpPr/>
            <p:nvPr/>
          </p:nvGrpSpPr>
          <p:grpSpPr>
            <a:xfrm>
              <a:off x="2819520" y="5764320"/>
              <a:ext cx="2581200" cy="1084320"/>
              <a:chOff x="2819520" y="5764320"/>
              <a:chExt cx="2581200" cy="1084320"/>
            </a:xfrm>
          </p:grpSpPr>
          <p:sp>
            <p:nvSpPr>
              <p:cNvPr id="631"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0"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1"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2"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3"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4"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5"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6"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7"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8"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649" name="Group 36"/>
            <p:cNvGrpSpPr/>
            <p:nvPr/>
          </p:nvGrpSpPr>
          <p:grpSpPr>
            <a:xfrm>
              <a:off x="6553080" y="5334120"/>
              <a:ext cx="2144880" cy="1303200"/>
              <a:chOff x="6553080" y="5334120"/>
              <a:chExt cx="2144880" cy="1303200"/>
            </a:xfrm>
          </p:grpSpPr>
          <p:sp>
            <p:nvSpPr>
              <p:cNvPr id="650"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1"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2"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3"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4"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5"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6"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7"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8"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9"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60"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61"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67" name="Group 54"/>
            <p:cNvGrpSpPr/>
            <p:nvPr/>
          </p:nvGrpSpPr>
          <p:grpSpPr>
            <a:xfrm>
              <a:off x="8381880" y="4800600"/>
              <a:ext cx="674640" cy="409680"/>
              <a:chOff x="8381880" y="4800600"/>
              <a:chExt cx="674640" cy="409680"/>
            </a:xfrm>
          </p:grpSpPr>
          <p:sp>
            <p:nvSpPr>
              <p:cNvPr id="668"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69"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70"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71"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72"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73"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74"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675" name="Group 62"/>
              <p:cNvGrpSpPr/>
              <p:nvPr/>
            </p:nvGrpSpPr>
            <p:grpSpPr>
              <a:xfrm>
                <a:off x="8542440" y="4897440"/>
                <a:ext cx="360360" cy="209520"/>
                <a:chOff x="8542440" y="4897440"/>
                <a:chExt cx="360360" cy="209520"/>
              </a:xfrm>
            </p:grpSpPr>
            <p:sp>
              <p:nvSpPr>
                <p:cNvPr id="676"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8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8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71171BA-C147-4D2B-AB09-8E59647E60E7}"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1"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722" name="Group 3"/>
          <p:cNvGrpSpPr/>
          <p:nvPr/>
        </p:nvGrpSpPr>
        <p:grpSpPr>
          <a:xfrm>
            <a:off x="3240" y="4267080"/>
            <a:ext cx="9140760" cy="2590920"/>
            <a:chOff x="3240" y="4267080"/>
            <a:chExt cx="9140760" cy="2590920"/>
          </a:xfrm>
        </p:grpSpPr>
        <p:sp>
          <p:nvSpPr>
            <p:cNvPr id="723"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724" name="Group 5"/>
            <p:cNvGrpSpPr/>
            <p:nvPr/>
          </p:nvGrpSpPr>
          <p:grpSpPr>
            <a:xfrm>
              <a:off x="5600880" y="5897520"/>
              <a:ext cx="1256760" cy="827280"/>
              <a:chOff x="5600880" y="5897520"/>
              <a:chExt cx="1256760" cy="827280"/>
            </a:xfrm>
          </p:grpSpPr>
          <p:sp>
            <p:nvSpPr>
              <p:cNvPr id="72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31"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32"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33"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34"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3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736" name="Group 17"/>
            <p:cNvGrpSpPr/>
            <p:nvPr/>
          </p:nvGrpSpPr>
          <p:grpSpPr>
            <a:xfrm>
              <a:off x="2819520" y="5764320"/>
              <a:ext cx="2581200" cy="1084320"/>
              <a:chOff x="2819520" y="5764320"/>
              <a:chExt cx="2581200" cy="1084320"/>
            </a:xfrm>
          </p:grpSpPr>
          <p:sp>
            <p:nvSpPr>
              <p:cNvPr id="73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46"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47"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48"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49"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0"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1"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2"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3"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4"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755" name="Group 36"/>
            <p:cNvGrpSpPr/>
            <p:nvPr/>
          </p:nvGrpSpPr>
          <p:grpSpPr>
            <a:xfrm>
              <a:off x="6553080" y="5334120"/>
              <a:ext cx="2144880" cy="1303200"/>
              <a:chOff x="6553080" y="5334120"/>
              <a:chExt cx="2144880" cy="1303200"/>
            </a:xfrm>
          </p:grpSpPr>
          <p:sp>
            <p:nvSpPr>
              <p:cNvPr id="756"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7"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8"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9"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0"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2"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3"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4"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5"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6"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773" name="Group 54"/>
            <p:cNvGrpSpPr/>
            <p:nvPr/>
          </p:nvGrpSpPr>
          <p:grpSpPr>
            <a:xfrm>
              <a:off x="8381880" y="4800600"/>
              <a:ext cx="674640" cy="409680"/>
              <a:chOff x="8381880" y="4800600"/>
              <a:chExt cx="674640" cy="409680"/>
            </a:xfrm>
          </p:grpSpPr>
          <p:sp>
            <p:nvSpPr>
              <p:cNvPr id="774"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75"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76"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77"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7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79"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80"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781" name="Group 62"/>
              <p:cNvGrpSpPr/>
              <p:nvPr/>
            </p:nvGrpSpPr>
            <p:grpSpPr>
              <a:xfrm>
                <a:off x="8542440" y="4897440"/>
                <a:ext cx="360360" cy="209520"/>
                <a:chOff x="8542440" y="4897440"/>
                <a:chExt cx="360360" cy="209520"/>
              </a:xfrm>
            </p:grpSpPr>
            <p:sp>
              <p:nvSpPr>
                <p:cNvPr id="78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8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9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FDE77D4-4CBA-45C9-B7FC-83587107EE3A}"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Inflammation</a:t>
            </a:r>
            <a:endParaRPr b="1" lang="en-US" sz="4800" spc="-1" strike="noStrike">
              <a:solidFill>
                <a:srgbClr val="330066"/>
              </a:solidFill>
              <a:latin typeface="Arial"/>
            </a:endParaRPr>
          </a:p>
        </p:txBody>
      </p:sp>
      <p:sp>
        <p:nvSpPr>
          <p:cNvPr id="1570" name="PlaceHolder 2"/>
          <p:cNvSpPr>
            <a:spLocks noGrp="1"/>
          </p:cNvSpPr>
          <p:nvPr>
            <p:ph type="subTitle"/>
          </p:nvPr>
        </p:nvSpPr>
        <p:spPr>
          <a:xfrm>
            <a:off x="848880" y="3049560"/>
            <a:ext cx="6248520" cy="236232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Cellular Response</a:t>
            </a:r>
            <a:endParaRPr b="1" lang="en-US" sz="3200" spc="-1" strike="noStrike">
              <a:solidFill>
                <a:srgbClr val="330066"/>
              </a:solidFill>
              <a:latin typeface="Arial"/>
            </a:endParaRPr>
          </a:p>
        </p:txBody>
      </p:sp>
      <p:sp>
        <p:nvSpPr>
          <p:cNvPr id="15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llular response of acute inflammation is marked by movement of phagocytic white blood cells (leukocytes) into the area of injury. </a:t>
            </a:r>
            <a:endParaRPr b="0" lang="en-US" sz="2000" spc="-1" strike="noStrike">
              <a:solidFill>
                <a:srgbClr val="000000"/>
              </a:solidFill>
              <a:latin typeface="Arial"/>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 of leukocytes participate in the acute inflammatory response - the granulocytes and monocytes.</a:t>
            </a:r>
            <a:endParaRPr b="0" lang="en-US" sz="2000" spc="-1" strike="noStrike">
              <a:solidFill>
                <a:srgbClr val="000000"/>
              </a:solidFill>
              <a:latin typeface="Arial"/>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quence of events in the cellular response to inflammation includes: </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vementing</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gration</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otaxi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gocyto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Inflammation</a:t>
            </a:r>
            <a:endParaRPr b="1" lang="en-US" sz="3200" spc="-1" strike="noStrike">
              <a:solidFill>
                <a:srgbClr val="330066"/>
              </a:solidFill>
              <a:latin typeface="Arial"/>
            </a:endParaRPr>
          </a:p>
        </p:txBody>
      </p:sp>
      <p:sp>
        <p:nvSpPr>
          <p:cNvPr id="1595" name="PlaceHolder 2"/>
          <p:cNvSpPr>
            <a:spLocks noGrp="1"/>
          </p:cNvSpPr>
          <p:nvPr>
            <p:ph/>
          </p:nvPr>
        </p:nvSpPr>
        <p:spPr>
          <a:xfrm>
            <a:off x="457200" y="1719360"/>
            <a:ext cx="8229600" cy="4411440"/>
          </a:xfrm>
          <a:prstGeom prst="rect">
            <a:avLst/>
          </a:prstGeom>
          <a:noFill/>
          <a:ln w="0">
            <a:noFill/>
          </a:ln>
        </p:spPr>
        <p:txBody>
          <a:bodyPr anchor="t">
            <a:normAutofit fontScale="95000"/>
          </a:bodyPr>
          <a:p>
            <a:pPr marL="325800" indent="-32580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I: </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ing an insult, local cytokine is produced with the goal of inciting an inflammatory response, promoting wound repair and recruitment of the reticular endothelial system. </a:t>
            </a:r>
            <a:endParaRPr b="0" lang="en-US" sz="2000" spc="-1" strike="noStrike">
              <a:solidFill>
                <a:srgbClr val="000000"/>
              </a:solidFill>
              <a:latin typeface="Arial"/>
            </a:endParaRPr>
          </a:p>
          <a:p>
            <a:pPr marL="325800" indent="-32580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II: </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quantities of local cytokines are released into circulation to improve the local response. This leads to growth factor stimulation and the recruitment of macrophages and platelets. This acute phase response is typically well controlled by a decrease in the proinflammatory mediators and by the release of endogenous antagonists. </a:t>
            </a:r>
            <a:r>
              <a:rPr b="1" lang="en-US" sz="2000" spc="-1" strike="noStrike">
                <a:solidFill>
                  <a:srgbClr val="000000"/>
                </a:solidFill>
                <a:latin typeface="Arial"/>
              </a:rPr>
              <a:t>The goal is homeostasis</a:t>
            </a:r>
            <a:r>
              <a:rPr b="0" lang="en-US" sz="2000" spc="-1" strike="noStrike">
                <a:solidFill>
                  <a:srgbClr val="000000"/>
                </a:solidFill>
                <a:latin typeface="Arial"/>
              </a:rPr>
              <a:t>. </a:t>
            </a:r>
            <a:endParaRPr b="0" lang="en-US" sz="2000" spc="-1" strike="noStrike">
              <a:solidFill>
                <a:srgbClr val="000000"/>
              </a:solidFill>
              <a:latin typeface="Arial"/>
            </a:endParaRPr>
          </a:p>
          <a:p>
            <a:pPr marL="325800" indent="-32580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III: </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omeostasis is not restored, a significant systemic reaction occurs. The cytokine release leads to destruction rather than protection. A consequence of this is the activation of numerous humoral cascades and the activation of the reticular endothelial system and subsequent loss of circulatory integrity. This leads to organ dys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Factors That Affect Wound Healing</a:t>
            </a:r>
            <a:endParaRPr b="1" lang="en-US" sz="2800" spc="-1" strike="noStrike">
              <a:solidFill>
                <a:srgbClr val="330066"/>
              </a:solidFill>
              <a:latin typeface="Arial"/>
            </a:endParaRPr>
          </a:p>
        </p:txBody>
      </p:sp>
      <p:sp>
        <p:nvSpPr>
          <p:cNvPr id="1597"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nutrition</a:t>
            </a:r>
            <a:endParaRPr b="0" lang="en-US" sz="24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 deficiencies prolong the inflammatory phase of healing and impair fibroblast proliferation, collagen and protein matrix synthesis, angiogenesis, and wound remodeling.</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re needed as an energy source for white blood cells.</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s are essential constituents of cell membranes and are needed for the synthesis of new cells.</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mins A and C have been shown to play an essential role in the healing process. </a:t>
            </a:r>
            <a:endParaRPr b="0" lang="en-US" sz="2000" spc="-1" strike="noStrike">
              <a:solidFill>
                <a:srgbClr val="000000"/>
              </a:solidFill>
              <a:latin typeface="Arial"/>
            </a:endParaRPr>
          </a:p>
          <a:p>
            <a:pPr lvl="2" marL="987480" indent="-293760" algn="just">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min C is needed for collagen synthesis.</a:t>
            </a:r>
            <a:endParaRPr b="0" lang="en-US" sz="2000" spc="-1" strike="noStrike">
              <a:solidFill>
                <a:srgbClr val="000000"/>
              </a:solidFill>
              <a:latin typeface="Arial"/>
            </a:endParaRPr>
          </a:p>
          <a:p>
            <a:pPr lvl="2" marL="987480" indent="-293760" algn="just">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min A functions in stimulating and supporting epithelialization, capillary formation, and collagen synthesis. The B vitamins are important cofactors in enzymatic reactions that contribute to the wound-healing process.</a:t>
            </a:r>
            <a:endParaRPr b="0" lang="en-US" sz="2000" spc="-1" strike="noStrike">
              <a:solidFill>
                <a:srgbClr val="000000"/>
              </a:solidFill>
              <a:latin typeface="Arial"/>
            </a:endParaRPr>
          </a:p>
          <a:p>
            <a:pPr lvl="2" marL="987480" indent="-293760">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min K plays an indirect role in wound healing by preventing bleeding disord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Factors That Affect Wound Healing</a:t>
            </a:r>
            <a:endParaRPr b="1" lang="en-US" sz="2800" spc="-1" strike="noStrike">
              <a:solidFill>
                <a:srgbClr val="330066"/>
              </a:solidFill>
              <a:latin typeface="Arial"/>
            </a:endParaRPr>
          </a:p>
        </p:txBody>
      </p:sp>
      <p:sp>
        <p:nvSpPr>
          <p:cNvPr id="15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od Flow and Oxygen Delivery</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existing health problem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erial disease and venous pathology</a:t>
            </a:r>
            <a:endParaRPr b="0" lang="en-US" sz="2000" spc="-1" strike="noStrike">
              <a:solidFill>
                <a:srgbClr val="000000"/>
              </a:solidFill>
              <a:latin typeface="Arial"/>
            </a:endParaRPr>
          </a:p>
          <a:p>
            <a:pPr lvl="1" marL="692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ar oxygen is required for collagen synthesis. </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been shown that even a temporary lack of oxygen can result in the formation of less stable collagen.</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nds in ischemic tissue become infected more frequently.</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Ns and macrophages require oxygen for destruction of microorganis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Outcome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6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lete restoration of the inflamed tissue back to a normal status. Inflammatory measures such as vasodilation, chemical production, and leukocyte infiltration cease, and damaged parenchymal cells regenerate. In situations where limited or short lived inflammation has occurred this is usually the outcome. </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osis</a:t>
            </a:r>
            <a:r>
              <a:rPr b="0" lang="en-US" sz="2000" spc="-1" strike="noStrike">
                <a:solidFill>
                  <a:srgbClr val="000000"/>
                </a:solidFill>
                <a:latin typeface="Arial"/>
              </a:rPr>
              <a:t> </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amounts of tissue destruction, or damage in tissues unable to regenerate, can not be regenerated completely by the body. Fibrous scarring occurs in these areas of damage, forming a scar composed primarily of collagen. The scar will not contain any specialized structures, such as parenchymal cells, hence functional impairment may occu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Outcomes</a:t>
            </a:r>
            <a:endParaRPr b="1" lang="en-US" sz="3200" spc="-1" strike="noStrike">
              <a:solidFill>
                <a:srgbClr val="330066"/>
              </a:solidFill>
              <a:latin typeface="Arial"/>
            </a:endParaRPr>
          </a:p>
        </p:txBody>
      </p:sp>
      <p:sp>
        <p:nvSpPr>
          <p:cNvPr id="16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cess formation</a:t>
            </a:r>
            <a:endParaRPr b="0" lang="en-US" sz="2000" spc="-1" strike="noStrike">
              <a:solidFill>
                <a:srgbClr val="000000"/>
              </a:solidFill>
              <a:latin typeface="Arial"/>
            </a:endParaRPr>
          </a:p>
          <a:p>
            <a:pPr lvl="1" marL="692280" indent="-347760" algn="just">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vity is formed containing pus, an opaque liquid containing dead white blood cells and bacteria with general debris from destroyed cells. </a:t>
            </a:r>
            <a:endParaRPr b="0" lang="en-US" sz="2000" spc="-1" strike="noStrike">
              <a:solidFill>
                <a:srgbClr val="000000"/>
              </a:solidFill>
              <a:latin typeface="Arial"/>
            </a:endParaRPr>
          </a:p>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onic inflammation</a:t>
            </a:r>
            <a:endParaRPr b="0" lang="en-US" sz="2000" spc="-1" strike="noStrike">
              <a:solidFill>
                <a:srgbClr val="000000"/>
              </a:solidFill>
              <a:latin typeface="Arial"/>
            </a:endParaRPr>
          </a:p>
          <a:p>
            <a:pPr lvl="1" marL="692280" indent="-347760" algn="just">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cute inflammation, if the injurious agent persists then chronic inflammation will ensue. This process, marked by inflammation lasting many days, months or even years, may lead to the formation of a chronic wound. Chronic inflammation is characterised by the dominating presence of macrophages in the injured tissue. These cells are powerful defensive agents of the body, but the toxins they release (including reactive oxygen species) are injurious to the organism's own tissues as well as invading agents. Consequently, chronic inflammation is almost always accompanied by tissue destru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pic>
        <p:nvPicPr>
          <p:cNvPr id="1605" name="" descr=""/>
          <p:cNvPicPr/>
          <p:nvPr/>
        </p:nvPicPr>
        <p:blipFill>
          <a:blip r:embed="rId1"/>
          <a:stretch/>
        </p:blipFill>
        <p:spPr>
          <a:xfrm>
            <a:off x="457200" y="1719360"/>
            <a:ext cx="8229600" cy="4411440"/>
          </a:xfrm>
          <a:prstGeom prst="rect">
            <a:avLst/>
          </a:prstGeom>
          <a:ln w="0">
            <a:noFill/>
          </a:ln>
        </p:spPr>
      </p:pic>
      <p:pic>
        <p:nvPicPr>
          <p:cNvPr id="1606" name="كائن 4" descr=""/>
          <p:cNvPicPr/>
          <p:nvPr/>
        </p:nvPicPr>
        <p:blipFill>
          <a:blip r:embed="rId2"/>
          <a:stretch/>
        </p:blipFill>
        <p:spPr>
          <a:xfrm>
            <a:off x="457200" y="152280"/>
            <a:ext cx="8305920" cy="647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efinition</a:t>
            </a:r>
            <a:endParaRPr b="1" lang="en-US" sz="3200" spc="-1" strike="noStrike">
              <a:solidFill>
                <a:srgbClr val="330066"/>
              </a:solidFill>
              <a:latin typeface="Arial"/>
            </a:endParaRPr>
          </a:p>
        </p:txBody>
      </p:sp>
      <p:sp>
        <p:nvSpPr>
          <p:cNvPr id="157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ammation is a non specific, localized immune reaction of the organism, which tries to localized the pathogen agent. Many consider the syndrome a self-defense mechanism.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 in vascular, metabolic, cellular changes, triggered by the entering of pathogen agent in healthy tissues of the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Etiology</a:t>
            </a:r>
            <a:endParaRPr b="1" lang="en-US" sz="3200" spc="-1" strike="noStrike">
              <a:solidFill>
                <a:srgbClr val="330066"/>
              </a:solidFill>
              <a:latin typeface="Arial"/>
            </a:endParaRPr>
          </a:p>
        </p:txBody>
      </p:sp>
      <p:sp>
        <p:nvSpPr>
          <p:cNvPr id="15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of inflammation are many and varied:</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ogenous causes:</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agents</a:t>
            </a:r>
            <a:endParaRPr b="0" lang="en-US" sz="2000" spc="-1" strike="noStrike">
              <a:solidFill>
                <a:srgbClr val="000000"/>
              </a:solidFill>
              <a:latin typeface="Arial"/>
            </a:endParaRPr>
          </a:p>
          <a:p>
            <a:pPr lvl="3" marL="1281240" indent="-292320" algn="just">
              <a:spcBef>
                <a:spcPts val="49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c agents: fractures, foreign corps, sand, etc.</a:t>
            </a:r>
            <a:endParaRPr b="0" lang="en-US" sz="2000" spc="-1" strike="noStrike">
              <a:solidFill>
                <a:srgbClr val="000000"/>
              </a:solidFill>
              <a:latin typeface="Arial"/>
            </a:endParaRPr>
          </a:p>
          <a:p>
            <a:pPr lvl="3" marL="1281240" indent="-292320" algn="just">
              <a:spcBef>
                <a:spcPts val="49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al agents: burns, freezing</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agents: toxic gases, acids, bases</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ical agents: bacteria, viruses, parasite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genous causes:</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ion disorders: thrombosis, infarction, hemorrhage</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ctivation – e.g. acute pancreatitis</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bolic products deposals – uric acid, urea</a:t>
            </a:r>
            <a:endParaRPr b="0" lang="en-US" sz="2000" spc="-1" strike="noStrike">
              <a:solidFill>
                <a:srgbClr val="000000"/>
              </a:solidFill>
              <a:latin typeface="Arial"/>
            </a:endParaRPr>
          </a:p>
          <a:p>
            <a:pPr lvl="1" marL="692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Cardinal Signs</a:t>
            </a:r>
            <a:endParaRPr b="1" lang="en-US" sz="3200" spc="-1" strike="noStrike">
              <a:solidFill>
                <a:srgbClr val="330066"/>
              </a:solidFill>
              <a:latin typeface="Arial"/>
            </a:endParaRPr>
          </a:p>
        </p:txBody>
      </p:sp>
      <p:sp>
        <p:nvSpPr>
          <p:cNvPr id="157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sius described the local reaction of injury in terms that have come to be known as the </a:t>
            </a:r>
            <a:r>
              <a:rPr b="0" i="1" lang="en-US" sz="2000" spc="-1" strike="noStrike">
                <a:solidFill>
                  <a:srgbClr val="000000"/>
                </a:solidFill>
                <a:latin typeface="Arial"/>
              </a:rPr>
              <a:t>cardinal signs </a:t>
            </a:r>
            <a:r>
              <a:rPr b="0" lang="en-US" sz="2000" spc="-1" strike="noStrike">
                <a:solidFill>
                  <a:srgbClr val="000000"/>
                </a:solidFill>
                <a:latin typeface="Arial"/>
              </a:rPr>
              <a:t>of inflammation.</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igns are:</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ubor </a:t>
            </a:r>
            <a:r>
              <a:rPr b="0" lang="en-US" sz="2000" spc="-1" strike="noStrike">
                <a:solidFill>
                  <a:srgbClr val="000000"/>
                </a:solidFill>
                <a:latin typeface="Arial"/>
              </a:rPr>
              <a:t>(redness)</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umor </a:t>
            </a:r>
            <a:r>
              <a:rPr b="0" lang="en-US" sz="2000" spc="-1" strike="noStrike">
                <a:solidFill>
                  <a:srgbClr val="000000"/>
                </a:solidFill>
                <a:latin typeface="Arial"/>
              </a:rPr>
              <a:t>(swelling)</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or </a:t>
            </a:r>
            <a:r>
              <a:rPr b="0" lang="en-US" sz="2000" spc="-1" strike="noStrike">
                <a:solidFill>
                  <a:srgbClr val="000000"/>
                </a:solidFill>
                <a:latin typeface="Arial"/>
              </a:rPr>
              <a:t>(heat)</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lor </a:t>
            </a:r>
            <a:r>
              <a:rPr b="0" lang="en-US" sz="2000" spc="-1" strike="noStrike">
                <a:solidFill>
                  <a:srgbClr val="000000"/>
                </a:solidFill>
                <a:latin typeface="Arial"/>
              </a:rPr>
              <a:t>(pain) </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unctio laesa, </a:t>
            </a:r>
            <a:r>
              <a:rPr b="0" lang="en-US" sz="2000" spc="-1" strike="noStrike">
                <a:solidFill>
                  <a:srgbClr val="000000"/>
                </a:solidFill>
                <a:latin typeface="Arial"/>
              </a:rPr>
              <a:t>or loss of function (In the second century AD, the Greek physician Galen added this fifth cardinal 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ARDINAL SIGNS OF ACUTE INFLAMMATION</a:t>
            </a:r>
            <a:endParaRPr b="0" lang="en-US" sz="2800" spc="-1" strike="noStrike">
              <a:solidFill>
                <a:srgbClr val="ccecff"/>
              </a:solidFill>
              <a:latin typeface="Arial"/>
            </a:endParaRPr>
          </a:p>
        </p:txBody>
      </p:sp>
      <p:pic>
        <p:nvPicPr>
          <p:cNvPr id="1578" name="Picture 5" descr="acute inflam intro"/>
          <p:cNvPicPr/>
          <p:nvPr/>
        </p:nvPicPr>
        <p:blipFill>
          <a:blip r:embed="rId1"/>
          <a:stretch/>
        </p:blipFill>
        <p:spPr>
          <a:xfrm>
            <a:off x="762120" y="1219320"/>
            <a:ext cx="7467480" cy="4467240"/>
          </a:xfrm>
          <a:prstGeom prst="rect">
            <a:avLst/>
          </a:prstGeom>
          <a:ln w="0">
            <a:noFill/>
          </a:ln>
        </p:spPr>
      </p:pic>
      <p:sp>
        <p:nvSpPr>
          <p:cNvPr id="1579" name="Text Box 6"/>
          <p:cNvSpPr/>
          <p:nvPr/>
        </p:nvSpPr>
        <p:spPr>
          <a:xfrm>
            <a:off x="0" y="563868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000" spc="-1" strike="noStrike">
                <a:solidFill>
                  <a:srgbClr val="ffff00"/>
                </a:solidFill>
                <a:latin typeface="Arial"/>
              </a:rPr>
              <a:t>Heat        Redness    Swelling           Pain     Loss of function</a:t>
            </a:r>
            <a:endParaRPr b="0" lang="en-US" sz="2000" spc="-1" strike="noStrike">
              <a:solidFill>
                <a:srgbClr val="ffffff"/>
              </a:solidFill>
              <a:latin typeface="Arial"/>
            </a:endParaRPr>
          </a:p>
        </p:txBody>
      </p:sp>
      <p:sp>
        <p:nvSpPr>
          <p:cNvPr id="1580" name="Rectangle 7"/>
          <p:cNvSpPr/>
          <p:nvPr/>
        </p:nvSpPr>
        <p:spPr>
          <a:xfrm>
            <a:off x="762120" y="0"/>
            <a:ext cx="7696080" cy="9907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Text Box 8"/>
          <p:cNvSpPr/>
          <p:nvPr/>
        </p:nvSpPr>
        <p:spPr>
          <a:xfrm>
            <a:off x="990720" y="6248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lsius (30 BC)</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Virchow (1902)</a:t>
            </a:r>
            <a:endParaRPr b="0" lang="en-US" sz="2400" spc="-1" strike="noStrike">
              <a:solidFill>
                <a:srgbClr val="ffffff"/>
              </a:solidFill>
              <a:latin typeface="Arial"/>
            </a:endParaRPr>
          </a:p>
        </p:txBody>
      </p:sp>
      <p:sp>
        <p:nvSpPr>
          <p:cNvPr id="1582" name="Line 9"/>
          <p:cNvSpPr/>
          <p:nvPr/>
        </p:nvSpPr>
        <p:spPr>
          <a:xfrm>
            <a:off x="1447920" y="6248520"/>
            <a:ext cx="4724280" cy="0"/>
          </a:xfrm>
          <a:prstGeom prst="line">
            <a:avLst/>
          </a:prstGeom>
          <a:ln w="34920">
            <a:solidFill>
              <a:srgbClr val="ffff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83" name="Line 10"/>
          <p:cNvSpPr/>
          <p:nvPr/>
        </p:nvSpPr>
        <p:spPr>
          <a:xfrm>
            <a:off x="6553080" y="6248520"/>
            <a:ext cx="1905120" cy="0"/>
          </a:xfrm>
          <a:prstGeom prst="line">
            <a:avLst/>
          </a:prstGeom>
          <a:ln w="34920">
            <a:solidFill>
              <a:srgbClr val="ffff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Inflammation</a:t>
            </a:r>
            <a:endParaRPr b="1" lang="en-US" sz="3200" spc="-1" strike="noStrike">
              <a:solidFill>
                <a:srgbClr val="330066"/>
              </a:solidFill>
              <a:latin typeface="Arial"/>
            </a:endParaRPr>
          </a:p>
        </p:txBody>
      </p:sp>
      <p:sp>
        <p:nvSpPr>
          <p:cNvPr id="15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flammatory reaction takes place at the microcirculation level and it is composed by the following change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 damage</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 vascular - cellular response</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bolic change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 repa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issue damage</a:t>
            </a:r>
            <a:endParaRPr b="1" lang="en-US" sz="3200" spc="-1" strike="noStrike">
              <a:solidFill>
                <a:srgbClr val="330066"/>
              </a:solidFill>
              <a:latin typeface="Arial"/>
            </a:endParaRPr>
          </a:p>
        </p:txBody>
      </p:sp>
      <p:sp>
        <p:nvSpPr>
          <p:cNvPr id="15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begin almost immediately after injury:</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the pathogen agent action, in the affected tissue are released mediators responsible for  the following events of inflammation.</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 macrophages, monocytes, mast cells, platelets, and endothelial cells are able to produce a multitude of cytokines. The cytokines tissue necrosis factor-a (TNF-a) and interleukin (IL)–1 are released first and initiate several cascad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he Vascular Response</a:t>
            </a:r>
            <a:endParaRPr b="1" lang="en-US" sz="3200" spc="-1" strike="noStrike">
              <a:solidFill>
                <a:srgbClr val="330066"/>
              </a:solidFill>
              <a:latin typeface="Arial"/>
            </a:endParaRPr>
          </a:p>
        </p:txBody>
      </p:sp>
      <p:sp>
        <p:nvSpPr>
          <p:cNvPr id="1589"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ze I = vasoconstriction</a:t>
            </a:r>
            <a:r>
              <a:rPr b="0" lang="en-US" sz="2000" spc="-1" strike="noStrike">
                <a:solidFill>
                  <a:srgbClr val="000000"/>
                </a:solidFill>
                <a:latin typeface="Arial"/>
              </a:rPr>
              <a:t> (momentary constriction of small blood vessels in the area).</a:t>
            </a:r>
            <a:endParaRPr b="0" lang="en-US" sz="2000" spc="-1" strike="noStrike">
              <a:solidFill>
                <a:srgbClr val="000000"/>
              </a:solidFill>
              <a:latin typeface="Arial"/>
            </a:endParaRPr>
          </a:p>
          <a:p>
            <a:pPr lvl="1" marL="685080" indent="-3441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cular spasm begins very quickly (30 sec.) after the injury at it last a few minutes. </a:t>
            </a:r>
            <a:endParaRPr b="0" lang="en-US" sz="2000" spc="-1" strike="noStrike">
              <a:solidFill>
                <a:srgbClr val="000000"/>
              </a:solidFill>
              <a:latin typeface="Arial"/>
            </a:endParaRPr>
          </a:p>
          <a:p>
            <a:pPr lvl="1" marL="685080" indent="-3441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chanism of spasm is nervous – through catecholamine liberated from sympatic nerves endings.</a:t>
            </a:r>
            <a:endParaRPr b="0" lang="en-US" sz="2000" spc="-1" strike="noStrike">
              <a:solidFill>
                <a:srgbClr val="000000"/>
              </a:solidFill>
              <a:latin typeface="Arial"/>
            </a:endParaRPr>
          </a:p>
          <a:p>
            <a:pPr marL="339480" indent="-3394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ze II</a:t>
            </a:r>
            <a:r>
              <a:rPr b="0" lang="en-US" sz="2000" spc="-1" strike="noStrike">
                <a:solidFill>
                  <a:srgbClr val="000000"/>
                </a:solidFill>
                <a:latin typeface="Arial"/>
              </a:rPr>
              <a:t> = </a:t>
            </a:r>
            <a:r>
              <a:rPr b="0" i="1" lang="en-US" sz="2000" spc="-1" strike="noStrike">
                <a:solidFill>
                  <a:srgbClr val="000000"/>
                </a:solidFill>
                <a:latin typeface="Arial"/>
              </a:rPr>
              <a:t>active vasodilation </a:t>
            </a:r>
            <a:r>
              <a:rPr b="0" lang="en-US" sz="2000" spc="-1" strike="noStrike">
                <a:solidFill>
                  <a:srgbClr val="000000"/>
                </a:solidFill>
                <a:latin typeface="Arial"/>
              </a:rPr>
              <a:t>(through catabolism products that act through receptors and directly stimulates vascular dilation – nervous mechanism).</a:t>
            </a:r>
            <a:endParaRPr b="0" lang="en-US" sz="2000" spc="-1" strike="noStrike">
              <a:solidFill>
                <a:srgbClr val="000000"/>
              </a:solidFill>
              <a:latin typeface="Arial"/>
            </a:endParaRPr>
          </a:p>
          <a:p>
            <a:pPr lvl="1" marL="685080" indent="-3441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ion of arterioles and capillaries (</a:t>
            </a:r>
            <a:r>
              <a:rPr b="1" i="1" lang="en-US" sz="2000" spc="-1" strike="noStrike">
                <a:solidFill>
                  <a:srgbClr val="000000"/>
                </a:solidFill>
                <a:latin typeface="Arial"/>
              </a:rPr>
              <a:t>redness = rubor</a:t>
            </a:r>
            <a:r>
              <a:rPr b="0" lang="en-US" sz="2000" spc="-1" strike="noStrike">
                <a:solidFill>
                  <a:srgbClr val="000000"/>
                </a:solidFill>
                <a:latin typeface="Arial"/>
              </a:rPr>
              <a:t>);</a:t>
            </a:r>
            <a:endParaRPr b="0" lang="en-US" sz="2000" spc="-1" strike="noStrike">
              <a:solidFill>
                <a:srgbClr val="000000"/>
              </a:solidFill>
              <a:latin typeface="Arial"/>
            </a:endParaRPr>
          </a:p>
          <a:p>
            <a:pPr lvl="1" marL="685080" indent="-3441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flow increases and gives pulsate sensation;</a:t>
            </a:r>
            <a:endParaRPr b="0" lang="en-US" sz="2000" spc="-1" strike="noStrike">
              <a:solidFill>
                <a:srgbClr val="000000"/>
              </a:solidFill>
              <a:latin typeface="Arial"/>
            </a:endParaRPr>
          </a:p>
          <a:p>
            <a:pPr lvl="1" marL="685080" indent="-3441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hyperemia in skin territory and increased metabolism leads to higher local temperature (</a:t>
            </a:r>
            <a:r>
              <a:rPr b="1" i="1" lang="en-US" sz="2000" spc="-1" strike="noStrike">
                <a:solidFill>
                  <a:srgbClr val="000000"/>
                </a:solidFill>
                <a:latin typeface="Arial"/>
              </a:rPr>
              <a:t>heat = calor</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he Vascular Response</a:t>
            </a:r>
            <a:endParaRPr b="1" lang="en-US" sz="3200" spc="-1" strike="noStrike">
              <a:solidFill>
                <a:srgbClr val="330066"/>
              </a:solidFill>
              <a:latin typeface="Arial"/>
            </a:endParaRPr>
          </a:p>
        </p:txBody>
      </p:sp>
      <p:sp>
        <p:nvSpPr>
          <p:cNvPr id="15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ze III</a:t>
            </a:r>
            <a:r>
              <a:rPr b="0" lang="en-US" sz="2000" spc="-1" strike="noStrike">
                <a:solidFill>
                  <a:srgbClr val="000000"/>
                </a:solidFill>
                <a:latin typeface="Arial"/>
              </a:rPr>
              <a:t> = </a:t>
            </a:r>
            <a:r>
              <a:rPr b="0" i="1" lang="en-US" sz="2000" spc="-1" strike="noStrike">
                <a:solidFill>
                  <a:srgbClr val="000000"/>
                </a:solidFill>
                <a:latin typeface="Arial"/>
              </a:rPr>
              <a:t>passive vasodilation</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vessels in the affected area loose their reactivity to nervous and humoral stimuli and passive vasodilation occur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ively fluid move into the tissues (increased vascular permeability and structural alteration of blood vessels) and cause swelling (</a:t>
            </a:r>
            <a:r>
              <a:rPr b="1" i="1" lang="en-US" sz="2000" spc="-1" strike="noStrike">
                <a:solidFill>
                  <a:srgbClr val="000000"/>
                </a:solidFill>
                <a:latin typeface="Arial"/>
              </a:rPr>
              <a:t>tumor</a:t>
            </a:r>
            <a:r>
              <a:rPr b="0" lang="en-US" sz="2000" spc="-1" strike="noStrike">
                <a:solidFill>
                  <a:srgbClr val="000000"/>
                </a:solidFill>
                <a:latin typeface="Arial"/>
              </a:rPr>
              <a:t>), pain, and impaired function.</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udation or movement of the fluid out of the capillaries and into the tissue spaces dilutes the offending agent. As fluid moves out of the capillaries, stagnation of flow and clotting of blood in the small capillaries occurs at the site of injury.</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ids in localizing the spread of infectious microorganisms, if cas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husoon</dc:creator>
  <dc:description/>
  <dc:language>en-US</dc:language>
  <cp:lastModifiedBy>مكتب نون للحاسبات</cp:lastModifiedBy>
  <cp:lastPrinted>2014-03-19T08:13:56Z</cp:lastPrinted>
  <dcterms:modified xsi:type="dcterms:W3CDTF">2016-03-11T19:21:51Z</dcterms:modified>
  <cp:revision>92</cp:revision>
  <dc:subject/>
  <dc:title>PowerPoint Presentation</dc:title>
</cp:coreProperties>
</file>