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4938-6483-4440-8D63-24439E16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68C5-91FB-4D8F-8B0C-026868F8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F075-49CB-42CD-9395-BC9E57B8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1A39-3D27-4E80-B435-1BD46924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1DC1-E87D-4A6D-9016-FF2DEA6D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F72B-66E7-4AA4-8F26-6517484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12E7-B3A1-4B48-B07A-9EE84F1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34B-8E00-491C-91BF-A19F84F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3E9-1F59-49EB-9E72-6948F4B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6A7-0413-41D0-A006-6D64B86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78C0-045C-44EB-94A5-9A95ED5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1C1B-1B17-438E-9CDD-64D0A15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620-AA0D-4195-A2FB-3F69607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84C6-57E0-487B-BC1D-58B3E31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47D-1047-4C50-B0E4-23F8A21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EDD-81F1-4A64-92E2-5AD1FEE4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8AA-52CB-4BE7-92F9-5CF5848C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C9FA-EA98-472B-9F21-448AAD3D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26F7-336B-434D-B53E-055B01D6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58D1-9FD6-4CC6-AFD2-12C3674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653F-BB62-4C3A-8742-D4F11422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039E-0BB5-4C47-969E-951DF42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EDF8-32B7-4274-8A38-90ADD47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0161-2E3D-419A-BDDE-0E2C947F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8188-1807-46BB-8085-5562A243607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54D2-0892-490E-B65C-A192EE157E1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Antibiotics (anti-microbials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971640" y="981000"/>
          <a:ext cx="7775640" cy="4896000"/>
        </p:xfrm>
        <a:graphic>
          <a:graphicData uri="http://schemas.openxmlformats.org/drawingml/2006/table">
            <a:tbl>
              <a:tblPr/>
              <a:tblGrid>
                <a:gridCol w="2592360"/>
                <a:gridCol w="51832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ta-lactams (penicillins, cephalospor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*. Flucloxacillin and co-amoxiclav are effective against some penicillin-resistant organism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minoglycosides (streptomycin,  gentamicin, tobra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gram negative bacteria e.g.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Pseudomona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Reserved for serious infections e.g. septicaemia, meningitis, hospital-acquired pneumonia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Glycopeptides (vancomycin, teicoplan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taphylococci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resistant to other drugs, including many strains of MRSA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**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tracyclines (doxycycline, minocycline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78"/>
          <p:cNvSpPr/>
          <p:nvPr/>
        </p:nvSpPr>
        <p:spPr>
          <a:xfrm>
            <a:off x="971640" y="333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able 1 Summary of some common antibio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71640" y="404640"/>
          <a:ext cx="7775640" cy="4586400"/>
        </p:xfrm>
        <a:graphic>
          <a:graphicData uri="http://schemas.openxmlformats.org/drawingml/2006/table">
            <a:tbl>
              <a:tblPr/>
              <a:tblGrid>
                <a:gridCol w="2581200"/>
                <a:gridCol w="5194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acrolides (erythro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road-spectrum antibiotics, prescribed if patient is allergic to penicilli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etronidazole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escribed for surgical prophylaxis, bacterial vaginosis, pressure sores, leg ulcer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Quinolones (ciprofloxa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ffective against gram negative bacteria, gonorrhoea, gastro-intestinal infectio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ntitubercular drugs (rifampicin, isoniazid, rifabutin, streptomyc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served for treatment/ containment of tuberculosis(TB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ulphonamides (co-trimoxazole, trimethoprin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-trimoxazole is reserved for serious infections associated with HIV/AIDS. Trimethoprin is prescribed for urinary tract infections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56"/>
          <p:cNvSpPr/>
          <p:nvPr/>
        </p:nvSpPr>
        <p:spPr>
          <a:xfrm>
            <a:off x="971640" y="4957920"/>
            <a:ext cx="777564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Broad spectrum antibiotics are used when the infectious agent is unknow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arrow spectrum antibiotics are prescribed when the micro-organisms have been identified from tissue sample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* Many bacteria produce an enzyme which destroys beta lactam antibiotics. In addition to this, MRSA (methicilin-resistant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taphylococcus aureus)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produces an inactivating protein which confers resistance to most other antibiotic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229600" cy="3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957240"/>
          <a:ext cx="8137440" cy="5788080"/>
        </p:xfrm>
        <a:graphic>
          <a:graphicData uri="http://schemas.openxmlformats.org/drawingml/2006/table">
            <a:tbl>
              <a:tblPr/>
              <a:tblGrid>
                <a:gridCol w="2055600"/>
                <a:gridCol w="2606760"/>
                <a:gridCol w="3475080"/>
              </a:tblGrid>
              <a:tr h="35712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2520" indent="-182520" algn="r" rtl="1"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98520"/>
            <a:ext cx="8229600" cy="89208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Susceptibility Testing Metho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3" descr="susc4"/>
          <p:cNvPicPr/>
          <p:nvPr/>
        </p:nvPicPr>
        <p:blipFill>
          <a:blip r:embed="rId1"/>
          <a:stretch/>
        </p:blipFill>
        <p:spPr>
          <a:xfrm>
            <a:off x="380880" y="2057400"/>
            <a:ext cx="222732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4" descr="susc5"/>
          <p:cNvPicPr/>
          <p:nvPr/>
        </p:nvPicPr>
        <p:blipFill>
          <a:blip r:embed="rId2"/>
          <a:stretch/>
        </p:blipFill>
        <p:spPr>
          <a:xfrm>
            <a:off x="3505320" y="2057400"/>
            <a:ext cx="213336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6" name="Picture 5" descr="susc6"/>
          <p:cNvPicPr/>
          <p:nvPr/>
        </p:nvPicPr>
        <p:blipFill>
          <a:blip r:embed="rId3"/>
          <a:stretch/>
        </p:blipFill>
        <p:spPr>
          <a:xfrm>
            <a:off x="6629400" y="2057400"/>
            <a:ext cx="20574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7" name="Line 6"/>
          <p:cNvSpPr/>
          <p:nvPr/>
        </p:nvSpPr>
        <p:spPr>
          <a:xfrm>
            <a:off x="2743200" y="35053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791320" y="35053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0160" y="491796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noc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642480" y="49179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ce dis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agar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624720" y="4419720"/>
            <a:ext cx="251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cubate pla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8-24 hr, 35 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asure and record zone of inhibition around each dis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1430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Disk Diffusion Susceptibility Testing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3" descr="KB3"/>
          <p:cNvPicPr/>
          <p:nvPr/>
        </p:nvPicPr>
        <p:blipFill>
          <a:blip r:embed="rId1"/>
          <a:stretch/>
        </p:blipFill>
        <p:spPr>
          <a:xfrm>
            <a:off x="4952880" y="1828800"/>
            <a:ext cx="376884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4" name="Picture 4" descr="KB4"/>
          <p:cNvPicPr/>
          <p:nvPr/>
        </p:nvPicPr>
        <p:blipFill>
          <a:blip r:embed="rId2"/>
          <a:stretch/>
        </p:blipFill>
        <p:spPr>
          <a:xfrm>
            <a:off x="457200" y="1828800"/>
            <a:ext cx="3768840" cy="46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734040" y="222264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agar &amp; disk plac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566320" y="213372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Arial"/>
              </a:rPr>
              <a:t>Mueller Hinton agar &amp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Arial"/>
              </a:rPr>
              <a:t>good disk plac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95040" y="5867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Mueller Hinton ag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rcRect l="17595" t="13875" r="15543" b="7389"/>
          <a:stretch/>
        </p:blipFill>
        <p:spPr>
          <a:xfrm>
            <a:off x="1130400" y="1600200"/>
            <a:ext cx="6883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tibiotic sensitivity tes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rcRect l="17280" t="28943" r="16055" b="15107"/>
          <a:stretch/>
        </p:blipFill>
        <p:spPr>
          <a:xfrm>
            <a:off x="468360" y="2133720"/>
            <a:ext cx="79214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8288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Antimicrobial susceptibility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testing using micro-broth 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dilution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304920" y="2779560"/>
            <a:ext cx="4657680" cy="3164040"/>
            <a:chOff x="304920" y="2779560"/>
            <a:chExt cx="4657680" cy="3164040"/>
          </a:xfrm>
        </p:grpSpPr>
        <p:pic>
          <p:nvPicPr>
            <p:cNvPr id="174" name="Picture 4" descr="lab3"/>
            <p:cNvPicPr/>
            <p:nvPr/>
          </p:nvPicPr>
          <p:blipFill>
            <a:blip r:embed="rId1"/>
            <a:stretch/>
          </p:blipFill>
          <p:spPr>
            <a:xfrm>
              <a:off x="304920" y="2779560"/>
              <a:ext cx="4657680" cy="3164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5" name="Text Box 5"/>
            <p:cNvSpPr/>
            <p:nvPr/>
          </p:nvSpPr>
          <p:spPr>
            <a:xfrm>
              <a:off x="396720" y="5446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3430440" y="3922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1144440" y="5446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122076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122076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1220760" y="4303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38268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38268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3430440" y="4684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4192560" y="3618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4573440" y="5065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4192560" y="3236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2363760" y="3618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910800" y="60958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6 well microtiter p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19" descr="susc11"/>
          <p:cNvPicPr/>
          <p:nvPr/>
        </p:nvPicPr>
        <p:blipFill>
          <a:blip r:embed="rId2"/>
          <a:stretch/>
        </p:blipFill>
        <p:spPr>
          <a:xfrm>
            <a:off x="5257800" y="3276720"/>
            <a:ext cx="3657600" cy="3352680"/>
          </a:xfrm>
          <a:prstGeom prst="rect">
            <a:avLst/>
          </a:prstGeom>
          <a:ln w="9360">
            <a:solidFill>
              <a:srgbClr val="ebf25a"/>
            </a:solidFill>
            <a:miter/>
          </a:ln>
        </p:spPr>
      </p:pic>
      <p:sp>
        <p:nvSpPr>
          <p:cNvPr id="190" name="Text Box 20"/>
          <p:cNvSpPr/>
          <p:nvPr/>
        </p:nvSpPr>
        <p:spPr>
          <a:xfrm>
            <a:off x="5226120" y="2362320"/>
            <a:ext cx="2847600" cy="82548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ug/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4  32  16    8    4 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biotic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= a natural substance produced by a micro-organism to kill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infectives/Anti-microbri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= any agent (natural or synthetic) that kills pathogens (microb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Antimicrobial Gradient Testing</a:t>
            </a:r>
            <a:br>
              <a:rPr sz="4200"/>
            </a:br>
            <a:r>
              <a:rPr b="1" lang="en-US" sz="4200" spc="-1" strike="noStrike">
                <a:solidFill>
                  <a:srgbClr val="800000"/>
                </a:solidFill>
                <a:latin typeface="Tahoma"/>
              </a:rPr>
              <a:t>E-test</a:t>
            </a: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®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60" y="3124080"/>
            <a:ext cx="20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d pl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mm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ub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susc9"/>
          <p:cNvPicPr/>
          <p:nvPr/>
        </p:nvPicPr>
        <p:blipFill>
          <a:blip r:embed="rId1"/>
          <a:stretch/>
        </p:blipFill>
        <p:spPr>
          <a:xfrm>
            <a:off x="2057400" y="2181240"/>
            <a:ext cx="4829040" cy="4600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7039080" y="4238640"/>
            <a:ext cx="178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d 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eli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s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48640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219320" y="5486400"/>
            <a:ext cx="1143000" cy="53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28800" y="6324480"/>
            <a:ext cx="1143000" cy="53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985840" y="586620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•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5800" y="58672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592000" y="5485320"/>
            <a:ext cx="2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•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2aa68"/>
                </a:solidFill>
                <a:latin typeface="Tahoma"/>
              </a:rPr>
              <a:t>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tibiotics are a large and diverse group of drugs which combat infections by suppressing the growth and reproduction of bacter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ever, many bacteria are now resistant to antibiotics and some are resistant to all known ag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w drugs are continually being introduced to combat evolving patterns of resi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tibiotics exploit the differences between bacterial and ce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y prevent the renewal of the bacterial cell wall and inhibit protein form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e: bacteria are 'gram negative' or 'gram positive'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ram negative bacteria have a tough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lassific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cteriostatic (inhibit growth without death) or Bactericidial (Ki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sage relat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chanism of 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ectrum of Activ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ad or N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emical Stru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Bacteriostatic and Bactericidal</a:t>
            </a: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cteriostatic allows for natural immunity to deal with the micro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tibodies, Phagocytosis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actericidial may lead to release of toxins and microbial contents leading to subsequent illness and inflammatory respon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Spectrum of Activ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lates to the number of microbes that are susceptible to the action of the dru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rrow (limited number) / Broad (wi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nicillin G is a narrow spectrum drug as it is only effective against gram-positive micro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tracyclines are effective against gram-positive and gram-negative microbes (Bro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Note: Never confusion these terms with potency levels of the drugs or efficacy (ie. Narrow are weak, Broad are stro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hibition of Cell Wall Synthe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st bacteria possess a cell wall to protect from osmotic pre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be divide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needs to create a new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errupt this leads to new microbes being susceptible to external influ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ll ruptures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Microbe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. Penicillinsm cephalosporins, vancomycin and bacitr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Inhibition of Protein Synthe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teins vital for growth and rep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t either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te of protein synthesis (riboso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in the nucleus by inhibiting synthesis of nucleic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NA replication / RNA synthesis = TRANSCRI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g. Tetracyclines, aminoglycosides and macrolides (erythromyc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ploit structural differences between microbial and human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 dose can lead to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9:47:33Z</dcterms:created>
  <dc:creator>HNMallettJE</dc:creator>
  <dc:description/>
  <dc:language>en-US</dc:language>
  <cp:lastModifiedBy>waf</cp:lastModifiedBy>
  <dcterms:modified xsi:type="dcterms:W3CDTF">2016-02-28T19:53:30Z</dcterms:modified>
  <cp:revision>49</cp:revision>
  <dc:subject/>
  <dc:title>Antibiotics</dc:title>
</cp:coreProperties>
</file>