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31816-0BB4-4420-BB55-5BAA0C0FC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0F612-A42F-4238-843F-38C08511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E81AB-1F84-49B4-BE1A-1602F4E79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DB1BA-67EE-48E2-8052-20E205C89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B722-FA2D-495A-9DCD-07C198280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9001-BFF3-448A-8D75-0B8CCCB1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0C92-3C79-46A6-927B-CF1F18F4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B32C-26B7-4666-B050-E2172AE5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06E3-58AD-4BC6-8BC3-24634603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5523-328C-4F8F-89FA-9F7AA3A3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D316-631A-4481-922D-3F689566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A5054-56A6-4E6A-8962-DF65E33F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CB24-7879-4ED6-9340-49CC1057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C8B9-8015-4581-AA78-9110EBBF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1AEB-CDD6-4339-9EA6-E7578D79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2591-C3E9-4005-9A41-6B72F4B3C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8CA8-4B48-4412-B6C0-DCCD2C0CD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A9882-D36E-4EB4-9AF7-1477B6AB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8AAFB-6DDD-4840-B943-64937D46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70F54-A950-4B76-96C4-99201C29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6A7A7-DE6E-4208-9549-CCDBF163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78DAB-4F5C-43B1-9E57-F0CD56BC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173B2-2887-4A46-B63C-B9FB9649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1BD46-E778-4AC5-9CC0-4684E22B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18C8-2DFE-493C-A03C-505E162E9106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EAB1-2729-4800-958E-D66E41303B71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Tahoma"/>
              </a:rPr>
              <a:t>Antibiotics (anti-microbials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971640" y="981000"/>
          <a:ext cx="7775640" cy="4896000"/>
        </p:xfrm>
        <a:graphic>
          <a:graphicData uri="http://schemas.openxmlformats.org/drawingml/2006/table">
            <a:tbl>
              <a:tblPr/>
              <a:tblGrid>
                <a:gridCol w="2592360"/>
                <a:gridCol w="5183280"/>
              </a:tblGrid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eta-lactams (penicillins, cephalosporin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road-spectrum antibiotics*. Flucloxacillin and co-amoxiclav are effective against some penicillin-resistant organisms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minoglycosides (streptomycin,  gentamicin, tobramyci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ffective against gram negative bacteria e.g.</a:t>
                      </a:r>
                      <a:r>
                        <a:rPr b="1" i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Pseudomonas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. Reserved for serious infections e.g. septicaemia, meningitis, hospital-acquired pneumonia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Glycopeptides (vancomycin, teicoplani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ffective against </a:t>
                      </a:r>
                      <a:r>
                        <a:rPr b="1" i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taphylococci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resistant to other drugs, including many strains of MRSA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**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Tetracyclines (doxycycline, minocycline)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road-spectrum antibiotic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Text Box 178"/>
          <p:cNvSpPr/>
          <p:nvPr/>
        </p:nvSpPr>
        <p:spPr>
          <a:xfrm>
            <a:off x="971640" y="33336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able 1 Summary of some common antibiotic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971640" y="404640"/>
          <a:ext cx="7775640" cy="4586400"/>
        </p:xfrm>
        <a:graphic>
          <a:graphicData uri="http://schemas.openxmlformats.org/drawingml/2006/table">
            <a:tbl>
              <a:tblPr/>
              <a:tblGrid>
                <a:gridCol w="2581200"/>
                <a:gridCol w="51944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Macrolides (erythromyci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road-spectrum antibiotics, prescribed if patient is allergic to penicillins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Metronidazole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Prescribed for surgical prophylaxis, bacterial vaginosis, pressure sores, leg ulcers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0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Quinolones (ciprofloxaci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ffective against gram negative bacteria, gonorrhoea, gastro-intestinal infections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ntitubercular drugs (rifampicin, isoniazid, rifabutin, streptomyci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Reserved for treatment/ containment of tuberculosis(TB)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ulphonamides (co-trimoxazole, trimethoprin)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Co-trimoxazole is reserved for serious infections associated with HIV/AIDS. Trimethoprin is prescribed for urinary tract infections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Text Box 56"/>
          <p:cNvSpPr/>
          <p:nvPr/>
        </p:nvSpPr>
        <p:spPr>
          <a:xfrm>
            <a:off x="971640" y="4957920"/>
            <a:ext cx="777564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* Broad spectrum antibiotics are used when the infectious agent is unknown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Narrow spectrum antibiotics are prescribed when the micro-organisms have been identified from tissue samples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** Many bacteria produce an enzyme which destroys beta lactam antibiotics. In addition to this, MRSA (methicilin-resistant </a:t>
            </a: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Staphylococcus aureus)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produces an inactivating protein which confers resistance to most other antibiotic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09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087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17440"/>
            <a:ext cx="8229600" cy="3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7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11280" y="957240"/>
          <a:ext cx="8137440" cy="5788080"/>
        </p:xfrm>
        <a:graphic>
          <a:graphicData uri="http://schemas.openxmlformats.org/drawingml/2006/table">
            <a:tbl>
              <a:tblPr/>
              <a:tblGrid>
                <a:gridCol w="2055600"/>
                <a:gridCol w="2606760"/>
                <a:gridCol w="3475080"/>
              </a:tblGrid>
              <a:tr h="357120">
                <a:tc>
                  <a:txBody>
                    <a:bodyPr lIns="90000" rIns="90000" anchor="t">
                      <a:noAutofit/>
                    </a:bodyPr>
                    <a:p>
                      <a:pPr marL="182520" indent="-18252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2520" indent="-18252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2520" indent="-18252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 marL="182520" indent="-182520" algn="r" rtl="1"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2520" indent="-182520" algn="r" rtl="1"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2520" indent="-182520" algn="r" rtl="1"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anchor="t">
                      <a:noAutofit/>
                    </a:bodyPr>
                    <a:p>
                      <a:pPr marL="182520" indent="-182520" algn="r" rtl="1"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2520" indent="-182520" algn="r" rtl="1"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2520" indent="-182520" algn="r" rtl="1"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anchor="t">
                      <a:noAutofit/>
                    </a:bodyPr>
                    <a:p>
                      <a:pPr marL="182520" indent="-182520" algn="r" rtl="1"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2520" indent="-182520" algn="r" rtl="1"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2520" indent="-182520" algn="r" rtl="1"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 marL="182520" indent="-182520" algn="r" rtl="1"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2520" indent="-182520" algn="r" rtl="1"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2520" indent="-182520" algn="r" rtl="1"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anchor="t">
                      <a:noAutofit/>
                    </a:bodyPr>
                    <a:p>
                      <a:pPr marL="182520" indent="-182520" algn="r" rtl="1"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2520" indent="-182520" algn="r" rtl="1"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2520" indent="-182520" algn="r" rtl="1"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98520"/>
            <a:ext cx="8229600" cy="892080"/>
          </a:xfrm>
          <a:prstGeom prst="rect">
            <a:avLst/>
          </a:prstGeom>
          <a:solidFill>
            <a:srgbClr val="005000"/>
          </a:solidFill>
          <a:ln w="9360">
            <a:solidFill>
              <a:srgbClr val="ffffff"/>
            </a:solidFill>
            <a:miter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0000"/>
                </a:solidFill>
                <a:latin typeface="Tahoma"/>
              </a:rPr>
              <a:t>Susceptibility Testing Method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Picture 3" descr="susc4"/>
          <p:cNvPicPr/>
          <p:nvPr/>
        </p:nvPicPr>
        <p:blipFill>
          <a:blip r:embed="rId1"/>
          <a:stretch/>
        </p:blipFill>
        <p:spPr>
          <a:xfrm>
            <a:off x="380880" y="2057400"/>
            <a:ext cx="2227320" cy="2209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5" name="Picture 4" descr="susc5"/>
          <p:cNvPicPr/>
          <p:nvPr/>
        </p:nvPicPr>
        <p:blipFill>
          <a:blip r:embed="rId2"/>
          <a:stretch/>
        </p:blipFill>
        <p:spPr>
          <a:xfrm>
            <a:off x="3505320" y="2057400"/>
            <a:ext cx="2133360" cy="2209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6" name="Picture 5" descr="susc6"/>
          <p:cNvPicPr/>
          <p:nvPr/>
        </p:nvPicPr>
        <p:blipFill>
          <a:blip r:embed="rId3"/>
          <a:stretch/>
        </p:blipFill>
        <p:spPr>
          <a:xfrm>
            <a:off x="6629400" y="2057400"/>
            <a:ext cx="2057400" cy="2209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7" name="Line 6"/>
          <p:cNvSpPr/>
          <p:nvPr/>
        </p:nvSpPr>
        <p:spPr>
          <a:xfrm>
            <a:off x="2743200" y="3505320"/>
            <a:ext cx="685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791320" y="3505320"/>
            <a:ext cx="685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290160" y="4917960"/>
            <a:ext cx="157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nocul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H pl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3642480" y="491796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lace dis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n agar pl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6624720" y="4419720"/>
            <a:ext cx="2519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Incubate plat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18-24 hr, 35 C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Measure and record zone of inhibition around each disk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1143000"/>
          </a:xfrm>
          <a:prstGeom prst="rect">
            <a:avLst/>
          </a:prstGeom>
          <a:solidFill>
            <a:srgbClr val="005000"/>
          </a:solidFill>
          <a:ln w="9360">
            <a:solidFill>
              <a:srgbClr val="ffffff"/>
            </a:solidFill>
            <a:miter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ahoma"/>
              </a:rPr>
              <a:t>Disk Diffusion Susceptibility Testing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3" name="Picture 3" descr="KB3"/>
          <p:cNvPicPr/>
          <p:nvPr/>
        </p:nvPicPr>
        <p:blipFill>
          <a:blip r:embed="rId1"/>
          <a:stretch/>
        </p:blipFill>
        <p:spPr>
          <a:xfrm>
            <a:off x="4952880" y="1828800"/>
            <a:ext cx="3768840" cy="4648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4" name="Picture 4" descr="KB4"/>
          <p:cNvPicPr/>
          <p:nvPr/>
        </p:nvPicPr>
        <p:blipFill>
          <a:blip r:embed="rId2"/>
          <a:stretch/>
        </p:blipFill>
        <p:spPr>
          <a:xfrm>
            <a:off x="457200" y="1828800"/>
            <a:ext cx="3768840" cy="4648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5" name="Text Box 5"/>
          <p:cNvSpPr/>
          <p:nvPr/>
        </p:nvSpPr>
        <p:spPr>
          <a:xfrm>
            <a:off x="734040" y="2222640"/>
            <a:ext cx="34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roper agar &amp; disk place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566320" y="2133720"/>
            <a:ext cx="24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f25a"/>
                </a:solidFill>
                <a:latin typeface="Arial"/>
              </a:rPr>
              <a:t>Mueller Hinton agar &amp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f25a"/>
                </a:solidFill>
                <a:latin typeface="Arial"/>
              </a:rPr>
              <a:t>good disk place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995040" y="586728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Mueller Hinton ag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1"/>
          <a:srcRect l="17595" t="13875" r="15543" b="7389"/>
          <a:stretch/>
        </p:blipFill>
        <p:spPr>
          <a:xfrm>
            <a:off x="1130400" y="1600200"/>
            <a:ext cx="68832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ntibiotic sensitivity tes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1" name="Picture 9" descr=""/>
          <p:cNvPicPr/>
          <p:nvPr/>
        </p:nvPicPr>
        <p:blipFill>
          <a:blip r:embed="rId1"/>
          <a:srcRect l="17280" t="28943" r="16055" b="15107"/>
          <a:stretch/>
        </p:blipFill>
        <p:spPr>
          <a:xfrm>
            <a:off x="468360" y="2133720"/>
            <a:ext cx="792144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001000" cy="1828800"/>
          </a:xfrm>
          <a:prstGeom prst="rect">
            <a:avLst/>
          </a:prstGeom>
          <a:solidFill>
            <a:srgbClr val="005000"/>
          </a:solidFill>
          <a:ln w="9360">
            <a:solidFill>
              <a:srgbClr val="ffffff"/>
            </a:solidFill>
            <a:miter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ahoma"/>
              </a:rPr>
              <a:t>Antimicrobial susceptibility</a:t>
            </a:r>
            <a:br>
              <a:rPr sz="3800"/>
            </a:br>
            <a:r>
              <a:rPr b="1" lang="en-US" sz="3800" spc="-1" strike="noStrike">
                <a:solidFill>
                  <a:srgbClr val="800000"/>
                </a:solidFill>
                <a:latin typeface="Tahoma"/>
              </a:rPr>
              <a:t>testing using micro-broth </a:t>
            </a:r>
            <a:br>
              <a:rPr sz="3800"/>
            </a:br>
            <a:r>
              <a:rPr b="1" lang="en-US" sz="3800" spc="-1" strike="noStrike">
                <a:solidFill>
                  <a:srgbClr val="800000"/>
                </a:solidFill>
                <a:latin typeface="Tahoma"/>
              </a:rPr>
              <a:t>dilutions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73" name="Group 3"/>
          <p:cNvGrpSpPr/>
          <p:nvPr/>
        </p:nvGrpSpPr>
        <p:grpSpPr>
          <a:xfrm>
            <a:off x="304920" y="2779560"/>
            <a:ext cx="4657680" cy="3164040"/>
            <a:chOff x="304920" y="2779560"/>
            <a:chExt cx="4657680" cy="3164040"/>
          </a:xfrm>
        </p:grpSpPr>
        <p:pic>
          <p:nvPicPr>
            <p:cNvPr id="174" name="Picture 4" descr="lab3"/>
            <p:cNvPicPr/>
            <p:nvPr/>
          </p:nvPicPr>
          <p:blipFill>
            <a:blip r:embed="rId1"/>
            <a:stretch/>
          </p:blipFill>
          <p:spPr>
            <a:xfrm>
              <a:off x="304920" y="2779560"/>
              <a:ext cx="4657680" cy="31640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175" name="Text Box 5"/>
            <p:cNvSpPr/>
            <p:nvPr/>
          </p:nvSpPr>
          <p:spPr>
            <a:xfrm>
              <a:off x="396720" y="54468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Text Box 6"/>
            <p:cNvSpPr/>
            <p:nvPr/>
          </p:nvSpPr>
          <p:spPr>
            <a:xfrm>
              <a:off x="3430440" y="392256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Text Box 7"/>
            <p:cNvSpPr/>
            <p:nvPr/>
          </p:nvSpPr>
          <p:spPr>
            <a:xfrm>
              <a:off x="1144440" y="54468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Text Box 8"/>
            <p:cNvSpPr/>
            <p:nvPr/>
          </p:nvSpPr>
          <p:spPr>
            <a:xfrm>
              <a:off x="1220760" y="506556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Text Box 9"/>
            <p:cNvSpPr/>
            <p:nvPr/>
          </p:nvSpPr>
          <p:spPr>
            <a:xfrm>
              <a:off x="1220760" y="46846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Text Box 10"/>
            <p:cNvSpPr/>
            <p:nvPr/>
          </p:nvSpPr>
          <p:spPr>
            <a:xfrm>
              <a:off x="1220760" y="43038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382680" y="506556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Text Box 12"/>
            <p:cNvSpPr/>
            <p:nvPr/>
          </p:nvSpPr>
          <p:spPr>
            <a:xfrm>
              <a:off x="382680" y="46846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3430440" y="46846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Text Box 14"/>
            <p:cNvSpPr/>
            <p:nvPr/>
          </p:nvSpPr>
          <p:spPr>
            <a:xfrm>
              <a:off x="4192560" y="36180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Text Box 15"/>
            <p:cNvSpPr/>
            <p:nvPr/>
          </p:nvSpPr>
          <p:spPr>
            <a:xfrm>
              <a:off x="4573440" y="506556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Text Box 16"/>
            <p:cNvSpPr/>
            <p:nvPr/>
          </p:nvSpPr>
          <p:spPr>
            <a:xfrm>
              <a:off x="4192560" y="323676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Text Box 17"/>
            <p:cNvSpPr/>
            <p:nvPr/>
          </p:nvSpPr>
          <p:spPr>
            <a:xfrm>
              <a:off x="2363760" y="36180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8" name="Text Box 18"/>
          <p:cNvSpPr/>
          <p:nvPr/>
        </p:nvSpPr>
        <p:spPr>
          <a:xfrm>
            <a:off x="910800" y="6095880"/>
            <a:ext cx="32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6 well microtiter pl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19" descr="susc11"/>
          <p:cNvPicPr/>
          <p:nvPr/>
        </p:nvPicPr>
        <p:blipFill>
          <a:blip r:embed="rId2"/>
          <a:stretch/>
        </p:blipFill>
        <p:spPr>
          <a:xfrm>
            <a:off x="5257800" y="3276720"/>
            <a:ext cx="3657600" cy="3352680"/>
          </a:xfrm>
          <a:prstGeom prst="rect">
            <a:avLst/>
          </a:prstGeom>
          <a:ln w="9360">
            <a:solidFill>
              <a:srgbClr val="ebf25a"/>
            </a:solidFill>
            <a:miter/>
          </a:ln>
        </p:spPr>
      </p:pic>
      <p:sp>
        <p:nvSpPr>
          <p:cNvPr id="190" name="Text Box 20"/>
          <p:cNvSpPr/>
          <p:nvPr/>
        </p:nvSpPr>
        <p:spPr>
          <a:xfrm>
            <a:off x="5226120" y="2362320"/>
            <a:ext cx="2847600" cy="825480"/>
          </a:xfrm>
          <a:prstGeom prst="rect">
            <a:avLst/>
          </a:prstGeom>
          <a:noFill/>
          <a:ln w="9360">
            <a:solidFill>
              <a:srgbClr val="ebf2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ug/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4  32  16    8    4    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cc"/>
                </a:solidFill>
                <a:latin typeface="Tahoma"/>
              </a:rPr>
              <a:t>Introduct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ntibiotics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= a natural substance produced by a micro-organism to kill ano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ntiinfectives/Anti-microbrial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= any agent (natural or synthetic) that kills pathogens (microb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48720" cy="1524240"/>
          </a:xfrm>
          <a:prstGeom prst="rect">
            <a:avLst/>
          </a:prstGeom>
          <a:solidFill>
            <a:srgbClr val="005000"/>
          </a:solidFill>
          <a:ln w="9360">
            <a:solidFill>
              <a:srgbClr val="ffffff"/>
            </a:solidFill>
            <a:miter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0000"/>
                </a:solidFill>
                <a:latin typeface="Tahoma"/>
              </a:rPr>
              <a:t>Antimicrobial Gradient Testing</a:t>
            </a:r>
            <a:br>
              <a:rPr sz="4200"/>
            </a:br>
            <a:r>
              <a:rPr b="1" lang="en-US" sz="4200" spc="-1" strike="noStrike">
                <a:solidFill>
                  <a:srgbClr val="800000"/>
                </a:solidFill>
                <a:latin typeface="Tahoma"/>
              </a:rPr>
              <a:t>E-test</a:t>
            </a:r>
            <a:r>
              <a:rPr b="1" lang="en-US" sz="4200" spc="-1" strike="noStrike">
                <a:solidFill>
                  <a:srgbClr val="800000"/>
                </a:solidFill>
                <a:latin typeface="Arial"/>
              </a:rPr>
              <a:t>®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360" y="3124080"/>
            <a:ext cx="202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ad pla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ft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commend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cub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4" descr="susc9"/>
          <p:cNvPicPr/>
          <p:nvPr/>
        </p:nvPicPr>
        <p:blipFill>
          <a:blip r:embed="rId1"/>
          <a:stretch/>
        </p:blipFill>
        <p:spPr>
          <a:xfrm>
            <a:off x="2057400" y="2181240"/>
            <a:ext cx="4829040" cy="460044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7039080" y="4238640"/>
            <a:ext cx="178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ad M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ere elip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rse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c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5486400" y="3657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1219320" y="5486400"/>
            <a:ext cx="1143000" cy="5335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1828800" y="6324480"/>
            <a:ext cx="1143000" cy="5335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685800" y="380880"/>
            <a:ext cx="7772400" cy="1371600"/>
          </a:xfrm>
          <a:prstGeom prst="rect">
            <a:avLst/>
          </a:prstGeom>
          <a:solidFill>
            <a:srgbClr val="0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28800" y="106632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2985840" y="5866200"/>
            <a:ext cx="24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•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685800" y="586728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2592000" y="5485320"/>
            <a:ext cx="24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•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2aa68"/>
                </a:solidFill>
                <a:latin typeface="Tahoma"/>
              </a:rPr>
              <a:t>Overview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ntibiotics are a large and diverse group of drugs which combat infections by suppressing the growth and reproduction of bacteri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owever, many bacteria are now resistant to antibiotics and some are resistant to all known agent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New drugs are continually being introduced to combat evolving patterns of resistanc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ntibiotics exploit the differences between bacterial and cell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y prevent the renewal of the bacterial cell wall and inhibit protein forma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Note: bacteria are 'gram negative' or 'gram positive'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Gram negative bacteria have a tough w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cc"/>
                </a:solidFill>
                <a:latin typeface="Tahoma"/>
              </a:rPr>
              <a:t>Classificat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Bacteriostatic (inhibit growth without death) or Bactericidial (Kil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osage related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chanism of ac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pectrum of Activit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road or Narr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hemical Structu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cc"/>
                </a:solidFill>
                <a:latin typeface="Tahoma"/>
              </a:rPr>
              <a:t>Bacteriostatic and Bactericidal</a:t>
            </a:r>
            <a:r>
              <a:rPr b="0" lang="en-GB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acteriostatic allows for natural immunity to deal with the micro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ntibodies, Phagocytosis et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actericidial may lead to release of toxins and microbial contents leading to subsequent illness and inflammatory respon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cc"/>
                </a:solidFill>
                <a:latin typeface="Tahoma"/>
              </a:rPr>
              <a:t>Spectrum of Activit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lates to the number of microbes that are susceptible to the action of the dru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arrow (limited number) / Broad (wid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enicillin G is a narrow spectrum drug as it is only effective against gram-positive micro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etracyclines are effective against gram-positive and gram-negative microbes (Broa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ahoma"/>
              </a:rPr>
              <a:t>Note: Never confusion these terms with potency levels of the drugs or efficacy (ie. Narrow are weak, Broad are stro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cc"/>
                </a:solidFill>
                <a:latin typeface="Tahoma"/>
              </a:rPr>
              <a:t>Inhibition of Cell Wall Synthesi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ost bacteria possess a cell wall to protect from osmotic press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icrobe divides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needs to create a new cell w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terrupt this leads to new microbes being susceptible to external influen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ell ruptures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Microbe dea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g. Penicillinsm cephalosporins, vancomycin and bacitra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cc"/>
                </a:solidFill>
                <a:latin typeface="Tahoma"/>
              </a:rPr>
              <a:t>Inhibition of Protein Synthesi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oteins vital for growth and repa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ct either a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ite of protein synthesis (ribosom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ithin the nucleus by inhibiting synthesis of nucleic ac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NA replication / RNA synthesis = TRANSCRIP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g. Tetracyclines, aminoglycosides and macrolides (erythromyci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xploit structural differences between microbial and human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igh dose can lead to toxic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8T09:47:33Z</dcterms:created>
  <dc:creator>HNMallettJE</dc:creator>
  <dc:description/>
  <dc:language>en-US</dc:language>
  <cp:lastModifiedBy>waf</cp:lastModifiedBy>
  <dcterms:modified xsi:type="dcterms:W3CDTF">2016-02-28T19:53:30Z</dcterms:modified>
  <cp:revision>49</cp:revision>
  <dc:subject/>
  <dc:title>Antibiotics</dc:title>
</cp:coreProperties>
</file>