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2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77622A2-6B62-4B10-8A1E-793638E94B0D}" type="slidenum">
              <a:rPr b="0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35BE7CC-23E1-48B2-87FE-054F8C11FBAC}" type="slidenum">
              <a:rPr b="0" lang="en-US" sz="1300" spc="-1" strike="noStrike" u="sng">
                <a:solidFill>
                  <a:srgbClr val="492417"/>
                </a:solidFill>
                <a:uFillTx/>
                <a:latin typeface="Times New Roman"/>
                <a:ea typeface="Arial"/>
              </a:rPr>
              <a:t>&lt;number&gt;</a:t>
            </a:fld>
            <a:endParaRPr b="0" lang="en-US" sz="13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. Major concepts may not be  present in the theory but a main concept is usually presnt and the author is us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nown for that example Orem’s Self Care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43C7FA-D030-4A07-A8A6-D523B73AB820}" type="slidenum">
              <a:rPr b="0" lang="en-US" sz="1300" spc="-1" strike="noStrike" u="sng">
                <a:solidFill>
                  <a:srgbClr val="492417"/>
                </a:solidFill>
                <a:uFillTx/>
                <a:latin typeface="Times New Roman"/>
                <a:ea typeface="Arial"/>
              </a:rPr>
              <a:t>&lt;number&gt;</a:t>
            </a:fld>
            <a:endParaRPr b="0" lang="en-US" sz="13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ories used using the practice theory strategy evolved from clinical practice. Example Orlando’s nursing proces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09BD671-275B-4F14-B092-6AEDD69824F0}" type="slidenum">
              <a:rPr b="0" lang="en-US" sz="1300" spc="-1" strike="noStrike" u="sng">
                <a:solidFill>
                  <a:srgbClr val="492417"/>
                </a:solidFill>
                <a:uFillTx/>
                <a:latin typeface="Times New Roman"/>
                <a:ea typeface="Arial"/>
              </a:rPr>
              <a:t>&lt;number&gt;</a:t>
            </a:fld>
            <a:endParaRPr b="0" lang="en-US" sz="13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AF8A-0D6E-4403-8A63-C55717CDE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5F84-5805-43C4-B296-7B42923DE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1C4A-9D29-4381-958B-6F3B24E3E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CD5A-3827-4E9F-8F41-6989C4152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C173D-6611-4C08-9A53-EFABC49B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308A4-88DF-41A4-9BF5-46C51EF3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0855F-9DE7-40F0-8EB4-D46D6C5E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7AEC1-4DCD-4614-8602-5BF7A9FF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BDF57-C5CD-4F50-97CF-0ED370BC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040" y="151920"/>
            <a:ext cx="670572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9E9F0-02AC-4D81-8EFA-1B2B61E0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6A94-8EB4-4FED-96EA-22EFE5A8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AAF6-96C4-4D84-81C6-ECBC85ABE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30BF3-91D8-42F6-87E4-0C66C32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790E5-60AA-4BD7-8A42-79A96C0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2C0A1-F6A9-4ED5-BA20-F15BE7EA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1810F-667F-4D31-96DA-82E2F57F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F35BA-68A6-45CC-BDF4-1914D66D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19FC-6DB7-4C2F-A851-4582E58E5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C6CA-8808-4205-B479-6B0D06E80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DAE1-7221-4D84-86BA-641510E66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151920"/>
            <a:ext cx="670572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C95E-9D47-409F-A073-08A16A24E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D265-0DA7-43BA-80F3-B824325D6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A3A2-7211-4922-AD64-ED4167D8F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96A3-1676-4065-A4BA-8D4FE7120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6387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13C1E105-4872-49AD-BE62-B45B4418F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E159-4574-492E-B196-ED73AE29CDA0}" type="slidenum">
              <a:rPr b="0" lang="en-US" sz="1400" spc="-1" strike="noStrike">
                <a:solidFill>
                  <a:srgbClr val="492417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BE15599E-1D21-4629-9508-79ACDEF12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urposes of nursing the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55720" y="1752120"/>
            <a:ext cx="3925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uide nursing practice and generates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or explain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able nurses to kn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are do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294"/>
          <p:cNvPicPr/>
          <p:nvPr/>
        </p:nvPicPr>
        <p:blipFill>
          <a:blip r:embed="rId1"/>
          <a:stretch/>
        </p:blipFill>
        <p:spPr>
          <a:xfrm>
            <a:off x="0" y="1600200"/>
            <a:ext cx="4343400" cy="457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312198D8-1965-4BD9-B524-201F5C674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trends that influence nursi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55720" y="1752120"/>
            <a:ext cx="3925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nursing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ing research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nscf_logo"/>
          <p:cNvPicPr/>
          <p:nvPr/>
        </p:nvPicPr>
        <p:blipFill>
          <a:blip r:embed="rId1"/>
          <a:stretch/>
        </p:blipFill>
        <p:spPr>
          <a:xfrm>
            <a:off x="0" y="2630520"/>
            <a:ext cx="4572000" cy="268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75248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03640" y="914040"/>
            <a:ext cx="4706640" cy="44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ing nurses who despise  theory are condemned </a:t>
            </a:r>
            <a:r>
              <a:rPr b="0" lang="ar-IQ" sz="3200" spc="-1" strike="noStrike">
                <a:solidFill>
                  <a:srgbClr val="000000"/>
                </a:solidFill>
                <a:latin typeface="Arial"/>
              </a:rPr>
              <a:t>مدا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ing a series of tasks - either at the command of a physician or in response to routines and polic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4c3dsbuq[1]"/>
          <p:cNvPicPr/>
          <p:nvPr/>
        </p:nvPicPr>
        <p:blipFill>
          <a:blip r:embed="rId1"/>
          <a:stretch/>
        </p:blipFill>
        <p:spPr>
          <a:xfrm>
            <a:off x="304920" y="0"/>
            <a:ext cx="199872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380880" y="1604880"/>
            <a:ext cx="182880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A9E70E26-BCCB-48E7-8F8C-26314F04B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commonalities </a:t>
            </a:r>
            <a:r>
              <a:rPr b="0" lang="ar-IQ" sz="3600" spc="-1" strike="noStrike">
                <a:solidFill>
                  <a:srgbClr val="000000"/>
                </a:solidFill>
                <a:latin typeface="Arial"/>
              </a:rPr>
              <a:t>القواسم المشت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phenomenon or occur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1-s2"/>
          <p:cNvPicPr/>
          <p:nvPr/>
        </p:nvPicPr>
        <p:blipFill>
          <a:blip r:embed="rId1"/>
          <a:stretch/>
        </p:blipFill>
        <p:spPr>
          <a:xfrm>
            <a:off x="5334120" y="1143000"/>
            <a:ext cx="342108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227B2F2D-A84A-43AD-A681-AF4E9A543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0" name="Місце для нижнього колонтитула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/Elements of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хема 1" descr=""/>
          <p:cNvPicPr/>
          <p:nvPr/>
        </p:nvPicPr>
        <p:blipFill>
          <a:blip r:embed="rId1"/>
          <a:stretch/>
        </p:blipFill>
        <p:spPr>
          <a:xfrm>
            <a:off x="371520" y="1712880"/>
            <a:ext cx="8186760" cy="4419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71A5DB4B-0CED-499A-ABEB-D6667BC45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/Elements of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хема 1" descr=""/>
          <p:cNvPicPr/>
          <p:nvPr/>
        </p:nvPicPr>
        <p:blipFill>
          <a:blip r:embed="rId1"/>
          <a:stretch/>
        </p:blipFill>
        <p:spPr>
          <a:xfrm>
            <a:off x="-176040" y="1743120"/>
            <a:ext cx="9223200" cy="436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152280"/>
            <a:ext cx="175104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EF47FA77-FB34-4CC9-BDC6-D7C54E3F3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/Elements of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хема 1" descr=""/>
          <p:cNvPicPr/>
          <p:nvPr/>
        </p:nvPicPr>
        <p:blipFill>
          <a:blip r:embed="rId1"/>
          <a:stretch/>
        </p:blipFill>
        <p:spPr>
          <a:xfrm>
            <a:off x="262080" y="1596960"/>
            <a:ext cx="8497800" cy="4883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9303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995FFC1A-E8BA-4FBC-A857-90937E9BC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a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, logical and coh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derly reasoning,no contradi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e structuring of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images of one’s experiences and create different ways of looking at a particular event or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ntative in nature ( change over time or evolving but some remain valid despite passage of tim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8334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A8402A74-E9D7-4DB8-A3B5-4E926F9FF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a theory develo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хема 1" descr=""/>
          <p:cNvPicPr/>
          <p:nvPr/>
        </p:nvPicPr>
        <p:blipFill>
          <a:blip r:embed="rId1"/>
          <a:stretch/>
        </p:blipFill>
        <p:spPr>
          <a:xfrm>
            <a:off x="237960" y="1755720"/>
            <a:ext cx="8277480" cy="457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0FBCD5DD-C0DC-4873-9775-E58FC4A8E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1" name="Місце для нижнього колонтитула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a theory develo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200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Research    theory or inductiv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evolve from research findings or empirical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ory     research    the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s developed by other disciplines are utilized but given unique nursing perspective.  Original theory examined and given a new research finding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590920" y="4114800"/>
            <a:ext cx="457200" cy="0"/>
          </a:xfrm>
          <a:prstGeom prst="line">
            <a:avLst/>
          </a:prstGeom>
          <a:ln w="9360">
            <a:solidFill>
              <a:srgbClr val="4924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4648320" y="4114800"/>
            <a:ext cx="380880" cy="0"/>
          </a:xfrm>
          <a:prstGeom prst="line">
            <a:avLst/>
          </a:prstGeom>
          <a:ln w="9360">
            <a:solidFill>
              <a:srgbClr val="4924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048120" y="2057400"/>
            <a:ext cx="380880" cy="0"/>
          </a:xfrm>
          <a:prstGeom prst="line">
            <a:avLst/>
          </a:prstGeom>
          <a:ln w="9360">
            <a:solidFill>
              <a:srgbClr val="4924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177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0" y="25560"/>
            <a:ext cx="190512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21546F7F-4B0A-483A-BC67-1224308F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bstract level of knowledge. In nursing this is main concepts that encompasses  the subject matter and the scope of the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concepts of person, environment, health and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D99EAB28-1C35-4BDC-B071-2EDB53D47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nursing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92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nd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road and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ddle-range theories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specific phenomena and reflec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ptive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irst level of theor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criptive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ddress nursing interventions and predict their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267440" cy="441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44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EC142322-CA7F-4B97-A3F3-3FFB55366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level which specifies the definitions of the metaparadigm concepts in each of the conceptual models of nur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ingale is considered philosophic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these philosophies theory maybe form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5B649B46-883C-4384-A817-76CD0B679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ptual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s or paradigms that provide a  broad frame of reference for the systematic approaches to the phenomena with which the discipline is conce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ifferent views nursing like Roy focuses on adaptation, King on interaction and Abdellah on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6EA34F36-A409-4F30-9C5A-5B7C5F4AC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Загнутий кут 1"/>
          <p:cNvSpPr/>
          <p:nvPr/>
        </p:nvSpPr>
        <p:spPr>
          <a:xfrm>
            <a:off x="838080" y="1981080"/>
            <a:ext cx="8077320" cy="2819520"/>
          </a:xfrm>
          <a:prstGeom prst="foldedCorner">
            <a:avLst>
              <a:gd name="adj" fmla="val 16666"/>
            </a:avLst>
          </a:prstGeom>
          <a:solidFill>
            <a:srgbClr val="dbd8cf"/>
          </a:solidFill>
          <a:ln w="9360">
            <a:solidFill>
              <a:srgbClr val="492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492417"/>
                </a:solidFill>
                <a:uFillTx/>
                <a:latin typeface="Arial"/>
              </a:rPr>
              <a:t>Group of related concepts that propose actions that guide practice</a:t>
            </a: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193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DA42A0DB-2F25-4951-93B6-11B058C00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ursing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Загнутий кут 1"/>
          <p:cNvSpPr/>
          <p:nvPr/>
        </p:nvSpPr>
        <p:spPr>
          <a:xfrm>
            <a:off x="609480" y="2209680"/>
            <a:ext cx="8077320" cy="2819520"/>
          </a:xfrm>
          <a:prstGeom prst="foldedCorner">
            <a:avLst>
              <a:gd name="adj" fmla="val 16666"/>
            </a:avLst>
          </a:prstGeom>
          <a:solidFill>
            <a:srgbClr val="dbd8cf"/>
          </a:solidFill>
          <a:ln w="9360">
            <a:solidFill>
              <a:srgbClr val="492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92417"/>
                </a:solidFill>
                <a:uFillTx/>
                <a:latin typeface="Arial"/>
              </a:rPr>
              <a:t>Group of related concepts that derived from the nursing models. Some derive from other  nursing discipline like LEininger which comes from anthropology</a:t>
            </a:r>
            <a:endParaRPr b="0" lang="en-US" sz="3600" spc="-1" strike="noStrike" u="sng">
              <a:solidFill>
                <a:srgbClr val="492417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492417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197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9233A198-422C-44D5-9078-E6185CCF9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s of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guides and improve nursing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provides goal for nursing care and with goals, nursing practice is rendered more effective and 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s help to focus the goals, making nurses more confident about the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1FD1D211-796B-4BA7-884E-C3FD03D36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s of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ory guides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Meleis, primary use of theory is to guide research. It validates and modifies the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ory contributes to the development of the disciplines body of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ory enhance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524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9276B514-C6E9-45FD-A066-66D7A4A6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 of Knowledg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28" descr="3-2"/>
          <p:cNvPicPr/>
          <p:nvPr/>
        </p:nvPicPr>
        <p:blipFill>
          <a:blip r:embed="rId1"/>
          <a:stretch/>
        </p:blipFill>
        <p:spPr>
          <a:xfrm>
            <a:off x="1333440" y="2297160"/>
            <a:ext cx="6096240" cy="3254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288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BEF68B99-4FA8-47F7-B272-4C1DB15A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11" name="Місце для нижнього колонтитула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1091416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215" name="WordArt 6" descr=""/>
          <p:cNvPicPr/>
          <p:nvPr/>
        </p:nvPicPr>
        <p:blipFill>
          <a:blip r:embed="rId2"/>
          <a:stretch/>
        </p:blipFill>
        <p:spPr>
          <a:xfrm>
            <a:off x="298440" y="5029200"/>
            <a:ext cx="5114880" cy="1689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Users\hp\Desktop\disktop files\شعار.jpg"/>
          <p:cNvPicPr/>
          <p:nvPr/>
        </p:nvPicPr>
        <p:blipFill>
          <a:blip r:embed="rId3"/>
          <a:stretch/>
        </p:blipFill>
        <p:spPr>
          <a:xfrm>
            <a:off x="76320" y="81000"/>
            <a:ext cx="144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F16AEBD8-FCD0-4CA1-A4BE-2677D2002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on earth do we study nursing the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56080" y="1676160"/>
            <a:ext cx="4687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day practice enriche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ractice and theory are guided by values and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helps to reframe our thinking about nu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guides use of ideas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can close the gap between theory an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vision 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تصو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who_2"/>
          <p:cNvPicPr/>
          <p:nvPr/>
        </p:nvPicPr>
        <p:blipFill>
          <a:blip r:embed="rId1"/>
          <a:stretch/>
        </p:blipFill>
        <p:spPr>
          <a:xfrm>
            <a:off x="0" y="1676520"/>
            <a:ext cx="4419720" cy="420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44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B9EE3FB6-84B2-4541-BE69-00A4A7A21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nurses use theory in everyday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92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pat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pat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pat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decisions about nursing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patien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outcomes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ligood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euoverviewrecovery"/>
          <p:cNvPicPr/>
          <p:nvPr/>
        </p:nvPicPr>
        <p:blipFill>
          <a:blip r:embed="rId1"/>
          <a:stretch/>
        </p:blipFill>
        <p:spPr>
          <a:xfrm>
            <a:off x="4444920" y="1371600"/>
            <a:ext cx="4222800" cy="5257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9303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957E761D-FA4F-42B6-A69B-F79F502BC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0" name="Місце для нижнього колонтитула 5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student nurses begin to use nursing the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55720" y="1752120"/>
            <a:ext cx="3925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sking yourself two very important questions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eco_006"/>
          <p:cNvPicPr/>
          <p:nvPr/>
        </p:nvPicPr>
        <p:blipFill>
          <a:blip r:embed="rId1"/>
          <a:stretch/>
        </p:blipFill>
        <p:spPr>
          <a:xfrm>
            <a:off x="0" y="2093760"/>
            <a:ext cx="4724280" cy="371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736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Місце для номера слайда 5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38BCCD5D-0E83-42E3-A318-775E641B3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6" name="Місце для нижнього колонтитула 6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 nurs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752480"/>
            <a:ext cx="392616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knowledge needed for the practice of nur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3997080"/>
            <a:ext cx="3926160" cy="20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it mean to me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r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Student%20nurses%2040s"/>
          <p:cNvPicPr/>
          <p:nvPr/>
        </p:nvPicPr>
        <p:blipFill>
          <a:blip r:embed="rId1"/>
          <a:stretch/>
        </p:blipFill>
        <p:spPr>
          <a:xfrm>
            <a:off x="4495680" y="13716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752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F58A1277-D7A3-46DC-8158-30B7C3CD7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rsing also utilizes non-nursing the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med017b%20tlc"/>
          <p:cNvPicPr/>
          <p:nvPr/>
        </p:nvPicPr>
        <p:blipFill>
          <a:blip r:embed="rId1"/>
          <a:stretch/>
        </p:blipFill>
        <p:spPr>
          <a:xfrm>
            <a:off x="914400" y="1371600"/>
            <a:ext cx="7924680" cy="548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238B5933-3840-46A6-B13D-8C9CE00B5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used non-nursing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55720" y="1752120"/>
            <a:ext cx="3925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Human Needs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and Wellnes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al 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cholarly_pc"/>
          <p:cNvPicPr/>
          <p:nvPr/>
        </p:nvPicPr>
        <p:blipFill>
          <a:blip r:embed="rId1"/>
          <a:stretch/>
        </p:blipFill>
        <p:spPr>
          <a:xfrm>
            <a:off x="185760" y="1447920"/>
            <a:ext cx="4289400" cy="5181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2C5F5C9B-214B-465E-B127-E9BC354B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link between nursing theory and the research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provides direction for nursing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 of components in a theory help to drive the research questions for understanding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question_marks"/>
          <p:cNvPicPr/>
          <p:nvPr/>
        </p:nvPicPr>
        <p:blipFill>
          <a:blip r:embed="rId1"/>
          <a:stretch/>
        </p:blipFill>
        <p:spPr>
          <a:xfrm>
            <a:off x="5745240" y="1828800"/>
            <a:ext cx="3389400" cy="419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288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hp</cp:lastModifiedBy>
  <cp:lastPrinted>2001-01-26T20:09:44Z</cp:lastPrinted>
  <dcterms:modified xsi:type="dcterms:W3CDTF">2016-03-05T08:34:53Z</dcterms:modified>
  <cp:revision>108</cp:revision>
  <dc:subject/>
  <dc:title>Chapter 3</dc:title>
</cp:coreProperties>
</file>