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75C476-C4BD-4ABE-B0A8-9693BCE7C0D6}" type="slidenum">
              <a:rPr b="0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136782-9A0E-4243-999A-9929DDAACF17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. Major concepts may not be  present in the theory but a main concept is usually presnt and the author is us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for that example Orem’s Self Care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EFE925-E58B-4774-8F69-5CC162D8E384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ories used using the practice theory strategy evolved from clinical practice. Example Orlando’s nursing proces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2CBD2B-4057-4A0B-B7EA-8CA33D277024}" type="slidenum">
              <a:rPr b="0" lang="en-US" sz="1300" spc="-1" strike="noStrike" u="sng">
                <a:solidFill>
                  <a:srgbClr val="492417"/>
                </a:solidFill>
                <a:uFillTx/>
                <a:latin typeface="Times New Roman"/>
                <a:ea typeface="Arial"/>
              </a:rPr>
              <a:t>&lt;number&gt;</a:t>
            </a:fld>
            <a:endParaRPr b="0" lang="en-US" sz="13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7226-8452-4429-86AF-4EF66FFD1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AB05-FB0A-47FA-A2F0-AA01F5D1F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C665-AB40-4321-BE17-806E10B0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AE56-9B01-45FD-B934-02D822433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5FC39-3715-4D6C-91DE-DDEB8A0C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EBE3A-6191-449F-B73D-01C121A3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F4CBC-426B-491C-B554-AC55B0F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ECB45-3F63-4B93-9304-6E3E683A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D76B-F280-4F5D-B7E1-93BC2D3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151920"/>
            <a:ext cx="67057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9A27-2429-4B60-9912-2C875255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9D42F-05D1-47D5-942F-60FB0619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200F-F08D-491C-BE7A-B8610D4F0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967E-B5CD-40EF-B0AE-C892C47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799BC-63E1-4504-9036-5D60216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A19C3-4DAF-496C-A73D-9F77B84D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7D2A-5A97-455C-B3CD-52F0557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EE152-25E6-4C42-AF4C-F511A95F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FF7A-CEE7-4E16-8277-FF0A982E1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AB65-F3B2-432F-A7C3-4A484D865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2872-E8B0-4A66-869B-01817461B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151920"/>
            <a:ext cx="670572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B9B6-76E0-4ACB-8BD0-B4430C9E9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1B64-66BE-4C5C-90C5-D53838126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0DF4-17FC-4034-BDD0-C6FF78519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DF91-336C-45B5-B254-779790E10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6387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7D192CF0-684E-471E-9FC9-CC22FEC46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13F-35DB-4A7A-A3FA-E19305088175}" type="slidenum">
              <a:rPr b="0" lang="en-US" sz="1400" spc="-1" strike="noStrike">
                <a:solidFill>
                  <a:srgbClr val="492417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3C959FAC-E423-42AB-AF88-FA340B27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s of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uide nursing practice and generate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or explain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nurses to kn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are do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294"/>
          <p:cNvPicPr/>
          <p:nvPr/>
        </p:nvPicPr>
        <p:blipFill>
          <a:blip r:embed="rId1"/>
          <a:stretch/>
        </p:blipFill>
        <p:spPr>
          <a:xfrm>
            <a:off x="0" y="16002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D1E7875E-08CE-4819-9126-74962D14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trends that influence nurs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nurs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ing research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nscf_logo"/>
          <p:cNvPicPr/>
          <p:nvPr/>
        </p:nvPicPr>
        <p:blipFill>
          <a:blip r:embed="rId1"/>
          <a:stretch/>
        </p:blipFill>
        <p:spPr>
          <a:xfrm>
            <a:off x="0" y="2630520"/>
            <a:ext cx="457200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03640" y="914040"/>
            <a:ext cx="4706640" cy="44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nurses who despise  theory are condemned </a:t>
            </a:r>
            <a:r>
              <a:rPr b="0" lang="ar-IQ" sz="3200" spc="-1" strike="noStrike">
                <a:solidFill>
                  <a:srgbClr val="000000"/>
                </a:solidFill>
                <a:latin typeface="Arial"/>
              </a:rPr>
              <a:t>مد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ing a series of tasks - either at the command of a physician or in response to routines and polic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4c3dsbuq[1]"/>
          <p:cNvPicPr/>
          <p:nvPr/>
        </p:nvPicPr>
        <p:blipFill>
          <a:blip r:embed="rId1"/>
          <a:stretch/>
        </p:blipFill>
        <p:spPr>
          <a:xfrm>
            <a:off x="304920" y="0"/>
            <a:ext cx="19987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380880" y="1604880"/>
            <a:ext cx="182880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FEAF3162-5DD6-47F4-93B7-1771D8E8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mmonalities </a:t>
            </a:r>
            <a:r>
              <a:rPr b="0" lang="ar-IQ" sz="3600" spc="-1" strike="noStrike">
                <a:solidFill>
                  <a:srgbClr val="000000"/>
                </a:solidFill>
                <a:latin typeface="Arial"/>
              </a:rPr>
              <a:t>القواسم المشت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phenomenon or 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1-s2"/>
          <p:cNvPicPr/>
          <p:nvPr/>
        </p:nvPicPr>
        <p:blipFill>
          <a:blip r:embed="rId1"/>
          <a:stretch/>
        </p:blipFill>
        <p:spPr>
          <a:xfrm>
            <a:off x="5334120" y="1143000"/>
            <a:ext cx="342108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332E160A-E30F-42B1-A2C2-9F75AFC3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371520" y="1712880"/>
            <a:ext cx="8186760" cy="441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4BA4F9EC-A7F5-4E6B-A27F-FBEBC034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хема 1" descr=""/>
          <p:cNvPicPr/>
          <p:nvPr/>
        </p:nvPicPr>
        <p:blipFill>
          <a:blip r:embed="rId1"/>
          <a:stretch/>
        </p:blipFill>
        <p:spPr>
          <a:xfrm>
            <a:off x="-176040" y="1743120"/>
            <a:ext cx="9223200" cy="436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152280"/>
            <a:ext cx="17510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8CEF0DAA-C8A1-4450-BBA0-2DC34F3F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/Element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хема 1" descr=""/>
          <p:cNvPicPr/>
          <p:nvPr/>
        </p:nvPicPr>
        <p:blipFill>
          <a:blip r:embed="rId1"/>
          <a:stretch/>
        </p:blipFill>
        <p:spPr>
          <a:xfrm>
            <a:off x="262080" y="1596960"/>
            <a:ext cx="8497800" cy="488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9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98AA4663-578E-42F3-BF43-5CDDDC96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a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, logical and 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derly reasoning,no contrad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structuring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images of one’s experiences and create different ways of looking at a particular event or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ntative in nature ( change over time or evolving but some remain valid despite passage of ti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833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03E0879C-9308-43F6-92F7-8022B5EE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a theory devel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хема 1" descr=""/>
          <p:cNvPicPr/>
          <p:nvPr/>
        </p:nvPicPr>
        <p:blipFill>
          <a:blip r:embed="rId1"/>
          <a:stretch/>
        </p:blipFill>
        <p:spPr>
          <a:xfrm>
            <a:off x="237960" y="1755720"/>
            <a:ext cx="8277480" cy="457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FEE2CAB8-E30C-48BA-A7CD-313DBF21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1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a theory devel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20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Research    theory or inductiv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evolve from research findings or empirical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ory     research    the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developed by other disciplines are utilized but given unique nursing perspective.  Original theory examined and given a new research finding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590920" y="4114800"/>
            <a:ext cx="45720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648320" y="4114800"/>
            <a:ext cx="38088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048120" y="2057400"/>
            <a:ext cx="380880" cy="0"/>
          </a:xfrm>
          <a:prstGeom prst="line">
            <a:avLst/>
          </a:prstGeom>
          <a:ln w="9360">
            <a:solidFill>
              <a:srgbClr val="4924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77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0" y="25560"/>
            <a:ext cx="190512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6D3A156-DD21-4732-96F9-A7A78884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bstract level of knowledge. In nursing this is main concepts that encompasses  the subject matter and the scope of the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concepts of person, environment, health and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4CCD6AB7-81B4-40D7-B4BC-61E0A3D3A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nursing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92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nd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road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ddle-range theories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specific phenomena and reflec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ve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irst level of theor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criptive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ddress nursing interventions and predict their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0BD9DBFF-94E3-44A4-B05B-510F90DB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level which specifies the definitions of the metaparadigm concepts in each of the conceptual models of nur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ingale is considered philosophic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these philosophies theory maybe form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8D527590-DEF2-4FCD-BD9C-44A79677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ua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s or paradigms that provide a  broad frame of reference for the systematic approaches to the phenomena with which the discipline is conce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fferent views nursing like Roy focuses on adaptation, King on interaction and Abdellah on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C458E0A1-7C3F-44EF-A4D2-DEDE1EFA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Загнутий кут 1"/>
          <p:cNvSpPr/>
          <p:nvPr/>
        </p:nvSpPr>
        <p:spPr>
          <a:xfrm>
            <a:off x="838080" y="1981080"/>
            <a:ext cx="8077320" cy="2819520"/>
          </a:xfrm>
          <a:prstGeom prst="foldedCorner">
            <a:avLst>
              <a:gd name="adj" fmla="val 16666"/>
            </a:avLst>
          </a:prstGeom>
          <a:solidFill>
            <a:srgbClr val="dbd8cf"/>
          </a:solidFill>
          <a:ln w="9360">
            <a:solidFill>
              <a:srgbClr val="492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92417"/>
                </a:solidFill>
                <a:uFillTx/>
                <a:latin typeface="Arial"/>
              </a:rPr>
              <a:t>Group of related concepts that propose actions that guide practice</a:t>
            </a: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93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114C2ED5-D29A-46F7-94F6-037FDE5F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ursing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нутий кут 1"/>
          <p:cNvSpPr/>
          <p:nvPr/>
        </p:nvSpPr>
        <p:spPr>
          <a:xfrm>
            <a:off x="609480" y="2209680"/>
            <a:ext cx="8077320" cy="2819520"/>
          </a:xfrm>
          <a:prstGeom prst="foldedCorner">
            <a:avLst>
              <a:gd name="adj" fmla="val 16666"/>
            </a:avLst>
          </a:prstGeom>
          <a:solidFill>
            <a:srgbClr val="dbd8cf"/>
          </a:solidFill>
          <a:ln w="9360">
            <a:solidFill>
              <a:srgbClr val="492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92417"/>
                </a:solidFill>
                <a:uFillTx/>
                <a:latin typeface="Arial"/>
              </a:rPr>
              <a:t>Group of related concepts that derived from the nursing models. Some derive from other  nursing discipline like LEininger which comes from anthropology</a:t>
            </a: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197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DF46B8AC-7770-48DB-B56E-8C408098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guides and improve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provides goal for nursing care and with goals, nursing practice is rendered more effective and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help to focus the goals, making nurses more confident about the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87181DFB-32EE-49F2-A5D1-F577C23A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s of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ory guide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Meleis, primary use of theory is to guide research. It validates and modifies the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ory contributes to the development of the disciplines body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ory enhance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320" y="81000"/>
            <a:ext cx="1752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62AF926-76A0-44DA-89DB-DDCEEA51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of Knowledg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28" descr="3-2"/>
          <p:cNvPicPr/>
          <p:nvPr/>
        </p:nvPicPr>
        <p:blipFill>
          <a:blip r:embed="rId1"/>
          <a:stretch/>
        </p:blipFill>
        <p:spPr>
          <a:xfrm>
            <a:off x="1333440" y="2297160"/>
            <a:ext cx="6096240" cy="3254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28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5BFE0A7D-1057-4940-B7E2-E267E84C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1" name="Місце для нижнього колонтитула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1091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15" name="WordArt 6" descr=""/>
          <p:cNvPicPr/>
          <p:nvPr/>
        </p:nvPicPr>
        <p:blipFill>
          <a:blip r:embed="rId2"/>
          <a:stretch/>
        </p:blipFill>
        <p:spPr>
          <a:xfrm>
            <a:off x="298440" y="5029200"/>
            <a:ext cx="5114880" cy="1689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hp\Desktop\disktop files\شعار.jpg"/>
          <p:cNvPicPr/>
          <p:nvPr/>
        </p:nvPicPr>
        <p:blipFill>
          <a:blip r:embed="rId3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2FA412BE-863A-4D9D-A293-0D7C29BCE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on earth do we study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56080" y="1676160"/>
            <a:ext cx="46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day practice enriche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ractice and theory are guided by values and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helps to reframe our thinking about 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guides use of idea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can close the gap between theory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vision 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تصو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who_2"/>
          <p:cNvPicPr/>
          <p:nvPr/>
        </p:nvPicPr>
        <p:blipFill>
          <a:blip r:embed="rId1"/>
          <a:stretch/>
        </p:blipFill>
        <p:spPr>
          <a:xfrm>
            <a:off x="0" y="1676520"/>
            <a:ext cx="4419720" cy="420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44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6635320B-9109-4983-BB04-A78854589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nurses use theory in everyday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92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pat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 about nursing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pati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outcomes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ligood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euoverviewrecovery"/>
          <p:cNvPicPr/>
          <p:nvPr/>
        </p:nvPicPr>
        <p:blipFill>
          <a:blip r:embed="rId1"/>
          <a:stretch/>
        </p:blipFill>
        <p:spPr>
          <a:xfrm>
            <a:off x="4444920" y="1371600"/>
            <a:ext cx="4222800" cy="5257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9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B8013423-1F91-407F-91CE-6212DB18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0" name="Місце для нижнього колонтитула 5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student nurses begin to use nursing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sking yourself two very important question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eco_006"/>
          <p:cNvPicPr/>
          <p:nvPr/>
        </p:nvPicPr>
        <p:blipFill>
          <a:blip r:embed="rId1"/>
          <a:stretch/>
        </p:blipFill>
        <p:spPr>
          <a:xfrm>
            <a:off x="0" y="2093760"/>
            <a:ext cx="4724280" cy="371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36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Місце для номера слайда 5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5C9DCEEE-30E1-404E-9658-BB22DE16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6" name="Місце для нижнього колонтитула 6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 nurs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752480"/>
            <a:ext cx="392616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knowledge needed for the practice of nur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3997080"/>
            <a:ext cx="3926160" cy="20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mean to me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r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Student%20nurses%2040s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B548D845-4928-4731-B431-9D7D86E9E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ing also utilizes non-nursing the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ed017b%20tlc"/>
          <p:cNvPicPr/>
          <p:nvPr/>
        </p:nvPicPr>
        <p:blipFill>
          <a:blip r:embed="rId1"/>
          <a:stretch/>
        </p:blipFill>
        <p:spPr>
          <a:xfrm>
            <a:off x="914400" y="1371600"/>
            <a:ext cx="792468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A470F622-BBF1-410F-8168-D7C2605B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used non-nursing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55720" y="1752120"/>
            <a:ext cx="392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uman Need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and Welln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cholarly_pc"/>
          <p:cNvPicPr/>
          <p:nvPr/>
        </p:nvPicPr>
        <p:blipFill>
          <a:blip r:embed="rId1"/>
          <a:stretch/>
        </p:blipFill>
        <p:spPr>
          <a:xfrm>
            <a:off x="185760" y="1447920"/>
            <a:ext cx="4289400" cy="518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334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омера слайда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618F1475-ABC4-4E0D-BBAD-97B4639D9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link between nursing theory and the research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provides direction for nurs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 of components in a theory help to drive the research questions for understanding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question_marks"/>
          <p:cNvPicPr/>
          <p:nvPr/>
        </p:nvPicPr>
        <p:blipFill>
          <a:blip r:embed="rId1"/>
          <a:stretch/>
        </p:blipFill>
        <p:spPr>
          <a:xfrm>
            <a:off x="5745240" y="1828800"/>
            <a:ext cx="3389400" cy="41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hp\Desktop\disktop files\شعار.jpg"/>
          <p:cNvPicPr/>
          <p:nvPr/>
        </p:nvPicPr>
        <p:blipFill>
          <a:blip r:embed="rId2"/>
          <a:stretch/>
        </p:blipFill>
        <p:spPr>
          <a:xfrm>
            <a:off x="76320" y="81000"/>
            <a:ext cx="1828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hp</cp:lastModifiedBy>
  <cp:lastPrinted>2001-01-26T20:09:44Z</cp:lastPrinted>
  <dcterms:modified xsi:type="dcterms:W3CDTF">2016-03-05T08:34:53Z</dcterms:modified>
  <cp:revision>108</cp:revision>
  <dc:subject/>
  <dc:title>Chapter 3</dc:title>
</cp:coreProperties>
</file>