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BC26-92C4-4744-9896-2E0CA4E318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CCBB-2261-4945-837D-AE991C832FD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C0EE-B3B1-4316-B5B4-58268794D5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FBCA-E171-40EC-BD8A-E4E87F3F71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DEE2-8105-4949-A5CC-6277A29488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253D-CBDA-4EFC-A25F-B4F39F9B7F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7189-5B06-4AA1-96B4-293537F93D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9A70-951D-4A31-82BB-2B8AD54DE1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9382-9A2B-44E0-BB03-86BD834F96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1997-DE10-433A-832C-745BE0CD33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F824-EFBF-4196-9161-6B149357A3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DCE7-0C28-4A0D-BE1C-306538BFF4C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F70D-6AEE-4849-A9CC-E836C9D5DE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EA9-188C-48AE-A857-DF652B8041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665-BE99-4BA3-923B-B0365A77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478-CFE3-4877-9E88-1B1412D8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480-261F-463B-BD2E-81E56D22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9ED-415F-4864-BC26-2470669C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EF607-AC2B-4620-8BF7-2B792F3A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057C1-DADF-4A96-8B6A-1AE79339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268EF-4906-42BD-98A6-F042D3D5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9DDD4-5E6C-4A1B-8804-7090E957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93950-4108-49B6-B267-9EBC0CC7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51750-DD70-44A0-8EDE-F8C51AEF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B4AAD-5257-4D92-89DC-AC78D2CE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08F-B726-4C2B-AEC3-69B40E0E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4790B-DBAB-47F3-B5BC-1D46B97E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CD39-828B-47A1-A444-D9F8E14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E7F47-BB6C-485D-9469-6BFE441C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CC2FC-B6FE-4E96-9582-29C63E3E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5ACEF-7260-4B69-B446-A77F9E0D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C6A-FE54-46C1-8C43-DA630BB3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8DA-6CDA-47E4-9C67-32B4E511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CC2-FF9D-4C36-98D3-4BC8757D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1CC-5CD0-4E7A-999C-0A296570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F25-0AE3-4D16-A126-0873EC2F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2C3-94DC-482F-ACED-2D0D9285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E40-E680-4A19-B7DC-21FB4BB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4A00-6D05-4348-B4BA-A4BF012CA25D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0A04-9FB2-46E6-9430-1AA22E6312C4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609480"/>
            <a:ext cx="8229600" cy="3353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Physiological Functions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Of</a:t>
            </a: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White Blood cells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Dr. Ghusoon Ghanem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E7CE-BF6D-4B06-9E0B-63FFFA1D25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971800" y="0"/>
            <a:ext cx="28954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Pluripotent stem cel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15000" y="685800"/>
            <a:ext cx="274320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ymphoid stem cel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76212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oid stem cel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Rectangle 7"/>
          <p:cNvSpPr/>
          <p:nvPr/>
        </p:nvSpPr>
        <p:spPr>
          <a:xfrm flipH="1">
            <a:off x="457200" y="16002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ony Forming Unit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/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80880" y="2514600"/>
            <a:ext cx="1981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osinophilic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yel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80880" y="3733920"/>
            <a:ext cx="2057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ophilic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yel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Rectangle 10"/>
          <p:cNvSpPr/>
          <p:nvPr/>
        </p:nvSpPr>
        <p:spPr>
          <a:xfrm flipH="1">
            <a:off x="2895480" y="1676520"/>
            <a:ext cx="14479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utrophi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ocyt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62" name="AutoShape 12"/>
          <p:cNvCxnSpPr>
            <a:stCxn id="158" idx="3"/>
            <a:endCxn id="161" idx="1"/>
          </p:cNvCxnSpPr>
          <p:nvPr/>
        </p:nvCxnSpPr>
        <p:spPr>
          <a:xfrm>
            <a:off x="2362320" y="1904760"/>
            <a:ext cx="519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13"/>
          <p:cNvCxnSpPr>
            <a:stCxn id="157" idx="1"/>
            <a:endCxn id="160" idx="1"/>
          </p:cNvCxnSpPr>
          <p:nvPr/>
        </p:nvCxnSpPr>
        <p:spPr>
          <a:xfrm flipH="1" flipV="1" rot="10800000">
            <a:off x="303840" y="990360"/>
            <a:ext cx="76680" cy="3124800"/>
          </a:xfrm>
          <a:prstGeom prst="bentConnector3">
            <a:avLst>
              <a:gd name="adj1" fmla="val -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4"/>
          <p:cNvCxnSpPr>
            <a:endCxn id="158" idx="1"/>
          </p:cNvCxnSpPr>
          <p:nvPr/>
        </p:nvCxnSpPr>
        <p:spPr>
          <a:xfrm>
            <a:off x="76320" y="19047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15"/>
          <p:cNvCxnSpPr>
            <a:endCxn id="159" idx="1"/>
          </p:cNvCxnSpPr>
          <p:nvPr/>
        </p:nvCxnSpPr>
        <p:spPr>
          <a:xfrm flipV="1">
            <a:off x="76320" y="2895120"/>
            <a:ext cx="30528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16"/>
          <p:cNvSpPr/>
          <p:nvPr/>
        </p:nvSpPr>
        <p:spPr>
          <a:xfrm flipH="1">
            <a:off x="2895480" y="266688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osinophi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Rectangle 17"/>
          <p:cNvSpPr/>
          <p:nvPr/>
        </p:nvSpPr>
        <p:spPr>
          <a:xfrm flipH="1">
            <a:off x="2895480" y="388620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ophi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68" name="AutoShape 18"/>
          <p:cNvCxnSpPr>
            <a:stCxn id="159" idx="3"/>
            <a:endCxn id="166" idx="1"/>
          </p:cNvCxnSpPr>
          <p:nvPr/>
        </p:nvCxnSpPr>
        <p:spPr>
          <a:xfrm>
            <a:off x="2361960" y="2895120"/>
            <a:ext cx="533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19"/>
          <p:cNvCxnSpPr>
            <a:stCxn id="160" idx="3"/>
            <a:endCxn id="167" idx="1"/>
          </p:cNvCxnSpPr>
          <p:nvPr/>
        </p:nvCxnSpPr>
        <p:spPr>
          <a:xfrm>
            <a:off x="2438280" y="411444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20"/>
          <p:cNvSpPr/>
          <p:nvPr/>
        </p:nvSpPr>
        <p:spPr>
          <a:xfrm>
            <a:off x="6477120" y="3657600"/>
            <a:ext cx="19810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K lymph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6705720" y="1600200"/>
            <a:ext cx="167616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 lymph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629400" y="2514600"/>
            <a:ext cx="17524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 lymph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73" name="AutoShape 23"/>
          <p:cNvCxnSpPr>
            <a:stCxn id="156" idx="3"/>
            <a:endCxn id="170" idx="3"/>
          </p:cNvCxnSpPr>
          <p:nvPr/>
        </p:nvCxnSpPr>
        <p:spPr>
          <a:xfrm>
            <a:off x="8458200" y="914040"/>
            <a:ext cx="2160" cy="2972520"/>
          </a:xfrm>
          <a:prstGeom prst="bentConnector3">
            <a:avLst>
              <a:gd name="adj1" fmla="val 14400000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" name="AutoShape 24"/>
          <p:cNvCxnSpPr>
            <a:endCxn id="171" idx="3"/>
          </p:cNvCxnSpPr>
          <p:nvPr/>
        </p:nvCxnSpPr>
        <p:spPr>
          <a:xfrm flipH="1">
            <a:off x="8381160" y="1828440"/>
            <a:ext cx="30564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5" name="AutoShape 25"/>
          <p:cNvCxnSpPr>
            <a:endCxn id="172" idx="3"/>
          </p:cNvCxnSpPr>
          <p:nvPr/>
        </p:nvCxnSpPr>
        <p:spPr>
          <a:xfrm flipH="1">
            <a:off x="8381160" y="2742840"/>
            <a:ext cx="30564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6" name="Rectangle 26"/>
          <p:cNvSpPr/>
          <p:nvPr/>
        </p:nvSpPr>
        <p:spPr>
          <a:xfrm>
            <a:off x="5029200" y="1600200"/>
            <a:ext cx="167652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ymphocy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4952880" y="2514600"/>
            <a:ext cx="167652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ymphocy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4876920" y="3657600"/>
            <a:ext cx="18288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K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79" name="AutoShape 30"/>
          <p:cNvCxnSpPr>
            <a:stCxn id="155" idx="1"/>
            <a:endCxn id="157" idx="0"/>
          </p:cNvCxnSpPr>
          <p:nvPr/>
        </p:nvCxnSpPr>
        <p:spPr>
          <a:xfrm flipV="1" rot="10800000">
            <a:off x="1675800" y="228240"/>
            <a:ext cx="1276560" cy="534240"/>
          </a:xfrm>
          <a:prstGeom prst="bentConnector2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cxnSp>
        <p:nvCxnSpPr>
          <p:cNvPr id="180" name="AutoShape 31"/>
          <p:cNvCxnSpPr>
            <a:stCxn id="155" idx="3"/>
            <a:endCxn id="156" idx="0"/>
          </p:cNvCxnSpPr>
          <p:nvPr/>
        </p:nvCxnSpPr>
        <p:spPr>
          <a:xfrm>
            <a:off x="5886360" y="228600"/>
            <a:ext cx="1200960" cy="457920"/>
          </a:xfrm>
          <a:prstGeom prst="bentConnector2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181" name="Rectangle 32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Garamond"/>
              </a:rPr>
              <a:t>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Granulocytes and monocytes : formed only in the BONE MARROW  stored in the bone marrow, and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released into circulation.   Lympocytes and Plasma cells also in lymhoid tissue, are stored in lymhoid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tissue . Few released into circula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ff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Various Colony Stimulating factors (CSFs or Growth Inducers)  help in their formation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IL1, IL6 and IL3 (multi CSF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These are proteins in natur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Slide Number Placeholder 2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D24F-F595-4F49-BF23-7F3A4AA831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orders of white blood c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CDC5-2FD0-48D5-8095-BA38D80732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mber of leukocytes, or white blood cells, in the peripheral circulation normally ranges from 4000 to 10,000/μL of blood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erm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leukopenia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escribes an absolute decrease in white blood cell numbers. The disorder may affect any of the specific types of white blood cells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Neutropen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Lymphopen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erm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leukocytosi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describes an absolute increase in in white blood cell numbers and also may affect any of the specific types of white blood cells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Neutrophilia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Eosiniphil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Basophil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Lymphocitos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Monocitos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1752480" y="533520"/>
            <a:ext cx="4496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WBC count: 4000-1100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80880" y="1447920"/>
            <a:ext cx="2667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uocytosis &gt;1100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648320" y="2590920"/>
            <a:ext cx="33526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viral infect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terial infections (typhoid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ne marrow suppre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ugs: antibiotic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ticosteroid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89" name="AutoShape 11"/>
          <p:cNvCxnSpPr>
            <a:stCxn id="186" idx="2"/>
            <a:endCxn id="187" idx="0"/>
          </p:cNvCxnSpPr>
          <p:nvPr/>
        </p:nvCxnSpPr>
        <p:spPr>
          <a:xfrm rot="5400000">
            <a:off x="2666520" y="114120"/>
            <a:ext cx="381960" cy="228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13"/>
          <p:cNvCxnSpPr>
            <a:stCxn id="186" idx="2"/>
          </p:cNvCxnSpPr>
          <p:nvPr/>
        </p:nvCxnSpPr>
        <p:spPr>
          <a:xfrm flipH="1" rot="16200000">
            <a:off x="4818600" y="247320"/>
            <a:ext cx="381960" cy="2019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16"/>
          <p:cNvCxnSpPr>
            <a:stCxn id="192" idx="2"/>
          </p:cNvCxnSpPr>
          <p:nvPr/>
        </p:nvCxnSpPr>
        <p:spPr>
          <a:xfrm>
            <a:off x="6019920" y="2209320"/>
            <a:ext cx="2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17"/>
          <p:cNvSpPr/>
          <p:nvPr/>
        </p:nvSpPr>
        <p:spPr>
          <a:xfrm>
            <a:off x="4800600" y="1447920"/>
            <a:ext cx="2438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uopenia &lt; 400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0" y="2438280"/>
            <a:ext cx="3505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Neutophil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fections, Burns, inflamm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Lymphocyt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Viral infec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Monocy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Viral, fungal infections, TB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hronic diseas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Eosinophil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94" name="AutoShape 22"/>
          <p:cNvCxnSpPr>
            <a:stCxn id="187" idx="2"/>
            <a:endCxn id="193" idx="0"/>
          </p:cNvCxnSpPr>
          <p:nvPr/>
        </p:nvCxnSpPr>
        <p:spPr>
          <a:xfrm>
            <a:off x="1714320" y="1904760"/>
            <a:ext cx="3852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688B-FE41-4F88-BFB9-CD280D6B32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0"/>
            <a:ext cx="47242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ical eg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year child; high fever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n throat; difficulty in swallow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ollen septic tonsil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Times New Roman"/>
              </a:rPr>
              <a:t>TLC 18,50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Times New Roman"/>
              </a:rPr>
              <a:t>DLC: N.  88%; L 10%; E 2%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724280" y="2971800"/>
            <a:ext cx="441972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derly person; exposure to radia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ex of intractable fever and infection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ss of appeti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LC 200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LC: N.  30% L 60%; E 4% 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% other WBC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04920" y="3733920"/>
            <a:ext cx="35812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ukemi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lood cancer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5CD9-0B9B-412D-A77B-41A589A1C4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1"/>
          <p:cNvSpPr/>
          <p:nvPr/>
        </p:nvSpPr>
        <p:spPr>
          <a:xfrm>
            <a:off x="380880" y="533520"/>
            <a:ext cx="8382240" cy="4114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TLC, types of WBC, DL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Description of various types of WBCs and their ac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Phagocytosi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 Development of WBCs and factors associat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. Define leucocytosis/leucopenia with typical exampl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6. Leukemias or blood canc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878D-DA4B-4482-8DA4-BFE82D341D4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3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BB28-E9E2-4021-86E6-B2DEAC7B9E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85800" y="914400"/>
            <a:ext cx="80010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bjectives:   WBC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dentif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different  types of WBC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umerate the functions of the various types of WBC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scribe the steps of formation of WBC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ist the factors required for their maturatio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fer the importance of  total and differential WBC coun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fine  the terms leucocytosis and leucopeni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fine leukemi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3D66-E17F-48F1-8619-10D214273D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ite Blood Cells (WB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19"/>
          <p:cNvPicPr/>
          <p:nvPr/>
        </p:nvPicPr>
        <p:blipFill>
          <a:blip r:embed="rId1"/>
          <a:stretch/>
        </p:blipFill>
        <p:spPr>
          <a:xfrm>
            <a:off x="4648320" y="1828800"/>
            <a:ext cx="3962160" cy="390060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1F32-0CBC-4371-ABB3-96C990BE1A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380880"/>
            <a:ext cx="50292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otal Leucocyte count (TLC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4000-11,000 /</a:t>
            </a:r>
            <a:r>
              <a:rPr b="1" lang="el-GR" sz="24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ypes of WBC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ranulocytes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ntain granul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eutrophils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Eosinophi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asophil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granlocyt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ymphocyt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nocytes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fferential count: DL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eutrophils    60-70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ymphocytes  20-25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nocytes         3-8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Eosinophils       1-4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asophils          0-1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1905120" y="762120"/>
            <a:ext cx="72388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</a:rPr>
              <a:t>Neutrophils  60-70%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</a:rPr>
              <a:t>10-12 </a:t>
            </a: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µ in size; </a:t>
            </a:r>
            <a:r>
              <a:rPr b="1" lang="en-US" sz="1800" spc="-1" strike="noStrike">
                <a:solidFill>
                  <a:srgbClr val="ff9999"/>
                </a:solidFill>
                <a:latin typeface="Times New Roman"/>
              </a:rPr>
              <a:t>2-5 lobed nucleus; Older the cell more the lobes-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Times New Roman"/>
              </a:rPr>
              <a:t>(polymorphonuclear</a:t>
            </a: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 leukocytes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Small colored  granules which contain enzymes, Defensins, oxidant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Action: by Phagocytosi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Life span: a few hrs: </a:t>
            </a: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4-8 hrs in blood; 4-5 days in tissu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Fast response; neutrophilia in bacterial diseases; neutropenia in drug toxicit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6" descr="19"/>
          <p:cNvPicPr/>
          <p:nvPr/>
        </p:nvPicPr>
        <p:blipFill>
          <a:blip r:embed="rId1"/>
          <a:srcRect l="71692" t="0" r="0" b="67974"/>
          <a:stretch/>
        </p:blipFill>
        <p:spPr>
          <a:xfrm>
            <a:off x="0" y="838080"/>
            <a:ext cx="184644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9"/>
          <p:cNvPicPr/>
          <p:nvPr/>
        </p:nvPicPr>
        <p:blipFill>
          <a:blip r:embed="rId2"/>
          <a:srcRect l="2521" t="0" r="70970" b="70092"/>
          <a:stretch/>
        </p:blipFill>
        <p:spPr>
          <a:xfrm>
            <a:off x="228600" y="30481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1905120" y="2971800"/>
            <a:ext cx="72388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osinophils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0-4%; 10-12 µ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i-lobed nucleus; coarse acidophilic  granul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hagocytose antigen-antibody complexes; destroy parasit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Granules contain  various enzymes : MB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ncrease in allergic conditions; decrease during stress-corticoids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9" descr="19"/>
          <p:cNvPicPr/>
          <p:nvPr/>
        </p:nvPicPr>
        <p:blipFill>
          <a:blip r:embed="rId3"/>
          <a:srcRect l="40331" t="1643" r="35491" b="72156"/>
          <a:stretch/>
        </p:blipFill>
        <p:spPr>
          <a:xfrm>
            <a:off x="228600" y="4952880"/>
            <a:ext cx="1428840" cy="1524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1752480" y="4876920"/>
            <a:ext cx="72392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ophils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-1%  8-10 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cleus usually bi-lobed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rge deep purple colored granules which often cover the nucleu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rete heparin, serotonin, histamine: help in inflamma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3000" y="0"/>
            <a:ext cx="80010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Granulocyt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A7E9-9CE2-42D3-8D30-BB2DFD10D0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9246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granular WB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252-6106-4666-81CB-926AF1C4BC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7" name="Picture 4" descr="19"/>
          <p:cNvPicPr/>
          <p:nvPr/>
        </p:nvPicPr>
        <p:blipFill>
          <a:blip r:embed="rId1"/>
          <a:srcRect l="35491" t="50787" r="33870" b="16454"/>
          <a:stretch/>
        </p:blipFill>
        <p:spPr>
          <a:xfrm>
            <a:off x="0" y="838080"/>
            <a:ext cx="173664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752480" y="990720"/>
            <a:ext cx="7391520" cy="16002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nocyte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2-20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µ;3-8%; circulate in blood for about 20-30 hr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ng life span (many weeks to months) after change into macrophages in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ssu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gle kidney shaped nucleu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gocytosis after converting in to macrophag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Picture 6" descr="19"/>
          <p:cNvPicPr/>
          <p:nvPr/>
        </p:nvPicPr>
        <p:blipFill>
          <a:blip r:embed="rId2"/>
          <a:srcRect l="0" t="50787" r="69361" b="16454"/>
          <a:stretch/>
        </p:blipFill>
        <p:spPr>
          <a:xfrm>
            <a:off x="0" y="3505320"/>
            <a:ext cx="166212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676520" y="3505320"/>
            <a:ext cx="7467480" cy="21333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ymphocyte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-9 µ (small); 10-14 µ (large); 20-25%; mostly formed in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ymhoid tissue; some in bone marrow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cleus surrounded by thin ring of cytoplasm;  long life span inside tissues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only a few hours in bloo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and T lymphocy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mune mechanism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lymphos form plasma cell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tural Killer (NK) cells against viruses, cancer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ysiology and Functions of WB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4876920" cy="6553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Life span: few hours to a few day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They have Major Histocompatibility Antigens on surface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        -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dentification of the “SELF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mbria"/>
              </a:rPr>
              <a:t>Main functions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ombat infection by phagocytosis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mmune  mechanism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99"/>
                </a:solidFill>
                <a:latin typeface="Cambria"/>
              </a:rPr>
              <a:t>Adhesion molecule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Selectins: 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on endothelial cells - attach to CHOn  on neutrophil    surfac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I</a:t>
            </a: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ntegrins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on neutrophils: also make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WBCs   stick to endothelial surface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, &amp;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help them to move out of the blood vessel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When required , they escape from the blood  via capillary pores</a:t>
            </a: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 (emigration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) helped by integrin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enter tissue and have their action there by     </a:t>
            </a: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i="1" lang="en-US" sz="1800" spc="-1" strike="noStrike">
                <a:solidFill>
                  <a:srgbClr val="ff9999"/>
                </a:solidFill>
                <a:latin typeface="Cambria"/>
              </a:rPr>
              <a:t>phagocytosi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3" name="Picture 5" descr="19"/>
          <p:cNvPicPr/>
          <p:nvPr/>
        </p:nvPicPr>
        <p:blipFill>
          <a:blip r:embed="rId1"/>
          <a:srcRect l="6755" t="18519" r="0" b="7406"/>
          <a:stretch/>
        </p:blipFill>
        <p:spPr>
          <a:xfrm>
            <a:off x="4883040" y="1371600"/>
            <a:ext cx="4260960" cy="449568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6C1-8D5D-449F-94EE-AF94F32477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gocytosis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380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inly by neutrophils and monocyt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teps of Phagocytosi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99"/>
                </a:solidFill>
                <a:latin typeface="Cambria"/>
              </a:rPr>
              <a:t>1</a:t>
            </a:r>
            <a:r>
              <a:rPr b="0" lang="en-US" sz="2600" spc="-1" strike="noStrike">
                <a:solidFill>
                  <a:srgbClr val="ff9999"/>
                </a:solidFill>
                <a:latin typeface="Cambria"/>
              </a:rPr>
              <a:t> . 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Chemotaxis</a:t>
            </a:r>
            <a:r>
              <a:rPr b="1" lang="en-US" sz="3000" spc="-1" strike="noStrike">
                <a:solidFill>
                  <a:srgbClr val="000000"/>
                </a:solidFill>
                <a:latin typeface="Cambria"/>
              </a:rPr>
              <a:t> :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ttraction of WBCs to site of infection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romoted b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i.   bacterial toxin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ii. kinins from damaged tissu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iii. CSFs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2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. 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Adherenc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99"/>
                </a:solidFill>
                <a:latin typeface="Cambria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hagocyte attaches to microbe using protein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3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Ingestion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seudopods from WBC surrounds microb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formation of a PHAGOSOM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99"/>
                </a:solidFill>
                <a:latin typeface="Cambria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3C60-4DF9-4BC9-AE62-388E536045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295280" y="7467480"/>
            <a:ext cx="82296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45720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Garamond"/>
              </a:rPr>
              <a:t>4. Diges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hagosome enters cytoplasm of WBC and merges  with LYSOSOME:  Phago-lysosome: secretion of lysozomal enzymes followed by release of oxidants: </a:t>
            </a:r>
            <a:r>
              <a:rPr b="1" lang="en-US" sz="2000" spc="-1" strike="noStrike">
                <a:solidFill>
                  <a:srgbClr val="ff9999"/>
                </a:solidFill>
                <a:latin typeface="Garamond"/>
              </a:rPr>
              <a:t>oxidative burs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1752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Garamond"/>
              </a:rPr>
              <a:t>5. Killing</a:t>
            </a:r>
            <a:r>
              <a:rPr b="1" lang="en-US" sz="2000" spc="-1" strike="noStrike">
                <a:solidFill>
                  <a:srgbClr val="ff9999"/>
                </a:solidFill>
                <a:latin typeface="Garamond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s result of the above. Residual bodies get left behin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228600" y="2362320"/>
            <a:ext cx="6743160" cy="4163760"/>
            <a:chOff x="228600" y="2362320"/>
            <a:chExt cx="6743160" cy="4163760"/>
          </a:xfrm>
        </p:grpSpPr>
        <p:pic>
          <p:nvPicPr>
            <p:cNvPr id="122" name="Picture 12" descr="pap12e_22_09_6"/>
            <p:cNvPicPr/>
            <p:nvPr/>
          </p:nvPicPr>
          <p:blipFill>
            <a:blip r:embed="rId1"/>
            <a:stretch/>
          </p:blipFill>
          <p:spPr>
            <a:xfrm>
              <a:off x="228600" y="2362320"/>
              <a:ext cx="6350760" cy="41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Line 13"/>
            <p:cNvSpPr/>
            <p:nvPr/>
          </p:nvSpPr>
          <p:spPr>
            <a:xfrm>
              <a:off x="973080" y="4338000"/>
              <a:ext cx="10875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4687920" y="3358080"/>
              <a:ext cx="662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 flipV="1">
              <a:off x="1058760" y="3741840"/>
              <a:ext cx="57456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1757160" y="2877840"/>
              <a:ext cx="1598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 flipV="1">
              <a:off x="4405320" y="4978440"/>
              <a:ext cx="9450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3698640" y="4615200"/>
              <a:ext cx="1651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 flipV="1">
              <a:off x="918720" y="4583160"/>
              <a:ext cx="1659600" cy="9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781920" y="4848840"/>
              <a:ext cx="866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Oval 21"/>
            <p:cNvSpPr/>
            <p:nvPr/>
          </p:nvSpPr>
          <p:spPr>
            <a:xfrm>
              <a:off x="367200" y="2773080"/>
              <a:ext cx="18504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1946880" y="279792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icrob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0320" y="2788200"/>
              <a:ext cx="1186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HEMOTAXI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Rectangle 24"/>
            <p:cNvSpPr/>
            <p:nvPr/>
          </p:nvSpPr>
          <p:spPr>
            <a:xfrm>
              <a:off x="299880" y="4254120"/>
              <a:ext cx="88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Lysosom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Rectangle 25"/>
            <p:cNvSpPr/>
            <p:nvPr/>
          </p:nvSpPr>
          <p:spPr>
            <a:xfrm>
              <a:off x="297000" y="5430240"/>
              <a:ext cx="7930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igestiv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zyme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Rectangle 26"/>
            <p:cNvSpPr/>
            <p:nvPr/>
          </p:nvSpPr>
          <p:spPr>
            <a:xfrm>
              <a:off x="293400" y="3918960"/>
              <a:ext cx="96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seudopo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Rectangle 27"/>
            <p:cNvSpPr/>
            <p:nvPr/>
          </p:nvSpPr>
          <p:spPr>
            <a:xfrm>
              <a:off x="5401440" y="3280680"/>
              <a:ext cx="90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hagocyt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Rectangle 28"/>
            <p:cNvSpPr/>
            <p:nvPr/>
          </p:nvSpPr>
          <p:spPr>
            <a:xfrm>
              <a:off x="582120" y="3615840"/>
              <a:ext cx="112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DHERENC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Rectangle 29"/>
            <p:cNvSpPr/>
            <p:nvPr/>
          </p:nvSpPr>
          <p:spPr>
            <a:xfrm>
              <a:off x="2402280" y="3553200"/>
              <a:ext cx="98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GES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Rectangle 30"/>
            <p:cNvSpPr/>
            <p:nvPr/>
          </p:nvSpPr>
          <p:spPr>
            <a:xfrm>
              <a:off x="298440" y="4758120"/>
              <a:ext cx="9014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lasm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Rectangle 31"/>
            <p:cNvSpPr/>
            <p:nvPr/>
          </p:nvSpPr>
          <p:spPr>
            <a:xfrm>
              <a:off x="3391560" y="4235760"/>
              <a:ext cx="98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IGES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Rectangle 32"/>
            <p:cNvSpPr/>
            <p:nvPr/>
          </p:nvSpPr>
          <p:spPr>
            <a:xfrm>
              <a:off x="3501720" y="502380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KILLI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Rectangle 33"/>
            <p:cNvSpPr/>
            <p:nvPr/>
          </p:nvSpPr>
          <p:spPr>
            <a:xfrm>
              <a:off x="5406120" y="4915800"/>
              <a:ext cx="1216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esidual body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(indigestibl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aterial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Rectangle 34"/>
            <p:cNvSpPr/>
            <p:nvPr/>
          </p:nvSpPr>
          <p:spPr>
            <a:xfrm>
              <a:off x="5409000" y="4541040"/>
              <a:ext cx="1562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igested microb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 phagolysosom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>
              <a:off x="1757160" y="2889000"/>
              <a:ext cx="159840" cy="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Oval 36"/>
            <p:cNvSpPr/>
            <p:nvPr/>
          </p:nvSpPr>
          <p:spPr>
            <a:xfrm>
              <a:off x="367200" y="3593880"/>
              <a:ext cx="18504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Oval 37"/>
            <p:cNvSpPr/>
            <p:nvPr/>
          </p:nvSpPr>
          <p:spPr>
            <a:xfrm>
              <a:off x="2194920" y="3537360"/>
              <a:ext cx="18540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Oval 38"/>
            <p:cNvSpPr/>
            <p:nvPr/>
          </p:nvSpPr>
          <p:spPr>
            <a:xfrm>
              <a:off x="3178440" y="4221000"/>
              <a:ext cx="18540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Oval 39"/>
            <p:cNvSpPr/>
            <p:nvPr/>
          </p:nvSpPr>
          <p:spPr>
            <a:xfrm>
              <a:off x="3300120" y="5003280"/>
              <a:ext cx="18540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Rectangle 40"/>
            <p:cNvSpPr/>
            <p:nvPr/>
          </p:nvSpPr>
          <p:spPr>
            <a:xfrm>
              <a:off x="2287440" y="6312600"/>
              <a:ext cx="20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hases of phagocytosi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51" name="Slide Number Placeholder 3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3F52-52F2-44E2-8EDE-BC4FB49747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mation of WBCs:  Hemopoie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19_03"/>
          <p:cNvPicPr/>
          <p:nvPr/>
        </p:nvPicPr>
        <p:blipFill>
          <a:blip r:embed="rId1"/>
          <a:stretch/>
        </p:blipFill>
        <p:spPr>
          <a:xfrm>
            <a:off x="838080" y="914400"/>
            <a:ext cx="6553440" cy="56833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1409-D845-4AC2-99A5-6DFB10A8ED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</cp:lastModifiedBy>
  <dcterms:modified xsi:type="dcterms:W3CDTF">2016-01-12T17:39:20Z</dcterms:modified>
  <cp:revision>111</cp:revision>
  <dc:subject/>
  <dc:title>PowerPoint Presentation</dc:title>
</cp:coreProperties>
</file>