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A002-4F35-456C-8835-C8F7A66EB5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2BA6-7A59-4A1C-94E0-B41A67C0780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34B3-E4F9-4C68-971B-7BC74D50093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C253-81CB-472F-8D6E-A7CB5AFC783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806B-378B-407E-93A9-A781DF095E2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2D44-929B-403C-97B0-9D0A61DA0CF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17B9-22EF-445F-98D4-B1913CC15C2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EE54-FCBA-4AE6-9F9F-AC6FAFC8944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FB68-576D-4105-AC39-7729D05F1A5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4B9B-A76F-41DE-AEAC-7D34DE4BD38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3A87-6964-445E-9711-DB3A73610F0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2C86-490B-41AE-9749-6EA0E4D80B3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75F9-000E-47F9-9CE6-BC853851E78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6F70-5593-492A-BDDB-572DFE459EC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029-4756-4412-AB00-0438A8AA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63A-8122-49AD-B2BF-AE86A39E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00FA-AE71-482B-A109-13A223B4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A49-FE6D-4E54-85D9-418A4E19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E00F3-B9A5-475D-9011-F10A02E4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C31F7-940E-41F7-BC4D-0FAD8785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52615-0F7B-4FBA-A9FA-14FEB48A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05BD7-0FBE-4D4E-AF99-E5E63952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C86B5-2449-4B2A-BC15-BB96BA58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2D997-ED42-4DE5-8771-7343305F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B7CC9-823F-4E2F-BECC-A39CA919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D147-240B-4234-92C4-246DF05F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B80C5-92C2-4F0E-A2C2-E5C779B3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106CC-43C2-4961-B2CB-D2BE4355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2256F-DC7B-4FFD-BA48-456FE62F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56836-4BBD-4945-B719-407297AA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1C8E5-564B-4DC4-A82A-F4F31960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D38-61E9-4554-83AA-91A0542D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043E-53E8-45A4-84DB-C013946A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17A2-DB9E-482D-89EC-27F63810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98B-F934-4AD3-9423-A02549B1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4C08-6956-4041-9DE7-6B45A6D3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361-5CD4-48F1-AAED-933CCDD0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FB21-8EE5-4EBF-B2DC-8164D09F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107F-EF08-494E-BA9F-F5CC177102D0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CAA6-90BB-4448-866E-E6931AB9D81C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609480"/>
            <a:ext cx="8229600" cy="33530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 Black"/>
              </a:rPr>
              <a:t>Physiological Functions</a:t>
            </a:r>
            <a:endParaRPr b="0" lang="en-US" sz="31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 rtl="1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Black"/>
              </a:rPr>
              <a:t>Of</a:t>
            </a:r>
            <a:r>
              <a:rPr b="1" lang="en-US" sz="31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 rtl="1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Black"/>
              </a:rPr>
              <a:t>White Blood cells</a:t>
            </a:r>
            <a:endParaRPr b="0" lang="en-US" sz="31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 rtl="1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 rtl="1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 rtl="1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ctr" rtl="1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 Black"/>
              </a:rPr>
              <a:t>Dr. Ghusoon Ghanem</a:t>
            </a:r>
            <a:endParaRPr b="0" lang="en-US" sz="3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6602-F553-4B56-9474-91CB77F919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2971800" y="0"/>
            <a:ext cx="2895480" cy="457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imes New Roman"/>
              </a:rPr>
              <a:t>Pluripotent stem cel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715000" y="685800"/>
            <a:ext cx="274320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ymphoid stem cel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04920" y="76212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eloid stem cell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Rectangle 7"/>
          <p:cNvSpPr/>
          <p:nvPr/>
        </p:nvSpPr>
        <p:spPr>
          <a:xfrm flipH="1">
            <a:off x="457200" y="1600200"/>
            <a:ext cx="19051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ony Forming Unit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/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380880" y="2514600"/>
            <a:ext cx="1981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osinophilic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yeloblas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380880" y="3733920"/>
            <a:ext cx="20574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sophilic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yeloblas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Rectangle 10"/>
          <p:cNvSpPr/>
          <p:nvPr/>
        </p:nvSpPr>
        <p:spPr>
          <a:xfrm flipH="1">
            <a:off x="2895480" y="1676520"/>
            <a:ext cx="144792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utrophi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nocyt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62" name="AutoShape 12"/>
          <p:cNvCxnSpPr>
            <a:stCxn id="158" idx="3"/>
            <a:endCxn id="161" idx="1"/>
          </p:cNvCxnSpPr>
          <p:nvPr/>
        </p:nvCxnSpPr>
        <p:spPr>
          <a:xfrm>
            <a:off x="2362320" y="1904760"/>
            <a:ext cx="519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AutoShape 13"/>
          <p:cNvCxnSpPr>
            <a:stCxn id="157" idx="1"/>
            <a:endCxn id="160" idx="1"/>
          </p:cNvCxnSpPr>
          <p:nvPr/>
        </p:nvCxnSpPr>
        <p:spPr>
          <a:xfrm flipH="1" flipV="1" rot="10800000">
            <a:off x="303840" y="990360"/>
            <a:ext cx="76680" cy="3124800"/>
          </a:xfrm>
          <a:prstGeom prst="bentConnector3">
            <a:avLst>
              <a:gd name="adj1" fmla="val -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AutoShape 14"/>
          <p:cNvCxnSpPr>
            <a:endCxn id="158" idx="1"/>
          </p:cNvCxnSpPr>
          <p:nvPr/>
        </p:nvCxnSpPr>
        <p:spPr>
          <a:xfrm>
            <a:off x="76320" y="19047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AutoShape 15"/>
          <p:cNvCxnSpPr>
            <a:endCxn id="159" idx="1"/>
          </p:cNvCxnSpPr>
          <p:nvPr/>
        </p:nvCxnSpPr>
        <p:spPr>
          <a:xfrm flipV="1">
            <a:off x="76320" y="2895120"/>
            <a:ext cx="30528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Rectangle 16"/>
          <p:cNvSpPr/>
          <p:nvPr/>
        </p:nvSpPr>
        <p:spPr>
          <a:xfrm flipH="1">
            <a:off x="2895480" y="2666880"/>
            <a:ext cx="1447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osinophi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Rectangle 17"/>
          <p:cNvSpPr/>
          <p:nvPr/>
        </p:nvSpPr>
        <p:spPr>
          <a:xfrm flipH="1">
            <a:off x="2895480" y="3886200"/>
            <a:ext cx="1447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asophi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68" name="AutoShape 18"/>
          <p:cNvCxnSpPr>
            <a:stCxn id="159" idx="3"/>
            <a:endCxn id="166" idx="1"/>
          </p:cNvCxnSpPr>
          <p:nvPr/>
        </p:nvCxnSpPr>
        <p:spPr>
          <a:xfrm>
            <a:off x="2361960" y="2895120"/>
            <a:ext cx="533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AutoShape 19"/>
          <p:cNvCxnSpPr>
            <a:stCxn id="160" idx="3"/>
            <a:endCxn id="167" idx="1"/>
          </p:cNvCxnSpPr>
          <p:nvPr/>
        </p:nvCxnSpPr>
        <p:spPr>
          <a:xfrm>
            <a:off x="2438280" y="4114440"/>
            <a:ext cx="4579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Rectangle 20"/>
          <p:cNvSpPr/>
          <p:nvPr/>
        </p:nvSpPr>
        <p:spPr>
          <a:xfrm>
            <a:off x="6477120" y="3657600"/>
            <a:ext cx="198108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K lymphoblas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Rectangle 21"/>
          <p:cNvSpPr/>
          <p:nvPr/>
        </p:nvSpPr>
        <p:spPr>
          <a:xfrm>
            <a:off x="6705720" y="1600200"/>
            <a:ext cx="167616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 lymphoblas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Rectangle 22"/>
          <p:cNvSpPr/>
          <p:nvPr/>
        </p:nvSpPr>
        <p:spPr>
          <a:xfrm>
            <a:off x="6629400" y="2514600"/>
            <a:ext cx="1752480" cy="457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 lymphoblas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73" name="AutoShape 23"/>
          <p:cNvCxnSpPr>
            <a:stCxn id="156" idx="3"/>
            <a:endCxn id="170" idx="3"/>
          </p:cNvCxnSpPr>
          <p:nvPr/>
        </p:nvCxnSpPr>
        <p:spPr>
          <a:xfrm>
            <a:off x="8458200" y="914040"/>
            <a:ext cx="2160" cy="2972520"/>
          </a:xfrm>
          <a:prstGeom prst="bentConnector3">
            <a:avLst>
              <a:gd name="adj1" fmla="val 14400000"/>
            </a:avLst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4" name="AutoShape 24"/>
          <p:cNvCxnSpPr>
            <a:endCxn id="171" idx="3"/>
          </p:cNvCxnSpPr>
          <p:nvPr/>
        </p:nvCxnSpPr>
        <p:spPr>
          <a:xfrm flipH="1">
            <a:off x="8381160" y="1828440"/>
            <a:ext cx="305640" cy="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5" name="AutoShape 25"/>
          <p:cNvCxnSpPr>
            <a:endCxn id="172" idx="3"/>
          </p:cNvCxnSpPr>
          <p:nvPr/>
        </p:nvCxnSpPr>
        <p:spPr>
          <a:xfrm flipH="1">
            <a:off x="8381160" y="2742840"/>
            <a:ext cx="305640" cy="108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76" name="Rectangle 26"/>
          <p:cNvSpPr/>
          <p:nvPr/>
        </p:nvSpPr>
        <p:spPr>
          <a:xfrm>
            <a:off x="5029200" y="1600200"/>
            <a:ext cx="167652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lymphocyt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Rectangle 27"/>
          <p:cNvSpPr/>
          <p:nvPr/>
        </p:nvSpPr>
        <p:spPr>
          <a:xfrm>
            <a:off x="4952880" y="2514600"/>
            <a:ext cx="167652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lymphocyt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Rectangle 28"/>
          <p:cNvSpPr/>
          <p:nvPr/>
        </p:nvSpPr>
        <p:spPr>
          <a:xfrm>
            <a:off x="4876920" y="3657600"/>
            <a:ext cx="1828800" cy="533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NK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79" name="AutoShape 30"/>
          <p:cNvCxnSpPr>
            <a:stCxn id="155" idx="1"/>
            <a:endCxn id="157" idx="0"/>
          </p:cNvCxnSpPr>
          <p:nvPr/>
        </p:nvCxnSpPr>
        <p:spPr>
          <a:xfrm flipV="1" rot="10800000">
            <a:off x="1675800" y="228240"/>
            <a:ext cx="1276560" cy="534240"/>
          </a:xfrm>
          <a:prstGeom prst="bentConnector2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cxnSp>
        <p:nvCxnSpPr>
          <p:cNvPr id="180" name="AutoShape 31"/>
          <p:cNvCxnSpPr>
            <a:stCxn id="155" idx="3"/>
            <a:endCxn id="156" idx="0"/>
          </p:cNvCxnSpPr>
          <p:nvPr/>
        </p:nvCxnSpPr>
        <p:spPr>
          <a:xfrm>
            <a:off x="5886360" y="228600"/>
            <a:ext cx="1200960" cy="457920"/>
          </a:xfrm>
          <a:prstGeom prst="bentConnector2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sp>
        <p:nvSpPr>
          <p:cNvPr id="181" name="Rectangle 32"/>
          <p:cNvSpPr/>
          <p:nvPr/>
        </p:nvSpPr>
        <p:spPr>
          <a:xfrm>
            <a:off x="0" y="4572000"/>
            <a:ext cx="9144000" cy="2286000"/>
          </a:xfrm>
          <a:prstGeom prst="rect">
            <a:avLst/>
          </a:prstGeom>
          <a:solidFill>
            <a:srgbClr val="806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99"/>
                </a:solidFill>
                <a:latin typeface="Garamond"/>
              </a:rPr>
              <a:t>  </a:t>
            </a: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Granulocytes and monocytes : formed only in the BONE MARROW  stored in the bone marrow, and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    </a:t>
            </a: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released into circulation.   Lympocytes and Plasma cells also in lymhoid tissue, are stored in lymhoid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    </a:t>
            </a: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tissue . Few released into circulatio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ff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  </a:t>
            </a: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Various Colony Stimulating factors (CSFs or Growth Inducers)  help in their formation: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    </a:t>
            </a: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IL1, IL6 and IL3 (multi CSF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     </a:t>
            </a:r>
            <a:r>
              <a:rPr b="1" lang="en-US" sz="1600" spc="-1" strike="noStrike">
                <a:solidFill>
                  <a:srgbClr val="ff9999"/>
                </a:solidFill>
                <a:latin typeface="Garamond"/>
              </a:rPr>
              <a:t>These are proteins in natur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Slide Number Placeholder 2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4DC7-2FB2-4B83-8947-A93121F5334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orders of white blood ce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عنصر نائب لرقم الشريحة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7FA2-C1C1-4CDA-A014-8618A3AEA3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93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number of leukocytes, or white blood cells, in the peripheral circulation normally ranges from 4000 to 10,000/μL of blood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term </a:t>
            </a: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leukopenia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describes an absolute decrease in white blood cell numbers. The disorder may affect any of the specific types of white blood cells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Neutropeni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Lymphopeni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e term </a:t>
            </a: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leukocytosis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describes an absolute increase in in white blood cell numbers and also may affect any of the specific types of white blood cells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Neutrophilia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Eosiniphili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Basophili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Lymphocitosi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Arial"/>
              </a:rPr>
              <a:t>Monocitosi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1752480" y="533520"/>
            <a:ext cx="44960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mal WBC count: 4000-1100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80880" y="1447920"/>
            <a:ext cx="2667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uocytosis &gt;1100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4648320" y="2590920"/>
            <a:ext cx="335268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 viral infect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cterial infections (typhoid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ne marrow suppre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ugs: antibiotic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ticosteroid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89" name="AutoShape 11"/>
          <p:cNvCxnSpPr>
            <a:stCxn id="186" idx="2"/>
            <a:endCxn id="187" idx="0"/>
          </p:cNvCxnSpPr>
          <p:nvPr/>
        </p:nvCxnSpPr>
        <p:spPr>
          <a:xfrm rot="5400000">
            <a:off x="2666520" y="114120"/>
            <a:ext cx="381960" cy="228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13"/>
          <p:cNvCxnSpPr>
            <a:stCxn id="186" idx="2"/>
          </p:cNvCxnSpPr>
          <p:nvPr/>
        </p:nvCxnSpPr>
        <p:spPr>
          <a:xfrm flipH="1" rot="16200000">
            <a:off x="4818600" y="247320"/>
            <a:ext cx="381960" cy="20199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AutoShape 16"/>
          <p:cNvCxnSpPr>
            <a:stCxn id="192" idx="2"/>
          </p:cNvCxnSpPr>
          <p:nvPr/>
        </p:nvCxnSpPr>
        <p:spPr>
          <a:xfrm>
            <a:off x="6019920" y="2209320"/>
            <a:ext cx="216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17"/>
          <p:cNvSpPr/>
          <p:nvPr/>
        </p:nvSpPr>
        <p:spPr>
          <a:xfrm>
            <a:off x="4800600" y="1447920"/>
            <a:ext cx="24382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uopenia &lt; 400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Rectangle 21"/>
          <p:cNvSpPr/>
          <p:nvPr/>
        </p:nvSpPr>
        <p:spPr>
          <a:xfrm>
            <a:off x="0" y="2438280"/>
            <a:ext cx="35053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99"/>
                </a:solidFill>
                <a:latin typeface="Garamond"/>
              </a:rPr>
              <a:t>Neutophil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fections, Burns, inflamma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99"/>
                </a:solidFill>
                <a:latin typeface="Garamond"/>
              </a:rPr>
              <a:t>Lymphocyt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Viral infectio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99"/>
                </a:solidFill>
                <a:latin typeface="Garamond"/>
              </a:rPr>
              <a:t>Monocy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Viral, fungal infections, TB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hronic diseas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99"/>
                </a:solidFill>
                <a:latin typeface="Garamond"/>
              </a:rPr>
              <a:t>Eosinophil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94" name="AutoShape 22"/>
          <p:cNvCxnSpPr>
            <a:stCxn id="187" idx="2"/>
            <a:endCxn id="193" idx="0"/>
          </p:cNvCxnSpPr>
          <p:nvPr/>
        </p:nvCxnSpPr>
        <p:spPr>
          <a:xfrm>
            <a:off x="1714320" y="1904760"/>
            <a:ext cx="38520" cy="533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Slide Number Placeholder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4207-20D5-4B26-8998-F867EDDC32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0" y="0"/>
            <a:ext cx="472428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ypical eg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 year child; high fever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in throat; difficulty in swallowi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ollen septic tonsil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Times New Roman"/>
              </a:rPr>
              <a:t>TLC 18,500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Times New Roman"/>
              </a:rPr>
              <a:t>DLC: N.  88%; L 10%; E 2%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724280" y="2971800"/>
            <a:ext cx="441972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lderly person; exposure to radiat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ex of intractable fever and infections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oss of appeti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LC 2000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LC: N.  30% L 60%; E 4% 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% other WBC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04920" y="3733920"/>
            <a:ext cx="358128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ukemia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lood cancer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DD0C-BBE6-444A-9ED4-341B2E1998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1"/>
          <p:cNvSpPr/>
          <p:nvPr/>
        </p:nvSpPr>
        <p:spPr>
          <a:xfrm>
            <a:off x="380880" y="533520"/>
            <a:ext cx="8382240" cy="4114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 TLC, types of WBC, DL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 Description of various types of WBCs and their actio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 Phagocytosi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. Development of WBCs and factors associat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. Define leucocytosis/leucopenia with typical exampl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6. Leukemias or blood canc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0959-7711-487A-A50B-D075E33384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44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03" name="عنصر نائب لرقم الشريحة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B93E-3702-47EF-B887-A1F5AF54C2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685800" y="914400"/>
            <a:ext cx="800100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Objectives:   WBC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dentif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he different  types of WBC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numerate the functions of the various types of WBC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escribe the steps of formation of WBC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List the factors required for their maturation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fer the importance of  total and differential WBC coun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efine  the terms leucocytosis and leucopeni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457200" indent="-457200"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efine leukemi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A392-F8E5-4949-8114-837448348C6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White Blood Cells (WBC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19"/>
          <p:cNvPicPr/>
          <p:nvPr/>
        </p:nvPicPr>
        <p:blipFill>
          <a:blip r:embed="rId1"/>
          <a:stretch/>
        </p:blipFill>
        <p:spPr>
          <a:xfrm>
            <a:off x="4648320" y="1828800"/>
            <a:ext cx="3962160" cy="3900600"/>
          </a:xfrm>
          <a:prstGeom prst="rect">
            <a:avLst/>
          </a:prstGeom>
          <a:ln w="0">
            <a:noFill/>
          </a:ln>
        </p:spPr>
      </p:pic>
      <p:sp>
        <p:nvSpPr>
          <p:cNvPr id="95" name="Slide Number Placeholder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1F07-0C5C-4A69-BB38-6985E9CC755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0" y="380880"/>
            <a:ext cx="50292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Total Leucocyte count (TLC)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4000-11,000 /</a:t>
            </a:r>
            <a:r>
              <a:rPr b="1" lang="el-GR" sz="2400" spc="-1" strike="noStrike">
                <a:solidFill>
                  <a:srgbClr val="ffff00"/>
                </a:solidFill>
                <a:latin typeface="Garamond"/>
              </a:rPr>
              <a:t>μ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Types of WBC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Granulocytes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ontain granul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eutrophils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Eosinophil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Basophils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granlocyt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ymphocyt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Monocytes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ifferential count: DL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eutrophils    60-70%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ymphocytes  20-25%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Monocytes         3-8%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 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Eosinophils       1-4%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     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Basophils          0-1%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1905120" y="762120"/>
            <a:ext cx="723888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Times New Roman"/>
              </a:rPr>
              <a:t>Neutrophils  60-70%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Times New Roman"/>
              </a:rPr>
              <a:t>10-12 </a:t>
            </a:r>
            <a:r>
              <a:rPr b="1" lang="en-US" sz="1600" spc="-1" strike="noStrike">
                <a:solidFill>
                  <a:srgbClr val="ff9999"/>
                </a:solidFill>
                <a:latin typeface="Times New Roman"/>
                <a:ea typeface="Times New Roman"/>
              </a:rPr>
              <a:t>µ in size; </a:t>
            </a:r>
            <a:r>
              <a:rPr b="1" lang="en-US" sz="1800" spc="-1" strike="noStrike">
                <a:solidFill>
                  <a:srgbClr val="ff9999"/>
                </a:solidFill>
                <a:latin typeface="Times New Roman"/>
              </a:rPr>
              <a:t>2-5 lobed nucleus; Older the cell more the lobes-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99"/>
                </a:solidFill>
                <a:latin typeface="Times New Roman"/>
              </a:rPr>
              <a:t>(polymorphonuclear</a:t>
            </a:r>
            <a:r>
              <a:rPr b="1" lang="en-US" sz="1600" spc="-1" strike="noStrike">
                <a:solidFill>
                  <a:srgbClr val="ff9999"/>
                </a:solidFill>
                <a:latin typeface="Times New Roman"/>
                <a:ea typeface="Times New Roman"/>
              </a:rPr>
              <a:t> leukocytes)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Times New Roman"/>
                <a:ea typeface="Times New Roman"/>
              </a:rPr>
              <a:t>Small colored  granules which contain enzymes, Defensins, oxidant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Times New Roman"/>
                <a:ea typeface="Times New Roman"/>
              </a:rPr>
              <a:t>Action: by Phagocytosi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Times New Roman"/>
                <a:ea typeface="Times New Roman"/>
              </a:rPr>
              <a:t>Life span: a few hrs: </a:t>
            </a:r>
            <a:r>
              <a:rPr b="1" lang="en-US" sz="1800" spc="-1" strike="noStrike">
                <a:solidFill>
                  <a:srgbClr val="ff9999"/>
                </a:solidFill>
                <a:latin typeface="Garamond"/>
              </a:rPr>
              <a:t>4-8 hrs in blood; 4-5 days in tissu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99"/>
                </a:solidFill>
                <a:latin typeface="Times New Roman"/>
                <a:ea typeface="Times New Roman"/>
              </a:rPr>
              <a:t>Fast response; neutrophilia in bacterial diseases; neutropenia in drug toxicity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6" descr="19"/>
          <p:cNvPicPr/>
          <p:nvPr/>
        </p:nvPicPr>
        <p:blipFill>
          <a:blip r:embed="rId1"/>
          <a:srcRect l="71692" t="0" r="0" b="67974"/>
          <a:stretch/>
        </p:blipFill>
        <p:spPr>
          <a:xfrm>
            <a:off x="0" y="838080"/>
            <a:ext cx="1846440" cy="2057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19"/>
          <p:cNvPicPr/>
          <p:nvPr/>
        </p:nvPicPr>
        <p:blipFill>
          <a:blip r:embed="rId2"/>
          <a:srcRect l="2521" t="0" r="70970" b="70092"/>
          <a:stretch/>
        </p:blipFill>
        <p:spPr>
          <a:xfrm>
            <a:off x="228600" y="30481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1905120" y="2971800"/>
            <a:ext cx="723888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osinophils  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0-4%; 10-12 µ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Bi-lobed nucleus; coarse acidophilic  granule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Phagocytose antigen-antibody complexes; destroy parasite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Granules contain  various enzymes : MB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ncrease in allergic conditions; decrease during stress-corticoids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1" name="Picture 9" descr="19"/>
          <p:cNvPicPr/>
          <p:nvPr/>
        </p:nvPicPr>
        <p:blipFill>
          <a:blip r:embed="rId3"/>
          <a:srcRect l="40331" t="1643" r="35491" b="72156"/>
          <a:stretch/>
        </p:blipFill>
        <p:spPr>
          <a:xfrm>
            <a:off x="228600" y="4952880"/>
            <a:ext cx="1428840" cy="15242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1752480" y="4876920"/>
            <a:ext cx="723924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ophils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-1%  8-10 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cleus usually bi-lobed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rge deep purple colored granules which often cover the nucleu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rete heparin, serotonin, histamine: help in inflammatio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1143000" y="0"/>
            <a:ext cx="8001000" cy="609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Granulocyt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Slide Number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69AA-D2D1-494D-A490-3787BC5C48F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9246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granular WB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1515-F9E8-4084-AB11-8A9512ACC69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7" name="Picture 4" descr="19"/>
          <p:cNvPicPr/>
          <p:nvPr/>
        </p:nvPicPr>
        <p:blipFill>
          <a:blip r:embed="rId1"/>
          <a:srcRect l="35491" t="50787" r="33870" b="16454"/>
          <a:stretch/>
        </p:blipFill>
        <p:spPr>
          <a:xfrm>
            <a:off x="0" y="838080"/>
            <a:ext cx="1736640" cy="1828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752480" y="990720"/>
            <a:ext cx="7391520" cy="1600200"/>
          </a:xfrm>
          <a:prstGeom prst="rect">
            <a:avLst/>
          </a:prstGeom>
          <a:solidFill>
            <a:srgbClr val="7f7f7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onocyte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2-20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µ;3-8%; circulate in blood for about 20-30 hrs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ng life span (many weeks to months) after change into macrophages in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issu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ngle kidney shaped nucleu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agocytosis after converting in to macrophag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9" name="Picture 6" descr="19"/>
          <p:cNvPicPr/>
          <p:nvPr/>
        </p:nvPicPr>
        <p:blipFill>
          <a:blip r:embed="rId2"/>
          <a:srcRect l="0" t="50787" r="69361" b="16454"/>
          <a:stretch/>
        </p:blipFill>
        <p:spPr>
          <a:xfrm>
            <a:off x="0" y="3505320"/>
            <a:ext cx="166212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1676520" y="3505320"/>
            <a:ext cx="7467480" cy="21333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ymphocyte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-9 µ (small); 10-14 µ (large); 20-25%; mostly formed in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ymhoid tissue; some in bone marrow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cleus surrounded by thin ring of cytoplasm;  long life span inside tissues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t only a few hours in bloo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and T lymphocy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mune mechanism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 lymphos form plasma cell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tural Killer (NK) cells against viruses, cancer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ysiology and Functions of WB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304560"/>
            <a:ext cx="4876920" cy="6553080"/>
          </a:xfrm>
          <a:prstGeom prst="rect">
            <a:avLst/>
          </a:prstGeom>
          <a:solidFill>
            <a:srgbClr val="c3d69b"/>
          </a:solidFill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Life span: few hours to a few day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r" rtl="1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They have Major Histocompatibility Antigens on surface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        -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Identification of the “SELF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r" rtl="1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mbria"/>
              </a:rPr>
              <a:t>Main functions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r" rtl="1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combat infection by phagocytosis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r" rtl="1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immune  mechanism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r" rtl="1">
              <a:lnSpc>
                <a:spcPct val="70000"/>
              </a:lnSpc>
              <a:spcBef>
                <a:spcPts val="451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99"/>
                </a:solidFill>
                <a:latin typeface="Cambria"/>
              </a:rPr>
              <a:t>Adhesion molecule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r" rtl="1">
              <a:lnSpc>
                <a:spcPct val="7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Cambria"/>
              </a:rPr>
              <a:t>Selectins:  </a:t>
            </a: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on endothelial cells - attach to CHOn  on neutrophil    surface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r" rtl="1">
              <a:lnSpc>
                <a:spcPct val="7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I</a:t>
            </a:r>
            <a:r>
              <a:rPr b="1" i="1" lang="en-US" sz="1800" spc="-1" strike="noStrike">
                <a:solidFill>
                  <a:srgbClr val="ffff00"/>
                </a:solidFill>
                <a:latin typeface="Cambria"/>
              </a:rPr>
              <a:t>ntegrins</a:t>
            </a: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 on neutrophils: also make</a:t>
            </a: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WBCs   stick to endothelial surface</a:t>
            </a: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, &amp;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       </a:t>
            </a: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help them to move out of the blood vessel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r" rtl="1">
              <a:lnSpc>
                <a:spcPct val="7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When required , they escape from the blood  via capillary pores</a:t>
            </a:r>
            <a:r>
              <a:rPr b="1" i="1" lang="en-US" sz="1800" spc="-1" strike="noStrike">
                <a:solidFill>
                  <a:srgbClr val="ffff00"/>
                </a:solidFill>
                <a:latin typeface="Cambria"/>
              </a:rPr>
              <a:t> (emigration</a:t>
            </a: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) helped by integrin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ambria"/>
              </a:rPr>
              <a:t>enter tissue and have their action there by     </a:t>
            </a:r>
            <a:r>
              <a:rPr b="1" i="1" lang="en-US" sz="1800" spc="-1" strike="noStrike">
                <a:solidFill>
                  <a:srgbClr val="ffff00"/>
                </a:solidFill>
                <a:latin typeface="Cambria"/>
              </a:rPr>
              <a:t> </a:t>
            </a:r>
            <a:r>
              <a:rPr b="1" i="1" lang="en-US" sz="1800" spc="-1" strike="noStrike">
                <a:solidFill>
                  <a:srgbClr val="ff9999"/>
                </a:solidFill>
                <a:latin typeface="Cambria"/>
              </a:rPr>
              <a:t>phagocytosis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343080" indent="0" algn="r" rtl="1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13" name="Picture 5" descr="19"/>
          <p:cNvPicPr/>
          <p:nvPr/>
        </p:nvPicPr>
        <p:blipFill>
          <a:blip r:embed="rId1"/>
          <a:srcRect l="6755" t="18519" r="0" b="7406"/>
          <a:stretch/>
        </p:blipFill>
        <p:spPr>
          <a:xfrm>
            <a:off x="4883040" y="1371600"/>
            <a:ext cx="4260960" cy="449568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9045-C316-4EB6-8DF9-A5E62938BC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gocytosis</a:t>
            </a:r>
            <a:br>
              <a:rPr sz="36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3808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Mainly by neutrophils and monocyte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Steps of Phagocytosi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99"/>
                </a:solidFill>
                <a:latin typeface="Cambria"/>
              </a:rPr>
              <a:t>1</a:t>
            </a:r>
            <a:r>
              <a:rPr b="0" lang="en-US" sz="2600" spc="-1" strike="noStrike">
                <a:solidFill>
                  <a:srgbClr val="ff9999"/>
                </a:solidFill>
                <a:latin typeface="Cambria"/>
              </a:rPr>
              <a:t> . </a:t>
            </a:r>
            <a:r>
              <a:rPr b="1" lang="en-US" sz="2600" spc="-1" strike="noStrike">
                <a:solidFill>
                  <a:srgbClr val="ff9999"/>
                </a:solidFill>
                <a:latin typeface="Cambria"/>
              </a:rPr>
              <a:t>Chemotaxis</a:t>
            </a:r>
            <a:r>
              <a:rPr b="1" lang="en-US" sz="3000" spc="-1" strike="noStrike">
                <a:solidFill>
                  <a:srgbClr val="000000"/>
                </a:solidFill>
                <a:latin typeface="Cambria"/>
              </a:rPr>
              <a:t> :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attraction of WBCs to site of infection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Promoted by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i.   bacterial toxin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ii. kinins from damaged tissue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iii. CSFs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99"/>
                </a:solidFill>
                <a:latin typeface="Cambria"/>
              </a:rPr>
              <a:t>2</a:t>
            </a:r>
            <a:r>
              <a:rPr b="1" lang="en-US" sz="2600" spc="-1" strike="noStrike">
                <a:solidFill>
                  <a:srgbClr val="ff9999"/>
                </a:solidFill>
                <a:latin typeface="Cambria"/>
              </a:rPr>
              <a:t>. </a:t>
            </a:r>
            <a:r>
              <a:rPr b="1" lang="en-US" sz="2600" spc="-1" strike="noStrike">
                <a:solidFill>
                  <a:srgbClr val="ff9999"/>
                </a:solidFill>
                <a:latin typeface="Cambria"/>
              </a:rPr>
              <a:t>Adherence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99"/>
                </a:solidFill>
                <a:latin typeface="Cambria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phagocyte attaches to microbe using proteins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99"/>
                </a:solidFill>
                <a:latin typeface="Cambria"/>
              </a:rPr>
              <a:t>3</a:t>
            </a:r>
            <a:r>
              <a:rPr b="1" lang="en-US" sz="2600" spc="-1" strike="noStrike">
                <a:solidFill>
                  <a:srgbClr val="ff9999"/>
                </a:solidFill>
                <a:latin typeface="Cambria"/>
              </a:rPr>
              <a:t>.</a:t>
            </a: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600" spc="-1" strike="noStrike">
                <a:solidFill>
                  <a:srgbClr val="ff9999"/>
                </a:solidFill>
                <a:latin typeface="Cambria"/>
              </a:rPr>
              <a:t>Ingestion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99"/>
                </a:solidFill>
                <a:latin typeface="Cambria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pseudopods from WBC surrounds microbe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            </a:t>
            </a:r>
            <a:r>
              <a:rPr b="1" lang="en-US" sz="2200" spc="-1" strike="noStrike">
                <a:solidFill>
                  <a:srgbClr val="000000"/>
                </a:solidFill>
                <a:latin typeface="Cambria"/>
              </a:rPr>
              <a:t>formation of a PHAGOSOME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99"/>
                </a:solidFill>
                <a:latin typeface="Cambria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99"/>
                </a:solidFill>
                <a:latin typeface="Cambria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25C1-BFF0-459D-ADFC-EC3356DB724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1295280" y="7467480"/>
            <a:ext cx="82296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0" y="457200"/>
            <a:ext cx="914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Garamond"/>
              </a:rPr>
              <a:t>4. Diges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hagosome enters cytoplasm of WBC and merges  with LYSOSOME:  Phago-lysosome: secretion of lysozomal enzymes followed by release of oxidants: </a:t>
            </a:r>
            <a:r>
              <a:rPr b="1" lang="en-US" sz="2000" spc="-1" strike="noStrike">
                <a:solidFill>
                  <a:srgbClr val="ff9999"/>
                </a:solidFill>
                <a:latin typeface="Garamond"/>
              </a:rPr>
              <a:t>oxidative burs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0" y="1752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99"/>
                </a:solidFill>
                <a:latin typeface="Garamond"/>
              </a:rPr>
              <a:t>5. Killing</a:t>
            </a:r>
            <a:r>
              <a:rPr b="1" lang="en-US" sz="2000" spc="-1" strike="noStrike">
                <a:solidFill>
                  <a:srgbClr val="ff9999"/>
                </a:solidFill>
                <a:latin typeface="Garamond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s result of the above. Residual bodies get left behind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228600" y="2362320"/>
            <a:ext cx="6743160" cy="4163760"/>
            <a:chOff x="228600" y="2362320"/>
            <a:chExt cx="6743160" cy="4163760"/>
          </a:xfrm>
        </p:grpSpPr>
        <p:pic>
          <p:nvPicPr>
            <p:cNvPr id="122" name="Picture 12" descr="pap12e_22_09_6"/>
            <p:cNvPicPr/>
            <p:nvPr/>
          </p:nvPicPr>
          <p:blipFill>
            <a:blip r:embed="rId1"/>
            <a:stretch/>
          </p:blipFill>
          <p:spPr>
            <a:xfrm>
              <a:off x="228600" y="2362320"/>
              <a:ext cx="6350760" cy="412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Line 13"/>
            <p:cNvSpPr/>
            <p:nvPr/>
          </p:nvSpPr>
          <p:spPr>
            <a:xfrm>
              <a:off x="973080" y="4338000"/>
              <a:ext cx="10875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4687920" y="3358080"/>
              <a:ext cx="6624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Line 15"/>
            <p:cNvSpPr/>
            <p:nvPr/>
          </p:nvSpPr>
          <p:spPr>
            <a:xfrm flipV="1">
              <a:off x="1058760" y="3741840"/>
              <a:ext cx="57456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Line 16"/>
            <p:cNvSpPr/>
            <p:nvPr/>
          </p:nvSpPr>
          <p:spPr>
            <a:xfrm>
              <a:off x="1757160" y="2877840"/>
              <a:ext cx="1598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Line 17"/>
            <p:cNvSpPr/>
            <p:nvPr/>
          </p:nvSpPr>
          <p:spPr>
            <a:xfrm flipV="1">
              <a:off x="4405320" y="4978440"/>
              <a:ext cx="94500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Line 18"/>
            <p:cNvSpPr/>
            <p:nvPr/>
          </p:nvSpPr>
          <p:spPr>
            <a:xfrm>
              <a:off x="3698640" y="4615200"/>
              <a:ext cx="165168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 flipV="1">
              <a:off x="918720" y="4583160"/>
              <a:ext cx="1659600" cy="92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>
              <a:off x="781920" y="4848840"/>
              <a:ext cx="86652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Oval 21"/>
            <p:cNvSpPr/>
            <p:nvPr/>
          </p:nvSpPr>
          <p:spPr>
            <a:xfrm>
              <a:off x="367200" y="2773080"/>
              <a:ext cx="185040" cy="181440"/>
            </a:xfrm>
            <a:prstGeom prst="ellipse">
              <a:avLst/>
            </a:prstGeom>
            <a:solidFill>
              <a:srgbClr val="038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Rectangle 22"/>
            <p:cNvSpPr/>
            <p:nvPr/>
          </p:nvSpPr>
          <p:spPr>
            <a:xfrm>
              <a:off x="1946880" y="2797920"/>
              <a:ext cx="68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Microb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3" name="Rectangle 23"/>
            <p:cNvSpPr/>
            <p:nvPr/>
          </p:nvSpPr>
          <p:spPr>
            <a:xfrm>
              <a:off x="580320" y="2788200"/>
              <a:ext cx="1186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CHEMOTAXIS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4" name="Rectangle 24"/>
            <p:cNvSpPr/>
            <p:nvPr/>
          </p:nvSpPr>
          <p:spPr>
            <a:xfrm>
              <a:off x="299880" y="4254120"/>
              <a:ext cx="88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Lysosom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Rectangle 25"/>
            <p:cNvSpPr/>
            <p:nvPr/>
          </p:nvSpPr>
          <p:spPr>
            <a:xfrm>
              <a:off x="297000" y="5430240"/>
              <a:ext cx="7930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Digestiv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zymes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Rectangle 26"/>
            <p:cNvSpPr/>
            <p:nvPr/>
          </p:nvSpPr>
          <p:spPr>
            <a:xfrm>
              <a:off x="293400" y="3918960"/>
              <a:ext cx="966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Pseudopod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Rectangle 27"/>
            <p:cNvSpPr/>
            <p:nvPr/>
          </p:nvSpPr>
          <p:spPr>
            <a:xfrm>
              <a:off x="5401440" y="3280680"/>
              <a:ext cx="900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Phagocyt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Rectangle 28"/>
            <p:cNvSpPr/>
            <p:nvPr/>
          </p:nvSpPr>
          <p:spPr>
            <a:xfrm>
              <a:off x="582120" y="3615840"/>
              <a:ext cx="112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DHERENC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Rectangle 29"/>
            <p:cNvSpPr/>
            <p:nvPr/>
          </p:nvSpPr>
          <p:spPr>
            <a:xfrm>
              <a:off x="2402280" y="3553200"/>
              <a:ext cx="98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GES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Rectangle 30"/>
            <p:cNvSpPr/>
            <p:nvPr/>
          </p:nvSpPr>
          <p:spPr>
            <a:xfrm>
              <a:off x="298440" y="4758120"/>
              <a:ext cx="9014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Plasma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membran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Rectangle 31"/>
            <p:cNvSpPr/>
            <p:nvPr/>
          </p:nvSpPr>
          <p:spPr>
            <a:xfrm>
              <a:off x="3391560" y="4235760"/>
              <a:ext cx="98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DIGESTIO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Rectangle 32"/>
            <p:cNvSpPr/>
            <p:nvPr/>
          </p:nvSpPr>
          <p:spPr>
            <a:xfrm>
              <a:off x="3501720" y="5023800"/>
              <a:ext cx="71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KILLING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Rectangle 33"/>
            <p:cNvSpPr/>
            <p:nvPr/>
          </p:nvSpPr>
          <p:spPr>
            <a:xfrm>
              <a:off x="5406120" y="4915800"/>
              <a:ext cx="1216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Residual body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(indigestibl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material)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Rectangle 34"/>
            <p:cNvSpPr/>
            <p:nvPr/>
          </p:nvSpPr>
          <p:spPr>
            <a:xfrm>
              <a:off x="5409000" y="4541040"/>
              <a:ext cx="15627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Digested microb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 phagolysosom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Line 35"/>
            <p:cNvSpPr/>
            <p:nvPr/>
          </p:nvSpPr>
          <p:spPr>
            <a:xfrm>
              <a:off x="1757160" y="2889000"/>
              <a:ext cx="159840" cy="72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Oval 36"/>
            <p:cNvSpPr/>
            <p:nvPr/>
          </p:nvSpPr>
          <p:spPr>
            <a:xfrm>
              <a:off x="367200" y="3593880"/>
              <a:ext cx="185040" cy="181440"/>
            </a:xfrm>
            <a:prstGeom prst="ellipse">
              <a:avLst/>
            </a:prstGeom>
            <a:solidFill>
              <a:srgbClr val="038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7" name="Oval 37"/>
            <p:cNvSpPr/>
            <p:nvPr/>
          </p:nvSpPr>
          <p:spPr>
            <a:xfrm>
              <a:off x="2194920" y="3537360"/>
              <a:ext cx="185400" cy="181440"/>
            </a:xfrm>
            <a:prstGeom prst="ellipse">
              <a:avLst/>
            </a:prstGeom>
            <a:solidFill>
              <a:srgbClr val="038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8" name="Oval 38"/>
            <p:cNvSpPr/>
            <p:nvPr/>
          </p:nvSpPr>
          <p:spPr>
            <a:xfrm>
              <a:off x="3178440" y="4221000"/>
              <a:ext cx="185400" cy="181440"/>
            </a:xfrm>
            <a:prstGeom prst="ellipse">
              <a:avLst/>
            </a:prstGeom>
            <a:solidFill>
              <a:srgbClr val="038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9" name="Oval 39"/>
            <p:cNvSpPr/>
            <p:nvPr/>
          </p:nvSpPr>
          <p:spPr>
            <a:xfrm>
              <a:off x="3300120" y="5003280"/>
              <a:ext cx="185400" cy="181440"/>
            </a:xfrm>
            <a:prstGeom prst="ellipse">
              <a:avLst/>
            </a:prstGeom>
            <a:solidFill>
              <a:srgbClr val="038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0" name="Rectangle 40"/>
            <p:cNvSpPr/>
            <p:nvPr/>
          </p:nvSpPr>
          <p:spPr>
            <a:xfrm>
              <a:off x="2287440" y="6312600"/>
              <a:ext cx="203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Phases of phagocytosis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51" name="Slide Number Placeholder 3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FDC1-03F1-4254-8EDE-A34B401AF6F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mation of WBCs:  Hemopoiesi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19_03"/>
          <p:cNvPicPr/>
          <p:nvPr/>
        </p:nvPicPr>
        <p:blipFill>
          <a:blip r:embed="rId1"/>
          <a:stretch/>
        </p:blipFill>
        <p:spPr>
          <a:xfrm>
            <a:off x="838080" y="914400"/>
            <a:ext cx="6553440" cy="568332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84E4-3AE1-4C64-8F5F-D5E3F84300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a</cp:lastModifiedBy>
  <dcterms:modified xsi:type="dcterms:W3CDTF">2016-01-12T17:39:20Z</dcterms:modified>
  <cp:revision>111</cp:revision>
  <dc:subject/>
  <dc:title>PowerPoint Presentation</dc:title>
</cp:coreProperties>
</file>