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46B5-10B3-4613-A3A5-BB4FFE56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E7B71-10FC-4061-9396-1F669DE1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432C-2D9D-45D9-92C6-4C799F2A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1D8D-A773-4099-9C0A-95FEE930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5668-F935-479C-8C69-63030804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D620-E0E0-4D60-8E37-0397DA34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9BFC-7B95-4494-AF16-E1A6CF77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ADD8-DB96-45A4-B8BE-AA6BA8DA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8497-6ABB-4D37-AF24-F9B03025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2999-0F37-42DC-A8C3-E609477C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E5AD-00C1-4E95-9601-F60D0F97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1E2F-8697-445E-84AE-C4DB4B5C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01F5-C8D7-403A-A583-58ABE894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A1DD-CF33-4F39-8153-49A6CBB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EDB3-E61F-4E95-94EF-672574AB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7E4E-EE1C-43AD-B5EA-033D1376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D93E-6DF8-412F-AFCB-AC1DEC42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1CFF-C93F-45F6-B3A0-47924722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FBA6-95D6-4B21-A408-995ECE96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01B6-FDA6-4F6F-90BA-7B4F761C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4289-97BF-43C7-9F68-07AA5BBC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0522-0BC3-46A6-9949-C6429E87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9F4D-F991-4803-B149-AD75044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FBCD-64AF-4050-B831-18E1E7F9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6754-C693-4932-BC6F-5F81F6B1B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CAB7-0EF8-49F9-ACAC-C08971AC84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4-03d_EpithlTissus_3"/>
          <p:cNvPicPr/>
          <p:nvPr/>
        </p:nvPicPr>
        <p:blipFill>
          <a:blip r:embed="rId1"/>
          <a:srcRect l="39094" t="21176" r="6364" b="10588"/>
          <a:stretch/>
        </p:blipFill>
        <p:spPr>
          <a:xfrm>
            <a:off x="4419720" y="2362320"/>
            <a:ext cx="4287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04-03c_EpithlTissus_1"/>
          <p:cNvPicPr/>
          <p:nvPr/>
        </p:nvPicPr>
        <p:blipFill>
          <a:blip r:embed="rId1"/>
          <a:stretch/>
        </p:blipFill>
        <p:spPr>
          <a:xfrm>
            <a:off x="0" y="-65160"/>
            <a:ext cx="8958240" cy="6923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0" y="502920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iliated”  literally =     eyelas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see next pag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04-03d_EpithlTissus_1"/>
          <p:cNvPicPr/>
          <p:nvPr/>
        </p:nvPicPr>
        <p:blipFill>
          <a:blip r:embed="rId1"/>
          <a:stretch/>
        </p:blipFill>
        <p:spPr>
          <a:xfrm>
            <a:off x="0" y="-228600"/>
            <a:ext cx="9159840" cy="70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04-03e_EpithlTissus_1"/>
          <p:cNvPicPr/>
          <p:nvPr/>
        </p:nvPicPr>
        <p:blipFill>
          <a:blip r:embed="rId1"/>
          <a:stretch/>
        </p:blipFill>
        <p:spPr>
          <a:xfrm>
            <a:off x="0" y="-304920"/>
            <a:ext cx="9159840" cy="7078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369000" y="363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ified: regenerate from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4-03f_EpithlTissus_1"/>
          <p:cNvPicPr/>
          <p:nvPr/>
        </p:nvPicPr>
        <p:blipFill>
          <a:blip r:embed="rId1"/>
          <a:stretch/>
        </p:blipFill>
        <p:spPr>
          <a:xfrm>
            <a:off x="0" y="-228600"/>
            <a:ext cx="9159840" cy="7078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240" y="189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04-03g_EpithlTissus_1"/>
          <p:cNvPicPr/>
          <p:nvPr/>
        </p:nvPicPr>
        <p:blipFill>
          <a:blip r:embed="rId1"/>
          <a:stretch/>
        </p:blipFill>
        <p:spPr>
          <a:xfrm>
            <a:off x="0" y="-152280"/>
            <a:ext cx="9250200" cy="7148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67560" y="2286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04-03h_EpithlTissus_1"/>
          <p:cNvPicPr/>
          <p:nvPr/>
        </p:nvPicPr>
        <p:blipFill>
          <a:blip r:embed="rId1"/>
          <a:stretch/>
        </p:blipFill>
        <p:spPr>
          <a:xfrm>
            <a:off x="0" y="-450720"/>
            <a:ext cx="9360000" cy="72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othel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quamous epithelium that lines the interior of the circulatory vessels and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04-04_Endothelium_1"/>
          <p:cNvPicPr/>
          <p:nvPr/>
        </p:nvPicPr>
        <p:blipFill>
          <a:blip r:embed="rId1"/>
          <a:srcRect l="13636" t="28235" r="10000" b="16471"/>
          <a:stretch/>
        </p:blipFill>
        <p:spPr>
          <a:xfrm>
            <a:off x="4152960" y="1320840"/>
            <a:ext cx="4991040" cy="2793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533520" y="4038480"/>
            <a:ext cx="79484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thel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quamous epithelium that line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toneal, pleural and pericardial cavities and covers the visc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thelial cells form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&amp; secretion of needed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queous (water-based)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tein product is made in rough ER, packed into secretory granules by Golgi apparatus, released from the cell by exocy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tion of gl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where they release their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crine: external secretion onto body surfaces (skin) or into body ca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rine: secrete messenger molecules (hormones) which are carried by blood to target organs; “ductless”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whether they are unicellular or mult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ocrine glands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: goblet cell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within epithelial lining of intestine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: mu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 is mucin &amp;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04-05_GobletCells_1"/>
          <p:cNvPicPr/>
          <p:nvPr/>
        </p:nvPicPr>
        <p:blipFill>
          <a:blip r:embed="rId1"/>
          <a:srcRect l="4706" t="2727" r="9412" b="1818"/>
          <a:stretch/>
        </p:blipFill>
        <p:spPr>
          <a:xfrm>
            <a:off x="4648320" y="228600"/>
            <a:ext cx="447984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 group of closely associated cells that perform related functions and are similar in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cells:  nonliving extracellular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types of tissue…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thelium…cov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e tissue…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tissue…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tissue…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ellular exocrine gland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thelium-w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retory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04-06_ExocrineGlnds_1"/>
          <p:cNvPicPr/>
          <p:nvPr/>
        </p:nvPicPr>
        <p:blipFill>
          <a:blip r:embed="rId1"/>
          <a:srcRect l="0" t="5882" r="3636" b="0"/>
          <a:stretch/>
        </p:blipFill>
        <p:spPr>
          <a:xfrm>
            <a:off x="3429000" y="1397160"/>
            <a:ext cx="561960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of exocrine gland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ypes of mucus secreting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at glands of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 glands of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vary glands of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 (b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s (digestive enzy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mary glands (mil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ocrine gl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ct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hormones into extracellula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e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ssenge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 enter blood and travel to specific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rget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thelial surface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ral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sion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gue and groove wavy cont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junctions: see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al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al lamina: noncellular sheet of protein together with reticular fibers form basement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cal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J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close that are sometimes imperm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herens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embrane linker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ing j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ments anchor to the opposit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mall molecules to move between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04-07_CellJunctions_1"/>
          <p:cNvPicPr/>
          <p:nvPr/>
        </p:nvPicPr>
        <p:blipFill>
          <a:blip r:embed="rId1"/>
          <a:stretch/>
        </p:blipFill>
        <p:spPr>
          <a:xfrm>
            <a:off x="4168800" y="228600"/>
            <a:ext cx="48988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cal surfac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villi – maximize surfa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gerlike extensions of the plasma membrane of apical 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moist and mucus secreting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on epithelia that absorb nutrients (small intestine) or transport ions (kidne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plike motile extentions of the apical surface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isolated c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found as sperm in 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4-08a_Cilium_1"/>
          <p:cNvPicPr/>
          <p:nvPr/>
        </p:nvPicPr>
        <p:blipFill>
          <a:blip r:embed="rId1"/>
          <a:srcRect l="24545" t="0" r="20909" b="7059"/>
          <a:stretch/>
        </p:blipFill>
        <p:spPr>
          <a:xfrm>
            <a:off x="4343400" y="304920"/>
            <a:ext cx="4788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04-08bc_Cilium_1"/>
          <p:cNvPicPr/>
          <p:nvPr/>
        </p:nvPicPr>
        <p:blipFill>
          <a:blip r:embed="rId1"/>
          <a:srcRect l="0" t="9091" r="0" b="12727"/>
          <a:stretch/>
        </p:blipFill>
        <p:spPr>
          <a:xfrm>
            <a:off x="1143000" y="76320"/>
            <a:ext cx="6608880" cy="66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380880" y="5335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 basic types of tis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t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nective tissue proper (examples: fat tissue, fibrous tissue of liga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rt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04-09_ConnTissClass_1"/>
          <p:cNvPicPr/>
          <p:nvPr/>
        </p:nvPicPr>
        <p:blipFill>
          <a:blip r:embed="rId1"/>
          <a:srcRect l="0" t="0" r="0" b="7059"/>
          <a:stretch/>
        </p:blipFill>
        <p:spPr>
          <a:xfrm>
            <a:off x="0" y="0"/>
            <a:ext cx="9250200" cy="6643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447920" y="168120"/>
            <a:ext cx="65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 of Connective Tiss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te the cell types and great variety of sub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thelia (plur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thelium:  sheet of cells that covers a body surface or lines a body cavity; also form most of the body’s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: as interfaces and as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                     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y reception         Ion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ion                       Filtration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ion of slippery surfaces for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e from embryonic tissue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ench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iverse and abundant type of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ubclasses (see previous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: to protect, support and bind together other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s, ligaments, tend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olar cushions; adipose insulates and is food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cells replenished; body tissues re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separated from one another by large amount of nonliv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cellular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cellular Matrix expla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living material betwee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the cells and then extr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th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fluid, adhesion proteins, proteogly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, semisolid, gel-like or very h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ers: collagen, elastic or ret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functions of connective tissue revi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nd binding of other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ing body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ding the body against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phages, plasma cells, mast cells, WB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ng nutrients as 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04-09_ConnTissClass_1"/>
          <p:cNvPicPr/>
          <p:nvPr/>
        </p:nvPicPr>
        <p:blipFill>
          <a:blip r:embed="rId1"/>
          <a:srcRect l="2727" t="5882" r="0" b="7059"/>
          <a:stretch/>
        </p:blipFill>
        <p:spPr>
          <a:xfrm>
            <a:off x="152280" y="330120"/>
            <a:ext cx="8998200" cy="6222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127600" y="1522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of Connective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676520" y="425124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04-12a_ConnTissues_1"/>
          <p:cNvPicPr/>
          <p:nvPr/>
        </p:nvPicPr>
        <p:blipFill>
          <a:blip r:embed="rId1"/>
          <a:stretch/>
        </p:blipFill>
        <p:spPr>
          <a:xfrm>
            <a:off x="0" y="-152280"/>
            <a:ext cx="8958240" cy="69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4-12b_ConnTissues_1"/>
          <p:cNvPicPr/>
          <p:nvPr/>
        </p:nvPicPr>
        <p:blipFill>
          <a:blip r:embed="rId1"/>
          <a:stretch/>
        </p:blipFill>
        <p:spPr>
          <a:xfrm>
            <a:off x="185760" y="-533520"/>
            <a:ext cx="895824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04-12c_ConnTissues_1"/>
          <p:cNvPicPr/>
          <p:nvPr/>
        </p:nvPicPr>
        <p:blipFill>
          <a:blip r:embed="rId1"/>
          <a:stretch/>
        </p:blipFill>
        <p:spPr>
          <a:xfrm>
            <a:off x="0" y="-304920"/>
            <a:ext cx="9159840" cy="70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04-12d_ConnTissues_1"/>
          <p:cNvPicPr/>
          <p:nvPr/>
        </p:nvPicPr>
        <p:blipFill>
          <a:blip r:embed="rId1"/>
          <a:stretch/>
        </p:blipFill>
        <p:spPr>
          <a:xfrm>
            <a:off x="0" y="-304920"/>
            <a:ext cx="9159840" cy="70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04-09_ConnTissClass_1"/>
          <p:cNvPicPr/>
          <p:nvPr/>
        </p:nvPicPr>
        <p:blipFill>
          <a:blip r:embed="rId1"/>
          <a:stretch/>
        </p:blipFill>
        <p:spPr>
          <a:xfrm>
            <a:off x="0" y="-228600"/>
            <a:ext cx="9159840" cy="70786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1662480" y="524196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051280" y="3960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of Connective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4-12e_ConnTissues_1"/>
          <p:cNvPicPr/>
          <p:nvPr/>
        </p:nvPicPr>
        <p:blipFill>
          <a:blip r:embed="rId1"/>
          <a:stretch/>
        </p:blipFill>
        <p:spPr>
          <a:xfrm>
            <a:off x="0" y="-380880"/>
            <a:ext cx="9360000" cy="72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characteristics of epith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upper (apical)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(basal) surface contributing basal lamina to basement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by connective tiss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scular but inner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rve en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04-12f_ConnTissues_1"/>
          <p:cNvPicPr/>
          <p:nvPr/>
        </p:nvPicPr>
        <p:blipFill>
          <a:blip r:embed="rId1"/>
          <a:stretch/>
        </p:blipFill>
        <p:spPr>
          <a:xfrm>
            <a:off x="0" y="-685800"/>
            <a:ext cx="9653760" cy="74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04-09_ConnTissClass_1"/>
          <p:cNvPicPr/>
          <p:nvPr/>
        </p:nvPicPr>
        <p:blipFill>
          <a:blip r:embed="rId1"/>
          <a:stretch/>
        </p:blipFill>
        <p:spPr>
          <a:xfrm>
            <a:off x="-79200" y="-152280"/>
            <a:ext cx="9451800" cy="73040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3659400" y="33526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808720" y="19224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of Connective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04-12g_ConnTissues_1"/>
          <p:cNvPicPr/>
          <p:nvPr/>
        </p:nvPicPr>
        <p:blipFill>
          <a:blip r:embed="rId1"/>
          <a:stretch/>
        </p:blipFill>
        <p:spPr>
          <a:xfrm>
            <a:off x="0" y="-76320"/>
            <a:ext cx="88488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04-12h_ConnTissues_1"/>
          <p:cNvPicPr/>
          <p:nvPr/>
        </p:nvPicPr>
        <p:blipFill>
          <a:blip r:embed="rId1"/>
          <a:stretch/>
        </p:blipFill>
        <p:spPr>
          <a:xfrm>
            <a:off x="0" y="-304920"/>
            <a:ext cx="9159840" cy="70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04-12i_ConnTissues_1"/>
          <p:cNvPicPr/>
          <p:nvPr/>
        </p:nvPicPr>
        <p:blipFill>
          <a:blip r:embed="rId1"/>
          <a:stretch/>
        </p:blipFill>
        <p:spPr>
          <a:xfrm>
            <a:off x="0" y="-228600"/>
            <a:ext cx="905040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04-09_ConnTissClass_1"/>
          <p:cNvPicPr/>
          <p:nvPr/>
        </p:nvPicPr>
        <p:blipFill>
          <a:blip r:embed="rId1"/>
          <a:stretch/>
        </p:blipFill>
        <p:spPr>
          <a:xfrm>
            <a:off x="-76320" y="-380880"/>
            <a:ext cx="9250560" cy="71485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2671920" y="-1126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of Connective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29560" y="30322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04-12j_ConnTissues_1"/>
          <p:cNvPicPr/>
          <p:nvPr/>
        </p:nvPicPr>
        <p:blipFill>
          <a:blip r:embed="rId1"/>
          <a:stretch/>
        </p:blipFill>
        <p:spPr>
          <a:xfrm>
            <a:off x="-15840" y="-228600"/>
            <a:ext cx="9159840" cy="70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04-09_ConnTissClass_1"/>
          <p:cNvPicPr/>
          <p:nvPr/>
        </p:nvPicPr>
        <p:blipFill>
          <a:blip r:embed="rId1"/>
          <a:stretch/>
        </p:blipFill>
        <p:spPr>
          <a:xfrm>
            <a:off x="-79200" y="-446040"/>
            <a:ext cx="9451800" cy="7304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2748240" y="-1522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of Connective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7315560" y="304812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04-12k_ConnTissues_1"/>
          <p:cNvPicPr/>
          <p:nvPr/>
        </p:nvPicPr>
        <p:blipFill>
          <a:blip r:embed="rId1"/>
          <a:stretch/>
        </p:blipFill>
        <p:spPr>
          <a:xfrm>
            <a:off x="0" y="-152280"/>
            <a:ext cx="9050400" cy="69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embran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t combine epithelial sheets plus underlying connective tissue proper (see next slide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aneous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: epidermis and 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ous membranes, or m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every hollow internal organ that opens to the outside of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us membranes, or se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ppery membranes lining the pleural, pericardial and peritoneal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id formed on the surfaces is called a transu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vial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jo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ication of epitheli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th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” -  one cel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ified” – more than one layer of cells (which are named according to the shape of the cells in the ap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mous” – wider than 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oidal” – as tall as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ar”  - taller than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04-13ab_Membranes_1"/>
          <p:cNvPicPr/>
          <p:nvPr/>
        </p:nvPicPr>
        <p:blipFill>
          <a:blip r:embed="rId1"/>
          <a:srcRect l="0" t="23529" r="0" b="11765"/>
          <a:stretch/>
        </p:blipFill>
        <p:spPr>
          <a:xfrm>
            <a:off x="0" y="0"/>
            <a:ext cx="7039080" cy="3521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04-13c_Membranes_1"/>
          <p:cNvPicPr/>
          <p:nvPr/>
        </p:nvPicPr>
        <p:blipFill>
          <a:blip r:embed="rId2"/>
          <a:srcRect l="0" t="16471" r="0" b="16471"/>
          <a:stretch/>
        </p:blipFill>
        <p:spPr>
          <a:xfrm>
            <a:off x="76320" y="3151080"/>
            <a:ext cx="7038720" cy="36496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"/>
          <p:cNvSpPr/>
          <p:nvPr/>
        </p:nvSpPr>
        <p:spPr>
          <a:xfrm>
            <a:off x="5931720" y="2703600"/>
            <a:ext cx="277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aneous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ous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ous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 basic types of tis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t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Skel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Cardi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Sm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04-14a_MuscleTissue_1"/>
          <p:cNvPicPr/>
          <p:nvPr/>
        </p:nvPicPr>
        <p:blipFill>
          <a:blip r:embed="rId1"/>
          <a:stretch/>
        </p:blipFill>
        <p:spPr>
          <a:xfrm>
            <a:off x="0" y="-76320"/>
            <a:ext cx="88488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04-14b_MuscleTissue_1"/>
          <p:cNvPicPr/>
          <p:nvPr/>
        </p:nvPicPr>
        <p:blipFill>
          <a:blip r:embed="rId1"/>
          <a:stretch/>
        </p:blipFill>
        <p:spPr>
          <a:xfrm>
            <a:off x="0" y="-304920"/>
            <a:ext cx="895824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04-14c_MuscleTissue_1"/>
          <p:cNvPicPr/>
          <p:nvPr/>
        </p:nvPicPr>
        <p:blipFill>
          <a:blip r:embed="rId1"/>
          <a:stretch/>
        </p:blipFill>
        <p:spPr>
          <a:xfrm>
            <a:off x="0" y="-228600"/>
            <a:ext cx="905040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basic types of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pithel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scle tis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Nervous tis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uppor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04-15_NervousTissue_1"/>
          <p:cNvPicPr/>
          <p:nvPr/>
        </p:nvPicPr>
        <p:blipFill>
          <a:blip r:embed="rId1"/>
          <a:stretch/>
        </p:blipFill>
        <p:spPr>
          <a:xfrm>
            <a:off x="0" y="-228600"/>
            <a:ext cx="905040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ssue response to inj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e: takes longer and is highly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specific, local, rap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mmatory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: heat, swelling, redness,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r – two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osis and sca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inju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ac and nervous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04-17_EmbryoTissue_1"/>
          <p:cNvPicPr/>
          <p:nvPr/>
        </p:nvPicPr>
        <p:blipFill>
          <a:blip r:embed="rId1"/>
          <a:stretch/>
        </p:blipFill>
        <p:spPr>
          <a:xfrm>
            <a:off x="0" y="-152280"/>
            <a:ext cx="8958240" cy="69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mors (neoplasms): abnormal growth of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oma – neoplasm of glandular epithelium, benign or malig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inoma – cancer arising in an epithelium (90% of all human canc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coma – cancer arising in mesenchyme-derived tissue (connective tissues and mus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04-02a_EpithlmClass_1"/>
          <p:cNvPicPr/>
          <p:nvPr/>
        </p:nvPicPr>
        <p:blipFill>
          <a:blip r:embed="rId1"/>
          <a:srcRect l="14118" t="36364" r="4706" b="33636"/>
          <a:stretch/>
        </p:blipFill>
        <p:spPr>
          <a:xfrm>
            <a:off x="228600" y="1523880"/>
            <a:ext cx="8702640" cy="4160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453440" y="48150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CELL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http://upload.wikimedia.org/wikipedia/commons/3/3c/Stem_cells_diagram.png"/>
          <p:cNvPicPr/>
          <p:nvPr/>
        </p:nvPicPr>
        <p:blipFill>
          <a:blip r:embed="rId1"/>
          <a:srcRect l="1862" t="2036" r="1862" b="4072"/>
          <a:stretch/>
        </p:blipFill>
        <p:spPr>
          <a:xfrm>
            <a:off x="0" y="0"/>
            <a:ext cx="7621560" cy="67960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6557760" y="213372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M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4495680" y="1295280"/>
            <a:ext cx="35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ner cell mass becomes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4-02b_EpithlmClass_1"/>
          <p:cNvPicPr/>
          <p:nvPr/>
        </p:nvPicPr>
        <p:blipFill>
          <a:blip r:embed="rId1"/>
          <a:srcRect l="31765" t="20000" r="0" b="23636"/>
          <a:stretch/>
        </p:blipFill>
        <p:spPr>
          <a:xfrm>
            <a:off x="1066680" y="457200"/>
            <a:ext cx="5631120" cy="6018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865040" y="137160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iffusion i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800600" y="3048120"/>
            <a:ext cx="306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issues are involved in secretion and absorption: larger cells because of the machinery of production, packaging, and energ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4-03a_EpithlTissus_1"/>
          <p:cNvPicPr/>
          <p:nvPr/>
        </p:nvPicPr>
        <p:blipFill>
          <a:blip r:embed="rId1"/>
          <a:srcRect l="0" t="5882" r="0" b="0"/>
          <a:stretch/>
        </p:blipFill>
        <p:spPr>
          <a:xfrm>
            <a:off x="-231840" y="-15840"/>
            <a:ext cx="945216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-03b_EpithlTissus_1"/>
          <p:cNvPicPr/>
          <p:nvPr/>
        </p:nvPicPr>
        <p:blipFill>
          <a:blip r:embed="rId1"/>
          <a:stretch/>
        </p:blipFill>
        <p:spPr>
          <a:xfrm>
            <a:off x="0" y="-152280"/>
            <a:ext cx="9159840" cy="70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21:44:51Z</dcterms:created>
  <dc:creator>Kathryn Watson</dc:creator>
  <dc:description/>
  <dc:language>en-US</dc:language>
  <cp:lastModifiedBy>Windows User</cp:lastModifiedBy>
  <dcterms:modified xsi:type="dcterms:W3CDTF">2013-09-08T06:50:03Z</dcterms:modified>
  <cp:revision>29</cp:revision>
  <dc:subject/>
  <dc:title>Tissues</dc:title>
</cp:coreProperties>
</file>