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FF1D-C8AE-46DC-A493-B05A9DDD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8053-BB10-44BA-A321-058FE4A5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CE7F-7E4F-439C-87AD-C610929C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52F6-3BFC-4F33-AC7E-41A6314A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76A9-A8D3-4D42-B45E-27FCE9F6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7A48-FEBD-4D27-8A4E-17AA6CF4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70BA-326F-464F-9312-B90DD4D1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C2F9-EE91-4FF9-AB0F-27FE04DA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9927-A3C0-4543-8479-11A9C7E3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FE39-8CA2-42BF-A779-1C24B786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564A-ADB0-45D7-8D38-09423B06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324D2-59FF-43CA-8C90-656B7A12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718E-DF4C-42B8-8F27-E4937D7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4D70-3034-4E89-811F-99227693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0B34-0A1B-4374-B27F-047D97BE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307F-B716-40F7-BA97-F580A1DD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E694-C847-4A56-86C0-9316A325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0EE4-36BD-400A-8A55-A9B0FDFF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EA7B-25D8-4F0E-B985-91E33DA2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298F-F3E4-4551-B80E-51E6F877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A577-5088-4A10-990A-2B41BE75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49B4-8D19-43B8-AD93-C70E88D8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5B9D-EAB7-44C9-A66C-A6F3E47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8FF5-1511-4D9B-AB12-A5B6126E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352D-7392-42B0-ADF6-D398D9A9F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8DFF-F0E3-4D43-B0A1-DD8A8B0CA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rtilage and Bon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40909" t="32941" r="28182" b="30588"/>
          <a:stretch/>
        </p:blipFill>
        <p:spPr>
          <a:xfrm>
            <a:off x="5257800" y="2666880"/>
            <a:ext cx="3594240" cy="327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40909" t="24706" r="10909" b="12941"/>
          <a:stretch/>
        </p:blipFill>
        <p:spPr>
          <a:xfrm>
            <a:off x="838080" y="297180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15294" r="0" b="0"/>
          <a:stretch/>
        </p:blipFill>
        <p:spPr>
          <a:xfrm>
            <a:off x="0" y="808200"/>
            <a:ext cx="9360000" cy="6126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33680" y="4428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 Cartil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3529" r="0" b="0"/>
          <a:stretch/>
        </p:blipFill>
        <p:spPr>
          <a:xfrm>
            <a:off x="-15840" y="28440"/>
            <a:ext cx="9159840" cy="6829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62280" y="4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brocartil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-152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ions of the different kinds of cartil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-105882" t="10000" r="-130588" b="10000"/>
          <a:stretch/>
        </p:blipFill>
        <p:spPr>
          <a:xfrm>
            <a:off x="-4724280" y="838080"/>
            <a:ext cx="1961352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fore we look at collagen pic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aline cartilage: flexible and resi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ndrocytes appear 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cu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avity in matrix holding chondroc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only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cartilage: highly ben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with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la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well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glottis and lary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ocartilage: resists compression and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of thick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bers alternating with rows of chondrocytes (in matr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ee menisci and annulus fibrosis of intervertebral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5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 helix of collagen molecules form fi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rils aggregate into collagen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http://www.mad-cow.org/collagen.gif"/>
          <p:cNvPicPr/>
          <p:nvPr/>
        </p:nvPicPr>
        <p:blipFill>
          <a:blip r:embed="rId1"/>
          <a:stretch/>
        </p:blipFill>
        <p:spPr>
          <a:xfrm>
            <a:off x="798480" y="1523880"/>
            <a:ext cx="743112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wth of cartil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o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from outsid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droblasts in perichondrium (external covering of cartilage) secret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st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from with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ndrocytes within divide and secrete new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ilage stops growing in late teens (chrondrocytes stop div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nerates poorly in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7059"/>
          <a:stretch/>
        </p:blipFill>
        <p:spPr>
          <a:xfrm>
            <a:off x="0" y="0"/>
            <a:ext cx="9250200" cy="6643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411520" y="3049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6440" y="36360"/>
            <a:ext cx="52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bout bones…like other connective tissue: cells separated by extracellular matrix with collagen but also mineral crys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: muscles attach by tendons and use bones as levers to mov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ull –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brae – spinal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 cage – thoracic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um and phosp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d as ions into blood as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cell formation and energy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marrow:  red makes blood, yellow stores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tion of bones by sh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2971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b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eumatized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amoid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10000" t="9412" r="10909" b="5882"/>
          <a:stretch/>
        </p:blipFill>
        <p:spPr>
          <a:xfrm>
            <a:off x="3094200" y="1295280"/>
            <a:ext cx="5973480" cy="4943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00640" y="6167520"/>
            <a:ext cx="222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(Short bones include sesmoid bon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138240"/>
            <a:ext cx="763272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952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evalent than in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leton initially mostly cart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 replaces cartilage in fetal and childhood 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3529" t="20000" r="5882" b="14545"/>
          <a:stretch/>
        </p:blipFill>
        <p:spPr>
          <a:xfrm>
            <a:off x="5029200" y="1165320"/>
            <a:ext cx="41148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ss anatomy of b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ct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gy (trabecular)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ullary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st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st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79760" y="1430280"/>
            <a:ext cx="57405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t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3504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gy bone is called diploe when its in flat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bone marrow but no marrow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2727" t="18824" r="16364" b="14118"/>
          <a:stretch/>
        </p:blipFill>
        <p:spPr>
          <a:xfrm>
            <a:off x="3621240" y="1662120"/>
            <a:ext cx="5211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00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bula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ph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piphy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ends: covered with “articular” (=joint) cart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physeal line in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: epiphyseal grow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isc of hyaline cartilage that grows to lengthen the b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ent arteries and veins through nutrient for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818" t="11765" r="0" b="5882"/>
          <a:stretch/>
        </p:blipFill>
        <p:spPr>
          <a:xfrm>
            <a:off x="3505320" y="0"/>
            <a:ext cx="5635440" cy="3654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71822" t="10588" r="2727" b="27059"/>
          <a:stretch/>
        </p:blipFill>
        <p:spPr>
          <a:xfrm>
            <a:off x="7848720" y="4038480"/>
            <a:ext cx="13078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steu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e tissu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entire outer surface of bone except at epiph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ub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Outer fibrous layer of dense irregular connective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nner (deep) cellul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steoge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er on the compact bone containing osteoprogenitor cells (stem cells that give rise to osteoblas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teobla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ne depositing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teocla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ne destroying cells (from the white blood cell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d to bone by perforating fibers (Sharpey’s fi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oste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the internal bone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ls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ste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5882" t="4545" r="4706" b="5455"/>
          <a:stretch/>
        </p:blipFill>
        <p:spPr>
          <a:xfrm>
            <a:off x="0" y="-38160"/>
            <a:ext cx="5211720" cy="6789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12941" t="4545" r="18824" b="4545"/>
          <a:stretch/>
        </p:blipFill>
        <p:spPr>
          <a:xfrm>
            <a:off x="4952880" y="-38160"/>
            <a:ext cx="397836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44600" y="26496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e markings reflect the st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mar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s that are the attachments sites for muscles and lig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s that form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s and ope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them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eb lab book p 101, Table 8.1, Bone Mark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ni p 128, Table 5.1, Common Bone Marking Terminology (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ni p 128, Table 5.1, Common Bone Marking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140" t="0" r="2140" b="0"/>
          <a:stretch/>
        </p:blipFill>
        <p:spPr>
          <a:xfrm>
            <a:off x="0" y="1830240"/>
            <a:ext cx="9407520" cy="4570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11880" y="209376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figure see 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98440" y="293760"/>
            <a:ext cx="854712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ct 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3124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eons: pi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ellae: concentric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rsian ca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e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727" t="0" r="6364" b="0"/>
          <a:stretch/>
        </p:blipFill>
        <p:spPr>
          <a:xfrm>
            <a:off x="2840040" y="990720"/>
            <a:ext cx="630396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31818" t="24706" r="25455" b="14118"/>
          <a:stretch/>
        </p:blipFill>
        <p:spPr>
          <a:xfrm>
            <a:off x="3809880" y="-39600"/>
            <a:ext cx="6234120" cy="6897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25455" t="0" r="27273" b="5882"/>
          <a:stretch/>
        </p:blipFill>
        <p:spPr>
          <a:xfrm>
            <a:off x="0" y="0"/>
            <a:ext cx="3803760" cy="5851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52578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trients diffuse from vessels in central 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ng direction of collagen fibers increases resistance to twisting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0280" y="54468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lated oste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 of cartilage in ad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ular” – covering the ends of most bones and movable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al” – connecting ribs to ste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ynx - voice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7059" t="10000" r="2353" b="8182"/>
          <a:stretch/>
        </p:blipFill>
        <p:spPr>
          <a:xfrm>
            <a:off x="5089680" y="1324080"/>
            <a:ext cx="40845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ongy 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s of lamellae and oste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 to align along stress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0" t="34118" r="0" b="5882"/>
          <a:stretch/>
        </p:blipFill>
        <p:spPr>
          <a:xfrm>
            <a:off x="800280" y="3352680"/>
            <a:ext cx="754380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composition of b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, matrix of collagen fibers and ground substance (organic: 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lexibility and tensile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crystals (inorganic: 6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 calcium phosph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 in and around the collagen fibrils in extracellular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bone ha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amount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eogenesis: “formation of bon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steob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tissue first appears in week 8 (embr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sification: “to turn into bo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ramembra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ssification (also called “dermal” since occurs deep in dermis): forms directly from mesenchyme (not modeled first in cartil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skull bones except a few at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vicles (collar b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amoid bones (like the pate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dochond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ssification: modeled in hyaline cartilage then replaced by bone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rest of the b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 the three germ tissu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toderm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pithel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derm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pithel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oderm i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senchy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senchy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lls are star shaped and do not attach to one another, therefore migrate 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last sl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ramembran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ssification: forms directly from mesenchyme (not modeled first in carti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spcBef>
                <a:spcPts val="45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kull bones except a few at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spcBef>
                <a:spcPts val="45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vicles (collar b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spcBef>
                <a:spcPts val="45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moid bones (like the pate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amembranous ossific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15294" t="20909" r="14118" b="18182"/>
          <a:stretch/>
        </p:blipFill>
        <p:spPr>
          <a:xfrm>
            <a:off x="0" y="1273320"/>
            <a:ext cx="4552920" cy="5083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17647" t="19091" r="14118" b="13636"/>
          <a:stretch/>
        </p:blipFill>
        <p:spPr>
          <a:xfrm>
            <a:off x="4724280" y="1135080"/>
            <a:ext cx="4397400" cy="5611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527480" y="6284880"/>
            <a:ext cx="29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osteoid is the organic 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ochondral o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d in hyaline cartilage,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rtilag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ly replaced by bone: begins late in second month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richond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vaded by vessels and becom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riost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steobla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eriosteum lay down collar of bone around diaph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fication in center of diaph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ossification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ossification in epiph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physeal growth plates close at end of adol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physis and epiphysis 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bone length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9240" y="62085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9412" r="0" b="8235"/>
          <a:stretch/>
        </p:blipFill>
        <p:spPr>
          <a:xfrm>
            <a:off x="0" y="-11160"/>
            <a:ext cx="8756640" cy="5573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51920" y="7632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chondral o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181480"/>
            <a:ext cx="45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ges 1-3 during fetal week 9 through 9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on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57913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ge 4 is just before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2160" y="556272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ge 5 is process of long bone growth during childhood &amp; adolesc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cartilage within the epiphyseal plate of a growing long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4118" t="16364" r="9412" b="13636"/>
          <a:stretch/>
        </p:blipFill>
        <p:spPr>
          <a:xfrm>
            <a:off x="3352680" y="-50760"/>
            <a:ext cx="583272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physeal growth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la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child, left, and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adult, right (see arrow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6480" y="2057400"/>
            <a:ext cx="91504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regulating bone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 D: increases calcium from g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thyroid hormone (PTH): increases blood calcium (some of this comes out of bo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onin: decreases blood calcium (opposes P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hormone &amp; thyroid hormone: modulate bon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 hormones: growth spurt at adolescense and closure of epiph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4876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glottis – flap keeping food out of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tilaginous rings holding open the air tubes of the respiratory system (trachea and bronch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rtebral di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ic sym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ular discs such as meniscus in knee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059" t="10000" r="2353" b="8182"/>
          <a:stretch/>
        </p:blipFill>
        <p:spPr>
          <a:xfrm>
            <a:off x="5089680" y="1143000"/>
            <a:ext cx="40845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e re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eoc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 re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eob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al: parathyroid horm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eocytes are transformed osteob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s (examp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nd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cart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ond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on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on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te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st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st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precursor cell or one that produces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te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te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air of bone fractures (break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compound fra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and open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2727" t="23529" r="0" b="23529"/>
          <a:stretch/>
        </p:blipFill>
        <p:spPr>
          <a:xfrm>
            <a:off x="152280" y="1409760"/>
            <a:ext cx="89982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orders of cartilage and b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ive col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genetic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Osteogenesis imperfecta (brittle bones) – AD (autosomal domin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Ehlers-Danlos (rubber m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ive endochondral o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Achondroplasia (short –limb dwarfism) -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calcification (requires calcium and vitamin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teomalacia (soft bones) in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kets in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6064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“AD” here  means autosomal dominant 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ts disease – excessive turnover, abnormal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eosarcoma – bone cancer, affecting children primar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eoporosis – usually age related, esp.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bone mass and increased fra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rption outpaces bone d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rcRect l="15294" t="19091" r="22353" b="15455"/>
          <a:stretch/>
        </p:blipFill>
        <p:spPr>
          <a:xfrm>
            <a:off x="3124080" y="0"/>
            <a:ext cx="5091120" cy="69152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58600" y="5335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440" y="405288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teoporotic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 the four basic types of tissu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t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e tissue pro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t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7059"/>
          <a:stretch/>
        </p:blipFill>
        <p:spPr>
          <a:xfrm>
            <a:off x="-106200" y="-457200"/>
            <a:ext cx="9250200" cy="6643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644640" y="363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t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tilage is connective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43400" y="144792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ndr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nd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cellular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s: collagen &amp; ela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llylike ground substance of complex suga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-80% water (responsible for the resil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rves or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39094" t="23529" r="5455" b="21176"/>
          <a:stretch/>
        </p:blipFill>
        <p:spPr>
          <a:xfrm>
            <a:off x="76320" y="2209680"/>
            <a:ext cx="4181400" cy="3224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97960" y="54468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yaline cartil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cartilage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6477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aline cartilage: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flexible and resi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ndrocytes appear 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cu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avity in matrix holding chondroc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gen the only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cartilage: highly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ben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with elastic as well as collagen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glottis, larynx and 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ocartilage: resists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compression and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of thick collagen fibers alternating with rows of chondrocytes (in matr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ee menisci and annunulus fibrosis of intervertebral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39094" t="23529" r="4545" b="21176"/>
          <a:stretch/>
        </p:blipFill>
        <p:spPr>
          <a:xfrm>
            <a:off x="6324480" y="457200"/>
            <a:ext cx="2556000" cy="1940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39094" t="20000" r="3636" b="20000"/>
          <a:stretch/>
        </p:blipFill>
        <p:spPr>
          <a:xfrm>
            <a:off x="6324480" y="2438280"/>
            <a:ext cx="2654280" cy="214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48182" t="35294" r="3636" b="21176"/>
          <a:stretch/>
        </p:blipFill>
        <p:spPr>
          <a:xfrm>
            <a:off x="6327720" y="4890960"/>
            <a:ext cx="28162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999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31080" y="120600"/>
            <a:ext cx="36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aline Cartil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8:01:37Z</dcterms:created>
  <dc:creator>Kathryn Watson</dc:creator>
  <dc:description/>
  <dc:language>en-US</dc:language>
  <cp:lastModifiedBy>Kathryn Watson</cp:lastModifiedBy>
  <dcterms:modified xsi:type="dcterms:W3CDTF">2009-02-15T05:00:07Z</dcterms:modified>
  <cp:revision>40</cp:revision>
  <dc:subject/>
  <dc:title>Cartilage</dc:title>
</cp:coreProperties>
</file>