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08A-F98E-4562-9357-70EC4BA5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0CA-F48D-48D7-8928-9B095C97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68A-CBEB-4756-9FB2-E54EEED0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399-EA42-4193-9E67-1C905002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EFB6-FF15-47AD-A00D-7EDBDD2D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A07E-06A1-4904-9C34-41FE80DA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643D-F0FB-4360-9A1E-C6572061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0EC8-9B72-4673-9D00-1BD904A9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696B-849D-4936-8388-20430C86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5CF1-97E2-4A15-8421-CB92D535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65E2-C64B-44D5-BFDF-B8E64339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CA7-5BC4-4A36-AA4B-99083CC6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25C3-9985-4EAB-B3BB-F488D6B4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D6C6-5CE9-41CF-A5C3-A8E84522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299C-4593-48FB-887C-C6937D09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DA6E-1163-4B58-9927-85CFFFCC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32F8-7D29-482E-B1B8-57CB94AD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517-30B6-4046-A6E2-77A1F2F9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8CF-F6AD-423E-86BB-5B60E08B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E9F-4F2D-4569-8A5A-6C0BF6B5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F89-3A11-4A75-80C7-7851581F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237-4356-4991-8891-533AE30D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299-B8ED-4425-AAA1-6C53A338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214-8FB5-49B7-8A94-B5747F69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A371-7967-44FC-A4B1-3077CEB0C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E0F4-3096-4B3A-A2A9-CBEAED9CE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441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 Black"/>
              </a:rPr>
              <a:t>S k I n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kin is aprotective,elastic,water proof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itive covering.it is consist always of two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an epithelial layer of ectodermal  origin .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rm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a  layer  of   connective   tissue   of mesodermal origein .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ath the dermis lies 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ypodermis 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bcutane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ssue,aloose connective t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may contain adipose cells 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Langerhans cell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star shaped cells found mainly in the st.spinosum.they bone marrow derived,carried to the skin by the blood&amp;have arole in immu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skin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Merkels cel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in thick skin of pal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es  &amp; resemble  the epithelial cell,but have small dense granules in their cytoplasm.these cells  act  asensory  mechanoreceptors &amp;they have    functions    related    to    the    diffuse neuroendocrine 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 </a:t>
            </a:r>
            <a:r>
              <a:rPr b="0" lang="ar-IQ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Dermis</a:t>
            </a: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C.T that support the dermis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s it to the S/C tissue(hypodermis).The thickness of the dermis varies according to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 of th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face of the dermis is very irregular&amp;h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rojections(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rm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pill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that interdigit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te with projections(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pidermal rid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of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rm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basal lam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found between the st.ba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papillary layer of the derm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Lamina reticular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It’s a delicate net of reti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ers present underlying the basal lamina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mposite the basment membra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rmis contains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w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ay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-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lled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pill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-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deep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lled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ticu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in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pill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ayer is composed of lo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T,fibroblasts ,mast cells and macroph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nchoring fibri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Its special collagen fibrils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illary layer insert into basal lamina&amp;ext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  the  dermis .they  bind  the  dermis to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ticu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Its thicker&amp;composed of irreg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 dense C.T&amp;therfore has more fibers&amp; f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than dose the papillary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rmis contains a network of fibers of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stic system with the thicker fibers found 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ticula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ayer&amp;from this region emer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ers  that become gradually thinner&amp;end by inserting   into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asal  lam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.These  elastic network is responsible for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lasti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sk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rmis also contains epidermal deriv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 as hair follicles,sweat gland&amp;sebac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nd.there is arich supply of nerves of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ypoderm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bcutaneous tissu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layer consists of loose C.T that binds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loosely to the subjacent organs.The hy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mis  contains  fat cells  that vary in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the area of the body &amp;vary in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the nutritional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 Black"/>
              </a:rPr>
              <a:t>*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essels&amp;skin sensorial          receptors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terial vessels that nourish the ski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lexu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 between  the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pill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ticu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ay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between the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derm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/C tiss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ymphatic vessels found as closed sacs in the dermal papillae&amp;converge to form tw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xuses smilar to the arte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most important functions of the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its great extension&amp; abundant sens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vation  ,is  to  receive stimuli from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.The skin is the most ext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y recep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erous free nerve endings in the epi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ir follicles,cutaneous glands &amp;exp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ptors  are present  in the dermis &amp; S/C tiss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*</a:t>
            </a: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Hairs</a:t>
            </a: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are elongated keratinized structures der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 invaginations  of  epidermal 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colar,size and dispositio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cor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and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e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body.Hairs are  found  evrywhere  on the body except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l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lip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lans pen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tor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labia minora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rowth of hai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hair arises from an epidermal invag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growth of hair follicle has aterm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lation called 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ir bul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epidermal  cells  covering  the   dermal papilla(containing capillaries)forming 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develop in to 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hair shaf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cell  makeup  the  hair bulb are div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te into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pecific cells types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e cells of the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ent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of the root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ex of the dermal papilla produce lar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culated  and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moderat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keratinize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form 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edul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h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oot cells multiply&amp;differentiate in to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heav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atinized&amp;compactly grouped fusiform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form 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air cort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The  cells  in the  periphery  are  produce 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air cuticle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.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peripheral  epithelial cells develop in 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ter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xter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oot sheaths.The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exte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continuous with the epidermis ,but the cells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ter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oot sheaths degenerate&amp;disappe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air follicle separated from the dermis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cellular    hyaline    layer    called 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glass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membran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ir colar is created by the activity of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melano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located  between  the  papilla  &amp; 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thelial cells of the hair r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The epidermis</a:t>
            </a: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 epidermis   is   a   stratified  squamous  keratinized   epithelium    and      contains   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mela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keratinocytes,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angerha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erke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.The epidermis is subdi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 five layers.Stratum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rne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St.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lucid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.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granulos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St.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pinos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St.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asa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unction of epidermis &amp;dermis is irre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rojections of the dermis called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apilla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digitate with evagination of the epi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pidermal ride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Differention between the keratinization process in the epidermis&amp;hair</a:t>
            </a: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e soft keratinized o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ers of dead cells.but i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ah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 compact keratinized 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in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ccur continuously&amp;over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ire surface.but i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ccur intermitt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ccur only in the hair ro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in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differentiation of all cells in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direction but i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ir r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o var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types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*</a:t>
            </a: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Sebaceous   gla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gland embedded in the dermis over most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bout 100/cm2 over most of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,but increase to 400-900/cm2 in the 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fore head&amp;scal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3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gland not found in the glabrous skin of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ms&amp;so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gland are a cinar gland opening in the u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ion of a hair follicle but in glans peni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ns clitoridis&amp; lips it opens directly on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rmal surface .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5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cini consist of abasal layer of undiffer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iated flattened epithelial cells that rests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al lamina.these cells proliferate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te&amp;filling the acini with roun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containing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at dropl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ir cytopl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6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nuclei of cells are shrinkage and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filled with fat droplets.The product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cess is called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b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The function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b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y have weak antibacterial &amp;antif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 prope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7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.gland is aholocrine gland,because 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of secretion is released with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mi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f dead cell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duct comprises acomp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x mixture of lipids that include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riglycer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waxe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holeste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Sweat  gla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.gland are widely distributed in the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 in the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lans pen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er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.gland are simple, coi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bular gland whose ducts open at the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3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ucts do not divide,and their diamete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ner than that of the secretory portion.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cts of gland are lined with stratified cuboid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epithel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retory part of the gland is embed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dermis and surrounded by myoepith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al cells. When contraction of these cells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ischarge the secre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5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rotory portion of gland have two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ce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-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Da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re pyramidal cells tha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lumenal surface of this p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gland.Their basal surface does not t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al lamina.secrotory granules cont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glycoprote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are  abundant  in  their    ap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topla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-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ear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are devoid of secrotory gran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basal plasma lemma has the numer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ginations characteristic of cells inv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ransepithelial salt and fluid trans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6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uid secreted by sweat glands is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visc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contains little protein.Its 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s ar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odium chlor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r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mon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and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ric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7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other type of sweat gland is cal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p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Its present in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xill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re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and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this gland are m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lar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n merocrine sweat gland.They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eded in  the  dermis &amp; hypodermis 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ucts open into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h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ollic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These g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iscous secre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is initi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orless but may a quire adistinctive odor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sult of bacterial decomposition.Apocr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nd are innervated by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renerg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rv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ings,but merocrine glands receiv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olinerg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4760" y="0"/>
            <a:ext cx="8769240" cy="6629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14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*</a:t>
            </a: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St.corneum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lls consist of St.corneum are flatt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nucleated keratinized cells.the cytopl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ed with protein called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erat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After keratinization these cells consist only fibri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morphous protein and thickened 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ranes,they are called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orny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These cells are continuously shed at the surface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.corne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*</a:t>
            </a: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St.lucidu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69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layer is translucent,thin layer of flatt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osinophilic epidermalcells.Through 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cope,the organells and nuclei are no longer and the cytoplasm consist primarily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ely packed keratin fillaments and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mosomes   are  still  evident  between adjacent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*</a:t>
            </a: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St.granulosum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8080" y="685440"/>
            <a:ext cx="8845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lls of this layers are flattened polyg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 and    the    cytoplasm   is   filled   with  basophilic    granues    called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eratohyal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ranules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St.spinosu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lls of this layer are cuboidal or sligh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tend    with   a   central   nucleus  and  a cytoplasm  are  filled with bundles of kera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aments.these keratin bundles,visible u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microscope are called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onofila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 a role in resisting the effects of abra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*</a:t>
            </a: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St.basale(germinativum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layer consist of asingle layer of basophilic columnar or cuboidal cells.these cells contain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mosom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nd cells to ge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surface. These cells contain stem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ible for mitotic activity &amp; conj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next layer.The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t.basale&amp;spin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a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alpighi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ayer responsible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itos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these layer only contains epide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m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Melanocytes</a:t>
            </a: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 a  specialized    cell   of    the   epidermis  foundBetween the cells of st.basale&amp;in the h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icles  &amp;produce 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melan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pigment prot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skin  from sun ultra violet&amp;produce a d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n   pigment  called 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umelan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pro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igment   found   in   the   red  hair  is  called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pheomelan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lanocytes are not atta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adjacent keratinocytes by desmosom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  are  bound  to  the   basal   lamina   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idesmosomes   .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yros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by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rosina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ing   to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3,4-dihydroxy phenylal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paqun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elanine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39080" y="61722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6629400"/>
            <a:ext cx="60948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6553080"/>
            <a:ext cx="45720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3:53:23Z</dcterms:created>
  <dc:creator>scfcs</dc:creator>
  <dc:description/>
  <dc:language>en-US</dc:language>
  <cp:lastModifiedBy>scfcs</cp:lastModifiedBy>
  <dcterms:modified xsi:type="dcterms:W3CDTF">2007-11-06T20:05:57Z</dcterms:modified>
  <cp:revision>80</cp:revision>
  <dc:subject/>
  <dc:title>S k i n</dc:title>
</cp:coreProperties>
</file>