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5.png" ContentType="image/pn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EEFF-3516-402E-8671-DD030D827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4041360"/>
            <a:ext cx="8915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18C7-C058-4FF3-ADD6-F19BCA25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66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EB6B-FB90-4566-B400-3E4D3EA91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2880" y="129492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7520" y="129492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404136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2880" y="404136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7520" y="404136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F75B-606E-4BF1-82FB-FDA25E257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318F-0C3E-41ED-AA61-7248A62A4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70220-58A7-4A00-944F-C156F314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AD5F-1B64-44ED-AAE6-0211215F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4096-CDDD-4FD1-AF46-E741FA38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A1F6-E102-4FC5-88A5-D54D1DF1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D453-6E4A-4CE0-9E0F-EA1A47CB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2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B3AC-1BC2-4005-9293-8ED1DB6E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B81F-1919-4265-9BD5-EC9A53A8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966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AF0D6-0E80-40F0-B824-10163525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240" y="4041360"/>
            <a:ext cx="8915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29AC1-A200-4116-B9E8-2C255BBE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240" y="4041360"/>
            <a:ext cx="8915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A46DE-40FE-4FD8-B788-C15B4111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2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966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F7FE-0093-4B62-9F06-3EED3D452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2880" y="129492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7520" y="129492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240" y="404136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2880" y="404136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7520" y="404136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AD41-0E15-43B1-AE5C-69207799F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1716-CBC1-42CB-BC60-597FD2A6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2E29-A429-40C5-BDCC-CC38B5B6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0FDF-0E06-4C4D-BF59-6E262285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83AC-528E-40EE-A170-36386EDF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4A86-2656-4FB5-9995-47D416F2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66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0B39-6AA8-4F5A-BF16-1BC3858D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4041360"/>
            <a:ext cx="8915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8EDD-6E1A-4E35-B6E1-F880F034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15CF-A511-4645-862B-6FF70FD6877B}" type="slidenum">
              <a:rPr b="1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293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3C0B-3482-46F6-A2D9-4F7B585EE4F7}" type="slidenum"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algn="ctr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jdaross.mcmail.com/images/erythrocytes.jpg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www.meddean.luc.edu/lumen/MedEd/Histo/HistoImages/hl2B-64.jpg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0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1447920"/>
            <a:ext cx="88390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fd293"/>
                </a:solidFill>
                <a:latin typeface="Impact"/>
              </a:rPr>
              <a:t>The Circulatory System</a:t>
            </a:r>
            <a:br>
              <a:rPr sz="4800"/>
            </a:br>
            <a:endParaRPr b="0" lang="en-US" sz="66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-360" y="4038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The Heart, Blood Vessels, Blood Typ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The Cardiovascular System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8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Blood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. Erythrocytes - Red Blood Cell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47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arry hemoglobin and oxygen.  Do not have a nucleus and live only about 120 days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47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47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an not repair themselves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95680" y="838080"/>
            <a:ext cx="4381560" cy="3394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52880" y="4267080"/>
            <a:ext cx="342900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The Cardiovascular System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4952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Blood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. Leukocytes – White Blood cell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ight infection and are formed in the bone marrow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ive types – neutrophils, lymphocytes, eosinophils, basophils, and monocytes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0" t="0" r="0" b="3244"/>
          <a:stretch/>
        </p:blipFill>
        <p:spPr>
          <a:xfrm>
            <a:off x="5181480" y="2514600"/>
            <a:ext cx="3962520" cy="3121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The Cardiovascular System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685800"/>
            <a:ext cx="4800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Blood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. Thrombocytes – Platelets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ese are cell fragment that are formed in the bone marrow from magakaryocytes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ot Blood by sticking together – via protein fibers called </a:t>
            </a:r>
            <a:r>
              <a:rPr b="1" lang="en-US" sz="2400" spc="-1" strike="noStrike">
                <a:solidFill>
                  <a:srgbClr val="d3a219"/>
                </a:solidFill>
                <a:latin typeface="Tahoma"/>
              </a:rPr>
              <a:t>fibrin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029200" y="2503440"/>
            <a:ext cx="4114800" cy="29923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Impact"/>
              </a:rPr>
              <a:t>Disorders of the Circulatory System</a:t>
            </a:r>
            <a:endParaRPr b="0" lang="en-US" sz="36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a219"/>
                </a:solidFill>
                <a:latin typeface="Tahoma"/>
                <a:ea typeface="Times New Roman"/>
              </a:rPr>
              <a:t>Anemia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 lack of iron in the blood, low RBC coun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a219"/>
                </a:solidFill>
                <a:latin typeface="Tahoma"/>
                <a:ea typeface="Times New Roman"/>
              </a:rPr>
              <a:t>Leukemia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-  white blood cells proliferate wildly, causing anemi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a219"/>
                </a:solidFill>
                <a:latin typeface="Tahoma"/>
                <a:ea typeface="Times New Roman"/>
              </a:rPr>
              <a:t>Hemophilia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 bleeder’s disease, due to lack of fibrinogen in thrombocyt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a219"/>
                </a:solidFill>
                <a:latin typeface="Tahoma"/>
                <a:ea typeface="Times New Roman"/>
              </a:rPr>
              <a:t>Heart Murmur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-  abnormal heart beat, caused by valve problem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a219"/>
                </a:solidFill>
                <a:latin typeface="Tahoma"/>
                <a:ea typeface="Times New Roman"/>
              </a:rPr>
              <a:t>Heart attack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-  blood vessels around the heart become blocked with plaque, also called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yocardial infarctio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Unit 9 – The Heart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rdiovascular Syst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ahoma"/>
              </a:rPr>
              <a:t>The Hea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3276720" cy="2457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2895480" y="426708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5918040" y="1752480"/>
            <a:ext cx="3225960" cy="24195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Functions of the Heart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Generating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blood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pressur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outing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blood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eart separates pulmonary and systemic circulation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suring one-way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blood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flow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eart valves ensure one-way flow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gulating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blood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supply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hanges in contraction rate and force match blood delivery to changing metabolic need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" dur="1" fill="hold"/>
                                  <p:tgtEl>
                                    <p:spTgt spid="12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Size, Shape, Location </a:t>
            </a:r>
            <a:br>
              <a:rPr sz="4000"/>
            </a:b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of the Heart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181120" y="190512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ze of a closed fis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hap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Apex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: Blunt rounded point of con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Bas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: Flat part at opposite of end of con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ocated in thoracic cavity in mediastinum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28600" y="213372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7" dur="1" fill="hold"/>
                                  <p:tgtEl>
                                    <p:spTgt spid="12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Heart Cross Section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990720" y="1143000"/>
            <a:ext cx="7238880" cy="5429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Pericardium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193760" y="1295280"/>
            <a:ext cx="6807240" cy="5105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Heart Wall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ree layers of tissu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Epicardium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: This serous membrane of smooth outer surface of hear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Myocardium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: Middle layer composed of cardiac muscle cell and responsibility for heart contracting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Endocardium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: Smooth inner surface of heart chamber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5" dur="1" fill="hold"/>
                                  <p:tgtEl>
                                    <p:spTgt spid="1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The Closed Circulatory System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339933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umans have a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osed circulatory system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, typical of all vertebrates, in which blood is confined to vessels and is distinct from the interstitial fluid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spcBef>
                <a:spcPts val="601"/>
              </a:spcBef>
              <a:buClr>
                <a:srgbClr val="339933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e heart pumps blood into large vessels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at branch into smaller ones leading into the organs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spcBef>
                <a:spcPts val="601"/>
              </a:spcBef>
              <a:buClr>
                <a:srgbClr val="339933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terials are exchanged by diffusion between the blood and the interstitial fluid bathing the cells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Heart Wall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990720" y="1219320"/>
            <a:ext cx="7035840" cy="52768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External Anatomy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86040" y="1295280"/>
            <a:ext cx="3505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Four chamber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 atri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 ventricl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Auricle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Major vein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uperior vena cav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ulmonary vein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Major arterie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ort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ulmonary trunk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52280" y="1523880"/>
            <a:ext cx="5334120" cy="4000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9" dur="1" fill="hold"/>
                                  <p:tgtEl>
                                    <p:spTgt spid="13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External Anatomy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52280" y="1828800"/>
            <a:ext cx="4445280" cy="3333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Coronary Circulation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295280" y="1295280"/>
            <a:ext cx="6883560" cy="51627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Heart Valves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257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trioventricular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ricuspid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icuspid or mitra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milunar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ortic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ulmonary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event blood from flowing back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52280" y="1905120"/>
            <a:ext cx="4953240" cy="37144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1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3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9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5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5" dur="1" fill="hold"/>
                                  <p:tgtEl>
                                    <p:spTgt spid="14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Heart Valves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219320" y="129528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Function of the Heart Valves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143000" y="129528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Blood Flow Through Heart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52280" y="1905120"/>
            <a:ext cx="4343400" cy="32572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648320" y="1905120"/>
            <a:ext cx="4343400" cy="32572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Systemic and Pulmonary</a:t>
            </a:r>
            <a:br>
              <a:rPr sz="4000"/>
            </a:b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Circulation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447920" y="1676520"/>
            <a:ext cx="6350040" cy="4762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Heart Skeleton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181480" y="152388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sists of plate of fibrous connective tissue between atria and ventricl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ibrous rings around valves to suppor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rves as electrical insulation between atria and ventricl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ovides site for muscle attachmen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27080" y="1752480"/>
            <a:ext cx="4978440" cy="3733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7" dur="1" fill="hold"/>
                                  <p:tgtEl>
                                    <p:spTgt spid="1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The Cardiovascular System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724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ree Major Elements – Heart, Blood Vessels, &amp; Blood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.  </a:t>
            </a:r>
            <a:r>
              <a:rPr b="1" lang="en-US" sz="2800" spc="-1" strike="noStrike">
                <a:solidFill>
                  <a:srgbClr val="d3a219"/>
                </a:solidFill>
                <a:latin typeface="Tahoma"/>
              </a:rPr>
              <a:t>The Heart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cardiac muscle tissu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ighly interconnected cell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ur chamber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ight atrium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ight ventricl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Left atrium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Left ventricl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762440" y="3352680"/>
            <a:ext cx="4381560" cy="35053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Cardiac Muscle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46483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longated, branching cells containing 1-2 centrally located nuclei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ontains actin and myosin myofilaments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Intercalated disks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: Specialized cell-cell contact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esmosomes hold cells together and gap junctions allow action potential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lectrically, cardiac muscle behaves as single unit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362320" y="99072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1" dur="1" fill="hold"/>
                                  <p:tgtEl>
                                    <p:spTgt spid="15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Conducting System of Heart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219320" y="129528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Electrical Properties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sting membrane potential (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RMP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) presen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on potential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apid depolarization followed by rapid, partial early repolarization.  Prolonged period of slow repolarization which is plateau phase and a rapid final repolarization phas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Voltage-gated channel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5" dur="1" fill="hold"/>
                                  <p:tgtEl>
                                    <p:spTgt spid="16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Action Potentials in</a:t>
            </a:r>
            <a:br>
              <a:rPr sz="4000"/>
            </a:b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Skeletal and Cardiac Muscle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193760" y="1600200"/>
            <a:ext cx="6730920" cy="50482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SA Node Action Potential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066680" y="1295280"/>
            <a:ext cx="6934320" cy="5200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Refractory Period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Absolut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: Cardiac muscle cell completely insensitive to further stimulat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Relativ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: Cell exhibits reduced sensitivity to additional stimulat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ng refractory period prevents tetanic contract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0" dur="1" fill="hold"/>
                                  <p:tgtEl>
                                    <p:spTgt spid="1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Electrocardiogram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181480" y="1371240"/>
            <a:ext cx="3733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ction potentials through myocardium during cardiac cycle produces electric currents than can be measured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attern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P wave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tria depolarization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QRS complex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Ventricle depolarization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tria repolarization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T wave: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Ventricle repolarization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52280" y="16765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2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8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4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0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6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2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8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4" dur="50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8" dur="1" fill="hold"/>
                                  <p:tgtEl>
                                    <p:spTgt spid="169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Cardiac Arrhythmias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Tachycardia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: Heart rate in excess of 100bpm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Bradycardia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: Heart rate less than 60 bpm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Sinus arrhythmia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: Heart rate varies 5% during respiratory cycle and up to 30% during deep respiratio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Premature atrial contraction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: Occasional shortened intervals between one contraction and succeeding, frequently occurs in healthy peopl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6" dur="1" fill="hold"/>
                                  <p:tgtEl>
                                    <p:spTgt spid="1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Alterations in Electrocardiogram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990720" y="1143000"/>
            <a:ext cx="7162560" cy="53722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Cardiac Cycle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eart is two pumps that work together, right and left half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petitive contraction (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systol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) and relaxation (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diastol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) of heart chamber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lood moves through circulatory system from areas of higher to lower pressure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traction of heart produces the pressur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6" dur="1" fill="hold"/>
                                  <p:tgtEl>
                                    <p:spTgt spid="1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rcRect l="0" t="0" r="0" b="3000"/>
          <a:stretch/>
        </p:blipFill>
        <p:spPr>
          <a:xfrm>
            <a:off x="457200" y="228600"/>
            <a:ext cx="8305920" cy="6229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Cardiac Cycle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143000" y="121932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Events during Cardiac Cycle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143000" y="121932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Heart Sounds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First heart sound or “lubb”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trioventricular valves and surrounding fluid vibrations as valves close at beginning of ventricular systol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Second heart sound or “dupp”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sults from closure of aortic and pulmonary semilunar valves at beginning of ventricular diastole, lasts longer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Third heart sound 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(occasional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aused by turbulent blood flow into ventricles and detected near end of first one-third of diastol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3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8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4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0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6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2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6" dur="1" fill="hold"/>
                                  <p:tgtEl>
                                    <p:spTgt spid="18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Location of Heart Valves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066680" y="1123920"/>
            <a:ext cx="7162920" cy="53722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Mean Arterial Pressure (MAP)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verage blood pressure in aorta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P=CO x PR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 is amount of blood pumped by heart per minut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O=SV x HR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SV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: Stroke volume of blood pumped during each heart beat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HR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: Heart rate or number of times heart beats per minut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ardiac reserve: Difference between CO at rest and maximum CO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 is total resistance against which blood must be pumped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3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6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  <p:animClr clrSpc="rgb">
                                <p:cBhvr>
                                  <p:cTn id="5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  <p:animClr clrSpc="rgb">
                                <p:cBhvr>
                                  <p:cTn id="5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44" dur="1" fill="hold"/>
                                  <p:tgtEl>
                                    <p:spTgt spid="186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Factors Affecting MAP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117440" y="1219320"/>
            <a:ext cx="6883560" cy="51624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Regulation of the Heart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Intrinsic regulation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: Results from normal functional characteristics, not on neural or hormonal regulatio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tarling’s law of the heart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Extrinsic regulation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: Involves neural and hormonal contro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Parasympathetic stimulation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upplied by vagus nerve, decreases heart rate, acetylcholine secreted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Sympathetic stimulation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upplied by cardiac nerves, increases heart rate and force of contraction, epinephrine and norepinephrine released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1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6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8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4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0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6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90" dur="1" fill="hold"/>
                                  <p:tgtEl>
                                    <p:spTgt spid="19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Heart Homeostasis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Effect of blood pressur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Baroreceptors monitor blood pressur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Effect of pH, carbon dioxide, oxyge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hemoreceptors monitor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Effect of extracellular ion concentratio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crease or decrease in extracellular K</a:t>
            </a:r>
            <a:r>
              <a:rPr b="1" lang="en-US" sz="20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decreases heart rat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Effect of body temperatur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Heart rate increases when body temperature increases, heart rate decreases when body temperature decrease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42" dur="1" fill="hold"/>
                                  <p:tgtEl>
                                    <p:spTgt spid="19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Baroreceptor and Chemoreceptor</a:t>
            </a:r>
            <a:br>
              <a:rPr sz="4000"/>
            </a:b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Reflexes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6807240" cy="5105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Baroreceptor Reflex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990720" y="1295280"/>
            <a:ext cx="7035840" cy="52768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95680" y="-360"/>
            <a:ext cx="4648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Pathway of the blood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228600"/>
            <a:ext cx="5486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perior Vena Cava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ight Atrium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ricuspid Valv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ight Ventricl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ulmonary Semilunar Valv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ung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ulmonary Vei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icuspid Valv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eft Ventricl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ortic Semilunar Valv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orta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o the bodies organs &amp; cell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Chemoreceptor Reflex-pH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1117440" y="1295280"/>
            <a:ext cx="6959880" cy="5220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Effects of Aging on the Heart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Gradual changes in heart function, minor under resting condition, more significant during exercis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ypertrophy of left ventricl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aximum heart rate decrease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creased tendency for valves to function abnormally and arrhythmias to occur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creased oxygen consumption required to pump same amount of blood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1" dur="1" fill="hold"/>
                                  <p:tgtEl>
                                    <p:spTgt spid="2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Circuits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8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3a219"/>
                </a:solidFill>
                <a:latin typeface="Tahoma"/>
              </a:rPr>
              <a:t>Pulmonary circui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e blood pathway between the right side of the heart, to the lungs, and back to the left side of the heart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3a219"/>
                </a:solidFill>
                <a:latin typeface="Tahoma"/>
              </a:rPr>
              <a:t>Systemic circui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e pathway between the left and right sides of the heart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rcRect l="67010" t="0" r="0" b="5984"/>
          <a:stretch/>
        </p:blipFill>
        <p:spPr>
          <a:xfrm>
            <a:off x="4648320" y="1143000"/>
            <a:ext cx="402264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The Cardiovascular System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7617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.  Blood Vessels -A network of tube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43160">
              <a:lnSpc>
                <a:spcPct val="90000"/>
              </a:lnSpc>
              <a:spcBef>
                <a:spcPts val="601"/>
              </a:spcBef>
              <a:buClr>
                <a:srgbClr val="d3a21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a219"/>
                </a:solidFill>
                <a:latin typeface="Tahoma"/>
              </a:rPr>
              <a:t>Arteries</a:t>
            </a:r>
            <a:r>
              <a:rPr b="1" lang="en-US" sz="2400" spc="-1" strike="noStrike">
                <a:solidFill>
                  <a:srgbClr val="d3a219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d3a219"/>
                </a:solidFill>
                <a:latin typeface="Tahoma"/>
              </a:rPr>
              <a:t>arterioles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move away from the hear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86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lastic Fiber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86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ircular Smooth Muscl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43160">
              <a:lnSpc>
                <a:spcPct val="90000"/>
              </a:lnSpc>
              <a:spcBef>
                <a:spcPts val="601"/>
              </a:spcBef>
              <a:buClr>
                <a:srgbClr val="d3a21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a219"/>
                </a:solidFill>
                <a:latin typeface="Tahoma"/>
              </a:rPr>
              <a:t>Capillaries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– where gas exchange takes place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86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ne cell thick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86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rves the Respiratory System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43160">
              <a:lnSpc>
                <a:spcPct val="90000"/>
              </a:lnSpc>
              <a:spcBef>
                <a:spcPts val="601"/>
              </a:spcBef>
              <a:buClr>
                <a:srgbClr val="d3a21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a219"/>
                </a:solidFill>
                <a:latin typeface="Tahoma"/>
              </a:rPr>
              <a:t>Veins</a:t>
            </a:r>
            <a:r>
              <a:rPr b="1" lang="en-US" sz="2400" spc="-1" strike="noStrike">
                <a:solidFill>
                  <a:srgbClr val="d3a219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d3a219"/>
                </a:solidFill>
                <a:latin typeface="Tahoma"/>
              </a:rPr>
              <a:t>Venules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moves towards the hear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86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keletal Muscles contract to force blood back from leg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86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ne way valu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86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en they break - varicose veins form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rcRect l="0" t="0" r="0" b="3846"/>
          <a:stretch/>
        </p:blipFill>
        <p:spPr>
          <a:xfrm>
            <a:off x="0" y="139680"/>
            <a:ext cx="9144000" cy="62722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The Cardiovascular System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952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3. The Blood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lasma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iquid portion of the blood. Contains clotting factors, hormones, antibodies, dissolved gases, nutrients and wast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952880" y="2603520"/>
            <a:ext cx="4191120" cy="27669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4T19:51:36Z</dcterms:created>
  <dc:creator>Giacobbe</dc:creator>
  <dc:description/>
  <cp:keywords/>
  <dc:language>en-US</dc:language>
  <cp:lastModifiedBy>Marian Weber</cp:lastModifiedBy>
  <cp:lastPrinted>2009-04-22T19:24:48Z</cp:lastPrinted>
  <dcterms:modified xsi:type="dcterms:W3CDTF">2009-05-11T12:26:41Z</dcterms:modified>
  <cp:revision>37</cp:revision>
  <dc:subject/>
  <dc:title>Circulatory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81033</vt:lpwstr>
  </property>
</Properties>
</file>