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4E74-BCDB-48C1-91DA-11FD7605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B99C-436A-4016-85C6-2AE66630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0F2D-4902-4C87-8F85-C09068D9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88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752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88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752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944-A65A-4BAE-B1BC-1D3B1DDE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5613-1604-45C2-A583-CD65C878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F489-CF67-4E2F-94E7-C7BBA83D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BF85-C988-4458-B1F5-FE78B7E6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B8D6-B21E-4CB2-89AE-86F97355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503D-A757-478C-B333-9EF1622A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3F02-7B77-4BF8-85B0-31211C80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4D5A-B071-436A-A327-63F4845B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2E5C-90F6-42B3-BE8D-34145050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0E51-149A-46C2-A4E8-82AD29E6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658F-C500-4325-8AD1-919240BE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65A7-0AEE-41AB-A84D-2F3D23D7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8A0B-1C90-44C2-8BB1-74767857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288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752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288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752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056B-C1B9-4603-848C-848EB5C3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771B-1C7F-47E7-B506-D67896FA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5176-6F85-4F68-B230-1D1A5DEC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8DBC-FAB0-4A35-B10F-DDA5589B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A365-D840-4297-BBBF-A7011E9A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C305-D0FC-48AE-B16E-07640AC2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A2BC-83C4-4E35-969E-AFA3E905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C08A-AF64-489A-AA12-DA15CA0A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4B85-460C-43AE-BB33-C4C74D1A8A8C}" type="slidenum">
              <a:rPr b="1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23D4-3646-42D6-A347-EF7CAED889C6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jdaross.mcmail.com/images/erythrocytes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meddean.luc.edu/lumen/MedEd/Histo/HistoImages/hl2B-64.jpg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0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447920"/>
            <a:ext cx="8839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fd293"/>
                </a:solidFill>
                <a:latin typeface="Impact"/>
              </a:rPr>
              <a:t>The Circulatory System</a:t>
            </a:r>
            <a:br>
              <a:rPr sz="4800"/>
            </a:br>
            <a:endParaRPr b="0" lang="en-US" sz="66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360" y="4038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The Heart, Blood Vessels, Blood Typ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The Cardiovascular System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8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Bloo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. Erythrocytes - Red Blood Cell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47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arry hemoglobin and oxygen.  Do not have a nucleus and live only about 120 day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47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an not repair themselve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95680" y="838080"/>
            <a:ext cx="4381560" cy="3394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426708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The Cardiovascular System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Bloo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. Leukocytes – White Blood cell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ght infection and are formed in the bone marrow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ve types – neutrophils, lymphocytes, eosinophils, basophils, and monocyte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0" t="0" r="0" b="3244"/>
          <a:stretch/>
        </p:blipFill>
        <p:spPr>
          <a:xfrm>
            <a:off x="5181480" y="2514600"/>
            <a:ext cx="3962520" cy="3121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The Cardiovascular System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4800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Bloo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. Thrombocytes – Platelet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se are cell fragment that are formed in the bone marrow from magakaryocytes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ot Blood by sticking together – via protein fibers called </a:t>
            </a:r>
            <a:r>
              <a:rPr b="1" lang="en-US" sz="2400" spc="-1" strike="noStrike">
                <a:solidFill>
                  <a:srgbClr val="d3a219"/>
                </a:solidFill>
                <a:latin typeface="Tahoma"/>
              </a:rPr>
              <a:t>fibrin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029200" y="2503440"/>
            <a:ext cx="4114800" cy="2992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Impact"/>
              </a:rPr>
              <a:t>Disorders of the Circulatory System</a:t>
            </a:r>
            <a:endParaRPr b="0" lang="en-US" sz="36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a219"/>
                </a:solidFill>
                <a:latin typeface="Tahoma"/>
                <a:ea typeface="Times New Roman"/>
              </a:rPr>
              <a:t>Anemia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 lack of iron in the blood, low RBC coun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a219"/>
                </a:solidFill>
                <a:latin typeface="Tahoma"/>
                <a:ea typeface="Times New Roman"/>
              </a:rPr>
              <a:t>Leukemia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-  white blood cells proliferate wildly, causing anem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a219"/>
                </a:solidFill>
                <a:latin typeface="Tahoma"/>
                <a:ea typeface="Times New Roman"/>
              </a:rPr>
              <a:t>Hemophilia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-  bleeder’s disease, due to lack of fibrinogen in thrombocyt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a219"/>
                </a:solidFill>
                <a:latin typeface="Tahoma"/>
                <a:ea typeface="Times New Roman"/>
              </a:rPr>
              <a:t>Heart Murmur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-  abnormal heart beat, caused by valve problem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a219"/>
                </a:solidFill>
                <a:latin typeface="Tahoma"/>
                <a:ea typeface="Times New Roman"/>
              </a:rPr>
              <a:t>Heart attack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-  blood vessels around the heart become blocked with plaque, also called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yocardial infarct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Unit 9 – The Heart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rdiovascular Sys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The Hea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3276720" cy="2457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895480" y="426708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918040" y="1752480"/>
            <a:ext cx="3225960" cy="2419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Functions of the Heart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enerating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blood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pressur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outing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bloo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eart separates pulmonary and systemic circulation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suring one-way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blood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flow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eart valves ensure one-way flow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gulating </a:t>
            </a:r>
            <a:r>
              <a:rPr b="1" lang="en-US" sz="2800" spc="-1" strike="noStrike">
                <a:solidFill>
                  <a:srgbClr val="cc0000"/>
                </a:solidFill>
                <a:latin typeface="Tahoma"/>
              </a:rPr>
              <a:t>blood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suppl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hanges in contraction rate and force match blood delivery to changing metabolic need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" dur="1" fill="hold"/>
                                  <p:tgtEl>
                                    <p:spTgt spid="12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Size, Shape, Location 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of the Heart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81120" y="190512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ze of a closed fis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hap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Apex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Blunt rounded point of c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Bas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Flat part at opposite of end of c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ocated in thoracic cavity in mediastinum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" dur="1" fill="hold"/>
                                  <p:tgtEl>
                                    <p:spTgt spid="1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Heart Cross Section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Pericardium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193760" y="1295280"/>
            <a:ext cx="6807240" cy="5105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Heart Wall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ree layers of tissu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Epicardium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This serous membrane of smooth outer surface of hear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Myocardium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Middle layer composed of cardiac muscle cell and responsibility for heart contract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Endocardium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Smooth inner surface of heart chamber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5" dur="1" fill="hold"/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The Closed Circulatory System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339933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umans have a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d circulatory system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, typical of all vertebrates, in which blood is confined to vessels and is distinct from the interstitial fluid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339933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heart pumps blood into large vessel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at branch into smaller ones leading into the organ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339933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terials are exchanged by diffusion between the blood and the interstitial fluid bathing the cell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Heart Wall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7035840" cy="5276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External Anatomy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86040" y="1295280"/>
            <a:ext cx="3505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Four chamber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 atr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 ventric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Auricl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Major vei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perior vena cav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ulmonary vein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Major arteri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ort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ulmonary trunk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9" dur="1" fill="hold"/>
                                  <p:tgtEl>
                                    <p:spTgt spid="13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External Anatomy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52280" y="1828800"/>
            <a:ext cx="4445280" cy="3333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oronary Circulation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6883560" cy="5162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Heart Valve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257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rioventricula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ricuspid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icuspid or mitra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miluna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ortic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ulmonar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event blood from flowing back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52280" y="1905120"/>
            <a:ext cx="4953240" cy="3714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3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5" dur="1" fill="hold"/>
                                  <p:tgtEl>
                                    <p:spTgt spid="14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Heart Valve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Function of the Heart Valve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143000" y="12952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Blood Flow Through Heart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52280" y="1905120"/>
            <a:ext cx="4343400" cy="3257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Systemic and Pulmonary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irculation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Heart Skeleton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81480" y="15238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sists of plate of fibrous connective tissue between atria and ventric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brous rings around valves to suppor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rves as electrical insulation between atria and ventric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vides site for muscle attachmen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27080" y="1752480"/>
            <a:ext cx="4978440" cy="3733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7" dur="1" fill="hold"/>
                                  <p:tgtEl>
                                    <p:spTgt spid="1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The Cardiovascular System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ree Major Elements – Heart, Blood Vessels, &amp; Bloo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  </a:t>
            </a:r>
            <a:r>
              <a:rPr b="1" lang="en-US" sz="2800" spc="-1" strike="noStrike">
                <a:solidFill>
                  <a:srgbClr val="d3a219"/>
                </a:solidFill>
                <a:latin typeface="Tahoma"/>
              </a:rPr>
              <a:t>The Heart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cardiac muscle tissu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ighly interconnected cell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 chamber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ight atrium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ight ventricl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eft atrium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eft ventricl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762440" y="3352680"/>
            <a:ext cx="438156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ardiac Muscle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46483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longated, branching cells containing 1-2 centrally located nuclei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ntains actin and myosin myofilaments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Intercalated disks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: Specialized cell-cell contact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esmosomes hold cells together and gap junctions allow action potential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lectrically, cardiac muscle behaves as single uni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362320" y="99072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1" dur="1" fill="hold"/>
                                  <p:tgtEl>
                                    <p:spTgt spid="1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onducting System of Heart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Electrical Propertie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sting membrane potential (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RMP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) presen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otential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apid depolarization followed by rapid, partial early repolarization.  Prolonged period of slow repolarization which is plateau phase and a rapid final repolarization phas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Voltage-gated channel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5" dur="1" fill="hold"/>
                                  <p:tgtEl>
                                    <p:spTgt spid="1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Action Potentials in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Skeletal and Cardiac Muscle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193760" y="1600200"/>
            <a:ext cx="6730920" cy="5048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SA Node Action Potential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6934320" cy="5200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Refractory Period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Absolut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 Cardiac muscle cell completely insensitive to further stimulat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Relativ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 Cell exhibits reduced sensitivity to additional stimulation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ng refractory period prevents tetanic contraction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0" dur="1" fill="hold"/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Electrocardiogram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181480" y="1371240"/>
            <a:ext cx="3733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ction potentials through myocardium during cardiac cycle produces electric currents than can be measured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ttern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P wave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tria depolarization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QRS complex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Ventricle depolarization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tria repolarization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T wave: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Ventricle repolarization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2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8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4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6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2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8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4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8" dur="1" fill="hold"/>
                                  <p:tgtEl>
                                    <p:spTgt spid="16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ardiac Arrhythmia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Tachycardi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Heart rate in excess of 100bpm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Bradycardi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Heart rate less than 60 bpm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Sinus arrhythmi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Heart rate varies 5% during respiratory cycle and up to 30% during deep respirat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Premature atrial contraction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: Occasional shortened intervals between one contraction and succeeding, frequently occurs in healthy peop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Alterations in Electrocardiogram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7162560" cy="5372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ardiac Cycle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eart is two pumps that work together, right and left half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petitive contraction (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systol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) and relaxation (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diastole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) of heart chamber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lood moves through circulatory system from areas of higher to lower pressur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raction of heart produces the pressur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6" dur="1" fill="hold"/>
                                  <p:tgtEl>
                                    <p:spTgt spid="1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rcRect l="0" t="0" r="0" b="3000"/>
          <a:stretch/>
        </p:blipFill>
        <p:spPr>
          <a:xfrm>
            <a:off x="457200" y="228600"/>
            <a:ext cx="8305920" cy="6229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ardiac Cycle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Events during Cardiac Cycle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Heart Sound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First heart sound or “lubb”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trioventricular valves and surrounding fluid vibrations as valves close at beginning of ventricular systol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Second heart sound or “dupp”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sults from closure of aortic and pulmonary semilunar valves at beginning of ventricular diastole, lasts longer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Third heart sound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(occasional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used by turbulent blood flow into ventricles and detected near end of first one-third of diastol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8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2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6" dur="1" fill="hold"/>
                                  <p:tgtEl>
                                    <p:spTgt spid="18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Location of Heart Valve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066680" y="1123920"/>
            <a:ext cx="7162920" cy="5372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Mean Arterial Pressure (MAP)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verage blood pressure in aort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AP=CO x PR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 is amount of blood pumped by heart per minut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=SV x HR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SV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: Stroke volume of blood pumped during each heart beat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HR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: Heart rate or number of times heart beats per minut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rdiac reserve: Difference between CO at rest and maximum C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 is total resistance against which blood must be pumpe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  <p:animClr clrSpc="rgb">
                                <p:cBhvr>
                                  <p:cTn id="5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  <p:animClr clrSpc="rgb">
                                <p:cBhvr>
                                  <p:cTn id="5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4" dur="1" fill="hold"/>
                                  <p:tgtEl>
                                    <p:spTgt spid="18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Factors Affecting MAP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117440" y="1219320"/>
            <a:ext cx="6883560" cy="5162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Regulation of the Heart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Intrinsic regulation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Results from normal functional characteristics, not on neural or hormonal regulat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arling’s law of the heart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Extrinsic regulation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: Involves neural and hormonal contro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Parasympathetic stimulation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plied by vagus nerve, decreases heart rate, acetylcholine secreted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Sympathetic stimulation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plied by cardiac nerves, increases heart rate and force of contraction, epinephrine and norepinephrine released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4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6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0" dur="1" fill="hold"/>
                                  <p:tgtEl>
                                    <p:spTgt spid="19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Heart Homeostasi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Effect of blood pressur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aroreceptors monitor blood pressur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Effect of pH, carbon dioxide, oxyge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hemoreceptors monitor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Effect of extracellular ion concentrat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crease or decrease in extracellular K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decreases heart rat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Effect of body temperatur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eart rate increases when body temperature increases, heart rate decreases when body temperature decrease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42" dur="1" fill="hold"/>
                                  <p:tgtEl>
                                    <p:spTgt spid="19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Baroreceptor and Chemoreceptor</a:t>
            </a:r>
            <a:br>
              <a:rPr sz="4000"/>
            </a:b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Reflexe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6807240" cy="5105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Baroreceptor Reflex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7035840" cy="5276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95680" y="-360"/>
            <a:ext cx="4648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Pathway of the blood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228600"/>
            <a:ext cx="5486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perior Vena Cav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ight Atrium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icuspid Valv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ight Ventric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ulmonary Semilunar Valv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ung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ulmonary Vei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icuspid Valv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ft Ventric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ortic Semilunar Valv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ort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o the bodies organs &amp; cell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hemoreceptor Reflex-pH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117440" y="1295280"/>
            <a:ext cx="6959880" cy="5220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Effects of Aging on the Heart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radual changes in heart function, minor under resting condition, more significant during exercis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ypertrophy of left ventric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aximum heart rate decreas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creased tendency for valves to function abnormally and arrhythmias to occu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creased oxygen consumption required to pump same amount of bloo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1" dur="1" fill="hold"/>
                                  <p:tgtEl>
                                    <p:spTgt spid="2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c1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ircuit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81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3a219"/>
                </a:solidFill>
                <a:latin typeface="Tahoma"/>
              </a:rPr>
              <a:t>Pulmonary circui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blood pathway between the right side of the heart, to the lungs, and back to the left side of the heart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3a219"/>
                </a:solidFill>
                <a:latin typeface="Tahoma"/>
              </a:rPr>
              <a:t>Systemic circui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pathway between the left and right sides of the heart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67010" t="0" r="0" b="5984"/>
          <a:stretch/>
        </p:blipFill>
        <p:spPr>
          <a:xfrm>
            <a:off x="4648320" y="1143000"/>
            <a:ext cx="402264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The Cardiovascular System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  Blood Vessels -A network of tub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43160">
              <a:lnSpc>
                <a:spcPct val="90000"/>
              </a:lnSpc>
              <a:spcBef>
                <a:spcPts val="601"/>
              </a:spcBef>
              <a:buClr>
                <a:srgbClr val="d3a21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a219"/>
                </a:solidFill>
                <a:latin typeface="Tahoma"/>
              </a:rPr>
              <a:t>Arteries</a:t>
            </a:r>
            <a:r>
              <a:rPr b="1" lang="en-US" sz="2400" spc="-1" strike="noStrike">
                <a:solidFill>
                  <a:srgbClr val="d3a219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d3a219"/>
                </a:solidFill>
                <a:latin typeface="Tahoma"/>
              </a:rPr>
              <a:t>arteriole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move away from the hear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86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lastic Fiber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86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ircular Smooth Muscl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43160">
              <a:lnSpc>
                <a:spcPct val="90000"/>
              </a:lnSpc>
              <a:spcBef>
                <a:spcPts val="601"/>
              </a:spcBef>
              <a:buClr>
                <a:srgbClr val="d3a21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a219"/>
                </a:solidFill>
                <a:latin typeface="Tahoma"/>
              </a:rPr>
              <a:t>Capillaries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– where gas exchange takes plac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86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ne cell thick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86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rves the Respiratory System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43160">
              <a:lnSpc>
                <a:spcPct val="90000"/>
              </a:lnSpc>
              <a:spcBef>
                <a:spcPts val="601"/>
              </a:spcBef>
              <a:buClr>
                <a:srgbClr val="d3a21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3a219"/>
                </a:solidFill>
                <a:latin typeface="Tahoma"/>
              </a:rPr>
              <a:t>Veins</a:t>
            </a:r>
            <a:r>
              <a:rPr b="1" lang="en-US" sz="2400" spc="-1" strike="noStrike">
                <a:solidFill>
                  <a:srgbClr val="d3a219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d3a219"/>
                </a:solidFill>
                <a:latin typeface="Tahoma"/>
              </a:rPr>
              <a:t>Venule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moves towards the hear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86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keletal Muscles contract to force blood back from leg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86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ne way valu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886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en they break - varicose veins form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0" y="139680"/>
            <a:ext cx="9144000" cy="6272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The Cardiovascular System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. The Bloo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lasma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iquid portion of the blood. Contains clotting factors, hormones, antibodies, dissolved gases, nutrients and wast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952880" y="2603520"/>
            <a:ext cx="4191120" cy="2766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19:51:36Z</dcterms:created>
  <dc:creator>Giacobbe</dc:creator>
  <dc:description/>
  <cp:keywords/>
  <dc:language>en-US</dc:language>
  <cp:lastModifiedBy>Marian Weber</cp:lastModifiedBy>
  <cp:lastPrinted>2009-04-22T19:24:48Z</cp:lastPrinted>
  <dcterms:modified xsi:type="dcterms:W3CDTF">2009-05-11T12:26:41Z</dcterms:modified>
  <cp:revision>37</cp:revision>
  <dc:subject/>
  <dc:title>Circulatory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81033</vt:lpwstr>
  </property>
</Properties>
</file>