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2F6E-AC89-48BA-9AC9-EFB04151E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3B6D-3A77-4094-A66E-E76AA596F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G23_17B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le: The Spl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: (a) The shape of the spleen roughly conforms to the shapes of adjacent organs; transverse section. (b)Visceral surface of intact spleen; major anatomical landmarks. (c)Histological appearance of the sple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words: spleen, transverse, abdominopelvic cavity, kidneys, pancreas, hilus, diaphragm, gastrosplenic ligament, stomach, liver, rib, white pulp, visceral surface, gastric area, splenic vein, splenic artery, renal area, histology, trabecular arteries, capsule, red pu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069B-F5AB-427D-A9FF-9FC4D4BD7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G23_16A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le: The Thym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: (a)Location of thymus on gross dissection. (b)Anatomical landmarks on thymus. (c)Low-power light micrograph of thymus. (d)Higher magnification showing structure of Hassall's corpus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words: thymus, gross dissection, thyroid, trachea, lobe, septae, lobule, cortex, medulla, blood vessels, Hassall's corpuscles, epithelial cells, lymph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B95B-1606-4428-8938-96E348081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G23_07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le: Derivation and Distribution of Lymph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: Hemocytoblast divisions produce lymphocytic stem cells with two different fates. One group remains in the bone marrow, producing B cells and NK cells. The second group migrates to the thymus, producing T cells. All three types circulate in the blood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words: lymphocytes, derivation, distribution, hemocytoblast, lymphoid stem cells, B cells, NK cells, migratory lymphoid stem, thymus, T cells, red bone marrow, peripheral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273F-1D31-468D-B761-FDD9A0C17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37D8-8279-4CC9-83F8-47EED80F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92D0-6A6F-4F5A-B66F-883F4CBAB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8F12-7ED4-4702-81F3-08D4220BA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8EAA-1271-40BC-87C5-A91F7C9F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1D14-E800-4A26-967D-479572A8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A80E-412C-4E34-87CC-0F1B9297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2F24-7284-4BB2-845B-45286AA2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01D9-0BBE-44EF-B87A-7926EA14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7272-43F3-4523-A6B6-47B2A0C3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608C-15A9-4CB3-BBC7-734880E0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E48E-339B-49EC-9E92-E96E5B1B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7B6F-B3AC-4302-A55F-72E133833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Lymphatic Syste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6000" y="3809880"/>
            <a:ext cx="6296040" cy="73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ymphocy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cel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 the immune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ack and destroy foreign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 cel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e plasma cells, which secrete antibo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ibodies immobilize antige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Lymphoid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rophages – phagocytize foreign substances and help activate T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dritic cells – spiny-looking cells with functions similar to macroph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icular cells – fibroblast–like cells that produce a stroma, or network, that supports other cell types in lymphoid org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ymph Nod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al structures located along lympha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losed by a fibrous caps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tex = outer por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inal centers produce lymphoc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ulla = inner por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ullary 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ymph enters nodes through afferent lymphatics, flows through sinuses, exits through efferent lymhpa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ymph N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basic fun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tration – macrophages destroy microorganisms and deb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mune system activation – monitor for antigens and mount an attack against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a Lymph N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7315200" y="65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Figure 20.4a,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rcRect l="727" t="1062" r="744" b="5175"/>
          <a:stretch/>
        </p:blipFill>
        <p:spPr>
          <a:xfrm>
            <a:off x="380880" y="1066680"/>
            <a:ext cx="838836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Lymphoid Org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leen, thymus gland, and tons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yer’s patches and bits of lymphatic tissue scattered in connective tissu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are composed of reticular connective tissu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help protect the 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lymph nodes filter lymp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ns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8080" y="1523520"/>
            <a:ext cx="827100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st lymphoid organs; form a ring of lymphatic tissue around the pharyn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latine tonsils – either side of the posterior end of the oral ca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gual tonsils – lie at the base of the tong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aryngeal tonsil – posterior wall of the nasopharyn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bal tonsils – surround the openings of the auditory tubes into the pharyn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ns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ymphoid tissue of tonsils contains follicles with germinal ce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nsil masses are not fully encapsul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pithelial tissue overlying tonsil masses invaginates, forming blind-ended cry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pts trap and destroy bacteria and particulate matt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onsil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" descr="C:\My Data\HA3e\HA ImageBank Art\Chap23\FG23_08B.JPG"/>
          <p:cNvPicPr/>
          <p:nvPr/>
        </p:nvPicPr>
        <p:blipFill>
          <a:blip r:embed="rId1"/>
          <a:stretch/>
        </p:blipFill>
        <p:spPr>
          <a:xfrm>
            <a:off x="762120" y="1776240"/>
            <a:ext cx="762156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_x0018_20-08_PalatinTonsl_1.jpg                                       000163BE_x000c_Macintosh HD                   ABA78158:"/>
          <p:cNvPicPr/>
          <p:nvPr/>
        </p:nvPicPr>
        <p:blipFill>
          <a:blip r:embed="rId1"/>
          <a:stretch/>
        </p:blipFill>
        <p:spPr>
          <a:xfrm>
            <a:off x="1440" y="1228680"/>
            <a:ext cx="914112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343080" indent="-343080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ymph 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r, colorless  fluid ( there is not  </a:t>
            </a:r>
            <a:r>
              <a:rPr b="0" lang="ar-IQ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 blood cel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luid within the lymph capillaries and vessels is known as lym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osition of lymph like blood plasma but in  different concentration ( water , Na , K ….etc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ple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st lymphatic or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ed on the left side of the abdominal ,between the stomach &amp; diaphrag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 pulp contains all the components of circulating bl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te pulp is similar to lymphatic no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ters bl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es bl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e of lymphocyte prolif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mune surveillance and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pleen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C:\My Data\HA3e\HA ImageBank Art\Chap23\FG23_17B.JPG"/>
          <p:cNvPicPr/>
          <p:nvPr/>
        </p:nvPicPr>
        <p:blipFill>
          <a:blip r:embed="rId1"/>
          <a:stretch/>
        </p:blipFill>
        <p:spPr>
          <a:xfrm>
            <a:off x="838080" y="1776240"/>
            <a:ext cx="762156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_x0012_20-06_Spleen_1.jpg                                             000163BE_x000c_Macintosh HD                   ABA78158:"/>
          <p:cNvPicPr/>
          <p:nvPr/>
        </p:nvPicPr>
        <p:blipFill>
          <a:blip r:embed="rId1"/>
          <a:stretch/>
        </p:blipFill>
        <p:spPr>
          <a:xfrm>
            <a:off x="0" y="692280"/>
            <a:ext cx="9140760" cy="58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ymus Gla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 – behind the sternum in the mediastin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apsule divides it into 2 l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ant – conspic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erty – maximum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urity – decreases in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iation and maturation of T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ymus Gla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C:\My Data\HA3e\HA ImageBank Art\Chap23\FG23_16A.JPG"/>
          <p:cNvPicPr/>
          <p:nvPr/>
        </p:nvPicPr>
        <p:blipFill>
          <a:blip r:embed="rId1"/>
          <a:stretch/>
        </p:blipFill>
        <p:spPr>
          <a:xfrm>
            <a:off x="685800" y="1776240"/>
            <a:ext cx="762156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unction of the Lymphatic Syste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ense against harmful organisms and chem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types of def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speci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c defense = i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moral immunity involves B cells that become plasma cells which  produce antibodies that bind with specific antige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ll-mediated immunity involves T cells that directly destroy foreign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erivation and Distribution of Lymphocytes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ar-IQ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C:\My Data\HA3e\HA ImageBank Art\Chap23\FG23_07.JPG"/>
          <p:cNvPicPr/>
          <p:nvPr/>
        </p:nvPicPr>
        <p:blipFill>
          <a:blip r:embed="rId1"/>
          <a:stretch/>
        </p:blipFill>
        <p:spPr>
          <a:xfrm>
            <a:off x="838080" y="1776240"/>
            <a:ext cx="762156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ymphatics Vess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ymphatic t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ymphatic or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tissue fluid to the blood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 fats from the digestive tract to the blood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ymphatic Vess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ymphati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pillar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ffuse, highly permeable due to presence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nivalv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sely overlapping endothelial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agen fiber attachment to surrounding structures prevents collapse of capil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ymphati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llecting vess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ke veins but thinner walled w/ more valves and anastomo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ymphati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unk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lumbar, bronchomediastinal, subclavian, jugular and intest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ymphati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uc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ight Lymphatic Duc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oracic 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ymphatic Capill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98080" y="1142640"/>
            <a:ext cx="8271000" cy="55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ing inflammation, lymph capillaries can absorb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 deb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cer ce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ls in the lymph nodes cleanse and “examine” this debr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cteals – specialized lymph capillaries present in intestinal muco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orb digested fat and deliver chyle to the bl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ymph Capillar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3" descr="C:\My Data\HA3e\HA ImageBank Art\Chap23\FG23_02A.JPG"/>
          <p:cNvPicPr/>
          <p:nvPr/>
        </p:nvPicPr>
        <p:blipFill>
          <a:blip r:embed="rId1"/>
          <a:stretch/>
        </p:blipFill>
        <p:spPr>
          <a:xfrm>
            <a:off x="760320" y="887400"/>
            <a:ext cx="762156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ymphatic Vessel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C:\My Data\HA3e\HA ImageBank Art\Chap23\FG23_03.JPG"/>
          <p:cNvPicPr/>
          <p:nvPr/>
        </p:nvPicPr>
        <p:blipFill>
          <a:blip r:embed="rId1"/>
          <a:stretch/>
        </p:blipFill>
        <p:spPr>
          <a:xfrm>
            <a:off x="760320" y="887400"/>
            <a:ext cx="762156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ymph Tissu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use lymphatic t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capsule pre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nd in connective tissue of almost all org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ymphatic n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capsule pre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al-shaped m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nd singly or in clu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ymphatic or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sule pre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ymph nodes, spleen, thymus g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ymphoid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ymphocytes are the main cells involved in the immun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main varie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3T14:23:50Z</dcterms:created>
  <dc:creator>Pam D'Arcey</dc:creator>
  <dc:description/>
  <dc:language>en-US</dc:language>
  <cp:lastModifiedBy>King Soft 2</cp:lastModifiedBy>
  <dcterms:modified xsi:type="dcterms:W3CDTF">2014-11-16T16:45:37Z</dcterms:modified>
  <cp:revision>19</cp:revision>
  <dc:subject/>
  <dc:title>Lymphatic System</dc:title>
</cp:coreProperties>
</file>