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  <p:sldId id="321" r:id="rId83"/>
    <p:sldId id="322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slide" Target="slides/slide66.xml"/><Relationship Id="rId84" Type="http://schemas.openxmlformats.org/officeDocument/2006/relationships/slide" Target="slides/slide67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47A08-3369-4EFE-B4A9-A97FDB77C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AEF8-79D9-4AED-B245-0D555B4BAC7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79F71-E418-4722-B747-3A17A8F253C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56D1E-BDA2-45E3-ADDF-F4401D94389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C6D8A-4123-4461-AEE5-660C8F91ACA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925E9-9251-4FC6-AA9D-FDA8B3361BF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4377F-F2C8-4B00-B6F1-DE278144B88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FFD48-4B6B-40F5-851D-7D579EF3F53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FFF2A-65F8-4364-9D82-B03ED12D4FB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814E9-1B3D-435D-8B5B-4BB0ECD8D18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8903C-2474-4DF9-ADD9-D88D18D29D7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911B53-9B5F-4DB8-B5A6-06C161549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36E8E-2D73-49CB-84EA-273A0FB2389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815550-BCDB-4682-8DE4-225B2B8D71E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1C8CD0-3AB7-4105-BDD3-8D5D161253A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55E6C6-6163-4931-BFA1-EE128CB88E2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B0C4AE-3111-4750-BB5F-552894606FB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8614B4-40BF-40C1-AB5B-FB3D6FD344E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01D5BE-49F5-4913-98CD-5810187421E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719257-CA99-4231-B4EF-CB56F0AFF4E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9AC171-BC86-4BE5-9867-3C4F99839CF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7E5A04-1E58-4787-AECD-CDC2D721B4B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2273E8-D1DF-4F58-A049-14E4DBB8F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5EDC8-315F-49EE-81BA-38035B3FEEC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77C8B6-9673-467F-8873-5A099499520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6D3434-0A49-48A3-B750-83D624DB9C7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515A93-4573-4AAF-8AB6-8BB6E8E8FF0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A7630B-74F6-4EF7-A951-C4AFB0ACBE9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6CC39E-0CBB-44BE-B841-30467D42924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763FBC-4C84-4F8B-B41C-68AA612EC72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F16A15-721C-483D-8412-FCB6A259B43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78B74C-C8BD-4502-A5F7-1F5032D85A1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D94821-AF33-4AFC-9DF8-2445C9D2122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960AD2-1570-4BD7-AAB8-945C2A55C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A523E-D0BC-4FEB-8C08-FD5226A289C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C8C328-AC0A-4268-9D69-6A96F184D4F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DDC0F6-0AA3-4D1F-AA76-27E4F448E7A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00C159-F25A-4E09-A9FF-89FE028ADF6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844AA-8FE0-46F3-9924-B2E9B4EC200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50DED-B946-46F1-89AF-503563CAEFE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570BE-0373-43BF-9E0E-827A49D1153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E8F5E-8BA7-4D75-85BB-A0968F657FB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D6598-B495-4532-A720-6744CD4FF8A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2C8DF-A849-43E8-92CA-070CAD0CC4A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F2CB9-81E6-4159-9188-38CA2318C0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A7357-CC3D-4837-8F63-CFBA306E3ED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42650-73C1-44CE-BDB8-09D879F4E9D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17B90-171B-4D5D-91B4-FEEDFD86D50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F401C-FD07-4587-A818-8B6F0F5E4FC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D8AC0-29E8-41E5-A985-86BDA6EDA76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B7179-7B2E-46CB-BE97-A6EF440F369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9A3E7A-878B-4428-8316-91A79AD6648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435BEF-DC8E-4AD6-8E1A-6CC0F5A71F4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D4443B-9685-4B34-9785-0C77C7F1086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27BE83-A7F1-49DF-B15A-4A91F046DA7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DC715E-973C-4753-9F16-01467403D3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9167F-20D1-48FB-8476-49B0E497603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626CB4-FF09-4AD4-8A5F-C62F5934890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CA5FF1-129B-4A68-A762-BD31FCAD07B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594F7C-BEE5-4B92-9565-2DB97C9DB32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B7D515-6BCA-4047-B389-8BE102252B7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B3026E-5638-4FDD-93ED-34527EBD1AB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C5A237-515D-4409-805C-24DBD056E7B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6D13AB-A4A1-49CD-9057-8EE580DC796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43AE22-38CA-46E1-ACD9-115DE66BB73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105FA-3F10-451B-B5DD-26477994BB3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4502B6-DAFB-480F-A633-620675D3DE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3BB86-DC55-48E6-87B5-6E725DFAEF8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9D855-64BF-49F3-8EC8-37B490E0CC6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0A13B-AF42-4266-8D9F-85F31FF9F16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C5A0A-CCD8-42A5-B193-1F13A4B9D2D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2917B9-5D8A-450F-BD50-0453C72A1BE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97A2FB-FAD7-4A06-8D71-C21B97662FE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DFCF2D-575B-4732-931D-D8854212CC5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9C97B2-1F25-4EB4-AC2E-95A888BC91C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423C1D-41AB-4A8F-BA4D-CE8B9BE5457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7073E-BA23-4E11-8B2A-BA1F8E04B02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48548-A767-4A6D-8454-BB5ED900F0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8F5D5-7B7F-424E-B0D4-319A5BB26C4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67745-3F2C-4F14-B329-4FC54BE8B37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4A261-73FF-4225-AAE5-948A374D4F7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FF6F1-B0E4-4DFB-86AA-81DC43249B3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0DC00-6436-44D5-9535-ACAC5D3AAA4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B7DAC-2148-45B3-894C-EE684BFFC5F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FCF4A-870E-45D0-89C9-2CEB3CF7FE1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91859-C335-44D1-97F3-55089B509C2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0CCC9-C367-448D-8EFA-313CBCB2487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F9F35-F870-4A43-BE27-957D61C034C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643EB-C6F4-4286-AB10-0EB04D316F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4B4D7-5686-4CD3-BD74-2884F23D2C6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4BB91-AF8A-4A4C-AB9C-26815FD554C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A9C0B2-DBCD-45E2-8990-982D7BF502B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2443C9-8254-4383-8FDF-1F04ECD2FE6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9EFA9F-C75B-4A18-8271-36A60646E20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22E89B-FD24-46A7-B211-B69A8CC6B93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66A783-A31B-44AE-ACF7-7098F2798E2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B88ECD-57E1-499D-9037-6D7225B7D8C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BD6765-4DFF-45FA-8CCE-444734D0981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86C0DD-B610-4597-AA2B-CC9C6297FA2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AA74D3-A546-47C7-A8ED-AB6A0D2868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5D6A3-4885-460C-A3B2-10A0696E73E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C43981-C030-4C15-A381-6B3BAE03754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AEECE9-1CAD-4FEE-AF66-1F3FF2E5311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478258-7B73-448B-9562-0773E61A2B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9EF8C-3CC4-459A-97B4-D3BAB675B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EFD56-BB26-4D22-B36B-DFF8107888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D0E98-E999-4FD7-AA80-258A7FC945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FFA50-FEDC-42BD-9588-48B61E08E2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BB5DB-2FAC-4603-8988-105388CC3C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FFA84-01A9-421C-B10D-E98D0E6B41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DBFD-F65F-4683-9E9D-6F262C841B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8CDC-A3F9-4FA4-8E85-70F81A2ED6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6CAC-D972-466E-BC55-60FD4AFA50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5229-94AA-4132-8332-4A160F2D35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E6F5-54BA-4708-90EF-02EACCEE10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7DB63-FD98-4C0C-8A16-F441CD1240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791F-D5D5-4B1A-9D95-8001300F3B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A5B5-41D7-4667-891D-0F099CFBB5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BC07-439F-4920-BE0D-04CC421F35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9950-C07D-47DE-B1A1-3369BA930A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5287-F355-4C9A-A5F5-00D5CFE4AA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A637-5071-412C-8D94-BB21B20517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4323-8C6A-428F-858D-CE5C46B443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E4202-52F8-4593-BB8C-01A87DAAB4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770258-0AB4-45E4-ACAA-C4CADB2C3E2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F15D5-DDA9-45E1-972E-E5BC4A944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BADDE-401E-42FE-88CF-01B2A697A9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00D4C-5756-44B8-BD19-F95164C492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E926E4-86EB-47DE-9EB5-A59FBA030A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D7F8D-F1AE-47E9-B1AD-DF04E223D95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7D942-AC27-4EEF-B91F-3F1E62C659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45AA0-F74A-495C-9AD8-1C1E3D1833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205B8-42FB-4D9A-97E0-8B03245B9A1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DE028-D715-486F-9A5D-BD74D00937E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49D30-FEF5-4A64-B65E-4D7EB03B3A0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3E139-B520-4804-8662-6AF69B9701E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ED5DCF-5B81-42B3-BF6A-E4D39238B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2759-1011-41CF-A70F-17D286F2BAE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3AE891-B1FB-47D7-8B4D-130DEE7260A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650B9D-846D-43A0-AD20-4FD1A7BE97F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6B3946-6CFE-4D97-9764-0492D3ACBA2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FBDEB8-B14F-4BC9-8849-D461167EA76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F57554-0ABD-4CCD-95D8-4C532990CE3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0392D4-6E2F-4236-9DA8-7B61B38AEB7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4659E6-C7CA-45AA-9D97-7A7231001F6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1814A5-9FE0-45FA-92B6-59226F96C6C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DEB882-6E85-47EE-AED9-0C6981B747A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2960A9-4FC4-402D-BA46-B53FB8771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6B67F-00DD-4D32-97F6-D1F8F64BD9D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DB2FDB-D0EB-4C5C-9381-71FD344CFDE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1AB3F-D9C5-453D-A3A3-132D81A963D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133C6-2861-47E5-8363-9641026A38B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4C826-E005-434B-BB19-08E69C13C58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57DCF-7BDB-40E4-AF67-DF505500D97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763E5-A6EC-40F8-8AA3-2BC5161C24F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FA12A-2CBD-45C4-8D0A-E93876818AA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0BFD7-C678-4D02-B77D-A137DFE7981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8596A-C968-4038-95E9-0278B5897C5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9CD73-EF62-41FC-AA48-2FA629F6E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11066-1D62-4F94-AC19-5DFBA269E3F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80C88-3912-4C13-B779-392BF4ABAB5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2B8E9-1374-4A64-87A7-D34422C8A22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2CBAD-35EC-459E-9B6B-CEE2C1FF383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EFFC11-ED62-46C0-AEBD-24561D8B2D3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6F768-4999-4EC8-93EB-CEBACBDFF35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F5C42-1945-48CB-AB9A-4B65D3601C2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321A7F-81C8-43AF-8F0D-234D41B0B60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10B161-E446-4971-965D-E7433E2DA6B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23AEE8-9CDA-45A8-81D9-241F9F06656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1E68ED-C422-4ED1-9B97-69FBD3C4C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FBDD2-BC72-4FBF-A110-6E23EB1BC8D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89648-B3AA-4F58-96CC-611D1059235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1AD92-50A8-43CC-878E-3BAF6B33410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2FF841-25A2-4E86-9001-215C67BDB3B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5B27B3-1D12-4C10-8E12-5C20B8DF489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121E2-7733-4B65-A17F-97B274A792F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65CA07-EC5E-4A7E-83EF-4374EDCBA1B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816085-8559-480B-BD55-A83E6DFC74E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D183FD-211D-45AA-B47D-734A52FA5A9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57063E-DE9E-4D8C-931E-F88E756B455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78B459-E356-429F-848A-967975DFF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24E81-5C82-490E-B8D0-D0D45010847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B3691D-378A-4A9B-A0A4-7EBA1FE4916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9247F7-50B4-4C8A-8726-57F10A1EC1A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E1A181-630D-4FDC-BD6E-EEEB9C4F789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E2B481-122F-41A8-A251-0E5B5288B97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841611-BEF9-46F7-AB23-D7142C43022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C62895-E6BC-4E1C-9FAC-E1240586607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B692F0-9B3C-432A-A09D-580F7DCD5FD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DDABF-2B84-42A8-80F0-3F60BF110D6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6CDC3-C19A-43C3-BDA6-121465F0DA7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0BDAE-FFAE-4060-A4B0-6622E1F61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37081E60-A732-4FDC-A07E-279CB05F1C68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ftr" idx="19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F4955201-4C81-4008-8CEC-CCE2C9463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ftr" idx="21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16CCA40B-E608-41E3-8605-8C54BF244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23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AA5E449E-116F-4C3B-ACBA-B539C76A2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ftr" idx="25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1B30A96A-3738-41B7-89CA-775B25984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ftr" idx="27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7AE3FBDC-F1F3-41E5-B52E-E82E1437E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ftr" idx="29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E69AA04A-CF0B-4344-8669-783ACBF16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ftr" idx="31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sldNum" idx="3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72C2E156-D680-4DB3-A6A3-048D32E3B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B14B9B83-86AE-4A6A-B36B-D643C5988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6530984E-1536-428D-9E4D-A80FB57E4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1BB26991-BB79-4FAF-8A0F-1515C25FB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9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14360F14-08C5-4599-9037-007CBB8A8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F9620277-4E22-4ECD-B714-F571F4A8D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3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D38198A6-B797-4F05-9E9F-851A6DA7A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15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1328FAB0-53C7-42F6-9D2D-7252A4D34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17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4E0F7EC3-2005-4882-9034-58C42442F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6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6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6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8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5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6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4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6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17EC9111-A737-440C-9CFB-A4F3036E3248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rvous T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s and integrates all body activities within limits that maintain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basic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sing changes with sensory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ness of stomach or sun on your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ing and remembering those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ting to those changes with eff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ular cont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andular secre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E304EBE0-8269-4C95-84B1-4E5821399451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onal Trans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body is location for most protein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transmitters &amp; repair prote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xonal transport system moves substan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axonal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ment in one direction only -- away from cell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ment at 1-5 mm per d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axonal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s organelles &amp; materials along surface of microtub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200-400 mm per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s in either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use or for recycling in cell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4880B8F9-1ED8-42AD-8AC2-BCA6F435648F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onal Transport &amp;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axonal transport route by which toxins or pathogens reach neuron cell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tanus (Clostridium tetani bacte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rupts motor neurons causing painful muscle spa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teria enter the body through a laceration or puncture inj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erious if wound is in head or neck because of shorter transi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DC4A115D-C1F9-4B7D-8399-5AF43D4A85E7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Classification of 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ory (afferent)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 sensory information from skin, muscles, joints, sense organs &amp; viscera to C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or (efferent)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otor nerve impulses to muscles &amp; g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urons (association)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 sensory to motor 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% of neurons in the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D8F8A624-F5C9-4E07-8A31-2FB02AF53A4B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al Classification of 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76320" y="373392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number of processes found on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olar = several dendrites &amp; one ax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common cell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polar neurons = one main dendrite &amp; one ax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nd in retina, inner ear &amp; olfact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polar neurons = one process only(develops from a bipo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always sensory neu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Picture 6" descr="J:\MEDIA\1738\173827.JPG"/>
          <p:cNvPicPr/>
          <p:nvPr/>
        </p:nvPicPr>
        <p:blipFill>
          <a:blip r:embed="rId1"/>
          <a:srcRect l="0" t="0" r="0" b="9489"/>
          <a:stretch/>
        </p:blipFill>
        <p:spPr>
          <a:xfrm>
            <a:off x="1270080" y="762120"/>
            <a:ext cx="65023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BDEE57B5-6101-49A6-9EAB-C5F11C7D6FC1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ociation or Inter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1028" descr="J:\MEDIA\1738\173828.JPG"/>
          <p:cNvPicPr/>
          <p:nvPr/>
        </p:nvPicPr>
        <p:blipFill>
          <a:blip r:embed="rId1"/>
          <a:srcRect l="0" t="0" r="0" b="7049"/>
          <a:stretch/>
        </p:blipFill>
        <p:spPr>
          <a:xfrm>
            <a:off x="2514600" y="2133720"/>
            <a:ext cx="4724280" cy="445608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d for histologist that first described them or their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CA5E2663-3B6F-4865-A96C-716F9D6C7AEC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 of the volume of the C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r cells than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X more nume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s can divi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mitosis in tumor formation (gliom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cell types in C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rocytes, oligodendrocytes, microglia &amp; ependy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cell types in P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wann and satellite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Picture 4" descr="\\Pro 200 nt\d-jazzdr\1085 Anatomy\chapter 12\Fig 12_3c.jpg"/>
          <p:cNvPicPr/>
          <p:nvPr/>
        </p:nvPicPr>
        <p:blipFill>
          <a:blip r:embed="rId1"/>
          <a:srcRect l="29632" t="16011" r="7285" b="22904"/>
          <a:stretch/>
        </p:blipFill>
        <p:spPr>
          <a:xfrm>
            <a:off x="6400800" y="1676520"/>
            <a:ext cx="1981080" cy="182880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roglia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8"/>
          <p:cNvSpPr/>
          <p:nvPr/>
        </p:nvSpPr>
        <p:spPr>
          <a:xfrm flipV="1">
            <a:off x="5257800" y="1905120"/>
            <a:ext cx="19051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عنصر نائب لرقم الشريحة 5"/>
          <p:cNvSpPr/>
          <p:nvPr/>
        </p:nvSpPr>
        <p:spPr>
          <a:xfrm>
            <a:off x="-4932360" y="-1467000"/>
            <a:ext cx="13390560" cy="81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3133DFFE-E18B-4E5F-89B0-576A11953CC2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cy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-shaped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 blood-brain barrier by covering blood capill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bolize neurotransmi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 K+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tructur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Picture 6" descr="J:\MEDIA\1738\173842.JPG"/>
          <p:cNvPicPr/>
          <p:nvPr/>
        </p:nvPicPr>
        <p:blipFill>
          <a:blip r:embed="rId1"/>
          <a:srcRect l="0" t="0" r="0" b="12258"/>
          <a:stretch/>
        </p:blipFill>
        <p:spPr>
          <a:xfrm>
            <a:off x="3809880" y="1905120"/>
            <a:ext cx="4318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CAF4471F-E207-476D-87F4-FC6D45D09A8E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igodendrocy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glial cell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forms myelin sheath around more than one axons in C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ous to Schwann cells of P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6" descr="J:\MEDIA\1738\173843.JPG"/>
          <p:cNvPicPr/>
          <p:nvPr/>
        </p:nvPicPr>
        <p:blipFill>
          <a:blip r:embed="rId1"/>
          <a:srcRect l="0" t="0" r="0" b="13607"/>
          <a:stretch/>
        </p:blipFill>
        <p:spPr>
          <a:xfrm>
            <a:off x="990720" y="1981080"/>
            <a:ext cx="3911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5435E77E-7EF8-45CC-8C8B-CC1415F3EA3A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gl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99840" y="434304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cells found near blood vess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gocytic role -- clear away dead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from cells that also gave rise to macrophages &amp; monoc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Picture 7" descr="J:\MEDIA\1738\173844.JPG"/>
          <p:cNvPicPr/>
          <p:nvPr/>
        </p:nvPicPr>
        <p:blipFill>
          <a:blip r:embed="rId1"/>
          <a:srcRect l="0" t="0" r="0" b="14648"/>
          <a:stretch/>
        </p:blipFill>
        <p:spPr>
          <a:xfrm>
            <a:off x="2209680" y="1219320"/>
            <a:ext cx="42418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2AC32D9A-3E58-488E-8761-2965881EC129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endyma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09120" y="41911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 epithelial membrane lining cerebral cavities &amp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ca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cerebrospinal fluid (CS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Picture 12" descr="J:\MEDIA\1738\173845.JPG"/>
          <p:cNvPicPr/>
          <p:nvPr/>
        </p:nvPicPr>
        <p:blipFill>
          <a:blip r:embed="rId1"/>
          <a:srcRect l="0" t="0" r="0" b="20000"/>
          <a:stretch/>
        </p:blipFill>
        <p:spPr>
          <a:xfrm>
            <a:off x="2514600" y="1828800"/>
            <a:ext cx="3949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029CA691-B77F-4AF3-9D41-61069033AF4F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2" descr="J:\MEDIA\1738\173824.JPG"/>
          <p:cNvPicPr/>
          <p:nvPr/>
        </p:nvPicPr>
        <p:blipFill>
          <a:blip r:embed="rId1"/>
          <a:srcRect l="1453" t="2086" r="1434" b="7865"/>
          <a:stretch/>
        </p:blipFill>
        <p:spPr>
          <a:xfrm>
            <a:off x="914400" y="914400"/>
            <a:ext cx="7315200" cy="472428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-152640" y="-1526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jor Structures of the Nervous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in, cranial nerves, spinal cord, spinal nerves, ganglia, enteric plexuses and sensory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22875F61-32AE-4CDB-9529-6F22A86485D5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Picture 2" descr="J:\MEDIA\1738\173847.JPG"/>
          <p:cNvPicPr/>
          <p:nvPr/>
        </p:nvPicPr>
        <p:blipFill>
          <a:blip r:embed="rId1"/>
          <a:srcRect l="0" t="0" r="0" b="17646"/>
          <a:stretch/>
        </p:blipFill>
        <p:spPr>
          <a:xfrm>
            <a:off x="3352680" y="1447920"/>
            <a:ext cx="4229280" cy="213336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tellite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 cells surrounding neuronal cell bodies in peripheral gang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neurons in the PNS gang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1768C2A6-AC0F-4998-B6AE-A129E30CD4DF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Picture 4" descr="J:\MEDIA\1738\173846.JPG"/>
          <p:cNvPicPr/>
          <p:nvPr/>
        </p:nvPicPr>
        <p:blipFill>
          <a:blip r:embed="rId1"/>
          <a:srcRect l="0" t="0" r="0" b="10925"/>
          <a:stretch/>
        </p:blipFill>
        <p:spPr>
          <a:xfrm>
            <a:off x="2279520" y="1771560"/>
            <a:ext cx="4584960" cy="295272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wann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6668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s encircling PNS ax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ell produces part of the myelin sheath surrounding an axon in the P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29A9056E-BB04-41F9-A829-F47C190B7B2D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on Coverings in P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xons surrounded by a lipid &amp; protein covering (myelin sheath) produced by Schwann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ilemma is cytoplasm &amp; nucle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Schwann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ps called nodes of Ran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elinated fibers appear wh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lly-roll like wrappings made of                                      lipoprotein = my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as electrical ins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s conduction of nerve impul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myelinated f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, small diameter fi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surrounded by neurilemma but no myelin sheath wr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Picture 4" descr="\\Pro 200 nt\d-jazzdr\1085 Anatomy\chapter 12\Fig 12_3part.jpg"/>
          <p:cNvPicPr/>
          <p:nvPr/>
        </p:nvPicPr>
        <p:blipFill>
          <a:blip r:embed="rId1"/>
          <a:stretch/>
        </p:blipFill>
        <p:spPr>
          <a:xfrm>
            <a:off x="5727600" y="1249200"/>
            <a:ext cx="3187800" cy="47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1560F7A9-2BF7-4F2D-93E8-07D52EE60210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elination in P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wann cells myelinate (wrap around) axons in the PNS during fetal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wann cell cytoplasm &amp; nucleus forms outermost layer of neurolemma with inner portion being the myelin she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be guides growing axons that are repairing themse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6" descr="J:\MEDIA\1738\173829.JPG"/>
          <p:cNvPicPr/>
          <p:nvPr/>
        </p:nvPicPr>
        <p:blipFill>
          <a:blip r:embed="rId1"/>
          <a:srcRect l="0" t="0" r="0" b="15343"/>
          <a:stretch/>
        </p:blipFill>
        <p:spPr>
          <a:xfrm>
            <a:off x="838080" y="990720"/>
            <a:ext cx="7620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881F1082-FA2C-4B5D-B1C2-11767B1BD723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elination in the C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godendrocytes myelinate axons in the C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, flat cell processes wrap about CNS axons, but the cell bodies do not surround the ax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eurilemma is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tle regrowth after injury is possible due to the lack of a distinct tube or neurilem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Picture 1031" descr="J:\MEDIA\1738\173830.JPG"/>
          <p:cNvPicPr/>
          <p:nvPr/>
        </p:nvPicPr>
        <p:blipFill>
          <a:blip r:embed="rId1"/>
          <a:srcRect l="0" t="0" r="0" b="10678"/>
          <a:stretch/>
        </p:blipFill>
        <p:spPr>
          <a:xfrm>
            <a:off x="1371600" y="3886200"/>
            <a:ext cx="62485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5EEB1BF5-CB1B-4752-8C9B-ED1DEA181012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y and White Ma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matter = myelinated processes (white in col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y matter = nerve cell bodies, dendrites, axon terminals, bundles of unmyelinated axons and neuroglia (gray col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pinal cord = gray matter forms an H-shaped inner core surrounded by white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brain =  a thin outer shell of gray matter covers the surface &amp; is found in clusters called nuclei inside the C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6" descr="J:\MEDIA\1738\173830.JPG"/>
          <p:cNvPicPr/>
          <p:nvPr/>
        </p:nvPicPr>
        <p:blipFill>
          <a:blip r:embed="rId1"/>
          <a:srcRect l="0" t="0" r="0" b="10678"/>
          <a:stretch/>
        </p:blipFill>
        <p:spPr>
          <a:xfrm>
            <a:off x="1676520" y="914400"/>
            <a:ext cx="57150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846D2724-AF54-4A22-9725-29500B6D8F9F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ctrical Signals in Neur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ns are electrically excitable due to the voltage difference across their membra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e with 2 types of electric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potentials that can travel long di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ed potentials that are local membrane change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iving cells, a flow of ions occurs through ion channels in the 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ADB66C19-3E19-47E8-8C95-821A43EA6316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Types of Ion Chann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kage (nongated) channels are always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ve cells have more K+ than Na+ leakage channe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result, membrane permeability to K+ is hig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s resting membrane potential of -70mV in nerve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 channels open and close in response to a stimulus results in neuron exci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tage-gated open in response to change in vol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and-gated open &amp; close in response to particular chemical stimuli (hormone, neurotransmitter, 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cally-gated open with mechanical st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C3087616-1A97-4A59-AB99-CFB7AAA9FB8D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ted Ion Chann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Picture 1030" descr="J:\MEDIA\1738\173831.JPG"/>
          <p:cNvPicPr/>
          <p:nvPr/>
        </p:nvPicPr>
        <p:blipFill>
          <a:blip r:embed="rId1"/>
          <a:srcRect l="0" t="0" r="0" b="5305"/>
          <a:stretch/>
        </p:blipFill>
        <p:spPr>
          <a:xfrm>
            <a:off x="914400" y="1523880"/>
            <a:ext cx="7581960" cy="4419720"/>
          </a:xfrm>
          <a:prstGeom prst="rect">
            <a:avLst/>
          </a:prstGeom>
          <a:ln w="0">
            <a:noFill/>
          </a:ln>
        </p:spPr>
      </p:pic>
      <p:sp>
        <p:nvSpPr>
          <p:cNvPr id="758" name="Oval 1031"/>
          <p:cNvSpPr/>
          <p:nvPr/>
        </p:nvSpPr>
        <p:spPr>
          <a:xfrm>
            <a:off x="1447920" y="3200400"/>
            <a:ext cx="76176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032"/>
          <p:cNvSpPr/>
          <p:nvPr/>
        </p:nvSpPr>
        <p:spPr>
          <a:xfrm>
            <a:off x="6324480" y="3200400"/>
            <a:ext cx="7621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1033"/>
          <p:cNvSpPr/>
          <p:nvPr/>
        </p:nvSpPr>
        <p:spPr>
          <a:xfrm>
            <a:off x="5715000" y="3733920"/>
            <a:ext cx="11430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0D135441-D805-4557-A40D-870861FD563E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ing Membrane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 ions along inside of cell membrane &amp; positive ions along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energy difference at rest is -70 m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is “polariz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ing potential exists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ion of ions different inside &amp; out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ellular fluid rich in Na+ and 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tosol full of K+, organic phosphate &amp; amino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rane permeability differs for Na+ and K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-100 greater permeability for K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ward flow of Na+ can’t keep up with outward flow of K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+/K+ pump removes Na+ as fast as it leak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81297674-6AB0-4F34-9DDC-C62A0E57DDF5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 of the Nervous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8" descr="J:\MEDIA\1738\173825.JPG"/>
          <p:cNvPicPr/>
          <p:nvPr/>
        </p:nvPicPr>
        <p:blipFill>
          <a:blip r:embed="rId1"/>
          <a:srcRect l="0" t="0" r="0" b="8769"/>
          <a:stretch/>
        </p:blipFill>
        <p:spPr>
          <a:xfrm>
            <a:off x="762120" y="1143000"/>
            <a:ext cx="7619760" cy="297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981080" y="4800240"/>
            <a:ext cx="5105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NS is brain and spin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S is everything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7558496A-DB67-462C-A31E-C9A12745DD3F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ed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80880" y="42670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deviations from resting potential of -70m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polarization = membrane has become more 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olarization = membrane has become more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7" descr="J:\MEDIA\1738\173833.JPG"/>
          <p:cNvPicPr/>
          <p:nvPr/>
        </p:nvPicPr>
        <p:blipFill>
          <a:blip r:embed="rId1"/>
          <a:srcRect l="0" t="51525" r="0" b="5896"/>
          <a:stretch/>
        </p:blipFill>
        <p:spPr>
          <a:xfrm>
            <a:off x="762120" y="1752480"/>
            <a:ext cx="7619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852E9281-9110-47B1-AB74-DC018EFDF4EB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Graded Potentials Ari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of stimu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cal stimulation of membranes with mechanical gated ion channels (press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 stimulation of membranes with ligand gated ion channels (neurotransmit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ed/postsynaptic/receptor or generator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s flow through ion channels and change membrane potential lo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unt of change varies with strength of stimu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of current (ions) is local change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22785FC7-1EF2-4C97-86CF-D94FE6155564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52280" y="3505320"/>
            <a:ext cx="8839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es of rapidly occurring events that change and then restore the membrane potential of a cell to its resting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channels open, Na+ rushes in (depolarization), K+ rushes out (repolariz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-or-none principal = with stimulation, either happens one specific way or not at all (lasts 1/1000 of a seco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s (spreads) over surface of cell without dy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Picture 8" descr="J:\MEDIA\1738\173834.JPG"/>
          <p:cNvPicPr/>
          <p:nvPr/>
        </p:nvPicPr>
        <p:blipFill>
          <a:blip r:embed="rId1"/>
          <a:srcRect l="0" t="45534" r="0" b="5305"/>
          <a:stretch/>
        </p:blipFill>
        <p:spPr>
          <a:xfrm>
            <a:off x="838080" y="838080"/>
            <a:ext cx="7620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787D8620-D916-4056-BF53-C5BC728D62E6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-152280" y="75960"/>
            <a:ext cx="94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olarizing Phase of Action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 or mechanical stimul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d a graded potential to rea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least (-55mV or thresho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tage-gated Na+ channels op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Na+ rushes into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sting membrane, inactivation gate of sodium channel is open &amp; activation gate is closed (Na+ can not get 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reshold (-55mV) is reached, both open &amp; Na+ 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tivation gate closes again in few ten-thousandths of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a total of 20,000 Na+ actually enter the cell, but they change the membrane potential considerably(up to +30m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feedback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Picture 5" descr="J:\MEDIA\1738\173834.JPG"/>
          <p:cNvPicPr/>
          <p:nvPr/>
        </p:nvPicPr>
        <p:blipFill>
          <a:blip r:embed="rId1"/>
          <a:srcRect l="4000" t="45534" r="53001" b="9776"/>
          <a:stretch/>
        </p:blipFill>
        <p:spPr>
          <a:xfrm>
            <a:off x="5638680" y="1219320"/>
            <a:ext cx="3276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CABB25C8-D7E4-47FD-8F76-22ED5E7791B8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larizing Phase of Action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reshold potential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5mV is reached, voltage-ga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+ channels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+ channel opening is mu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than Na+ chann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which caused de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K+ channels finally do open, the Na+ channels have already closed (Na+ inflow sto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+ outflow returns membrane potential to -70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nough K+ leaves the cell, it will reach a -90mV membran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and enter the after-hyperpolarizing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+ channels close and the membrane potential returns to the resting potential of -70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5" descr="J:\MEDIA\1738\173834.JPG"/>
          <p:cNvPicPr/>
          <p:nvPr/>
        </p:nvPicPr>
        <p:blipFill>
          <a:blip r:embed="rId1"/>
          <a:srcRect l="4000" t="45534" r="53001" b="9776"/>
          <a:stretch/>
        </p:blipFill>
        <p:spPr>
          <a:xfrm>
            <a:off x="5486400" y="1447920"/>
            <a:ext cx="3276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A072FB41-25D1-4E0E-82E0-7289F7F84F48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ctory Period of Action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 of time during whi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n can not gener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action pot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olute refractory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very strong stimulus w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egin another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tivated Na+ channels must return to the resting state before they can be reo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fibers have absolute refractory period of 0.4 msec and up to 1000 impulses per second ar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refractory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uprathreshold stimulus will be able to start an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+ channels are still open, but Na+ channels have 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5" descr="J:\MEDIA\1738\173834.JPG"/>
          <p:cNvPicPr/>
          <p:nvPr/>
        </p:nvPicPr>
        <p:blipFill>
          <a:blip r:embed="rId1"/>
          <a:srcRect l="4000" t="45534" r="53001" b="9776"/>
          <a:stretch/>
        </p:blipFill>
        <p:spPr>
          <a:xfrm>
            <a:off x="5410080" y="1371600"/>
            <a:ext cx="3276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8A3F6BB9-82C9-40E1-B8ED-1CF9BD79BB69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on Potential: Summariz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ing membrane potential is -70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olarization is the change from -70mV to +30 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larization is the reversal from +30 mV back to  -70 m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053" descr="J:\MEDIA\1738\173835.JPG"/>
          <p:cNvPicPr/>
          <p:nvPr/>
        </p:nvPicPr>
        <p:blipFill>
          <a:blip r:embed="rId1"/>
          <a:srcRect l="0" t="0" r="0" b="8669"/>
          <a:stretch/>
        </p:blipFill>
        <p:spPr>
          <a:xfrm>
            <a:off x="1143000" y="2209680"/>
            <a:ext cx="67816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B032A5A5-FE65-432A-B0D8-8753A1129307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agation of Action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ction potential spreads (propagates) over the surface of the axon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Na+ flows into the cell during depolarization,  the voltage of adjacent areas is effected and their voltage-gated Na+ channels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propagating along the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veling action potential is called a nerve impu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7BD1D377-701F-4DB2-AE68-52578441B473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nesth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ent opening of voltage-gated Na+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rve impulses cannot pass the anesthetized  reg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ocaine and lidoca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67C83818-F040-465D-AC4B-19D604C85C4E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inuous versus Saltatory Con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ous conduction (unmyelinated fib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-by-step depolarization of each portion of the length of the axole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tatory con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olarization only at nodes of Ranvier where there is a high density of voltage-gated ion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carried by ions flows through extracellular fluid from node to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21352018-1298-4CEA-8470-563FB57DF727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rvous System Di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nervous system (CN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 the brain and spin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pheral nervous system (P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 cranial and spinal nerves that contain both sensory and motor f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s CNS to muscles, glands &amp; all sensory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A6DDE1D9-CFA5-41EE-94CD-FED049B00D1B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tatory Co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5638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ve impulse conduction in which the impulse jumps from node to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7" descr="J:\MEDIA\1738\173836.JPG"/>
          <p:cNvPicPr/>
          <p:nvPr/>
        </p:nvPicPr>
        <p:blipFill>
          <a:blip r:embed="rId1"/>
          <a:srcRect l="0" t="0" r="0" b="6759"/>
          <a:stretch/>
        </p:blipFill>
        <p:spPr>
          <a:xfrm>
            <a:off x="762120" y="1143000"/>
            <a:ext cx="761976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3343966D-3254-4B7B-B274-052EECCC2118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d of Impulse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pagation speed of a nerve impulse is not related to stimulus strengt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r, myelinated fibers conduct impulses faster due to size &amp; saltatory con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ber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bers large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-20 microns &amp; 130 m/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elinated somatic sensory &amp; motor to skeletal 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fibers medi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-3 microns &amp; 15 m/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elinated visceral sensory &amp; autonomic pregangli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ibers smalle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.5-1.5 microns &amp; 2 m/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yelinated sensory &amp; autonomic mo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12A7B466-9C47-4559-B3E8-DF822B8C11C7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ing of Stimulus Int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differentiate a light touch from a firmer tou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of impul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 pressure generates impulses at a higher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sensory neurons activ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 pressure stimulates more neurons than does a light to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01DBA934-DA27-480E-85A9-1A44BF66DC0A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otentials in Nerve and Mus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re muscle cell membrane versus only the axon of the neuron is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ing membrane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ve is -70m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eletal &amp; cardiac muscle is closer to -90m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ve impulse is 1/2 to 2 m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cle action potential lasts 1-5 msec for skeletal &amp; 10-300msec for cardiac &amp; smo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est nerve conduction velocity is 18 times faster than velocity over skeletal muscle fi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2FABE3CE-6279-4CEC-9304-35097ECE846E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Ps arise on dendrites and cell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s arise only at trigger zone on axon hil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 is produced by voltage-gated ion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P is produced by ligand or  mechanically-gated channe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Ps are localized (not propag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s conduct over the surface of the ax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4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arison of Graded &amp; Action Pot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95C247C0-DE9B-4D7C-9FCE-1F26265D2592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arison of Graded &amp; Action Pot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tude of the AP is constant (all-or-n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ed potentials vary depending upon sti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uration of the GP is as long as the stimulus l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ctory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 has a refractory period due to the nature of the voltage-gated channels, and the GP has n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3A19D3CD-60F9-4B5C-A338-799038951B8C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 Transmission at Synap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Types of synap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ic current spreads to next cell through gap j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er, two-way transmission &amp; capable of synchronizing groups of neu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way information transfer from a presynaptic neuron to a postsynaptic 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xodendritic -- from axon to dend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xosomatic -- from axon to cell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xoaxonic -- from axon to a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297A6695-B0FD-4C9D-B454-1D3003E19CA5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mical Synap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5410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 potential reaches end bulb and voltage-gated Ca+ 2 channels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+2 flows inward triggering release of neurotransmi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transmitter crosses synaptic cleft &amp; binding to ligand-gated recept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re neurotransmitter released the greater the change in potential of the postsynaptic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aptic delay is 0.5 m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way information trans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Picture 4" descr="J:\MEDIA\1738\173838.JPG"/>
          <p:cNvPicPr/>
          <p:nvPr/>
        </p:nvPicPr>
        <p:blipFill>
          <a:blip r:embed="rId1"/>
          <a:srcRect l="0" t="0" r="0" b="6998"/>
          <a:stretch/>
        </p:blipFill>
        <p:spPr>
          <a:xfrm>
            <a:off x="5753160" y="838080"/>
            <a:ext cx="33908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DC56F19C-2E47-48B0-BA46-2604FBB0C81B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itatory &amp; Inhibitory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 of a neurotransmitter can be either excitatory or inhib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polarizing postsynaptic potential is called an EP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results from the opening of ligand-gated Na+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stsynaptic cell is more likely to reach 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hibitory postsynaptic potential is called an IP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results from the opening of ligand-gated Cl- or K+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uses the postsynaptic cell to become more negative or hyper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stsynaptic cell is less likely to reach 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AD8DA495-E9B2-4736-96AC-8FBED7C7EBA3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al of Neurotransmi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5715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down concentration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zymatic degra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tylcholineste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take by neurons or glia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otransmitter transpor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zac = serotonin reuptak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ib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7" descr="J:\MEDIA\1738\173838.JPG"/>
          <p:cNvPicPr/>
          <p:nvPr/>
        </p:nvPicPr>
        <p:blipFill>
          <a:blip r:embed="rId1"/>
          <a:srcRect l="0" t="0" r="0" b="6998"/>
          <a:stretch/>
        </p:blipFill>
        <p:spPr>
          <a:xfrm>
            <a:off x="5410080" y="914400"/>
            <a:ext cx="313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1CC2FCEE-9587-4F42-AF82-4566CB80112F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divisions of the P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atic (voluntary) nervous system (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ns from cutaneous and special sensory receptors to the C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or neurons to skeletal muscle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nomic (involuntary) nervous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sory neurons from visceral organs to C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or neurons to smooth &amp; cardiac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cle and g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athetic division (speeds up heart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sympathetic division (slow down heart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ic nervous system (E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untary sensory &amp; motor neurons control GI 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ns function independently of ANS &amp; C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9C8E275A-7EC2-4D01-935A-693F5CB1FAAB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Picture 1035" descr="H:\$$TortoraPowerPoints\modified images\fig12_15a.jpg"/>
          <p:cNvPicPr/>
          <p:nvPr/>
        </p:nvPicPr>
        <p:blipFill>
          <a:blip r:embed="rId1"/>
          <a:stretch/>
        </p:blipFill>
        <p:spPr>
          <a:xfrm>
            <a:off x="609480" y="1219320"/>
            <a:ext cx="4010040" cy="5333760"/>
          </a:xfrm>
          <a:prstGeom prst="rect">
            <a:avLst/>
          </a:prstGeom>
          <a:ln w="0">
            <a:noFill/>
          </a:ln>
        </p:spPr>
      </p:pic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45720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tion of effects of neurotransmitters released from several end bulbs onto one neu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tial Sum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AA25DB2B-12CA-405A-94A1-ADC41CA052BD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oral Sum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800240" y="18288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tion of effect of neurotransmitters released from 2 or more firings of the same end bulb in rapid succession onto a second neu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1" name="Picture 15" descr="H:\$$TortoraPowerPoints\modified images\fig12_15b.jpg"/>
          <p:cNvPicPr/>
          <p:nvPr/>
        </p:nvPicPr>
        <p:blipFill>
          <a:blip r:embed="rId1"/>
          <a:stretch/>
        </p:blipFill>
        <p:spPr>
          <a:xfrm>
            <a:off x="696960" y="1523880"/>
            <a:ext cx="3951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81AABA60-20FB-459F-B94D-AA319CBB67EB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Possible Respo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EPSP occ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reaches -56 mV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mpulse is gene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shold wa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rane potential of at least -55 m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SP occ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rane hyperpolar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drops below -70 m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C28C7797-32C8-4FA4-962C-660C206B7F3A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ychnine Pois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pinal cord, Renshaw cells normally release an inhibitory neurotransmitter (glycine) onto motor neurons preventing excessive muscle con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ychnine binds to and blocks glycine receptors in the spinal 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sive tetanic contractions of all skeletal muscles are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diaphragm contracts &amp; remains contracted, breathing can not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B99A31FE-4E23-46A6-9D41-9998BEB356F6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urotransmitter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transmitter effects can be mod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s can be stimulated or inhib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ase can be blocked or enha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al can be stimulated or block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ptor site can be blocked or activ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on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thing that enhances a transmitters eff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agon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thing that blocks the action of a neurotranmi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1A0777C8-57C1-4304-ABF7-4BCCBCBBB849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-Molecule Neurotransmit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etylcholine (A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ased by many PNS neurons &amp; some C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itatory on NMJ but inhibitory at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ctivated by acetylcholinester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tamate released by nearly all excitatory neurons in the brain ---- inactivated by glutamate specific transpor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BA is inhibitory neurotransmitter for 1/3 of all brain synapses (Valium is a GABA agonist -- enhancing its inhibitory eff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0E92128C-09AD-479D-AE95-25DA21167434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genic Am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amino acids (tyros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epinephrine -- regulates mood, dreaming, awakening from deep 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pamine -- regulating skeletal muscle 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otonin -- control of mood, temperature regulation, &amp; induction of 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d from synapse &amp; recycled or destroyed by enzymes (monoamine oxidase or catechol-0-methyltransfer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-Molecule Neurotransmitter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22A6C537-813E-4694-B161-F1F775ECDB19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P and other purines (ADP, AMP &amp; adenos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itatory in both CNS &amp; P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ased with other neurotransmitters (ACh &amp; 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ses (nitric oxide or 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from amino acid arginine by an enzy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on demand and acts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s out of cell that produced it to affect neighboring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play a role in memory &amp;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recognized as vasodilator that helps lower blood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title"/>
          </p:nvPr>
        </p:nvSpPr>
        <p:spPr>
          <a:xfrm>
            <a:off x="-36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-Molecule Neurotransmitter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009F351B-FDC7-42C0-92C5-36A270083042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ropept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40 amino acids linked by peptide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ance P -- enhances our perception of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 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kephalins -- pain-relieving effect by blocking the release of substance 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puncture may produce loss of pain sensation because of release of opioids-like substances such as endorphins or dynorph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2945E362-A25C-465A-A1F1-79D4D1B8D6AD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ronal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ns in the CNS are organized into neuronal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uronal network may contain thousands or even millions of neu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nal circuits are involved in many important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t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-term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k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4EE22710-8618-496D-B92F-F32A161E9F49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unit of nervous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capacity to produce action potent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ical exc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nucleus with prominent nucleo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sl bodies (chromatophilic substan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gh ER &amp; free ribosomes for protein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filaments give cell shape and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tubules move material insid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pofuscin pigment clumps (harmless ag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processes = dendrites &amp; ax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6" descr="\\Pro 200 nt\d-jazzdr\1085 Anatomy\chapter 12\Fig 12_3c.jpg"/>
          <p:cNvPicPr/>
          <p:nvPr/>
        </p:nvPicPr>
        <p:blipFill>
          <a:blip r:embed="rId1"/>
          <a:srcRect l="24774" t="16014" r="2433" b="17818"/>
          <a:stretch/>
        </p:blipFill>
        <p:spPr>
          <a:xfrm>
            <a:off x="6934320" y="2438280"/>
            <a:ext cx="20574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D6DFF4EB-EC87-4604-8E72-3F99E9A78FC6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Picture 7" descr="J:\MEDIA\1738\173840.JPG"/>
          <p:cNvPicPr/>
          <p:nvPr/>
        </p:nvPicPr>
        <p:blipFill>
          <a:blip r:embed="rId1"/>
          <a:srcRect l="999" t="0" r="0" b="8697"/>
          <a:stretch/>
        </p:blipFill>
        <p:spPr>
          <a:xfrm>
            <a:off x="762120" y="762120"/>
            <a:ext cx="7543800" cy="3200400"/>
          </a:xfrm>
          <a:prstGeom prst="rect">
            <a:avLst/>
          </a:prstGeom>
          <a:ln w="0">
            <a:noFill/>
          </a:ln>
        </p:spPr>
      </p:pic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ronal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0" y="411444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ging -- single cell stimulates many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ing -- one cell stimulated by many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berating -- impulses from later cells repeatedly stimulate early cells in the circuit (short-term mem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-after-discharge -- single cell stimulates a group of cells that all stimulate a common postsynaptic cell (math proble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DC5B01EB-A738-4841-BB47-E89B6B50AB1E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eneration &amp; Rep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ticity maintained throughout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outing of new dendr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s of new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synaptic contacts with other 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ability for regeneration (repa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S can repair damaged dendrites or ax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NS no repairs are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A536D8EE-2FA9-407B-B1C7-CC3C3D4967AD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rogenesis in the C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tion of new neurons from stem cells was not thought to occur in hu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2 a growth factor was found that stimulates adult mice brain cells to multi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8 new neurons found to form within adult human hippocampus (area important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s preventing neurogenesis in C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ibition by neuroglial cells, absence of growth stimulating factors, lack of neurolemmas, and rapid formation of scar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عنصر نائب لرقم الشريحة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D20FE32C-233E-4080-B15A-37B42FF05D17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xons &amp; dendrites may be repaired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n cell body remains i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wann cells remain active and form a tu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r tissue does not form too rapi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o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-48 hours after injury, Nissl bodies break up into fine granular m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air within the P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Picture 6" descr="H:\$$TortoraPowerPoints\modified images\fig_17a.jpg"/>
          <p:cNvPicPr/>
          <p:nvPr/>
        </p:nvPicPr>
        <p:blipFill>
          <a:blip r:embed="rId1"/>
          <a:srcRect l="2848" t="57415" r="0" b="1792"/>
          <a:stretch/>
        </p:blipFill>
        <p:spPr>
          <a:xfrm>
            <a:off x="2133720" y="5018040"/>
            <a:ext cx="4647960" cy="1839960"/>
          </a:xfrm>
          <a:prstGeom prst="rect">
            <a:avLst/>
          </a:prstGeom>
          <a:ln w="0">
            <a:noFill/>
          </a:ln>
        </p:spPr>
      </p:pic>
      <p:sp>
        <p:nvSpPr>
          <p:cNvPr id="880" name="Line 7"/>
          <p:cNvSpPr/>
          <p:nvPr/>
        </p:nvSpPr>
        <p:spPr>
          <a:xfrm flipH="1">
            <a:off x="3428640" y="48769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A1B469AE-1387-4836-BBDB-2E4052F6E2F6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Picture 18" descr="H:\$$TortoraPowerPoints\modified images\fig_17b.jpg"/>
          <p:cNvPicPr/>
          <p:nvPr/>
        </p:nvPicPr>
        <p:blipFill>
          <a:blip r:embed="rId1"/>
          <a:stretch/>
        </p:blipFill>
        <p:spPr>
          <a:xfrm>
            <a:off x="4952880" y="1447920"/>
            <a:ext cx="4038840" cy="3828960"/>
          </a:xfrm>
          <a:prstGeom prst="rect">
            <a:avLst/>
          </a:prstGeom>
          <a:ln w="0">
            <a:noFill/>
          </a:ln>
        </p:spPr>
      </p:pic>
      <p:sp>
        <p:nvSpPr>
          <p:cNvPr id="883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4952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3-5 day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lerian degeneration occurs (breakdown of axon &amp; myelin sheath distal to inju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ograde degeneration occurs back one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several months, regeneration 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olemma on each side of injury repairs tube (schwann cell mito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onal buds grow down the tube to reconnect (1.5 mm per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air within the P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0EFE8626-A0F8-4A08-AB04-6E306EE825BE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clerosis (M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immune disorder causing destruction of myelin sheaths in C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aths becomes scars or pla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2 million people in the Unite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ars between ages 20 and 4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males twice as often as 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ptoms include muscular weakness, abnormal sensations or double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ssions &amp; relapses result in progressive, cumulative loss of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عنصر نائب لرقم الشريحة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5A6DC4B0-F779-4F8E-A173-E5486DC3A3A5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cond most common neurological disor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fects 1% of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zed by short, recurrent attacks initiated by electrical discharges in the b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s, noise, or smells may be sen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eletal muscles may contract involuntar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f conscious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lepsy has many causes, including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in damage at birth, metabolic disturbances, infections, toxins, vascular disturbances, head injuries, and tum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lep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725D1C06-31F6-43E8-8B94-9126243AD2D1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Picture 2" descr="\\Pro 200 nt\d-jazzdr\1085 Anatomy\chapter 12\Exhibit 12_2.jpg"/>
          <p:cNvPicPr/>
          <p:nvPr/>
        </p:nvPicPr>
        <p:blipFill>
          <a:blip r:embed="rId1"/>
          <a:stretch/>
        </p:blipFill>
        <p:spPr>
          <a:xfrm>
            <a:off x="990720" y="1219320"/>
            <a:ext cx="7105680" cy="5248080"/>
          </a:xfrm>
          <a:prstGeom prst="rect">
            <a:avLst/>
          </a:prstGeom>
          <a:ln w="0">
            <a:noFill/>
          </a:ln>
        </p:spPr>
      </p:pic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ronal Structure &amp;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70FC85B4-7044-41C6-A41C-1D6E170F5338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2" descr="\\Pro 200 nt\d-jazzdr\1085 Anatomy\chapter 12\Fig 12_3c.jpg"/>
          <p:cNvPicPr/>
          <p:nvPr/>
        </p:nvPicPr>
        <p:blipFill>
          <a:blip r:embed="rId1"/>
          <a:srcRect l="23334" t="10272" r="3337" b="18643"/>
          <a:stretch/>
        </p:blipFill>
        <p:spPr>
          <a:xfrm>
            <a:off x="2057400" y="1523880"/>
            <a:ext cx="5029200" cy="464832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3"/>
          <p:cNvSpPr/>
          <p:nvPr/>
        </p:nvSpPr>
        <p:spPr>
          <a:xfrm>
            <a:off x="7315200" y="1523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us with Nucleo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4"/>
          <p:cNvSpPr/>
          <p:nvPr/>
        </p:nvSpPr>
        <p:spPr>
          <a:xfrm flipH="1">
            <a:off x="5105520" y="2133720"/>
            <a:ext cx="2209680" cy="144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152280" y="42670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ons or Dend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4495680" y="6172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4191120" y="990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oglial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Group 15"/>
          <p:cNvGrpSpPr/>
          <p:nvPr/>
        </p:nvGrpSpPr>
        <p:grpSpPr>
          <a:xfrm>
            <a:off x="5105520" y="1371600"/>
            <a:ext cx="685800" cy="1676520"/>
            <a:chOff x="5105520" y="1371600"/>
            <a:chExt cx="685800" cy="1676520"/>
          </a:xfrm>
        </p:grpSpPr>
        <p:sp>
          <p:nvSpPr>
            <p:cNvPr id="670" name="Line 10"/>
            <p:cNvSpPr/>
            <p:nvPr/>
          </p:nvSpPr>
          <p:spPr>
            <a:xfrm>
              <a:off x="5105520" y="1371600"/>
              <a:ext cx="6858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11"/>
            <p:cNvSpPr/>
            <p:nvPr/>
          </p:nvSpPr>
          <p:spPr>
            <a:xfrm>
              <a:off x="5105520" y="1371600"/>
              <a:ext cx="53316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Group 16"/>
          <p:cNvGrpSpPr/>
          <p:nvPr/>
        </p:nvGrpSpPr>
        <p:grpSpPr>
          <a:xfrm>
            <a:off x="1523880" y="3504960"/>
            <a:ext cx="2590920" cy="1676520"/>
            <a:chOff x="1523880" y="3504960"/>
            <a:chExt cx="2590920" cy="1676520"/>
          </a:xfrm>
        </p:grpSpPr>
        <p:sp>
          <p:nvSpPr>
            <p:cNvPr id="673" name="Line 12"/>
            <p:cNvSpPr/>
            <p:nvPr/>
          </p:nvSpPr>
          <p:spPr>
            <a:xfrm flipV="1">
              <a:off x="1523880" y="3504960"/>
              <a:ext cx="221004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3"/>
            <p:cNvSpPr/>
            <p:nvPr/>
          </p:nvSpPr>
          <p:spPr>
            <a:xfrm>
              <a:off x="1676520" y="4648320"/>
              <a:ext cx="2438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Line 14"/>
          <p:cNvSpPr/>
          <p:nvPr/>
        </p:nvSpPr>
        <p:spPr>
          <a:xfrm flipH="1" flipV="1">
            <a:off x="4952520" y="4190760"/>
            <a:ext cx="38124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AC79A7DB-B170-4A02-A13A-440A2EDA1E0E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Picture 7" descr="J:\MEDIA\1738\173826.JPG"/>
          <p:cNvPicPr/>
          <p:nvPr/>
        </p:nvPicPr>
        <p:blipFill>
          <a:blip r:embed="rId1"/>
          <a:srcRect l="0" t="0" r="0" b="4560"/>
          <a:stretch/>
        </p:blipFill>
        <p:spPr>
          <a:xfrm>
            <a:off x="76320" y="1676520"/>
            <a:ext cx="4243320" cy="510516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dr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419720" y="2133720"/>
            <a:ext cx="457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s impulses towards the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short, highly branched &amp; unmyelin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faces specialized for contact with other 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neurofibrils &amp; Nissl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6"/>
          <p:cNvSpPr/>
          <p:nvPr/>
        </p:nvSpPr>
        <p:spPr>
          <a:xfrm flipH="1">
            <a:off x="4114440" y="762120"/>
            <a:ext cx="60948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78D9897B-70DE-4241-A685-E0124AA1A025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Picture 8" descr="J:\MEDIA\1738\173826.JPG"/>
          <p:cNvPicPr/>
          <p:nvPr/>
        </p:nvPicPr>
        <p:blipFill>
          <a:blip r:embed="rId1"/>
          <a:srcRect l="0" t="0" r="0" b="4227"/>
          <a:stretch/>
        </p:blipFill>
        <p:spPr>
          <a:xfrm>
            <a:off x="4635360" y="685800"/>
            <a:ext cx="4356360" cy="52578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47242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, thin cylindrical process of ce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ses at axon hillo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lses arise from initial segment (trigger z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e branches (collaterals) end in fine processes called axon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ollen tips called synaptic end bulbs contain vesicles filled with neurotransmi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6"/>
          <p:cNvSpPr/>
          <p:nvPr/>
        </p:nvSpPr>
        <p:spPr>
          <a:xfrm flipV="1" rot="10776600">
            <a:off x="5790960" y="64000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aptic bou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7"/>
          <p:cNvSpPr/>
          <p:nvPr/>
        </p:nvSpPr>
        <p:spPr>
          <a:xfrm flipH="1" flipV="1">
            <a:off x="6934320" y="57909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30T02:02:06Z</dcterms:created>
  <dc:creator>Sharon Simpson</dc:creator>
  <dc:description/>
  <dc:language>en-US</dc:language>
  <cp:lastModifiedBy>King Soft 2</cp:lastModifiedBy>
  <cp:lastPrinted>2000-01-11T05:39:35Z</cp:lastPrinted>
  <dcterms:modified xsi:type="dcterms:W3CDTF">2013-10-04T10:18:17Z</dcterms:modified>
  <cp:revision>43</cp:revision>
  <dc:subject/>
  <dc:title>Nervous Tissue</dc:title>
</cp:coreProperties>
</file>