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1F90-D62E-4F30-BA61-AFFD714E7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D072-8CD3-4C03-BBD7-ADE3643972F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78950-90F5-4F7E-AE36-E9A212B9674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14B08-2F91-43B3-A5FA-8BE73D07484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78AC-0BB3-49FC-92FD-E775EDB5A62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41E25-67D3-48F1-880D-8D5724E159C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A379-2493-41D5-B084-7AB187E1BF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AD9B5-5745-41D3-864F-BD6AA97A346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0F43D-B082-4D71-8CEB-0D048C6B51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2380-F4D1-450B-BDB8-3C789F265D8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F82C-A00D-4906-B8FD-EED3B53245F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062DA8-69E4-48F1-B8D2-EB568486D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5975-4AA5-4051-A5D7-F23D4A0CEAC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A0CB1-8474-4E55-B4C9-FAB31B869EB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CE012B-8F3F-4DDB-9557-35D189C47B1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C2C95-EB5B-46BF-A09B-F725F001987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03FFAF-F86B-4F24-906D-A0D504672F8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DF6A2-77F2-49EA-BEA8-637050BDD0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98C8CD-5EFB-4F29-B0A5-B9E6984A6AB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6D46C-D79D-4694-80A4-06EB7D10B6B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5197DA-A7CC-49AD-A9B0-C94E02FA519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966C5-BB7D-4259-A30F-9B0C3BA36CC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8EBCD4-8F82-4D1D-912A-7286504E7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1FE8-EF33-4167-860D-BCFAB922C69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0DF4C-334D-458D-AFE3-42F9F1EF899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E6D054-D8C5-46B2-A096-56C89C0B9C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F0EC0B-C3D7-463E-AE39-89EA87F1356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AAC5E1-6D86-41D7-A86C-7231442FEE4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AFB81-0B4B-4F0D-BE41-F89B94F159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6E8758-8E51-4917-BE98-AC37BDC17FB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2E348F-575F-4D65-9341-619EC0E0ACD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FEB020-0B02-42E6-9BE7-10AAD4AA91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B347FF-4B57-48A3-8D50-01F065AB71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001A56-1BDF-49AE-8E66-EF90C2D5D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83218-D4AA-4E6C-81C1-1AFBBC8D7AE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EFBF48-AD0D-48B5-92EF-9EEE1CA5E1B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77BC3A-34A1-4C3C-9455-8B7B29292C8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DAD2B0-91DC-4B5B-9067-6B13CC18EEA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8777C-28D8-4253-BE08-F1F2242BEC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7A64B-4D58-4A21-91B8-BE555782988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682A9-A19A-4199-AFA6-2CDF522A644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B092B-E842-4826-8640-43D8140FEA3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5D6D1-2C03-4C94-9E9E-75D7794E3E1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F0A29-3BF6-4792-92C9-210E1C3A1E0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63C6A-6237-4880-B196-9A53F14727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49BF8-A9F2-4FC7-9D4B-9340AEAAE49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59731-83D9-4EFA-A8F7-0E553AD941A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C3792-602B-47B9-9782-4B385FA38C4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42802-11C9-4725-9D0F-B4E8D528673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A389E-2004-4352-A655-1F8CEE33C33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66A6A-B238-4755-8003-257DACB3DB7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F8EB7C-7ABE-43BA-ACA2-609BDE897CB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EE87C-6FE4-429C-B92E-B888081A2AA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50C831-02AC-4864-8BDD-2614B8CD4E7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D6D59-C247-4122-BC02-C1BD671706C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6F8656-562A-4E16-9B18-D6738FB625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597F3-C27D-45E0-A92D-DC4158ADE6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FFB1D8-7ACE-4B81-863C-F1FD971D10C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0BDD89-BD72-4895-AFBF-3BB5D993118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04752D-1ADC-459E-85EF-4D486E1E53F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383C9-825D-4D97-9D5C-D0C294B949A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5EA908-4ED7-4EDB-BF73-20803C91B8E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6249CA-8A4C-4805-85BA-BE582ECA570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E2D829-9B48-4342-B232-026C369F75C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57A18-19E5-4A92-9D8F-0ADCA911A93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EFF615-E095-467F-A904-137DDCB93D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9EE2D-5503-447F-90EA-BC23BECE97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759FC-6AB8-484D-8E4F-E800CF166EC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580FC-52DF-4447-AF4C-A57F91B4001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D744E-BF77-4B10-834F-5A7ACA11DB1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F8C07-E9FA-405E-9CDE-14A5D48FFE2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881E5-2F70-4CA0-8359-884311840EE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9E0C2-765A-402C-A6F8-1E2392905C2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9C36D-64B9-4B3F-A4FF-A9E82EFF160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FC3EAB-6520-4D2A-B8E2-99614CC748A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ED26EF-5514-4CE5-8BB6-A01333256A1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E5BC22-7A24-40E0-A29F-9A7638475C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18C51-0B89-4BEE-BC5F-80F34CB541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F2690-A8E3-4C16-9080-25FB5BCF1A3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DE667-1E73-4C11-85A8-7AABB6D3818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182F9-7118-412C-AF3D-75CBD35C596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0B03A-2345-4712-B4DD-B297DEA7E8D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4DB3A-FB0F-4B7F-A372-73BB715928D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163F5-2609-4207-87F3-B9436287D5C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03ED1-4DD9-42D7-9B4F-1C1D0CEC200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51F3D-C91D-432A-A55C-168EA8B542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42D05-848D-4C36-B3B3-D67AD06C63B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DFB35-5638-467D-9751-ACD820D513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F862-14DB-4EA3-9FE9-DB5319B3B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3D8DC-FCA5-413C-A685-E86265B9416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52DA1-271C-463C-95C2-7E17C47F414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6465E4-44AF-41B5-AE38-73EC9B8FF1F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8217C5-C027-48B6-82EA-9E9474F8CCD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14824D-EEBC-4CD8-A001-E0C7CF4007F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B92939-61EB-43AA-A881-B9CDA15288C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C9A290-8C8F-4986-9368-D47625C8D3A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48ACE9-26E8-4F0C-97D5-A7A3FEFD533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D023AF-A2E3-4C32-9C25-96374CAE9BA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A0F182-21DE-4EC3-BEB6-125A1E0E324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47EE17-1F21-44EB-B646-A6C3EA9B6F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E2292-F329-4803-A576-DEE0511AF7B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5010606-376C-4F98-A81B-69AEA4CEC14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B3900D-59AA-4B12-B737-FA1DE369375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949263-CD4F-4AF3-A379-2AF2E4D3E7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8AB6-9D84-46C9-83D2-5D8085F17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35D05-CCBC-410C-8569-B0D805C3A9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D8E0-6D4F-4779-A03B-43A99DB48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73A91-F6A4-4B9C-B456-9B555E8581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AA193-487D-4381-BF8C-620C770F08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1CA8F-2385-48F5-8979-77AD89CCE2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26E-D8E4-4698-BC7E-A0C088FF38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B57C-D4AA-40CC-9AA3-7F9EA95A4F8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4557-033C-450C-95D1-40D27C9040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A043-4574-4801-8A59-8F0FB9880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7348-F0F2-482D-914F-A511192C1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0D8CD-4B4E-492D-8F33-47A87D749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8CB3-B746-47B0-892F-280250B3B3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A9BD-3500-4BC4-A7C6-916086DA8B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3148-1D41-41B6-8B32-C2997E41517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E6FC-FF41-4CC3-B619-AE3E2EE3DB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DB5-B89F-4774-A222-8CE0631300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45C1D-5AE2-41F2-B25F-6C212D6107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0DCF-94B6-41A5-8F27-743FD78CEA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9CDE5-2CC6-4EAC-AB54-4706028E54B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F12A6-63F4-46B0-B942-8DD9E49F0D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81762-743E-4B44-B22B-1C87ABF23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EC1E-8B30-4BEC-916E-13839CE862A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15D0E-4624-4EA6-9748-5FF49FC373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EF93E-3812-42DF-A87C-6F697C163E0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54E2C-029D-46F4-B16A-9E65E1EF6D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4429B-1231-429F-BF15-4445986A1D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B42A2-7ACC-4115-A46F-E13A31A837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B022F-BC94-4622-9CEF-3C5C291ACA1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875EB-B028-46F6-8BE0-BE2A1DAA227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2939E-DBB3-4074-99A9-3FB9197FBE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90720-A09D-49B1-8DA0-4AC7053174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53984B-063D-44F5-B8E0-2DA0F12E3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7327-C4C7-4F9D-AE1E-AFCFACB77D5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21D62-48AC-4423-B07B-A0BBC13935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26EE6-F6D0-498E-802F-9AC561FE098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76B0FA-094E-4640-BFE8-C8A30A96E4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BE258-9EF7-464D-85FC-E04C420129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46BB38-9083-4736-BDD8-CD6AFF54C9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01942-976F-4580-B1B9-49268AD326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3C190-5BB1-4850-8460-A30A39AE05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DD529D-1299-49B8-99EF-B06DAF1888C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17859-AE8C-462E-BF1A-2C77A3F4CE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0190E-CDD8-4F47-B5D0-2E09AC840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D0A7-7E74-4174-9C93-E33C1E86F1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61F68-09FA-4777-879C-0F6BE71085B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8E66-9079-465D-B2EC-956378F34C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AAD69-344B-4243-9034-2CAAFCB84C7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830B-3DBB-493E-824E-D4CC00482A2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67F1-7161-4C4B-9194-7AFC760446B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8EC59-02C7-4837-9BD7-B6CD957042D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7AE69-064A-4BD4-988A-539C8F46C7E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B618-BCA4-4C3C-8E5D-10FDD091592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C06CD-B5A3-4295-98C3-03158782ED2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F0CD-F0BD-421D-A849-E9CFE596AD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B318-7C6A-4481-BAE4-86B8F367F0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44E3-CA2D-4FEE-BA40-F168ED133E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D629-F2CD-480A-A0BC-9EA67BE08B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13F4-6099-4FA2-8129-3AC6ACFC52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43F53-25CF-4326-AD00-2F367D4C36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77617-AD9F-43E1-867D-4C25CA12FB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C881F-5EA7-463D-8CBD-CEEFA1C94D8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64AD1-0149-4A7D-9219-57F9D901AB8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1EA7B-7E3D-444A-93C2-8ED43279E7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85992-6C63-42C7-941A-CD770403E5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2F422-5E83-44BB-B557-B7F3FD32B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59E56-9079-471A-A692-059B6ECCBDC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BEF33-067B-455A-920D-683F87F8CA0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AA2B5-FCD9-4B52-86E7-745FE6EB5B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A84ED-C772-44FE-95B7-9B178590FA4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F5336-DEB6-4406-98BF-33D082C66D3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EAE5B-3AEC-4666-94D5-76DBAB8FC8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1266D-3B2E-4BEB-B47D-53E0A2E226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B4413C-A298-4224-8C07-566EDCA3855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6CB92C-7460-4CC2-BC1F-E5DDFA0F85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D2246A-26C5-4A55-9855-1188FE246B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C108D4-B067-44CA-A3F0-D109ACB57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C17D-4E3E-405B-ADAD-D0A1AD82A6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40076B-A35C-4C70-BE0F-D60C57789E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51C46-B917-43D6-9981-377DA0977B0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489197-FBB3-4E74-9103-750DFB9F99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0E2209-80D3-4EFE-835E-BDA163E49FE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37B76-36A1-4840-816F-10A23D3E50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316A14-0BD3-47AC-9879-FFCD0C31521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34B1A-936A-4AD2-9659-7BFA1C7BD3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2A584-AB8D-40BD-9A3C-3C74B6E7BC0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01BCF-1F35-48EC-AFF6-1DF510C1533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B6BC-8C3F-4EB2-9A8D-DE78585B9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3A038C7-F362-4F5E-A6ED-8E1D52FB87B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19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93B6624-A6C0-46C3-A940-E7E96ABAD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2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01B6C9F-6F21-404B-B514-AF6CDEF69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23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94BE9F9-28CD-453B-BD58-EA68BAC16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ftr" idx="25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0BDB5C2-29B1-4A97-B662-A7DD80D25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ftr" idx="27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A8A0078-D9D4-4BF4-896E-761728630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9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6A74742-C97B-4313-9BEF-119C0EDB7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ftr" idx="3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104B282-D894-4AC4-B40C-B2B3EC39A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3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AEC92A9-5539-474A-A338-48D218DCC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EC46228-9837-44C6-9DEF-6611DFC85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7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0347923-CB44-495A-96DE-77407F61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9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17AAE2C-CA59-431C-9DEB-D5E4B5D6E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3BD7DD0-A8FF-4BD7-BECF-183271441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3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6FC6C37-0E8B-494F-B5ED-1BB618928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15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22B5C02-8877-4D0B-A695-20B5E835F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7"/>
          </p:nvPr>
        </p:nvSpPr>
        <p:spPr>
          <a:xfrm>
            <a:off x="7621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ortora &amp; Grabowski 9/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2000 JW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562060C-8C49-4668-9EEA-2DFD4171F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6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8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5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6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6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5F22A77-6238-44FB-8738-9F76E42391D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nd integrates all body activities within limits that maintain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basic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ing changes with sensory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ness of stomach or sun on your 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eting and remembering thos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ng to those changes with eff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cular con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andular secre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A1644AC-027C-4003-90E4-B2B072EB0F1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al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ody is location for most protei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transmitters &amp; repair 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onal transport system moves substa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axonal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in one direction only -- away from cel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ent at 1-5 mm per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axonal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organelles &amp; materials along surface of microtub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200-400 mm per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s in either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 or for recycling in cel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B002021-A192-4CA6-8165-EFD9563622E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al Transport &amp;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axonal transport route by which toxins or pathogens reach neuron cell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tanus (Clostridium tetani bac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rupts motor neurons causing painful muscle spa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teria enter the body through a laceration or puncture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erious if wound is in head or neck because of shorter trans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14F3335-75FE-4556-B9BE-D346002B3C7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Classification of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sory (afferent)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sensory information from skin, muscles, joints, sense organs &amp; viscera to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or (efferent)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otor nerve impulses to muscles &amp;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urons (association)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 sensory to moto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0% of neurons in the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BD6B1F6-627D-4CB4-9EBE-AC93EDC1F91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al Classification of 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76320" y="373392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number of processes found on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olar = several dendrites &amp; one a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mon cell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polar neurons = one main dendrite &amp; one a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nd in retina, inner ear &amp; olfac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polar neurons = one process only(develops from a bipo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always sensory neu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Picture 6" descr="J:\MEDIA\1738\173827.JPG"/>
          <p:cNvPicPr/>
          <p:nvPr/>
        </p:nvPicPr>
        <p:blipFill>
          <a:blip r:embed="rId1"/>
          <a:srcRect l="0" t="0" r="0" b="9489"/>
          <a:stretch/>
        </p:blipFill>
        <p:spPr>
          <a:xfrm>
            <a:off x="1270080" y="762120"/>
            <a:ext cx="65023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DCE6F80-CAEA-4DB9-B746-D552FAC2BD5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ion or Inter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1028" descr="J:\MEDIA\1738\173828.JPG"/>
          <p:cNvPicPr/>
          <p:nvPr/>
        </p:nvPicPr>
        <p:blipFill>
          <a:blip r:embed="rId1"/>
          <a:srcRect l="0" t="0" r="0" b="7049"/>
          <a:stretch/>
        </p:blipFill>
        <p:spPr>
          <a:xfrm>
            <a:off x="2514600" y="2133720"/>
            <a:ext cx="4724280" cy="445608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for histologist that first described them or their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8490C6A-CD1C-4988-97CA-B9ABEAA04FE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of the volume of the C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r cells than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X more num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s can divi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mitosis in tumor formation (gliom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ell types in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rocytes, oligodendrocytes, microglia &amp; ependy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ell types in P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and satellit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Picture 4" descr="\\Pro 200 nt\d-jazzdr\1085 Anatomy\chapter 12\Fig 12_3c.jpg"/>
          <p:cNvPicPr/>
          <p:nvPr/>
        </p:nvPicPr>
        <p:blipFill>
          <a:blip r:embed="rId1"/>
          <a:srcRect l="29632" t="16011" r="7285" b="22904"/>
          <a:stretch/>
        </p:blipFill>
        <p:spPr>
          <a:xfrm>
            <a:off x="6400800" y="1676520"/>
            <a:ext cx="1981080" cy="18288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g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8"/>
          <p:cNvSpPr/>
          <p:nvPr/>
        </p:nvSpPr>
        <p:spPr>
          <a:xfrm flipV="1">
            <a:off x="5257800" y="1905120"/>
            <a:ext cx="19051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عنصر نائب لرقم الشريحة 5"/>
          <p:cNvSpPr/>
          <p:nvPr/>
        </p:nvSpPr>
        <p:spPr>
          <a:xfrm>
            <a:off x="-4932360" y="-1467000"/>
            <a:ext cx="13390560" cy="81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C84E0CB-1573-41A5-BCD8-275251F0521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-shape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blood-brain barrier by covering blood capill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bolize neurotransmi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K+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tructural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6" descr="J:\MEDIA\1738\173842.JPG"/>
          <p:cNvPicPr/>
          <p:nvPr/>
        </p:nvPicPr>
        <p:blipFill>
          <a:blip r:embed="rId1"/>
          <a:srcRect l="0" t="0" r="0" b="12258"/>
          <a:stretch/>
        </p:blipFill>
        <p:spPr>
          <a:xfrm>
            <a:off x="3809880" y="1905120"/>
            <a:ext cx="43182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675722E-6DAA-4E4C-9C27-1CE508EAA15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igodendrocy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mon glial cell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orms myelin sheath around more than one axons in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chwann cells of 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6" descr="J:\MEDIA\1738\173843.JPG"/>
          <p:cNvPicPr/>
          <p:nvPr/>
        </p:nvPicPr>
        <p:blipFill>
          <a:blip r:embed="rId1"/>
          <a:srcRect l="0" t="0" r="0" b="13607"/>
          <a:stretch/>
        </p:blipFill>
        <p:spPr>
          <a:xfrm>
            <a:off x="990720" y="1981080"/>
            <a:ext cx="3911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FDAF6FF-4C6F-447A-8277-2764EC0CEBC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gl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99840" y="434304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cells found near blood vess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gocytic role -- clear away dead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ed from cells that also gave rise to macrophages &amp; monoc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7" descr="J:\MEDIA\1738\173844.JPG"/>
          <p:cNvPicPr/>
          <p:nvPr/>
        </p:nvPicPr>
        <p:blipFill>
          <a:blip r:embed="rId1"/>
          <a:srcRect l="0" t="0" r="0" b="14648"/>
          <a:stretch/>
        </p:blipFill>
        <p:spPr>
          <a:xfrm>
            <a:off x="2209680" y="1219320"/>
            <a:ext cx="42418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12F08935-FF96-40CF-B94D-AE9DEB2EB73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endym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4191120"/>
            <a:ext cx="85345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 epithelial membrane lining cerebral cavities &amp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ca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 cerebrospinal fluid (CS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12" descr="J:\MEDIA\1738\173845.JPG"/>
          <p:cNvPicPr/>
          <p:nvPr/>
        </p:nvPicPr>
        <p:blipFill>
          <a:blip r:embed="rId1"/>
          <a:srcRect l="0" t="0" r="0" b="20000"/>
          <a:stretch/>
        </p:blipFill>
        <p:spPr>
          <a:xfrm>
            <a:off x="2514600" y="1828800"/>
            <a:ext cx="39495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60CDEF0-A3DE-46FB-9472-3AB88BB0B8D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Picture 2" descr="J:\MEDIA\1738\173824.JPG"/>
          <p:cNvPicPr/>
          <p:nvPr/>
        </p:nvPicPr>
        <p:blipFill>
          <a:blip r:embed="rId1"/>
          <a:srcRect l="1453" t="2086" r="1434" b="7865"/>
          <a:stretch/>
        </p:blipFill>
        <p:spPr>
          <a:xfrm>
            <a:off x="914400" y="91440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-152640" y="-1526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jor Structures of the Nervou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, cranial nerves, spinal cord, spinal nerves, ganglia, enteric plexuses and sensory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BC49F5D-3FFB-450F-9706-EFEC9E5C768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2" descr="J:\MEDIA\1738\173847.JPG"/>
          <p:cNvPicPr/>
          <p:nvPr/>
        </p:nvPicPr>
        <p:blipFill>
          <a:blip r:embed="rId1"/>
          <a:srcRect l="0" t="0" r="0" b="17646"/>
          <a:stretch/>
        </p:blipFill>
        <p:spPr>
          <a:xfrm>
            <a:off x="3352680" y="1447920"/>
            <a:ext cx="4229280" cy="213336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tellite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cells surrounding neuronal cell bodies in peripheral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neurons in the PNS gan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84F1D9E-6728-48C1-A9A4-E41775FC304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4" descr="J:\MEDIA\1738\173846.JPG"/>
          <p:cNvPicPr/>
          <p:nvPr/>
        </p:nvPicPr>
        <p:blipFill>
          <a:blip r:embed="rId1"/>
          <a:srcRect l="0" t="0" r="0" b="10925"/>
          <a:stretch/>
        </p:blipFill>
        <p:spPr>
          <a:xfrm>
            <a:off x="2279520" y="1771560"/>
            <a:ext cx="4584960" cy="295272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wann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68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encircling PNS a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ell produces part of the myelin sheath surrounding an axon in the 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89A3AAA-85C0-4EC4-9C11-D128F68633F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 Coverings in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xons surrounded by a lipid &amp; protein covering (myelin sheath) produced by Schwann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ilemma is cytoplasm &amp; nucle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Schwann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ps called nodes of Ran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elinated fibers appear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lly-roll like wrappings made of                                      lipoprotein = my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as electrical ins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s conduction of nerve impul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myelinated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, small diameter f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urrounded by neurilemma but no myelin sheath wr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Picture 4" descr="\\Pro 200 nt\d-jazzdr\1085 Anatomy\chapter 12\Fig 12_3part.jpg"/>
          <p:cNvPicPr/>
          <p:nvPr/>
        </p:nvPicPr>
        <p:blipFill>
          <a:blip r:embed="rId1"/>
          <a:stretch/>
        </p:blipFill>
        <p:spPr>
          <a:xfrm>
            <a:off x="5727600" y="1249200"/>
            <a:ext cx="318780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1D1274A-DC57-40DE-B201-B8C4BE96C14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elination in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cells myelinate (wrap around) axons in the PNS during fet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cell cytoplasm &amp; nucleus forms outermost layer of neurolemma with inner portion being the myelin she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be guides growing axons that are repairing 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J:\MEDIA\1738\173829.JPG"/>
          <p:cNvPicPr/>
          <p:nvPr/>
        </p:nvPicPr>
        <p:blipFill>
          <a:blip r:embed="rId1"/>
          <a:srcRect l="0" t="0" r="0" b="15343"/>
          <a:stretch/>
        </p:blipFill>
        <p:spPr>
          <a:xfrm>
            <a:off x="838080" y="990720"/>
            <a:ext cx="7620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A4B38C8-85F6-4AE9-9ADC-63AD2BE3D34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elination in the C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dendrocytes myelinate axons in the C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, flat cell processes wrap about CNS axons, but the cell bodies do not surround the ax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urilemma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regrowth after injury is possible due to the lack of a distinct tube or neuril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1031" descr="J:\MEDIA\1738\173830.JPG"/>
          <p:cNvPicPr/>
          <p:nvPr/>
        </p:nvPicPr>
        <p:blipFill>
          <a:blip r:embed="rId1"/>
          <a:srcRect l="0" t="0" r="0" b="10678"/>
          <a:stretch/>
        </p:blipFill>
        <p:spPr>
          <a:xfrm>
            <a:off x="1371600" y="3886200"/>
            <a:ext cx="62485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CABAAC0-9D68-47D8-8FC1-B4105EDC61A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y and White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matter = myelinated processes (white in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y matter = nerve cell bodies, dendrites, axon terminals, bundles of unmyelinated axons and neuroglia (gray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pinal cord = gray matter forms an H-shaped inner core surrounded by white m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brain =  a thin outer shell of gray matter covers the surface &amp; is found in clusters called nuclei inside the 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6" descr="J:\MEDIA\1738\173830.JPG"/>
          <p:cNvPicPr/>
          <p:nvPr/>
        </p:nvPicPr>
        <p:blipFill>
          <a:blip r:embed="rId1"/>
          <a:srcRect l="0" t="0" r="0" b="10678"/>
          <a:stretch/>
        </p:blipFill>
        <p:spPr>
          <a:xfrm>
            <a:off x="1676520" y="914400"/>
            <a:ext cx="57150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7E9FE73-025B-4566-B162-9DC4A5E792D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al Signals in Neu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are electrically excitable due to the voltage difference across their membr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e with 2 types of electr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potentials that can travel long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ed potentials that are local membrane change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living cells, a flow of ions occurs through ion channels in the 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4A3E04F-40FA-4875-BBF6-24FCFF2BE9F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Io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kage (nongated) channels are always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cells have more K+ than Na+ leakage chann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membrane permeability to K+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s resting membrane potential of -70mV in nerv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 channels open and close in response to a stimulus results in neuron exci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-gated open in response to change in vol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and-gated open &amp; close in response to particular chemical stimuli (hormone, neurotransmitter, 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ly-gated open with mechanical st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2B6BA4D-2CBB-4D26-A202-7DEC10B6C562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ted Io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1030" descr="J:\MEDIA\1738\173831.JPG"/>
          <p:cNvPicPr/>
          <p:nvPr/>
        </p:nvPicPr>
        <p:blipFill>
          <a:blip r:embed="rId1"/>
          <a:srcRect l="0" t="0" r="0" b="5305"/>
          <a:stretch/>
        </p:blipFill>
        <p:spPr>
          <a:xfrm>
            <a:off x="914400" y="1523880"/>
            <a:ext cx="7581960" cy="4419720"/>
          </a:xfrm>
          <a:prstGeom prst="rect">
            <a:avLst/>
          </a:prstGeom>
          <a:ln w="0">
            <a:noFill/>
          </a:ln>
        </p:spPr>
      </p:pic>
      <p:sp>
        <p:nvSpPr>
          <p:cNvPr id="758" name="Oval 1031"/>
          <p:cNvSpPr/>
          <p:nvPr/>
        </p:nvSpPr>
        <p:spPr>
          <a:xfrm>
            <a:off x="1447920" y="3200400"/>
            <a:ext cx="76176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032"/>
          <p:cNvSpPr/>
          <p:nvPr/>
        </p:nvSpPr>
        <p:spPr>
          <a:xfrm>
            <a:off x="6324480" y="3200400"/>
            <a:ext cx="762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1033"/>
          <p:cNvSpPr/>
          <p:nvPr/>
        </p:nvSpPr>
        <p:spPr>
          <a:xfrm>
            <a:off x="5715000" y="3733920"/>
            <a:ext cx="114300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DBE26CE-4038-48FB-9BAE-F0FF6260BAD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ing Membrane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ions along inside of cell membrane &amp; positive ions along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energy difference at rest is -70 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is “polariz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ing potential exists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ion of ions different inside &amp; 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ellular fluid rich in Na+ and 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tosol full of K+, organic phosphate &amp; amino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rane permeability differs for Na+ and K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-100 greater permeability for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ward flow of Na+ can’t keep up with outward flow of K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+/K+ pump removes Na+ as fast as it leaks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EC1DFE1-566F-4419-A943-2729CFB5E30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 of the 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8" descr="J:\MEDIA\1738\173825.JPG"/>
          <p:cNvPicPr/>
          <p:nvPr/>
        </p:nvPicPr>
        <p:blipFill>
          <a:blip r:embed="rId1"/>
          <a:srcRect l="0" t="0" r="0" b="8769"/>
          <a:stretch/>
        </p:blipFill>
        <p:spPr>
          <a:xfrm>
            <a:off x="762120" y="1143000"/>
            <a:ext cx="7619760" cy="297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81080" y="4800240"/>
            <a:ext cx="5105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is brain and 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S is every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32051D1-EE99-48DC-81CD-1804C0D277B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ded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880" y="42670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deviations from resting potential of -70m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polarization = membrane has become more neg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larization = membrane has become mor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Picture 7" descr="J:\MEDIA\1738\173833.JPG"/>
          <p:cNvPicPr/>
          <p:nvPr/>
        </p:nvPicPr>
        <p:blipFill>
          <a:blip r:embed="rId1"/>
          <a:srcRect l="0" t="51525" r="0" b="5896"/>
          <a:stretch/>
        </p:blipFill>
        <p:spPr>
          <a:xfrm>
            <a:off x="762120" y="1752480"/>
            <a:ext cx="7619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FC2ED2B-FB4B-4227-A829-C856CF7F353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Graded Potentials Ari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of stimu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al stimulation of membranes with mechanical gated ion channels (press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stimulation of membranes with ligand gated ion channels (neurotransmit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d/postsynaptic/receptor or generator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s flow through ion channels and change membrane potential lo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hange varies with strength of stimu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of current (ions) is local change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68FABAD3-FDEE-452C-85AC-E1D724160B1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2280" y="3505320"/>
            <a:ext cx="8839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ies of rapidly occurring events that change and then restore the membrane potential of a cell to its resting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n channels open, Na+ rushes in (depolarization), K+ rushes out (repolar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-or-none principal = with stimulation, either happens one specific way or not at all (lasts 1/1000 of a seco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vels (spreads) over surface of cell without d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8" descr="J:\MEDIA\1738\173834.JPG"/>
          <p:cNvPicPr/>
          <p:nvPr/>
        </p:nvPicPr>
        <p:blipFill>
          <a:blip r:embed="rId1"/>
          <a:srcRect l="0" t="45534" r="0" b="5305"/>
          <a:stretch/>
        </p:blipFill>
        <p:spPr>
          <a:xfrm>
            <a:off x="838080" y="838080"/>
            <a:ext cx="7620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9032802-601F-4675-B800-AB2C55234F5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-152280" y="759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olarizing Phase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or mechanical stimul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a graded potential to rea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(-55mV or threshol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tage-gated Na+ channels op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 Na+ rushes into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sting membrane, inactivation gate of sodium channel is open &amp; activation gate is closed (Na+ can not get 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reshold (-55mV) is reached, both open &amp; Na+ 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tivation gate closes again in few ten-thousandths of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 total of 20,000 Na+ actually enter the cell, but they change the membrane potential considerably(up to +30m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feedback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5" descr="J:\MEDIA\1738\173834.JPG"/>
          <p:cNvPicPr/>
          <p:nvPr/>
        </p:nvPicPr>
        <p:blipFill>
          <a:blip r:embed="rId1"/>
          <a:srcRect l="4000" t="45534" r="53001" b="9776"/>
          <a:stretch/>
        </p:blipFill>
        <p:spPr>
          <a:xfrm>
            <a:off x="5638680" y="121932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18FCCBA-41CC-4133-92E1-3B6BC073175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larizing Phase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reshold potential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5mV is reached, voltage-ga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+ channels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channel opening is mu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than Na+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ing which caused de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K+ channels finally do open, the Na+ channels have already closed (Na+ inflow sto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outflow returns membrane potential to -7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ough K+ leaves the cell, it will reach a -90mV membra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 and enter the after-hyperpolariz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channels close and the membrane potential returns to the resting potential of -7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5" descr="J:\MEDIA\1738\173834.JPG"/>
          <p:cNvPicPr/>
          <p:nvPr/>
        </p:nvPicPr>
        <p:blipFill>
          <a:blip r:embed="rId1"/>
          <a:srcRect l="4000" t="45534" r="53001" b="9776"/>
          <a:stretch/>
        </p:blipFill>
        <p:spPr>
          <a:xfrm>
            <a:off x="5486400" y="144792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71269EB-77A5-42FD-B37F-8EA415CE263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ractory Period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 of time during whic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 can not gener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action pot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olute refractor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very strong stimulus w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egin another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tivated Na+ channels must return to the resting state before they can be reo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fibers have absolute refractory period of 0.4 msec and up to 1000 impulses per second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refractory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uprathreshold stimulus will be able to start an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+ channels are still open, but Na+ channels have cl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5" descr="J:\MEDIA\1738\173834.JPG"/>
          <p:cNvPicPr/>
          <p:nvPr/>
        </p:nvPicPr>
        <p:blipFill>
          <a:blip r:embed="rId1"/>
          <a:srcRect l="4000" t="45534" r="53001" b="9776"/>
          <a:stretch/>
        </p:blipFill>
        <p:spPr>
          <a:xfrm>
            <a:off x="5410080" y="1371600"/>
            <a:ext cx="3276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AEA7F00-4586-42AC-9C38-C9CE7E814DA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on Potential: Summariz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ing membrane potential is -70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olarization is the change from -70mV to +30 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larization is the reversal from +30 mV back to  -70 m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053" descr="J:\MEDIA\1738\173835.JPG"/>
          <p:cNvPicPr/>
          <p:nvPr/>
        </p:nvPicPr>
        <p:blipFill>
          <a:blip r:embed="rId1"/>
          <a:srcRect l="0" t="0" r="0" b="8669"/>
          <a:stretch/>
        </p:blipFill>
        <p:spPr>
          <a:xfrm>
            <a:off x="1143000" y="2209680"/>
            <a:ext cx="67816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CFAA73A-D567-4952-8D97-0D0302A9446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agation of Action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tion potential spreads (propagates) over the surface of the axon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Na+ flows into the cell during depolarization,  the voltage of adjacent areas is effected and their voltage-gated Na+ channel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propagating along the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veling action potential is called a nerve impu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CB32801-7C6C-4606-B4BA-385DDFD03C9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nesth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ent opening of voltage-gated Na+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rve impulses cannot pass the anesthetized 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ocaine and lidoc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4187A6B-44C1-463C-AD60-8F2CCEC1CBB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inuous versus Saltatory Con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conduction (unmyelinated fib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by-step depolarization of each portion of the length of the axole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tatory co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larization only at nodes of Ranvier where there is a high density of voltage-gated io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arried by ions flows through extracellular fluid from node to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3F05825-0F05-451E-8F42-3CA774E371E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vous System Div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nervous system (C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he brain and spin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pheral nervous system (P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cranial and spinal nerves that contain both sensory and motor fi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s CNS to muscles, glands &amp; all sensory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BFA697A-599B-4D3F-AE1A-91BBFDD67C0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ltatory Con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5638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impulse conduction in which the impulse jumps from node to n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7" descr="J:\MEDIA\1738\173836.JPG"/>
          <p:cNvPicPr/>
          <p:nvPr/>
        </p:nvPicPr>
        <p:blipFill>
          <a:blip r:embed="rId1"/>
          <a:srcRect l="0" t="0" r="0" b="6759"/>
          <a:stretch/>
        </p:blipFill>
        <p:spPr>
          <a:xfrm>
            <a:off x="762120" y="1143000"/>
            <a:ext cx="76197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3189E55-D290-4720-A434-3A4250849F2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d of Impulse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agation speed of a nerve impulse is not related to stimulus streng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r, myelinated fibers conduct impulses faster due to size &amp; saltatory con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er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bers larg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-20 microns &amp; 130 m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ated somatic sensory &amp; motor to skeletal 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fibers medi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-3 microns &amp; 15 m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inated visceral sensory &amp; autonomic pregangli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ibers smalle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5-1.5 microns &amp; 2 m/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yelinated sensory &amp; autonomic 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195A449-AA6B-4DF4-9D54-31AC5634959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ing of Stimulus Int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ifferentiate a light touch from a firmer tou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of impul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pressure generates impulses at a higher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ensory neurons activ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pressure stimulates more neurons than does a light to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2ECB76C-B580-41C5-8DE8-2B4CB32E756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Potentials in Nerve and Mus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re muscle cell membrane versus only the axon of the neuron i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ing membrane potent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is -70m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eletal &amp; cardiac muscle is closer to -90m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ve impulse is 1/2 to 2 m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action potential lasts 1-5 msec for skeletal &amp; 10-300msec for cardiac &amp; sm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est nerve conduction velocity is 18 times faster than velocity over skeletal muscle fi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80E74C1-4A32-4158-8C59-70A97EF28ED6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s arise on dendrites and cell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arise only at trigger zone on axon hil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is produced by voltage-gated ion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 is produced by ligand or  mechanically-gated chann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Ps are localized (not propag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duct over the surface of the ax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4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Graded &amp; Action Pot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FC7F16A7-41AE-40D4-A734-66A64CA4AA7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arison of Graded &amp; Action Pot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of the AP is constant (all-or-n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ed potentials vary depending upon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uration of the GP is as long as the stimulus l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or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 has a refractory period due to the nature of the voltage-gated channels, and the GP has n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6065975-CCDD-4A8D-B6C5-60D5F1325C6B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al Transmission at Syna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 of synap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c current spreads to next cell through gap j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, two-way transmission &amp; capable of synchronizing groups of neu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way information transfer from a presynaptic neuron to a postsynaptic 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dendritic -- from axon to dend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somatic -- from axon to cell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axonic -- from axon to a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DBE2E7D-5A72-42C9-8E67-EDE597DEB90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mical Synap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5410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 potential reaches end bulb and voltage-gated Ca+ 2 channels 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+2 flows inward triggering release of neurotransm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transmitter crosses synaptic cleft &amp; binding to ligand-gated recep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neurotransmitter released the greater the change in potential of the postsynaptic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aptic delay is 0.5 m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way information trans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4" descr="J:\MEDIA\1738\173838.JPG"/>
          <p:cNvPicPr/>
          <p:nvPr/>
        </p:nvPicPr>
        <p:blipFill>
          <a:blip r:embed="rId1"/>
          <a:srcRect l="0" t="0" r="0" b="6998"/>
          <a:stretch/>
        </p:blipFill>
        <p:spPr>
          <a:xfrm>
            <a:off x="5753160" y="838080"/>
            <a:ext cx="33908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0065770-4534-4916-9D46-0F98C9FB66A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itatory &amp; Inhibitory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ffect of a neurotransmitter can be either excitatory or inhib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polarizing postsynaptic potential is called an EP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sults from the opening of ligand-gated Na+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synaptic cell is more likely to reach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hibitory postsynaptic potential is called an IP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sults from the opening of ligand-gated Cl- or K+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uses the postsynaptic cell to become more negative or hyper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stsynaptic cell is less likely to reach thres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C693D0D6-25C3-4A5A-8403-F54CF0402F7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oval of Neurotrans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down concentration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zymatic degra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tylcholineste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take by neurons or glia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transmitter transpo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zac = serotonin reupta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7" descr="J:\MEDIA\1738\173838.JPG"/>
          <p:cNvPicPr/>
          <p:nvPr/>
        </p:nvPicPr>
        <p:blipFill>
          <a:blip r:embed="rId1"/>
          <a:srcRect l="0" t="0" r="0" b="6998"/>
          <a:stretch/>
        </p:blipFill>
        <p:spPr>
          <a:xfrm>
            <a:off x="5410080" y="914400"/>
            <a:ext cx="3133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960C9409-066A-4DD5-9D78-D570E9FFE56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divisions of the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atic (voluntary) nervous system (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from cutaneous and special sensory receptors to the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 neurons to skeletal muscl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ic (involuntary) nervous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y neurons from visceral organs to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or neurons to smooth &amp; cardiac</a:t>
            </a:r>
            <a:r>
              <a:rPr b="0" lang="en-US" sz="28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cle and g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pathetic division (speeds up heart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sympathetic division (slow down heart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eric nervous system (E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untary sensory &amp; motor neurons control GI tr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s function independently of ANS &amp;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3772620-1C52-4DF3-84F7-DBB3C3E40FBF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Picture 1035" descr="H:\$$TortoraPowerPoints\modified images\fig12_15a.jpg"/>
          <p:cNvPicPr/>
          <p:nvPr/>
        </p:nvPicPr>
        <p:blipFill>
          <a:blip r:embed="rId1"/>
          <a:stretch/>
        </p:blipFill>
        <p:spPr>
          <a:xfrm>
            <a:off x="609480" y="1219320"/>
            <a:ext cx="4010040" cy="533376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45720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tion of effects of neurotransmitters released from several end bulbs onto one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-360" y="3805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tial Su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D5BFE1E5-13EB-48C5-A4A7-AFF5236BC34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oral Sum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8002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tion of effect of neurotransmitters released from 2 or more firings of the same end bulb in rapid succession onto a second neu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Picture 15" descr="H:\$$TortoraPowerPoints\modified images\fig12_15b.jpg"/>
          <p:cNvPicPr/>
          <p:nvPr/>
        </p:nvPicPr>
        <p:blipFill>
          <a:blip r:embed="rId1"/>
          <a:stretch/>
        </p:blipFill>
        <p:spPr>
          <a:xfrm>
            <a:off x="696960" y="1523880"/>
            <a:ext cx="3951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7BC2726-BAF2-46A0-B370-252673905C3D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Possible Respon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 EPSP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reaches -56 mV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mpulse is gene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shold wa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potential of at least -55 m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SP occ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rane hyperpolar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drops below -70 mV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084DFA70-F6E8-4E1C-98B9-075F8E5797F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ychnine Pois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pinal cord, Renshaw cells normally release an inhibitory neurotransmitter (glycine) onto motor neurons preventing excessive muscle con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ychnine binds to and blocks glycine receptors in the spinal 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ive tetanic contractions of all skeletal muscles are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iaphragm contracts &amp; remains contracted, breathing can not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083DF52-50E0-4A13-9C9B-01DF85CDA31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urotransmitter Eff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transmitter effects can be mod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can be stimulated or inhib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 can be blocked or enh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al can be stimulated or block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or site can be blocked or activ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o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enhances a transmitters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agon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thing that blocks the action of a neurotranm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48A322A3-0CC9-4108-AABD-99A70EA37A9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-Molecule Neurotransmi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tylcholine (A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d by many PNS neurons &amp; some C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atory on NMJ but inhibitory at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ctivated by acetylcholinester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utamate released by nearly all excitatory neurons in the brain ---- inactivated by glutamate specific transpo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BA is inhibitory neurotransmitter for 1/3 of all brain synapses (Valium is a GABA agonist -- enhancing its inhibitory eff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BB33FB6-0F53-4881-A8C6-62C4B2A2EEA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genic Am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amino acids (tyros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epinephrine -- regulates mood, dreaming, awakening from deep 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pamine -- regulating skeletal muscle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otonin -- control of mood, temperature regulation, &amp; induction of 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d from synapse &amp; recycled or destroyed by enzymes (monoamine oxidase or catechol-0-methyltransfer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-Molecule Neurotransmitter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0912AD3-62A8-4A1B-8C16-37CBAB5BD973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P and other purines (ADP, AMP &amp; adenosi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itatory in both CNS &amp; 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ased with other neurotransmitters (ACh &amp; 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es (nitric oxide or 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from amino acid arginine by an enzy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on demand and acts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s out of cell that produced it to affect neighboring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play a role in memory &amp;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recognized as vasodilator that helps lower blood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-Molecule Neurotransmitter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39B9D0E-3539-4EB6-AF6F-FEC7615495A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pept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40 amino acids linked by peptid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ce P -- enhances our perception of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 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kephalins -- pain-relieving effect by blocking the release of substance 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puncture may produce loss of pain sensation because of release of opioids-like substances such as endorphins or dynorph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C48140B-5184-443A-B0D3-B2E65870846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s in the CNS are organized into neuronal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uronal network may contain thousands or even millions of neur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nal circuits are involved in many important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t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-term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k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919E87D-DE89-4038-AAE7-67E1100B3C17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unit of nervous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capacity to produce action potent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al exci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nucleus with prominent nucle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sl bodies (chromatophilic substanc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gh ER &amp; free ribosomes for protein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filaments give cell shape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tubules move material insid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pofuscin pigment clumps (harmless ag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processes = dendrites &amp; ax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" descr="\\Pro 200 nt\d-jazzdr\1085 Anatomy\chapter 12\Fig 12_3c.jpg"/>
          <p:cNvPicPr/>
          <p:nvPr/>
        </p:nvPicPr>
        <p:blipFill>
          <a:blip r:embed="rId1"/>
          <a:srcRect l="24774" t="16014" r="2433" b="17818"/>
          <a:stretch/>
        </p:blipFill>
        <p:spPr>
          <a:xfrm>
            <a:off x="6934320" y="2438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5AFC6A9D-1B55-441B-8F8B-BC2A622DE029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7" descr="J:\MEDIA\1738\173840.JPG"/>
          <p:cNvPicPr/>
          <p:nvPr/>
        </p:nvPicPr>
        <p:blipFill>
          <a:blip r:embed="rId1"/>
          <a:srcRect l="999" t="0" r="0" b="8697"/>
          <a:stretch/>
        </p:blipFill>
        <p:spPr>
          <a:xfrm>
            <a:off x="762120" y="762120"/>
            <a:ext cx="7543800" cy="3200400"/>
          </a:xfrm>
          <a:prstGeom prst="rect">
            <a:avLst/>
          </a:prstGeom>
          <a:ln w="0">
            <a:noFill/>
          </a:ln>
        </p:spPr>
      </p:pic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al Circu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0" y="411444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ging -- single cell stimulates man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ing -- one cell stimulated by man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berating -- impulses from later cells repeatedly stimulate early cells in the circuit (short-term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-after-discharge -- single cell stimulates a group of cells that all stimulate a common postsynaptic cell (math probl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BB3EBE8D-071A-47FC-9782-56F28EE9F0E0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eneration &amp; Rep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ticity maintained throughout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outing of new dendr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of new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ynaptic contacts with othe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ability for regeneration (rep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S can repair damaged dendrites or ax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S no repairs are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71492E02-5DC4-4661-A25A-DA9494F1914C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genesis in the C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ion of new neurons from stem cells was not thought to occur in hu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2 a growth factor was found that stimulates adult mice brain cells to multi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8 new neurons found to form within adult human hippocampus (area important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s preventing neurogenesis in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ibition by neuroglial cells, absence of growth stimulating factors, lack of neurolemmas, and rapid formation of scar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عنصر نائب لرقم الشريحة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088AD79-2057-4A2C-8AC0-974CDB651261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xons &amp; dendrites may be repaired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 cell body remains i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wann cells remain active and form a tu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r tissue does not form too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omat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-48 hours after injury, Nissl bodies break up into fine granular m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ir within the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Picture 6" descr="H:\$$TortoraPowerPoints\modified images\fig_17a.jpg"/>
          <p:cNvPicPr/>
          <p:nvPr/>
        </p:nvPicPr>
        <p:blipFill>
          <a:blip r:embed="rId1"/>
          <a:srcRect l="2848" t="57415" r="0" b="1792"/>
          <a:stretch/>
        </p:blipFill>
        <p:spPr>
          <a:xfrm>
            <a:off x="2133720" y="5018040"/>
            <a:ext cx="4647960" cy="1839960"/>
          </a:xfrm>
          <a:prstGeom prst="rect">
            <a:avLst/>
          </a:prstGeom>
          <a:ln w="0">
            <a:noFill/>
          </a:ln>
        </p:spPr>
      </p:pic>
      <p:sp>
        <p:nvSpPr>
          <p:cNvPr id="880" name="Line 7"/>
          <p:cNvSpPr/>
          <p:nvPr/>
        </p:nvSpPr>
        <p:spPr>
          <a:xfrm flipH="1">
            <a:off x="3428640" y="4876920"/>
            <a:ext cx="7621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A5BBDDB5-339C-49BE-808C-F23A6D46549A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18" descr="H:\$$TortoraPowerPoints\modified images\fig_17b.jpg"/>
          <p:cNvPicPr/>
          <p:nvPr/>
        </p:nvPicPr>
        <p:blipFill>
          <a:blip r:embed="rId1"/>
          <a:stretch/>
        </p:blipFill>
        <p:spPr>
          <a:xfrm>
            <a:off x="4952880" y="1447920"/>
            <a:ext cx="4038840" cy="382896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4952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3-5 day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lerian degeneration occurs (breakdown of axon &amp; myelin sheath distal to inju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grade degeneration occurs back on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several months, regeneration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lemma on each side of injury repairs tube (schwann cell mito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al buds grow down the tube to reconnect (1.5 mm per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air within the P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2021ADB6-4062-4A9C-9241-AA69952D9D60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clerosis (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immune disorder causing destruction of myelin sheaths in C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aths becomes scars or pla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2 million people in the United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ars between ages 20 and 4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males twice as often as 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ptoms include muscular weakness, abnormal sensations or double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issions &amp; relapses result in progressive, cumulative loss of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عنصر نائب لرقم الشريحة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E45E1E56-1770-4B6B-A9B1-AB3DA205208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ond most common neurological dis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s 1% of 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short, recurrent attacks initiated by electrical discharges in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s, noise, or smells may be sen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eletal muscles may contract involuntar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f conscious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lepsy has many causes, includ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in damage at birth, metabolic disturbances, infections, toxins, vascular disturbances, head injuries, and tum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lep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E8FFCC8-B6BC-433B-ACEB-85BFD3D24614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Picture 2" descr="\\Pro 200 nt\d-jazzdr\1085 Anatomy\chapter 12\Exhibit 12_2.jpg"/>
          <p:cNvPicPr/>
          <p:nvPr/>
        </p:nvPicPr>
        <p:blipFill>
          <a:blip r:embed="rId1"/>
          <a:stretch/>
        </p:blipFill>
        <p:spPr>
          <a:xfrm>
            <a:off x="990720" y="1219320"/>
            <a:ext cx="7105680" cy="5248080"/>
          </a:xfrm>
          <a:prstGeom prst="rect">
            <a:avLst/>
          </a:prstGeom>
          <a:ln w="0">
            <a:noFill/>
          </a:ln>
        </p:spPr>
      </p:pic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uronal Structure &amp;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عنصر نائب لرقم الشريحة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ECCD6CB-7FFF-4E0D-B3E6-026E9C91D58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2" descr="\\Pro 200 nt\d-jazzdr\1085 Anatomy\chapter 12\Fig 12_3c.jpg"/>
          <p:cNvPicPr/>
          <p:nvPr/>
        </p:nvPicPr>
        <p:blipFill>
          <a:blip r:embed="rId1"/>
          <a:srcRect l="23334" t="10272" r="3337" b="18643"/>
          <a:stretch/>
        </p:blipFill>
        <p:spPr>
          <a:xfrm>
            <a:off x="2057400" y="152388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7315200" y="1523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us with Nucleo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4"/>
          <p:cNvSpPr/>
          <p:nvPr/>
        </p:nvSpPr>
        <p:spPr>
          <a:xfrm flipH="1">
            <a:off x="5105520" y="2133720"/>
            <a:ext cx="2209680" cy="144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52280" y="4267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s or Dend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4956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191120" y="990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glial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5"/>
          <p:cNvGrpSpPr/>
          <p:nvPr/>
        </p:nvGrpSpPr>
        <p:grpSpPr>
          <a:xfrm>
            <a:off x="5105520" y="1371600"/>
            <a:ext cx="685800" cy="1676520"/>
            <a:chOff x="5105520" y="1371600"/>
            <a:chExt cx="685800" cy="1676520"/>
          </a:xfrm>
        </p:grpSpPr>
        <p:sp>
          <p:nvSpPr>
            <p:cNvPr id="670" name="Line 10"/>
            <p:cNvSpPr/>
            <p:nvPr/>
          </p:nvSpPr>
          <p:spPr>
            <a:xfrm>
              <a:off x="5105520" y="1371600"/>
              <a:ext cx="68580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11"/>
            <p:cNvSpPr/>
            <p:nvPr/>
          </p:nvSpPr>
          <p:spPr>
            <a:xfrm>
              <a:off x="5105520" y="1371600"/>
              <a:ext cx="53316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16"/>
          <p:cNvGrpSpPr/>
          <p:nvPr/>
        </p:nvGrpSpPr>
        <p:grpSpPr>
          <a:xfrm>
            <a:off x="1523880" y="3504960"/>
            <a:ext cx="2590920" cy="1676520"/>
            <a:chOff x="1523880" y="3504960"/>
            <a:chExt cx="2590920" cy="1676520"/>
          </a:xfrm>
        </p:grpSpPr>
        <p:sp>
          <p:nvSpPr>
            <p:cNvPr id="673" name="Line 12"/>
            <p:cNvSpPr/>
            <p:nvPr/>
          </p:nvSpPr>
          <p:spPr>
            <a:xfrm flipV="1">
              <a:off x="1523880" y="3504960"/>
              <a:ext cx="221004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13"/>
            <p:cNvSpPr/>
            <p:nvPr/>
          </p:nvSpPr>
          <p:spPr>
            <a:xfrm>
              <a:off x="1676520" y="4648320"/>
              <a:ext cx="243828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Line 14"/>
          <p:cNvSpPr/>
          <p:nvPr/>
        </p:nvSpPr>
        <p:spPr>
          <a:xfrm flipH="1" flipV="1">
            <a:off x="4952520" y="4190760"/>
            <a:ext cx="38124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3BE6C538-DAF1-4C35-8C2F-C5C0B8B8B095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Picture 7" descr="J:\MEDIA\1738\173826.JPG"/>
          <p:cNvPicPr/>
          <p:nvPr/>
        </p:nvPicPr>
        <p:blipFill>
          <a:blip r:embed="rId1"/>
          <a:srcRect l="0" t="0" r="0" b="4560"/>
          <a:stretch/>
        </p:blipFill>
        <p:spPr>
          <a:xfrm>
            <a:off x="76320" y="1676520"/>
            <a:ext cx="4243320" cy="510516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dr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19720" y="2133720"/>
            <a:ext cx="4572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s impulses towards the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short, highly branched &amp; unmyel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rfaces specialized for contact with other 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 neurofibrils &amp; Nissl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6"/>
          <p:cNvSpPr/>
          <p:nvPr/>
        </p:nvSpPr>
        <p:spPr>
          <a:xfrm flipH="1">
            <a:off x="4114440" y="762120"/>
            <a:ext cx="6094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12-</a:t>
            </a:r>
            <a:fld id="{82E23CB7-62A6-4633-9663-DE449CD00D7E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Picture 8" descr="J:\MEDIA\1738\173826.JPG"/>
          <p:cNvPicPr/>
          <p:nvPr/>
        </p:nvPicPr>
        <p:blipFill>
          <a:blip r:embed="rId1"/>
          <a:srcRect l="0" t="0" r="0" b="4227"/>
          <a:stretch/>
        </p:blipFill>
        <p:spPr>
          <a:xfrm>
            <a:off x="4635360" y="685800"/>
            <a:ext cx="4356360" cy="525780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x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47242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, thin cylindrical process of ce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ses at axon hillo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s arise from initial segment (trigger z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de branches (collaterals) end in fine processes called axon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ollen tips called synaptic end bulbs contain vesicles filled with neurotransmit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6"/>
          <p:cNvSpPr/>
          <p:nvPr/>
        </p:nvSpPr>
        <p:spPr>
          <a:xfrm flipV="1" rot="10776600">
            <a:off x="5790960" y="640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aptic bou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 flipH="1" flipV="1">
            <a:off x="6934320" y="57909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0T02:02:06Z</dcterms:created>
  <dc:creator>Sharon Simpson</dc:creator>
  <dc:description/>
  <dc:language>en-US</dc:language>
  <cp:lastModifiedBy>King Soft 2</cp:lastModifiedBy>
  <cp:lastPrinted>2000-01-11T05:39:35Z</cp:lastPrinted>
  <dcterms:modified xsi:type="dcterms:W3CDTF">2013-10-04T10:18:17Z</dcterms:modified>
  <cp:revision>43</cp:revision>
  <dc:subject/>
  <dc:title>Nervous Tissue</dc:title>
</cp:coreProperties>
</file>