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38C73-8682-4BBB-ABF0-E851FEC1A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5D68E-9D1C-448D-B1CD-C71B041DE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ADF6B-1B2E-43D7-9A5A-89548EB9F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A5B64-5E81-4977-98DD-B878E350C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41583-0038-4254-BE39-B5AEC21F3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E1E49-AF0F-4053-96B8-FFA20450D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80E7F-68F0-40D2-948E-D1C1C9E62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24DAB-2543-46F1-BB18-9AE7687A9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32E75-946B-4DE1-B74C-877E867C9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B49E1-3728-4409-B91A-0B8B89046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803BC-3981-4A87-9B34-77C3F13A5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839D9-F2E9-4606-8E75-384187A8D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A7A3E-F806-4FD0-8521-BDFF49EC54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83844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imes New Roman"/>
              </a:rPr>
              <a:t>Connective Tissu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752480"/>
            <a:ext cx="6400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Consists of two basic element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Times New Roman"/>
              </a:rPr>
              <a:t>Cel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Times New Roman"/>
              </a:rPr>
              <a:t>a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Times New Roman"/>
              </a:rPr>
              <a:t>Extra-cellular matri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MS Serif"/>
              </a:rPr>
              <a:t>LOOSE Connective Tissu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MS Serif"/>
              </a:rPr>
              <a:t>	</a:t>
            </a:r>
            <a:r>
              <a:rPr b="1" lang="en-US" sz="2800" spc="-1" strike="noStrike">
                <a:solidFill>
                  <a:srgbClr val="ffff66"/>
                </a:solidFill>
                <a:latin typeface="MS Serif"/>
              </a:rPr>
              <a:t>2.  Adipose tiss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Font typeface="M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MS Serif"/>
              </a:rPr>
              <a:t>consists of adipocytes; "signet ring" appearing fat cells. They store energy in the form of triglycerides (lipid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Font typeface="M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MS Serif"/>
              </a:rPr>
              <a:t>found in subcutaneous layer, around organs and in the yellow marrow of long b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Font typeface="M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MS Serif"/>
              </a:rPr>
              <a:t>function = supports, protects and insulates, and serves as an energy reserve</a:t>
            </a:r>
            <a:br>
              <a:rPr sz="2800"/>
            </a:br>
            <a:r>
              <a:rPr b="1" lang="en-US" sz="2800" spc="-1" strike="noStrike">
                <a:solidFill>
                  <a:srgbClr val="ffff66"/>
                </a:solidFill>
                <a:latin typeface="MS Serif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4495680" y="0"/>
            <a:ext cx="464832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MS Serif"/>
              </a:rPr>
              <a:t>LOOSE Connective Tissu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MS Serif"/>
              </a:rPr>
              <a:t>	</a:t>
            </a:r>
            <a:r>
              <a:rPr b="1" lang="en-US" sz="3200" spc="-1" strike="noStrike">
                <a:solidFill>
                  <a:srgbClr val="ffff66"/>
                </a:solidFill>
                <a:latin typeface="MS Serif"/>
              </a:rPr>
              <a:t>3.  Reticular 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Font typeface="M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MS Serif"/>
              </a:rPr>
              <a:t>Consists of fine interlacing reticular fibers and reticular cel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Font typeface="M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MS Serif"/>
              </a:rPr>
              <a:t>Found in liver, spleen and lymph no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Font typeface="M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MS Serif"/>
              </a:rPr>
              <a:t>Function = forms the framework (stroma) of organs and binds together smooth muscle tissue cells</a:t>
            </a:r>
            <a:br>
              <a:rPr sz="2800"/>
            </a:br>
            <a:r>
              <a:rPr b="1" lang="en-US" sz="2800" spc="-1" strike="noStrike">
                <a:solidFill>
                  <a:srgbClr val="ffff66"/>
                </a:solidFill>
                <a:latin typeface="MS Serif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Times New Roman"/>
              </a:rPr>
              <a:t>True or Proper Connective Tiss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6840" y="182880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66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imes New Roman"/>
              </a:rPr>
              <a:t>Dense Connective Tissu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66"/>
                </a:solidFill>
                <a:latin typeface="Times New Roman"/>
              </a:rPr>
              <a:t>a.  Dense regular connective tiss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Tendons and liga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66"/>
                </a:solidFill>
                <a:latin typeface="Times New Roman"/>
              </a:rPr>
              <a:t>b.  Dense irregular connective tiss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Dermis of skin, submucosa of digestive </a:t>
            </a: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tra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66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MS Serif"/>
              </a:rPr>
              <a:t>Dense Connective Tissu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Font typeface="M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MS Serif"/>
              </a:rPr>
              <a:t>	</a:t>
            </a:r>
            <a:r>
              <a:rPr b="1" lang="en-US" sz="2800" spc="-1" strike="noStrike">
                <a:solidFill>
                  <a:srgbClr val="ffff66"/>
                </a:solidFill>
                <a:latin typeface="MS Serif"/>
              </a:rPr>
              <a:t>contains more numerous and thicker fibers and far fewer cells than loose CT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66"/>
                </a:solidFill>
                <a:latin typeface="MS Serif"/>
              </a:rPr>
              <a:t>1. dense regular Connective Tiss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66"/>
              </a:buClr>
              <a:buFont typeface="M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MS Serif"/>
              </a:rPr>
              <a:t>consists of bundles of collagen fibers and fibrobla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66"/>
              </a:buClr>
              <a:buFont typeface="M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MS Serif"/>
              </a:rPr>
              <a:t>forms tendons, ligaments and aponeuro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66"/>
              </a:buClr>
              <a:buFont typeface="M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MS Serif"/>
              </a:rPr>
              <a:t>Function = provide strong attachment between various structures</a:t>
            </a:r>
            <a:br>
              <a:rPr sz="2400"/>
            </a:br>
            <a:r>
              <a:rPr b="1" lang="en-US" sz="2400" spc="-1" strike="noStrike">
                <a:solidFill>
                  <a:srgbClr val="ffff66"/>
                </a:solidFill>
                <a:latin typeface="MS Serif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876920" cy="36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imes New Roman"/>
              </a:rPr>
              <a:t>True Connective Tissue Cel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66"/>
                </a:solidFill>
                <a:uFillTx/>
                <a:latin typeface="Times New Roman"/>
              </a:rPr>
              <a:t>Fibroblasts</a:t>
            </a: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:  Secrete both  fibers and ground </a:t>
            </a: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substance of the matrix  (wander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66"/>
                </a:solidFill>
                <a:uFillTx/>
                <a:latin typeface="Times New Roman"/>
              </a:rPr>
              <a:t>Macrophages</a:t>
            </a: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:  Phagocytes that develop from </a:t>
            </a: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Monocytes </a:t>
            </a: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 (wandering or fix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1" lang="en-US" sz="2800" spc="-1" strike="noStrike" u="sng">
                <a:solidFill>
                  <a:srgbClr val="ffff66"/>
                </a:solidFill>
                <a:uFillTx/>
                <a:latin typeface="Times New Roman"/>
              </a:rPr>
              <a:t>Plasma Cells</a:t>
            </a: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:  Antibody secreting cells that develop </a:t>
            </a: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from B Lymphocytes  (wander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66"/>
                </a:solidFill>
                <a:uFillTx/>
                <a:latin typeface="Times New Roman"/>
              </a:rPr>
              <a:t>Mast Cells</a:t>
            </a: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:  Produce histamine that help dilate small </a:t>
            </a: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blood vessels in reaction to injury  (wander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66"/>
                </a:solidFill>
                <a:uFillTx/>
                <a:latin typeface="Times New Roman"/>
              </a:rPr>
              <a:t>Adipocytes</a:t>
            </a: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:  Fat cells that store triglycerides, </a:t>
            </a: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support, protect and insulate  (fix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MS Serif"/>
              </a:rPr>
              <a:t>Dense Connective Tissu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ffff66"/>
                </a:solidFill>
                <a:latin typeface="MS Serif"/>
              </a:rPr>
              <a:t>2. Dense Irregular 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66"/>
              </a:buClr>
              <a:buFont typeface="M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MS Serif"/>
              </a:rPr>
              <a:t>consists of randomly-arranged collagen fibers and a few fibrobla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66"/>
              </a:buClr>
              <a:buFont typeface="M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MS Serif"/>
              </a:rPr>
              <a:t>Found in fasciae, dermis of skin, joint capsules, and heart val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66"/>
              </a:buClr>
              <a:buFont typeface="M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MS Serif"/>
              </a:rPr>
              <a:t>Function = provide strength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MS Serif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648320" cy="37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MS Serif"/>
              </a:rPr>
              <a:t>Supportive Connective Tissu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MS Serif"/>
              </a:rPr>
              <a:t>	</a:t>
            </a:r>
            <a:r>
              <a:rPr b="1" lang="en-US" sz="2800" spc="-1" strike="noStrike">
                <a:solidFill>
                  <a:srgbClr val="ffff66"/>
                </a:solidFill>
                <a:latin typeface="MS Serif"/>
              </a:rPr>
              <a:t>	</a:t>
            </a:r>
            <a:r>
              <a:rPr b="1" lang="en-US" sz="2800" spc="-1" strike="noStrike">
                <a:solidFill>
                  <a:srgbClr val="ffff66"/>
                </a:solidFill>
                <a:latin typeface="MS Serif"/>
              </a:rPr>
              <a:t>CARTILAG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M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MS Serif"/>
              </a:rPr>
              <a:t>Jelly-like matrix (chondroitin sulfate) containing collagen and elastic fibers and chondrocytes surrounded by a membrane called the perichondriu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M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MS Serif"/>
              </a:rPr>
              <a:t>Unlike other CT, cartilage has NO blood vessels or nerves except in the perichondriu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M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MS Serif"/>
              </a:rPr>
              <a:t>The strength of cartilage is due to collagen fibers and the resilience is due to the presence of chondroitin sulfa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M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MS Serif"/>
              </a:rPr>
              <a:t>Chondrocytes occur within spaces in the matrix called lacunae.</a:t>
            </a:r>
            <a:br>
              <a:rPr sz="2400"/>
            </a:br>
            <a:r>
              <a:rPr b="1" lang="en-US" sz="2400" spc="-1" strike="noStrike">
                <a:solidFill>
                  <a:srgbClr val="ffff66"/>
                </a:solidFill>
                <a:latin typeface="MS Serif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imes New Roman"/>
              </a:rPr>
              <a:t>Supportive Connective Tissu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447920" y="190476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spcBef>
                <a:spcPts val="799"/>
              </a:spcBef>
              <a:buClr>
                <a:srgbClr val="ffff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imes New Roman"/>
              </a:rPr>
              <a:t>Hyaline cartil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66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imes New Roman"/>
              </a:rPr>
              <a:t>Fibrocartil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66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imes New Roman"/>
              </a:rPr>
              <a:t>Elastic cartil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MS Serif"/>
              </a:rPr>
              <a:t>Supportive Connective Tissu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Font typeface="MS Serif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MS Serif"/>
              </a:rPr>
              <a:t>Hyaline Cartilage  (most abundant typ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96040" indent="-447840">
              <a:lnSpc>
                <a:spcPct val="100000"/>
              </a:lnSpc>
              <a:spcBef>
                <a:spcPts val="601"/>
              </a:spcBef>
              <a:buClr>
                <a:srgbClr val="ffff66"/>
              </a:buClr>
              <a:buFont typeface="MS Serif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MS Serif"/>
              </a:rPr>
              <a:t>fine collagen fibers embedded in a gel-type matrix. Occasional chondrocytes inside lacuna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96040" indent="-447840">
              <a:lnSpc>
                <a:spcPct val="100000"/>
              </a:lnSpc>
              <a:spcBef>
                <a:spcPts val="601"/>
              </a:spcBef>
              <a:buClr>
                <a:srgbClr val="ffff66"/>
              </a:buClr>
              <a:buFont typeface="MS Serif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MS Serif"/>
              </a:rPr>
              <a:t>Found in embryonic skeleton, at the ends of long bones, in the nose and in respiratory structu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96040" indent="-447840">
              <a:lnSpc>
                <a:spcPct val="100000"/>
              </a:lnSpc>
              <a:spcBef>
                <a:spcPts val="601"/>
              </a:spcBef>
              <a:buClr>
                <a:srgbClr val="ffff66"/>
              </a:buClr>
              <a:buFont typeface="MS Serif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MS Serif"/>
              </a:rPr>
              <a:t>Function= flexible, provides support, allows movement at j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648320" cy="37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MS Serif"/>
              </a:rPr>
              <a:t>Supportive Connective Tissu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Font typeface="MS Serif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MS Serif"/>
              </a:rPr>
              <a:t>Fibrocartil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ffff66"/>
              </a:buClr>
              <a:buFont typeface="MS Serif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MS Serif"/>
              </a:rPr>
              <a:t>contains bundles of collagen in the matrix that are usually more visible under microscop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ffff66"/>
              </a:buClr>
              <a:buFont typeface="MS Serif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MS Serif"/>
              </a:rPr>
              <a:t>Found in the pubic symphysis, intervertebral discs, and menisci of the kne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ffff66"/>
              </a:buClr>
              <a:buFont typeface="MS Serif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MS Serif"/>
              </a:rPr>
              <a:t>Function = support and fusion, and absorbs shocks.</a:t>
            </a:r>
            <a:br>
              <a:rPr sz="2400"/>
            </a:br>
            <a:r>
              <a:rPr b="1" lang="en-US" sz="2400" spc="-1" strike="noStrike">
                <a:solidFill>
                  <a:srgbClr val="ffff66"/>
                </a:solidFill>
                <a:latin typeface="MS Serif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685800" y="0"/>
            <a:ext cx="7620120" cy="30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876920" cy="39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MS Serif"/>
              </a:rPr>
              <a:t>Supportive Connective Tissu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MS Serif"/>
              </a:rPr>
              <a:t>3. Elastic Cartil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ffff66"/>
              </a:buClr>
              <a:buFont typeface="MS Serif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MS Serif"/>
              </a:rPr>
              <a:t>threadlike network of elastic fibers within the matri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ffff66"/>
              </a:buClr>
              <a:buFont typeface="MS Serif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MS Serif"/>
              </a:rPr>
              <a:t>found in external ear, auditory tubes, epiglott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ffff66"/>
              </a:buClr>
              <a:buFont typeface="MS Serif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MS Serif"/>
              </a:rPr>
              <a:t>function = gives support, maintains shape, allows flexi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495680" cy="38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MS Serif"/>
              </a:rPr>
              <a:t>BODY MEMBRAN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M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MS Serif"/>
              </a:rPr>
              <a:t>Epithelial Membranes = epithelial layer of cells plus the underlying connective tissue.</a:t>
            </a:r>
            <a:br>
              <a:rPr sz="2800"/>
            </a:br>
            <a:r>
              <a:rPr b="0" lang="en-US" sz="2800" spc="-1" strike="noStrike">
                <a:solidFill>
                  <a:srgbClr val="ffff66"/>
                </a:solidFill>
                <a:latin typeface="MS Serif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MS Serif"/>
              </a:rPr>
              <a:t>	</a:t>
            </a:r>
            <a:r>
              <a:rPr b="0" lang="en-US" sz="2800" spc="-1" strike="noStrike">
                <a:solidFill>
                  <a:srgbClr val="ffff66"/>
                </a:solidFill>
                <a:latin typeface="MS Serif"/>
              </a:rPr>
              <a:t>	</a:t>
            </a:r>
            <a:r>
              <a:rPr b="0" lang="en-US" sz="2800" spc="-1" strike="noStrike">
                <a:solidFill>
                  <a:srgbClr val="ffff66"/>
                </a:solidFill>
                <a:latin typeface="MS Serif"/>
              </a:rPr>
              <a:t>Three Types:</a:t>
            </a:r>
            <a:br>
              <a:rPr sz="2800"/>
            </a:br>
            <a:r>
              <a:rPr b="0" lang="en-US" sz="2800" spc="-1" strike="noStrike">
                <a:solidFill>
                  <a:srgbClr val="ffff66"/>
                </a:solidFill>
                <a:latin typeface="MS Serif"/>
              </a:rPr>
              <a:t>	</a:t>
            </a:r>
            <a:r>
              <a:rPr b="0" lang="en-US" sz="2800" spc="-1" strike="noStrike">
                <a:solidFill>
                  <a:srgbClr val="ffff66"/>
                </a:solidFill>
                <a:latin typeface="MS Serif"/>
              </a:rPr>
              <a:t>	</a:t>
            </a:r>
            <a:r>
              <a:rPr b="0" lang="en-US" sz="2800" spc="-1" strike="noStrike">
                <a:solidFill>
                  <a:srgbClr val="ffff66"/>
                </a:solidFill>
                <a:latin typeface="MS Serif"/>
              </a:rPr>
              <a:t>1.  Mucous membra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MS Serif"/>
              </a:rPr>
              <a:t>	</a:t>
            </a:r>
            <a:r>
              <a:rPr b="0" lang="en-US" sz="2800" spc="-1" strike="noStrike">
                <a:solidFill>
                  <a:srgbClr val="ffff66"/>
                </a:solidFill>
                <a:latin typeface="MS Serif"/>
              </a:rPr>
              <a:t>	</a:t>
            </a:r>
            <a:r>
              <a:rPr b="0" lang="en-US" sz="2800" spc="-1" strike="noStrike">
                <a:solidFill>
                  <a:srgbClr val="ffff66"/>
                </a:solidFill>
                <a:latin typeface="MS Serif"/>
              </a:rPr>
              <a:t>	</a:t>
            </a:r>
            <a:r>
              <a:rPr b="0" lang="en-US" sz="2800" spc="-1" strike="noStrike">
                <a:solidFill>
                  <a:srgbClr val="ffff66"/>
                </a:solidFill>
                <a:latin typeface="MS Serif"/>
              </a:rPr>
              <a:t>2.  Serous membra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MS Serif"/>
              </a:rPr>
              <a:t>	</a:t>
            </a:r>
            <a:r>
              <a:rPr b="0" lang="en-US" sz="2800" spc="-1" strike="noStrike">
                <a:solidFill>
                  <a:srgbClr val="ffff66"/>
                </a:solidFill>
                <a:latin typeface="MS Serif"/>
              </a:rPr>
              <a:t>	</a:t>
            </a:r>
            <a:r>
              <a:rPr b="0" lang="en-US" sz="2800" spc="-1" strike="noStrike">
                <a:solidFill>
                  <a:srgbClr val="ffff66"/>
                </a:solidFill>
                <a:latin typeface="MS Serif"/>
              </a:rPr>
              <a:t>	</a:t>
            </a:r>
            <a:r>
              <a:rPr b="0" lang="en-US" sz="2800" spc="-1" strike="noStrike">
                <a:solidFill>
                  <a:srgbClr val="ffff66"/>
                </a:solidFill>
                <a:latin typeface="MS Serif"/>
              </a:rPr>
              <a:t>3.  Cutaneous membra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ffff66"/>
                </a:solidFill>
                <a:latin typeface="MS Serif"/>
              </a:rPr>
              <a:t>	</a:t>
            </a:r>
            <a:r>
              <a:rPr b="0" lang="en-US" sz="2800" spc="-1" strike="noStrike">
                <a:solidFill>
                  <a:srgbClr val="ffff66"/>
                </a:solidFill>
                <a:latin typeface="MS Serif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MS Serif"/>
              </a:rPr>
              <a:t>BODY MEMBRAN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txBody>
          <a:bodyPr lIns="90000" rIns="90000" tIns="46800" bIns="46800" anchor="t">
            <a:normAutofit fontScale="92000"/>
          </a:bodyPr>
          <a:p>
            <a:pPr marL="490680" indent="-49068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MS Serif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MS Serif"/>
              </a:rPr>
              <a:t>Mucous membrane = mucosa; it lines cavities that open to the exterior, such as the GI trac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40960" indent="-4204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MS Serif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MS Serif"/>
              </a:rPr>
              <a:t>The epithelial layer of the mucous membrane acts as a barrier to disease organis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40960" indent="-4204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MS Serif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MS Serif"/>
              </a:rPr>
              <a:t>The connective tissue layer of the mucous membrane is called the lamina propr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40960" indent="-4204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MS Serif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MS Serif"/>
              </a:rPr>
              <a:t>Found as the lining of the mouth, vagina, and nasal pass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0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90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ffff66"/>
                </a:solidFill>
                <a:latin typeface="MS Serif"/>
              </a:rPr>
              <a:t>	</a:t>
            </a:r>
            <a:r>
              <a:rPr b="0" lang="en-US" sz="2800" spc="-1" strike="noStrike">
                <a:solidFill>
                  <a:srgbClr val="ffff66"/>
                </a:solidFill>
                <a:latin typeface="MS Serif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90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MS Serif"/>
              </a:rPr>
              <a:t>BODY MEMBRAN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528120" indent="-528120">
              <a:lnSpc>
                <a:spcPct val="80000"/>
              </a:lnSpc>
              <a:spcBef>
                <a:spcPts val="601"/>
              </a:spcBef>
              <a:buClr>
                <a:srgbClr val="ffff66"/>
              </a:buClr>
              <a:buFont typeface="MS Serif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MS Serif"/>
              </a:rPr>
              <a:t>Serous membrane = serosa, membrane lines a body cavity that does NOT open to the exterior and it covers the organs that lie within the cavity.</a:t>
            </a:r>
            <a:br>
              <a:rPr sz="2800"/>
            </a:br>
            <a:r>
              <a:rPr b="1" lang="en-US" sz="2800" spc="-1" strike="noStrike">
                <a:solidFill>
                  <a:srgbClr val="ffff66"/>
                </a:solidFill>
                <a:latin typeface="MS Serif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MS Serif"/>
              </a:rPr>
              <a:t>a. pleura = lungs</a:t>
            </a:r>
            <a:br>
              <a:rPr sz="2400"/>
            </a:br>
            <a:r>
              <a:rPr b="1" lang="en-US" sz="2400" spc="-1" strike="noStrike">
                <a:solidFill>
                  <a:srgbClr val="ffff66"/>
                </a:solidFill>
                <a:latin typeface="MS Serif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MS Serif"/>
              </a:rPr>
              <a:t>b. pericardium = heart</a:t>
            </a:r>
            <a:br>
              <a:rPr sz="2400"/>
            </a:br>
            <a:r>
              <a:rPr b="1" lang="en-US" sz="2400" spc="-1" strike="noStrike">
                <a:solidFill>
                  <a:srgbClr val="ffff66"/>
                </a:solidFill>
                <a:latin typeface="MS Serif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MS Serif"/>
              </a:rPr>
              <a:t>c.  peritoneum = abdo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5040" indent="-452520">
              <a:lnSpc>
                <a:spcPct val="80000"/>
              </a:lnSpc>
              <a:spcBef>
                <a:spcPts val="601"/>
              </a:spcBef>
              <a:buClr>
                <a:srgbClr val="ffff66"/>
              </a:buClr>
              <a:buFont typeface="MS Serif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MS Serif"/>
              </a:rPr>
              <a:t>The serous membrane has two portions:</a:t>
            </a:r>
            <a:br>
              <a:rPr sz="2400"/>
            </a:br>
            <a:r>
              <a:rPr b="1" lang="en-US" sz="2400" spc="-1" strike="noStrike">
                <a:solidFill>
                  <a:srgbClr val="ffff66"/>
                </a:solidFill>
                <a:latin typeface="MS Serif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MS Serif"/>
              </a:rPr>
              <a:t>1. parietal portion = lining outside the </a:t>
            </a:r>
            <a:r>
              <a:rPr b="1" lang="en-US" sz="2400" spc="-1" strike="noStrike">
                <a:solidFill>
                  <a:srgbClr val="ffff66"/>
                </a:solidFill>
                <a:latin typeface="MS Serif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MS Serif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MS Serif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MS Serif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MS Serif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MS Serif"/>
              </a:rPr>
              <a:t>cavity.</a:t>
            </a:r>
            <a:br>
              <a:rPr sz="2400"/>
            </a:br>
            <a:r>
              <a:rPr b="1" lang="en-US" sz="2400" spc="-1" strike="noStrike">
                <a:solidFill>
                  <a:srgbClr val="ffff66"/>
                </a:solidFill>
                <a:latin typeface="MS Serif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MS Serif"/>
              </a:rPr>
              <a:t>2. visceral portion = covers the organ.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ffff66"/>
                </a:solidFill>
                <a:latin typeface="MS Serif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MS Serif"/>
              </a:rPr>
              <a:t>BODY MEMBRAN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72464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txBody>
          <a:bodyPr lIns="90000" rIns="90000" tIns="46800" bIns="46800" anchor="t">
            <a:normAutofit fontScale="91000"/>
          </a:bodyPr>
          <a:p>
            <a:pPr marL="48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MS Serif"/>
              </a:rPr>
              <a:t>     </a:t>
            </a:r>
            <a:r>
              <a:rPr b="1" lang="en-US" sz="2800" spc="-1" strike="noStrike">
                <a:solidFill>
                  <a:srgbClr val="ffff66"/>
                </a:solidFill>
                <a:latin typeface="MS Serif"/>
              </a:rPr>
              <a:t>Serous membranes epithelial layer secretes a lubricating SEROUS FLUID, that reduces friction between organs and the walls of the cavities in which they are loc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31960" indent="-41580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MS Serif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MS Serif"/>
              </a:rPr>
              <a:t>The serous fluid is named by loc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31960" indent="-41580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MS Serif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MS Serif"/>
              </a:rPr>
              <a:t>Pleural fluid is found between the parietal and visceral pleura of the lung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31960" indent="-41580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MS Serif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MS Serif"/>
              </a:rPr>
              <a:t>Pericardial fluid is found between the parietal and visceral pericardium of the hear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31960" indent="-41580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MS Serif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MS Serif"/>
              </a:rPr>
              <a:t>Peritoneal fluid is found between the parietal and visceral peritoneum of the abdomen.</a:t>
            </a:r>
            <a:br>
              <a:rPr sz="2400"/>
            </a:br>
            <a:r>
              <a:rPr b="1" lang="en-US" sz="2400" spc="-1" strike="noStrike">
                <a:solidFill>
                  <a:srgbClr val="ffff66"/>
                </a:solidFill>
                <a:latin typeface="MS Serif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MS Serif"/>
              </a:rPr>
              <a:t>BODY MEMBRAN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458200" cy="548640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MS Serif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219320" y="1295280"/>
            <a:ext cx="70102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772400" cy="838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imes New Roman"/>
              </a:rPr>
              <a:t>Matrix Fib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380880" y="1752480"/>
            <a:ext cx="83059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66"/>
                </a:solidFill>
                <a:uFillTx/>
                <a:latin typeface="Times New Roman"/>
              </a:rPr>
              <a:t>Collagen Fibers</a:t>
            </a: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:  Large fibers made of the protein </a:t>
            </a: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collagen and are typically the most abundant </a:t>
            </a: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fibers.  Promote tissue flexibili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66"/>
                </a:solidFill>
                <a:uFillTx/>
                <a:latin typeface="Times New Roman"/>
              </a:rPr>
              <a:t>Elastic Fibers</a:t>
            </a: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:  Intermediate fibers made of the </a:t>
            </a: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protein elastin.  Branching fibers that allow for </a:t>
            </a: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stretch and reco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66"/>
                </a:solidFill>
                <a:uFillTx/>
                <a:latin typeface="Times New Roman"/>
              </a:rPr>
              <a:t>Reticular Fibers</a:t>
            </a: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:  Small delicate, branched </a:t>
            </a: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fibers that have same chemical composition of </a:t>
            </a: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collagen.  Forms structural framework for </a:t>
            </a: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organs such as spleen and lymph nod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MS Serif"/>
              </a:rPr>
              <a:t>BODY MEMBRAN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458200" cy="548640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MS Serif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066680" y="1257480"/>
            <a:ext cx="70106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MS Serif"/>
              </a:rPr>
              <a:t>BODY MEMBRAN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458200" cy="548640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MS Serif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219320" y="1295280"/>
            <a:ext cx="6933960" cy="520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724280" cy="43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772400" cy="91440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imes New Roman"/>
              </a:rPr>
              <a:t>Matrix Ground Substanc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440" y="16765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66"/>
                </a:solidFill>
                <a:uFillTx/>
                <a:latin typeface="Times New Roman"/>
              </a:rPr>
              <a:t>Hyaluronic Acid</a:t>
            </a:r>
            <a:r>
              <a:rPr b="1" lang="en-US" sz="3200" spc="-1" strike="noStrike">
                <a:solidFill>
                  <a:srgbClr val="ffff66"/>
                </a:solidFill>
                <a:latin typeface="Times New Roman"/>
              </a:rPr>
              <a:t>:  Complex combination of </a:t>
            </a:r>
            <a:r>
              <a:rPr b="1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66"/>
                </a:solidFill>
                <a:latin typeface="Times New Roman"/>
              </a:rPr>
              <a:t>polysaccharides and proteins found in </a:t>
            </a:r>
            <a:r>
              <a:rPr b="1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66"/>
                </a:solidFill>
                <a:latin typeface="Times New Roman"/>
              </a:rPr>
              <a:t>“true” or proper connective tissu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66"/>
                </a:solidFill>
                <a:uFillTx/>
                <a:latin typeface="Times New Roman"/>
              </a:rPr>
              <a:t>Chondroitin sulfate</a:t>
            </a:r>
            <a:r>
              <a:rPr b="1" lang="en-US" sz="3200" spc="-1" strike="noStrike">
                <a:solidFill>
                  <a:srgbClr val="ffff66"/>
                </a:solidFill>
                <a:latin typeface="Times New Roman"/>
              </a:rPr>
              <a:t>:  Jellylike ground </a:t>
            </a:r>
            <a:r>
              <a:rPr b="1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66"/>
                </a:solidFill>
                <a:latin typeface="Times New Roman"/>
              </a:rPr>
              <a:t>substance of cartilage, bone, skin and</a:t>
            </a:r>
            <a:r>
              <a:rPr b="1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66"/>
                </a:solidFill>
                <a:latin typeface="Times New Roman"/>
              </a:rPr>
              <a:t> blood vessel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66"/>
                </a:solidFill>
                <a:uFillTx/>
                <a:latin typeface="Times New Roman"/>
              </a:rPr>
              <a:t>Other ground Substances</a:t>
            </a:r>
            <a:r>
              <a:rPr b="1" lang="en-US" sz="3200" spc="-1" strike="noStrike">
                <a:solidFill>
                  <a:srgbClr val="ffff66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66"/>
                </a:solidFill>
                <a:latin typeface="Times New Roman"/>
              </a:rPr>
              <a:t>Dermatin sulfate, keratin sulfate, and </a:t>
            </a:r>
            <a:r>
              <a:rPr b="1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66"/>
                </a:solidFill>
                <a:latin typeface="Times New Roman"/>
              </a:rPr>
              <a:t>adhesion protein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MS Serif"/>
              </a:rPr>
              <a:t>TYPES OF CONNECTIVE TISS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7848360" cy="464796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ffff66"/>
                </a:solidFill>
                <a:latin typeface="MS Serif"/>
              </a:rPr>
              <a:t>	</a:t>
            </a:r>
            <a:r>
              <a:rPr b="0" lang="en-US" sz="3200" spc="-1" strike="noStrike">
                <a:solidFill>
                  <a:srgbClr val="ffff66"/>
                </a:solidFill>
                <a:latin typeface="MS Serif"/>
              </a:rPr>
              <a:t>1. True Connective Tissue</a:t>
            </a:r>
            <a:br>
              <a:rPr sz="3200"/>
            </a:br>
            <a:r>
              <a:rPr b="0" lang="en-US" sz="3200" spc="-1" strike="noStrike">
                <a:solidFill>
                  <a:srgbClr val="ffff66"/>
                </a:solidFill>
                <a:latin typeface="MS Serif"/>
              </a:rPr>
              <a:t>	</a:t>
            </a:r>
            <a:r>
              <a:rPr b="0" lang="en-US" sz="3200" spc="-1" strike="noStrike">
                <a:solidFill>
                  <a:srgbClr val="ffff66"/>
                </a:solidFill>
                <a:latin typeface="MS Serif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MS Serif"/>
              </a:rPr>
              <a:t>a.  Loose Connective Tiss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MS Serif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MS Serif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MS Serif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MS Serif"/>
              </a:rPr>
              <a:t>b.  Dense Connective Tiss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MS Serif"/>
              </a:rPr>
              <a:t>	</a:t>
            </a:r>
            <a:r>
              <a:rPr b="0" lang="en-US" sz="3200" spc="-1" strike="noStrike">
                <a:solidFill>
                  <a:srgbClr val="ffff66"/>
                </a:solidFill>
                <a:latin typeface="MS Serif"/>
              </a:rPr>
              <a:t>	</a:t>
            </a:r>
            <a:r>
              <a:rPr b="0" lang="en-US" sz="3200" spc="-1" strike="noStrike">
                <a:solidFill>
                  <a:srgbClr val="ffff66"/>
                </a:solidFill>
                <a:latin typeface="MS Serif"/>
              </a:rPr>
              <a:t>2. Supportive Connective Tissue</a:t>
            </a:r>
            <a:br>
              <a:rPr sz="3200"/>
            </a:br>
            <a:r>
              <a:rPr b="0" lang="en-US" sz="3200" spc="-1" strike="noStrike">
                <a:solidFill>
                  <a:srgbClr val="ffff66"/>
                </a:solidFill>
                <a:latin typeface="MS Serif"/>
              </a:rPr>
              <a:t>	</a:t>
            </a:r>
            <a:r>
              <a:rPr b="0" lang="en-US" sz="3200" spc="-1" strike="noStrike">
                <a:solidFill>
                  <a:srgbClr val="ffff66"/>
                </a:solidFill>
                <a:latin typeface="MS Serif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MS Serif"/>
              </a:rPr>
              <a:t>a.  Cartil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MS Serif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MS Serif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MS Serif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MS Serif"/>
              </a:rPr>
              <a:t>b.  B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MS Serif"/>
              </a:rPr>
              <a:t>	</a:t>
            </a:r>
            <a:r>
              <a:rPr b="0" lang="en-US" sz="3200" spc="-1" strike="noStrike">
                <a:solidFill>
                  <a:srgbClr val="ffff66"/>
                </a:solidFill>
                <a:latin typeface="MS Serif"/>
              </a:rPr>
              <a:t>	</a:t>
            </a:r>
            <a:r>
              <a:rPr b="0" lang="en-US" sz="3200" spc="-1" strike="noStrike">
                <a:solidFill>
                  <a:srgbClr val="ffff66"/>
                </a:solidFill>
                <a:latin typeface="MS Serif"/>
              </a:rPr>
              <a:t>5. Liquid Connective Tiss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MS Serif"/>
              </a:rPr>
              <a:t>	</a:t>
            </a:r>
            <a:r>
              <a:rPr b="0" lang="en-US" sz="3200" spc="-1" strike="noStrike">
                <a:solidFill>
                  <a:srgbClr val="ffff66"/>
                </a:solidFill>
                <a:latin typeface="MS Serif"/>
              </a:rPr>
              <a:t>	</a:t>
            </a:r>
            <a:r>
              <a:rPr b="0" lang="en-US" sz="3200" spc="-1" strike="noStrike">
                <a:solidFill>
                  <a:srgbClr val="ffff66"/>
                </a:solidFill>
                <a:latin typeface="MS Serif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MS Serif"/>
              </a:rPr>
              <a:t>a.  Bl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Times New Roman"/>
              </a:rPr>
              <a:t>True or Proper Connective Tiss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304560" y="144792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spcBef>
                <a:spcPts val="799"/>
              </a:spcBef>
              <a:buClr>
                <a:srgbClr val="ffff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imes New Roman"/>
              </a:rPr>
              <a:t>Loose Connective Tissu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66"/>
                </a:solidFill>
                <a:latin typeface="Times New Roman"/>
              </a:rPr>
              <a:t>a.  Areolar tiss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Widely distributed under </a:t>
            </a: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epithel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66"/>
                </a:solidFill>
                <a:latin typeface="Times New Roman"/>
              </a:rPr>
              <a:t>b.  Adipose tiss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Hypodermis, within abdomen, brea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66"/>
                </a:solidFill>
                <a:latin typeface="Times New Roman"/>
              </a:rPr>
              <a:t>c.  Reticular connective tiss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Lymphoid organs such as lymph n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66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MS Serif"/>
              </a:rPr>
              <a:t>LOOSE Connective Tissu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72464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MS Serif"/>
              </a:rPr>
              <a:t>	</a:t>
            </a:r>
            <a:r>
              <a:rPr b="1" lang="en-US" sz="2800" spc="-1" strike="noStrike">
                <a:solidFill>
                  <a:srgbClr val="ffff66"/>
                </a:solidFill>
                <a:latin typeface="MS Serif"/>
              </a:rPr>
              <a:t>1.  Areolar 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Font typeface="M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MS Serif"/>
              </a:rPr>
              <a:t>consists of all 3 types of fibers, several types of cells, and semi-fluid ground subst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Font typeface="M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MS Serif"/>
              </a:rPr>
              <a:t>found in subcutaneous layer and mucous membranes, and around blood vessels, nerves and org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Font typeface="M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MS Serif"/>
              </a:rPr>
              <a:t>function = strength, support and elasticity</a:t>
            </a:r>
            <a:br>
              <a:rPr sz="2800"/>
            </a:br>
            <a:r>
              <a:rPr b="1" lang="en-US" sz="2800" spc="-1" strike="noStrike">
                <a:solidFill>
                  <a:srgbClr val="ffff66"/>
                </a:solidFill>
                <a:latin typeface="MS Serif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4T20:42:35Z</dcterms:created>
  <dc:creator>garyb</dc:creator>
  <dc:description/>
  <dc:language>en-US</dc:language>
  <cp:lastModifiedBy>Gary H Blevins</cp:lastModifiedBy>
  <dcterms:modified xsi:type="dcterms:W3CDTF">2005-04-27T17:56:54Z</dcterms:modified>
  <cp:revision>9</cp:revision>
  <dc:subject/>
  <dc:title>PowerPoint Presentation</dc:title>
</cp:coreProperties>
</file>