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78D-C64E-4119-AF5E-4FEB2E7B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BF3-40D1-4D0A-B2E2-CECEC13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647-B37A-47BF-B740-321D74FF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91F-C2D5-4B0B-B7F5-0693A81A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66-B125-46C2-87ED-A0CBDC9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582-7A27-42B3-941F-4523046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49B-FC45-43D8-BA01-BB26D223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46D-9DD1-4864-A60F-6F82326D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F26-0339-4541-B07E-C53360AD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4F3-1DCF-476F-923F-E6F51BF6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17E-6526-48C5-8BA0-1390A066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151-0331-4315-9E4D-711862E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31BD-0381-4BE6-B374-0F57EAE35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onnective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nsists of two basic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Extra-cellular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2.  Adipos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adipocytes; "signet ring" appearing fat cells. They store energy in the form of triglycerides (lip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subcutaneous layer, around organs and in the yellow marrow of long b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supports, protects and insulates, and serves as an energy reserve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3.  Reticular 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fine interlacing reticular fibers and reticula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liver, spleen and lymph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forms the framework (stroma) of organs and binds together smooth muscle tissue cells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rue or Proper Connective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.  Dense reg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endons and 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.  Dense irreg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rmis of skin, submucosa of digestive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tains more numerous and thicker fibers and far fewer cells than loose 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1. dense regular Connecti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sists of bundles of collagen fibers and fibr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rms tendons, ligaments and aponeur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provide strong attachment between various structure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rue Connective Tissu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Fibroblast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Secrete both  fibers and ground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bstance of the matrix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Macrophag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Phagocytes that develop from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nocyte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(wandering or 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lasma Cell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Antibody secreting cells that develop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rom B Lymphocytes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Mast Cell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Produce histamine that help dilate small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lood vessels in reaction to injury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Adipocyt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Fat cells that store triglycerides,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port, protect and insulate  (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2. Dense Irregular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sists of randomly-arranged collagen fibers and a few fibr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fasciae, dermis of skin, joint capsules, and heart va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provide streng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ARTIL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Jelly-like matrix (chondroitin sulfate) containing collagen and elastic fibers and chondrocytes surrounded by a membrane called the perichond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Unlike other CT, cartilage has NO blood vessels or nerves except in the perichond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trength of cartilage is due to collagen fibers and the resilience is due to the presence of chondroitin sulf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hondrocytes occur within spaces in the matrix called lacunae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Supportive Connective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yaline 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Fibro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lastic 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M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Hyaline Cartilage  (most abundant 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ine collagen fibers embedded in a gel-type matrix. Occasional chondrocytes inside lacun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embryonic skeleton, at the ends of long bones, in the nose and in respiratory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= flexible, provides support, allows movement at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ibrocarti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tains bundles of collagen in the matrix that are usually more visible under micros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the pubic symphysis, intervertebral discs, and menisci of the kn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support and fusion, and absorbs shocks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3. Elastic Carti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readlike network of elastic fibers within the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external ear, auditory tubes, epiglot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gives support, maintains shape, allows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Epithelial Membranes = epithelial layer of cells plus the underlying connective tissue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Three Types: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1.  Muc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2.  Ser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3.  Cutane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Mucous membrane = mucosa; it lines cavities that open to the exterior, such as the GI 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epithelial layer of the mucous membrane acts as a barrier to disease 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connective tissue layer of the mucous membrane is called the lamina prop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as the lining of the mouth, vagina, and nasal pa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M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Serous membrane = serosa, membrane lines a body cavity that does NOT open to the exterior and it covers the organs that lie within the cavity.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pleura = lung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pericardium = heart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.  peritoneum = ab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erous membrane has two portions: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1. parietal portion = lining outside the 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avity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2. visceral portion = covers the organ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Serous membranes epithelial layer secretes a lubricating SEROUS FLUID, that reduces friction between organs and the walls of the cavities in which they are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erous fluid is named by 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leural fluid is found between the parietal and visceral pleura of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ericardial fluid is found between the parietal and visceral pericardium of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eritoneal fluid is found between the parietal and visceral peritoneum of the abdomen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atrix Fi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llagen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Large fibers made of the protein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llagen and are typically the most abundant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bers.  Promote tissu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Elastic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Intermediate fibers made of the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otein elastin.  Branching fibers that allow for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tretch and re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Reticular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Small delicate, branched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bers that have same chemical composition of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llagen.  Forms structural framework for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s such as spleen and lymph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12574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atrix Ground Subst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Hyaluronic Acid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  Complex combination of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lysaccharides and proteins found in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“true” or proper connective tiss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ondroitin sulfate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  Jellylike ground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bstance of cartilage, bone, skin and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blood vess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Other ground Substances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ermatin sulfate, keratin sulfate, and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dhesion prote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TYPES OF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6479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1. True Connective Tissu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Loo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 Den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2. Supportive Connective Tissu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5. Liquid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rue or Proper Connective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.  Areolar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idely distributed und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pithe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. 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ypodermis, within abdomen, br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.  Retic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ymphoid organs such as lymph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1.  Areolar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all 3 types of fibers, several types of cells, and semi-fluid ground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subcutaneous layer and mucous membranes, and around blood vessels, nerves and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strength, support and elasticity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20:42:35Z</dcterms:created>
  <dc:creator>garyb</dc:creator>
  <dc:description/>
  <dc:language>en-US</dc:language>
  <cp:lastModifiedBy>Gary H Blevins</cp:lastModifiedBy>
  <dcterms:modified xsi:type="dcterms:W3CDTF">2005-04-27T17:56:54Z</dcterms:modified>
  <cp:revision>9</cp:revision>
  <dc:subject/>
  <dc:title>PowerPoint Presentation</dc:title>
</cp:coreProperties>
</file>