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593C-29AA-40FD-B47F-5E0F6E68A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BFA2-C6D6-40C2-B4AC-CC04B098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196C-252C-4869-B387-4867862D9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821-6E5E-4D86-BC8A-1CDED074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6FAC-6F38-4964-8FE6-4242D209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A5B-EE18-43E7-B92C-A07BAED2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6D32-F035-4A2D-B7E2-6494CDC8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137-55BC-4FAC-886D-1B03FB47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B1C-082A-4859-B20D-E5A953A3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43E-2CCB-405B-8389-30B6B3F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5C0-8150-4C6E-8557-DBF46D1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A1F4-65EC-48EB-A902-9CBCCFAF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F95-2210-4074-8E64-C19FED4E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163-3EAD-40EA-A2B2-89438FD4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FBD-CFE3-42B2-A1FD-CE451E73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0E0-4BEB-46E6-B543-AC8BF748D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613560"/>
            <a:ext cx="62960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-274680" y="457200"/>
            <a:ext cx="9542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following types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nective tissu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are covered in this activ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(areolar) connective tissue (delicate thin layers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ssues; present in all mucous membr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pose tissue (f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connective tissue (tendons/liga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line cartilage (nose/ends of long bones/ri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cartilage (outer ear/epiglotti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cartilage (between vertebrae/knee joints/pubic j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(skeletal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(bloodstr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f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figure_04_08f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6512040" y="3144960"/>
            <a:ext cx="10983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6499080" y="2631960"/>
            <a:ext cx="962280" cy="51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7"/>
          <p:cNvSpPr/>
          <p:nvPr/>
        </p:nvSpPr>
        <p:spPr>
          <a:xfrm flipV="1">
            <a:off x="6981840" y="3144960"/>
            <a:ext cx="479520" cy="466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8"/>
          <p:cNvSpPr/>
          <p:nvPr/>
        </p:nvSpPr>
        <p:spPr>
          <a:xfrm>
            <a:off x="1033560" y="4776840"/>
            <a:ext cx="996840" cy="133200"/>
          </a:xfrm>
          <a:custGeom>
            <a:avLst/>
            <a:gdLst>
              <a:gd name="textAreaLeft" fmla="*/ 0 w 996840"/>
              <a:gd name="textAreaRight" fmla="*/ 996840 w 996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628" h="84">
                <a:moveTo>
                  <a:pt x="0" y="84"/>
                </a:moveTo>
                <a:lnTo>
                  <a:pt x="64" y="84"/>
                </a:lnTo>
                <a:lnTo>
                  <a:pt x="62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9"/>
          <p:cNvSpPr/>
          <p:nvPr/>
        </p:nvSpPr>
        <p:spPr>
          <a:xfrm>
            <a:off x="1039680" y="5351400"/>
            <a:ext cx="1070280" cy="108000"/>
          </a:xfrm>
          <a:custGeom>
            <a:avLst/>
            <a:gdLst>
              <a:gd name="textAreaLeft" fmla="*/ 0 w 1070280"/>
              <a:gd name="textAreaRight" fmla="*/ 1070640 w 10702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74" h="68">
                <a:moveTo>
                  <a:pt x="0" y="68"/>
                </a:moveTo>
                <a:lnTo>
                  <a:pt x="70" y="68"/>
                </a:lnTo>
                <a:lnTo>
                  <a:pt x="674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6499080" y="2631960"/>
            <a:ext cx="962280" cy="5130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1"/>
          <p:cNvSpPr/>
          <p:nvPr/>
        </p:nvSpPr>
        <p:spPr>
          <a:xfrm flipV="1">
            <a:off x="6981840" y="3144960"/>
            <a:ext cx="479520" cy="4665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2"/>
          <p:cNvSpPr/>
          <p:nvPr/>
        </p:nvSpPr>
        <p:spPr>
          <a:xfrm>
            <a:off x="6512040" y="3144960"/>
            <a:ext cx="10983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1027080" y="922320"/>
            <a:ext cx="432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f)  Connective tissue proper: dense connective tissue, e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766440" y="1287360"/>
            <a:ext cx="2254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ense re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nective tissue containing a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ortion of elastic fi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763560" y="2116080"/>
            <a:ext cx="2306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llows recoil of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ollowing stretching; mai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ulsatile flow of blood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rteries; aids passive recoil of lu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ollowing in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711360" y="3160800"/>
            <a:ext cx="243288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alls of large arter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ithin certain ligaments associ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ith the vertebral column; with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alls of the bronchial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7703280" y="3056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08400" y="48211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603720" y="5373720"/>
            <a:ext cx="38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3922200" y="5265720"/>
            <a:ext cx="3083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 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 connective tissu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he wall of the aorta (2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g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figure_04_08g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43" name="Freeform 5"/>
          <p:cNvSpPr/>
          <p:nvPr/>
        </p:nvSpPr>
        <p:spPr>
          <a:xfrm>
            <a:off x="1042920" y="4913280"/>
            <a:ext cx="1022400" cy="38412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44" h="242">
                <a:moveTo>
                  <a:pt x="0" y="242"/>
                </a:moveTo>
                <a:lnTo>
                  <a:pt x="166" y="242"/>
                </a:lnTo>
                <a:lnTo>
                  <a:pt x="644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6"/>
          <p:cNvSpPr/>
          <p:nvPr/>
        </p:nvSpPr>
        <p:spPr>
          <a:xfrm>
            <a:off x="1042920" y="4913280"/>
            <a:ext cx="1022400" cy="38412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644" h="242">
                <a:moveTo>
                  <a:pt x="0" y="242"/>
                </a:moveTo>
                <a:lnTo>
                  <a:pt x="166" y="242"/>
                </a:lnTo>
                <a:lnTo>
                  <a:pt x="644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1306440" y="4786200"/>
            <a:ext cx="74304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306440" y="4786200"/>
            <a:ext cx="743040" cy="5112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6762600" y="4538520"/>
            <a:ext cx="841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7010280" y="3274920"/>
            <a:ext cx="594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>
            <a:off x="6762600" y="4538520"/>
            <a:ext cx="870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7010280" y="3274920"/>
            <a:ext cx="6224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680040" y="928800"/>
            <a:ext cx="150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g)  Cartilage: hya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680400" y="1284120"/>
            <a:ext cx="24804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morphous but 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trix; collagen fibers form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mperceptible network; chondrob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duce the matrix and when m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(chondrocytes) lie in lacuna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696960" y="2233440"/>
            <a:ext cx="2320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Supports and reinforc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as resilient cushioning propert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resists compressive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704520" y="2967120"/>
            <a:ext cx="24469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Forms mos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mbryonic skeleton; covers the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long bones in joint cavities;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stal cartilages of the ribs; cartil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the nose, trachea, and laryn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3883680" y="5265720"/>
            <a:ext cx="3062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Hyaline cartilag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rachea (7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581400" y="5214960"/>
            <a:ext cx="625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artil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7707600" y="3186000"/>
            <a:ext cx="84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hondr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 lacu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7650720" y="4452840"/>
            <a:ext cx="45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h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4" descr="figure_04_08h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261" name="Line 5"/>
          <p:cNvSpPr/>
          <p:nvPr/>
        </p:nvSpPr>
        <p:spPr>
          <a:xfrm flipH="1">
            <a:off x="6121080" y="2597040"/>
            <a:ext cx="13366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 flipH="1">
            <a:off x="6121080" y="2597040"/>
            <a:ext cx="13618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>
            <a:off x="6788160" y="3452760"/>
            <a:ext cx="6890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6787800" y="3452760"/>
            <a:ext cx="695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21800" y="909720"/>
            <a:ext cx="168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h)  Cartilage: ela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669240" y="1258920"/>
            <a:ext cx="245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imilar to hy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rtilage, but more elastic 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matri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686880" y="2290680"/>
            <a:ext cx="235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Maintains the sh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f a structure while al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great flexibil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703080" y="3325680"/>
            <a:ext cx="245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upports the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ear (pinna); epiglott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876120" y="5227560"/>
            <a:ext cx="3222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Elastic cartilage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he human ear pinna; forms the flex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keleton of the ear (800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7558560" y="2494080"/>
            <a:ext cx="992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hondr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acu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7504920" y="335448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i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figure_04_08i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5"/>
          <p:cNvSpPr/>
          <p:nvPr/>
        </p:nvSpPr>
        <p:spPr>
          <a:xfrm>
            <a:off x="1046160" y="4067280"/>
            <a:ext cx="1282680" cy="3142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8" h="198">
                <a:moveTo>
                  <a:pt x="0" y="0"/>
                </a:moveTo>
                <a:lnTo>
                  <a:pt x="226" y="0"/>
                </a:lnTo>
                <a:lnTo>
                  <a:pt x="808" y="198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6"/>
          <p:cNvSpPr/>
          <p:nvPr/>
        </p:nvSpPr>
        <p:spPr>
          <a:xfrm>
            <a:off x="1405080" y="4067280"/>
            <a:ext cx="968400" cy="66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7"/>
          <p:cNvSpPr/>
          <p:nvPr/>
        </p:nvSpPr>
        <p:spPr>
          <a:xfrm>
            <a:off x="1405080" y="4067280"/>
            <a:ext cx="968400" cy="6699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8"/>
          <p:cNvSpPr/>
          <p:nvPr/>
        </p:nvSpPr>
        <p:spPr>
          <a:xfrm>
            <a:off x="1046160" y="4067280"/>
            <a:ext cx="1282680" cy="3142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808" h="198">
                <a:moveTo>
                  <a:pt x="0" y="0"/>
                </a:moveTo>
                <a:lnTo>
                  <a:pt x="226" y="0"/>
                </a:lnTo>
                <a:lnTo>
                  <a:pt x="808" y="1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9"/>
          <p:cNvSpPr/>
          <p:nvPr/>
        </p:nvSpPr>
        <p:spPr>
          <a:xfrm flipH="1">
            <a:off x="6819480" y="3537000"/>
            <a:ext cx="523800" cy="149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"/>
          <p:cNvSpPr/>
          <p:nvPr/>
        </p:nvSpPr>
        <p:spPr>
          <a:xfrm flipH="1">
            <a:off x="6067080" y="4327560"/>
            <a:ext cx="1336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"/>
          <p:cNvSpPr/>
          <p:nvPr/>
        </p:nvSpPr>
        <p:spPr>
          <a:xfrm>
            <a:off x="5289480" y="2970360"/>
            <a:ext cx="2117880" cy="56664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334" h="357">
                <a:moveTo>
                  <a:pt x="1334" y="357"/>
                </a:moveTo>
                <a:lnTo>
                  <a:pt x="1296" y="357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6819840" y="3537000"/>
            <a:ext cx="527040" cy="149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 flipH="1">
            <a:off x="6067080" y="4327560"/>
            <a:ext cx="1343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4"/>
          <p:cNvSpPr/>
          <p:nvPr/>
        </p:nvSpPr>
        <p:spPr>
          <a:xfrm>
            <a:off x="5292720" y="2970360"/>
            <a:ext cx="2117880" cy="56664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1334" h="357">
                <a:moveTo>
                  <a:pt x="1334" y="357"/>
                </a:moveTo>
                <a:lnTo>
                  <a:pt x="1296" y="357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766440" y="895320"/>
            <a:ext cx="221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i)  Cartilage: fibrocartil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6"/>
          <p:cNvSpPr/>
          <p:nvPr/>
        </p:nvSpPr>
        <p:spPr>
          <a:xfrm>
            <a:off x="663480" y="1270080"/>
            <a:ext cx="249264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Matrix similar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ut less firm than that in hya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rtilage; thick collagen 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edomin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693720" y="2235240"/>
            <a:ext cx="2044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Tensile str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ith the ability to abso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mpressive shoc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699120" y="3016080"/>
            <a:ext cx="2372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Intervertebral disc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ubic symphysis; discs of k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joi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3859920" y="5238720"/>
            <a:ext cx="3227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Fibrocartilage of 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tervertebral disc (125x). Special sta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duced the blue color se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565920" y="3755880"/>
            <a:ext cx="1093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terverteb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"/>
          <p:cNvSpPr/>
          <p:nvPr/>
        </p:nvSpPr>
        <p:spPr>
          <a:xfrm>
            <a:off x="7499520" y="3432240"/>
            <a:ext cx="1063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hondroc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acu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2"/>
          <p:cNvSpPr/>
          <p:nvPr/>
        </p:nvSpPr>
        <p:spPr>
          <a:xfrm>
            <a:off x="7473960" y="4229280"/>
            <a:ext cx="677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j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4" descr="figure_04_08j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294" name="Line 5"/>
          <p:cNvSpPr/>
          <p:nvPr/>
        </p:nvSpPr>
        <p:spPr>
          <a:xfrm flipH="1">
            <a:off x="5587920" y="2673360"/>
            <a:ext cx="1936800" cy="116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5737320" y="2673360"/>
            <a:ext cx="1974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 flipH="1">
            <a:off x="5587920" y="2673360"/>
            <a:ext cx="1936800" cy="11635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5734080" y="2673360"/>
            <a:ext cx="19908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9"/>
          <p:cNvSpPr/>
          <p:nvPr/>
        </p:nvSpPr>
        <p:spPr>
          <a:xfrm>
            <a:off x="6730920" y="3487680"/>
            <a:ext cx="9874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6270480" y="2184480"/>
            <a:ext cx="1447920" cy="3492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912" h="220">
                <a:moveTo>
                  <a:pt x="912" y="0"/>
                </a:moveTo>
                <a:lnTo>
                  <a:pt x="310" y="0"/>
                </a:lnTo>
                <a:lnTo>
                  <a:pt x="0" y="22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270480" y="2184480"/>
            <a:ext cx="1444680" cy="34920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910" h="220">
                <a:moveTo>
                  <a:pt x="910" y="0"/>
                </a:moveTo>
                <a:lnTo>
                  <a:pt x="308" y="0"/>
                </a:lnTo>
                <a:lnTo>
                  <a:pt x="0" y="22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775080" y="919080"/>
            <a:ext cx="270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j)  Others: bone (osseous tiss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3"/>
          <p:cNvSpPr/>
          <p:nvPr/>
        </p:nvSpPr>
        <p:spPr>
          <a:xfrm>
            <a:off x="646200" y="1281240"/>
            <a:ext cx="251064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Hard, calci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trix containing many 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; osteocytes lie in lacuna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Very well vasculariz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692280" y="2176560"/>
            <a:ext cx="242532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Bone supports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tects (by enclos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rovides levers for the 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o act on; stores calcium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ther minerals and fat; marr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side bones is the site for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ll formation (hematopoiesi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5"/>
          <p:cNvSpPr/>
          <p:nvPr/>
        </p:nvSpPr>
        <p:spPr>
          <a:xfrm>
            <a:off x="645840" y="3652920"/>
            <a:ext cx="1264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B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6"/>
          <p:cNvSpPr/>
          <p:nvPr/>
        </p:nvSpPr>
        <p:spPr>
          <a:xfrm>
            <a:off x="3910320" y="5243400"/>
            <a:ext cx="312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Cross-section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f bone (125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6673680" y="3379680"/>
            <a:ext cx="47880" cy="212760"/>
          </a:xfrm>
          <a:custGeom>
            <a:avLst/>
            <a:gdLst>
              <a:gd name="textAreaLeft" fmla="*/ 0 w 47880"/>
              <a:gd name="textAreaRight" fmla="*/ 48240 w 47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" h="134">
                <a:moveTo>
                  <a:pt x="0" y="0"/>
                </a:moveTo>
                <a:lnTo>
                  <a:pt x="30" y="0"/>
                </a:lnTo>
                <a:lnTo>
                  <a:pt x="30" y="134"/>
                </a:lnTo>
                <a:lnTo>
                  <a:pt x="2" y="13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8"/>
          <p:cNvSpPr/>
          <p:nvPr/>
        </p:nvSpPr>
        <p:spPr>
          <a:xfrm>
            <a:off x="7783920" y="2570040"/>
            <a:ext cx="65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acun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9"/>
          <p:cNvSpPr/>
          <p:nvPr/>
        </p:nvSpPr>
        <p:spPr>
          <a:xfrm>
            <a:off x="7769880" y="338292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am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0"/>
          <p:cNvSpPr/>
          <p:nvPr/>
        </p:nvSpPr>
        <p:spPr>
          <a:xfrm>
            <a:off x="7765920" y="2081160"/>
            <a:ext cx="586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6673680" y="3379680"/>
            <a:ext cx="47880" cy="212760"/>
          </a:xfrm>
          <a:custGeom>
            <a:avLst/>
            <a:gdLst>
              <a:gd name="textAreaLeft" fmla="*/ 0 w 47880"/>
              <a:gd name="textAreaRight" fmla="*/ 48240 w 478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0" h="134">
                <a:moveTo>
                  <a:pt x="0" y="0"/>
                </a:moveTo>
                <a:lnTo>
                  <a:pt x="30" y="0"/>
                </a:lnTo>
                <a:lnTo>
                  <a:pt x="30" y="134"/>
                </a:lnTo>
                <a:lnTo>
                  <a:pt x="2" y="13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6721560" y="3487680"/>
            <a:ext cx="1003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k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4" descr="figure_04_08k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314" name="Line 5"/>
          <p:cNvSpPr/>
          <p:nvPr/>
        </p:nvSpPr>
        <p:spPr>
          <a:xfrm flipH="1">
            <a:off x="5807160" y="3657600"/>
            <a:ext cx="17301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6"/>
          <p:cNvSpPr/>
          <p:nvPr/>
        </p:nvSpPr>
        <p:spPr>
          <a:xfrm flipH="1">
            <a:off x="6159240" y="3657600"/>
            <a:ext cx="631800" cy="29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"/>
          <p:cNvSpPr/>
          <p:nvPr/>
        </p:nvSpPr>
        <p:spPr>
          <a:xfrm>
            <a:off x="4756320" y="2560680"/>
            <a:ext cx="2774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8"/>
          <p:cNvSpPr/>
          <p:nvPr/>
        </p:nvSpPr>
        <p:spPr>
          <a:xfrm flipH="1">
            <a:off x="5807160" y="3657600"/>
            <a:ext cx="1730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9"/>
          <p:cNvSpPr/>
          <p:nvPr/>
        </p:nvSpPr>
        <p:spPr>
          <a:xfrm flipH="1">
            <a:off x="6159240" y="3657600"/>
            <a:ext cx="631800" cy="298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0"/>
          <p:cNvSpPr/>
          <p:nvPr/>
        </p:nvSpPr>
        <p:spPr>
          <a:xfrm>
            <a:off x="7162920" y="4537080"/>
            <a:ext cx="3744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1"/>
          <p:cNvSpPr/>
          <p:nvPr/>
        </p:nvSpPr>
        <p:spPr>
          <a:xfrm>
            <a:off x="7162920" y="4537080"/>
            <a:ext cx="374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12"/>
          <p:cNvSpPr/>
          <p:nvPr/>
        </p:nvSpPr>
        <p:spPr>
          <a:xfrm>
            <a:off x="4756320" y="2560680"/>
            <a:ext cx="27748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6372360" y="2036880"/>
            <a:ext cx="11620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4"/>
          <p:cNvSpPr/>
          <p:nvPr/>
        </p:nvSpPr>
        <p:spPr>
          <a:xfrm>
            <a:off x="6372360" y="2036880"/>
            <a:ext cx="11620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5"/>
          <p:cNvSpPr/>
          <p:nvPr/>
        </p:nvSpPr>
        <p:spPr>
          <a:xfrm>
            <a:off x="705240" y="917640"/>
            <a:ext cx="143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k)  Others: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722880" y="1273320"/>
            <a:ext cx="2148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Red and wh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lood cells in a fluid 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(plasm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7"/>
          <p:cNvSpPr/>
          <p:nvPr/>
        </p:nvSpPr>
        <p:spPr>
          <a:xfrm>
            <a:off x="753120" y="2308320"/>
            <a:ext cx="2228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Transpor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respiratory gases, nutrient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astes, and other substan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8"/>
          <p:cNvSpPr/>
          <p:nvPr/>
        </p:nvSpPr>
        <p:spPr>
          <a:xfrm>
            <a:off x="714600" y="3340080"/>
            <a:ext cx="2131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Contained with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blood vess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9"/>
          <p:cNvSpPr/>
          <p:nvPr/>
        </p:nvSpPr>
        <p:spPr>
          <a:xfrm>
            <a:off x="3909600" y="5235480"/>
            <a:ext cx="4417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Smear of human blood (1860x);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white blood cells (neutrophil in upper left and lymph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n lower right) are seen surrounded by red blood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7581960" y="247968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Neutroph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7602480" y="3562200"/>
            <a:ext cx="779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Red 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7604280" y="4441680"/>
            <a:ext cx="95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Lymphoc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3"/>
          <p:cNvSpPr/>
          <p:nvPr/>
        </p:nvSpPr>
        <p:spPr>
          <a:xfrm>
            <a:off x="7589160" y="1943280"/>
            <a:ext cx="55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05_13"/>
          <p:cNvPicPr/>
          <p:nvPr/>
        </p:nvPicPr>
        <p:blipFill>
          <a:blip r:embed="rId1"/>
          <a:srcRect l="0" t="25004" r="0" b="31253"/>
          <a:stretch/>
        </p:blipFill>
        <p:spPr>
          <a:xfrm>
            <a:off x="507960" y="1905120"/>
            <a:ext cx="8128080" cy="26668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09480" y="5029200"/>
            <a:ext cx="800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licate thin layers between tissues; present in all mucous membran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2458440" y="106668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(areolar)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05_14"/>
          <p:cNvPicPr/>
          <p:nvPr/>
        </p:nvPicPr>
        <p:blipFill>
          <a:blip r:embed="rId1"/>
          <a:srcRect l="0" t="23752" r="0" b="30001"/>
          <a:stretch/>
        </p:blipFill>
        <p:spPr>
          <a:xfrm>
            <a:off x="507960" y="1828800"/>
            <a:ext cx="8128080" cy="28195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4038480" y="1981080"/>
            <a:ext cx="1067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3587760" y="106668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ipos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4320000" y="51814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05_15"/>
          <p:cNvPicPr/>
          <p:nvPr/>
        </p:nvPicPr>
        <p:blipFill>
          <a:blip r:embed="rId1"/>
          <a:srcRect l="0" t="26251" r="0" b="31253"/>
          <a:stretch/>
        </p:blipFill>
        <p:spPr>
          <a:xfrm>
            <a:off x="507960" y="1981080"/>
            <a:ext cx="8128080" cy="2590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5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3015720" y="1066680"/>
            <a:ext cx="31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e connective t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381840" y="51814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ons; liga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05_16"/>
          <p:cNvPicPr/>
          <p:nvPr/>
        </p:nvPicPr>
        <p:blipFill>
          <a:blip r:embed="rId1"/>
          <a:srcRect l="0" t="26251" r="0" b="32499"/>
          <a:stretch/>
        </p:blipFill>
        <p:spPr>
          <a:xfrm>
            <a:off x="507960" y="1981080"/>
            <a:ext cx="8128080" cy="25146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434040" y="10666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aline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438280" y="5181480"/>
            <a:ext cx="42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e; ends of long bones; ri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table_04_01_1_labeled"/>
          <p:cNvPicPr/>
          <p:nvPr/>
        </p:nvPicPr>
        <p:blipFill>
          <a:blip r:embed="rId1"/>
          <a:stretch/>
        </p:blipFill>
        <p:spPr>
          <a:xfrm>
            <a:off x="307800" y="1195560"/>
            <a:ext cx="8528400" cy="4797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440" y="136080"/>
            <a:ext cx="6593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4.1  Comparison of Classes of Connective Tissues (1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05_17"/>
          <p:cNvPicPr/>
          <p:nvPr/>
        </p:nvPicPr>
        <p:blipFill>
          <a:blip r:embed="rId1"/>
          <a:srcRect l="0" t="27503" r="0" b="28755"/>
          <a:stretch/>
        </p:blipFill>
        <p:spPr>
          <a:xfrm>
            <a:off x="507960" y="2057400"/>
            <a:ext cx="8128080" cy="266688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501000" y="1066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astic 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346920" y="5181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ar; epigl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05_18"/>
          <p:cNvPicPr/>
          <p:nvPr/>
        </p:nvPicPr>
        <p:blipFill>
          <a:blip r:embed="rId1"/>
          <a:srcRect l="0" t="28755" r="0" b="28749"/>
          <a:stretch/>
        </p:blipFill>
        <p:spPr>
          <a:xfrm>
            <a:off x="507960" y="2133720"/>
            <a:ext cx="8128080" cy="2590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836000" y="4724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3625200" y="106668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brocarti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983960" y="518148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vertebrae; knee joints; pubic j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05_19ab"/>
          <p:cNvPicPr/>
          <p:nvPr/>
        </p:nvPicPr>
        <p:blipFill>
          <a:blip r:embed="rId1"/>
          <a:srcRect l="0" t="23752" r="0" b="25004"/>
          <a:stretch/>
        </p:blipFill>
        <p:spPr>
          <a:xfrm>
            <a:off x="507960" y="1828800"/>
            <a:ext cx="8128080" cy="31240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836000" y="48769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4160880" y="10666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552120" y="533412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let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05_20"/>
          <p:cNvPicPr/>
          <p:nvPr/>
        </p:nvPicPr>
        <p:blipFill>
          <a:blip r:embed="rId1"/>
          <a:srcRect l="0" t="30001" r="0" b="26251"/>
          <a:stretch/>
        </p:blipFill>
        <p:spPr>
          <a:xfrm>
            <a:off x="507960" y="2209680"/>
            <a:ext cx="8128080" cy="266724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3962520" y="2286000"/>
            <a:ext cx="9144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4800600" y="2743200"/>
            <a:ext cx="228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495680" y="29718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2046960" y="60948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at kind of tissue does this repres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1836000" y="487692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ere in the body can you find this tiss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4109760" y="10666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3726720" y="533412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table_04_01_2_labeled"/>
          <p:cNvPicPr/>
          <p:nvPr/>
        </p:nvPicPr>
        <p:blipFill>
          <a:blip r:embed="rId1"/>
          <a:stretch/>
        </p:blipFill>
        <p:spPr>
          <a:xfrm>
            <a:off x="307800" y="1595520"/>
            <a:ext cx="8528400" cy="3971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440" y="136080"/>
            <a:ext cx="6593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ble 4.1  Comparison of Classes of Connective Tissues (2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a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figure_04_08a"/>
          <p:cNvPicPr/>
          <p:nvPr/>
        </p:nvPicPr>
        <p:blipFill>
          <a:blip r:embed="rId1"/>
          <a:stretch/>
        </p:blipFill>
        <p:spPr>
          <a:xfrm>
            <a:off x="455760" y="876240"/>
            <a:ext cx="8231040" cy="510696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>
            <a:off x="1389240" y="5018040"/>
            <a:ext cx="279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173240" y="5532480"/>
            <a:ext cx="6476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1389240" y="5018040"/>
            <a:ext cx="2793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1173240" y="5532480"/>
            <a:ext cx="647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>
            <a:off x="5489640" y="1739880"/>
            <a:ext cx="23367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6365880" y="2685960"/>
            <a:ext cx="14479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6800760" y="2682720"/>
            <a:ext cx="457200" cy="260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6896160" y="3059280"/>
            <a:ext cx="933480" cy="447480"/>
          </a:xfrm>
          <a:custGeom>
            <a:avLst/>
            <a:gdLst>
              <a:gd name="textAreaLeft" fmla="*/ 0 w 933480"/>
              <a:gd name="textAreaRight" fmla="*/ 933840 w 9334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88" h="282">
                <a:moveTo>
                  <a:pt x="588" y="282"/>
                </a:moveTo>
                <a:lnTo>
                  <a:pt x="470" y="28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7016760" y="3506760"/>
            <a:ext cx="625320" cy="285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 flipV="1">
            <a:off x="6556320" y="1743120"/>
            <a:ext cx="749520" cy="365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5"/>
          <p:cNvSpPr/>
          <p:nvPr/>
        </p:nvSpPr>
        <p:spPr>
          <a:xfrm>
            <a:off x="5489640" y="1739880"/>
            <a:ext cx="23432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6365880" y="2685960"/>
            <a:ext cx="14637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6800760" y="2682720"/>
            <a:ext cx="457200" cy="2606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8"/>
          <p:cNvSpPr/>
          <p:nvPr/>
        </p:nvSpPr>
        <p:spPr>
          <a:xfrm>
            <a:off x="6896160" y="3059280"/>
            <a:ext cx="933480" cy="447480"/>
          </a:xfrm>
          <a:custGeom>
            <a:avLst/>
            <a:gdLst>
              <a:gd name="textAreaLeft" fmla="*/ 0 w 933480"/>
              <a:gd name="textAreaRight" fmla="*/ 933840 w 9334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88" h="282">
                <a:moveTo>
                  <a:pt x="588" y="282"/>
                </a:moveTo>
                <a:lnTo>
                  <a:pt x="470" y="28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 flipV="1">
            <a:off x="7016760" y="3506760"/>
            <a:ext cx="625320" cy="2858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V="1">
            <a:off x="6556320" y="1743120"/>
            <a:ext cx="749520" cy="365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996480" y="934920"/>
            <a:ext cx="437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a)  Connective tissue proper: loose connective tissue, are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705600" y="1297080"/>
            <a:ext cx="242100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0" i="1" lang="en-US" sz="1200" spc="-1" strike="noStrike">
                <a:solidFill>
                  <a:srgbClr val="231f2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Gel-like matrix with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hree fiber types; cells: fibroblas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crophages, mast cells, and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56720" y="2192400"/>
            <a:ext cx="23904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raps and cush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rgans; its macrophages phagocyt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acteria; plays important rol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flammation; holds and conve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 fl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717480" y="3160800"/>
            <a:ext cx="23461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Widely distributed u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pithelia of body, e.g., forms l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ria of mucous membran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ackages organs; surr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4013640" y="5272200"/>
            <a:ext cx="3134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reolar connective tissue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oft packaging tissue of the body (30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587160" y="4935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573840" y="5443560"/>
            <a:ext cx="509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am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prop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7884360" y="3430440"/>
            <a:ext cx="678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rob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7886160" y="1658880"/>
            <a:ext cx="441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0"/>
          <p:cNvSpPr/>
          <p:nvPr/>
        </p:nvSpPr>
        <p:spPr>
          <a:xfrm>
            <a:off x="7895160" y="2608200"/>
            <a:ext cx="57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616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7  Areolar connective tissue: A prototype (model) connectiv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23836" t="6166" r="37782" b="0"/>
          <a:stretch/>
        </p:blipFill>
        <p:spPr>
          <a:xfrm>
            <a:off x="2417760" y="919080"/>
            <a:ext cx="3159000" cy="5507280"/>
          </a:xfrm>
          <a:prstGeom prst="rect">
            <a:avLst/>
          </a:prstGeom>
          <a:ln w="0">
            <a:noFill/>
          </a:ln>
        </p:spPr>
      </p:pic>
      <p:sp>
        <p:nvSpPr>
          <p:cNvPr id="122" name="Line 5"/>
          <p:cNvSpPr/>
          <p:nvPr/>
        </p:nvSpPr>
        <p:spPr>
          <a:xfrm>
            <a:off x="1917720" y="5475240"/>
            <a:ext cx="1343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1689120" y="4700520"/>
            <a:ext cx="17017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467000" y="4265640"/>
            <a:ext cx="3089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136600" y="3384720"/>
            <a:ext cx="4795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1857240" y="2879640"/>
            <a:ext cx="1127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2149560" y="1539720"/>
            <a:ext cx="10857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>
            <a:off x="5370480" y="1270080"/>
            <a:ext cx="4986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5452920" y="1819440"/>
            <a:ext cx="419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4786200" y="2114640"/>
            <a:ext cx="10828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4444560" y="2400480"/>
            <a:ext cx="142740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5491080" y="4338720"/>
            <a:ext cx="3841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527040" y="1363680"/>
            <a:ext cx="1506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Macroph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11200" y="2719440"/>
            <a:ext cx="124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Fibrob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35320" y="3224160"/>
            <a:ext cx="1489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Lymphocy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499680" y="4103640"/>
            <a:ext cx="87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Fat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507960" y="4538520"/>
            <a:ext cx="1078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Mast c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03640" y="5316480"/>
            <a:ext cx="1303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Neutroph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5930280" y="4157640"/>
            <a:ext cx="1134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Capill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588600" y="465120"/>
            <a:ext cx="1256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Cell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6067440" y="465120"/>
            <a:ext cx="16282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Extracellu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matr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5969160" y="1346040"/>
            <a:ext cx="192708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Fi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Collagen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Elastic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• </a:t>
            </a:r>
            <a:r>
              <a:rPr b="1" lang="en-US" sz="2200" spc="-1" strike="noStrike">
                <a:solidFill>
                  <a:srgbClr val="231f20"/>
                </a:solidFill>
                <a:latin typeface="Times New Roman"/>
              </a:rPr>
              <a:t>Reticular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6082200" y="1033560"/>
            <a:ext cx="241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Ground sub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b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figure_04_08b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>
            <a:off x="6915240" y="2505240"/>
            <a:ext cx="8445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835680" y="3840120"/>
            <a:ext cx="924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1878120" y="3859200"/>
            <a:ext cx="520560" cy="308160"/>
          </a:xfrm>
          <a:custGeom>
            <a:avLst/>
            <a:gdLst>
              <a:gd name="textAreaLeft" fmla="*/ 0 w 520560"/>
              <a:gd name="textAreaRight" fmla="*/ 520560 w 5205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328" h="194">
                <a:moveTo>
                  <a:pt x="0" y="194"/>
                </a:moveTo>
                <a:lnTo>
                  <a:pt x="250" y="0"/>
                </a:lnTo>
                <a:lnTo>
                  <a:pt x="32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8"/>
          <p:cNvSpPr/>
          <p:nvPr/>
        </p:nvSpPr>
        <p:spPr>
          <a:xfrm>
            <a:off x="1741320" y="5224320"/>
            <a:ext cx="657360" cy="352440"/>
          </a:xfrm>
          <a:custGeom>
            <a:avLst/>
            <a:gdLst>
              <a:gd name="textAreaLeft" fmla="*/ 0 w 657360"/>
              <a:gd name="textAreaRight" fmla="*/ 657360 w 65736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414" h="222">
                <a:moveTo>
                  <a:pt x="0" y="0"/>
                </a:moveTo>
                <a:lnTo>
                  <a:pt x="362" y="222"/>
                </a:lnTo>
                <a:lnTo>
                  <a:pt x="414" y="22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1735200" y="5014800"/>
            <a:ext cx="581040" cy="56196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1010880" y="934920"/>
            <a:ext cx="443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b)  Connective tissue proper: loose connective tissue, adi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65720" y="1300320"/>
            <a:ext cx="22640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Matrix as in areola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ut very sparse; closely p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dipocytes, or fat cells,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us pushed to the side by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dropl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57800" y="2392200"/>
            <a:ext cx="2105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Provides reserve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uel; insulates against heat los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pports and protects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747000" y="3119400"/>
            <a:ext cx="24192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Under skin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hypodermis; around kidney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eyeballs; within abdomen; in bre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3887640" y="5297400"/>
            <a:ext cx="28782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dipose tissu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bcutaneous layer under the skin (3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5"/>
          <p:cNvSpPr/>
          <p:nvPr/>
        </p:nvSpPr>
        <p:spPr>
          <a:xfrm>
            <a:off x="7840080" y="2417760"/>
            <a:ext cx="6818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u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7833240" y="3751200"/>
            <a:ext cx="689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Vacu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t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at dro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7"/>
          <p:cNvSpPr/>
          <p:nvPr/>
        </p:nvSpPr>
        <p:spPr>
          <a:xfrm>
            <a:off x="2466360" y="3770280"/>
            <a:ext cx="5266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Adi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8"/>
          <p:cNvSpPr/>
          <p:nvPr/>
        </p:nvSpPr>
        <p:spPr>
          <a:xfrm>
            <a:off x="2436480" y="5478480"/>
            <a:ext cx="692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c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figure_04_08c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62" name="Line 5"/>
          <p:cNvSpPr/>
          <p:nvPr/>
        </p:nvSpPr>
        <p:spPr>
          <a:xfrm>
            <a:off x="1119240" y="4991040"/>
            <a:ext cx="762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 flipH="1">
            <a:off x="6733800" y="4051440"/>
            <a:ext cx="8859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7"/>
          <p:cNvSpPr/>
          <p:nvPr/>
        </p:nvSpPr>
        <p:spPr>
          <a:xfrm>
            <a:off x="6950160" y="3102120"/>
            <a:ext cx="669960" cy="114120"/>
          </a:xfrm>
          <a:custGeom>
            <a:avLst/>
            <a:gdLst>
              <a:gd name="textAreaLeft" fmla="*/ 0 w 669960"/>
              <a:gd name="textAreaRight" fmla="*/ 669960 w 6699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2" h="72">
                <a:moveTo>
                  <a:pt x="422" y="0"/>
                </a:moveTo>
                <a:lnTo>
                  <a:pt x="302" y="0"/>
                </a:lnTo>
                <a:lnTo>
                  <a:pt x="0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8"/>
          <p:cNvSpPr/>
          <p:nvPr/>
        </p:nvSpPr>
        <p:spPr>
          <a:xfrm>
            <a:off x="6950160" y="3102120"/>
            <a:ext cx="666720" cy="114120"/>
          </a:xfrm>
          <a:custGeom>
            <a:avLst/>
            <a:gdLst>
              <a:gd name="textAreaLeft" fmla="*/ 0 w 666720"/>
              <a:gd name="textAreaRight" fmla="*/ 667080 w 6667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0" h="72">
                <a:moveTo>
                  <a:pt x="420" y="0"/>
                </a:moveTo>
                <a:lnTo>
                  <a:pt x="302" y="0"/>
                </a:lnTo>
                <a:lnTo>
                  <a:pt x="0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H="1">
            <a:off x="6733800" y="4051440"/>
            <a:ext cx="8859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045440" y="933480"/>
            <a:ext cx="444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c)  Connective tissue proper: loose connective tissue,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723240" y="1289160"/>
            <a:ext cx="223812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Network of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 in a typical loos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ubstance; reticular cells lie 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738720" y="2225520"/>
            <a:ext cx="241956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Fibers form a soft in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keleton (stroma) that supports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ell types including white blood cel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st cells, and macroph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726480" y="3375000"/>
            <a:ext cx="23551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Lymphoid organs (lym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odes, bone marrow, and spl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3890160" y="5248440"/>
            <a:ext cx="36050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ark-staining network of 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nnective tissue fibers forming the internal skel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of the spleen (35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614160" y="490212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pl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7692120" y="3013200"/>
            <a:ext cx="854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Whit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(lymphoc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7666200" y="3971880"/>
            <a:ext cx="60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Reti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d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figure_04_08d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177" name="Line 5"/>
          <p:cNvSpPr/>
          <p:nvPr/>
        </p:nvSpPr>
        <p:spPr>
          <a:xfrm flipV="1">
            <a:off x="5759280" y="2107800"/>
            <a:ext cx="1936800" cy="717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1268280" y="4389480"/>
            <a:ext cx="130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1284120" y="4167360"/>
            <a:ext cx="1140120" cy="936360"/>
          </a:xfrm>
          <a:custGeom>
            <a:avLst/>
            <a:gdLst>
              <a:gd name="textAreaLeft" fmla="*/ 0 w 1140120"/>
              <a:gd name="textAreaRight" fmla="*/ 1140480 w 11401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18" h="590">
                <a:moveTo>
                  <a:pt x="0" y="590"/>
                </a:moveTo>
                <a:lnTo>
                  <a:pt x="54" y="590"/>
                </a:lnTo>
                <a:lnTo>
                  <a:pt x="718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8"/>
          <p:cNvSpPr/>
          <p:nvPr/>
        </p:nvSpPr>
        <p:spPr>
          <a:xfrm>
            <a:off x="1144440" y="4865760"/>
            <a:ext cx="1695600" cy="84780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068" h="534">
                <a:moveTo>
                  <a:pt x="0" y="534"/>
                </a:moveTo>
                <a:lnTo>
                  <a:pt x="142" y="534"/>
                </a:lnTo>
                <a:lnTo>
                  <a:pt x="1068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9"/>
          <p:cNvSpPr/>
          <p:nvPr/>
        </p:nvSpPr>
        <p:spPr>
          <a:xfrm>
            <a:off x="1284120" y="4167360"/>
            <a:ext cx="1140120" cy="936360"/>
          </a:xfrm>
          <a:custGeom>
            <a:avLst/>
            <a:gdLst>
              <a:gd name="textAreaLeft" fmla="*/ 0 w 1140120"/>
              <a:gd name="textAreaRight" fmla="*/ 1140480 w 114012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718" h="590">
                <a:moveTo>
                  <a:pt x="0" y="590"/>
                </a:moveTo>
                <a:lnTo>
                  <a:pt x="54" y="590"/>
                </a:lnTo>
                <a:lnTo>
                  <a:pt x="71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0"/>
          <p:cNvSpPr/>
          <p:nvPr/>
        </p:nvSpPr>
        <p:spPr>
          <a:xfrm>
            <a:off x="1144440" y="4865760"/>
            <a:ext cx="1695600" cy="84780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47800"/>
              <a:gd name="textAreaBottom" fmla="*/ 848160 h 847800"/>
            </a:gdLst>
            <a:ahLst/>
            <a:rect l="textAreaLeft" t="textAreaTop" r="textAreaRight" b="textAreaBottom"/>
            <a:pathLst>
              <a:path w="1068" h="534">
                <a:moveTo>
                  <a:pt x="0" y="534"/>
                </a:moveTo>
                <a:lnTo>
                  <a:pt x="142" y="534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1268280" y="4389480"/>
            <a:ext cx="1396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 flipH="1">
            <a:off x="6388200" y="3948120"/>
            <a:ext cx="13586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 flipV="1">
            <a:off x="6737400" y="3947760"/>
            <a:ext cx="825480" cy="69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5676840" y="2108160"/>
            <a:ext cx="2028960" cy="1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5702400" y="2107800"/>
            <a:ext cx="1993680" cy="438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6"/>
          <p:cNvSpPr/>
          <p:nvPr/>
        </p:nvSpPr>
        <p:spPr>
          <a:xfrm flipH="1">
            <a:off x="6388200" y="3948120"/>
            <a:ext cx="136512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737400" y="3947760"/>
            <a:ext cx="825480" cy="692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8"/>
          <p:cNvSpPr/>
          <p:nvPr/>
        </p:nvSpPr>
        <p:spPr>
          <a:xfrm flipH="1">
            <a:off x="5676840" y="2108160"/>
            <a:ext cx="2022480" cy="1303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 flipV="1">
            <a:off x="5702400" y="2107800"/>
            <a:ext cx="1993680" cy="43812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5759280" y="2107800"/>
            <a:ext cx="1936800" cy="7174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1051560" y="934920"/>
            <a:ext cx="495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)  Connective tissue proper: dense connective tissue, dense regu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2"/>
          <p:cNvSpPr/>
          <p:nvPr/>
        </p:nvSpPr>
        <p:spPr>
          <a:xfrm>
            <a:off x="751680" y="1297080"/>
            <a:ext cx="2277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Primarily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 fibers; a few elastic fib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major cell type is the fibrobla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3"/>
          <p:cNvSpPr/>
          <p:nvPr/>
        </p:nvSpPr>
        <p:spPr>
          <a:xfrm>
            <a:off x="796680" y="2236680"/>
            <a:ext cx="229752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Attaches muscle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bones or to muscles; attaches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o bones; withstands great tens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tress when pulling force is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in one dir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4"/>
          <p:cNvSpPr/>
          <p:nvPr/>
        </p:nvSpPr>
        <p:spPr>
          <a:xfrm>
            <a:off x="736200" y="3395520"/>
            <a:ext cx="16419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Tendons, m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igaments, aponeuro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5"/>
          <p:cNvSpPr/>
          <p:nvPr/>
        </p:nvSpPr>
        <p:spPr>
          <a:xfrm>
            <a:off x="3916080" y="5272200"/>
            <a:ext cx="2981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 Dense regular conn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issue from a tendon (500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6"/>
          <p:cNvSpPr/>
          <p:nvPr/>
        </p:nvSpPr>
        <p:spPr>
          <a:xfrm>
            <a:off x="608040" y="4303800"/>
            <a:ext cx="595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Shou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j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599760" y="501480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Lig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8"/>
          <p:cNvSpPr/>
          <p:nvPr/>
        </p:nvSpPr>
        <p:spPr>
          <a:xfrm>
            <a:off x="599760" y="562752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9"/>
          <p:cNvSpPr/>
          <p:nvPr/>
        </p:nvSpPr>
        <p:spPr>
          <a:xfrm>
            <a:off x="7818840" y="2023920"/>
            <a:ext cx="5767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7826760" y="3871800"/>
            <a:ext cx="69552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Nuclei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31f20"/>
                </a:solidFill>
                <a:latin typeface="Times New Roman"/>
              </a:rPr>
              <a:t>fibrob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440" y="117000"/>
            <a:ext cx="88646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4.8e  Connective t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figure_04_08e"/>
          <p:cNvPicPr/>
          <p:nvPr/>
        </p:nvPicPr>
        <p:blipFill>
          <a:blip r:embed="rId1"/>
          <a:stretch/>
        </p:blipFill>
        <p:spPr>
          <a:xfrm>
            <a:off x="455760" y="879480"/>
            <a:ext cx="8231040" cy="5100480"/>
          </a:xfrm>
          <a:prstGeom prst="rect">
            <a:avLst/>
          </a:prstGeom>
          <a:ln w="0">
            <a:noFill/>
          </a:ln>
        </p:spPr>
      </p:pic>
      <p:sp>
        <p:nvSpPr>
          <p:cNvPr id="205" name="Line 5"/>
          <p:cNvSpPr/>
          <p:nvPr/>
        </p:nvSpPr>
        <p:spPr>
          <a:xfrm flipH="1">
            <a:off x="4978080" y="2070000"/>
            <a:ext cx="2685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 flipV="1">
            <a:off x="5921280" y="2070000"/>
            <a:ext cx="1568520" cy="743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 flipH="1">
            <a:off x="5994000" y="3637080"/>
            <a:ext cx="16700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7061040" y="3478320"/>
            <a:ext cx="432000" cy="16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9"/>
          <p:cNvSpPr/>
          <p:nvPr/>
        </p:nvSpPr>
        <p:spPr>
          <a:xfrm flipH="1">
            <a:off x="4978440" y="2070000"/>
            <a:ext cx="2689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 flipV="1">
            <a:off x="5921280" y="2070000"/>
            <a:ext cx="1568520" cy="7430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H="1">
            <a:off x="5994360" y="3637080"/>
            <a:ext cx="167328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7061040" y="3478320"/>
            <a:ext cx="432000" cy="1616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1246320" y="4707000"/>
            <a:ext cx="101916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1246320" y="4707000"/>
            <a:ext cx="101916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1141200" y="909720"/>
            <a:ext cx="5884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(e)  Connective tissue proper: dense connective tissue, dense irregul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720000" y="1252440"/>
            <a:ext cx="242388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Descrip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Primari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irregularly arranged 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; some elastic fiber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major cell type is the fibrobl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719640" y="2166840"/>
            <a:ext cx="232632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Func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Able to withst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ension exerted in 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rections; provides struct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treng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749160" y="3084480"/>
            <a:ext cx="2340000" cy="7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Location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Fibrous capsule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organs and of joints; dermi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the skin; submucosa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digestive tr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3885480" y="5234040"/>
            <a:ext cx="3025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1f20"/>
                </a:solidFill>
                <a:latin typeface="Arial Black"/>
              </a:rPr>
              <a:t>Photomicrograph:</a:t>
            </a: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 Dense ir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nnective tissue from the dermis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skin (400x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7743960" y="3535200"/>
            <a:ext cx="677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olla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7742880" y="1976400"/>
            <a:ext cx="817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Nuclei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robla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589680" y="4602240"/>
            <a:ext cx="596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Fibr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j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Times New Roman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4:28:43Z</dcterms:created>
  <dc:creator>Leland N. Holland, Jr., Ph.D.</dc:creator>
  <dc:description/>
  <dc:language>en-US</dc:language>
  <cp:lastModifiedBy>King Soft 2</cp:lastModifiedBy>
  <dcterms:modified xsi:type="dcterms:W3CDTF">2013-10-04T08:45:42Z</dcterms:modified>
  <cp:revision>52</cp:revision>
  <dc:subject/>
  <dc:title>PowerPoint Presentation</dc:title>
</cp:coreProperties>
</file>