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898-3962-4CDD-BCA8-75B1EAC7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05E-D4AD-4894-B3B9-DDD32172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563-1E30-4480-B16A-CC99613A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C86A-BBA2-41E5-9734-A53EDF42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6528-A69C-46D8-9B07-7E3FC3C9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66B6-3B95-4F60-AA58-8C60FF47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61BF-C090-42CC-82C5-42854099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169A-809B-4B5B-ACC1-21CEF8FA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2F8-56AB-482F-ACA4-078DD90B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291-88CF-494D-9F56-D5C46136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1E4-1044-4A83-BF81-E5AB2E08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4118-BC03-47AD-A067-2CC22389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EA37-1F9C-407A-8182-F06DF8D8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E04-4FF9-4BF3-9793-9DB158DF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77D8-5113-4CB1-B8CB-E0EF1125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A55-1A47-4188-8AB4-49706BA48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2936-D432-4B4E-8FCD-34242B42D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2CA-FF0F-413E-B359-C89606AC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AB5-E9C4-404E-9083-092D726F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07FC-7399-41B3-ACEF-1CC8700C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2C2B-2366-49E0-A330-F0EF987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BF1F-99E4-416A-A2E3-EB6582AD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9FF-36A4-44E3-BEF3-F5053B75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C21-EE9F-47F6-9A1E-018E9B87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7727-CE54-4BBF-8F8B-F7DA194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45E-09CF-4B11-BB36-D5F0E66A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5C1-5713-4BC1-9893-2B41BB4F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C12-0D36-4922-89A7-D9B935FB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DD8F-949E-40A4-AD73-09F904A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B991-FC72-4DDD-8F8F-7BEE994B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4F73-A09F-4B7C-8D3F-7430BBA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493-083F-45B5-A249-094A1AD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F7A-E318-4D47-A216-463D393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857-343B-43AC-A7E4-DFB6248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C35F-57DF-4F96-AE7D-777C626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58B0-0ECA-42D9-A5A6-C96559C9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5338-FE89-4A97-9D97-E4C9BF05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2730-29FE-4650-8799-4B373FD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D45F-EC03-448A-B811-5110DA94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1CAD-E28E-4CC8-A491-D9872A02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1851-A11F-46BB-9EC8-36DD921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38F8-F3BB-4EA7-A330-73D7C170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4720-4BF9-4FF3-995B-FA0A4DE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9E99-C430-4F83-9675-F9AFED5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A579-61B2-4106-99D6-C766E9D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C006-3617-417C-94BE-C2184EFC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669B-736E-42FF-8A7A-0C145A2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ABA3-97E8-4164-9D01-93A6F1C6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1595-260A-474D-A996-8D308610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BCE4-CD12-4AF1-8920-C693DC2B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139C-7A5B-49C1-8B8D-FCECFF9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A2E9-F5A2-4D3D-BAF7-7E4C67C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1638-213B-40BD-86BF-28430E2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8912-9914-47FC-8A1C-06D5C015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7F96-0CEA-4E24-A3A1-5825AD2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137A-B72C-4686-A53B-5B3CFA39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EC29-61F6-405C-AA98-4BD338C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FFA0-3852-4D26-8C6B-FFE5F52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0579-1B80-4F0E-BEC2-9FDD9BE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C3DE-352B-4ECE-B6BA-6210C160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E8BB-7923-45A7-A21C-0830E4BF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8891B-E20A-43FA-B260-A24BD0D7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D066-26E9-4870-8A8D-D1831540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2EAB-E69A-471F-89F3-F828C98E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6443-1C37-4CA4-8B13-ED74BCB4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C573-D2B1-4E23-B960-0F22BEFB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231D-69A2-48B2-876B-6BA4A50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4BE-FD39-4A43-83EA-831035F76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D3F-1365-42F3-B630-83FCC75E7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Rectangle 2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143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762120" y="685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Essentials of Anatomy &amp; Physiolog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4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rtin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artholom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800280" y="454032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PowerPoint</a:t>
            </a:r>
            <a:r>
              <a:rPr b="0" lang="en-US" sz="1800" spc="-1" strike="noStrike" baseline="30000">
                <a:solidFill>
                  <a:srgbClr val="973a2b"/>
                </a:solidFill>
                <a:latin typeface="Arial"/>
                <a:ea typeface="MS PGothic"/>
              </a:rPr>
              <a:t>®</a:t>
            </a: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 Lecture Out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prepared by Alan Magid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PPT Stripe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2678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5"/>
          <p:cNvSpPr/>
          <p:nvPr/>
        </p:nvSpPr>
        <p:spPr>
          <a:xfrm>
            <a:off x="1451160" y="2438280"/>
            <a:ext cx="30855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MS PGothic"/>
              </a:rPr>
              <a:t>The Nerv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MS PGothic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76320" y="1981080"/>
            <a:ext cx="1371600" cy="2288520"/>
          </a:xfrm>
          <a:prstGeom prst="rect">
            <a:avLst/>
          </a:prstGeom>
          <a:noFill/>
          <a:ln w="0">
            <a:noFill/>
          </a:ln>
          <a:effectLst>
            <a:outerShdw dist="126770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800000"/>
                </a:solidFill>
                <a:latin typeface="Arial"/>
                <a:ea typeface="MS PGothic"/>
              </a:rPr>
              <a:t>8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5B8-901D-4AF6-9478-3817C1C43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143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62120" y="685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Essentials of Anatomy &amp; Physiology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 4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Martin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/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Bartholom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800280" y="454032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PowerPoint</a:t>
            </a:r>
            <a:r>
              <a:rPr b="0" lang="en-US" sz="1800" spc="-1" strike="noStrike" baseline="30000">
                <a:solidFill>
                  <a:srgbClr val="973a2b"/>
                </a:solidFill>
                <a:latin typeface="Arial"/>
                <a:ea typeface="MS PGothic"/>
              </a:rPr>
              <a:t>®</a:t>
            </a: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 Lecture Out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  <a:ea typeface="MS PGothic"/>
              </a:rPr>
              <a:t>prepared by Alan Magid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PPT Stripe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2678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451160" y="2438280"/>
            <a:ext cx="30855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MS PGothic"/>
              </a:rPr>
              <a:t>The Nerv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MS PGothic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76320" y="1981080"/>
            <a:ext cx="1371600" cy="2288520"/>
          </a:xfrm>
          <a:prstGeom prst="rect">
            <a:avLst/>
          </a:prstGeom>
          <a:noFill/>
          <a:ln w="0">
            <a:noFill/>
          </a:ln>
          <a:effectLst>
            <a:outerShdw dist="126770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800000"/>
                </a:solidFill>
                <a:latin typeface="Arial"/>
                <a:ea typeface="MS PGothic"/>
              </a:rPr>
              <a:t>8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A00F-F372-453C-9899-EB0EFB219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rvous System- Nervous Tissue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2743200" y="2362320"/>
          <a:ext cx="381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81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8_05-SchwnCllsPriphAxns_L.jpg"/>
          <p:cNvPicPr/>
          <p:nvPr/>
        </p:nvPicPr>
        <p:blipFill>
          <a:blip r:embed="rId1"/>
          <a:stretch/>
        </p:blipFill>
        <p:spPr>
          <a:xfrm>
            <a:off x="0" y="399960"/>
            <a:ext cx="4865760" cy="6458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5181480" y="838080"/>
            <a:ext cx="39625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chwan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 all axons of neurons in the PNS creat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urilem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ound them. Neurilemma allows for potential regeneration of damaged a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ound most axons of 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257800" y="4572000"/>
            <a:ext cx="3733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atellit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groups of cell bodies of neurons with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ang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236232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1303ReviewNeuronStruc_L.jpg"/>
          <p:cNvPicPr/>
          <p:nvPr/>
        </p:nvPicPr>
        <p:blipFill>
          <a:blip r:embed="rId1"/>
          <a:stretch/>
        </p:blipFill>
        <p:spPr>
          <a:xfrm>
            <a:off x="838080" y="102888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08_05aSchwnCllsPriphAxns_L.jpg"/>
          <p:cNvPicPr/>
          <p:nvPr/>
        </p:nvPicPr>
        <p:blipFill>
          <a:blip r:embed="rId1"/>
          <a:stretch/>
        </p:blipFill>
        <p:spPr>
          <a:xfrm>
            <a:off x="0" y="533520"/>
            <a:ext cx="4392720" cy="6610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4343400" y="838080"/>
            <a:ext cx="4572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xons of the nervous system are surrounded by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elinated a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myelin speeds up the transmission of action potentials along the ax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 will get laid down in segments (internodes) along the axon, leaving unmyelinated gaps 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des of Ranvi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of the nervous system containing groupings of myelinated axons  make up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white mat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ay mat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s mainly comprised of groups of neuron cell bodies, dendrites &amp; synapses (connections between neur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2004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Ranv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1310StrucClassNeurons_L.jpg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/>
          <p:cNvSpPr/>
          <p:nvPr/>
        </p:nvSpPr>
        <p:spPr>
          <a:xfrm>
            <a:off x="1143000" y="152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neu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33520" y="914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number of processes coming off of the cell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4"/>
          <p:cNvGraphicFramePr/>
          <p:nvPr/>
        </p:nvGraphicFramePr>
        <p:xfrm>
          <a:off x="609480" y="609480"/>
          <a:ext cx="22608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22608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5"/>
          <p:cNvSpPr/>
          <p:nvPr/>
        </p:nvSpPr>
        <p:spPr>
          <a:xfrm>
            <a:off x="4191120" y="1973160"/>
            <a:ext cx="396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axonic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natomical clues to determine axons from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114300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066680" y="2463840"/>
            <a:ext cx="4587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ltipolar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dendrites &amp; singl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6113520" y="1219320"/>
          <a:ext cx="2268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1219320"/>
                    <a:ext cx="2268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4"/>
          <p:cNvGraphicFramePr/>
          <p:nvPr/>
        </p:nvGraphicFramePr>
        <p:xfrm>
          <a:off x="5943600" y="0"/>
          <a:ext cx="2557440" cy="822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0"/>
                    <a:ext cx="255744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5"/>
          <p:cNvSpPr/>
          <p:nvPr/>
        </p:nvSpPr>
        <p:spPr>
          <a:xfrm>
            <a:off x="304920" y="2057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ipolar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rocesses coming off cell body – one dendrite &amp; 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found in eye, ear &amp;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5334120" y="601560"/>
            <a:ext cx="380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962520" y="152388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ipolar (pseudounipolar)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process coming off cell body, giving rise to dendrites (at one end) &amp; axon (making up rest of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533520" y="482760"/>
          <a:ext cx="287496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2760"/>
                    <a:ext cx="287496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neu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type of information &amp; direction of information trans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52388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nsory (afferent) neu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sensory information from receptors of P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wards the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sensory neurons are unipolar, a few are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tor (efferent) neu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motor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CNS to eff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muscles/glands/adipose tissue) in the periphery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are mult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ssociation (interneuron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urons within the CNS; analyze inputs, coordin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most common type of neur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bill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ll mult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1311FuncClassNeurons_L.jpg"/>
          <p:cNvPicPr/>
          <p:nvPr/>
        </p:nvPicPr>
        <p:blipFill>
          <a:blip r:embed="rId1"/>
          <a:stretch/>
        </p:blipFill>
        <p:spPr>
          <a:xfrm>
            <a:off x="380880" y="322200"/>
            <a:ext cx="84582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80880" y="533520"/>
            <a:ext cx="876312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rvous system has three major 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ens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monitors internal &amp; external environment through prese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te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interpretation of sensory information (information processing); complex (higher order)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response to information processed through stimul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ndular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ction across synap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ar-IQ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65040" y="6580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52280" y="3962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ynapses within the nervous system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ses, &amp; involve the release of a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2280" y="1523880"/>
            <a:ext cx="861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neural control to occur, “information” must not only be conducted along nerve cells, but must also be transferred from one nerve cell to another across a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12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 of a Typical Syna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08_10StructTypcalSynpse_L"/>
          <p:cNvPicPr/>
          <p:nvPr/>
        </p:nvPicPr>
        <p:blipFill>
          <a:blip r:embed="rId1"/>
          <a:stretch/>
        </p:blipFill>
        <p:spPr>
          <a:xfrm>
            <a:off x="304920" y="2666880"/>
            <a:ext cx="8535960" cy="36576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5638680" y="65530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cal organization of neu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s of the nervous system tend to group together into organized bu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0880" y="297180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eurons are bundled together to form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PNS &amp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racts/path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NS. Most axons are myelinated so these structures will be part of “white mat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57200" y="4419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ll bo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eurons are clustered together into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gang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PNS &amp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uclei/ce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NS. These are unmyelinated structures and will be part of “gray mat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tomical structure of Ne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1406abAnatPeriphNerve_L.jpg"/>
          <p:cNvPicPr/>
          <p:nvPr/>
        </p:nvPicPr>
        <p:blipFill>
          <a:blip r:embed="rId1"/>
          <a:stretch/>
        </p:blipFill>
        <p:spPr>
          <a:xfrm>
            <a:off x="990720" y="838080"/>
            <a:ext cx="7543800" cy="58294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7086600" y="65451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1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0948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rganization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08_01FunctOvrvwNervsSys_L.jpg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943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9907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in &amp; spinal 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natomical Divi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nervous system (C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nervous system (P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neural tissue outside 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sion (sensory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(motor 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atic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Organization of the nervou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33520" y="5335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logy of neur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744560"/>
            <a:ext cx="8610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neural cells in the nervous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u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For process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, and storag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eurog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For support, regulation &amp; protection of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676520" y="457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glia (glial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838080" y="121932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S neurog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t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igodend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rog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pendym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49568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S neurog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ann cells (neurolemmocy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tellit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8_04NeurogliaCNS_L.jpg"/>
          <p:cNvPicPr/>
          <p:nvPr/>
        </p:nvPicPr>
        <p:blipFill>
          <a:blip r:embed="rId1"/>
          <a:stretch/>
        </p:blipFill>
        <p:spPr>
          <a:xfrm>
            <a:off x="0" y="457200"/>
            <a:ext cx="7238880" cy="6400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5867280" y="2362320"/>
            <a:ext cx="327672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trocy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upportive framework for neu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“blood-brain barri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&amp; regulate interstitial fluid surrounding neu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e chemicals for embryological neuron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the formation of scar tissue secondary to CNS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08_04NeurogliaCNS_L.jpg"/>
          <p:cNvPicPr/>
          <p:nvPr/>
        </p:nvPicPr>
        <p:blipFill>
          <a:blip r:embed="rId1"/>
          <a:stretch/>
        </p:blipFill>
        <p:spPr>
          <a:xfrm>
            <a:off x="0" y="533520"/>
            <a:ext cx="8067600" cy="6324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6019920" y="2819520"/>
            <a:ext cx="31240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Oligodendr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ound axons of neurons in the CN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elin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ons transmit impulses faster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myelin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019920" y="4952880"/>
            <a:ext cx="3124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icro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 macrophag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gocytize cellular wastes &amp; path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95880" y="5105520"/>
            <a:ext cx="304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08_04NeurogliaCNS_L.jpg"/>
          <p:cNvPicPr/>
          <p:nvPr/>
        </p:nvPicPr>
        <p:blipFill>
          <a:blip r:embed="rId1"/>
          <a:stretch/>
        </p:blipFill>
        <p:spPr>
          <a:xfrm>
            <a:off x="228600" y="533520"/>
            <a:ext cx="8067600" cy="6324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5867280" y="2887560"/>
            <a:ext cx="3276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pendy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ventricles of brain &amp; central canal of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, monitor &amp; help circulate CSF (cerebrospinal flu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21:25:56Z</dcterms:created>
  <dc:creator>Alan Magid</dc:creator>
  <dc:description/>
  <dc:language>en-US</dc:language>
  <cp:lastModifiedBy>King Soft 2</cp:lastModifiedBy>
  <cp:lastPrinted>2005-03-02T03:17:46Z</cp:lastPrinted>
  <dcterms:modified xsi:type="dcterms:W3CDTF">2013-12-08T17:40:14Z</dcterms:modified>
  <cp:revision>195</cp:revision>
  <dc:subject/>
  <dc:title>PowerPoint Presentation</dc:title>
</cp:coreProperties>
</file>