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FA6-89E4-4255-B53E-1667342E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4E0C-BC35-4486-984E-7F7E02A8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5AE-16E8-4EA2-91AA-2B5D180A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26B-BF55-454C-9FF5-8DD0BF8C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03D1-81C4-470D-BC3B-04CA9C28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93B7-7FA0-4FB1-B44F-84603D82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13EA-6039-45C4-8B87-30B6213A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735E-97A4-45E2-B104-1B1BC713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004B-C4EF-48A0-ABEF-5AB1BACB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239E-C075-4221-B102-78292B26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423D-5DF6-4B90-B89D-85309A6C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8D1E-BA2D-4C2D-A59D-CEC12037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BD66-8E16-4EC8-8CA3-1736DA23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2F01-615F-4D3C-9960-B0A5999B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D1DC-A540-4051-9341-F7789D4A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3A89-A98C-4E75-9E29-6F901D4F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2F58-1017-4803-8CBD-BB58B36B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89D-9D2D-45D9-B472-064C91D2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83F-58BA-4329-B4E7-5D99EAD7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428C-13BB-48D3-84A2-E488F59F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D622-E58E-48A6-932D-3FBA2A6B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8D0A-501E-4374-9CE2-A71E8CEE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F5D-A1E7-4347-8BD5-8059CEC5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62C4-5281-494B-8211-9BEBEB7D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A0D7-91E7-4926-9686-7B62132991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23D1-7EC2-4729-A318-FE12DC51841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ctive Tiss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is this tissu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3809880" y="2514600"/>
            <a:ext cx="5257800" cy="4265640"/>
            <a:chOff x="3809880" y="2514600"/>
            <a:chExt cx="5257800" cy="4265640"/>
          </a:xfrm>
        </p:grpSpPr>
        <p:sp>
          <p:nvSpPr>
            <p:cNvPr id="210" name="Rectangle 4"/>
            <p:cNvSpPr/>
            <p:nvPr/>
          </p:nvSpPr>
          <p:spPr>
            <a:xfrm>
              <a:off x="3809880" y="2514600"/>
              <a:ext cx="5257800" cy="42656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211" name="Picture 5" descr="mesenchyme"/>
            <p:cNvPicPr/>
            <p:nvPr/>
          </p:nvPicPr>
          <p:blipFill>
            <a:blip r:embed="rId1"/>
            <a:stretch/>
          </p:blipFill>
          <p:spPr>
            <a:xfrm>
              <a:off x="4053240" y="2841840"/>
              <a:ext cx="4796280" cy="358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 Box 6"/>
          <p:cNvSpPr/>
          <p:nvPr/>
        </p:nvSpPr>
        <p:spPr>
          <a:xfrm>
            <a:off x="649080" y="2808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 the Embry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kind of tissue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8"/>
          <p:cNvGrpSpPr/>
          <p:nvPr/>
        </p:nvGrpSpPr>
        <p:grpSpPr>
          <a:xfrm>
            <a:off x="3583080" y="2211480"/>
            <a:ext cx="5484600" cy="4570200"/>
            <a:chOff x="3583080" y="2211480"/>
            <a:chExt cx="5484600" cy="4570200"/>
          </a:xfrm>
        </p:grpSpPr>
        <p:sp>
          <p:nvSpPr>
            <p:cNvPr id="215" name="Rectangle 7"/>
            <p:cNvSpPr/>
            <p:nvPr/>
          </p:nvSpPr>
          <p:spPr>
            <a:xfrm>
              <a:off x="3583080" y="2211480"/>
              <a:ext cx="5484600" cy="457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216" name="Picture 6" descr="areolar"/>
            <p:cNvPicPr/>
            <p:nvPr/>
          </p:nvPicPr>
          <p:blipFill>
            <a:blip r:embed="rId1"/>
            <a:stretch/>
          </p:blipFill>
          <p:spPr>
            <a:xfrm>
              <a:off x="3887640" y="2440080"/>
              <a:ext cx="487692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Text Box 9"/>
          <p:cNvSpPr/>
          <p:nvPr/>
        </p:nvSpPr>
        <p:spPr>
          <a:xfrm>
            <a:off x="74880" y="1676520"/>
            <a:ext cx="90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Loose connective tissue, a.k.a. areolar connective tissu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4 special fea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3583080" y="2211480"/>
            <a:ext cx="5484600" cy="4570200"/>
            <a:chOff x="3583080" y="2211480"/>
            <a:chExt cx="5484600" cy="4570200"/>
          </a:xfrm>
        </p:grpSpPr>
        <p:sp>
          <p:nvSpPr>
            <p:cNvPr id="220" name="Rectangle 4"/>
            <p:cNvSpPr/>
            <p:nvPr/>
          </p:nvSpPr>
          <p:spPr>
            <a:xfrm>
              <a:off x="3583080" y="2211480"/>
              <a:ext cx="5484600" cy="457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221" name="Picture 5" descr="areolar"/>
            <p:cNvPicPr/>
            <p:nvPr/>
          </p:nvPicPr>
          <p:blipFill>
            <a:blip r:embed="rId1"/>
            <a:stretch/>
          </p:blipFill>
          <p:spPr>
            <a:xfrm>
              <a:off x="3887640" y="2440080"/>
              <a:ext cx="487692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Text Box 6"/>
          <p:cNvSpPr/>
          <p:nvPr/>
        </p:nvSpPr>
        <p:spPr>
          <a:xfrm>
            <a:off x="633960" y="220968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Elastic Fib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457560" y="304812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Collagen Fib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358920" y="3809880"/>
            <a:ext cx="29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Fibroblast nucle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152280" y="460836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Macrophages, mast cells, and some white blood cell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226" name="Group 17"/>
          <p:cNvGrpSpPr/>
          <p:nvPr/>
        </p:nvGrpSpPr>
        <p:grpSpPr>
          <a:xfrm>
            <a:off x="3124080" y="2514600"/>
            <a:ext cx="3200400" cy="457200"/>
            <a:chOff x="3124080" y="2514600"/>
            <a:chExt cx="3200400" cy="457200"/>
          </a:xfrm>
        </p:grpSpPr>
        <p:sp>
          <p:nvSpPr>
            <p:cNvPr id="227" name="Line 11"/>
            <p:cNvSpPr/>
            <p:nvPr/>
          </p:nvSpPr>
          <p:spPr>
            <a:xfrm>
              <a:off x="3124080" y="2514600"/>
              <a:ext cx="3200400" cy="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28" name="Line 12"/>
            <p:cNvSpPr/>
            <p:nvPr/>
          </p:nvSpPr>
          <p:spPr>
            <a:xfrm>
              <a:off x="3124080" y="2514600"/>
              <a:ext cx="2971800" cy="4572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229" name="Group 18"/>
          <p:cNvGrpSpPr/>
          <p:nvPr/>
        </p:nvGrpSpPr>
        <p:grpSpPr>
          <a:xfrm>
            <a:off x="3352680" y="3200040"/>
            <a:ext cx="3276720" cy="381240"/>
            <a:chOff x="3352680" y="3200040"/>
            <a:chExt cx="3276720" cy="381240"/>
          </a:xfrm>
        </p:grpSpPr>
        <p:sp>
          <p:nvSpPr>
            <p:cNvPr id="230" name="Line 13"/>
            <p:cNvSpPr/>
            <p:nvPr/>
          </p:nvSpPr>
          <p:spPr>
            <a:xfrm flipV="1">
              <a:off x="3352680" y="3200040"/>
              <a:ext cx="2743200" cy="1522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31" name="Line 14"/>
            <p:cNvSpPr/>
            <p:nvPr/>
          </p:nvSpPr>
          <p:spPr>
            <a:xfrm>
              <a:off x="3352680" y="3352680"/>
              <a:ext cx="3276720" cy="2286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232" name="Group 19"/>
          <p:cNvGrpSpPr/>
          <p:nvPr/>
        </p:nvGrpSpPr>
        <p:grpSpPr>
          <a:xfrm>
            <a:off x="3352680" y="3962160"/>
            <a:ext cx="4648320" cy="381240"/>
            <a:chOff x="3352680" y="3962160"/>
            <a:chExt cx="4648320" cy="381240"/>
          </a:xfrm>
        </p:grpSpPr>
        <p:sp>
          <p:nvSpPr>
            <p:cNvPr id="233" name="Line 15"/>
            <p:cNvSpPr/>
            <p:nvPr/>
          </p:nvSpPr>
          <p:spPr>
            <a:xfrm flipV="1">
              <a:off x="3352680" y="3962160"/>
              <a:ext cx="4648320" cy="7596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>
              <a:off x="3352680" y="4038480"/>
              <a:ext cx="3124440" cy="3049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its 3 main fun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3"/>
          <p:cNvGrpSpPr/>
          <p:nvPr/>
        </p:nvGrpSpPr>
        <p:grpSpPr>
          <a:xfrm>
            <a:off x="3811680" y="2513160"/>
            <a:ext cx="5256000" cy="4268520"/>
            <a:chOff x="3811680" y="2513160"/>
            <a:chExt cx="5256000" cy="4268520"/>
          </a:xfrm>
        </p:grpSpPr>
        <p:sp>
          <p:nvSpPr>
            <p:cNvPr id="237" name="Rectangle 4"/>
            <p:cNvSpPr/>
            <p:nvPr/>
          </p:nvSpPr>
          <p:spPr>
            <a:xfrm>
              <a:off x="3811680" y="2513160"/>
              <a:ext cx="5256000" cy="4268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238" name="Picture 5" descr="areolar"/>
            <p:cNvPicPr/>
            <p:nvPr/>
          </p:nvPicPr>
          <p:blipFill>
            <a:blip r:embed="rId1"/>
            <a:stretch/>
          </p:blipFill>
          <p:spPr>
            <a:xfrm>
              <a:off x="4103280" y="2726640"/>
              <a:ext cx="4673520" cy="38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Text Box 6"/>
          <p:cNvSpPr/>
          <p:nvPr/>
        </p:nvSpPr>
        <p:spPr>
          <a:xfrm>
            <a:off x="152280" y="2359080"/>
            <a:ext cx="350532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Surrounds and cushions orga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Secondary defense system below the ski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Transportation and holding of flui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is this tissu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3811680" y="2513160"/>
            <a:ext cx="5256000" cy="4268520"/>
            <a:chOff x="3811680" y="2513160"/>
            <a:chExt cx="5256000" cy="4268520"/>
          </a:xfrm>
        </p:grpSpPr>
        <p:sp>
          <p:nvSpPr>
            <p:cNvPr id="242" name="Rectangle 4"/>
            <p:cNvSpPr/>
            <p:nvPr/>
          </p:nvSpPr>
          <p:spPr>
            <a:xfrm>
              <a:off x="3811680" y="2513160"/>
              <a:ext cx="5256000" cy="4268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243" name="Picture 5" descr="areolar"/>
            <p:cNvPicPr/>
            <p:nvPr/>
          </p:nvPicPr>
          <p:blipFill>
            <a:blip r:embed="rId1"/>
            <a:stretch/>
          </p:blipFill>
          <p:spPr>
            <a:xfrm>
              <a:off x="4103280" y="2726640"/>
              <a:ext cx="4673520" cy="38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Text Box 6"/>
          <p:cNvSpPr/>
          <p:nvPr/>
        </p:nvSpPr>
        <p:spPr>
          <a:xfrm>
            <a:off x="685800" y="2362320"/>
            <a:ext cx="274320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Under epithelia (fascia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Around orga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Surrounding capillari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kind of tissue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8"/>
          <p:cNvGrpSpPr/>
          <p:nvPr/>
        </p:nvGrpSpPr>
        <p:grpSpPr>
          <a:xfrm>
            <a:off x="3583080" y="2211480"/>
            <a:ext cx="5484600" cy="4570200"/>
            <a:chOff x="3583080" y="2211480"/>
            <a:chExt cx="5484600" cy="4570200"/>
          </a:xfrm>
        </p:grpSpPr>
        <p:sp>
          <p:nvSpPr>
            <p:cNvPr id="247" name="Rectangle 7"/>
            <p:cNvSpPr/>
            <p:nvPr/>
          </p:nvSpPr>
          <p:spPr>
            <a:xfrm>
              <a:off x="3583080" y="2211480"/>
              <a:ext cx="5484600" cy="457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248" name="Picture 6" descr="adipose"/>
            <p:cNvPicPr/>
            <p:nvPr/>
          </p:nvPicPr>
          <p:blipFill>
            <a:blip r:embed="rId1"/>
            <a:stretch/>
          </p:blipFill>
          <p:spPr>
            <a:xfrm>
              <a:off x="3781080" y="2439720"/>
              <a:ext cx="5135400" cy="40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Text Box 9"/>
          <p:cNvSpPr/>
          <p:nvPr/>
        </p:nvSpPr>
        <p:spPr>
          <a:xfrm>
            <a:off x="359640" y="1690560"/>
            <a:ext cx="43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Adipose connective tissu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3 special fea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3583080" y="2211480"/>
            <a:ext cx="5484600" cy="4570200"/>
            <a:chOff x="3583080" y="2211480"/>
            <a:chExt cx="5484600" cy="4570200"/>
          </a:xfrm>
        </p:grpSpPr>
        <p:sp>
          <p:nvSpPr>
            <p:cNvPr id="252" name="Rectangle 4"/>
            <p:cNvSpPr/>
            <p:nvPr/>
          </p:nvSpPr>
          <p:spPr>
            <a:xfrm>
              <a:off x="3583080" y="2211480"/>
              <a:ext cx="5484600" cy="457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253" name="Picture 5" descr="adipose"/>
            <p:cNvPicPr/>
            <p:nvPr/>
          </p:nvPicPr>
          <p:blipFill>
            <a:blip r:embed="rId1"/>
            <a:stretch/>
          </p:blipFill>
          <p:spPr>
            <a:xfrm>
              <a:off x="3781080" y="2439720"/>
              <a:ext cx="5135400" cy="40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Text Box 7"/>
          <p:cNvSpPr/>
          <p:nvPr/>
        </p:nvSpPr>
        <p:spPr>
          <a:xfrm>
            <a:off x="304920" y="2133720"/>
            <a:ext cx="3047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Vacuole containing fat/oil drople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Nuclei pushed to side of cel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Adipocyt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   </a:t>
            </a: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(fat cell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255" name="Group 16"/>
          <p:cNvGrpSpPr/>
          <p:nvPr/>
        </p:nvGrpSpPr>
        <p:grpSpPr>
          <a:xfrm>
            <a:off x="2971800" y="2819520"/>
            <a:ext cx="2742840" cy="533160"/>
            <a:chOff x="2971800" y="2819520"/>
            <a:chExt cx="2742840" cy="533160"/>
          </a:xfrm>
        </p:grpSpPr>
        <p:sp>
          <p:nvSpPr>
            <p:cNvPr id="256" name="Line 8"/>
            <p:cNvSpPr/>
            <p:nvPr/>
          </p:nvSpPr>
          <p:spPr>
            <a:xfrm>
              <a:off x="2971800" y="2819520"/>
              <a:ext cx="2742840" cy="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2971800" y="2819520"/>
              <a:ext cx="2351160" cy="53316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258" name="Group 17"/>
          <p:cNvGrpSpPr/>
          <p:nvPr/>
        </p:nvGrpSpPr>
        <p:grpSpPr>
          <a:xfrm>
            <a:off x="2514600" y="2895120"/>
            <a:ext cx="4648320" cy="1219680"/>
            <a:chOff x="2514600" y="2895120"/>
            <a:chExt cx="4648320" cy="1219680"/>
          </a:xfrm>
        </p:grpSpPr>
        <p:sp>
          <p:nvSpPr>
            <p:cNvPr id="259" name="Line 10"/>
            <p:cNvSpPr/>
            <p:nvPr/>
          </p:nvSpPr>
          <p:spPr>
            <a:xfrm flipV="1">
              <a:off x="2514600" y="2895120"/>
              <a:ext cx="3886200" cy="11430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60" name="Line 11"/>
            <p:cNvSpPr/>
            <p:nvPr/>
          </p:nvSpPr>
          <p:spPr>
            <a:xfrm>
              <a:off x="2514600" y="4038480"/>
              <a:ext cx="4648320" cy="763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2895480" y="4952880"/>
            <a:ext cx="2362320" cy="990720"/>
            <a:chOff x="2895480" y="4952880"/>
            <a:chExt cx="2362320" cy="990720"/>
          </a:xfrm>
        </p:grpSpPr>
        <p:sp>
          <p:nvSpPr>
            <p:cNvPr id="262" name="Line 12"/>
            <p:cNvSpPr/>
            <p:nvPr/>
          </p:nvSpPr>
          <p:spPr>
            <a:xfrm>
              <a:off x="2895480" y="4952880"/>
              <a:ext cx="1822320" cy="763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63" name="Line 13"/>
            <p:cNvSpPr/>
            <p:nvPr/>
          </p:nvSpPr>
          <p:spPr>
            <a:xfrm>
              <a:off x="2895480" y="4952880"/>
              <a:ext cx="2362320" cy="9907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its 4 main fun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3811680" y="2513160"/>
            <a:ext cx="5256000" cy="4268520"/>
            <a:chOff x="3811680" y="2513160"/>
            <a:chExt cx="5256000" cy="4268520"/>
          </a:xfrm>
        </p:grpSpPr>
        <p:sp>
          <p:nvSpPr>
            <p:cNvPr id="266" name="Rectangle 4"/>
            <p:cNvSpPr/>
            <p:nvPr/>
          </p:nvSpPr>
          <p:spPr>
            <a:xfrm>
              <a:off x="3811680" y="2513160"/>
              <a:ext cx="5256000" cy="4268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267" name="Picture 5" descr="adipose"/>
            <p:cNvPicPr/>
            <p:nvPr/>
          </p:nvPicPr>
          <p:blipFill>
            <a:blip r:embed="rId1"/>
            <a:stretch/>
          </p:blipFill>
          <p:spPr>
            <a:xfrm>
              <a:off x="4001760" y="2726640"/>
              <a:ext cx="4921200" cy="37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Text Box 6"/>
          <p:cNvSpPr/>
          <p:nvPr/>
        </p:nvSpPr>
        <p:spPr>
          <a:xfrm>
            <a:off x="0" y="1752480"/>
            <a:ext cx="367200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Insul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Energy (lipid) reser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Support and cushioning of orga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Protection of orga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is this tissu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3"/>
          <p:cNvGrpSpPr/>
          <p:nvPr/>
        </p:nvGrpSpPr>
        <p:grpSpPr>
          <a:xfrm>
            <a:off x="3811680" y="2513160"/>
            <a:ext cx="5256000" cy="4268520"/>
            <a:chOff x="3811680" y="2513160"/>
            <a:chExt cx="5256000" cy="4268520"/>
          </a:xfrm>
        </p:grpSpPr>
        <p:sp>
          <p:nvSpPr>
            <p:cNvPr id="271" name="Rectangle 4"/>
            <p:cNvSpPr/>
            <p:nvPr/>
          </p:nvSpPr>
          <p:spPr>
            <a:xfrm>
              <a:off x="3811680" y="2513160"/>
              <a:ext cx="5256000" cy="4268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272" name="Picture 5" descr="adipose"/>
            <p:cNvPicPr/>
            <p:nvPr/>
          </p:nvPicPr>
          <p:blipFill>
            <a:blip r:embed="rId1"/>
            <a:stretch/>
          </p:blipFill>
          <p:spPr>
            <a:xfrm>
              <a:off x="4001760" y="2726640"/>
              <a:ext cx="4921200" cy="37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Text Box 6"/>
          <p:cNvSpPr/>
          <p:nvPr/>
        </p:nvSpPr>
        <p:spPr>
          <a:xfrm>
            <a:off x="196560" y="2438280"/>
            <a:ext cx="3548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Hypoderm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Around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     </a:t>
            </a: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~Kidney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     </a:t>
            </a: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~Eyeball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On surface of hear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Female breas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Hip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Abdominal reg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9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9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9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9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kind of tissue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8"/>
          <p:cNvGrpSpPr/>
          <p:nvPr/>
        </p:nvGrpSpPr>
        <p:grpSpPr>
          <a:xfrm>
            <a:off x="3583080" y="2211480"/>
            <a:ext cx="5484600" cy="4570200"/>
            <a:chOff x="3583080" y="2211480"/>
            <a:chExt cx="5484600" cy="4570200"/>
          </a:xfrm>
        </p:grpSpPr>
        <p:sp>
          <p:nvSpPr>
            <p:cNvPr id="276" name="Rectangle 7"/>
            <p:cNvSpPr/>
            <p:nvPr/>
          </p:nvSpPr>
          <p:spPr>
            <a:xfrm>
              <a:off x="3583080" y="2211480"/>
              <a:ext cx="5484600" cy="457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277" name="Picture 6" descr="reticular"/>
            <p:cNvPicPr/>
            <p:nvPr/>
          </p:nvPicPr>
          <p:blipFill>
            <a:blip r:embed="rId1"/>
            <a:stretch/>
          </p:blipFill>
          <p:spPr>
            <a:xfrm>
              <a:off x="3735360" y="2439720"/>
              <a:ext cx="5157360" cy="411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Text Box 10"/>
          <p:cNvSpPr/>
          <p:nvPr/>
        </p:nvSpPr>
        <p:spPr>
          <a:xfrm>
            <a:off x="381960" y="1676520"/>
            <a:ext cx="44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Reticular connective tissu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76320"/>
            <a:ext cx="678168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6 main functions of connective tissu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tructural framework for bod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ransportation of fluids and dissolved substan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otection of delicate orga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upports, surrounds, and connects other tissu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torage of energy in the form of lipi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fend the body against microorganism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3 special fea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3583080" y="2211480"/>
            <a:ext cx="5484600" cy="4570200"/>
            <a:chOff x="3583080" y="2211480"/>
            <a:chExt cx="5484600" cy="4570200"/>
          </a:xfrm>
        </p:grpSpPr>
        <p:sp>
          <p:nvSpPr>
            <p:cNvPr id="281" name="Rectangle 4"/>
            <p:cNvSpPr/>
            <p:nvPr/>
          </p:nvSpPr>
          <p:spPr>
            <a:xfrm>
              <a:off x="3583080" y="2211480"/>
              <a:ext cx="5484600" cy="457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282" name="Picture 5" descr="reticular"/>
            <p:cNvPicPr/>
            <p:nvPr/>
          </p:nvPicPr>
          <p:blipFill>
            <a:blip r:embed="rId1"/>
            <a:stretch/>
          </p:blipFill>
          <p:spPr>
            <a:xfrm>
              <a:off x="3735360" y="2439720"/>
              <a:ext cx="5157360" cy="411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Text Box 6"/>
          <p:cNvSpPr/>
          <p:nvPr/>
        </p:nvSpPr>
        <p:spPr>
          <a:xfrm>
            <a:off x="113760" y="2895480"/>
            <a:ext cx="3393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Lymphocy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3-D matrix of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reticular fib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Mast cell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284" name="Group 13"/>
          <p:cNvGrpSpPr/>
          <p:nvPr/>
        </p:nvGrpSpPr>
        <p:grpSpPr>
          <a:xfrm>
            <a:off x="2971800" y="3200400"/>
            <a:ext cx="2133720" cy="457200"/>
            <a:chOff x="2971800" y="3200400"/>
            <a:chExt cx="2133720" cy="457200"/>
          </a:xfrm>
        </p:grpSpPr>
        <p:sp>
          <p:nvSpPr>
            <p:cNvPr id="285" name="Line 7"/>
            <p:cNvSpPr/>
            <p:nvPr/>
          </p:nvSpPr>
          <p:spPr>
            <a:xfrm>
              <a:off x="2971800" y="3200400"/>
              <a:ext cx="1676520" cy="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6" name="Line 8"/>
            <p:cNvSpPr/>
            <p:nvPr/>
          </p:nvSpPr>
          <p:spPr>
            <a:xfrm>
              <a:off x="2971800" y="3200400"/>
              <a:ext cx="2133720" cy="4572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287" name="Group 14"/>
          <p:cNvGrpSpPr/>
          <p:nvPr/>
        </p:nvGrpSpPr>
        <p:grpSpPr>
          <a:xfrm>
            <a:off x="3276720" y="3886200"/>
            <a:ext cx="2895480" cy="914400"/>
            <a:chOff x="3276720" y="3886200"/>
            <a:chExt cx="2895480" cy="914400"/>
          </a:xfrm>
        </p:grpSpPr>
        <p:sp>
          <p:nvSpPr>
            <p:cNvPr id="288" name="Line 9"/>
            <p:cNvSpPr/>
            <p:nvPr/>
          </p:nvSpPr>
          <p:spPr>
            <a:xfrm flipV="1">
              <a:off x="3276720" y="3886200"/>
              <a:ext cx="2209680" cy="5335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9" name="Line 10"/>
            <p:cNvSpPr/>
            <p:nvPr/>
          </p:nvSpPr>
          <p:spPr>
            <a:xfrm>
              <a:off x="3276720" y="4419720"/>
              <a:ext cx="2895480" cy="3808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290" name="Group 15"/>
          <p:cNvGrpSpPr/>
          <p:nvPr/>
        </p:nvGrpSpPr>
        <p:grpSpPr>
          <a:xfrm>
            <a:off x="2819520" y="5715000"/>
            <a:ext cx="2666880" cy="380880"/>
            <a:chOff x="2819520" y="5715000"/>
            <a:chExt cx="2666880" cy="380880"/>
          </a:xfrm>
        </p:grpSpPr>
        <p:sp>
          <p:nvSpPr>
            <p:cNvPr id="291" name="Line 11"/>
            <p:cNvSpPr/>
            <p:nvPr/>
          </p:nvSpPr>
          <p:spPr>
            <a:xfrm>
              <a:off x="2819520" y="5715000"/>
              <a:ext cx="2666880" cy="2286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2819520" y="5715000"/>
              <a:ext cx="2286000" cy="3808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its main fun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3811680" y="2513160"/>
            <a:ext cx="5256000" cy="4268520"/>
            <a:chOff x="3811680" y="2513160"/>
            <a:chExt cx="5256000" cy="4268520"/>
          </a:xfrm>
        </p:grpSpPr>
        <p:sp>
          <p:nvSpPr>
            <p:cNvPr id="295" name="Rectangle 4"/>
            <p:cNvSpPr/>
            <p:nvPr/>
          </p:nvSpPr>
          <p:spPr>
            <a:xfrm>
              <a:off x="3811680" y="2513160"/>
              <a:ext cx="5256000" cy="4268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296" name="Picture 5" descr="reticular"/>
            <p:cNvPicPr/>
            <p:nvPr/>
          </p:nvPicPr>
          <p:blipFill>
            <a:blip r:embed="rId1"/>
            <a:stretch/>
          </p:blipFill>
          <p:spPr>
            <a:xfrm>
              <a:off x="3957840" y="2726640"/>
              <a:ext cx="4942080" cy="384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Text Box 6"/>
          <p:cNvSpPr/>
          <p:nvPr/>
        </p:nvSpPr>
        <p:spPr>
          <a:xfrm>
            <a:off x="380880" y="362592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Support of other cell typ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is this tissu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3811680" y="2513160"/>
            <a:ext cx="5256000" cy="4268520"/>
            <a:chOff x="3811680" y="2513160"/>
            <a:chExt cx="5256000" cy="4268520"/>
          </a:xfrm>
        </p:grpSpPr>
        <p:sp>
          <p:nvSpPr>
            <p:cNvPr id="300" name="Rectangle 4"/>
            <p:cNvSpPr/>
            <p:nvPr/>
          </p:nvSpPr>
          <p:spPr>
            <a:xfrm>
              <a:off x="3811680" y="2513160"/>
              <a:ext cx="5256000" cy="4268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301" name="Picture 5" descr="reticular"/>
            <p:cNvPicPr/>
            <p:nvPr/>
          </p:nvPicPr>
          <p:blipFill>
            <a:blip r:embed="rId1"/>
            <a:stretch/>
          </p:blipFill>
          <p:spPr>
            <a:xfrm>
              <a:off x="3957840" y="2726640"/>
              <a:ext cx="4942080" cy="384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Text Box 6"/>
          <p:cNvSpPr/>
          <p:nvPr/>
        </p:nvSpPr>
        <p:spPr>
          <a:xfrm>
            <a:off x="1127160" y="2362320"/>
            <a:ext cx="1616040" cy="41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Liv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Sple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Lymph nod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Bone marrow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kind of tissue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8"/>
          <p:cNvGrpSpPr/>
          <p:nvPr/>
        </p:nvGrpSpPr>
        <p:grpSpPr>
          <a:xfrm>
            <a:off x="3583080" y="2211480"/>
            <a:ext cx="5484600" cy="4570200"/>
            <a:chOff x="3583080" y="2211480"/>
            <a:chExt cx="5484600" cy="4570200"/>
          </a:xfrm>
        </p:grpSpPr>
        <p:sp>
          <p:nvSpPr>
            <p:cNvPr id="305" name="Rectangle 7"/>
            <p:cNvSpPr/>
            <p:nvPr/>
          </p:nvSpPr>
          <p:spPr>
            <a:xfrm>
              <a:off x="3583080" y="2211480"/>
              <a:ext cx="5484600" cy="457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306" name="Picture 6" descr="dense irregular"/>
            <p:cNvPicPr/>
            <p:nvPr/>
          </p:nvPicPr>
          <p:blipFill>
            <a:blip r:embed="rId1"/>
            <a:stretch/>
          </p:blipFill>
          <p:spPr>
            <a:xfrm>
              <a:off x="3811680" y="2439720"/>
              <a:ext cx="5029200" cy="411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Text Box 9"/>
          <p:cNvSpPr/>
          <p:nvPr/>
        </p:nvSpPr>
        <p:spPr>
          <a:xfrm>
            <a:off x="360" y="1600200"/>
            <a:ext cx="63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Dense white fibrous connective tissue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irregularly arrang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2 special fea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3583080" y="2211480"/>
            <a:ext cx="5484600" cy="4570200"/>
            <a:chOff x="3583080" y="2211480"/>
            <a:chExt cx="5484600" cy="4570200"/>
          </a:xfrm>
        </p:grpSpPr>
        <p:sp>
          <p:nvSpPr>
            <p:cNvPr id="310" name="Rectangle 4"/>
            <p:cNvSpPr/>
            <p:nvPr/>
          </p:nvSpPr>
          <p:spPr>
            <a:xfrm>
              <a:off x="3583080" y="2211480"/>
              <a:ext cx="5484600" cy="457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311" name="Picture 5" descr="dense irregular"/>
            <p:cNvPicPr/>
            <p:nvPr/>
          </p:nvPicPr>
          <p:blipFill>
            <a:blip r:embed="rId1"/>
            <a:stretch/>
          </p:blipFill>
          <p:spPr>
            <a:xfrm>
              <a:off x="3811680" y="2439720"/>
              <a:ext cx="5029200" cy="411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Text Box 7"/>
          <p:cNvSpPr/>
          <p:nvPr/>
        </p:nvSpPr>
        <p:spPr>
          <a:xfrm>
            <a:off x="593640" y="2779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152280" y="3048120"/>
            <a:ext cx="327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Fibroblas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3-D matrix material of 100% interwoven collagen fib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314" name="Group 13"/>
          <p:cNvGrpSpPr/>
          <p:nvPr/>
        </p:nvGrpSpPr>
        <p:grpSpPr>
          <a:xfrm>
            <a:off x="2971800" y="2895480"/>
            <a:ext cx="2438280" cy="762120"/>
            <a:chOff x="2971800" y="2895480"/>
            <a:chExt cx="2438280" cy="762120"/>
          </a:xfrm>
        </p:grpSpPr>
        <p:sp>
          <p:nvSpPr>
            <p:cNvPr id="315" name="Line 9"/>
            <p:cNvSpPr/>
            <p:nvPr/>
          </p:nvSpPr>
          <p:spPr>
            <a:xfrm flipV="1">
              <a:off x="2971800" y="2895480"/>
              <a:ext cx="1447920" cy="4572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16" name="Line 10"/>
            <p:cNvSpPr/>
            <p:nvPr/>
          </p:nvSpPr>
          <p:spPr>
            <a:xfrm>
              <a:off x="2971800" y="3352680"/>
              <a:ext cx="2438280" cy="3049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17" name="Group 14"/>
          <p:cNvGrpSpPr/>
          <p:nvPr/>
        </p:nvGrpSpPr>
        <p:grpSpPr>
          <a:xfrm>
            <a:off x="3124080" y="4343400"/>
            <a:ext cx="2590920" cy="990720"/>
            <a:chOff x="3124080" y="4343400"/>
            <a:chExt cx="2590920" cy="990720"/>
          </a:xfrm>
        </p:grpSpPr>
        <p:sp>
          <p:nvSpPr>
            <p:cNvPr id="318" name="Line 11"/>
            <p:cNvSpPr/>
            <p:nvPr/>
          </p:nvSpPr>
          <p:spPr>
            <a:xfrm flipV="1">
              <a:off x="3124080" y="4343400"/>
              <a:ext cx="1524240" cy="9144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19" name="Line 12"/>
            <p:cNvSpPr/>
            <p:nvPr/>
          </p:nvSpPr>
          <p:spPr>
            <a:xfrm>
              <a:off x="3124080" y="5257800"/>
              <a:ext cx="2590920" cy="763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its 4 main fun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"/>
          <p:cNvGrpSpPr/>
          <p:nvPr/>
        </p:nvGrpSpPr>
        <p:grpSpPr>
          <a:xfrm>
            <a:off x="3811680" y="2513160"/>
            <a:ext cx="5256000" cy="4268520"/>
            <a:chOff x="3811680" y="2513160"/>
            <a:chExt cx="5256000" cy="4268520"/>
          </a:xfrm>
        </p:grpSpPr>
        <p:sp>
          <p:nvSpPr>
            <p:cNvPr id="322" name="Rectangle 4"/>
            <p:cNvSpPr/>
            <p:nvPr/>
          </p:nvSpPr>
          <p:spPr>
            <a:xfrm>
              <a:off x="3811680" y="2513160"/>
              <a:ext cx="5256000" cy="4268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323" name="Picture 5" descr="dense irregular"/>
            <p:cNvPicPr/>
            <p:nvPr/>
          </p:nvPicPr>
          <p:blipFill>
            <a:blip r:embed="rId1"/>
            <a:stretch/>
          </p:blipFill>
          <p:spPr>
            <a:xfrm>
              <a:off x="4030560" y="2726640"/>
              <a:ext cx="4819320" cy="384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Text Box 7"/>
          <p:cNvSpPr/>
          <p:nvPr/>
        </p:nvSpPr>
        <p:spPr>
          <a:xfrm>
            <a:off x="0" y="3048120"/>
            <a:ext cx="4038480" cy="31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 Rounded MT Bold"/>
              </a:rPr>
              <a:t>Attachment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 Rounded MT Bold"/>
              </a:rPr>
              <a:t>Structural strength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 Rounded MT Bold"/>
              </a:rPr>
              <a:t>Movement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 Rounded MT Bold"/>
              </a:rPr>
              <a:t>Reduction of friction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is this tissu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11680" y="2513160"/>
            <a:ext cx="5256000" cy="4268520"/>
            <a:chOff x="3811680" y="2513160"/>
            <a:chExt cx="5256000" cy="4268520"/>
          </a:xfrm>
        </p:grpSpPr>
        <p:sp>
          <p:nvSpPr>
            <p:cNvPr id="327" name="Rectangle 4"/>
            <p:cNvSpPr/>
            <p:nvPr/>
          </p:nvSpPr>
          <p:spPr>
            <a:xfrm>
              <a:off x="3811680" y="2513160"/>
              <a:ext cx="5256000" cy="4268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328" name="Picture 5" descr="dense irregular"/>
            <p:cNvPicPr/>
            <p:nvPr/>
          </p:nvPicPr>
          <p:blipFill>
            <a:blip r:embed="rId1"/>
            <a:stretch/>
          </p:blipFill>
          <p:spPr>
            <a:xfrm>
              <a:off x="4030560" y="2726640"/>
              <a:ext cx="4819320" cy="384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Text Box 6"/>
          <p:cNvSpPr/>
          <p:nvPr/>
        </p:nvSpPr>
        <p:spPr>
          <a:xfrm>
            <a:off x="152280" y="2666880"/>
            <a:ext cx="3886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Derm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Submucosa of digestive trac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Fibrous capsules of organs and joi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Covering skeletal musc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Nerve and muscle sheath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3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8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kind of tissue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2"/>
          <p:cNvGrpSpPr/>
          <p:nvPr/>
        </p:nvGrpSpPr>
        <p:grpSpPr>
          <a:xfrm>
            <a:off x="3583080" y="2211480"/>
            <a:ext cx="5484600" cy="4570200"/>
            <a:chOff x="3583080" y="2211480"/>
            <a:chExt cx="5484600" cy="4570200"/>
          </a:xfrm>
        </p:grpSpPr>
        <p:sp>
          <p:nvSpPr>
            <p:cNvPr id="332" name="Rectangle 11"/>
            <p:cNvSpPr/>
            <p:nvPr/>
          </p:nvSpPr>
          <p:spPr>
            <a:xfrm>
              <a:off x="3583080" y="2211480"/>
              <a:ext cx="5484600" cy="457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333" name="Picture 10" descr="dense regular 2"/>
            <p:cNvPicPr/>
            <p:nvPr/>
          </p:nvPicPr>
          <p:blipFill>
            <a:blip r:embed="rId1"/>
            <a:stretch/>
          </p:blipFill>
          <p:spPr>
            <a:xfrm>
              <a:off x="3887640" y="2439720"/>
              <a:ext cx="4894560" cy="40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4" name="Text Box 13"/>
          <p:cNvSpPr/>
          <p:nvPr/>
        </p:nvSpPr>
        <p:spPr>
          <a:xfrm>
            <a:off x="362520" y="1676520"/>
            <a:ext cx="63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Dense white fibrous connective tissue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regularly-arrang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2 special fea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3"/>
          <p:cNvGrpSpPr/>
          <p:nvPr/>
        </p:nvGrpSpPr>
        <p:grpSpPr>
          <a:xfrm>
            <a:off x="3583080" y="2211480"/>
            <a:ext cx="5484600" cy="4570200"/>
            <a:chOff x="3583080" y="2211480"/>
            <a:chExt cx="5484600" cy="4570200"/>
          </a:xfrm>
        </p:grpSpPr>
        <p:sp>
          <p:nvSpPr>
            <p:cNvPr id="337" name="Rectangle 4"/>
            <p:cNvSpPr/>
            <p:nvPr/>
          </p:nvSpPr>
          <p:spPr>
            <a:xfrm>
              <a:off x="3583080" y="2211480"/>
              <a:ext cx="5484600" cy="457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338" name="Picture 5" descr="dense regular 2"/>
            <p:cNvPicPr/>
            <p:nvPr/>
          </p:nvPicPr>
          <p:blipFill>
            <a:blip r:embed="rId1"/>
            <a:stretch/>
          </p:blipFill>
          <p:spPr>
            <a:xfrm>
              <a:off x="3887640" y="2439720"/>
              <a:ext cx="4894560" cy="40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Text Box 6"/>
          <p:cNvSpPr/>
          <p:nvPr/>
        </p:nvSpPr>
        <p:spPr>
          <a:xfrm>
            <a:off x="122760" y="2908440"/>
            <a:ext cx="3361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Fibroblasts mak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the collagen fib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3-D matrix of 100%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collagen fib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340" name="Group 12"/>
          <p:cNvGrpSpPr/>
          <p:nvPr/>
        </p:nvGrpSpPr>
        <p:grpSpPr>
          <a:xfrm>
            <a:off x="2895480" y="3124080"/>
            <a:ext cx="4419720" cy="1067040"/>
            <a:chOff x="2895480" y="3124080"/>
            <a:chExt cx="4419720" cy="1067040"/>
          </a:xfrm>
        </p:grpSpPr>
        <p:sp>
          <p:nvSpPr>
            <p:cNvPr id="341" name="Line 7"/>
            <p:cNvSpPr/>
            <p:nvPr/>
          </p:nvSpPr>
          <p:spPr>
            <a:xfrm flipV="1">
              <a:off x="2895480" y="3124080"/>
              <a:ext cx="4419720" cy="763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2" name="Line 9"/>
            <p:cNvSpPr/>
            <p:nvPr/>
          </p:nvSpPr>
          <p:spPr>
            <a:xfrm>
              <a:off x="2895480" y="3200400"/>
              <a:ext cx="3962520" cy="9907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43" name="Group 13"/>
          <p:cNvGrpSpPr/>
          <p:nvPr/>
        </p:nvGrpSpPr>
        <p:grpSpPr>
          <a:xfrm>
            <a:off x="3200400" y="4419720"/>
            <a:ext cx="3276720" cy="1218960"/>
            <a:chOff x="3200400" y="4419720"/>
            <a:chExt cx="3276720" cy="1218960"/>
          </a:xfrm>
        </p:grpSpPr>
        <p:sp>
          <p:nvSpPr>
            <p:cNvPr id="344" name="Line 10"/>
            <p:cNvSpPr/>
            <p:nvPr/>
          </p:nvSpPr>
          <p:spPr>
            <a:xfrm flipV="1">
              <a:off x="3200400" y="4419720"/>
              <a:ext cx="1828800" cy="9144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5" name="Line 11"/>
            <p:cNvSpPr/>
            <p:nvPr/>
          </p:nvSpPr>
          <p:spPr>
            <a:xfrm>
              <a:off x="3200400" y="5334120"/>
              <a:ext cx="3276720" cy="30456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5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its 3 main fun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3811680" y="2513160"/>
            <a:ext cx="5256000" cy="4268520"/>
            <a:chOff x="3811680" y="2513160"/>
            <a:chExt cx="5256000" cy="4268520"/>
          </a:xfrm>
        </p:grpSpPr>
        <p:sp>
          <p:nvSpPr>
            <p:cNvPr id="348" name="Rectangle 4"/>
            <p:cNvSpPr/>
            <p:nvPr/>
          </p:nvSpPr>
          <p:spPr>
            <a:xfrm>
              <a:off x="3811680" y="2513160"/>
              <a:ext cx="5256000" cy="4268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349" name="Picture 5" descr="dense regular 2"/>
            <p:cNvPicPr/>
            <p:nvPr/>
          </p:nvPicPr>
          <p:blipFill>
            <a:blip r:embed="rId1"/>
            <a:stretch/>
          </p:blipFill>
          <p:spPr>
            <a:xfrm>
              <a:off x="4103280" y="2726640"/>
              <a:ext cx="4690440" cy="37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Text Box 6"/>
          <p:cNvSpPr/>
          <p:nvPr/>
        </p:nvSpPr>
        <p:spPr>
          <a:xfrm>
            <a:off x="609480" y="2816280"/>
            <a:ext cx="2895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Attachment of muscle to bone and bone to bon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Friction reduc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Stabilizing relative bone posi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57880" cy="11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three main classifications of connective tissue and their subcatago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nective tissue prop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oose connectiv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ense connectiv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luid connective tissu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loo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ymph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upporting connective tissu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rtilag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o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is this tissu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3"/>
          <p:cNvGrpSpPr/>
          <p:nvPr/>
        </p:nvGrpSpPr>
        <p:grpSpPr>
          <a:xfrm>
            <a:off x="3811680" y="2513160"/>
            <a:ext cx="5256000" cy="4268520"/>
            <a:chOff x="3811680" y="2513160"/>
            <a:chExt cx="5256000" cy="4268520"/>
          </a:xfrm>
        </p:grpSpPr>
        <p:sp>
          <p:nvSpPr>
            <p:cNvPr id="353" name="Rectangle 4"/>
            <p:cNvSpPr/>
            <p:nvPr/>
          </p:nvSpPr>
          <p:spPr>
            <a:xfrm>
              <a:off x="3811680" y="2513160"/>
              <a:ext cx="5256000" cy="4268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354" name="Picture 5" descr="dense regular 2"/>
            <p:cNvPicPr/>
            <p:nvPr/>
          </p:nvPicPr>
          <p:blipFill>
            <a:blip r:embed="rId1"/>
            <a:stretch/>
          </p:blipFill>
          <p:spPr>
            <a:xfrm>
              <a:off x="4103280" y="2726640"/>
              <a:ext cx="4690440" cy="37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Text Box 6"/>
          <p:cNvSpPr/>
          <p:nvPr/>
        </p:nvSpPr>
        <p:spPr>
          <a:xfrm>
            <a:off x="542520" y="2938320"/>
            <a:ext cx="2893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Tend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Most ligam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Aponeuros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Perichondriu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Periosteu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Deep fascia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kind of tissue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8"/>
          <p:cNvGrpSpPr/>
          <p:nvPr/>
        </p:nvGrpSpPr>
        <p:grpSpPr>
          <a:xfrm>
            <a:off x="3583080" y="2211480"/>
            <a:ext cx="5484600" cy="4570200"/>
            <a:chOff x="3583080" y="2211480"/>
            <a:chExt cx="5484600" cy="4570200"/>
          </a:xfrm>
        </p:grpSpPr>
        <p:sp>
          <p:nvSpPr>
            <p:cNvPr id="358" name="Rectangle 7"/>
            <p:cNvSpPr/>
            <p:nvPr/>
          </p:nvSpPr>
          <p:spPr>
            <a:xfrm>
              <a:off x="3583080" y="2211480"/>
              <a:ext cx="5484600" cy="457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359" name="Picture 6" descr="hyaline cartilage"/>
            <p:cNvPicPr/>
            <p:nvPr/>
          </p:nvPicPr>
          <p:blipFill>
            <a:blip r:embed="rId1"/>
            <a:stretch/>
          </p:blipFill>
          <p:spPr>
            <a:xfrm>
              <a:off x="3849480" y="2516040"/>
              <a:ext cx="4914720" cy="396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0" name="Text Box 9"/>
          <p:cNvSpPr/>
          <p:nvPr/>
        </p:nvSpPr>
        <p:spPr>
          <a:xfrm>
            <a:off x="383400" y="220968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Hyaline cartilag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3 special fea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3583080" y="2211480"/>
            <a:ext cx="5484600" cy="4570200"/>
            <a:chOff x="3583080" y="2211480"/>
            <a:chExt cx="5484600" cy="4570200"/>
          </a:xfrm>
        </p:grpSpPr>
        <p:sp>
          <p:nvSpPr>
            <p:cNvPr id="363" name="Rectangle 4"/>
            <p:cNvSpPr/>
            <p:nvPr/>
          </p:nvSpPr>
          <p:spPr>
            <a:xfrm>
              <a:off x="3583080" y="2211480"/>
              <a:ext cx="5484600" cy="457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364" name="Picture 5" descr="hyaline cartilage"/>
            <p:cNvPicPr/>
            <p:nvPr/>
          </p:nvPicPr>
          <p:blipFill>
            <a:blip r:embed="rId1"/>
            <a:stretch/>
          </p:blipFill>
          <p:spPr>
            <a:xfrm>
              <a:off x="3849480" y="2516040"/>
              <a:ext cx="4914720" cy="396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Text Box 6"/>
          <p:cNvSpPr/>
          <p:nvPr/>
        </p:nvSpPr>
        <p:spPr>
          <a:xfrm>
            <a:off x="0" y="2922480"/>
            <a:ext cx="3200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hondrocyt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acun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3-D matrix of cartilage plus a few collagen fib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366" name="Group 15"/>
          <p:cNvGrpSpPr/>
          <p:nvPr/>
        </p:nvGrpSpPr>
        <p:grpSpPr>
          <a:xfrm>
            <a:off x="2971800" y="2590560"/>
            <a:ext cx="3048120" cy="990720"/>
            <a:chOff x="2971800" y="2590560"/>
            <a:chExt cx="3048120" cy="990720"/>
          </a:xfrm>
        </p:grpSpPr>
        <p:sp>
          <p:nvSpPr>
            <p:cNvPr id="367" name="Line 7"/>
            <p:cNvSpPr/>
            <p:nvPr/>
          </p:nvSpPr>
          <p:spPr>
            <a:xfrm flipV="1">
              <a:off x="2971800" y="2590560"/>
              <a:ext cx="2209680" cy="6094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2971800" y="3200400"/>
              <a:ext cx="3048120" cy="3808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69" name="Group 16"/>
          <p:cNvGrpSpPr/>
          <p:nvPr/>
        </p:nvGrpSpPr>
        <p:grpSpPr>
          <a:xfrm>
            <a:off x="2438280" y="3962160"/>
            <a:ext cx="3352680" cy="1143360"/>
            <a:chOff x="2438280" y="3962160"/>
            <a:chExt cx="3352680" cy="1143360"/>
          </a:xfrm>
        </p:grpSpPr>
        <p:sp>
          <p:nvSpPr>
            <p:cNvPr id="370" name="Line 10"/>
            <p:cNvSpPr/>
            <p:nvPr/>
          </p:nvSpPr>
          <p:spPr>
            <a:xfrm flipV="1">
              <a:off x="2438280" y="3962160"/>
              <a:ext cx="2590560" cy="6094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71" name="Line 12"/>
            <p:cNvSpPr/>
            <p:nvPr/>
          </p:nvSpPr>
          <p:spPr>
            <a:xfrm>
              <a:off x="2438280" y="4572000"/>
              <a:ext cx="3352680" cy="5335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72" name="Group 17"/>
          <p:cNvGrpSpPr/>
          <p:nvPr/>
        </p:nvGrpSpPr>
        <p:grpSpPr>
          <a:xfrm>
            <a:off x="2895480" y="5105160"/>
            <a:ext cx="3352680" cy="1067040"/>
            <a:chOff x="2895480" y="5105160"/>
            <a:chExt cx="3352680" cy="1067040"/>
          </a:xfrm>
        </p:grpSpPr>
        <p:sp>
          <p:nvSpPr>
            <p:cNvPr id="373" name="Line 13"/>
            <p:cNvSpPr/>
            <p:nvPr/>
          </p:nvSpPr>
          <p:spPr>
            <a:xfrm flipV="1">
              <a:off x="2895480" y="5105160"/>
              <a:ext cx="1752480" cy="6858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74" name="Line 14"/>
            <p:cNvSpPr/>
            <p:nvPr/>
          </p:nvSpPr>
          <p:spPr>
            <a:xfrm>
              <a:off x="2895480" y="5791320"/>
              <a:ext cx="3352680" cy="3808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its 2 main fun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3811680" y="2513160"/>
            <a:ext cx="5256000" cy="4268520"/>
            <a:chOff x="3811680" y="2513160"/>
            <a:chExt cx="5256000" cy="4268520"/>
          </a:xfrm>
        </p:grpSpPr>
        <p:sp>
          <p:nvSpPr>
            <p:cNvPr id="377" name="Rectangle 4"/>
            <p:cNvSpPr/>
            <p:nvPr/>
          </p:nvSpPr>
          <p:spPr>
            <a:xfrm>
              <a:off x="3811680" y="2513160"/>
              <a:ext cx="5256000" cy="4268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378" name="Picture 5" descr="hyaline cartilage"/>
            <p:cNvPicPr/>
            <p:nvPr/>
          </p:nvPicPr>
          <p:blipFill>
            <a:blip r:embed="rId1"/>
            <a:stretch/>
          </p:blipFill>
          <p:spPr>
            <a:xfrm>
              <a:off x="4067280" y="2797560"/>
              <a:ext cx="4709880" cy="370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Text Box 6"/>
          <p:cNvSpPr/>
          <p:nvPr/>
        </p:nvSpPr>
        <p:spPr>
          <a:xfrm>
            <a:off x="394200" y="2895480"/>
            <a:ext cx="2988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Suppor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Reinforce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7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is this tissu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3"/>
          <p:cNvGrpSpPr/>
          <p:nvPr/>
        </p:nvGrpSpPr>
        <p:grpSpPr>
          <a:xfrm>
            <a:off x="3811680" y="2513160"/>
            <a:ext cx="5256000" cy="4268520"/>
            <a:chOff x="3811680" y="2513160"/>
            <a:chExt cx="5256000" cy="4268520"/>
          </a:xfrm>
        </p:grpSpPr>
        <p:sp>
          <p:nvSpPr>
            <p:cNvPr id="382" name="Rectangle 4"/>
            <p:cNvSpPr/>
            <p:nvPr/>
          </p:nvSpPr>
          <p:spPr>
            <a:xfrm>
              <a:off x="3811680" y="2513160"/>
              <a:ext cx="5256000" cy="4268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383" name="Picture 5" descr="hyaline cartilage"/>
            <p:cNvPicPr/>
            <p:nvPr/>
          </p:nvPicPr>
          <p:blipFill>
            <a:blip r:embed="rId1"/>
            <a:stretch/>
          </p:blipFill>
          <p:spPr>
            <a:xfrm>
              <a:off x="4067280" y="2797560"/>
              <a:ext cx="4709880" cy="370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Text Box 6"/>
          <p:cNvSpPr/>
          <p:nvPr/>
        </p:nvSpPr>
        <p:spPr>
          <a:xfrm>
            <a:off x="115560" y="1752480"/>
            <a:ext cx="362952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Embryonic skelet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End of long bon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(articular cartilages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Costal cartilag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Cartilage of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     </a:t>
            </a: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~Nos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     </a:t>
            </a: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~Trache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     </a:t>
            </a: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~Larynx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4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9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4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9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4" dur="5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9" dur="5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4" dur="5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9" dur="500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kind of tissue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8"/>
          <p:cNvGrpSpPr/>
          <p:nvPr/>
        </p:nvGrpSpPr>
        <p:grpSpPr>
          <a:xfrm>
            <a:off x="3583080" y="2211480"/>
            <a:ext cx="5484600" cy="4570200"/>
            <a:chOff x="3583080" y="2211480"/>
            <a:chExt cx="5484600" cy="4570200"/>
          </a:xfrm>
        </p:grpSpPr>
        <p:sp>
          <p:nvSpPr>
            <p:cNvPr id="387" name="Rectangle 7"/>
            <p:cNvSpPr/>
            <p:nvPr/>
          </p:nvSpPr>
          <p:spPr>
            <a:xfrm>
              <a:off x="3583080" y="2211480"/>
              <a:ext cx="5484600" cy="457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388" name="Picture 6" descr="elastic cartilage"/>
            <p:cNvPicPr/>
            <p:nvPr/>
          </p:nvPicPr>
          <p:blipFill>
            <a:blip r:embed="rId1"/>
            <a:stretch/>
          </p:blipFill>
          <p:spPr>
            <a:xfrm>
              <a:off x="3832200" y="2439720"/>
              <a:ext cx="5008680" cy="411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Text Box 9"/>
          <p:cNvSpPr/>
          <p:nvPr/>
        </p:nvSpPr>
        <p:spPr>
          <a:xfrm>
            <a:off x="382320" y="2209680"/>
            <a:ext cx="26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Elastic cartilag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3"/>
          <p:cNvGrpSpPr/>
          <p:nvPr/>
        </p:nvGrpSpPr>
        <p:grpSpPr>
          <a:xfrm>
            <a:off x="3583080" y="2211480"/>
            <a:ext cx="5484600" cy="4570200"/>
            <a:chOff x="3583080" y="2211480"/>
            <a:chExt cx="5484600" cy="4570200"/>
          </a:xfrm>
        </p:grpSpPr>
        <p:sp>
          <p:nvSpPr>
            <p:cNvPr id="391" name="Rectangle 4"/>
            <p:cNvSpPr/>
            <p:nvPr/>
          </p:nvSpPr>
          <p:spPr>
            <a:xfrm>
              <a:off x="3583080" y="2211480"/>
              <a:ext cx="5484600" cy="457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392" name="Picture 5" descr="elastic cartilage"/>
            <p:cNvPicPr/>
            <p:nvPr/>
          </p:nvPicPr>
          <p:blipFill>
            <a:blip r:embed="rId1"/>
            <a:stretch/>
          </p:blipFill>
          <p:spPr>
            <a:xfrm>
              <a:off x="3832200" y="2439720"/>
              <a:ext cx="5008680" cy="411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3 special fea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495000" y="2266920"/>
            <a:ext cx="2564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Chondrocy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Lacun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3D matrix of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Cartilage plus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elastic fib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395" name="Group 20"/>
          <p:cNvGrpSpPr/>
          <p:nvPr/>
        </p:nvGrpSpPr>
        <p:grpSpPr>
          <a:xfrm>
            <a:off x="2514600" y="3276360"/>
            <a:ext cx="3809880" cy="990720"/>
            <a:chOff x="2514600" y="3276360"/>
            <a:chExt cx="3809880" cy="990720"/>
          </a:xfrm>
        </p:grpSpPr>
        <p:sp>
          <p:nvSpPr>
            <p:cNvPr id="396" name="Line 10"/>
            <p:cNvSpPr/>
            <p:nvPr/>
          </p:nvSpPr>
          <p:spPr>
            <a:xfrm flipV="1">
              <a:off x="2514600" y="3276360"/>
              <a:ext cx="3809880" cy="6094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97" name="Line 11"/>
            <p:cNvSpPr/>
            <p:nvPr/>
          </p:nvSpPr>
          <p:spPr>
            <a:xfrm>
              <a:off x="2514600" y="3886200"/>
              <a:ext cx="3809880" cy="3808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98" name="Group 21"/>
          <p:cNvGrpSpPr/>
          <p:nvPr/>
        </p:nvGrpSpPr>
        <p:grpSpPr>
          <a:xfrm>
            <a:off x="3048120" y="4495680"/>
            <a:ext cx="3276360" cy="609840"/>
            <a:chOff x="3048120" y="4495680"/>
            <a:chExt cx="3276360" cy="609840"/>
          </a:xfrm>
        </p:grpSpPr>
        <p:sp>
          <p:nvSpPr>
            <p:cNvPr id="399" name="Line 12"/>
            <p:cNvSpPr/>
            <p:nvPr/>
          </p:nvSpPr>
          <p:spPr>
            <a:xfrm flipV="1">
              <a:off x="3048120" y="4495680"/>
              <a:ext cx="2514600" cy="60984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00" name="Line 13"/>
            <p:cNvSpPr/>
            <p:nvPr/>
          </p:nvSpPr>
          <p:spPr>
            <a:xfrm flipV="1">
              <a:off x="3048120" y="4952880"/>
              <a:ext cx="3276360" cy="15264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401" name="Group 19"/>
          <p:cNvGrpSpPr/>
          <p:nvPr/>
        </p:nvGrpSpPr>
        <p:grpSpPr>
          <a:xfrm>
            <a:off x="2971800" y="2514600"/>
            <a:ext cx="3429000" cy="685800"/>
            <a:chOff x="2971800" y="2514600"/>
            <a:chExt cx="3429000" cy="685800"/>
          </a:xfrm>
        </p:grpSpPr>
        <p:sp>
          <p:nvSpPr>
            <p:cNvPr id="402" name="Line 17"/>
            <p:cNvSpPr/>
            <p:nvPr/>
          </p:nvSpPr>
          <p:spPr>
            <a:xfrm>
              <a:off x="2971800" y="2514600"/>
              <a:ext cx="3429000" cy="3808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03" name="Line 18"/>
            <p:cNvSpPr/>
            <p:nvPr/>
          </p:nvSpPr>
          <p:spPr>
            <a:xfrm>
              <a:off x="2971800" y="2514600"/>
              <a:ext cx="3124080" cy="6858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0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9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4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3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8" dur="5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its 2 main fun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3"/>
          <p:cNvGrpSpPr/>
          <p:nvPr/>
        </p:nvGrpSpPr>
        <p:grpSpPr>
          <a:xfrm>
            <a:off x="3811680" y="2513160"/>
            <a:ext cx="5256000" cy="4268520"/>
            <a:chOff x="3811680" y="2513160"/>
            <a:chExt cx="5256000" cy="4268520"/>
          </a:xfrm>
        </p:grpSpPr>
        <p:sp>
          <p:nvSpPr>
            <p:cNvPr id="406" name="Rectangle 4"/>
            <p:cNvSpPr/>
            <p:nvPr/>
          </p:nvSpPr>
          <p:spPr>
            <a:xfrm>
              <a:off x="3811680" y="2513160"/>
              <a:ext cx="5256000" cy="4268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407" name="Picture 5" descr="elastic cartilage"/>
            <p:cNvPicPr/>
            <p:nvPr/>
          </p:nvPicPr>
          <p:blipFill>
            <a:blip r:embed="rId1"/>
            <a:stretch/>
          </p:blipFill>
          <p:spPr>
            <a:xfrm>
              <a:off x="4050360" y="2726640"/>
              <a:ext cx="4799880" cy="384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Text Box 6"/>
          <p:cNvSpPr/>
          <p:nvPr/>
        </p:nvSpPr>
        <p:spPr>
          <a:xfrm>
            <a:off x="152280" y="3200400"/>
            <a:ext cx="342900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Maintains shape and structur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Allows flexibilit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is this tissu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3"/>
          <p:cNvGrpSpPr/>
          <p:nvPr/>
        </p:nvGrpSpPr>
        <p:grpSpPr>
          <a:xfrm>
            <a:off x="3811680" y="2513160"/>
            <a:ext cx="5256000" cy="4268520"/>
            <a:chOff x="3811680" y="2513160"/>
            <a:chExt cx="5256000" cy="4268520"/>
          </a:xfrm>
        </p:grpSpPr>
        <p:sp>
          <p:nvSpPr>
            <p:cNvPr id="411" name="Rectangle 4"/>
            <p:cNvSpPr/>
            <p:nvPr/>
          </p:nvSpPr>
          <p:spPr>
            <a:xfrm>
              <a:off x="3811680" y="2513160"/>
              <a:ext cx="5256000" cy="4268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412" name="Picture 5" descr="elastic cartilage"/>
            <p:cNvPicPr/>
            <p:nvPr/>
          </p:nvPicPr>
          <p:blipFill>
            <a:blip r:embed="rId1"/>
            <a:stretch/>
          </p:blipFill>
          <p:spPr>
            <a:xfrm>
              <a:off x="4050360" y="2726640"/>
              <a:ext cx="4799880" cy="384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Text Box 6"/>
          <p:cNvSpPr/>
          <p:nvPr/>
        </p:nvSpPr>
        <p:spPr>
          <a:xfrm>
            <a:off x="509400" y="3048120"/>
            <a:ext cx="27151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External ea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Epiglott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Auditory can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kind of tissue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8"/>
          <p:cNvGrpSpPr/>
          <p:nvPr/>
        </p:nvGrpSpPr>
        <p:grpSpPr>
          <a:xfrm>
            <a:off x="3583080" y="2211480"/>
            <a:ext cx="5484600" cy="4570200"/>
            <a:chOff x="3583080" y="2211480"/>
            <a:chExt cx="5484600" cy="4570200"/>
          </a:xfrm>
        </p:grpSpPr>
        <p:sp>
          <p:nvSpPr>
            <p:cNvPr id="416" name="Rectangle 7"/>
            <p:cNvSpPr/>
            <p:nvPr/>
          </p:nvSpPr>
          <p:spPr>
            <a:xfrm>
              <a:off x="3583080" y="2211480"/>
              <a:ext cx="5484600" cy="457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417" name="Picture 6" descr="fibrocartilage"/>
            <p:cNvPicPr/>
            <p:nvPr/>
          </p:nvPicPr>
          <p:blipFill>
            <a:blip r:embed="rId1"/>
            <a:stretch/>
          </p:blipFill>
          <p:spPr>
            <a:xfrm>
              <a:off x="3887640" y="2516040"/>
              <a:ext cx="4876560" cy="38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Text Box 9"/>
          <p:cNvSpPr/>
          <p:nvPr/>
        </p:nvSpPr>
        <p:spPr>
          <a:xfrm>
            <a:off x="612360" y="220968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Fibrocartilag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1"/>
          <p:cNvSpPr/>
          <p:nvPr/>
        </p:nvSpPr>
        <p:spPr>
          <a:xfrm>
            <a:off x="390600" y="202572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onnective tissue prope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352680" y="20257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Fluid connective tissu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6288120" y="2025720"/>
            <a:ext cx="27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upporting connective tissu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508560" y="160020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nective Tissu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1" name="Group 17"/>
          <p:cNvGrpSpPr/>
          <p:nvPr/>
        </p:nvGrpSpPr>
        <p:grpSpPr>
          <a:xfrm>
            <a:off x="1600200" y="1752480"/>
            <a:ext cx="6095880" cy="381240"/>
            <a:chOff x="1600200" y="1752480"/>
            <a:chExt cx="6095880" cy="381240"/>
          </a:xfrm>
        </p:grpSpPr>
        <p:sp>
          <p:nvSpPr>
            <p:cNvPr id="102" name="Line 9"/>
            <p:cNvSpPr/>
            <p:nvPr/>
          </p:nvSpPr>
          <p:spPr>
            <a:xfrm>
              <a:off x="4495680" y="1905120"/>
              <a:ext cx="0" cy="2286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03" name="Group 16"/>
            <p:cNvGrpSpPr/>
            <p:nvPr/>
          </p:nvGrpSpPr>
          <p:grpSpPr>
            <a:xfrm>
              <a:off x="1600200" y="1752480"/>
              <a:ext cx="6095880" cy="304920"/>
              <a:chOff x="1600200" y="1752480"/>
              <a:chExt cx="6095880" cy="304920"/>
            </a:xfrm>
          </p:grpSpPr>
          <p:sp>
            <p:nvSpPr>
              <p:cNvPr id="104" name="Line 7"/>
              <p:cNvSpPr/>
              <p:nvPr/>
            </p:nvSpPr>
            <p:spPr>
              <a:xfrm>
                <a:off x="1600200" y="1752480"/>
                <a:ext cx="0" cy="30492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5" name="Line 8"/>
              <p:cNvSpPr/>
              <p:nvPr/>
            </p:nvSpPr>
            <p:spPr>
              <a:xfrm>
                <a:off x="7696080" y="1752480"/>
                <a:ext cx="0" cy="30492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6" name="Line 14"/>
              <p:cNvSpPr/>
              <p:nvPr/>
            </p:nvSpPr>
            <p:spPr>
              <a:xfrm flipH="1">
                <a:off x="1600200" y="1752480"/>
                <a:ext cx="1905120" cy="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7" name="Line 15"/>
              <p:cNvSpPr/>
              <p:nvPr/>
            </p:nvSpPr>
            <p:spPr>
              <a:xfrm>
                <a:off x="5562720" y="1752480"/>
                <a:ext cx="2133360" cy="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 Box 52"/>
          <p:cNvSpPr/>
          <p:nvPr/>
        </p:nvSpPr>
        <p:spPr>
          <a:xfrm>
            <a:off x="1066680" y="5335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hat are the three main categories of connective tissues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3"/>
          <p:cNvGrpSpPr/>
          <p:nvPr/>
        </p:nvGrpSpPr>
        <p:grpSpPr>
          <a:xfrm>
            <a:off x="3581280" y="2209680"/>
            <a:ext cx="5484960" cy="4570560"/>
            <a:chOff x="3581280" y="2209680"/>
            <a:chExt cx="5484960" cy="4570560"/>
          </a:xfrm>
        </p:grpSpPr>
        <p:sp>
          <p:nvSpPr>
            <p:cNvPr id="420" name="Rectangle 4"/>
            <p:cNvSpPr/>
            <p:nvPr/>
          </p:nvSpPr>
          <p:spPr>
            <a:xfrm>
              <a:off x="3581280" y="2209680"/>
              <a:ext cx="5484960" cy="45705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421" name="Picture 5" descr="fibrocartilage"/>
            <p:cNvPicPr/>
            <p:nvPr/>
          </p:nvPicPr>
          <p:blipFill>
            <a:blip r:embed="rId1"/>
            <a:stretch/>
          </p:blipFill>
          <p:spPr>
            <a:xfrm>
              <a:off x="3886200" y="2514600"/>
              <a:ext cx="4876920" cy="388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4 special fea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05200" y="2209680"/>
            <a:ext cx="3209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Chondrocytes in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lacuna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3-D matrix of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cartilage plus lots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of collagen fib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424" name="Group 20"/>
          <p:cNvGrpSpPr/>
          <p:nvPr/>
        </p:nvGrpSpPr>
        <p:grpSpPr>
          <a:xfrm>
            <a:off x="3124080" y="3505320"/>
            <a:ext cx="2057400" cy="304560"/>
            <a:chOff x="3124080" y="3505320"/>
            <a:chExt cx="2057400" cy="304560"/>
          </a:xfrm>
        </p:grpSpPr>
        <p:sp>
          <p:nvSpPr>
            <p:cNvPr id="425" name="Line 13"/>
            <p:cNvSpPr/>
            <p:nvPr/>
          </p:nvSpPr>
          <p:spPr>
            <a:xfrm flipV="1">
              <a:off x="3124080" y="3505320"/>
              <a:ext cx="1752840" cy="30456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26" name="Line 14"/>
            <p:cNvSpPr/>
            <p:nvPr/>
          </p:nvSpPr>
          <p:spPr>
            <a:xfrm flipV="1">
              <a:off x="3124080" y="3580920"/>
              <a:ext cx="2057400" cy="2286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427" name="Group 21"/>
          <p:cNvGrpSpPr/>
          <p:nvPr/>
        </p:nvGrpSpPr>
        <p:grpSpPr>
          <a:xfrm>
            <a:off x="3200400" y="4343040"/>
            <a:ext cx="1828800" cy="1448280"/>
            <a:chOff x="3200400" y="4343040"/>
            <a:chExt cx="1828800" cy="1448280"/>
          </a:xfrm>
        </p:grpSpPr>
        <p:sp>
          <p:nvSpPr>
            <p:cNvPr id="428" name="Line 15"/>
            <p:cNvSpPr/>
            <p:nvPr/>
          </p:nvSpPr>
          <p:spPr>
            <a:xfrm flipV="1">
              <a:off x="3200400" y="4343040"/>
              <a:ext cx="1447920" cy="6858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29" name="Line 16"/>
            <p:cNvSpPr/>
            <p:nvPr/>
          </p:nvSpPr>
          <p:spPr>
            <a:xfrm>
              <a:off x="3200400" y="5029200"/>
              <a:ext cx="1828800" cy="7621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45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45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45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450" fill="hold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45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its 2 main fun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3"/>
          <p:cNvGrpSpPr/>
          <p:nvPr/>
        </p:nvGrpSpPr>
        <p:grpSpPr>
          <a:xfrm>
            <a:off x="3811680" y="2513160"/>
            <a:ext cx="5256000" cy="4268520"/>
            <a:chOff x="3811680" y="2513160"/>
            <a:chExt cx="5256000" cy="4268520"/>
          </a:xfrm>
        </p:grpSpPr>
        <p:sp>
          <p:nvSpPr>
            <p:cNvPr id="432" name="Rectangle 4"/>
            <p:cNvSpPr/>
            <p:nvPr/>
          </p:nvSpPr>
          <p:spPr>
            <a:xfrm>
              <a:off x="3811680" y="2513160"/>
              <a:ext cx="5256000" cy="4268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433" name="Picture 5" descr="fibrocartilage"/>
            <p:cNvPicPr/>
            <p:nvPr/>
          </p:nvPicPr>
          <p:blipFill>
            <a:blip r:embed="rId1"/>
            <a:stretch/>
          </p:blipFill>
          <p:spPr>
            <a:xfrm>
              <a:off x="4103640" y="2797920"/>
              <a:ext cx="4673160" cy="362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4" name="Text Box 6"/>
          <p:cNvSpPr/>
          <p:nvPr/>
        </p:nvSpPr>
        <p:spPr>
          <a:xfrm>
            <a:off x="457200" y="2801880"/>
            <a:ext cx="31240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Strengt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Absorption of compressive shock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is this tissu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"/>
          <p:cNvGrpSpPr/>
          <p:nvPr/>
        </p:nvGrpSpPr>
        <p:grpSpPr>
          <a:xfrm>
            <a:off x="3811680" y="2513160"/>
            <a:ext cx="5256000" cy="4268520"/>
            <a:chOff x="3811680" y="2513160"/>
            <a:chExt cx="5256000" cy="4268520"/>
          </a:xfrm>
        </p:grpSpPr>
        <p:sp>
          <p:nvSpPr>
            <p:cNvPr id="437" name="Rectangle 4"/>
            <p:cNvSpPr/>
            <p:nvPr/>
          </p:nvSpPr>
          <p:spPr>
            <a:xfrm>
              <a:off x="3811680" y="2513160"/>
              <a:ext cx="5256000" cy="4268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438" name="Picture 5" descr="fibrocartilage"/>
            <p:cNvPicPr/>
            <p:nvPr/>
          </p:nvPicPr>
          <p:blipFill>
            <a:blip r:embed="rId1"/>
            <a:stretch/>
          </p:blipFill>
          <p:spPr>
            <a:xfrm>
              <a:off x="4103640" y="2797920"/>
              <a:ext cx="4673160" cy="362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Text Box 6"/>
          <p:cNvSpPr/>
          <p:nvPr/>
        </p:nvSpPr>
        <p:spPr>
          <a:xfrm>
            <a:off x="102240" y="2971800"/>
            <a:ext cx="355176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Pubis symphys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Intervertebral disc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kind of tissue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8"/>
          <p:cNvGrpSpPr/>
          <p:nvPr/>
        </p:nvGrpSpPr>
        <p:grpSpPr>
          <a:xfrm>
            <a:off x="3583080" y="2211480"/>
            <a:ext cx="5484600" cy="4570200"/>
            <a:chOff x="3583080" y="2211480"/>
            <a:chExt cx="5484600" cy="4570200"/>
          </a:xfrm>
        </p:grpSpPr>
        <p:sp>
          <p:nvSpPr>
            <p:cNvPr id="442" name="Rectangle 7"/>
            <p:cNvSpPr/>
            <p:nvPr/>
          </p:nvSpPr>
          <p:spPr>
            <a:xfrm>
              <a:off x="3583080" y="2211480"/>
              <a:ext cx="5484600" cy="457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443" name="Picture 6" descr="Bone"/>
            <p:cNvPicPr/>
            <p:nvPr/>
          </p:nvPicPr>
          <p:blipFill>
            <a:blip r:embed="rId1"/>
            <a:stretch/>
          </p:blipFill>
          <p:spPr>
            <a:xfrm>
              <a:off x="3887640" y="2516040"/>
              <a:ext cx="4876200" cy="396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Text Box 9"/>
          <p:cNvSpPr/>
          <p:nvPr/>
        </p:nvSpPr>
        <p:spPr>
          <a:xfrm>
            <a:off x="332280" y="1676520"/>
            <a:ext cx="51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Compact bone (osseous tissue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5 special fea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3"/>
          <p:cNvGrpSpPr/>
          <p:nvPr/>
        </p:nvGrpSpPr>
        <p:grpSpPr>
          <a:xfrm>
            <a:off x="3583080" y="2211480"/>
            <a:ext cx="5484600" cy="4570200"/>
            <a:chOff x="3583080" y="2211480"/>
            <a:chExt cx="5484600" cy="4570200"/>
          </a:xfrm>
        </p:grpSpPr>
        <p:sp>
          <p:nvSpPr>
            <p:cNvPr id="447" name="Rectangle 4"/>
            <p:cNvSpPr/>
            <p:nvPr/>
          </p:nvSpPr>
          <p:spPr>
            <a:xfrm>
              <a:off x="3583080" y="2211480"/>
              <a:ext cx="5484600" cy="457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448" name="Picture 5" descr="Bone"/>
            <p:cNvPicPr/>
            <p:nvPr/>
          </p:nvPicPr>
          <p:blipFill>
            <a:blip r:embed="rId1"/>
            <a:stretch/>
          </p:blipFill>
          <p:spPr>
            <a:xfrm>
              <a:off x="3887640" y="2516040"/>
              <a:ext cx="4876200" cy="396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9" name="Text Box 6"/>
          <p:cNvSpPr/>
          <p:nvPr/>
        </p:nvSpPr>
        <p:spPr>
          <a:xfrm>
            <a:off x="200160" y="2514600"/>
            <a:ext cx="3120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 Rounded MT Bold"/>
              </a:rPr>
              <a:t>Carbon skeletons of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 Rounded MT Bold"/>
              </a:rPr>
              <a:t>osteocyt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 Rounded MT Bold"/>
              </a:rPr>
              <a:t>Lacuna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 Rounded MT Bold"/>
              </a:rPr>
              <a:t>Lamellae (layer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 Rounded MT Bold"/>
              </a:rPr>
              <a:t>Haversian can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 Rounded MT Bold"/>
              </a:rPr>
              <a:t>Canalicul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450" name="Group 16"/>
          <p:cNvGrpSpPr/>
          <p:nvPr/>
        </p:nvGrpSpPr>
        <p:grpSpPr>
          <a:xfrm>
            <a:off x="2743200" y="2743200"/>
            <a:ext cx="3657600" cy="228600"/>
            <a:chOff x="2743200" y="2743200"/>
            <a:chExt cx="3657600" cy="228600"/>
          </a:xfrm>
        </p:grpSpPr>
        <p:sp>
          <p:nvSpPr>
            <p:cNvPr id="451" name="Line 7"/>
            <p:cNvSpPr/>
            <p:nvPr/>
          </p:nvSpPr>
          <p:spPr>
            <a:xfrm>
              <a:off x="2743200" y="2743200"/>
              <a:ext cx="3124080" cy="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2743200" y="2743200"/>
              <a:ext cx="3657600" cy="2286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453" name="Group 17"/>
          <p:cNvGrpSpPr/>
          <p:nvPr/>
        </p:nvGrpSpPr>
        <p:grpSpPr>
          <a:xfrm>
            <a:off x="2438280" y="3352680"/>
            <a:ext cx="3200400" cy="457200"/>
            <a:chOff x="2438280" y="3352680"/>
            <a:chExt cx="3200400" cy="457200"/>
          </a:xfrm>
        </p:grpSpPr>
        <p:sp>
          <p:nvSpPr>
            <p:cNvPr id="454" name="Line 9"/>
            <p:cNvSpPr/>
            <p:nvPr/>
          </p:nvSpPr>
          <p:spPr>
            <a:xfrm flipV="1">
              <a:off x="2438280" y="3352680"/>
              <a:ext cx="3200400" cy="4572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55" name="Line 10"/>
            <p:cNvSpPr/>
            <p:nvPr/>
          </p:nvSpPr>
          <p:spPr>
            <a:xfrm>
              <a:off x="2438280" y="3809880"/>
              <a:ext cx="3048120" cy="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456" name="Line 12"/>
          <p:cNvSpPr/>
          <p:nvPr/>
        </p:nvSpPr>
        <p:spPr>
          <a:xfrm flipV="1">
            <a:off x="3048120" y="4571640"/>
            <a:ext cx="2743200" cy="304920"/>
          </a:xfrm>
          <a:prstGeom prst="line">
            <a:avLst/>
          </a:prstGeom>
          <a:ln w="38160">
            <a:solidFill>
              <a:srgbClr val="cc99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457" name="Group 18"/>
          <p:cNvGrpSpPr/>
          <p:nvPr/>
        </p:nvGrpSpPr>
        <p:grpSpPr>
          <a:xfrm>
            <a:off x="2590920" y="4800240"/>
            <a:ext cx="4800600" cy="1219320"/>
            <a:chOff x="2590920" y="4800240"/>
            <a:chExt cx="4800600" cy="1219320"/>
          </a:xfrm>
        </p:grpSpPr>
        <p:sp>
          <p:nvSpPr>
            <p:cNvPr id="458" name="Line 13"/>
            <p:cNvSpPr/>
            <p:nvPr/>
          </p:nvSpPr>
          <p:spPr>
            <a:xfrm flipV="1">
              <a:off x="2590920" y="4800240"/>
              <a:ext cx="2666880" cy="12193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59" name="Line 15"/>
            <p:cNvSpPr/>
            <p:nvPr/>
          </p:nvSpPr>
          <p:spPr>
            <a:xfrm flipV="1">
              <a:off x="2590920" y="5257440"/>
              <a:ext cx="4800600" cy="7621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460" name="Line 19"/>
          <p:cNvSpPr/>
          <p:nvPr/>
        </p:nvSpPr>
        <p:spPr>
          <a:xfrm flipV="1">
            <a:off x="3048120" y="4266720"/>
            <a:ext cx="2743200" cy="304920"/>
          </a:xfrm>
          <a:prstGeom prst="line">
            <a:avLst/>
          </a:prstGeom>
          <a:ln w="38160">
            <a:solidFill>
              <a:srgbClr val="cc99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its 4 main fun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3811680" y="2513160"/>
            <a:ext cx="5256000" cy="4268520"/>
            <a:chOff x="3811680" y="2513160"/>
            <a:chExt cx="5256000" cy="4268520"/>
          </a:xfrm>
        </p:grpSpPr>
        <p:sp>
          <p:nvSpPr>
            <p:cNvPr id="463" name="Rectangle 4"/>
            <p:cNvSpPr/>
            <p:nvPr/>
          </p:nvSpPr>
          <p:spPr>
            <a:xfrm>
              <a:off x="3811680" y="2513160"/>
              <a:ext cx="5256000" cy="4268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464" name="Picture 5" descr="Bone"/>
            <p:cNvPicPr/>
            <p:nvPr/>
          </p:nvPicPr>
          <p:blipFill>
            <a:blip r:embed="rId1"/>
            <a:stretch/>
          </p:blipFill>
          <p:spPr>
            <a:xfrm>
              <a:off x="4103640" y="2797920"/>
              <a:ext cx="4672800" cy="37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Text Box 6"/>
          <p:cNvSpPr/>
          <p:nvPr/>
        </p:nvSpPr>
        <p:spPr>
          <a:xfrm>
            <a:off x="217440" y="2209680"/>
            <a:ext cx="3652920" cy="45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Suppor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Protec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Storage of Ca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 Rounded MT Bold"/>
              </a:rPr>
              <a:t>+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Hematopoies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(done by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cancellous bon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only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4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4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4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4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4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4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4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is this tissu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3"/>
          <p:cNvGrpSpPr/>
          <p:nvPr/>
        </p:nvGrpSpPr>
        <p:grpSpPr>
          <a:xfrm>
            <a:off x="3811680" y="2513160"/>
            <a:ext cx="5256000" cy="4268520"/>
            <a:chOff x="3811680" y="2513160"/>
            <a:chExt cx="5256000" cy="4268520"/>
          </a:xfrm>
        </p:grpSpPr>
        <p:sp>
          <p:nvSpPr>
            <p:cNvPr id="468" name="Rectangle 4"/>
            <p:cNvSpPr/>
            <p:nvPr/>
          </p:nvSpPr>
          <p:spPr>
            <a:xfrm>
              <a:off x="3811680" y="2513160"/>
              <a:ext cx="5256000" cy="4268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469" name="Picture 5" descr="Bone"/>
            <p:cNvPicPr/>
            <p:nvPr/>
          </p:nvPicPr>
          <p:blipFill>
            <a:blip r:embed="rId1"/>
            <a:stretch/>
          </p:blipFill>
          <p:spPr>
            <a:xfrm>
              <a:off x="4103640" y="2797920"/>
              <a:ext cx="4672800" cy="37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0" name="Text Box 6"/>
          <p:cNvSpPr/>
          <p:nvPr/>
        </p:nvSpPr>
        <p:spPr>
          <a:xfrm>
            <a:off x="1194840" y="260496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Bon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583080" y="2211480"/>
            <a:ext cx="5484600" cy="4570200"/>
          </a:xfrm>
          <a:prstGeom prst="rect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kind of tissue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0" descr=""/>
          <p:cNvPicPr/>
          <p:nvPr/>
        </p:nvPicPr>
        <p:blipFill>
          <a:blip r:embed="rId1"/>
          <a:stretch/>
        </p:blipFill>
        <p:spPr>
          <a:xfrm>
            <a:off x="3886200" y="2514600"/>
            <a:ext cx="4876920" cy="396252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11"/>
          <p:cNvSpPr/>
          <p:nvPr/>
        </p:nvSpPr>
        <p:spPr>
          <a:xfrm>
            <a:off x="1116720" y="230040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Bloo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/>
          <p:cNvSpPr/>
          <p:nvPr/>
        </p:nvSpPr>
        <p:spPr>
          <a:xfrm>
            <a:off x="3583080" y="2211480"/>
            <a:ext cx="5484600" cy="4570200"/>
          </a:xfrm>
          <a:prstGeom prst="rect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3 special fea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3886200" y="2514600"/>
            <a:ext cx="4876920" cy="396252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5"/>
          <p:cNvSpPr/>
          <p:nvPr/>
        </p:nvSpPr>
        <p:spPr>
          <a:xfrm>
            <a:off x="120960" y="2666880"/>
            <a:ext cx="3405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Erythrocyt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(red blood cells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Leukocyt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(white blood cells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3-D matrix is liquid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blood plasm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479" name="Group 12"/>
          <p:cNvGrpSpPr/>
          <p:nvPr/>
        </p:nvGrpSpPr>
        <p:grpSpPr>
          <a:xfrm>
            <a:off x="3048120" y="2895480"/>
            <a:ext cx="2590560" cy="914400"/>
            <a:chOff x="3048120" y="2895480"/>
            <a:chExt cx="2590560" cy="914400"/>
          </a:xfrm>
        </p:grpSpPr>
        <p:sp>
          <p:nvSpPr>
            <p:cNvPr id="480" name="Line 6"/>
            <p:cNvSpPr/>
            <p:nvPr/>
          </p:nvSpPr>
          <p:spPr>
            <a:xfrm flipV="1">
              <a:off x="3048120" y="2895480"/>
              <a:ext cx="2286000" cy="763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1" name="Line 7"/>
            <p:cNvSpPr/>
            <p:nvPr/>
          </p:nvSpPr>
          <p:spPr>
            <a:xfrm>
              <a:off x="3048120" y="2971800"/>
              <a:ext cx="2590560" cy="8380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482" name="Group 13"/>
          <p:cNvGrpSpPr/>
          <p:nvPr/>
        </p:nvGrpSpPr>
        <p:grpSpPr>
          <a:xfrm>
            <a:off x="2895480" y="3962160"/>
            <a:ext cx="5257800" cy="381240"/>
            <a:chOff x="2895480" y="3962160"/>
            <a:chExt cx="5257800" cy="381240"/>
          </a:xfrm>
        </p:grpSpPr>
        <p:sp>
          <p:nvSpPr>
            <p:cNvPr id="483" name="Line 8"/>
            <p:cNvSpPr/>
            <p:nvPr/>
          </p:nvSpPr>
          <p:spPr>
            <a:xfrm flipV="1">
              <a:off x="2895480" y="3962160"/>
              <a:ext cx="3810240" cy="2286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4" name="Line 9"/>
            <p:cNvSpPr/>
            <p:nvPr/>
          </p:nvSpPr>
          <p:spPr>
            <a:xfrm>
              <a:off x="2895480" y="4191120"/>
              <a:ext cx="5257800" cy="1522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485" name="Group 14"/>
          <p:cNvGrpSpPr/>
          <p:nvPr/>
        </p:nvGrpSpPr>
        <p:grpSpPr>
          <a:xfrm>
            <a:off x="2590920" y="4800240"/>
            <a:ext cx="4724280" cy="762480"/>
            <a:chOff x="2590920" y="4800240"/>
            <a:chExt cx="4724280" cy="762480"/>
          </a:xfrm>
        </p:grpSpPr>
        <p:sp>
          <p:nvSpPr>
            <p:cNvPr id="486" name="Line 10"/>
            <p:cNvSpPr/>
            <p:nvPr/>
          </p:nvSpPr>
          <p:spPr>
            <a:xfrm flipV="1">
              <a:off x="2590920" y="4800240"/>
              <a:ext cx="1600200" cy="68580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7" name="Line 11"/>
            <p:cNvSpPr/>
            <p:nvPr/>
          </p:nvSpPr>
          <p:spPr>
            <a:xfrm>
              <a:off x="2590920" y="5486400"/>
              <a:ext cx="4724280" cy="763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3811680" y="2513160"/>
            <a:ext cx="5256000" cy="4268520"/>
          </a:xfrm>
          <a:prstGeom prst="rect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its main fun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4" descr=""/>
          <p:cNvPicPr/>
          <p:nvPr/>
        </p:nvPicPr>
        <p:blipFill>
          <a:blip r:embed="rId1"/>
          <a:stretch/>
        </p:blipFill>
        <p:spPr>
          <a:xfrm>
            <a:off x="4114800" y="2819520"/>
            <a:ext cx="4648320" cy="371448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5"/>
          <p:cNvSpPr/>
          <p:nvPr/>
        </p:nvSpPr>
        <p:spPr>
          <a:xfrm>
            <a:off x="570600" y="2819520"/>
            <a:ext cx="3298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Transportation of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nutrients, oxygen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hormones and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wast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1"/>
          <p:cNvGrpSpPr/>
          <p:nvPr/>
        </p:nvGrpSpPr>
        <p:grpSpPr>
          <a:xfrm>
            <a:off x="0" y="2590920"/>
            <a:ext cx="9144000" cy="457200"/>
            <a:chOff x="0" y="2590920"/>
            <a:chExt cx="9144000" cy="457200"/>
          </a:xfrm>
        </p:grpSpPr>
        <p:sp>
          <p:nvSpPr>
            <p:cNvPr id="110" name="Rectangle 13"/>
            <p:cNvSpPr/>
            <p:nvPr/>
          </p:nvSpPr>
          <p:spPr>
            <a:xfrm>
              <a:off x="0" y="2590920"/>
              <a:ext cx="91440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1" name="Line 26"/>
            <p:cNvSpPr/>
            <p:nvPr/>
          </p:nvSpPr>
          <p:spPr>
            <a:xfrm>
              <a:off x="0" y="3048120"/>
              <a:ext cx="91440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2" name="Line 27"/>
            <p:cNvSpPr/>
            <p:nvPr/>
          </p:nvSpPr>
          <p:spPr>
            <a:xfrm>
              <a:off x="1600200" y="2590920"/>
              <a:ext cx="0" cy="4572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3" name="Line 28"/>
            <p:cNvSpPr/>
            <p:nvPr/>
          </p:nvSpPr>
          <p:spPr>
            <a:xfrm>
              <a:off x="3276720" y="2590920"/>
              <a:ext cx="0" cy="4572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4" name="Line 29"/>
            <p:cNvSpPr/>
            <p:nvPr/>
          </p:nvSpPr>
          <p:spPr>
            <a:xfrm>
              <a:off x="5943600" y="2590920"/>
              <a:ext cx="0" cy="4572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5" name="Line 30"/>
            <p:cNvSpPr/>
            <p:nvPr/>
          </p:nvSpPr>
          <p:spPr>
            <a:xfrm>
              <a:off x="7696080" y="2590920"/>
              <a:ext cx="0" cy="4572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6" name="Line 36"/>
            <p:cNvSpPr/>
            <p:nvPr/>
          </p:nvSpPr>
          <p:spPr>
            <a:xfrm>
              <a:off x="4495680" y="2590920"/>
              <a:ext cx="0" cy="4572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17" name="Text Box 2"/>
          <p:cNvSpPr/>
          <p:nvPr/>
        </p:nvSpPr>
        <p:spPr>
          <a:xfrm>
            <a:off x="390600" y="202572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onnective tissue prope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352680" y="20257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Fluid connective tissu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288120" y="2025720"/>
            <a:ext cx="27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upporting connective tissu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508560" y="160020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nective Tissu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21" name="Group 6"/>
          <p:cNvGrpSpPr/>
          <p:nvPr/>
        </p:nvGrpSpPr>
        <p:grpSpPr>
          <a:xfrm>
            <a:off x="1600200" y="1752480"/>
            <a:ext cx="6095880" cy="381240"/>
            <a:chOff x="1600200" y="1752480"/>
            <a:chExt cx="6095880" cy="381240"/>
          </a:xfrm>
        </p:grpSpPr>
        <p:sp>
          <p:nvSpPr>
            <p:cNvPr id="122" name="Line 7"/>
            <p:cNvSpPr/>
            <p:nvPr/>
          </p:nvSpPr>
          <p:spPr>
            <a:xfrm>
              <a:off x="4495680" y="1905120"/>
              <a:ext cx="0" cy="2286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23" name="Group 8"/>
            <p:cNvGrpSpPr/>
            <p:nvPr/>
          </p:nvGrpSpPr>
          <p:grpSpPr>
            <a:xfrm>
              <a:off x="1600200" y="1752480"/>
              <a:ext cx="6095880" cy="304920"/>
              <a:chOff x="1600200" y="1752480"/>
              <a:chExt cx="6095880" cy="304920"/>
            </a:xfrm>
          </p:grpSpPr>
          <p:sp>
            <p:nvSpPr>
              <p:cNvPr id="124" name="Line 9"/>
              <p:cNvSpPr/>
              <p:nvPr/>
            </p:nvSpPr>
            <p:spPr>
              <a:xfrm>
                <a:off x="1600200" y="1752480"/>
                <a:ext cx="0" cy="30492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5" name="Line 10"/>
              <p:cNvSpPr/>
              <p:nvPr/>
            </p:nvSpPr>
            <p:spPr>
              <a:xfrm>
                <a:off x="7696080" y="1752480"/>
                <a:ext cx="0" cy="30492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6" name="Line 11"/>
              <p:cNvSpPr/>
              <p:nvPr/>
            </p:nvSpPr>
            <p:spPr>
              <a:xfrm flipH="1">
                <a:off x="1600200" y="1752480"/>
                <a:ext cx="1905120" cy="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7" name="Line 12"/>
              <p:cNvSpPr/>
              <p:nvPr/>
            </p:nvSpPr>
            <p:spPr>
              <a:xfrm>
                <a:off x="5562720" y="1752480"/>
                <a:ext cx="2133360" cy="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4"/>
          <p:cNvSpPr/>
          <p:nvPr/>
        </p:nvSpPr>
        <p:spPr>
          <a:xfrm>
            <a:off x="1679400" y="2557440"/>
            <a:ext cx="160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Dense connectiv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tissu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32400" y="2557440"/>
            <a:ext cx="157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Loose connectiv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tissu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4876920" y="255744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Lymp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324480" y="255744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Cartilag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8154000" y="255744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Bo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3429720" y="25574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Bloo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34" name="Group 40"/>
          <p:cNvGrpSpPr/>
          <p:nvPr/>
        </p:nvGrpSpPr>
        <p:grpSpPr>
          <a:xfrm>
            <a:off x="761760" y="2362320"/>
            <a:ext cx="7696440" cy="228600"/>
            <a:chOff x="761760" y="2362320"/>
            <a:chExt cx="7696440" cy="228600"/>
          </a:xfrm>
        </p:grpSpPr>
        <p:sp>
          <p:nvSpPr>
            <p:cNvPr id="135" name="Line 22"/>
            <p:cNvSpPr/>
            <p:nvPr/>
          </p:nvSpPr>
          <p:spPr>
            <a:xfrm flipH="1">
              <a:off x="6781680" y="2362320"/>
              <a:ext cx="152640" cy="2286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36" name="Group 39"/>
            <p:cNvGrpSpPr/>
            <p:nvPr/>
          </p:nvGrpSpPr>
          <p:grpSpPr>
            <a:xfrm>
              <a:off x="761760" y="2362320"/>
              <a:ext cx="7696440" cy="228600"/>
              <a:chOff x="761760" y="2362320"/>
              <a:chExt cx="7696440" cy="228600"/>
            </a:xfrm>
          </p:grpSpPr>
          <p:sp>
            <p:nvSpPr>
              <p:cNvPr id="137" name="Line 19"/>
              <p:cNvSpPr/>
              <p:nvPr/>
            </p:nvSpPr>
            <p:spPr>
              <a:xfrm>
                <a:off x="8305920" y="2362320"/>
                <a:ext cx="152280" cy="22860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8" name="Line 20"/>
              <p:cNvSpPr/>
              <p:nvPr/>
            </p:nvSpPr>
            <p:spPr>
              <a:xfrm>
                <a:off x="5105520" y="2362320"/>
                <a:ext cx="152280" cy="22860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9" name="Line 21"/>
              <p:cNvSpPr/>
              <p:nvPr/>
            </p:nvSpPr>
            <p:spPr>
              <a:xfrm>
                <a:off x="2209680" y="2362320"/>
                <a:ext cx="152640" cy="22860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0" name="Line 23"/>
              <p:cNvSpPr/>
              <p:nvPr/>
            </p:nvSpPr>
            <p:spPr>
              <a:xfrm flipH="1">
                <a:off x="3733560" y="2362320"/>
                <a:ext cx="152280" cy="22860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1" name="Line 25"/>
              <p:cNvSpPr/>
              <p:nvPr/>
            </p:nvSpPr>
            <p:spPr>
              <a:xfrm flipH="1">
                <a:off x="761760" y="2362320"/>
                <a:ext cx="152280" cy="22860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Text Box 38"/>
          <p:cNvSpPr/>
          <p:nvPr/>
        </p:nvSpPr>
        <p:spPr>
          <a:xfrm>
            <a:off x="1066680" y="5335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hat are the subcategories of the three main categories of connective tissue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3811680" y="2513160"/>
            <a:ext cx="5256000" cy="4268520"/>
          </a:xfrm>
          <a:prstGeom prst="rect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is this tissu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4114800" y="2819520"/>
            <a:ext cx="4648320" cy="371448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5"/>
          <p:cNvSpPr/>
          <p:nvPr/>
        </p:nvSpPr>
        <p:spPr>
          <a:xfrm>
            <a:off x="90000" y="2757600"/>
            <a:ext cx="35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 Rounded MT Bold"/>
              </a:rPr>
              <a:t>Within blood vessel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72"/>
          <p:cNvGrpSpPr/>
          <p:nvPr/>
        </p:nvGrpSpPr>
        <p:grpSpPr>
          <a:xfrm>
            <a:off x="0" y="3048120"/>
            <a:ext cx="9144000" cy="1523880"/>
            <a:chOff x="0" y="3048120"/>
            <a:chExt cx="9144000" cy="1523880"/>
          </a:xfrm>
        </p:grpSpPr>
        <p:sp>
          <p:nvSpPr>
            <p:cNvPr id="144" name="Rectangle 38"/>
            <p:cNvSpPr/>
            <p:nvPr/>
          </p:nvSpPr>
          <p:spPr>
            <a:xfrm>
              <a:off x="0" y="3048120"/>
              <a:ext cx="914400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45" name="Group 64"/>
            <p:cNvGrpSpPr/>
            <p:nvPr/>
          </p:nvGrpSpPr>
          <p:grpSpPr>
            <a:xfrm>
              <a:off x="1600200" y="3048120"/>
              <a:ext cx="6095880" cy="1523880"/>
              <a:chOff x="1600200" y="3048120"/>
              <a:chExt cx="6095880" cy="1523880"/>
            </a:xfrm>
          </p:grpSpPr>
          <p:sp>
            <p:nvSpPr>
              <p:cNvPr id="146" name="Line 53"/>
              <p:cNvSpPr/>
              <p:nvPr/>
            </p:nvSpPr>
            <p:spPr>
              <a:xfrm>
                <a:off x="1600200" y="3048120"/>
                <a:ext cx="0" cy="152388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7" name="Line 54"/>
              <p:cNvSpPr/>
              <p:nvPr/>
            </p:nvSpPr>
            <p:spPr>
              <a:xfrm>
                <a:off x="3276720" y="3048120"/>
                <a:ext cx="0" cy="152388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8" name="Line 55"/>
              <p:cNvSpPr/>
              <p:nvPr/>
            </p:nvSpPr>
            <p:spPr>
              <a:xfrm>
                <a:off x="5943600" y="3048120"/>
                <a:ext cx="0" cy="152388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9" name="Line 56"/>
              <p:cNvSpPr/>
              <p:nvPr/>
            </p:nvSpPr>
            <p:spPr>
              <a:xfrm>
                <a:off x="7696080" y="3048120"/>
                <a:ext cx="0" cy="152388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4495680" y="3048120"/>
                <a:ext cx="0" cy="152388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Group 2"/>
          <p:cNvGrpSpPr/>
          <p:nvPr/>
        </p:nvGrpSpPr>
        <p:grpSpPr>
          <a:xfrm>
            <a:off x="0" y="2590920"/>
            <a:ext cx="9144000" cy="457200"/>
            <a:chOff x="0" y="2590920"/>
            <a:chExt cx="9144000" cy="457200"/>
          </a:xfrm>
        </p:grpSpPr>
        <p:sp>
          <p:nvSpPr>
            <p:cNvPr id="152" name="Rectangle 3"/>
            <p:cNvSpPr/>
            <p:nvPr/>
          </p:nvSpPr>
          <p:spPr>
            <a:xfrm>
              <a:off x="0" y="2590920"/>
              <a:ext cx="91440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3" name="Line 4"/>
            <p:cNvSpPr/>
            <p:nvPr/>
          </p:nvSpPr>
          <p:spPr>
            <a:xfrm>
              <a:off x="0" y="3048120"/>
              <a:ext cx="91440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4" name="Line 5"/>
            <p:cNvSpPr/>
            <p:nvPr/>
          </p:nvSpPr>
          <p:spPr>
            <a:xfrm>
              <a:off x="1600200" y="2590920"/>
              <a:ext cx="0" cy="4572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5" name="Line 6"/>
            <p:cNvSpPr/>
            <p:nvPr/>
          </p:nvSpPr>
          <p:spPr>
            <a:xfrm>
              <a:off x="3276720" y="2590920"/>
              <a:ext cx="0" cy="4572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>
              <a:off x="5943600" y="2590920"/>
              <a:ext cx="0" cy="4572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7696080" y="2590920"/>
              <a:ext cx="0" cy="4572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8" name="Line 9"/>
            <p:cNvSpPr/>
            <p:nvPr/>
          </p:nvSpPr>
          <p:spPr>
            <a:xfrm>
              <a:off x="4495680" y="2590920"/>
              <a:ext cx="0" cy="4572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59" name="Text Box 10"/>
          <p:cNvSpPr/>
          <p:nvPr/>
        </p:nvSpPr>
        <p:spPr>
          <a:xfrm>
            <a:off x="390600" y="202572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onnective tissue prope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3352680" y="20257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Fluid connective tissu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6288120" y="2025720"/>
            <a:ext cx="27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upporting connective tissu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3508560" y="160020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nective Tissu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1600200" y="1752480"/>
            <a:ext cx="6095880" cy="381240"/>
            <a:chOff x="1600200" y="1752480"/>
            <a:chExt cx="6095880" cy="381240"/>
          </a:xfrm>
        </p:grpSpPr>
        <p:sp>
          <p:nvSpPr>
            <p:cNvPr id="164" name="Line 15"/>
            <p:cNvSpPr/>
            <p:nvPr/>
          </p:nvSpPr>
          <p:spPr>
            <a:xfrm>
              <a:off x="4495680" y="1905120"/>
              <a:ext cx="0" cy="2286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65" name="Group 16"/>
            <p:cNvGrpSpPr/>
            <p:nvPr/>
          </p:nvGrpSpPr>
          <p:grpSpPr>
            <a:xfrm>
              <a:off x="1600200" y="1752480"/>
              <a:ext cx="6095880" cy="304920"/>
              <a:chOff x="1600200" y="1752480"/>
              <a:chExt cx="6095880" cy="304920"/>
            </a:xfrm>
          </p:grpSpPr>
          <p:sp>
            <p:nvSpPr>
              <p:cNvPr id="166" name="Line 17"/>
              <p:cNvSpPr/>
              <p:nvPr/>
            </p:nvSpPr>
            <p:spPr>
              <a:xfrm>
                <a:off x="1600200" y="1752480"/>
                <a:ext cx="0" cy="30492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67" name="Line 18"/>
              <p:cNvSpPr/>
              <p:nvPr/>
            </p:nvSpPr>
            <p:spPr>
              <a:xfrm>
                <a:off x="7696080" y="1752480"/>
                <a:ext cx="0" cy="30492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68" name="Line 19"/>
              <p:cNvSpPr/>
              <p:nvPr/>
            </p:nvSpPr>
            <p:spPr>
              <a:xfrm flipH="1">
                <a:off x="1600200" y="1752480"/>
                <a:ext cx="1905120" cy="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69" name="Line 20"/>
              <p:cNvSpPr/>
              <p:nvPr/>
            </p:nvSpPr>
            <p:spPr>
              <a:xfrm>
                <a:off x="5562720" y="1752480"/>
                <a:ext cx="2133360" cy="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Text Box 21"/>
          <p:cNvSpPr/>
          <p:nvPr/>
        </p:nvSpPr>
        <p:spPr>
          <a:xfrm>
            <a:off x="1679400" y="2557440"/>
            <a:ext cx="160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Dense connectiv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tissu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32400" y="2557440"/>
            <a:ext cx="157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Loose connectiv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tissu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4876920" y="255744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Lymp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6324480" y="255744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Cartilag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8154000" y="255744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Bo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3429720" y="25574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Bloo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76" name="Group 27"/>
          <p:cNvGrpSpPr/>
          <p:nvPr/>
        </p:nvGrpSpPr>
        <p:grpSpPr>
          <a:xfrm>
            <a:off x="761760" y="2362320"/>
            <a:ext cx="7696440" cy="228600"/>
            <a:chOff x="761760" y="2362320"/>
            <a:chExt cx="7696440" cy="228600"/>
          </a:xfrm>
        </p:grpSpPr>
        <p:sp>
          <p:nvSpPr>
            <p:cNvPr id="177" name="Line 28"/>
            <p:cNvSpPr/>
            <p:nvPr/>
          </p:nvSpPr>
          <p:spPr>
            <a:xfrm flipH="1">
              <a:off x="6781680" y="2362320"/>
              <a:ext cx="152640" cy="2286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78" name="Group 29"/>
            <p:cNvGrpSpPr/>
            <p:nvPr/>
          </p:nvGrpSpPr>
          <p:grpSpPr>
            <a:xfrm>
              <a:off x="761760" y="2362320"/>
              <a:ext cx="7696440" cy="228600"/>
              <a:chOff x="761760" y="2362320"/>
              <a:chExt cx="7696440" cy="228600"/>
            </a:xfrm>
          </p:grpSpPr>
          <p:sp>
            <p:nvSpPr>
              <p:cNvPr id="179" name="Line 30"/>
              <p:cNvSpPr/>
              <p:nvPr/>
            </p:nvSpPr>
            <p:spPr>
              <a:xfrm>
                <a:off x="8305920" y="2362320"/>
                <a:ext cx="152280" cy="22860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80" name="Line 31"/>
              <p:cNvSpPr/>
              <p:nvPr/>
            </p:nvSpPr>
            <p:spPr>
              <a:xfrm>
                <a:off x="5105520" y="2362320"/>
                <a:ext cx="152280" cy="22860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81" name="Line 32"/>
              <p:cNvSpPr/>
              <p:nvPr/>
            </p:nvSpPr>
            <p:spPr>
              <a:xfrm>
                <a:off x="2209680" y="2362320"/>
                <a:ext cx="152640" cy="22860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82" name="Line 33"/>
              <p:cNvSpPr/>
              <p:nvPr/>
            </p:nvSpPr>
            <p:spPr>
              <a:xfrm flipH="1">
                <a:off x="3733560" y="2362320"/>
                <a:ext cx="152280" cy="22860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83" name="Line 34"/>
              <p:cNvSpPr/>
              <p:nvPr/>
            </p:nvSpPr>
            <p:spPr>
              <a:xfrm flipH="1">
                <a:off x="761760" y="2362320"/>
                <a:ext cx="152280" cy="228600"/>
              </a:xfrm>
              <a:prstGeom prst="line">
                <a:avLst/>
              </a:prstGeom>
              <a:ln w="9360">
                <a:solidFill>
                  <a:srgbClr val="29292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 Box 35"/>
          <p:cNvSpPr/>
          <p:nvPr/>
        </p:nvSpPr>
        <p:spPr>
          <a:xfrm>
            <a:off x="1066680" y="5335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hat is the general composition and location of the subcategories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Text Box 57"/>
          <p:cNvSpPr/>
          <p:nvPr/>
        </p:nvSpPr>
        <p:spPr>
          <a:xfrm>
            <a:off x="152280" y="3191040"/>
            <a:ext cx="1311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Fibers create loose, open framework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Text Box 58"/>
          <p:cNvSpPr/>
          <p:nvPr/>
        </p:nvSpPr>
        <p:spPr>
          <a:xfrm>
            <a:off x="1676520" y="319104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Fibers densely pack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Text Box 59"/>
          <p:cNvSpPr/>
          <p:nvPr/>
        </p:nvSpPr>
        <p:spPr>
          <a:xfrm>
            <a:off x="4572000" y="319104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ontained in lymphatic syste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Text Box 60"/>
          <p:cNvSpPr/>
          <p:nvPr/>
        </p:nvSpPr>
        <p:spPr>
          <a:xfrm>
            <a:off x="6248520" y="3191040"/>
            <a:ext cx="115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olid, rubbery matrix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Text Box 61"/>
          <p:cNvSpPr/>
          <p:nvPr/>
        </p:nvSpPr>
        <p:spPr>
          <a:xfrm>
            <a:off x="7832880" y="3191040"/>
            <a:ext cx="115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olid, crystalline matrix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Text Box 63"/>
          <p:cNvSpPr/>
          <p:nvPr/>
        </p:nvSpPr>
        <p:spPr>
          <a:xfrm>
            <a:off x="3276720" y="3200400"/>
            <a:ext cx="1143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ontained in circulatory syste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kind of tissue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7"/>
          <p:cNvGrpSpPr/>
          <p:nvPr/>
        </p:nvGrpSpPr>
        <p:grpSpPr>
          <a:xfrm>
            <a:off x="3583080" y="2211480"/>
            <a:ext cx="5484600" cy="4570200"/>
            <a:chOff x="3583080" y="2211480"/>
            <a:chExt cx="5484600" cy="4570200"/>
          </a:xfrm>
        </p:grpSpPr>
        <p:sp>
          <p:nvSpPr>
            <p:cNvPr id="193" name="Rectangle 6"/>
            <p:cNvSpPr/>
            <p:nvPr/>
          </p:nvSpPr>
          <p:spPr>
            <a:xfrm>
              <a:off x="3583080" y="2211480"/>
              <a:ext cx="5484600" cy="457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194" name="Picture 5" descr="mesenchyme"/>
            <p:cNvPicPr/>
            <p:nvPr/>
          </p:nvPicPr>
          <p:blipFill>
            <a:blip r:embed="rId1"/>
            <a:stretch/>
          </p:blipFill>
          <p:spPr>
            <a:xfrm>
              <a:off x="3836880" y="2562120"/>
              <a:ext cx="5003280" cy="383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Text Box 8"/>
          <p:cNvSpPr/>
          <p:nvPr/>
        </p:nvSpPr>
        <p:spPr>
          <a:xfrm>
            <a:off x="76320" y="1600200"/>
            <a:ext cx="481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Arial"/>
              </a:rPr>
              <a:t>Embryonic connective tissu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Mesenchy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are three special feature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3583080" y="2209680"/>
            <a:ext cx="5484600" cy="4570560"/>
            <a:chOff x="3583080" y="2209680"/>
            <a:chExt cx="5484600" cy="4570560"/>
          </a:xfrm>
        </p:grpSpPr>
        <p:sp>
          <p:nvSpPr>
            <p:cNvPr id="198" name="Rectangle 4"/>
            <p:cNvSpPr/>
            <p:nvPr/>
          </p:nvSpPr>
          <p:spPr>
            <a:xfrm>
              <a:off x="3583080" y="2209680"/>
              <a:ext cx="5484600" cy="45705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199" name="Picture 5" descr="mesenchyme"/>
            <p:cNvPicPr/>
            <p:nvPr/>
          </p:nvPicPr>
          <p:blipFill>
            <a:blip r:embed="rId1"/>
            <a:stretch/>
          </p:blipFill>
          <p:spPr>
            <a:xfrm>
              <a:off x="3836880" y="2560680"/>
              <a:ext cx="5003280" cy="384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6"/>
          <p:cNvSpPr/>
          <p:nvPr/>
        </p:nvSpPr>
        <p:spPr>
          <a:xfrm>
            <a:off x="457200" y="2232000"/>
            <a:ext cx="2438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tar shaped mesenchymal cel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Gelatinous 3-D matrix material or ground substan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2819520" y="2666880"/>
            <a:ext cx="2438280" cy="533520"/>
          </a:xfrm>
          <a:prstGeom prst="line">
            <a:avLst/>
          </a:prstGeom>
          <a:ln w="38160">
            <a:solidFill>
              <a:srgbClr val="cc99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Line 8"/>
          <p:cNvSpPr/>
          <p:nvPr/>
        </p:nvSpPr>
        <p:spPr>
          <a:xfrm flipV="1">
            <a:off x="2438280" y="3886200"/>
            <a:ext cx="3353040" cy="914400"/>
          </a:xfrm>
          <a:prstGeom prst="line">
            <a:avLst/>
          </a:prstGeom>
          <a:ln w="38160">
            <a:solidFill>
              <a:srgbClr val="cc99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its main fun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3809880" y="2514600"/>
            <a:ext cx="5257800" cy="4265640"/>
            <a:chOff x="3809880" y="2514600"/>
            <a:chExt cx="5257800" cy="4265640"/>
          </a:xfrm>
        </p:grpSpPr>
        <p:sp>
          <p:nvSpPr>
            <p:cNvPr id="205" name="Rectangle 4"/>
            <p:cNvSpPr/>
            <p:nvPr/>
          </p:nvSpPr>
          <p:spPr>
            <a:xfrm>
              <a:off x="3809880" y="2514600"/>
              <a:ext cx="5257800" cy="42656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206" name="Picture 5" descr="mesenchyme"/>
            <p:cNvPicPr/>
            <p:nvPr/>
          </p:nvPicPr>
          <p:blipFill>
            <a:blip r:embed="rId1"/>
            <a:stretch/>
          </p:blipFill>
          <p:spPr>
            <a:xfrm>
              <a:off x="4053240" y="2841840"/>
              <a:ext cx="4796280" cy="358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Text Box 7"/>
          <p:cNvSpPr/>
          <p:nvPr/>
        </p:nvSpPr>
        <p:spPr>
          <a:xfrm>
            <a:off x="457200" y="3581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t gives rise to all other connective tissu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ernandez, Elizabeth</dc:creator>
  <dc:description/>
  <dc:language>en-US</dc:language>
  <cp:lastModifiedBy>Windows User</cp:lastModifiedBy>
  <dcterms:modified xsi:type="dcterms:W3CDTF">2012-08-02T18:08:45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