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EC8594-4501-4719-B296-A806FBA75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FDC0F8-CF72-4320-BA47-5A7D7A8F4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A60905-7CF1-4571-86D8-8A9CF2592B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8989CE-AAE1-4651-920D-BE3485E68E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0B0C5-40B4-4CD7-9FB1-277BBFDCB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ACF58-CD37-49A4-B25D-BD144A51A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5388C-E248-4E47-91F4-B436CFF0F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3FBE-C0E7-4438-BF8A-F428D4BB1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37BFC-9441-458B-B712-CF4EC6685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56C69-6CA3-4145-8353-5F43C6D63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DF85B-6F8B-4037-876D-B02516868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139FEA-3250-46BF-AA26-290E49D2A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7221-D05B-42FE-9255-A016CC36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4C9B3-3DE3-4095-8144-7A61A6AE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1F24E-8CA2-4917-8464-1DEE8092B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8E1C2-1A7A-469E-B512-76F70C66E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A4DEB-D721-4952-8B7E-2B91AEFB7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EFEB1C-6B8B-4CB6-9D55-6EAF37485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CC72E9-570C-4554-A7E8-1473D79A8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24219E-C2A1-4F16-8A03-744B7B15A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568CB5-CB78-46D4-A5A9-3D0FB10B7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F05D9-55F1-43E4-A75D-B9AEF2343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4DC59-30B8-4DC1-A4F0-5CDBFC30F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DF86F-AED3-4403-ABCB-BE2370B8D5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D395-8687-459B-B8D2-3A349F6D79C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62A3-F524-4482-834A-3815B17D10E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533160"/>
            <a:ext cx="8305920" cy="55926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rPr>
              <a:t>The Female Reproductive Syste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varies, two oviducts, the uterus, the vagina and the external genitali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vari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nd-shaped bodies approximately 3 cm long, 1 cm wide and 1 cm thick.</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by a simple cuboidal epithelium (the germinal epithelium),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ica albuginea dense connective tissue responsible for the white colour of the ovary.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tical region lies under the tunica albuginea, where ovarian follicles predominat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ullary region contains rich vascular network with a loose connective t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ometrium , smooth muscle fibers separated by connective tissue. Four poorly defined layers are recognized; first and fourth are longitudinal, the middle layer contain uterine blood vesse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dometri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epithelium and lamina propria containing simple tubular glands, ciliated and secretory simple columnar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stratum basalis: The deepest one adjacent to the myometrium. 2, The stratum  functionalis: composed of lamina propria, glands and surface epitheliu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30381" t="15897" r="28390" b="10984"/>
          <a:stretch/>
        </p:blipFill>
        <p:spPr>
          <a:xfrm>
            <a:off x="609480" y="762120"/>
            <a:ext cx="7848720" cy="55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34308" t="19460" r="30561" b="7805"/>
          <a:stretch/>
        </p:blipFill>
        <p:spPr>
          <a:xfrm>
            <a:off x="762120" y="762120"/>
            <a:ext cx="7848360" cy="51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terine Cervix: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lower cylindrical part of the uteru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ndocervix is lined by  mucus secreting simple columnar epitheliu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tocervix is bulges into the vagina is covered by stratified squamous epithelium . Cervix  has few smooth muscle fibers consisting mainly of dense connective tissue. Mucous cervical glands are extensively branched and do not desquamate during menstruation. At the time of ovulation, cervical mucus is watery, while during pregnancy or luteal phase it is more viscou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gin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ucosa: Stratified squamous epithelium. Under the effect of estrogen, epithelial cells accumulate glycogen which is degraded by vaginal bacteria into lactic acid. The lamina propria: Is composed of loose connective tissue very rich in elastic fibers and very few naked nerve endings responsible for pain sens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uscular layer: Longitudinal bundles of smooth muscle fiber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dventitia: Dense connective tissue rich in elastic fi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32551" t="6071" r="30561" b="14164"/>
          <a:stretch/>
        </p:blipFill>
        <p:spPr>
          <a:xfrm>
            <a:off x="0" y="838080"/>
            <a:ext cx="853452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68544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ternal Genitalia: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s of the clitoris, labia minora and labia majora and Bartholin's glands. Clitoris is homologus to the penis, consisting of two erectile bodies ending in a rudimentary glans clitoris and a prebuce, all covered by a stratified squamous epithelium. Labia minora are folds of skin with spongy connective tissue fibers. Sebaceous and sweat glands are presen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bia majora are similar to labia minora, containing large quantities of adipose tissue and a thin layer of smooth muscle fibers. The skin is covered by a coarse curly hair and abundantly supplied by sensory tactile nerve fi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21700" t="26300" r="26220" b="12718"/>
          <a:stretch/>
        </p:blipFill>
        <p:spPr>
          <a:xfrm>
            <a:off x="380880" y="609480"/>
            <a:ext cx="815364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85440"/>
            <a:ext cx="8229600" cy="51814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varian Follicles: </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cyte surrounded by one or more layers of follicular cells (granulosa cells).</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ordial follicle consists of a primary oocyte enveloped by a single layer of flattened follicular cells. in the superficial layer of the cortical region.</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ocyte is spherical with a large nucleus and prominent nucleolus. These are in the first prophase of meiotic division.</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llicular Growth: </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ordial follicles pass into four stages of maturation ,(FSH) secreted from the pituitary gland.</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laminar primary follicle: Follicular cells divide by mitosis and form a single layer of cuboidal cells.</a:t>
            </a:r>
            <a:endParaRPr b="0" lang="en-US" sz="2400" spc="-1" strike="noStrike">
              <a:solidFill>
                <a:srgbClr val="000000"/>
              </a:solidFill>
              <a:latin typeface="Arial"/>
            </a:endParaRPr>
          </a:p>
          <a:p>
            <a:pPr marL="315360" indent="-3153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ultilaminar primary (pre-antral) follicle: Follicular cells continue to proliferate forming stratified follicular epithelium called the granulose layer. Zona pellucida composed of  glycoproteins surround the oocy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00040"/>
            <a:ext cx="8077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ntral (secondary) follicle: Liquid  begins to accumulate between follicular cells, spaces coalesce to form a larger cavity, the antr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ature (Graffian) follic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sa cells concentrate at a certain point to form the cumulus oophorus, concentrate on the oocyte to form the corona radi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fibroblasts of the stroma differentiate to form the theca layer, (externa and interna). Secrete est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cess of growth of primordial follicle to mature follicle lasts about 90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26040" t="6935" r="34901" b="2891"/>
          <a:stretch/>
        </p:blipFill>
        <p:spPr>
          <a:xfrm>
            <a:off x="1143000" y="685800"/>
            <a:ext cx="7696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vulation:</a:t>
            </a:r>
            <a:r>
              <a:rPr b="0" lang="en-US" sz="2400" spc="-1" strike="noStrike">
                <a:solidFill>
                  <a:srgbClr val="000000"/>
                </a:solidFill>
                <a:latin typeface="Arial"/>
              </a:rPr>
              <a:t> Takes place in the middle of the menstral cycle, (luteinizing hormone (LH), anterior pituitary in response to of estroge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pus Luteu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ovulation the follicle collapse, the granulose cells and cells of the theca interna forming granulose lutein cells, and theca lutein cell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ing estrogen and progesteron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d to secrete for 10-12 days under LH stimulation.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eneration resulting in a decrease of estrogen and progesterone and an increase of FSH(corpus albica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nta will secrete hCG with a similar action to that of LH, ( corpus luteum of pregn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viducts (Fallopian Tub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muscular tubes 12 cm. The infundibulum, having finger like extension called the fimbriæ,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ucosa: simple columnar epithelium and a loose connective tissue lamina propria. ciliated and secreto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ick muscularis: inner circular or spiral and outer longitudinal layer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erosa: Visceral peritoneu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teru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r shaped organ ,body (corpus) and cervix. The internal os separates the two. The fundus is a dome shaped part of the body. three layers: serosa or adventitia, myometrium and endometri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32551" t="4337" r="28390" b="15897"/>
          <a:stretch/>
        </p:blipFill>
        <p:spPr>
          <a:xfrm>
            <a:off x="457200" y="857160"/>
            <a:ext cx="82296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28825" t="23475" r="25884" b="17839"/>
          <a:stretch/>
        </p:blipFill>
        <p:spPr>
          <a:xfrm>
            <a:off x="1461960" y="914400"/>
            <a:ext cx="621828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21:01:05Z</dcterms:created>
  <dc:creator>MOHAMMED SALIH</dc:creator>
  <dc:description/>
  <dc:language>en-US</dc:language>
  <cp:lastModifiedBy>dr.nazar</cp:lastModifiedBy>
  <dcterms:modified xsi:type="dcterms:W3CDTF">2011-05-10T22:00:24Z</dcterms:modified>
  <cp:revision>10</cp:revision>
  <dc:subject/>
  <dc:title>الشريحة 1</dc:title>
</cp:coreProperties>
</file>