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F67-2B6C-4E8E-9305-2630542F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038-4F65-4820-874B-7218EC7B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261-2723-4D4A-A018-90684C90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C30-0E4C-440B-83E0-1A28538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7CE-18E0-47D6-AEBA-F56E88EB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D71-BC59-4F20-920D-EEADADE1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DE0-1D53-469A-A113-BEF967A1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EC8A-C7B7-45E0-B636-5B0DF6C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82FC-FD16-406F-B2C6-24F7157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FC1-509A-4251-8433-BAEA33B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B08-EB53-491A-B869-7932783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F31-C39F-4F39-B51F-082BDF0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C38-603C-4B1D-BB1B-6932EA4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4010-5EBC-4F76-9226-262094D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E9B-40EF-427E-8E91-6BC7618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C4B-BFA4-41EC-BD65-565F0A59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316-80B1-4185-AA4C-A4316804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FED8-A65A-4EC6-9053-DE087BA0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5039-61E4-40B8-9E64-6EA877A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B932-C309-4A39-BCDE-BD5E3E8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F3B3-015D-4FA1-AA90-01BC810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87CD-B7E7-4B33-9010-0D9873C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B69-29E8-4A09-8AF9-9F9CF49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2391-B72C-4F69-927B-4CCF4542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5377-2ED3-455C-9B6E-1238AEB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94CB-F8A6-4FB6-8ED0-BAF2CC9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F3B4-631E-4A98-9181-11515F0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7B6C-BC6A-4ADC-A21A-D31C326C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CAAC-01D9-49C4-923B-1E17DA96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1B22-9256-4B84-B652-124254BF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70DE-ECA0-4068-97EB-F371249B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8B02-6CBD-4DE8-AC93-BD50562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4BD2-A9D2-4A95-9E1A-75BF6AB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6F2-8CA8-46BE-B1AE-F457C41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B854-F907-4749-ACBB-9DB1C5D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0F73-C753-4072-B35B-A592B61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7748-0185-463C-8D6D-A5ECB85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E606-AADA-40C6-BD49-6DA9BEC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372E-F4A6-47CD-91FA-1FD45E8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6604-327E-4623-9B1F-52C6F62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96DE-D23E-4895-A912-CA07E6C3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B5C7-9768-4D66-BD6D-3478F5FE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C8C8-50D4-421A-A671-BAC6A9A4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CC1A-ECFF-4E94-91EB-5D79051A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44A-7890-46B3-9620-283D916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C43B-F0C3-46AB-A9DA-51839FE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45D9-DB05-4B05-B520-F1325B20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58AC6-56C3-41A1-A4D9-84F6EA4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71B7-2E73-45AC-B5A5-270EACD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3334-F613-47C8-9700-08F4046C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20619-7CB3-4AB9-A622-D8DFFA0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2637-9C51-43B2-AEAD-B1FADBB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657E-9E76-4316-A531-0DF8F91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5E2D-0070-4179-BC82-BBDEB7C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DB3F-510D-4B25-961C-00FD1043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596-7474-45FA-9D40-5D75267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A928-2E45-4A73-A79D-4014CF29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5FF8-F1F2-4DFB-9AAB-FDB3F9B1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7E60-F57B-4B76-8F2C-3B568BB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6C616-2BBE-4A5F-BC69-75876B0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CBDF-0B70-4A53-A7C9-8DEDC8CD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26DB-F953-48F3-8328-9FBAA74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9938-761F-4C9A-A8D9-14637E7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68A8-F5B4-47E9-AF74-DF11B42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2A39-BC68-414E-85F1-96D68BB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3B775-89F5-42B3-B6F9-7C15727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07F-6AFE-4626-B019-B51EAD6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D35B-B6D2-444F-8084-4570C3E9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D313-4683-4FC7-A1C2-B9476BC4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C9A3-A297-4575-878B-3CA6C859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99E-3A38-4B79-BACB-C44BABC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40D-9BBB-4DC9-96E6-6CDAF78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e2e2e2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b0f0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916-6E0A-4105-B15D-0087AF0E372E}" type="slidenum">
              <a:rPr b="0" lang="ar-SA" sz="1400" spc="-1" strike="noStrike">
                <a:solidFill>
                  <a:srgbClr val="00b0f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0780-F5C5-47B2-81B2-59A79D36B7CD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6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0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0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11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e2e2e2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b0f0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0AD-1EB9-4401-8A43-F2CACAAAF2F6}" type="slidenum">
              <a:rPr b="0" lang="ar-SA" sz="1400" spc="-1" strike="noStrike">
                <a:solidFill>
                  <a:srgbClr val="00b0f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6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6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6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6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d8d8d8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d8d8d8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b0f0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31B-8142-4288-B630-5655F8A9DE34}" type="slidenum">
              <a:rPr b="0" lang="ar-SA" sz="1400" spc="-1" strike="noStrike">
                <a:solidFill>
                  <a:srgbClr val="00b0f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1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22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22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22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22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2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d8d8d8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d8d8d8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b0f0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b0f0"/>
                </a:solidFill>
                <a:latin typeface="Rage Italic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7215-C9B6-497F-AA9E-791495AFE790}" type="slidenum">
              <a:rPr b="0" lang="ar-SA" sz="1400" spc="-1" strike="noStrike">
                <a:solidFill>
                  <a:srgbClr val="00b0f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39A-E619-4B91-A2C7-4BF89F83C647}" type="slidenum">
              <a:rPr b="0" lang="ar-SA" sz="1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755640" y="665280"/>
            <a:ext cx="7632720" cy="564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45760" cy="6267240"/>
          </a:xfrm>
          <a:prstGeom prst="rect">
            <a:avLst/>
          </a:prstGeom>
          <a:ln w="0">
            <a:noFill/>
          </a:ln>
        </p:spPr>
      </p:pic>
      <p:sp>
        <p:nvSpPr>
          <p:cNvPr id="321" name="مربع نص 4"/>
          <p:cNvSpPr/>
          <p:nvPr/>
        </p:nvSpPr>
        <p:spPr>
          <a:xfrm>
            <a:off x="4211640" y="378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7974000" cy="5973480"/>
          </a:xfrm>
          <a:prstGeom prst="rect">
            <a:avLst/>
          </a:prstGeom>
          <a:ln w="0">
            <a:noFill/>
          </a:ln>
        </p:spPr>
      </p:pic>
      <p:sp>
        <p:nvSpPr>
          <p:cNvPr id="323" name="مربع نص 4"/>
          <p:cNvSpPr/>
          <p:nvPr/>
        </p:nvSpPr>
        <p:spPr>
          <a:xfrm>
            <a:off x="4140360" y="981000"/>
            <a:ext cx="8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Franklin Gothic Book"/>
              </a:rPr>
              <a:t>خامس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682560" y="517680"/>
            <a:ext cx="7705800" cy="5786280"/>
          </a:xfrm>
          <a:prstGeom prst="rect">
            <a:avLst/>
          </a:prstGeom>
          <a:ln w="0">
            <a:noFill/>
          </a:ln>
        </p:spPr>
      </p:pic>
      <p:sp>
        <p:nvSpPr>
          <p:cNvPr id="325" name="مربع نص 4"/>
          <p:cNvSpPr/>
          <p:nvPr/>
        </p:nvSpPr>
        <p:spPr>
          <a:xfrm>
            <a:off x="4067280" y="2205000"/>
            <a:ext cx="100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ar-IQ" sz="2400" spc="-1" strike="noStrike">
                <a:solidFill>
                  <a:srgbClr val="002060"/>
                </a:solidFill>
                <a:latin typeface="Franklin Gothic Book"/>
              </a:rPr>
              <a:t>سابع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5640" y="620280"/>
            <a:ext cx="7704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Franklin Gothic Book"/>
              </a:rPr>
              <a:t>اتيكيت العمل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Book"/>
              </a:rPr>
              <a:t>    </a:t>
            </a:r>
            <a:r>
              <a:rPr b="1" lang="ar-IQ" sz="2800" spc="-1" strike="noStrike">
                <a:solidFill>
                  <a:srgbClr val="000000"/>
                </a:solidFill>
                <a:latin typeface="Franklin Gothic Book"/>
              </a:rPr>
              <a:t>اذ كنت مديرا في شركة  ما فهل من اللائق اظهار روح الدعابة  امام الموظفين 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1" lang="ar-IQ" sz="4400" spc="-1" strike="noStrike">
                <a:solidFill>
                  <a:srgbClr val="ff0000"/>
                </a:solidFill>
                <a:latin typeface="Franklin Gothic Book"/>
              </a:rPr>
              <a:t>بالطبع ، وهذا لن يقلل من احترامهم لك ، بل على العكس سوف  تبعث جوا من المرح والراحة النفسية وعدم التوتر بين فريق العمل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عنصر نائب للمحتوى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3:14:16Z</dcterms:created>
  <dc:creator>DELL</dc:creator>
  <dc:description/>
  <dc:language>en-US</dc:language>
  <cp:lastModifiedBy>DR.Ahmed Saker 2o1O</cp:lastModifiedBy>
  <dcterms:modified xsi:type="dcterms:W3CDTF">2016-02-24T14:34:24Z</dcterms:modified>
  <cp:revision>3</cp:revision>
  <dc:subject/>
  <dc:title>عرض تقديمي في PowerPoint</dc:title>
</cp:coreProperties>
</file>