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57815-5CF2-4894-B1CF-4F434E697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0F891-E4FC-40AB-80C2-AEDBC6797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94ECE-586F-490F-AE2F-031B838E3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68AC1-12C0-4365-8ABB-BCCF791CB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EBD9-E4B3-41B1-A9A6-2A4447071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07867-2CE3-47A5-997B-8BC24E1B4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493F7-9B2D-4E84-A8EC-87522A530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6FFED-CD39-499E-BE16-A7C71C085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F9406-1AAB-48DD-948C-232A8951E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29F7-3049-4619-B053-8CBE73ED5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AA452-FFC7-474A-B696-1ED05273D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556B5-C1FB-4336-BF49-D6892EB62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F511-5CAD-4068-95CA-8D3BE68023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cs typeface="Times New Roman"/>
              </a:rPr>
              <a:t>اختبارات التعادل المناعي:</a:t>
            </a:r>
            <a:r>
              <a:rPr b="1" lang="en-US" sz="3600" spc="-1" strike="noStrike">
                <a:solidFill>
                  <a:srgbClr val="ffffff"/>
                </a:solidFill>
                <a:latin typeface="Calibri"/>
              </a:rPr>
              <a:t>Neutralization Tests</a:t>
            </a:r>
            <a:r>
              <a:rPr b="1" lang="en-US" sz="3600" spc="-1" strike="noStrike">
                <a:solidFill>
                  <a:srgbClr val="ffffff"/>
                </a:solidFill>
                <a:latin typeface="Calibri"/>
              </a:rPr>
              <a:t>:</a:t>
            </a:r>
            <a:endParaRPr b="0" lang="en-US" sz="3600" spc="-1" strike="noStrike">
              <a:solidFill>
                <a:srgbClr val="000000"/>
              </a:solidFill>
              <a:latin typeface="Calibri"/>
            </a:endParaRPr>
          </a:p>
        </p:txBody>
      </p:sp>
      <p:sp>
        <p:nvSpPr>
          <p:cNvPr id="42" name=""/>
          <p:cNvSpPr txBox="1"/>
          <p:nvPr/>
        </p:nvSpPr>
        <p:spPr>
          <a:xfrm>
            <a:off x="609120" y="1143000"/>
            <a:ext cx="8534520" cy="4906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neutralization test is an assay based on the ability </a:t>
            </a:r>
            <a:r>
              <a:rPr b="0" lang="en-US" sz="2600" spc="-1" strike="noStrike">
                <a:solidFill>
                  <a:srgbClr val="000000"/>
                </a:solidFill>
                <a:latin typeface="Calibri"/>
              </a:rPr>
              <a:t>of antibody to inactivate the biological effects of an antigen or of a microorganism expressing it. Neutralization applies especially to inactivation of virus infectivity or of the biological activity of a microbial toxin. </a:t>
            </a:r>
            <a:endParaRPr b="0" lang="en-US" sz="2600" spc="-1" strike="noStrike">
              <a:solidFill>
                <a:srgbClr val="000000"/>
              </a:solidFill>
              <a:latin typeface="Calibri"/>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Uses of the neutralization tests :</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8000"/>
          </a:bodyPr>
          <a:p>
            <a:pPr lvl="1" marL="896040" indent="-504000">
              <a:spcBef>
                <a:spcPts val="700"/>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cognition of the pathogenic causative agents (Toxins / Viruses) and differentiation between their pathogenicity.</a:t>
            </a:r>
            <a:endParaRPr b="0" lang="en-US" sz="2800" spc="-1" strike="noStrike">
              <a:solidFill>
                <a:srgbClr val="000000"/>
              </a:solidFill>
              <a:latin typeface="Calibri"/>
            </a:endParaRPr>
          </a:p>
          <a:p>
            <a:pPr lvl="1" marL="896040" indent="-504000">
              <a:spcBef>
                <a:spcPts val="700"/>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y the antigenic relation for various toxins and viruses</a:t>
            </a:r>
            <a:endParaRPr b="0" lang="en-US" sz="2800" spc="-1" strike="noStrike">
              <a:solidFill>
                <a:srgbClr val="000000"/>
              </a:solidFill>
              <a:latin typeface="Calibri"/>
            </a:endParaRPr>
          </a:p>
          <a:p>
            <a:pPr lvl="1" marL="896040" indent="-504000">
              <a:spcBef>
                <a:spcPts val="700"/>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ction the biological protection ability of the neutralizing antitoxins and antiviruses against toxins and  Viruses  .</a:t>
            </a:r>
            <a:endParaRPr b="0" lang="en-US" sz="2800" spc="-1" strike="noStrike">
              <a:solidFill>
                <a:srgbClr val="000000"/>
              </a:solidFill>
              <a:latin typeface="Calibri"/>
            </a:endParaRPr>
          </a:p>
          <a:p>
            <a:pPr lvl="1" marL="896040" indent="-504000">
              <a:spcBef>
                <a:spcPts val="700"/>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easure the potency of vaccines  and the ability to induce immunity.</a:t>
            </a:r>
            <a:endParaRPr b="0" lang="en-US" sz="2800" spc="-1" strike="noStrike">
              <a:solidFill>
                <a:srgbClr val="000000"/>
              </a:solidFill>
              <a:latin typeface="Calibri"/>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52280"/>
            <a:ext cx="8229600" cy="5973840"/>
          </a:xfrm>
          <a:prstGeom prst="rect">
            <a:avLst/>
          </a:prstGeom>
          <a:noFill/>
          <a:ln w="0">
            <a:noFill/>
          </a:ln>
        </p:spPr>
        <p:txBody>
          <a:bodyPr anchor="t">
            <a:normAutofit/>
          </a:bodyPr>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ral Neutralization Tests</a:t>
            </a:r>
            <a:endParaRPr b="0" lang="en-US" sz="2800" spc="-1" strike="noStrike">
              <a:solidFill>
                <a:srgbClr val="000000"/>
              </a:solidFill>
              <a:latin typeface="Calibri"/>
            </a:endParaRPr>
          </a:p>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utralization of a virus is defined as the loss of infectivity through reaction of the virus with specific antibody. Virus and serum are mixed under appropriate condition and then inoculated into cell culture, eggs or animals. The presence of unneutralized virus may be detected by reactions such as CPE, haemadsorption/haemagglutination, plaque formation, disease in animals. The loss of infectivity is caused by interference by of the bound Ab with any one of the steps leading to the release of the viral genome into the host cells. </a:t>
            </a:r>
            <a:endParaRPr b="0" lang="en-US" sz="28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a typeface="Times New Roman"/>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a:t>
            </a:r>
            <a:r>
              <a:rPr b="1" lang="en-US" sz="2000" spc="-1" strike="noStrike">
                <a:solidFill>
                  <a:srgbClr val="000000"/>
                </a:solidFill>
                <a:latin typeface="Calibri"/>
              </a:rPr>
              <a:t>complement ﬁxation reaction (Figure 27.30) th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union of antigen with antibody takes place almost instantaneously and is invisible. A measured amount of complement present in the reaction mixture is taken up by complexes of antigen and antibody. The consumption or  In the </a:t>
            </a:r>
            <a:r>
              <a:rPr b="1" lang="en-US" sz="2000" spc="-1" strike="noStrike">
                <a:solidFill>
                  <a:srgbClr val="000000"/>
                </a:solidFill>
                <a:latin typeface="Calibri"/>
              </a:rPr>
              <a:t>complement ﬁxation reaction (Figure 27.30) th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union of antigen with antibody takes place almost instantaneously and is invisible. A measured amount of complement present in the reaction mixture is taken up by complexes of antigen and antibody. The consumption or</a:t>
            </a:r>
            <a:endParaRPr b="0" lang="en-US" sz="2000" spc="-1" strike="noStrike">
              <a:solidFill>
                <a:srgbClr val="000000"/>
              </a:solidFill>
              <a:latin typeface="Calibri"/>
            </a:endParaRPr>
          </a:p>
        </p:txBody>
      </p:sp>
      <p:pic>
        <p:nvPicPr>
          <p:cNvPr id="48" name="Picture 2" descr=""/>
          <p:cNvPicPr/>
          <p:nvPr/>
        </p:nvPicPr>
        <p:blipFill>
          <a:blip r:embed="rId1"/>
          <a:stretch/>
        </p:blipFill>
        <p:spPr>
          <a:xfrm>
            <a:off x="2657520" y="1676520"/>
            <a:ext cx="3828960" cy="3504960"/>
          </a:xfrm>
          <a:prstGeom prst="rect">
            <a:avLst/>
          </a:prstGeom>
          <a:ln w="0">
            <a:noFill/>
          </a:ln>
        </p:spPr>
      </p:pic>
      <p:pic>
        <p:nvPicPr>
          <p:cNvPr id="49" name="Picture 5" descr=""/>
          <p:cNvPicPr/>
          <p:nvPr/>
        </p:nvPicPr>
        <p:blipFill>
          <a:blip r:embed="rId2"/>
          <a:stretch/>
        </p:blipFill>
        <p:spPr>
          <a:xfrm>
            <a:off x="76320" y="914400"/>
            <a:ext cx="8991360" cy="56386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21:39:24Z</dcterms:created>
  <dc:creator>Hassan</dc:creator>
  <dc:description/>
  <dc:language>en-US</dc:language>
  <cp:lastModifiedBy>waf</cp:lastModifiedBy>
  <dcterms:modified xsi:type="dcterms:W3CDTF">2016-01-08T04:52:07Z</dcterms:modified>
  <cp:revision>355</cp:revision>
  <dc:subject/>
  <dc:title>Slide 1</dc:title>
</cp:coreProperties>
</file>