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E714-4DB1-4099-A911-5921EEED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A0C-F713-4F8E-BF13-C1156F14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C596-711D-4E19-B174-2A3B38A8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31F-0B4B-4415-914D-A5303D1C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3E2A-3F8C-44A1-A1AD-FC5B77CD7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F49B-16AE-40CE-B25B-4212A885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51B2-EB72-4DDB-800D-3A9F4955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01F-6873-479C-9371-68A6B44B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88C-5D63-498B-A2BA-8B21AA05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0E7-7FFA-40A6-9618-64F3583A4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5DB-E80F-4B40-8DC4-67DA99BC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23F-1673-4182-BF1D-0BB337F7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A0DD-9ED7-47D4-BEEC-1A377EBF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372-EE25-4E55-BE14-37A98552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AD4-025E-438E-A5B4-2314EDCB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E0D-FDCE-490C-AC43-C7C7B5BC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B62-AFC1-4363-B038-FC492C36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9864-7D55-4A47-89FF-3E7D08A9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1EC7-D411-40B5-8B80-261AE46D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223-2120-41FE-91C3-1DB8F171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B5E-7FC0-45F4-A7BA-3E3E37038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D26-52A8-48C7-BF27-59BB2B78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634-8344-443D-98CE-DB09BCB6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686-820D-424E-B6EC-B10A774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2E8-2A1D-4D78-81F6-13E91C69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F95-66E1-41A2-A0C9-E9B2EBBE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AF6-51C8-43F1-9A0A-EAB9AC37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E61-BC47-4754-B2C7-6DD2C08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03D-F0EF-4A21-A488-4024FDD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C8F-A799-4618-8BEE-14BD25F2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4B5-F33A-45DE-BAE8-43F49107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699-8544-45D3-AFDD-FA942606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7CF-5416-4199-819A-4C3511D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169-FBE1-4D41-972C-4530E026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AF43-3506-4F0D-8B02-6FA29DF4E7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wdv.com/CellWorld/Biochemistry/molecules/dopamine51-61-6.cdx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NEUROBIOLOGICAL Implications of Psychiatric Illn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Dr. Ali Al-Jubo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Assist. Prof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3049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2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Limbic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motional Brain: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ists of many struc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 include Memory, Pleasure, Emotions, Mot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781680" y="457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1303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Limbic-System"/>
          <p:cNvPicPr/>
          <p:nvPr/>
        </p:nvPicPr>
        <p:blipFill>
          <a:blip r:embed="rId1"/>
          <a:stretch/>
        </p:blipFill>
        <p:spPr>
          <a:xfrm>
            <a:off x="380880" y="1066680"/>
            <a:ext cx="3573720" cy="426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limbic2"/>
          <p:cNvPicPr/>
          <p:nvPr/>
        </p:nvPicPr>
        <p:blipFill>
          <a:blip r:embed="rId2"/>
          <a:srcRect l="0" t="10972" r="0" b="5486"/>
          <a:stretch/>
        </p:blipFill>
        <p:spPr>
          <a:xfrm>
            <a:off x="4724280" y="4073400"/>
            <a:ext cx="2905200" cy="278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imbic"/>
          <p:cNvPicPr/>
          <p:nvPr/>
        </p:nvPicPr>
        <p:blipFill>
          <a:blip r:embed="rId3"/>
          <a:stretch/>
        </p:blipFill>
        <p:spPr>
          <a:xfrm>
            <a:off x="4343400" y="533520"/>
            <a:ext cx="3809880" cy="3425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\Desktop\disktop files\passport+photo+logo\شعار.jpg"/>
          <p:cNvPicPr/>
          <p:nvPr/>
        </p:nvPicPr>
        <p:blipFill>
          <a:blip r:embed="rId4"/>
          <a:stretch/>
        </p:blipFill>
        <p:spPr>
          <a:xfrm>
            <a:off x="41400" y="152280"/>
            <a:ext cx="1071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ehavior"/>
          <p:cNvPicPr/>
          <p:nvPr/>
        </p:nvPicPr>
        <p:blipFill>
          <a:blip r:embed="rId1"/>
          <a:stretch/>
        </p:blipFill>
        <p:spPr>
          <a:xfrm>
            <a:off x="1447920" y="1211400"/>
            <a:ext cx="6933960" cy="503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292400" y="304920"/>
            <a:ext cx="64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tions of The Limb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223920" y="30492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ore Functions of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Limbic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factory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eding Fu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nsider the relationships between emotions, pleasure, smell, and food intake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146160" y="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3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ome Important Structures Connecting to the Limbic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alamus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ates &amp; controls many body functions: endocrine, sleep, appetite, body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neal Gl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role in sleep (secretes melatonin) and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ant Structures Connecting to Limbic System, cont’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794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alam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association of sensory inputs with pleasant and unpleasant feelin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ippocamp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memory processing, and making of new mem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mygdal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stores feelings relating to memor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8244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utonomic Nervous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mpathetic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ominates in stressful situations, prepares body for fight or fl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sympathi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Dominates when person is relax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22860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urons: A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rve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NS: neurons, composed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ll bo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ins nucleus (genetic mater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x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mits message to next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ndri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ceive messages from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162920" y="380880"/>
            <a:ext cx="99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304920" y="8424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uman_brain_neuron_design"/>
          <p:cNvPicPr/>
          <p:nvPr/>
        </p:nvPicPr>
        <p:blipFill>
          <a:blip r:embed="rId1"/>
          <a:stretch/>
        </p:blipFill>
        <p:spPr>
          <a:xfrm>
            <a:off x="1066680" y="1143000"/>
            <a:ext cx="6372360" cy="504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8244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ree classes of neurons in C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ens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o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eur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304920" y="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0066"/>
                </a:solidFill>
                <a:latin typeface="Book Antiqua"/>
                <a:ea typeface="Times New Roman"/>
              </a:rPr>
              <a:t>Anatomy and Physiology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5" descr="Brain%20Health,%20Mood%20Support%202"/>
          <p:cNvPicPr/>
          <p:nvPr/>
        </p:nvPicPr>
        <p:blipFill>
          <a:blip r:embed="rId1"/>
          <a:stretch/>
        </p:blipFill>
        <p:spPr>
          <a:xfrm>
            <a:off x="3200400" y="411480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135000" y="152280"/>
            <a:ext cx="1071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ynaps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act point between two neu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ynaptic Cle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pace between neu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e-synaptic neur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rea of axon where neurotransmitters are sto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ostsynaptic neur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rea of dendrite where receptor sites are loc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304920" y="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eurotransmission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hemical Signa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1655640" cy="190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38088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urotransmission (Physiolog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eurotransmitters are released into the synaptic cleft (space) from the axon to the dendrite.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(--Calcium ions facilitate NT releas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Ts bind with receptors on post-synaptic neuron (dendrite) and activate i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en NT substance is either deactivated or returned to the axon (“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reuptake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”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erve cells can release more than one type of neurotransmitter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467480" y="414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11736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euron_parts"/>
          <p:cNvPicPr/>
          <p:nvPr/>
        </p:nvPicPr>
        <p:blipFill>
          <a:blip r:embed="rId1"/>
          <a:stretch/>
        </p:blipFill>
        <p:spPr>
          <a:xfrm>
            <a:off x="1022400" y="762120"/>
            <a:ext cx="307800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Synapse-Structure"/>
          <p:cNvPicPr/>
          <p:nvPr/>
        </p:nvPicPr>
        <p:blipFill>
          <a:blip r:embed="rId2"/>
          <a:stretch/>
        </p:blipFill>
        <p:spPr>
          <a:xfrm>
            <a:off x="4114800" y="1066680"/>
            <a:ext cx="4146480" cy="5362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533520" y="575136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synaptic and postsynap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n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 flipH="1">
            <a:off x="456480" y="4227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hp\Desktop\disktop files\passport+photo+logo\شعار.jpg"/>
          <p:cNvPicPr/>
          <p:nvPr/>
        </p:nvPicPr>
        <p:blipFill>
          <a:blip r:embed="rId3"/>
          <a:stretch/>
        </p:blipFill>
        <p:spPr>
          <a:xfrm>
            <a:off x="73080" y="-2052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ynapse"/>
          <p:cNvPicPr/>
          <p:nvPr/>
        </p:nvPicPr>
        <p:blipFill>
          <a:blip r:embed="rId1"/>
          <a:stretch/>
        </p:blipFill>
        <p:spPr>
          <a:xfrm>
            <a:off x="1523880" y="1828800"/>
            <a:ext cx="6210360" cy="3462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828800" y="569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transmission Across the 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152280" y="619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7560" y="45720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ole of Neurotransmitters in Mental Heal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an important role in human emotions and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ce motor activity and hormone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target for the mechanism of action for psychotropic med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neurotransmitter"/>
          <p:cNvPicPr/>
          <p:nvPr/>
        </p:nvPicPr>
        <p:blipFill>
          <a:blip r:embed="rId1"/>
          <a:stretch/>
        </p:blipFill>
        <p:spPr>
          <a:xfrm>
            <a:off x="2743200" y="5278320"/>
            <a:ext cx="3200400" cy="1452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228600" y="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tegories of Neurotransmit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Cholinerg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etylcholine (ACh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volved in sleep, arousal, movement,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9" descr="autonomic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5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228600" y="619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MONOAM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ffects mood, cognition, perception, locomotion, sleep and arou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pam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ffects movement, coordination, emotions, voluntary judgment, and release of prolac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dopamine 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5638680"/>
            <a:ext cx="242892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20101028153517!Norepinephrine_structure"/>
          <p:cNvPicPr/>
          <p:nvPr/>
        </p:nvPicPr>
        <p:blipFill>
          <a:blip r:embed="rId3"/>
          <a:stretch/>
        </p:blipFill>
        <p:spPr>
          <a:xfrm>
            <a:off x="2590920" y="3048120"/>
            <a:ext cx="25146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hp\Desktop\disktop files\passport+photo+logo\شعار.jpg"/>
          <p:cNvPicPr/>
          <p:nvPr/>
        </p:nvPicPr>
        <p:blipFill>
          <a:blip r:embed="rId4"/>
          <a:stretch/>
        </p:blipFill>
        <p:spPr>
          <a:xfrm>
            <a:off x="228600" y="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mma Aminobutyric Acid (GABA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as an inhibitory neurotransmitter (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in calm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uta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excit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Neuropepti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rphins and enkephli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odulate pain.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natural or endogenous opiat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648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allosum"/>
          <p:cNvPicPr/>
          <p:nvPr/>
        </p:nvPicPr>
        <p:blipFill>
          <a:blip r:embed="rId1"/>
          <a:stretch/>
        </p:blipFill>
        <p:spPr>
          <a:xfrm>
            <a:off x="2971800" y="3276720"/>
            <a:ext cx="4191120" cy="3335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89120" y="1293840"/>
            <a:ext cx="8001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nd left hemispheres connected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82440" y="230040"/>
            <a:ext cx="12128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urobiology and Mental Ill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uroanatomical Change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(examples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Enlargement of ventricles: schizophrenia, alcoholis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Atrophy of hippocampus: trauma or severe stress in early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reased Cerebral Blood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ome examples: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In Prefrontal cortex: Schizophr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In Frontal lobe: Attention-Deficit Hyperactivity Disorder (ADH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125280" y="4140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6091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urotransmitter Dys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ck of availability or lack of secre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Some examples: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o much dopamine: Schizophr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ufficient serotonin: Dep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ufficient norepinephrine: Dep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ufficient GABA: 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o much norepinephrine: Anxiety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0" y="152280"/>
            <a:ext cx="1071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8080" y="712440"/>
            <a:ext cx="81266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opamin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Excessive transmission in limbic structures may contribute to schizophr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5-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: Ascending projections control mood; increase appears to help in many forms of anxiety and depression (mood disord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orepinephr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: Excessive transmission may contribute to anxiety and aggression.  Under-reaction, along with that of 5-HT, may contribute to de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cetylcho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: Important in cognition, activating a limbic areas to degenerate in Alzheimer’s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0" y="0"/>
            <a:ext cx="94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144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uroendocrine Dysfunc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exampl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Altered Hypothalamic regulatory mechanisms: Anorexia Nervo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Increased Hypothalamic-Pituitary-Adrenal Axis (HPA) activity causing elevated cortisol (stress hormone) levels: Caused by early life deprivation, trauma or str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Thyroid dysfunction: (Hyper-)Anxiety,                           (Hypo-) Dep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146160" y="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lackadder ITC"/>
              </a:rPr>
              <a:t>Thanks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3124080" y="312408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1752480" y="58752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obes of the Cereb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78168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\Desktop\disktop files\passport+photo+logo\شعار.jpg"/>
          <p:cNvPicPr/>
          <p:nvPr/>
        </p:nvPicPr>
        <p:blipFill>
          <a:blip r:embed="rId2"/>
          <a:stretch/>
        </p:blipFill>
        <p:spPr>
          <a:xfrm>
            <a:off x="299880" y="2905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مستطيل 1"/>
          <p:cNvSpPr/>
          <p:nvPr/>
        </p:nvSpPr>
        <p:spPr>
          <a:xfrm>
            <a:off x="1523880" y="533520"/>
            <a:ext cx="6782040" cy="54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Frontal Lobe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Movement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Thinking initiation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Reasoning (judgement)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Behavior (emotions)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Memory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22860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1"/>
          <p:cNvSpPr/>
          <p:nvPr/>
        </p:nvSpPr>
        <p:spPr>
          <a:xfrm>
            <a:off x="1143000" y="1447920"/>
            <a:ext cx="678168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Parietal Lobe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Knowing right from left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Sensation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Reading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Understa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304920" y="152280"/>
            <a:ext cx="1071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مستطيل 1"/>
          <p:cNvSpPr/>
          <p:nvPr/>
        </p:nvSpPr>
        <p:spPr>
          <a:xfrm>
            <a:off x="1447920" y="1752480"/>
            <a:ext cx="754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Temporal Lob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Understanding language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Behavior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Memory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• 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30492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مستطيل 1"/>
          <p:cNvSpPr/>
          <p:nvPr/>
        </p:nvSpPr>
        <p:spPr>
          <a:xfrm>
            <a:off x="1219320" y="1295280"/>
            <a:ext cx="73152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Occipital Lobe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•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Vision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Color blind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Cerebellum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Balance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Coordination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Fine muscl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50920" y="22860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مستطيل 1"/>
          <p:cNvSpPr/>
          <p:nvPr/>
        </p:nvSpPr>
        <p:spPr>
          <a:xfrm>
            <a:off x="1981080" y="1219320"/>
            <a:ext cx="601992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Brain Stem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Breathing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Blood pressure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Heartbeat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Swallowing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Alertness/sleep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Body temperature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•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hp\Desktop\disktop files\passport+photo+logo\شعار.jpg"/>
          <p:cNvPicPr/>
          <p:nvPr/>
        </p:nvPicPr>
        <p:blipFill>
          <a:blip r:embed="rId1"/>
          <a:stretch/>
        </p:blipFill>
        <p:spPr>
          <a:xfrm>
            <a:off x="228600" y="228600"/>
            <a:ext cx="1071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21:18:56Z</dcterms:created>
  <dc:creator>Katherine E Viek</dc:creator>
  <dc:description/>
  <dc:language>en-US</dc:language>
  <cp:lastModifiedBy>hp</cp:lastModifiedBy>
  <dcterms:modified xsi:type="dcterms:W3CDTF">2015-11-08T19:01:59Z</dcterms:modified>
  <cp:revision>279</cp:revision>
  <dc:subject/>
  <dc:title>NEUROBIOLOGICAL BASIS OF BEHAVIOR</dc:title>
</cp:coreProperties>
</file>