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1DC-0FE1-4831-9D47-95D63854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7DC-B2AC-4348-AF7B-838800DF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ED2-B391-461E-A93A-E94D3514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BB6-893A-4C93-BBA1-04821D6F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B695-2E70-4249-AA8B-E2139971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61B9-FA9A-417A-8436-27BD8BAF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0308-6257-4D39-B6A4-6C921B13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779B-2904-4C6E-A5C9-61C544E3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4393-73FE-4B97-9351-5F3E5AD7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55D6-8984-421B-9BC7-9ACCE9B2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35EA-72D1-4AEA-9E17-39845E6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E8E-4F75-4352-A48A-6A622C1A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AF68-E651-4791-ADE1-06C6E3E3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D55A-686B-43E4-9C70-319951F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47F2-3CF4-4CA8-9C0B-36C74014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1195-B31A-4F21-BC8A-6E676707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D9EE-630C-4623-ACF0-3331A353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A6A8-F1A4-46D2-A640-A9F3BBB8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9BF0-847F-4E70-A2FA-1EAEF5A9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77ED-2F28-4AEC-AC82-51A55529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9706-2301-4324-8886-80646E37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E3BD-E298-41E6-B628-2B4ADAF3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E01-3446-4243-9397-A5932674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57F2-1828-4D48-AE22-6F92F38F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5889-56FB-4A9C-9EA2-93AF9447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CB3F-17F5-425C-8C98-AE74BFD8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C789-DD6F-476A-BB78-DCD84A18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7B36-185D-4E02-B701-20ADFCA2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A177-A794-4594-B443-A0049CCA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7384C-572B-4971-B7AB-8A4C64C1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682C-34CD-4C5E-A7F4-22D5743D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D3CD-4C1F-405A-987B-F928DEFC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FD0B-4E3F-4FEB-9EC8-52D8B85D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C67-869F-4BAD-9A78-AA6354FF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BB531-CB22-4ED8-B01D-06BDA544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BEE2-E118-4A92-9631-2A7DC1B2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7B3E3-C9C2-4411-BACD-A45DDA1B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D01C-A2EB-41A8-B5C1-76A2E135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ED68-BD2A-4EF0-BB25-C52D30EF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AEC5-F389-47DA-BEBD-B2F5554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F4C9-EF7C-48E1-817A-AD2A36C7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A17B-E215-431A-8B7C-B54D164B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7701-97E5-4314-ACBD-718886AC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C9EC-00F3-420A-BA48-46E40E2B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90E-0CA9-4F28-9BA8-6358FA9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4CFF-93C2-45C6-B3EC-1A114341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9710-C0A4-4286-B277-07083489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726CA-9908-4615-BBCC-9C361131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19BE-EC4A-4C38-B5BE-6BAB5D8A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4188F-F09C-4847-A563-D1B64739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55D0-CF49-4481-A542-561D3CCB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D9F68-680E-4A15-95C9-5503D9A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E60EF-AA37-43A0-8B6E-5FECDB2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02941-63B0-4393-BC40-23F0AE8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570D-04C3-42F8-A6AC-2143B08D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424-4855-46F9-A591-800F3A85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3BCF-8BDD-4746-947F-C86C670C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32CE-2EDE-4C7D-8598-DEE2D315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B2A9-3F23-4C60-9CE8-F189DBF7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1C2C-AD92-44D4-B06C-42660327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CBEA8-EA2B-49FE-8C60-D992917F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C048A-9B43-40F2-9CBB-A59CF82C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DED09-E5A9-4669-BD96-01D8AB64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5FE79-B02E-4602-9088-3A1C83F3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AAFC3-081C-4144-B3BD-22E453F7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697ED-340C-43AE-BAAB-2858E448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5CE-5E2A-4B8D-98F8-7BFD8FC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C3C74-5D44-4AB4-A83C-7EA11EA7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4F385-C2AB-455B-AE33-C3A68122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364A0-2E59-4584-96AD-AD6BCD07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250A5-5992-4A05-B829-C27864E0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92FB8-010A-4B30-A248-C38877D6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2495-C8FF-42A6-80F0-8AF0E2FA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BEC7B-1CDC-4D3E-BD19-1578980C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4C3BF-0B99-4C7F-B0D2-DE5EA2C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80FA5-3CBB-4275-A9B1-AA35F913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C12B2-B565-4515-91D5-70FB2D13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500-6750-4344-8409-A0AEEF4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C33E-0675-4029-A178-A731A35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6E0A6-02CD-4596-8153-B84FEB8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020CE-99AA-473D-971D-AAC276A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DC48-245B-4732-9556-A714AF4B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54CF-54E6-475F-8AC0-53F0180B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87556-0510-4488-84B9-6C10CE5C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1DE36-BD5E-4C6F-A483-48AEDB80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90545-D4E3-4CE0-90AB-A1BB506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59DBF-767D-492D-813F-0DF7C712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917AC-72D3-4B10-B9D4-8C11C61F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86B-2D37-48AA-8068-2A4A061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95D40-793D-45C7-9C3B-EB6196C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7FA99-DC6C-4DBB-A318-88BCBA2E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BD59D-C58B-42F9-BF14-3DEC5D8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38C0F-1EDB-49E3-94EB-937A398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1196-4A6D-4FEF-88F6-965B0437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6C98A-8606-4BDF-A120-60315CC7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AF9D6-05B9-4830-93CE-9807364D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E503-E5A6-445D-ACBE-AAD544586ACD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3ED-A85D-4162-9EEB-7213133EECEA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7488-A53E-4092-AC2B-3CB5BA1DBB24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4F61-6B0A-45CD-8993-A9C895940EA7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A670-28BD-4B31-B31C-F087A7C237A8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A659-FCFC-4470-A473-694C2B6A7952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F3E0-8FB3-483D-9E6B-9C605A441B2A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5295-586F-4FF5-9C3B-F61C264CC495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47760" y="1755720"/>
            <a:ext cx="8478720" cy="1895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r. Ali K. Al-Jubo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Ph D. Psych. Nurs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Short term psychiatric hospita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ong term psychiatric hospita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mmunity- based treat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sychosocial rehabili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28520" y="59688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ME WORK: WHAT ARE THE NURSING CARE F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withdrawn and isolated cl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ggressive or unusual behavi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unclear communication patter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highly suspicious and hostile cl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allucinations and delu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gitated behavi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sch. Fami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selected antipsychotic medicatio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536400" y="2286000"/>
            <a:ext cx="8229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ffected parents: 12-15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affected parents: 35-39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bling affected: 8-10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zygotic twin affected: 15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zygotic twin affected: 50% ri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minor fetal malformations during early gestation may play a role in later manifestation of schizophren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s that can affect neurodevelopment and that may increase the risk of disease 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influenza infection maternal during the second tri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rauma or injury at bir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buse or trauma during infancy or early childh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The abnormalities in the brain structure including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Enlarged ventricl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Decreased cortical blood flo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Decrease metabolic activity in certain brain are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Cerebral atrophy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52280" y="536400"/>
            <a:ext cx="82296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3352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opamine hypothesis “ excessive dopamine activity in cortical areas of the brain leads to the positive symptoms of schizophren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ther neurotransmitters: serotonin, nor epinephrine, glutamate, and GAB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eceptors site for specific neurotransmitters and the effect of psychotropic medica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Luck of warm, nurturing attention in earliest years of life leads to lack of self identity and withdrawing in schizophrenic p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igh expressed emotion( over involved, hostile, critica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low socioeconomic st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xposure to life stress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37960" y="122400"/>
            <a:ext cx="8448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of population will experience schizophre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impairment in perception of re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 may not persceive any abnormality and difficulty in developing any insight into probl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sense of identity and lowered self este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bility to focus on tasks and convers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drawing from intera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sense of identity----fear of intera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feeling of rejection and lack of tru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. families experience stress and required to cope with variety of probl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7:12:09Z</dcterms:created>
  <dc:creator>Psychiatric Nursing</dc:creator>
  <dc:description/>
  <dc:language>en-US</dc:language>
  <cp:lastModifiedBy>hp</cp:lastModifiedBy>
  <dcterms:modified xsi:type="dcterms:W3CDTF">2015-11-04T08:31:08Z</dcterms:modified>
  <cp:revision>52</cp:revision>
  <dc:subject/>
  <dc:title>Schizophrenia</dc:title>
</cp:coreProperties>
</file>