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0C4-467E-413F-9D61-AF2BD49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768-8519-4DD8-8C91-2DFF50B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8C8-D987-4EA1-8642-D804F618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7F3-0CCB-4FF7-B38B-CA3E27DD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513-5B20-450F-B83E-65282CA9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19D-84EF-4A8C-9FDE-089E72B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6F3-456B-41B5-8B8F-12F29C78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7A02-FC8C-47C1-9EED-71D4E15A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B9D3-05A9-4BAD-91AF-5384FB5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B20D-0676-4484-AF5F-960C6F5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7E1-0B83-40F6-B753-44F332A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E96-FD55-4917-A683-65B73D4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1CB-373B-4E98-BE34-F922B83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41C2-2534-476C-A87B-7794E86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B34-A8C1-4F6B-8AA1-4472690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5EA8-81C8-42EE-843B-59A77980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C2BA-CDE1-48BD-B83D-0497E21A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8086-6049-43F6-B71B-9B7781AE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44DB-0036-4BDA-BE13-5E1A96A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FE90-535B-4FEF-A9A1-25EEC4A0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0974-A93B-4695-A6FE-1F916DFA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318F-BEC7-4296-9CCA-A98C30C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7CD-01EF-4814-9338-A01C23E9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5C35-3AA1-4CFB-BF97-BA74262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6E6D-72A4-46A7-9D83-A993996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D3D8-3392-4BC8-B9EC-443BA11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AEC4-EA69-45D8-AFAE-7617F2B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2BF8-39A3-475E-B0CE-1B554B4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9A93-B443-48D5-8266-078C8950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9A40-5D0D-45B5-B6BA-A4B3F8E0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1C82-ACC6-402B-B282-DB2A95C7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28D3F-3D82-4F81-8057-7538DD8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E1C9-7142-4B30-913D-0D897B8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952-E220-41D6-ADC0-E38ED330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B69B-26B1-4273-B784-F9A62396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7DCB-CF8B-436E-8401-86FBA39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2031-DFFC-4200-BCD5-0B143CF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E259-65DC-4200-8D7B-3F5189F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1B4A-B81D-40D6-9E02-B3DC06E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86A9-F53B-42E1-85BF-436AB3E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97B6-8FE4-4AF1-A235-F2FF7B69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CBFB-5E7A-427C-895C-1FF56891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E3A8-07C0-4860-81A0-F1B27964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3EE7-43D9-4F52-85F6-60B6062F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D29-619E-4A38-B321-73DCCD31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789C-8682-418A-BCB0-F21393F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26D5-48AB-4F3E-911A-6B8531E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48C15-B5FF-47D8-A187-257EEB88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D935-9715-4AE7-A244-288269C5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1ECA-7044-4184-A4AA-377109CF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1F5D-2D2F-4597-9495-F99DFE1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EB86-7053-43DE-8780-C072F11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A7B5-276C-43A8-A3E7-FCF5BB3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B623-71A0-4FCB-A250-817176A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FC97-D300-45A5-B6B7-DB8AA57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731-8A87-446B-8B61-0B6F632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C469-A4AB-4044-B133-DF7C8667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D666-029C-4FA6-B36D-CA5B0147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DCD0-05E4-4B04-B33A-DEC99B02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BCD3-5C00-4B4B-9AA1-96E0DFE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1269-D0D2-4474-A616-CC0C7841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5295B-838E-4556-833E-8422097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ED4E-7B2C-4A12-A11D-C9A16770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30EF-317F-4C72-8B1C-EEDB0B6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EC2A-D9DF-45AF-A8EE-39406D4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5206-3CC9-4AC8-A861-0FE3809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652-530D-4907-B4DB-38C4056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E0A2A-46D0-4E16-B884-CC6BCF4A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1338-CF61-461F-BFA2-018D97BC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1936-AAD9-44CA-80B8-62B11A75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4AFD-10BB-4F34-8B7B-3EAAB461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4B6A9-35B4-4E48-8D8D-52C632C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8ADCD-F876-48BB-93EB-9072A1E3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D12F-5372-4390-8105-211CFD8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105C-4AC0-44C2-9C06-04EB7FCC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876A-0B0A-4E3C-AC91-8E958B6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5A6CE-67D7-4BD5-B84F-02BB5C1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05C-244D-494F-9890-800E62F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AAEE-98D8-455A-8510-2C14DA2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E09E-9958-43DC-A3EE-B16EE4B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A085-7A49-4EF3-A85A-DFC419E9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AE05-FA8D-4E4C-AF10-8F33627E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C1CC-BB49-4507-B28E-9B06E724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4442-4335-4FAF-A81C-AD154E2A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96BD0-601A-4EA9-A840-581AE87D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BCB0-0A53-4076-B5FB-6C22E78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795C9-1F50-4E61-8801-823BA72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2801-A64D-4DE8-B2DF-EF0A72A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3E4-1F82-4111-BED1-D5E1F67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117E-398E-4B15-BE66-38A0E89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C50F-5DB3-4402-9CB8-4685A59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D6B86-F2F4-44FF-950E-FC22DEE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E095-9E49-465B-9A9D-EA9789D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366B8-4297-41E3-837D-D54527C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7031-07E5-44A3-B00B-CA364BE5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F0D5-8C98-4696-A175-32AE9F44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859-B725-47F0-BA07-2D1896DDC1B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6EF-4E93-4872-992A-86685A9DE164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897-8E21-4696-80A3-75E32F8FB52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87E-DE3E-4068-92E8-2D7E0ACF318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A9A9-7674-4357-94E8-F4D6507AE2E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062-8777-4E8F-9CAF-A64C91A995C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28E4-F816-47E9-AE7A-848A0B57A64E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10E4-54E5-4255-8CA8-4ED88CDE6C2C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47760" y="1755720"/>
            <a:ext cx="8478720" cy="1895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r. Ali K. Al-Jubo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Ph D. Psych. Nur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Short term psychiatric 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ong term psychiatric 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mmunity- based treat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sychosocial rehabili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28520" y="59688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ME WORK: WHAT ARE THE NURSING CARE F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ithdrawn and isolated cl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ggressive or unusual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nclear communication patter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highly suspicious and hostile cl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allucinations and delu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gitated behavi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sch.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selected antipsychotic medica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536400" y="2286000"/>
            <a:ext cx="8229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ffected parents: 12-15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ffected parents: 35-39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bling affected: 8-10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zygotic twin affected: 15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zygotic twin affected: 50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minor fetal malformations during early gestation may play a role in later manifestation of schizophren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that can affect neurodevelopment and that may increase the risk of disease 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nfluenza infection maternal during the second tri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rauma or injury at bir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buse or trauma during infancy or early child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The abnormalities in the brain structure including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nlarged ventricl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Decreased cortical blood 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ecrease metabolic activity in certain brain are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Cerebral atroph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52280" y="536400"/>
            <a:ext cx="82296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3352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pamine hypothesis “ excessive dopamine activity in cortical areas of the brain leads to the positive symptoms of schizophren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ther neurotransmitters: serotonin, nor epinephrine, glutamate, and GAB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ceptors site for specific neurotransmitters and the effect of psychotropic medic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Luck of warm, nurturing attention in earliest years of life leads to lack of self identity and withdrawing in schizophrenic 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igh expressed emotion( over involved, hostile, critic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ow socioeconomic st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xposure to life stress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37960" y="122400"/>
            <a:ext cx="8448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of population will experience schizophr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impairment in perception of re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may not persceive any abnormality and difficulty in developing any insight into probl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ense of identity and lowered self este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focus on tasks and convers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drawing from inter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ense of identity----fear of intera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feeling of rejection and lack of tru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. families experience stress and required to cope with variety of probl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7:12:09Z</dcterms:created>
  <dc:creator>Psychiatric Nursing</dc:creator>
  <dc:description/>
  <dc:language>en-US</dc:language>
  <cp:lastModifiedBy>hp</cp:lastModifiedBy>
  <dcterms:modified xsi:type="dcterms:W3CDTF">2015-11-04T08:31:08Z</dcterms:modified>
  <cp:revision>52</cp:revision>
  <dc:subject/>
  <dc:title>Schizophrenia</dc:title>
</cp:coreProperties>
</file>