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22.wmf" ContentType="image/x-wmf"/>
  <Override PartName="/ppt/media/image5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FF2-36B5-4261-93C6-32CF91DC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B08-A1F6-4B19-B01F-10CC7CD7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F63-7AE4-46CD-B614-932BDD44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DFF-8C9D-4A32-B26F-9D3F9E9A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C28-3D39-4ABF-9BE4-41E3BE3C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9D9-6E86-44C5-9F0C-15148E6D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EE9-AC6C-412A-A5A3-74656303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F49-67DB-41AC-9F62-39DA3913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577-079F-4B0E-BF3E-4EB603EF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251-91D0-461C-B61F-D09A96A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405-D2EB-4C8F-A3AD-7653AAC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802-5D35-480C-BF66-9A28851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F0F9-BA2D-4F59-9ACD-3DA79AD57C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705720" cy="221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CP Viol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 Neutral K-Meson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[Secs 16.8   Dunla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4176720" cy="5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CP vi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55640" y="1449360"/>
            <a:ext cx="7777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ronin and Fitch in 1964 discovered CP violating decays have been observed at the 0.3%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dicating that CP is not perfectly conserved in the weak interaction.  CPT invarience is expected though under relativistic quantum electrodynamic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is implies a breaking of T conservation too, which has implications with regard to why we live in a universe that is largely matter and not anti-mat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3132000" y="2205000"/>
          <a:ext cx="2292480" cy="7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205000"/>
                    <a:ext cx="22924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419112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CP Vi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ronin"/>
          <p:cNvPicPr/>
          <p:nvPr/>
        </p:nvPicPr>
        <p:blipFill>
          <a:blip r:embed="rId1"/>
          <a:stretch/>
        </p:blipFill>
        <p:spPr>
          <a:xfrm>
            <a:off x="1676520" y="1219320"/>
            <a:ext cx="199872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fitch"/>
          <p:cNvPicPr/>
          <p:nvPr/>
        </p:nvPicPr>
        <p:blipFill>
          <a:blip r:embed="rId2"/>
          <a:stretch/>
        </p:blipFill>
        <p:spPr>
          <a:xfrm>
            <a:off x="4952880" y="1219320"/>
            <a:ext cx="194472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523880" y="41911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James Cronin   (1931-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952880" y="4191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Val Fitch  (1923-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0" y="4648320"/>
            <a:ext cx="9296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 1980 Cronin and Fitch received the Nobel Prize in Physics for and experiment they completed in 1964:   Cronin and Fitch were physicists from Princeton University, working at Brookhaven National Laboratory.  What did they discov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he detection of CP violation in the decay of neutral K mesons (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4"/>
          <p:cNvGrpSpPr/>
          <p:nvPr/>
        </p:nvGrpSpPr>
        <p:grpSpPr>
          <a:xfrm>
            <a:off x="512640" y="549360"/>
            <a:ext cx="8199360" cy="3671640"/>
            <a:chOff x="512640" y="549360"/>
            <a:chExt cx="8199360" cy="3671640"/>
          </a:xfrm>
        </p:grpSpPr>
        <p:pic>
          <p:nvPicPr>
            <p:cNvPr id="50" name="Picture 3" descr="pion family"/>
            <p:cNvPicPr/>
            <p:nvPr/>
          </p:nvPicPr>
          <p:blipFill>
            <a:blip r:embed="rId1"/>
            <a:stretch/>
          </p:blipFill>
          <p:spPr>
            <a:xfrm>
              <a:off x="4827960" y="687600"/>
              <a:ext cx="388404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pionfamilyexplain"/>
            <p:cNvPicPr/>
            <p:nvPr/>
          </p:nvPicPr>
          <p:blipFill>
            <a:blip r:embed="rId2"/>
            <a:stretch/>
          </p:blipFill>
          <p:spPr>
            <a:xfrm>
              <a:off x="512640" y="549360"/>
              <a:ext cx="359460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Line 5"/>
            <p:cNvSpPr/>
            <p:nvPr/>
          </p:nvSpPr>
          <p:spPr>
            <a:xfrm>
              <a:off x="4324680" y="214236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4324680" y="228096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200" y="9000"/>
            <a:ext cx="8686800" cy="75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Quark constituents of 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and 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7632360" y="8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6000" y="4210200"/>
            <a:ext cx="89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rom the quark model we know that the , 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an 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a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which have strangeness S=+1 and S=-1 respectively.  However, because strangeness is not conserved in weak interactions, these states can be converted in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2"/>
          <p:cNvGraphicFramePr/>
          <p:nvPr/>
        </p:nvGraphicFramePr>
        <p:xfrm>
          <a:off x="1224000" y="4917960"/>
          <a:ext cx="205092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4000" y="4917960"/>
                    <a:ext cx="2050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13"/>
          <p:cNvSpPr/>
          <p:nvPr/>
        </p:nvSpPr>
        <p:spPr>
          <a:xfrm>
            <a:off x="6981840" y="42814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2124000" y="944640"/>
            <a:ext cx="757440" cy="4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H="1" flipV="1">
            <a:off x="2916000" y="1449360"/>
            <a:ext cx="2987640" cy="284328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158920" y="3033720"/>
            <a:ext cx="720720" cy="431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 flipH="1" flipV="1">
            <a:off x="2951280" y="3249720"/>
            <a:ext cx="4068720" cy="971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9"/>
          <p:cNvGraphicFramePr/>
          <p:nvPr/>
        </p:nvGraphicFramePr>
        <p:xfrm>
          <a:off x="4392720" y="4905360"/>
          <a:ext cx="203976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4905360"/>
                    <a:ext cx="20397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080" y="93240"/>
            <a:ext cx="8928000" cy="70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What is special about 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– 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50920" y="3429000"/>
            <a:ext cx="88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his interchange is in marked contrast to most other particle-antiparticle systems, for which such transitions are forbidden due to some major conservation law.  For example       and        have opposite charge, whi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nd        have opposite Baryon n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eynman"/>
          <p:cNvPicPr/>
          <p:nvPr/>
        </p:nvPicPr>
        <p:blipFill>
          <a:blip r:embed="rId1"/>
          <a:stretch/>
        </p:blipFill>
        <p:spPr>
          <a:xfrm>
            <a:off x="719280" y="1052640"/>
            <a:ext cx="8064360" cy="24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Object 6"/>
          <p:cNvGraphicFramePr/>
          <p:nvPr/>
        </p:nvGraphicFramePr>
        <p:xfrm>
          <a:off x="2448000" y="4630680"/>
          <a:ext cx="576360" cy="56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8000" y="4630680"/>
                    <a:ext cx="5763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8"/>
          <p:cNvGraphicFramePr/>
          <p:nvPr/>
        </p:nvGraphicFramePr>
        <p:xfrm>
          <a:off x="3751200" y="4573440"/>
          <a:ext cx="612720" cy="64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51200" y="4573440"/>
                    <a:ext cx="61272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0"/>
          <p:cNvGraphicFramePr/>
          <p:nvPr/>
        </p:nvGraphicFramePr>
        <p:xfrm>
          <a:off x="1440000" y="5157720"/>
          <a:ext cx="47448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0000" y="5157720"/>
                    <a:ext cx="4744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2"/>
          <p:cNvGraphicFramePr/>
          <p:nvPr/>
        </p:nvGraphicFramePr>
        <p:xfrm>
          <a:off x="5796000" y="5565600"/>
          <a:ext cx="1836720" cy="51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96000" y="5565600"/>
                    <a:ext cx="18367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44000" cy="13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and 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are not the free-space eingenstates of the 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556000" y="1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1413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re the eigenstates of the (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system) when “molded” by the STRONG force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under production in a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6"/>
          <p:cNvGraphicFramePr/>
          <p:nvPr/>
        </p:nvGraphicFramePr>
        <p:xfrm>
          <a:off x="2519280" y="2384280"/>
          <a:ext cx="266544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2384280"/>
                    <a:ext cx="266544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8"/>
          <p:cNvSpPr/>
          <p:nvPr/>
        </p:nvSpPr>
        <p:spPr>
          <a:xfrm>
            <a:off x="250920" y="375300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However when th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or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re out in “free space” the WEAK force is also a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feynman"/>
          <p:cNvPicPr/>
          <p:nvPr/>
        </p:nvPicPr>
        <p:blipFill>
          <a:blip r:embed="rId3"/>
          <a:stretch/>
        </p:blipFill>
        <p:spPr>
          <a:xfrm>
            <a:off x="2087640" y="4687920"/>
            <a:ext cx="608472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324000" y="4616280"/>
            <a:ext cx="1800000" cy="16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58920" y="4941720"/>
            <a:ext cx="180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y   STRONG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7343640" y="4581360"/>
            <a:ext cx="1800360" cy="16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3384720" y="6308640"/>
            <a:ext cx="291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ut in Fre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7416720" y="4834080"/>
            <a:ext cx="172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ET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y STRONG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25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What are “free space” eigen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87280" y="76500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us in free space  th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system  will be expected to be eigenstates of the WEAK interaction.  That is they should have natural eigenstates with good CP eigenval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2158920" y="2023920"/>
          <a:ext cx="4861080" cy="6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2023920"/>
                    <a:ext cx="486108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8"/>
          <p:cNvGraphicFramePr/>
          <p:nvPr/>
        </p:nvGraphicFramePr>
        <p:xfrm>
          <a:off x="503280" y="4313160"/>
          <a:ext cx="6035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80" y="4313160"/>
                    <a:ext cx="6035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1"/>
          <p:cNvGraphicFramePr/>
          <p:nvPr/>
        </p:nvGraphicFramePr>
        <p:xfrm>
          <a:off x="587520" y="5176800"/>
          <a:ext cx="5964120" cy="7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520" y="5176800"/>
                    <a:ext cx="59641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15"/>
          <p:cNvSpPr/>
          <p:nvPr/>
        </p:nvSpPr>
        <p:spPr>
          <a:xfrm>
            <a:off x="358920" y="2673360"/>
            <a:ext cx="39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is is because we 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6"/>
          <p:cNvGraphicFramePr/>
          <p:nvPr/>
        </p:nvGraphicFramePr>
        <p:xfrm>
          <a:off x="2411280" y="3141720"/>
          <a:ext cx="388944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3141720"/>
                    <a:ext cx="38894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18"/>
          <p:cNvSpPr/>
          <p:nvPr/>
        </p:nvSpPr>
        <p:spPr>
          <a:xfrm>
            <a:off x="358920" y="378936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ut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re not eigenstates of CP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1979640" y="3824280"/>
            <a:ext cx="2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431640" y="602136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CP operator just converts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↔ 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5543640" y="60580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25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What are “free space” eigen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216000" y="1355760"/>
          <a:ext cx="3384360" cy="19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355760"/>
                    <a:ext cx="33843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7"/>
          <p:cNvSpPr/>
          <p:nvPr/>
        </p:nvSpPr>
        <p:spPr>
          <a:xfrm>
            <a:off x="539640" y="728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No,  The “Free Space” eigenstat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Mixingdiagram"/>
          <p:cNvPicPr/>
          <p:nvPr/>
        </p:nvPicPr>
        <p:blipFill>
          <a:blip r:embed="rId3"/>
          <a:stretch/>
        </p:blipFill>
        <p:spPr>
          <a:xfrm rot="18817800">
            <a:off x="5482080" y="1171080"/>
            <a:ext cx="3151440" cy="42447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0" y="1376280"/>
            <a:ext cx="485928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780000" y="166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P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780000" y="2600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P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79280" y="4349880"/>
            <a:ext cx="54007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What is the meaning of the “S” and the “L”.  It stands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Short-l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Long-l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  Thus we can conclude that when the weak interaction is operational the there are two natural eigen-states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16000" y="357336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imSun"/>
              </a:rPr>
              <a:t>Can  you see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9600" cy="124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Why is the decay time different for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and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560520" y="1317600"/>
          <a:ext cx="377640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1317600"/>
                    <a:ext cx="3776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8"/>
          <p:cNvSpPr/>
          <p:nvPr/>
        </p:nvSpPr>
        <p:spPr>
          <a:xfrm>
            <a:off x="4932360" y="1459080"/>
            <a:ext cx="187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P=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P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408720" y="14493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553080" y="14954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0.89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-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551640" y="21686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5.2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-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03280" y="2960640"/>
            <a:ext cx="7669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t is a little difficult to prove (although you can find the proof in many books) that these are the CP values of these final states.  Lets assume it to be the c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t is the difference in energy available (output phase space) for the products that causes the difference in lifetim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se states also differ very slightly different in mass  (3.5x10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How we detect the K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ixingdiagram"/>
          <p:cNvPicPr/>
          <p:nvPr/>
        </p:nvPicPr>
        <p:blipFill>
          <a:blip r:embed="rId1"/>
          <a:stretch/>
        </p:blipFill>
        <p:spPr>
          <a:xfrm>
            <a:off x="5003640" y="1665360"/>
            <a:ext cx="3151440" cy="42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5"/>
          <p:cNvGraphicFramePr/>
          <p:nvPr/>
        </p:nvGraphicFramePr>
        <p:xfrm>
          <a:off x="719280" y="1557360"/>
          <a:ext cx="304776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280" y="1557360"/>
                    <a:ext cx="3047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7"/>
          <p:cNvGraphicFramePr/>
          <p:nvPr/>
        </p:nvGraphicFramePr>
        <p:xfrm>
          <a:off x="576360" y="2600280"/>
          <a:ext cx="3348000" cy="170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6360" y="2600280"/>
                    <a:ext cx="33480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9"/>
          <p:cNvSpPr/>
          <p:nvPr/>
        </p:nvSpPr>
        <p:spPr>
          <a:xfrm>
            <a:off x="287280" y="2708280"/>
            <a:ext cx="3924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68360" y="2529000"/>
            <a:ext cx="3816360" cy="19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5:15:44Z</dcterms:created>
  <dc:creator>Beling</dc:creator>
  <dc:description/>
  <dc:language>en-US</dc:language>
  <cp:lastModifiedBy>alwahip center</cp:lastModifiedBy>
  <dcterms:modified xsi:type="dcterms:W3CDTF">2015-07-25T19:34:52Z</dcterms:modified>
  <cp:revision>39</cp:revision>
  <dc:subject/>
  <dc:title>Beta Decay</dc:title>
</cp:coreProperties>
</file>