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9DC-5B6A-4CF5-89B7-616D35B1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DAE-3CBA-4848-B5C2-86CE9311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6B2-26BD-4A65-AF1A-E6D54173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118-67F4-43E6-A685-C384F311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3ED-F4AC-4C65-BC5E-A2FB1235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EA7-99BA-46AE-8A69-AC828472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57B-DA77-4C22-8F5C-87EA327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663-84C4-4C21-AE79-2A65BF8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4A9E-B6C4-4E4C-98F1-072A47C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82B-F5A2-4604-BC88-F0CD430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A70-5E0B-46EF-AF59-1AAB3C5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823-89F3-46B5-8FC5-7B64D6FA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7FA0-0304-48DC-8C73-00EDC5CA5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Shell Model of the Nucleu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5.   Nuclear moment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Collective Model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6.2, 6.4, 6.5, 6.6, 6.7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ormation effects shell states     Nilss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roject"/>
          <p:cNvPicPr/>
          <p:nvPr/>
        </p:nvPicPr>
        <p:blipFill>
          <a:blip r:embed="rId1"/>
          <a:stretch/>
        </p:blipFill>
        <p:spPr>
          <a:xfrm>
            <a:off x="0" y="1447920"/>
            <a:ext cx="7315200" cy="3386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380880" y="4876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spherical nucle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definite direction is defined – the direction 3 along the axis.  The total angular momen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rojected along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xis to gi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 quantum no.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(j-1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j-2) 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is phenomenon also splits the degeneracy previously seen for spherical (closed shell)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9" name="Picture 4" descr="Nilssonplot"/>
          <p:cNvPicPr/>
          <p:nvPr/>
        </p:nvPicPr>
        <p:blipFill>
          <a:blip r:embed="rId1"/>
          <a:stretch/>
        </p:blipFill>
        <p:spPr>
          <a:xfrm>
            <a:off x="2033640" y="-380880"/>
            <a:ext cx="7186680" cy="73911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457200" y="0"/>
            <a:ext cx="8153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lsson Shell Model Plot for Deformed Nuc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V="1">
            <a:off x="300996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666880" y="495360"/>
            <a:ext cx="53352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143680" y="51444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3429000"/>
            <a:ext cx="45720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2286000" y="2666880"/>
            <a:ext cx="457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6"/>
              <p:cNvSpPr txBox="1"/>
              <p:nvPr/>
            </p:nvSpPr>
            <p:spPr>
              <a:xfrm>
                <a:off x="-38160" y="3048120"/>
                <a:ext cx="473076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uclide     Q            </m:t>
                        </m:r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       Shell   Nilsson    Expt</m:t>
                        </m:r>
                      </m:e>
                      <m:e>
                        <m:sPre>
                          <m:sub>
                            <m:r>
                              <m:t xml:space="preserve">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b    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     </m:t>
                        </m:r>
                        <m:sSup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p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rotational collective rotation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rot4"/>
          <p:cNvPicPr/>
          <p:nvPr/>
        </p:nvPicPr>
        <p:blipFill>
          <a:blip r:embed="rId1"/>
          <a:stretch/>
        </p:blipFill>
        <p:spPr>
          <a:xfrm rot="20167200">
            <a:off x="1066320" y="18284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685800" y="1295280"/>
            <a:ext cx="3962520" cy="1067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85800" y="3657600"/>
            <a:ext cx="396252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1981080"/>
            <a:ext cx="76212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85800" y="2286000"/>
            <a:ext cx="533520" cy="1676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rotnuc"/>
          <p:cNvPicPr/>
          <p:nvPr/>
        </p:nvPicPr>
        <p:blipFill>
          <a:blip r:embed="rId2"/>
          <a:stretch/>
        </p:blipFill>
        <p:spPr>
          <a:xfrm>
            <a:off x="5181480" y="3581280"/>
            <a:ext cx="3581640" cy="317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1"/>
          <p:cNvSpPr/>
          <p:nvPr/>
        </p:nvSpPr>
        <p:spPr>
          <a:xfrm>
            <a:off x="5029200" y="15238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collective rotation occurs around an axis perpendicular to the symmetry axis “3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04920" y="4952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 is called irrotational because the nucleus is not quite solid – It is largely the “skin” of “outer shape” of the nucles that is rot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ive rotational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0"/>
          <p:cNvGrpSpPr/>
          <p:nvPr/>
        </p:nvGrpSpPr>
        <p:grpSpPr>
          <a:xfrm>
            <a:off x="304920" y="838080"/>
            <a:ext cx="5715000" cy="5181480"/>
            <a:chOff x="304920" y="838080"/>
            <a:chExt cx="5715000" cy="5181480"/>
          </a:xfrm>
        </p:grpSpPr>
        <p:pic>
          <p:nvPicPr>
            <p:cNvPr id="188" name="Picture 4" descr="Wrotation"/>
            <p:cNvPicPr/>
            <p:nvPr/>
          </p:nvPicPr>
          <p:blipFill>
            <a:blip r:embed="rId1"/>
            <a:stretch/>
          </p:blipFill>
          <p:spPr>
            <a:xfrm>
              <a:off x="380880" y="838080"/>
              <a:ext cx="5639040" cy="50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Group 18"/>
            <p:cNvGrpSpPr/>
            <p:nvPr/>
          </p:nvGrpSpPr>
          <p:grpSpPr>
            <a:xfrm>
              <a:off x="304920" y="1752480"/>
              <a:ext cx="3581280" cy="4267080"/>
              <a:chOff x="304920" y="1752480"/>
              <a:chExt cx="3581280" cy="4267080"/>
            </a:xfrm>
          </p:grpSpPr>
          <p:sp>
            <p:nvSpPr>
              <p:cNvPr id="190" name="Rectangle 15"/>
              <p:cNvSpPr/>
              <p:nvPr/>
            </p:nvSpPr>
            <p:spPr>
              <a:xfrm>
                <a:off x="3581280" y="1752480"/>
                <a:ext cx="304920" cy="426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6"/>
              <p:cNvSpPr/>
              <p:nvPr/>
            </p:nvSpPr>
            <p:spPr>
              <a:xfrm>
                <a:off x="304920" y="1752480"/>
                <a:ext cx="34290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7"/>
              <p:cNvSpPr/>
              <p:nvPr/>
            </p:nvSpPr>
            <p:spPr>
              <a:xfrm>
                <a:off x="380880" y="1828800"/>
                <a:ext cx="304920" cy="419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Group 21"/>
          <p:cNvGrpSpPr/>
          <p:nvPr/>
        </p:nvGrpSpPr>
        <p:grpSpPr>
          <a:xfrm>
            <a:off x="3474000" y="1413720"/>
            <a:ext cx="3484800" cy="3259440"/>
            <a:chOff x="3474000" y="1413720"/>
            <a:chExt cx="3484800" cy="3259440"/>
          </a:xfrm>
        </p:grpSpPr>
        <p:pic>
          <p:nvPicPr>
            <p:cNvPr id="194" name="Picture 22" descr="prolate"/>
            <p:cNvPicPr/>
            <p:nvPr/>
          </p:nvPicPr>
          <p:blipFill>
            <a:blip r:embed="rId2"/>
            <a:stretch/>
          </p:blipFill>
          <p:spPr>
            <a:xfrm rot="19275000">
              <a:off x="3650760" y="2209680"/>
              <a:ext cx="313056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Oval 23"/>
            <p:cNvSpPr/>
            <p:nvPr/>
          </p:nvSpPr>
          <p:spPr>
            <a:xfrm rot="19431000">
              <a:off x="4184280" y="2438280"/>
              <a:ext cx="11430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4413240" y="21337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 flipH="1">
              <a:off x="4905000" y="225108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>
              <a:off x="4565520" y="36576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 rot="20068800">
              <a:off x="5251320" y="232704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 flipH="1" flipV="1">
              <a:off x="5555880" y="236232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29"/>
          <p:cNvSpPr/>
          <p:nvPr/>
        </p:nvSpPr>
        <p:spPr>
          <a:xfrm flipH="1" flipV="1">
            <a:off x="4648320" y="1980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4251240" y="16146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5181480" y="1919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3"/>
          <p:cNvSpPr/>
          <p:nvPr/>
        </p:nvSpPr>
        <p:spPr>
          <a:xfrm>
            <a:off x="5410080" y="13716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nergy of a rigid rotator with moment of inerti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4"/>
              <p:cNvSpPr txBox="1"/>
              <p:nvPr/>
            </p:nvSpPr>
            <p:spPr>
              <a:xfrm>
                <a:off x="4002120" y="4114800"/>
                <a:ext cx="393840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I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hroding Eqn :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I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t xml:space="preserve">Eψ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Text Box 36"/>
          <p:cNvSpPr/>
          <p:nvPr/>
        </p:nvSpPr>
        <p:spPr>
          <a:xfrm>
            <a:off x="662940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7"/>
              <p:cNvSpPr txBox="1"/>
              <p:nvPr/>
            </p:nvSpPr>
            <p:spPr>
              <a:xfrm>
                <a:off x="7315200" y="3352680"/>
                <a:ext cx="10666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0"/>
          <p:cNvSpPr/>
          <p:nvPr/>
        </p:nvSpPr>
        <p:spPr>
          <a:xfrm>
            <a:off x="4114800" y="5638680"/>
            <a:ext cx="19051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1"/>
          <p:cNvSpPr/>
          <p:nvPr/>
        </p:nvSpPr>
        <p:spPr>
          <a:xfrm>
            <a:off x="3657600" y="1600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us can also vib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vib"/>
          <p:cNvPicPr/>
          <p:nvPr/>
        </p:nvPicPr>
        <p:blipFill>
          <a:blip r:embed="rId1"/>
          <a:stretch/>
        </p:blipFill>
        <p:spPr>
          <a:xfrm>
            <a:off x="347760" y="609480"/>
            <a:ext cx="8796240" cy="4565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09480" y="4648320"/>
            <a:ext cx="39625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thing mod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bserved in 1977 – very high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uclear fluid compr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86400" y="4648320"/>
            <a:ext cx="34290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upole De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ng wave with Sherical Harmonic Wavefunction – circulates – or vibrates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= 2,  Parity =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boson"/>
          <p:cNvPicPr/>
          <p:nvPr/>
        </p:nvPicPr>
        <p:blipFill>
          <a:blip r:embed="rId1"/>
          <a:stretch/>
        </p:blipFill>
        <p:spPr>
          <a:xfrm>
            <a:off x="457200" y="304920"/>
            <a:ext cx="8248680" cy="3476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vibrations are boso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Pd"/>
          <p:cNvPicPr/>
          <p:nvPr/>
        </p:nvPicPr>
        <p:blipFill>
          <a:blip r:embed="rId2"/>
          <a:stretch/>
        </p:blipFill>
        <p:spPr>
          <a:xfrm>
            <a:off x="-228600" y="3421080"/>
            <a:ext cx="9372600" cy="409248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>
            <a:off x="0" y="3429000"/>
            <a:ext cx="944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5715000" y="5791320"/>
                <a:ext cx="1219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Rectangle 9"/>
          <p:cNvSpPr/>
          <p:nvPr/>
        </p:nvSpPr>
        <p:spPr>
          <a:xfrm>
            <a:off x="5638680" y="5715000"/>
            <a:ext cx="13716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iant dipole reso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Giantdipole"/>
          <p:cNvPicPr/>
          <p:nvPr/>
        </p:nvPicPr>
        <p:blipFill>
          <a:blip r:embed="rId1"/>
          <a:stretch/>
        </p:blipFill>
        <p:spPr>
          <a:xfrm>
            <a:off x="914400" y="1836720"/>
            <a:ext cx="7238880" cy="5021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3886200" y="1066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3886200" y="6477120"/>
            <a:ext cx="3581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 rot="10800000">
            <a:off x="990720" y="1599840"/>
            <a:ext cx="4546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 CROSS SECTION  (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8"/>
          <p:cNvGrpSpPr/>
          <p:nvPr/>
        </p:nvGrpSpPr>
        <p:grpSpPr>
          <a:xfrm>
            <a:off x="76320" y="762120"/>
            <a:ext cx="3809880" cy="1054080"/>
            <a:chOff x="76320" y="762120"/>
            <a:chExt cx="3809880" cy="1054080"/>
          </a:xfrm>
        </p:grpSpPr>
        <p:sp>
          <p:nvSpPr>
            <p:cNvPr id="226" name="Oval 6"/>
            <p:cNvSpPr/>
            <p:nvPr/>
          </p:nvSpPr>
          <p:spPr>
            <a:xfrm>
              <a:off x="2895840" y="762120"/>
              <a:ext cx="761760" cy="6858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2895840" y="990720"/>
              <a:ext cx="761760" cy="685800"/>
            </a:xfrm>
            <a:prstGeom prst="ellipse">
              <a:avLst/>
            </a:prstGeom>
            <a:solidFill>
              <a:srgbClr val="0000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38862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>
              <a:off x="3886200" y="1143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1219320" y="952560"/>
              <a:ext cx="990720" cy="507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2210040" y="12193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5"/>
            <p:cNvSpPr/>
            <p:nvPr/>
          </p:nvSpPr>
          <p:spPr>
            <a:xfrm>
              <a:off x="76320" y="14479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 energy pho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4425840" y="685800"/>
                <a:ext cx="47181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4" name="Text Box 19"/>
          <p:cNvSpPr/>
          <p:nvPr/>
        </p:nvSpPr>
        <p:spPr>
          <a:xfrm>
            <a:off x="2590920" y="685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25909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clear magnetic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2"/>
          <p:cNvGrpSpPr/>
          <p:nvPr/>
        </p:nvGrpSpPr>
        <p:grpSpPr>
          <a:xfrm>
            <a:off x="304920" y="533520"/>
            <a:ext cx="8839080" cy="5715000"/>
            <a:chOff x="304920" y="533520"/>
            <a:chExt cx="8839080" cy="5715000"/>
          </a:xfrm>
        </p:grpSpPr>
        <p:grpSp>
          <p:nvGrpSpPr>
            <p:cNvPr id="239" name="Group 4"/>
            <p:cNvGrpSpPr/>
            <p:nvPr/>
          </p:nvGrpSpPr>
          <p:grpSpPr>
            <a:xfrm>
              <a:off x="304920" y="648360"/>
              <a:ext cx="4559040" cy="3718800"/>
              <a:chOff x="304920" y="648360"/>
              <a:chExt cx="4559040" cy="3718800"/>
            </a:xfrm>
          </p:grpSpPr>
          <p:sp>
            <p:nvSpPr>
              <p:cNvPr id="240" name="AutoShape 5"/>
              <p:cNvSpPr/>
              <p:nvPr/>
            </p:nvSpPr>
            <p:spPr>
              <a:xfrm>
                <a:off x="304920" y="685800"/>
                <a:ext cx="4559040" cy="368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6"/>
              <p:cNvGrpSpPr/>
              <p:nvPr/>
            </p:nvGrpSpPr>
            <p:grpSpPr>
              <a:xfrm>
                <a:off x="1141560" y="714240"/>
                <a:ext cx="3395160" cy="3507480"/>
                <a:chOff x="1141560" y="714240"/>
                <a:chExt cx="3395160" cy="3507480"/>
              </a:xfrm>
            </p:grpSpPr>
            <p:sp>
              <p:nvSpPr>
                <p:cNvPr id="242" name="Oval 7"/>
                <p:cNvSpPr/>
                <p:nvPr/>
              </p:nvSpPr>
              <p:spPr>
                <a:xfrm rot="17785800">
                  <a:off x="1798920" y="2082600"/>
                  <a:ext cx="1203480" cy="221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8"/>
                <p:cNvSpPr/>
                <p:nvPr/>
              </p:nvSpPr>
              <p:spPr>
                <a:xfrm>
                  <a:off x="1796400" y="3491280"/>
                  <a:ext cx="201240" cy="20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9"/>
                <p:cNvSpPr/>
                <p:nvPr/>
              </p:nvSpPr>
              <p:spPr>
                <a:xfrm>
                  <a:off x="1998000" y="3662640"/>
                  <a:ext cx="236880" cy="12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0"/>
                <p:cNvSpPr/>
                <p:nvPr/>
              </p:nvSpPr>
              <p:spPr>
                <a:xfrm flipV="1">
                  <a:off x="2407320" y="1135440"/>
                  <a:ext cx="1330920" cy="202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1"/>
                <p:cNvSpPr/>
                <p:nvPr/>
              </p:nvSpPr>
              <p:spPr>
                <a:xfrm flipV="1">
                  <a:off x="3534840" y="1150920"/>
                  <a:ext cx="203400" cy="29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Text Box 12"/>
                <p:cNvSpPr/>
                <p:nvPr/>
              </p:nvSpPr>
              <p:spPr>
                <a:xfrm>
                  <a:off x="3863520" y="1073160"/>
                  <a:ext cx="673200" cy="51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"/>
                <p:cNvSpPr/>
                <p:nvPr/>
              </p:nvSpPr>
              <p:spPr>
                <a:xfrm flipH="1" flipV="1">
                  <a:off x="3503160" y="714240"/>
                  <a:ext cx="219240" cy="43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4"/>
                <p:cNvSpPr/>
                <p:nvPr/>
              </p:nvSpPr>
              <p:spPr>
                <a:xfrm flipH="1" flipV="1">
                  <a:off x="1670760" y="3147840"/>
                  <a:ext cx="219240" cy="43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rc 15"/>
                <p:cNvSpPr/>
                <p:nvPr/>
              </p:nvSpPr>
              <p:spPr>
                <a:xfrm rot="6486600">
                  <a:off x="1738800" y="3474720"/>
                  <a:ext cx="343080" cy="3758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6"/>
                <p:cNvSpPr/>
                <p:nvPr/>
              </p:nvSpPr>
              <p:spPr>
                <a:xfrm flipH="1" flipV="1">
                  <a:off x="2078640" y="3459600"/>
                  <a:ext cx="46800" cy="10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Text Box 17"/>
                <p:cNvSpPr/>
                <p:nvPr/>
              </p:nvSpPr>
              <p:spPr>
                <a:xfrm>
                  <a:off x="3346920" y="3163680"/>
                  <a:ext cx="183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8"/>
                <p:cNvSpPr/>
                <p:nvPr/>
              </p:nvSpPr>
              <p:spPr>
                <a:xfrm flipV="1">
                  <a:off x="2407320" y="776520"/>
                  <a:ext cx="1064520" cy="235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  <a:tail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Text Box 19"/>
                <p:cNvSpPr/>
                <p:nvPr/>
              </p:nvSpPr>
              <p:spPr>
                <a:xfrm>
                  <a:off x="3033720" y="776880"/>
                  <a:ext cx="46944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Mincho"/>
                    </a:rPr>
                    <a:t>j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Text Box 20"/>
              <p:cNvSpPr/>
              <p:nvPr/>
            </p:nvSpPr>
            <p:spPr>
              <a:xfrm>
                <a:off x="416520" y="3602520"/>
                <a:ext cx="117432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prot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21"/>
              <p:cNvSpPr/>
              <p:nvPr/>
            </p:nvSpPr>
            <p:spPr>
              <a:xfrm flipV="1">
                <a:off x="1293480" y="3683880"/>
                <a:ext cx="422640" cy="15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2"/>
              <p:cNvSpPr/>
              <p:nvPr/>
            </p:nvSpPr>
            <p:spPr>
              <a:xfrm rot="1408200">
                <a:off x="2943360" y="815400"/>
                <a:ext cx="905760" cy="31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23"/>
              <p:cNvSpPr/>
              <p:nvPr/>
            </p:nvSpPr>
            <p:spPr>
              <a:xfrm flipH="1" flipV="1">
                <a:off x="2402640" y="711720"/>
                <a:ext cx="15480" cy="209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24"/>
              <p:cNvSpPr/>
              <p:nvPr/>
            </p:nvSpPr>
            <p:spPr>
              <a:xfrm>
                <a:off x="1854720" y="752400"/>
                <a:ext cx="501120" cy="51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MS Mincho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26"/>
            <p:cNvSpPr/>
            <p:nvPr/>
          </p:nvSpPr>
          <p:spPr>
            <a:xfrm>
              <a:off x="4572000" y="685800"/>
              <a:ext cx="4343400" cy="23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magnetic moment of the nucleus comes about becau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have charged particles – protons moving around the center of the nucleus (i.e. p, d, f, g etc sta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h protons and neutrons have their own INTRINSIC magnetic momen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7"/>
                <p:cNvSpPr txBox="1"/>
                <p:nvPr/>
              </p:nvSpPr>
              <p:spPr>
                <a:xfrm>
                  <a:off x="4648320" y="3124440"/>
                  <a:ext cx="40384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μ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86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μ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26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num>
                            <m:den>
                              <m:r>
                                <m:t xml:space="preserve">ℏ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Text Box 29"/>
            <p:cNvSpPr/>
            <p:nvPr/>
          </p:nvSpPr>
          <p:spPr>
            <a:xfrm>
              <a:off x="1717560" y="29718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0"/>
            <p:cNvSpPr/>
            <p:nvPr/>
          </p:nvSpPr>
          <p:spPr>
            <a:xfrm>
              <a:off x="3581280" y="533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1"/>
            <p:cNvSpPr/>
            <p:nvPr/>
          </p:nvSpPr>
          <p:spPr>
            <a:xfrm>
              <a:off x="380880" y="411480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the PROTON we must add the mag mom due to ORBITAL motion to get the full mag. Mo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32"/>
                <p:cNvSpPr txBox="1"/>
                <p:nvPr/>
              </p:nvSpPr>
              <p:spPr>
                <a:xfrm>
                  <a:off x="3352680" y="4572000"/>
                  <a:ext cx="274320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μ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l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p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ℏ</m:t>
                          </m:r>
                        </m:den>
                      </m:f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Text Box 34"/>
            <p:cNvSpPr/>
            <p:nvPr/>
          </p:nvSpPr>
          <p:spPr>
            <a:xfrm>
              <a:off x="304920" y="5257800"/>
              <a:ext cx="8839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the NEUTRON we can write down a similar equation but define that g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38"/>
            <p:cNvGrpSpPr/>
            <p:nvPr/>
          </p:nvGrpSpPr>
          <p:grpSpPr>
            <a:xfrm>
              <a:off x="6934320" y="4572000"/>
              <a:ext cx="1371600" cy="609840"/>
              <a:chOff x="6934320" y="4572000"/>
              <a:chExt cx="1371600" cy="609840"/>
            </a:xfrm>
          </p:grpSpPr>
          <mc:AlternateContent>
            <mc:Choice xmlns:a14="http://schemas.microsoft.com/office/drawing/2010/main" Requires="a14">
              <p:sp>
                <p:nvSpPr>
                  <p:cNvPr id="268" name="Object 35"/>
                  <p:cNvSpPr txBox="1"/>
                  <p:nvPr/>
                </p:nvSpPr>
                <p:spPr>
                  <a:xfrm>
                    <a:off x="7162920" y="4572000"/>
                    <a:ext cx="838080" cy="5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9" name="Rectangle 37"/>
              <p:cNvSpPr/>
              <p:nvPr/>
            </p:nvSpPr>
            <p:spPr>
              <a:xfrm>
                <a:off x="6934320" y="4572000"/>
                <a:ext cx="1371600" cy="6098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9"/>
            <p:cNvGrpSpPr/>
            <p:nvPr/>
          </p:nvGrpSpPr>
          <p:grpSpPr>
            <a:xfrm>
              <a:off x="6934320" y="5639040"/>
              <a:ext cx="1371600" cy="609480"/>
              <a:chOff x="6934320" y="5639040"/>
              <a:chExt cx="1371600" cy="609480"/>
            </a:xfrm>
          </p:grpSpPr>
          <mc:AlternateContent>
            <mc:Choice xmlns:a14="http://schemas.microsoft.com/office/drawing/2010/main" Requires="a14">
              <p:sp>
                <p:nvSpPr>
                  <p:cNvPr id="271" name="Object 40"/>
                  <p:cNvSpPr txBox="1"/>
                  <p:nvPr/>
                </p:nvSpPr>
                <p:spPr>
                  <a:xfrm>
                    <a:off x="7139160" y="5667480"/>
                    <a:ext cx="887400" cy="49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2" name="Rectangle 41"/>
              <p:cNvSpPr/>
              <p:nvPr/>
            </p:nvSpPr>
            <p:spPr>
              <a:xfrm>
                <a:off x="6934320" y="5639040"/>
                <a:ext cx="1371600" cy="609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Text Box 43"/>
          <p:cNvSpPr/>
          <p:nvPr/>
        </p:nvSpPr>
        <p:spPr>
          <a:xfrm>
            <a:off x="304920" y="55627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ime averaging rapid motion about j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4"/>
              <p:cNvSpPr txBox="1"/>
              <p:nvPr/>
            </p:nvSpPr>
            <p:spPr>
              <a:xfrm>
                <a:off x="838080" y="5888160"/>
                <a:ext cx="5105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5" name="Rectangle 46"/>
          <p:cNvSpPr/>
          <p:nvPr/>
        </p:nvSpPr>
        <p:spPr>
          <a:xfrm>
            <a:off x="762120" y="5908680"/>
            <a:ext cx="533376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6248520" y="6400800"/>
            <a:ext cx="16761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C 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dipole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schmidt1"/>
          <p:cNvPicPr/>
          <p:nvPr/>
        </p:nvPicPr>
        <p:blipFill>
          <a:blip r:embed="rId1"/>
          <a:stretch/>
        </p:blipFill>
        <p:spPr>
          <a:xfrm>
            <a:off x="1066680" y="1152360"/>
            <a:ext cx="6629400" cy="52484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5867280" y="2514600"/>
            <a:ext cx="2210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 rot="10800000">
            <a:off x="608040" y="68580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MOMENT (nuc magnet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971800" y="6172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PIN  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934320" y="1523880"/>
            <a:ext cx="13716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934320" y="4267080"/>
            <a:ext cx="13716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6172200" y="5943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 are the “Schmidt lin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netic dipole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867280" y="2514600"/>
            <a:ext cx="22100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 rot="10800000">
            <a:off x="608040" y="685800"/>
            <a:ext cx="454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C MOMENT (nuc magnet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4876920" y="649116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AR SPIN  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schmidt2"/>
          <p:cNvPicPr/>
          <p:nvPr/>
        </p:nvPicPr>
        <p:blipFill>
          <a:blip r:embed="rId1"/>
          <a:stretch/>
        </p:blipFill>
        <p:spPr>
          <a:xfrm>
            <a:off x="1143000" y="1281240"/>
            <a:ext cx="7315200" cy="511956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2362320" y="1219320"/>
            <a:ext cx="19047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7543800" y="3429000"/>
            <a:ext cx="1295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N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543800" y="1371600"/>
            <a:ext cx="129528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76212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n are the “Schmidt Lines” named after German physicist T. Schmidt who discovered these lines empirically in 193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ohr-Mottelson Collective Model of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Aage Bohr"/>
          <p:cNvPicPr/>
          <p:nvPr/>
        </p:nvPicPr>
        <p:blipFill>
          <a:blip r:embed="rId1"/>
          <a:stretch/>
        </p:blipFill>
        <p:spPr>
          <a:xfrm>
            <a:off x="3657600" y="1523880"/>
            <a:ext cx="159696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Mottelson"/>
          <p:cNvPicPr/>
          <p:nvPr/>
        </p:nvPicPr>
        <p:blipFill>
          <a:blip r:embed="rId2"/>
          <a:stretch/>
        </p:blipFill>
        <p:spPr>
          <a:xfrm>
            <a:off x="6248520" y="1523880"/>
            <a:ext cx="16682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rainwater"/>
          <p:cNvPicPr/>
          <p:nvPr/>
        </p:nvPicPr>
        <p:blipFill>
          <a:blip r:embed="rId3"/>
          <a:stretch/>
        </p:blipFill>
        <p:spPr>
          <a:xfrm>
            <a:off x="1066680" y="1523880"/>
            <a:ext cx="162108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914400" y="3962520"/>
            <a:ext cx="2362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Rain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7 – 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733920" y="3962520"/>
            <a:ext cx="1523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ge Bo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22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6095880" y="3989520"/>
            <a:ext cx="221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Motte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26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/ Den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5029200"/>
            <a:ext cx="929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bout 1950 – 1955, Bohr and Mottelson followed the idea on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llective nuclear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ggested by Rainwater.  All three received the 1975 Nobel Prize  – “For their work on the connection of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llective nuclear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single particle mo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 nuclear mo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eqn1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131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eqn2"/>
          <p:cNvPicPr/>
          <p:nvPr/>
        </p:nvPicPr>
        <p:blipFill>
          <a:blip r:embed="rId2"/>
          <a:stretch/>
        </p:blipFill>
        <p:spPr>
          <a:xfrm>
            <a:off x="76320" y="2971800"/>
            <a:ext cx="9067680" cy="10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4419720" y="963720"/>
                <a:ext cx="25905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φ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5" name="Text Box 12"/>
          <p:cNvSpPr/>
          <p:nvPr/>
        </p:nvSpPr>
        <p:spPr>
          <a:xfrm>
            <a:off x="0" y="533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ostatic energy associated with charge distrib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in electric potentia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1905120" y="1295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7848720" y="114300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7823160" y="190440"/>
            <a:ext cx="101592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800064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8763120" y="30492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Line 19"/>
          <p:cNvSpPr/>
          <p:nvPr/>
        </p:nvSpPr>
        <p:spPr>
          <a:xfrm flipH="1" flipV="1">
            <a:off x="8000640" y="129492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86104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83059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8610480" y="2057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3"/>
              <p:cNvSpPr txBox="1"/>
              <p:nvPr/>
            </p:nvSpPr>
            <p:spPr>
              <a:xfrm>
                <a:off x="8229600" y="13716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6" name="Rectangle 25"/>
          <p:cNvSpPr/>
          <p:nvPr/>
        </p:nvSpPr>
        <p:spPr>
          <a:xfrm>
            <a:off x="4343400" y="838080"/>
            <a:ext cx="2666880" cy="838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6"/>
              <p:cNvSpPr txBox="1"/>
              <p:nvPr/>
            </p:nvSpPr>
            <p:spPr>
              <a:xfrm>
                <a:off x="7315200" y="749160"/>
                <a:ext cx="990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ρ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8" name="Line 28"/>
          <p:cNvSpPr/>
          <p:nvPr/>
        </p:nvSpPr>
        <p:spPr>
          <a:xfrm>
            <a:off x="129528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H="1">
            <a:off x="1599840" y="38862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0"/>
              <p:cNvSpPr txBox="1"/>
              <p:nvPr/>
            </p:nvSpPr>
            <p:spPr>
              <a:xfrm>
                <a:off x="228600" y="4694400"/>
                <a:ext cx="20574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Z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1" name="Line 32"/>
          <p:cNvSpPr/>
          <p:nvPr/>
        </p:nvSpPr>
        <p:spPr>
          <a:xfrm>
            <a:off x="2895480" y="38862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3581280" y="38862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4"/>
              <p:cNvSpPr txBox="1"/>
              <p:nvPr/>
            </p:nvSpPr>
            <p:spPr>
              <a:xfrm>
                <a:off x="2971800" y="4724280"/>
                <a:ext cx="213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Line 36"/>
          <p:cNvSpPr/>
          <p:nvPr/>
        </p:nvSpPr>
        <p:spPr>
          <a:xfrm>
            <a:off x="68580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7"/>
          <p:cNvSpPr/>
          <p:nvPr/>
        </p:nvSpPr>
        <p:spPr>
          <a:xfrm flipH="1">
            <a:off x="7391160" y="388620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8"/>
              <p:cNvSpPr txBox="1"/>
              <p:nvPr/>
            </p:nvSpPr>
            <p:spPr>
              <a:xfrm>
                <a:off x="5715000" y="4648320"/>
                <a:ext cx="32004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7" name="Line 42"/>
          <p:cNvSpPr/>
          <p:nvPr/>
        </p:nvSpPr>
        <p:spPr>
          <a:xfrm flipV="1">
            <a:off x="121932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3"/>
          <p:cNvSpPr/>
          <p:nvPr/>
        </p:nvSpPr>
        <p:spPr>
          <a:xfrm>
            <a:off x="0" y="5545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4"/>
          <p:cNvSpPr/>
          <p:nvPr/>
        </p:nvSpPr>
        <p:spPr>
          <a:xfrm>
            <a:off x="281952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DI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5"/>
          <p:cNvSpPr/>
          <p:nvPr/>
        </p:nvSpPr>
        <p:spPr>
          <a:xfrm flipV="1">
            <a:off x="38098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6"/>
          <p:cNvSpPr/>
          <p:nvPr/>
        </p:nvSpPr>
        <p:spPr>
          <a:xfrm flipV="1">
            <a:off x="7162920" y="525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>
            <a:off x="5638680" y="55627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 QUADRU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8"/>
          <p:cNvSpPr/>
          <p:nvPr/>
        </p:nvSpPr>
        <p:spPr>
          <a:xfrm>
            <a:off x="12193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9"/>
          <p:cNvSpPr/>
          <p:nvPr/>
        </p:nvSpPr>
        <p:spPr>
          <a:xfrm>
            <a:off x="3581280" y="6248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0"/>
          <p:cNvSpPr/>
          <p:nvPr/>
        </p:nvSpPr>
        <p:spPr>
          <a:xfrm>
            <a:off x="6705720" y="6248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1"/>
          <p:cNvSpPr/>
          <p:nvPr/>
        </p:nvSpPr>
        <p:spPr>
          <a:xfrm>
            <a:off x="7238880" y="6248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2"/>
          <p:cNvSpPr/>
          <p:nvPr/>
        </p:nvSpPr>
        <p:spPr>
          <a:xfrm>
            <a:off x="4038480" y="6248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3460680" y="63374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108252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6400800" y="6110280"/>
            <a:ext cx="13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6"/>
          <p:cNvSpPr/>
          <p:nvPr/>
        </p:nvSpPr>
        <p:spPr>
          <a:xfrm>
            <a:off x="6978600" y="6505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7"/>
          <p:cNvSpPr/>
          <p:nvPr/>
        </p:nvSpPr>
        <p:spPr>
          <a:xfrm>
            <a:off x="6966000" y="6019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6889680" y="5695920"/>
            <a:ext cx="457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9"/>
          <p:cNvSpPr/>
          <p:nvPr/>
        </p:nvSpPr>
        <p:spPr>
          <a:xfrm>
            <a:off x="3733920" y="6292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 and Magnetic nuclear mo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Table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295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05320" y="2895480"/>
            <a:ext cx="6858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04920" y="4038480"/>
            <a:ext cx="80769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ymmetry reas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lectric 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nucleus (as well as all other static multipole moments with odd   parity; for example – magnetic monopole, magnetic quadrupole or electric octupole)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ust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VA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Because the both the strong and the electric forces are invarient under the parity operation – which means we should never get different nuclear properties  under space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ar Quadrupole moment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Quadrupole"/>
          <p:cNvPicPr/>
          <p:nvPr/>
        </p:nvPicPr>
        <p:blipFill>
          <a:blip r:embed="rId1"/>
          <a:stretch/>
        </p:blipFill>
        <p:spPr>
          <a:xfrm>
            <a:off x="3581280" y="990720"/>
            <a:ext cx="5791320" cy="4074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prolate"/>
          <p:cNvPicPr/>
          <p:nvPr/>
        </p:nvPicPr>
        <p:blipFill>
          <a:blip r:embed="rId2"/>
          <a:stretch/>
        </p:blipFill>
        <p:spPr>
          <a:xfrm>
            <a:off x="0" y="914400"/>
            <a:ext cx="3130560" cy="1666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Oblate"/>
          <p:cNvPicPr/>
          <p:nvPr/>
        </p:nvPicPr>
        <p:blipFill>
          <a:blip r:embed="rId3"/>
          <a:stretch/>
        </p:blipFill>
        <p:spPr>
          <a:xfrm>
            <a:off x="228600" y="3581280"/>
            <a:ext cx="2895480" cy="1463760"/>
          </a:xfrm>
          <a:prstGeom prst="rect">
            <a:avLst/>
          </a:prstGeom>
          <a:ln w="0">
            <a:noFill/>
          </a:ln>
        </p:spPr>
      </p:pic>
      <p:sp>
        <p:nvSpPr>
          <p:cNvPr id="103" name="Line 10"/>
          <p:cNvSpPr/>
          <p:nvPr/>
        </p:nvSpPr>
        <p:spPr>
          <a:xfrm flipH="1">
            <a:off x="380880" y="3200400"/>
            <a:ext cx="2819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152388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1523880" y="3200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H="1">
            <a:off x="533160" y="32004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1066680" y="2743200"/>
            <a:ext cx="914400" cy="838080"/>
          </a:xfrm>
          <a:prstGeom prst="ellipse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2030400" y="838080"/>
            <a:ext cx="152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ROLA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Cig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2133720" y="3352680"/>
            <a:ext cx="1523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BLAT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ou-n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152280" y="5181480"/>
            <a:ext cx="89154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atoms – nuclei can easily distort from spherical state.  Unlike atoms the potential the nucleons move in is formed by the nucleons themselves.  [In an atom it is the potential coming from the nucleus that dominat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2971800" y="1523880"/>
                <a:ext cx="838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2"/>
              <p:cNvSpPr txBox="1"/>
              <p:nvPr/>
            </p:nvSpPr>
            <p:spPr>
              <a:xfrm>
                <a:off x="2930400" y="2711520"/>
                <a:ext cx="838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4"/>
              <p:cNvSpPr txBox="1"/>
              <p:nvPr/>
            </p:nvSpPr>
            <p:spPr>
              <a:xfrm>
                <a:off x="3048120" y="411480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urchamQ"/>
          <p:cNvPicPr/>
          <p:nvPr/>
        </p:nvPicPr>
        <p:blipFill>
          <a:blip r:embed="rId1"/>
          <a:stretch/>
        </p:blipFill>
        <p:spPr>
          <a:xfrm>
            <a:off x="762120" y="1108080"/>
            <a:ext cx="7924680" cy="482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457200" y="1522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uclear Quadrupole moment 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85800" y="1066680"/>
            <a:ext cx="7621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1066680" y="1143000"/>
                <a:ext cx="4762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Line 9"/>
          <p:cNvSpPr/>
          <p:nvPr/>
        </p:nvSpPr>
        <p:spPr>
          <a:xfrm flipV="1">
            <a:off x="1860480" y="114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934320" y="533412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ic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7315200" y="568656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 rot="16200000">
            <a:off x="-294120" y="334332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drupole Moment (Bar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gions of spher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doublemagics"/>
          <p:cNvPicPr/>
          <p:nvPr/>
        </p:nvPicPr>
        <p:blipFill>
          <a:blip r:embed="rId1"/>
          <a:stretch/>
        </p:blipFill>
        <p:spPr>
          <a:xfrm>
            <a:off x="0" y="693720"/>
            <a:ext cx="8381880" cy="6164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0" y="4114800"/>
            <a:ext cx="6094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3"/>
          <p:cNvGrpSpPr/>
          <p:nvPr/>
        </p:nvGrpSpPr>
        <p:grpSpPr>
          <a:xfrm>
            <a:off x="0" y="4038480"/>
            <a:ext cx="1447920" cy="533520"/>
            <a:chOff x="0" y="4038480"/>
            <a:chExt cx="1447920" cy="533520"/>
          </a:xfrm>
        </p:grpSpPr>
        <mc:AlternateContent>
          <mc:Choice xmlns:a14="http://schemas.microsoft.com/office/drawing/2010/main" Requires="a14">
            <p:sp>
              <p:nvSpPr>
                <p:cNvPr id="128" name="Object 7"/>
                <p:cNvSpPr txBox="1"/>
                <p:nvPr/>
              </p:nvSpPr>
              <p:spPr>
                <a:xfrm>
                  <a:off x="76320" y="4116240"/>
                  <a:ext cx="12952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56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9" name="Rectangle 12"/>
            <p:cNvSpPr/>
            <p:nvPr/>
          </p:nvSpPr>
          <p:spPr>
            <a:xfrm>
              <a:off x="0" y="403848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4"/>
          <p:cNvSpPr/>
          <p:nvPr/>
        </p:nvSpPr>
        <p:spPr>
          <a:xfrm>
            <a:off x="0" y="51055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5"/>
              <p:cNvSpPr txBox="1"/>
              <p:nvPr/>
            </p:nvSpPr>
            <p:spPr>
              <a:xfrm>
                <a:off x="-23760" y="5181480"/>
                <a:ext cx="582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Rectangle 17"/>
          <p:cNvSpPr/>
          <p:nvPr/>
        </p:nvSpPr>
        <p:spPr>
          <a:xfrm>
            <a:off x="1066680" y="632448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8"/>
              <p:cNvSpPr txBox="1"/>
              <p:nvPr/>
            </p:nvSpPr>
            <p:spPr>
              <a:xfrm>
                <a:off x="1219320" y="6400800"/>
                <a:ext cx="685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Line 20"/>
          <p:cNvSpPr/>
          <p:nvPr/>
        </p:nvSpPr>
        <p:spPr>
          <a:xfrm flipH="1" flipV="1">
            <a:off x="7543440" y="1295280"/>
            <a:ext cx="228600" cy="32004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7543800" y="4419720"/>
            <a:ext cx="1600200" cy="1465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– will mankind ever make this double mag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2"/>
          <p:cNvSpPr/>
          <p:nvPr/>
        </p:nvSpPr>
        <p:spPr>
          <a:xfrm>
            <a:off x="990720" y="1828800"/>
            <a:ext cx="73152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>
            <a:off x="6705720" y="1066680"/>
            <a:ext cx="0" cy="4953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0" y="1295280"/>
            <a:ext cx="121932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of manmade 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ole moment on the Shell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Quadexplain"/>
          <p:cNvPicPr/>
          <p:nvPr/>
        </p:nvPicPr>
        <p:blipFill>
          <a:blip r:embed="rId1"/>
          <a:stretch/>
        </p:blipFill>
        <p:spPr>
          <a:xfrm>
            <a:off x="1905120" y="533520"/>
            <a:ext cx="5105160" cy="5105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5105520" y="5592600"/>
            <a:ext cx="40384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proton or neutron removed from a closed shell configuration make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O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lips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" y="5622840"/>
            <a:ext cx="4572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xtra proton or neutron added to a closed shell configuration makes a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BL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lipso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4876920" y="6094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838080" y="3200400"/>
                <a:ext cx="1143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3"/>
              <p:cNvSpPr txBox="1"/>
              <p:nvPr/>
            </p:nvSpPr>
            <p:spPr>
              <a:xfrm>
                <a:off x="7238880" y="3124080"/>
                <a:ext cx="1067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0" y="274680"/>
            <a:ext cx="9144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ole moment on the Shell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Qmomentshell"/>
          <p:cNvPicPr/>
          <p:nvPr/>
        </p:nvPicPr>
        <p:blipFill>
          <a:blip r:embed="rId1"/>
          <a:stretch/>
        </p:blipFill>
        <p:spPr>
          <a:xfrm>
            <a:off x="0" y="838080"/>
            <a:ext cx="5562720" cy="553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4114800" y="1752480"/>
            <a:ext cx="16002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pr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114800" y="5029200"/>
            <a:ext cx="16765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 neu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41148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572000" y="1219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4114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4572000" y="232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4648320" y="43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4648320" y="5791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5562720" y="1066680"/>
                <a:ext cx="35812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lj</m:t>
                                    </m:r>
                                  </m:e>
                                  <m:sup/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l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Line 19"/>
          <p:cNvSpPr/>
          <p:nvPr/>
        </p:nvSpPr>
        <p:spPr>
          <a:xfrm flipH="1" flipV="1">
            <a:off x="8152920" y="2133720"/>
            <a:ext cx="381240" cy="1295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7772400" y="3429000"/>
            <a:ext cx="137160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 flipH="1" flipV="1">
            <a:off x="6781320" y="3124080"/>
            <a:ext cx="83844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7620120" y="4495680"/>
            <a:ext cx="12189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58672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uniformly charged sp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6248520" y="5867280"/>
                <a:ext cx="20574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&gt;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Line 26"/>
          <p:cNvSpPr/>
          <p:nvPr/>
        </p:nvSpPr>
        <p:spPr>
          <a:xfrm flipH="1">
            <a:off x="6552720" y="2895480"/>
            <a:ext cx="838440" cy="3124440"/>
          </a:xfrm>
          <a:prstGeom prst="line">
            <a:avLst/>
          </a:prstGeom>
          <a:ln cap="rnd" w="3816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1:44:12Z</dcterms:created>
  <dc:creator>cdb</dc:creator>
  <dc:description/>
  <dc:language>en-US</dc:language>
  <cp:lastModifiedBy>alwahip center</cp:lastModifiedBy>
  <dcterms:modified xsi:type="dcterms:W3CDTF">2015-07-25T19:14:25Z</dcterms:modified>
  <cp:revision>16</cp:revision>
  <dc:subject/>
  <dc:title>The Shell Model of the Nucleus  5.  Applications – excited states and nuclear moments.</dc:title>
</cp:coreProperties>
</file>