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1C5-3450-4AFD-AA21-04CF2BCF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77F-2ECC-4C13-908C-314A5421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A51-9505-4FB6-86D9-4F1D9EAE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28B-87CD-423D-815B-D289C542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AA5-EB0D-40F4-BD86-338D284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0B1-80DA-43A8-BEC8-05B69AF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739-DACA-4287-B309-046E61BA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6F6-05FC-4881-A42C-B9CFC59C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8C4-19A1-4DDD-9FC3-72851AF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68B-84CA-4947-BD78-06E489B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672-62B2-4E16-A555-0F3617F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4D4-A540-4FF0-842B-008D3C1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956-9842-4E83-8AAB-179285A7D0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Shell Model of the Nucleu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1. Evi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. 5.1 and 5.2 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8" descr="Trans4"/>
          <p:cNvPicPr/>
          <p:nvPr/>
        </p:nvPicPr>
        <p:blipFill>
          <a:blip r:embed="rId1"/>
          <a:stretch/>
        </p:blipFill>
        <p:spPr>
          <a:xfrm>
            <a:off x="533520" y="966960"/>
            <a:ext cx="7378560" cy="11301120"/>
          </a:xfrm>
          <a:prstGeom prst="rect">
            <a:avLst/>
          </a:prstGeom>
          <a:ln w="0">
            <a:noFill/>
          </a:ln>
        </p:spPr>
      </p:pic>
      <p:sp>
        <p:nvSpPr>
          <p:cNvPr id="149" name="Line 19"/>
          <p:cNvSpPr/>
          <p:nvPr/>
        </p:nvSpPr>
        <p:spPr>
          <a:xfrm>
            <a:off x="762120" y="2438280"/>
            <a:ext cx="723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762120" y="2971800"/>
            <a:ext cx="723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762120" y="3505320"/>
            <a:ext cx="723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762120" y="4267080"/>
            <a:ext cx="723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838080" y="5105520"/>
            <a:ext cx="7239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914400" y="6095880"/>
            <a:ext cx="723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7867800" y="2076480"/>
            <a:ext cx="609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7886880" y="2610000"/>
            <a:ext cx="571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7848720" y="3143160"/>
            <a:ext cx="609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848720" y="3905280"/>
            <a:ext cx="609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7848720" y="4743360"/>
            <a:ext cx="609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7848720" y="5734080"/>
            <a:ext cx="533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6" descr="Atomsbindi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7"/>
          <p:cNvSpPr/>
          <p:nvPr/>
        </p:nvSpPr>
        <p:spPr>
          <a:xfrm>
            <a:off x="1219320" y="762120"/>
            <a:ext cx="7924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057400" y="838080"/>
            <a:ext cx="3657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ingle electron separ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Radiusatoms"/>
          <p:cNvPicPr/>
          <p:nvPr/>
        </p:nvPicPr>
        <p:blipFill>
          <a:blip r:embed="rId1"/>
          <a:stretch/>
        </p:blipFill>
        <p:spPr>
          <a:xfrm>
            <a:off x="-533520" y="-252360"/>
            <a:ext cx="9786960" cy="7364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533520" y="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-457200" y="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8580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valent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90920" y="762120"/>
            <a:ext cx="1904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tomic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vidence for Nuclear Sh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Neutronseparation"/>
          <p:cNvPicPr/>
          <p:nvPr/>
        </p:nvPicPr>
        <p:blipFill>
          <a:blip r:embed="rId1"/>
          <a:stretch/>
        </p:blipFill>
        <p:spPr>
          <a:xfrm>
            <a:off x="457200" y="573120"/>
            <a:ext cx="8305920" cy="6284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286000" y="1066680"/>
            <a:ext cx="4191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ingle neutron separ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vidence for Nuclear Sh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90720" y="685800"/>
            <a:ext cx="5410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BoverAvariation"/>
          <p:cNvPicPr/>
          <p:nvPr/>
        </p:nvPicPr>
        <p:blipFill>
          <a:blip r:embed="rId1"/>
          <a:stretch/>
        </p:blipFill>
        <p:spPr>
          <a:xfrm>
            <a:off x="0" y="671400"/>
            <a:ext cx="9144000" cy="4510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609480" y="5029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famous binding energy per nucleon (B/A) as predicted by the SEMF – does not get it quite right.  There are ripples and bumps which occur at the nuclea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MAGIC NUMBERS,  28, 50,  82 and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vidence for Nuclear Sh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990720" y="685800"/>
            <a:ext cx="5410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abundance"/>
          <p:cNvPicPr/>
          <p:nvPr/>
        </p:nvPicPr>
        <p:blipFill>
          <a:blip r:embed="rId1"/>
          <a:stretch/>
        </p:blipFill>
        <p:spPr>
          <a:xfrm>
            <a:off x="457200" y="762120"/>
            <a:ext cx="8610480" cy="4460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609480" y="5029200"/>
            <a:ext cx="7467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other evidence for EXTRA STRONG NUCLEAR BINDING at the special “MAGIC NUMBERS” is that the frequency of ISOTONES is greatest when N=20, 28, 50 and 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THE NUCLEAR MAGIC NUMBERS are:  2, 8, 20, 28, 50, 82, 128, 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Reason for Nuclear Sh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990720" y="685800"/>
            <a:ext cx="5410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80880" y="1143000"/>
            <a:ext cx="830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ype of particle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Ferm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erm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ndentity of particles                  elect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eutrons +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har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all char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ome cha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ccupancy considerations        PEP                             P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nteractions                               EM                                Strong +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hape                                       Spherical                       Approximately sph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3276720" y="1066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334120" y="1143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505320" y="685800"/>
            <a:ext cx="99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867280" y="685800"/>
            <a:ext cx="1371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33520" y="40384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atom and nucleus have some differences – but in some essential features (those underlined) they are similar and we would expect similar quantum phenomenon  -  i.e. some kind of SHELL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533520" y="1523880"/>
            <a:ext cx="7619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457200" y="2743200"/>
            <a:ext cx="762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457200" y="3543480"/>
            <a:ext cx="762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lphafigure"/>
          <p:cNvPicPr/>
          <p:nvPr/>
        </p:nvPicPr>
        <p:blipFill>
          <a:blip r:embed="rId1"/>
          <a:stretch/>
        </p:blipFill>
        <p:spPr>
          <a:xfrm>
            <a:off x="0" y="39600"/>
            <a:ext cx="8839080" cy="654552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 flipV="1">
            <a:off x="1143000" y="3581280"/>
            <a:ext cx="7467480" cy="7632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80880" y="152280"/>
            <a:ext cx="830592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Alpha Particle Decay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1066680"/>
            <a:ext cx="4572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7315200" y="1447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181480" y="838080"/>
            <a:ext cx="32004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at is causing this bump around Z=82, N=126, A=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fission barrier on the SEM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oulomb barrier"/>
          <p:cNvPicPr/>
          <p:nvPr/>
        </p:nvPicPr>
        <p:blipFill>
          <a:blip r:embed="rId1"/>
          <a:stretch/>
        </p:blipFill>
        <p:spPr>
          <a:xfrm>
            <a:off x="685800" y="914400"/>
            <a:ext cx="6095880" cy="565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629400" y="11430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o calculate the height of the fission barrier using the SEMF is fairly complex, but can be done as seen in this study – Fig12.3 Dun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dotted lines show variations that are understood on the shel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te that the barrier is only small ~3MeV for A&gt;2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629400" y="3505320"/>
            <a:ext cx="2209680" cy="1218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0880" y="99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y the end of the 1920s, the laws of quantum mechanics had been worked out.   They had been applied to the hydrogen atom.  They had also been extended to the MULTI-ELECTRON ATOM.  This gave the first full understanding of the PERIODIC TABLE OF THE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eriodic%20Table"/>
          <p:cNvPicPr/>
          <p:nvPr/>
        </p:nvPicPr>
        <p:blipFill>
          <a:blip r:embed="rId1"/>
          <a:stretch/>
        </p:blipFill>
        <p:spPr>
          <a:xfrm>
            <a:off x="914400" y="2286000"/>
            <a:ext cx="689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28600" y="838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tarting with the Solution of the Schrodinger Equation for the HYDRO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19520" y="1371600"/>
                <a:ext cx="2895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Eψ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" name="Picture 9" descr="sphericalcoord"/>
          <p:cNvPicPr/>
          <p:nvPr/>
        </p:nvPicPr>
        <p:blipFill>
          <a:blip r:embed="rId1"/>
          <a:stretch/>
        </p:blipFill>
        <p:spPr>
          <a:xfrm>
            <a:off x="6248520" y="2057400"/>
            <a:ext cx="24843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228600" y="2286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natural coordinate system to use is spherical coordinates (r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 – in which the Laplacian operato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1"/>
              <p:cNvSpPr txBox="1"/>
              <p:nvPr/>
            </p:nvSpPr>
            <p:spPr>
              <a:xfrm>
                <a:off x="304920" y="3276720"/>
                <a:ext cx="53337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Text Box 12"/>
          <p:cNvSpPr/>
          <p:nvPr/>
        </p:nvSpPr>
        <p:spPr>
          <a:xfrm>
            <a:off x="380880" y="42670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 the central potential being “felt” by the electron is the Coulomb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666880" y="220968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380880" y="4038480"/>
            <a:ext cx="5181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629400" y="4724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769608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7"/>
          <p:cNvSpPr/>
          <p:nvPr/>
        </p:nvSpPr>
        <p:spPr>
          <a:xfrm>
            <a:off x="5667480" y="4775040"/>
            <a:ext cx="1981080" cy="1702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8"/>
          <p:cNvSpPr/>
          <p:nvPr/>
        </p:nvSpPr>
        <p:spPr>
          <a:xfrm flipH="1">
            <a:off x="7752600" y="4762440"/>
            <a:ext cx="1981080" cy="17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716292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9"/>
          <p:cNvSpPr/>
          <p:nvPr/>
        </p:nvSpPr>
        <p:spPr>
          <a:xfrm>
            <a:off x="6781680" y="5451480"/>
            <a:ext cx="914400" cy="266760"/>
          </a:xfrm>
          <a:prstGeom prst="pie">
            <a:avLst/>
          </a:pr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0"/>
          <p:cNvSpPr/>
          <p:nvPr/>
        </p:nvSpPr>
        <p:spPr>
          <a:xfrm flipH="1">
            <a:off x="7696080" y="5448240"/>
            <a:ext cx="914400" cy="266760"/>
          </a:xfrm>
          <a:prstGeom prst="pie">
            <a:avLst/>
          </a:pr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1"/>
              <p:cNvSpPr txBox="1"/>
              <p:nvPr/>
            </p:nvSpPr>
            <p:spPr>
              <a:xfrm>
                <a:off x="4267080" y="5159520"/>
                <a:ext cx="167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Line 32"/>
          <p:cNvSpPr/>
          <p:nvPr/>
        </p:nvSpPr>
        <p:spPr>
          <a:xfrm flipV="1">
            <a:off x="6095880" y="5029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4267080" y="601992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hericalwf"/>
          <p:cNvPicPr/>
          <p:nvPr/>
        </p:nvPicPr>
        <p:blipFill>
          <a:blip r:embed="rId1"/>
          <a:stretch/>
        </p:blipFill>
        <p:spPr>
          <a:xfrm>
            <a:off x="4267080" y="1600200"/>
            <a:ext cx="4168800" cy="434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YLM"/>
          <p:cNvPicPr/>
          <p:nvPr/>
        </p:nvPicPr>
        <p:blipFill>
          <a:blip r:embed="rId2"/>
          <a:stretch/>
        </p:blipFill>
        <p:spPr>
          <a:xfrm>
            <a:off x="609480" y="1981080"/>
            <a:ext cx="365292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3520" y="762120"/>
            <a:ext cx="7619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gular solutions of the 3D Schrodinger Eqn.  are the spherical harmonic functions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l,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. 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is the angular momentum quantum number,  m is called the magnetic quantum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4419720" y="4343400"/>
            <a:ext cx="21333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5486400" y="4038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V="1">
            <a:off x="5486400" y="4419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54100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5410080" y="472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54100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54100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5410080" y="5943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5410080" y="6248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572000" y="472428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4495680" y="5029200"/>
            <a:ext cx="198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4419720" y="5334120"/>
            <a:ext cx="2133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4495680" y="5638680"/>
            <a:ext cx="198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4724280" y="5943600"/>
            <a:ext cx="1600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5105520" y="62485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5029200" y="441972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5486400" y="4724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 flipV="1">
            <a:off x="5486400" y="50288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54864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5486400" y="53341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5486400" y="53341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5486400" y="53341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7467480" y="1600200"/>
            <a:ext cx="990720" cy="441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0"/>
          <p:cNvSpPr/>
          <p:nvPr/>
        </p:nvSpPr>
        <p:spPr>
          <a:xfrm flipH="1">
            <a:off x="6705360" y="53341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4572000" y="1371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=0           l=1            l=2             l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3962520" y="4214880"/>
            <a:ext cx="609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PMingLiU"/>
              </a:rPr>
              <a:t>+3    +2     +1     0       -1      -2     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685800" y="63244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tate has (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+1) magnetic sub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4191120" y="38098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39625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PMingLiU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45720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adial solutions of the hydrogen atom wavefunction are complicated functions involving the associated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Laguerr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6"/>
              <p:cNvSpPr txBox="1"/>
              <p:nvPr/>
            </p:nvSpPr>
            <p:spPr>
              <a:xfrm>
                <a:off x="5867280" y="1028880"/>
                <a:ext cx="609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Pr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7"/>
              <p:cNvSpPr txBox="1"/>
              <p:nvPr/>
            </p:nvSpPr>
            <p:spPr>
              <a:xfrm>
                <a:off x="674640" y="1371600"/>
                <a:ext cx="6346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Z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!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2" name="Picture 38" descr="Radialfunction"/>
          <p:cNvPicPr/>
          <p:nvPr/>
        </p:nvPicPr>
        <p:blipFill>
          <a:blip r:embed="rId1"/>
          <a:stretch/>
        </p:blipFill>
        <p:spPr>
          <a:xfrm>
            <a:off x="228600" y="2590920"/>
            <a:ext cx="4724280" cy="364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9" descr="shaperadials"/>
          <p:cNvPicPr/>
          <p:nvPr/>
        </p:nvPicPr>
        <p:blipFill>
          <a:blip r:embed="rId2"/>
          <a:stretch/>
        </p:blipFill>
        <p:spPr>
          <a:xfrm>
            <a:off x="4978440" y="2362320"/>
            <a:ext cx="3632040" cy="4495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0"/>
          <p:cNvSpPr/>
          <p:nvPr/>
        </p:nvSpPr>
        <p:spPr>
          <a:xfrm>
            <a:off x="380880" y="6095880"/>
            <a:ext cx="4648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1"/>
          <p:cNvSpPr/>
          <p:nvPr/>
        </p:nvSpPr>
        <p:spPr>
          <a:xfrm>
            <a:off x="609480" y="2286000"/>
            <a:ext cx="6400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2"/>
          <p:cNvSpPr/>
          <p:nvPr/>
        </p:nvSpPr>
        <p:spPr>
          <a:xfrm>
            <a:off x="1676520" y="22860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6"/>
              <p:cNvSpPr txBox="1"/>
              <p:nvPr/>
            </p:nvSpPr>
            <p:spPr>
              <a:xfrm>
                <a:off x="7696080" y="2666880"/>
                <a:ext cx="23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47"/>
          <p:cNvSpPr/>
          <p:nvPr/>
        </p:nvSpPr>
        <p:spPr>
          <a:xfrm>
            <a:off x="7620120" y="2971800"/>
            <a:ext cx="533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PMingLiU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PMingLiU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PMingLiU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8"/>
          <p:cNvSpPr/>
          <p:nvPr/>
        </p:nvSpPr>
        <p:spPr>
          <a:xfrm>
            <a:off x="5334120" y="3886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9"/>
          <p:cNvSpPr/>
          <p:nvPr/>
        </p:nvSpPr>
        <p:spPr>
          <a:xfrm>
            <a:off x="5308560" y="28954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0"/>
          <p:cNvSpPr/>
          <p:nvPr/>
        </p:nvSpPr>
        <p:spPr>
          <a:xfrm>
            <a:off x="5334120" y="485136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4952880" y="2666880"/>
            <a:ext cx="30492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PMingLiU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PMingLiU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PMingLiU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PMingLiU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2"/>
          <p:cNvSpPr/>
          <p:nvPr/>
        </p:nvSpPr>
        <p:spPr>
          <a:xfrm>
            <a:off x="380880" y="6172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rinciple Quantum No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3"/>
              <p:cNvSpPr txBox="1"/>
              <p:nvPr/>
            </p:nvSpPr>
            <p:spPr>
              <a:xfrm>
                <a:off x="2895480" y="617220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54"/>
          <p:cNvSpPr/>
          <p:nvPr/>
        </p:nvSpPr>
        <p:spPr>
          <a:xfrm>
            <a:off x="380880" y="6134040"/>
            <a:ext cx="381024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Hlevels"/>
          <p:cNvPicPr/>
          <p:nvPr/>
        </p:nvPicPr>
        <p:blipFill>
          <a:blip r:embed="rId1"/>
          <a:stretch/>
        </p:blipFill>
        <p:spPr>
          <a:xfrm>
            <a:off x="457200" y="990720"/>
            <a:ext cx="5303880" cy="4608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5715000" y="1066680"/>
            <a:ext cx="30481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amazing thing about the 1/r potential is that cert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DEGENERG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(same energies) occur for different principal quantum no “n” and “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.e. when n=2, l=0 and l=1 have the same en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n n=3, l=0,1 and 2 have the sam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6172200" y="4724280"/>
                <a:ext cx="1905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Rectangle 14"/>
          <p:cNvSpPr/>
          <p:nvPr/>
        </p:nvSpPr>
        <p:spPr>
          <a:xfrm>
            <a:off x="6019920" y="4724280"/>
            <a:ext cx="2133360" cy="99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Atomic She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04920" y="76212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However when we extend the model to MULTI-ELECTRON atoms the degeneracy is lo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otential each electron moves in is now more compli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76320" y="1752480"/>
            <a:ext cx="7010280" cy="4724280"/>
            <a:chOff x="76320" y="1752480"/>
            <a:chExt cx="7010280" cy="4724280"/>
          </a:xfrm>
        </p:grpSpPr>
        <p:pic>
          <p:nvPicPr>
            <p:cNvPr id="134" name="Picture 8" descr="Atomicshells"/>
            <p:cNvPicPr/>
            <p:nvPr/>
          </p:nvPicPr>
          <p:blipFill>
            <a:blip r:embed="rId1"/>
            <a:stretch/>
          </p:blipFill>
          <p:spPr>
            <a:xfrm>
              <a:off x="76320" y="1904760"/>
              <a:ext cx="676584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9"/>
            <p:cNvSpPr/>
            <p:nvPr/>
          </p:nvSpPr>
          <p:spPr>
            <a:xfrm>
              <a:off x="6553440" y="1752480"/>
              <a:ext cx="38088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5639040" y="5562360"/>
              <a:ext cx="1371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 flipV="1">
              <a:off x="6324840" y="571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2"/>
            <p:cNvSpPr/>
            <p:nvPr/>
          </p:nvSpPr>
          <p:spPr>
            <a:xfrm>
              <a:off x="5562720" y="60958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ccupa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14"/>
          <p:cNvSpPr/>
          <p:nvPr/>
        </p:nvSpPr>
        <p:spPr>
          <a:xfrm>
            <a:off x="7162920" y="1905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7213680" y="2133720"/>
            <a:ext cx="1778040" cy="243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6858000" y="2057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7"/>
              <p:cNvSpPr txBox="1"/>
              <p:nvPr/>
            </p:nvSpPr>
            <p:spPr>
              <a:xfrm>
                <a:off x="7315200" y="4114800"/>
                <a:ext cx="1143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8"/>
              <p:cNvSpPr txBox="1"/>
              <p:nvPr/>
            </p:nvSpPr>
            <p:spPr>
              <a:xfrm>
                <a:off x="8229600" y="1447920"/>
                <a:ext cx="914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Line 19"/>
          <p:cNvSpPr/>
          <p:nvPr/>
        </p:nvSpPr>
        <p:spPr>
          <a:xfrm flipH="1">
            <a:off x="7391520" y="40384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8077320" y="22096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781680" y="480060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otential seen by the electron changes from these two extremes as it moves about th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1:21:13Z</dcterms:created>
  <dc:creator>cdb</dc:creator>
  <dc:description/>
  <dc:language>en-US</dc:language>
  <cp:lastModifiedBy>alwahip center</cp:lastModifiedBy>
  <dcterms:modified xsi:type="dcterms:W3CDTF">2015-07-25T19:10:12Z</dcterms:modified>
  <cp:revision>12</cp:revision>
  <dc:subject/>
  <dc:title>The Shell Model of the Nucleus  1. Evidences</dc:title>
</cp:coreProperties>
</file>