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8AE-3493-4067-915B-D5F07EB1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E75-BB1D-4323-B7B6-57E6C292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E36-EF44-4B65-AAEE-9BDE7A0A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53B-8D0F-47D6-A314-7F9FEA92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1AE-03D8-4FF5-9738-C289D91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451-8AA8-4072-AA5F-33BF2A6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D34-AB46-4121-AB2A-6519ABD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C18-05A7-404A-AA68-42EC349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F8B-9B56-4427-9D4C-85681701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AF6-A256-463A-B089-2C19382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63C-3D80-48FC-B64C-36F66154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8EA-77F0-4C96-AA09-7BAED6A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24FC-1351-46DA-BAFD-B66423C6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Semi-Empirical Mass Formula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Applications – I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ucleon Separation Energ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4.4 + 12.1 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released in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ission2"/>
          <p:cNvPicPr/>
          <p:nvPr/>
        </p:nvPicPr>
        <p:blipFill>
          <a:blip r:embed="rId1"/>
          <a:stretch/>
        </p:blipFill>
        <p:spPr>
          <a:xfrm>
            <a:off x="228600" y="838080"/>
            <a:ext cx="7010280" cy="4956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04920" y="579132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gure shows the prediction of the SEMF for the energy released in FISSION when two equal fragments ar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6"/>
          <p:cNvGrpSpPr/>
          <p:nvPr/>
        </p:nvGrpSpPr>
        <p:grpSpPr>
          <a:xfrm>
            <a:off x="1752480" y="1447920"/>
            <a:ext cx="3200400" cy="1295280"/>
            <a:chOff x="1752480" y="1447920"/>
            <a:chExt cx="3200400" cy="1295280"/>
          </a:xfrm>
        </p:grpSpPr>
        <p:sp>
          <p:nvSpPr>
            <p:cNvPr id="190" name="Oval 8"/>
            <p:cNvSpPr/>
            <p:nvPr/>
          </p:nvSpPr>
          <p:spPr>
            <a:xfrm>
              <a:off x="1828800" y="1676160"/>
              <a:ext cx="914400" cy="8380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"/>
            <p:cNvSpPr/>
            <p:nvPr/>
          </p:nvSpPr>
          <p:spPr>
            <a:xfrm>
              <a:off x="2819160" y="1981080"/>
              <a:ext cx="609840" cy="256680"/>
            </a:xfrm>
            <a:prstGeom prst="rightArrow">
              <a:avLst>
                <a:gd name="adj1" fmla="val 50000"/>
                <a:gd name="adj2" fmla="val 593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81280" y="1828800"/>
              <a:ext cx="533520" cy="532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 flipH="1">
              <a:off x="342864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4800600" y="2076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>
              <a:off x="1752480" y="1447920"/>
              <a:ext cx="3200400" cy="12952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"/>
            <p:cNvSpPr/>
            <p:nvPr/>
          </p:nvSpPr>
          <p:spPr>
            <a:xfrm>
              <a:off x="4267080" y="1828800"/>
              <a:ext cx="533520" cy="532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released in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Simplecalculation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ssion Ba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kneck"/>
          <p:cNvPicPr/>
          <p:nvPr/>
        </p:nvPicPr>
        <p:blipFill>
          <a:blip r:embed="rId1"/>
          <a:stretch/>
        </p:blipFill>
        <p:spPr>
          <a:xfrm>
            <a:off x="1066680" y="890640"/>
            <a:ext cx="5791320" cy="4618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1066680" y="5410080"/>
            <a:ext cx="5943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28600" y="53341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igin of the fission barrier can be seen by reversing the fission process.  Two fission fragments approach with (1/r) potential – consider the fragments equal.  When r decreases until the two fragments are nearly touching the nuclear attractive strong force takes over – the potential energy is less than that calculated by Coulomb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H="1">
            <a:off x="3581280" y="762120"/>
            <a:ext cx="3657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31520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sion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the Fission Ba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Barrier1"/>
          <p:cNvPicPr/>
          <p:nvPr/>
        </p:nvPicPr>
        <p:blipFill>
          <a:blip r:embed="rId1"/>
          <a:stretch/>
        </p:blipFill>
        <p:spPr>
          <a:xfrm>
            <a:off x="-228600" y="1249200"/>
            <a:ext cx="9372600" cy="4694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3352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stability of an Ellipsoidal Deformation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eccentricity of 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57200" y="5867280"/>
            <a:ext cx="708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y on deform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the Fission Ba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Barrier2"/>
          <p:cNvPicPr/>
          <p:nvPr/>
        </p:nvPicPr>
        <p:blipFill>
          <a:blip r:embed="rId1"/>
          <a:stretch/>
        </p:blipFill>
        <p:spPr>
          <a:xfrm>
            <a:off x="-1981080" y="1371600"/>
            <a:ext cx="8762760" cy="41194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228600" y="838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505320" y="914400"/>
            <a:ext cx="5257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rface area increases on deformation and so doe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nucleus becomes LESS 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62120" y="5257800"/>
            <a:ext cx="76197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energy increases with deformation – This produces a potential that seeks to kee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 I.E. the nucleus in SPHERIC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67816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ten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133720" y="2362320"/>
            <a:ext cx="533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4"/>
              <p:cNvSpPr txBox="1"/>
              <p:nvPr/>
            </p:nvSpPr>
            <p:spPr>
              <a:xfrm>
                <a:off x="2133720" y="22860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the Fission Ba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Barrier3"/>
          <p:cNvPicPr/>
          <p:nvPr/>
        </p:nvPicPr>
        <p:blipFill>
          <a:blip r:embed="rId1"/>
          <a:stretch/>
        </p:blipFill>
        <p:spPr>
          <a:xfrm>
            <a:off x="-1219320" y="1752480"/>
            <a:ext cx="8610840" cy="3705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OMB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048120" y="8380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lomb energy has the opposite tendency.  On deformation the charge in the nucleus is less condensed – the electrostatic “blow apart” energy is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85800" y="5486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deformation makes the nucleus MORE B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457200" y="763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the Fission Ba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Fission3"/>
          <p:cNvPicPr/>
          <p:nvPr/>
        </p:nvPicPr>
        <p:blipFill>
          <a:blip r:embed="rId1"/>
          <a:stretch/>
        </p:blipFill>
        <p:spPr>
          <a:xfrm>
            <a:off x="457200" y="723960"/>
            <a:ext cx="7924680" cy="610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0"/>
          <p:cNvSpPr/>
          <p:nvPr/>
        </p:nvSpPr>
        <p:spPr>
          <a:xfrm>
            <a:off x="2514600" y="533412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1"/>
              <p:cNvSpPr txBox="1"/>
              <p:nvPr/>
            </p:nvSpPr>
            <p:spPr>
              <a:xfrm>
                <a:off x="2438280" y="5338800"/>
                <a:ext cx="3733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ssion barrier on the SEM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oulomb barrier"/>
          <p:cNvPicPr/>
          <p:nvPr/>
        </p:nvPicPr>
        <p:blipFill>
          <a:blip r:embed="rId1"/>
          <a:stretch/>
        </p:blipFill>
        <p:spPr>
          <a:xfrm>
            <a:off x="685800" y="914400"/>
            <a:ext cx="6095880" cy="5653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629400" y="11430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alculate the height of the fission barrier using the SEMF is fairly complex, but can be done as seen in this study – Fig12.3 Dun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tted lines show variations that are understood on the shel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barrier is only small ~3MeV for A&gt;2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ssion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Fissionability"/>
          <p:cNvPicPr/>
          <p:nvPr/>
        </p:nvPicPr>
        <p:blipFill>
          <a:blip r:embed="rId1"/>
          <a:stretch/>
        </p:blipFill>
        <p:spPr>
          <a:xfrm>
            <a:off x="533520" y="609480"/>
            <a:ext cx="7391160" cy="5496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457200" y="6140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ssionability parameter  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A as a function of A.  Note that the fastest decaying man-made transuranics still have F&lt;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te of spontaneous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lifetimefission"/>
          <p:cNvPicPr/>
          <p:nvPr/>
        </p:nvPicPr>
        <p:blipFill>
          <a:blip r:embed="rId1"/>
          <a:stretch/>
        </p:blipFill>
        <p:spPr>
          <a:xfrm>
            <a:off x="304920" y="838080"/>
            <a:ext cx="6858000" cy="57024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304920" y="6419880"/>
            <a:ext cx="7238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562720" y="914400"/>
            <a:ext cx="2971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 log of the decay rate (period) is approximately proportional to the fissionability  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mi-Empirical Mass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38080" y="533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0"/>
          <p:cNvGrpSpPr/>
          <p:nvPr/>
        </p:nvGrpSpPr>
        <p:grpSpPr>
          <a:xfrm>
            <a:off x="976320" y="762120"/>
            <a:ext cx="6948000" cy="1950840"/>
            <a:chOff x="976320" y="762120"/>
            <a:chExt cx="6948000" cy="1950840"/>
          </a:xfrm>
        </p:grpSpPr>
        <mc:AlternateContent>
          <mc:Choice xmlns:a14="http://schemas.microsoft.com/office/drawing/2010/main" Requires="a14">
            <p:sp>
              <p:nvSpPr>
                <p:cNvPr id="46" name="Object 26"/>
                <p:cNvSpPr txBox="1"/>
                <p:nvPr/>
              </p:nvSpPr>
              <p:spPr>
                <a:xfrm>
                  <a:off x="1052280" y="1855800"/>
                  <a:ext cx="6872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A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Object 28"/>
                <p:cNvSpPr txBox="1"/>
                <p:nvPr/>
              </p:nvSpPr>
              <p:spPr>
                <a:xfrm>
                  <a:off x="976320" y="762120"/>
                  <a:ext cx="652284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Pre>
                            <m:sub>
                              <m:r>
                                <m:t xml:space="preserve">Z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/>
                              </m:r>
                            </m:e>
                          </m:sPr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B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Z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48" name="Group 35"/>
            <p:cNvGrpSpPr/>
            <p:nvPr/>
          </p:nvGrpSpPr>
          <p:grpSpPr>
            <a:xfrm>
              <a:off x="1737720" y="1398600"/>
              <a:ext cx="5105520" cy="609480"/>
              <a:chOff x="1737720" y="1398600"/>
              <a:chExt cx="5105520" cy="609480"/>
            </a:xfrm>
          </p:grpSpPr>
          <p:sp>
            <p:nvSpPr>
              <p:cNvPr id="49" name="Line 31"/>
              <p:cNvSpPr/>
              <p:nvPr/>
            </p:nvSpPr>
            <p:spPr>
              <a:xfrm>
                <a:off x="6843240" y="139860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32"/>
              <p:cNvSpPr/>
              <p:nvPr/>
            </p:nvSpPr>
            <p:spPr>
              <a:xfrm flipH="1">
                <a:off x="1737720" y="1627200"/>
                <a:ext cx="5105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33"/>
              <p:cNvSpPr/>
              <p:nvPr/>
            </p:nvSpPr>
            <p:spPr>
              <a:xfrm>
                <a:off x="1738080" y="16272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34"/>
              <p:cNvSpPr/>
              <p:nvPr/>
            </p:nvSpPr>
            <p:spPr>
              <a:xfrm flipH="1">
                <a:off x="3642840" y="1627200"/>
                <a:ext cx="60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Text Box 41"/>
          <p:cNvSpPr/>
          <p:nvPr/>
        </p:nvSpPr>
        <p:spPr>
          <a:xfrm>
            <a:off x="457200" y="2895480"/>
            <a:ext cx="7467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see how this equation can be appli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 Separation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 Particle Decay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neutron separation ener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Fig4,8"/>
          <p:cNvPicPr/>
          <p:nvPr/>
        </p:nvPicPr>
        <p:blipFill>
          <a:blip r:embed="rId1"/>
          <a:stretch/>
        </p:blipFill>
        <p:spPr>
          <a:xfrm>
            <a:off x="-152280" y="990720"/>
            <a:ext cx="5638680" cy="5572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257800" y="838080"/>
            <a:ext cx="36576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4.8   PULLING NEUTRONS OUT OF ODD-A 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ows show the transitions from the odd A parabola to the even (A-1) parabolas for the two cas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,o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,o) breaking pairing on neutro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,e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,e) breaking no pairing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6286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7391520" y="3825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7483320" y="3763800"/>
            <a:ext cx="9072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V="1">
            <a:off x="7527960" y="358092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5334120" y="3581280"/>
            <a:ext cx="457200" cy="419400"/>
            <a:chOff x="5334120" y="3581280"/>
            <a:chExt cx="457200" cy="419400"/>
          </a:xfrm>
        </p:grpSpPr>
        <p:sp>
          <p:nvSpPr>
            <p:cNvPr id="62" name="Line 10"/>
            <p:cNvSpPr/>
            <p:nvPr/>
          </p:nvSpPr>
          <p:spPr>
            <a:xfrm>
              <a:off x="5334120" y="379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5"/>
            <p:cNvSpPr/>
            <p:nvPr/>
          </p:nvSpPr>
          <p:spPr>
            <a:xfrm>
              <a:off x="5424480" y="3738600"/>
              <a:ext cx="921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6"/>
            <p:cNvSpPr/>
            <p:nvPr/>
          </p:nvSpPr>
          <p:spPr>
            <a:xfrm>
              <a:off x="5608440" y="3738600"/>
              <a:ext cx="90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 flipV="1">
              <a:off x="5470560" y="3581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5653080" y="379080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9"/>
          <p:cNvSpPr/>
          <p:nvPr/>
        </p:nvSpPr>
        <p:spPr>
          <a:xfrm>
            <a:off x="5973840" y="380988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6066000" y="3772080"/>
            <a:ext cx="1062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 flipV="1">
            <a:off x="6111720" y="35812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6553080" y="37339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8001000" y="380988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2"/>
          <p:cNvSpPr/>
          <p:nvPr/>
        </p:nvSpPr>
        <p:spPr>
          <a:xfrm>
            <a:off x="8093160" y="3772080"/>
            <a:ext cx="1062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8139240" y="3562200"/>
            <a:ext cx="144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60"/>
          <p:cNvGrpSpPr/>
          <p:nvPr/>
        </p:nvGrpSpPr>
        <p:grpSpPr>
          <a:xfrm>
            <a:off x="7772400" y="3028680"/>
            <a:ext cx="1219320" cy="552600"/>
            <a:chOff x="7772400" y="3028680"/>
            <a:chExt cx="1219320" cy="552600"/>
          </a:xfrm>
        </p:grpSpPr>
        <p:sp>
          <p:nvSpPr>
            <p:cNvPr id="75" name="Oval 35"/>
            <p:cNvSpPr/>
            <p:nvPr/>
          </p:nvSpPr>
          <p:spPr>
            <a:xfrm>
              <a:off x="8534520" y="3124080"/>
              <a:ext cx="90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7772400" y="3048120"/>
              <a:ext cx="1143000" cy="5331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7"/>
            <p:cNvSpPr/>
            <p:nvPr/>
          </p:nvSpPr>
          <p:spPr>
            <a:xfrm flipV="1">
              <a:off x="8686800" y="3028680"/>
              <a:ext cx="304920" cy="7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40"/>
          <p:cNvSpPr/>
          <p:nvPr/>
        </p:nvSpPr>
        <p:spPr>
          <a:xfrm>
            <a:off x="7391520" y="523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5334120" y="521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5"/>
          <p:cNvSpPr/>
          <p:nvPr/>
        </p:nvSpPr>
        <p:spPr>
          <a:xfrm>
            <a:off x="5424480" y="5153040"/>
            <a:ext cx="9216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7"/>
          <p:cNvSpPr/>
          <p:nvPr/>
        </p:nvSpPr>
        <p:spPr>
          <a:xfrm flipV="1">
            <a:off x="5470560" y="49525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5973840" y="521964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0"/>
          <p:cNvSpPr/>
          <p:nvPr/>
        </p:nvSpPr>
        <p:spPr>
          <a:xfrm>
            <a:off x="6066000" y="5181480"/>
            <a:ext cx="1062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1"/>
          <p:cNvSpPr/>
          <p:nvPr/>
        </p:nvSpPr>
        <p:spPr>
          <a:xfrm flipV="1">
            <a:off x="6111720" y="499068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2"/>
          <p:cNvSpPr/>
          <p:nvPr/>
        </p:nvSpPr>
        <p:spPr>
          <a:xfrm>
            <a:off x="6553080" y="5143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8001000" y="521964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4"/>
          <p:cNvSpPr/>
          <p:nvPr/>
        </p:nvSpPr>
        <p:spPr>
          <a:xfrm>
            <a:off x="8093160" y="5181480"/>
            <a:ext cx="1062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8139240" y="497160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7"/>
          <p:cNvSpPr/>
          <p:nvPr/>
        </p:nvSpPr>
        <p:spPr>
          <a:xfrm>
            <a:off x="8302680" y="5181480"/>
            <a:ext cx="1062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8"/>
          <p:cNvSpPr/>
          <p:nvPr/>
        </p:nvSpPr>
        <p:spPr>
          <a:xfrm>
            <a:off x="6248520" y="5181480"/>
            <a:ext cx="1062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9"/>
          <p:cNvSpPr/>
          <p:nvPr/>
        </p:nvSpPr>
        <p:spPr>
          <a:xfrm>
            <a:off x="83440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61"/>
          <p:cNvGrpSpPr/>
          <p:nvPr/>
        </p:nvGrpSpPr>
        <p:grpSpPr>
          <a:xfrm>
            <a:off x="7543800" y="4495320"/>
            <a:ext cx="1219320" cy="552600"/>
            <a:chOff x="7543800" y="4495320"/>
            <a:chExt cx="1219320" cy="552600"/>
          </a:xfrm>
        </p:grpSpPr>
        <p:sp>
          <p:nvSpPr>
            <p:cNvPr id="93" name="Oval 62"/>
            <p:cNvSpPr/>
            <p:nvPr/>
          </p:nvSpPr>
          <p:spPr>
            <a:xfrm>
              <a:off x="8305920" y="4590720"/>
              <a:ext cx="90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3"/>
            <p:cNvSpPr/>
            <p:nvPr/>
          </p:nvSpPr>
          <p:spPr>
            <a:xfrm>
              <a:off x="7543800" y="4514760"/>
              <a:ext cx="1143000" cy="5331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 flipV="1">
              <a:off x="8458200" y="4495320"/>
              <a:ext cx="304920" cy="7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5"/>
          <p:cNvGrpSpPr/>
          <p:nvPr/>
        </p:nvGrpSpPr>
        <p:grpSpPr>
          <a:xfrm>
            <a:off x="7391520" y="5295600"/>
            <a:ext cx="457200" cy="419040"/>
            <a:chOff x="7391520" y="5295600"/>
            <a:chExt cx="457200" cy="419040"/>
          </a:xfrm>
        </p:grpSpPr>
        <p:sp>
          <p:nvSpPr>
            <p:cNvPr id="97" name="Line 66"/>
            <p:cNvSpPr/>
            <p:nvPr/>
          </p:nvSpPr>
          <p:spPr>
            <a:xfrm>
              <a:off x="7391520" y="55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7"/>
            <p:cNvSpPr/>
            <p:nvPr/>
          </p:nvSpPr>
          <p:spPr>
            <a:xfrm>
              <a:off x="7481880" y="5452920"/>
              <a:ext cx="9216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8"/>
            <p:cNvSpPr/>
            <p:nvPr/>
          </p:nvSpPr>
          <p:spPr>
            <a:xfrm>
              <a:off x="7665840" y="5452920"/>
              <a:ext cx="9072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69"/>
            <p:cNvSpPr/>
            <p:nvPr/>
          </p:nvSpPr>
          <p:spPr>
            <a:xfrm flipV="1">
              <a:off x="7527960" y="5295600"/>
              <a:ext cx="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0"/>
            <p:cNvSpPr/>
            <p:nvPr/>
          </p:nvSpPr>
          <p:spPr>
            <a:xfrm>
              <a:off x="7710480" y="550512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71"/>
          <p:cNvGrpSpPr/>
          <p:nvPr/>
        </p:nvGrpSpPr>
        <p:grpSpPr>
          <a:xfrm>
            <a:off x="5334120" y="5295600"/>
            <a:ext cx="457200" cy="419040"/>
            <a:chOff x="5334120" y="5295600"/>
            <a:chExt cx="457200" cy="419040"/>
          </a:xfrm>
        </p:grpSpPr>
        <p:sp>
          <p:nvSpPr>
            <p:cNvPr id="103" name="Line 72"/>
            <p:cNvSpPr/>
            <p:nvPr/>
          </p:nvSpPr>
          <p:spPr>
            <a:xfrm>
              <a:off x="5334120" y="55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73"/>
            <p:cNvSpPr/>
            <p:nvPr/>
          </p:nvSpPr>
          <p:spPr>
            <a:xfrm>
              <a:off x="5424480" y="5452920"/>
              <a:ext cx="9216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74"/>
            <p:cNvSpPr/>
            <p:nvPr/>
          </p:nvSpPr>
          <p:spPr>
            <a:xfrm>
              <a:off x="5608440" y="5452920"/>
              <a:ext cx="9072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5"/>
            <p:cNvSpPr/>
            <p:nvPr/>
          </p:nvSpPr>
          <p:spPr>
            <a:xfrm flipV="1">
              <a:off x="5470560" y="5295600"/>
              <a:ext cx="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6"/>
            <p:cNvSpPr/>
            <p:nvPr/>
          </p:nvSpPr>
          <p:spPr>
            <a:xfrm>
              <a:off x="5653080" y="550512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neutron separation ener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7621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earlier lecture we found that the separation energy for a neutron w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914400" y="1219320"/>
                <a:ext cx="44197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Text Box 8"/>
          <p:cNvSpPr/>
          <p:nvPr/>
        </p:nvSpPr>
        <p:spPr>
          <a:xfrm>
            <a:off x="0" y="17524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written in terms of mass of constituents and binding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304920" y="2057400"/>
          <a:ext cx="86104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Line 12"/>
          <p:cNvSpPr/>
          <p:nvPr/>
        </p:nvSpPr>
        <p:spPr>
          <a:xfrm flipV="1">
            <a:off x="25909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2860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129528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6212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0" y="5257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SEMF assuming B(A,Z) is continuous in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6095880" y="3200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609588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853452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58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6400800" y="3276720"/>
            <a:ext cx="1523880" cy="1143000"/>
          </a:xfrm>
          <a:prstGeom prst="pie">
            <a:avLst/>
          </a:prstGeom>
          <a:noFill/>
          <a:ln cap="rnd" w="158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708660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74674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6095880" y="4095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6095880" y="3867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6781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 flipH="1">
            <a:off x="746712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7086600" y="4876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9"/>
              <p:cNvSpPr txBox="1"/>
              <p:nvPr/>
            </p:nvSpPr>
            <p:spPr>
              <a:xfrm>
                <a:off x="304920" y="4038480"/>
                <a:ext cx="2438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2"/>
              <p:cNvSpPr txBox="1"/>
              <p:nvPr/>
            </p:nvSpPr>
            <p:spPr>
              <a:xfrm>
                <a:off x="5943600" y="5410080"/>
                <a:ext cx="2971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35"/>
          <p:cNvSpPr/>
          <p:nvPr/>
        </p:nvSpPr>
        <p:spPr>
          <a:xfrm>
            <a:off x="5791320" y="5334120"/>
            <a:ext cx="3124080" cy="99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228600" y="3962520"/>
            <a:ext cx="25146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7"/>
          <p:cNvSpPr/>
          <p:nvPr/>
        </p:nvSpPr>
        <p:spPr>
          <a:xfrm flipH="1">
            <a:off x="1905120" y="3581280"/>
            <a:ext cx="1676160" cy="685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 flipH="1" flipV="1">
            <a:off x="1866600" y="4495320"/>
            <a:ext cx="1600200" cy="685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358128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 o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3505320" y="4952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 e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"/>
          <p:cNvSpPr/>
          <p:nvPr/>
        </p:nvSpPr>
        <p:spPr>
          <a:xfrm>
            <a:off x="1219320" y="33051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33"/>
          <p:cNvSpPr/>
          <p:nvPr/>
        </p:nvSpPr>
        <p:spPr>
          <a:xfrm>
            <a:off x="2467080" y="332424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neutron separation ener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609480" y="762120"/>
                <a:ext cx="18288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0" y="1600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pply the SE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609480" y="1981080"/>
                <a:ext cx="708660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±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Line 14"/>
          <p:cNvSpPr/>
          <p:nvPr/>
        </p:nvSpPr>
        <p:spPr>
          <a:xfrm>
            <a:off x="457200" y="5029200"/>
            <a:ext cx="655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0" y="5105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interesting result because it can give us an equation for the “neutron drip”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058840" y="5562720"/>
                <a:ext cx="3426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i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19"/>
          <p:cNvSpPr/>
          <p:nvPr/>
        </p:nvSpPr>
        <p:spPr>
          <a:xfrm>
            <a:off x="1981080" y="5562720"/>
            <a:ext cx="37339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0" y="5410080"/>
            <a:ext cx="21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utting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hartofnuclides"/>
          <p:cNvPicPr/>
          <p:nvPr/>
        </p:nvPicPr>
        <p:blipFill>
          <a:blip r:embed="rId1"/>
          <a:stretch/>
        </p:blipFill>
        <p:spPr>
          <a:xfrm rot="21474600">
            <a:off x="367920" y="762120"/>
            <a:ext cx="8155080" cy="5948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286000" y="228600"/>
            <a:ext cx="4419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arab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867280" y="62485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0666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96080" y="3733920"/>
            <a:ext cx="9907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1066680" y="1371600"/>
            <a:ext cx="4648320" cy="449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867280" y="1143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962520" y="4738680"/>
            <a:ext cx="3352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4723920" y="350496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6858000" y="33526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 drip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Particle Decay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838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w in a previous lecture that the Q-value (energy released)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cay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33520" y="1295280"/>
                <a:ext cx="41148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7"/>
          <p:cNvSpPr/>
          <p:nvPr/>
        </p:nvSpPr>
        <p:spPr>
          <a:xfrm>
            <a:off x="380880" y="4038480"/>
            <a:ext cx="3048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4343400" y="3352680"/>
                <a:ext cx="4495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Text Box 10"/>
          <p:cNvSpPr/>
          <p:nvPr/>
        </p:nvSpPr>
        <p:spPr>
          <a:xfrm>
            <a:off x="3505320" y="3543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0" y="4114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i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2"/>
              <p:cNvSpPr txBox="1"/>
              <p:nvPr/>
            </p:nvSpPr>
            <p:spPr>
              <a:xfrm>
                <a:off x="1523880" y="4267080"/>
                <a:ext cx="510552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762120" y="5791320"/>
                <a:ext cx="6629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Rectangle 16"/>
          <p:cNvSpPr/>
          <p:nvPr/>
        </p:nvSpPr>
        <p:spPr>
          <a:xfrm>
            <a:off x="609480" y="5715000"/>
            <a:ext cx="701064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7696080" y="5943600"/>
            <a:ext cx="976320" cy="333360"/>
          </a:xfrm>
          <a:prstGeom prst="leftArrow">
            <a:avLst>
              <a:gd name="adj1" fmla="val 50000"/>
              <a:gd name="adj2" fmla="val 732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lphafigure"/>
          <p:cNvPicPr/>
          <p:nvPr/>
        </p:nvPicPr>
        <p:blipFill>
          <a:blip r:embed="rId1"/>
          <a:stretch/>
        </p:blipFill>
        <p:spPr>
          <a:xfrm>
            <a:off x="0" y="39600"/>
            <a:ext cx="8839080" cy="6545520"/>
          </a:xfrm>
          <a:prstGeom prst="rect">
            <a:avLst/>
          </a:prstGeom>
          <a:ln w="0">
            <a:noFill/>
          </a:ln>
        </p:spPr>
      </p:pic>
      <p:sp>
        <p:nvSpPr>
          <p:cNvPr id="173" name="Line 3"/>
          <p:cNvSpPr/>
          <p:nvPr/>
        </p:nvSpPr>
        <p:spPr>
          <a:xfrm flipV="1">
            <a:off x="1143000" y="3581280"/>
            <a:ext cx="7467480" cy="7632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80880" y="152280"/>
            <a:ext cx="830592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Particle Decay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1066680"/>
            <a:ext cx="4572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released in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Fission1"/>
          <p:cNvPicPr/>
          <p:nvPr/>
        </p:nvPicPr>
        <p:blipFill>
          <a:blip r:embed="rId1"/>
          <a:stretch/>
        </p:blipFill>
        <p:spPr>
          <a:xfrm>
            <a:off x="609480" y="762120"/>
            <a:ext cx="7620120" cy="4752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457200" y="5334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ram shows the Q (energy released) from the fission o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as a function of the A of one of the fragments (as obtained from the SEMF).  Note that maximum energy release is 210MeV/Fission for the nucleus splitting into equal fra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791320" y="1295280"/>
            <a:ext cx="914400" cy="8384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6781680" y="1600200"/>
            <a:ext cx="609840" cy="257040"/>
          </a:xfrm>
          <a:prstGeom prst="rightArrow">
            <a:avLst>
              <a:gd name="adj1" fmla="val 50000"/>
              <a:gd name="adj2" fmla="val 59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7543800" y="1447920"/>
            <a:ext cx="53352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739116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8381880" y="1562040"/>
            <a:ext cx="304920" cy="3049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8763120" y="1695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715000" y="1066680"/>
            <a:ext cx="3200400" cy="12956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2:27:19Z</dcterms:created>
  <dc:creator>cdb</dc:creator>
  <dc:description/>
  <dc:language>en-US</dc:language>
  <cp:lastModifiedBy>alwahip center</cp:lastModifiedBy>
  <dcterms:modified xsi:type="dcterms:W3CDTF">2015-07-25T19:05:21Z</dcterms:modified>
  <cp:revision>14</cp:revision>
  <dc:subject/>
  <dc:title>Semi-Empirical Mass Formula  Applications - I</dc:title>
</cp:coreProperties>
</file>