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278-E60B-4F2E-A27E-EF23686F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134-A3DA-477D-B4AC-FD241EE2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93C-8433-415B-8277-F0594B9A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598E-467C-4D73-BBD3-90A136F2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357-C254-4989-A704-A4B30CD6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B53-F988-4ABB-AA0B-95A37FFE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BF4-3656-4AC8-8E6A-92F90ADB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5B3-1573-4240-B411-2C801348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9C6-DB54-4987-A21F-0E4242D9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9AE2-06EA-4D9F-8218-AF198BD0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B32B-0E14-4B8F-847E-47E766B4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431-CDC3-4FC3-B115-A9D3C41A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6319-96AB-43B9-98CC-5C40314CDB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ED36-9755-4C24-A826-CCEFDAB03FDD}" type="slidenum">
              <a:rPr b="0" lang="ar-SA" sz="2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Lecture 13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Assist Le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Heba .A. Raheem (U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عنصر نائب لرقم الشريحة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F6FB-DA42-4E53-9EE8-F674DB8F65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Goals for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ructure, nested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609480" y="68580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1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.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Structures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22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ctures are typically used to group several data items together to form a single entity. It is a collection of variables used to group variables into a single record. Keyword struct is a data-type, like the following C data-types ( int, float, char, etc... ). This is unlike the array, which all the variables must be the same type. The data items in a structure are called the members of the structure.    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General Form of Structure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uct-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{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};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عنصر نائب لرقم الشريحة 3"/>
          <p:cNvSpPr/>
          <p:nvPr/>
        </p:nvSpPr>
        <p:spPr>
          <a:xfrm>
            <a:off x="5791320" y="6245280"/>
            <a:ext cx="914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Example1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 a student structure that contain(name, degree ,age, stage).  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 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nam[8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degree, age, stag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Example2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 a book structure that contain(price, author name, publishing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price, ye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 author[8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;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32DE-1284-4BD1-9AF6-B7B7EA82B6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Times New Roman"/>
              </a:rPr>
              <a:t>Note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can define an array in the structure as following exampl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rtl="1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3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 a student structure that contain(name, 10 degre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ct 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r nam[8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 degree[10]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{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uct student 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s(s.na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(i=0;i&lt;10;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nf(“%d”,&amp;s.degree[i]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uts(s.nam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(i=0;i&lt;10;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ntf(“%d”,s. degree[i]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A782-B757-4AC7-9450-360DB6A595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Example4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 a structure that contain(name, 5 degrees) for  ten stud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 nam[8]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 degree[5]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{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student s[10]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or(i=0;i&lt;10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ts(s[i].nam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or(j=0;j&lt;5;j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canf(“%d”,&amp;s[i].degree[j]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or(i=0;i&lt;10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uts(s[i].nam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for(j=0;j&lt;5;j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intf(“%d”,s[i]. degree[j]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C7DE-BC1A-47FC-A6BF-9899BB06A0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Example5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rite  structure that contain(book title, publishing year, copies numbers) for 30 books.then display the books that publishing year of it after 2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 boo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 title[20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  copy, ye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  book b[30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 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(i=0;i&lt;30;i++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s(b[i].titl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nf(“%d %d”,&amp;b[i].copy, &amp;b[i].year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(i=0;i&lt;30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(b[i].year&gt;=20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ts(b[i].title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tf(“%d”,b[i].copy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 }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rtl="1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4B97-2507-48FA-BA33-22C3862B62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2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-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nested structure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655D-0D0B-4695-9E10-72033DFBAC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can nest structures within other structure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ellow program we want to create a structure contain (name, student stage). And another structure contain three degrees for the same stu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c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har nam[10]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 stag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degree d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t x,y,z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ain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truct student s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ets(s.nam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canf(“%d”, &amp;s.stage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canf(“%d %d %d”,&amp;s.d.x, &amp;s.d.y, &amp;s.d.z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uts(s.nam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intf(“%d”, s.stage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rintf(“%d %d %d”,s.d.x, s.d.y, s.d.z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rtl="1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عنصر نائب لرقم الشريحة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908B-56EB-4C50-8FA0-98EF05252E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iba</cp:lastModifiedBy>
  <dcterms:modified xsi:type="dcterms:W3CDTF">2015-05-16T22:10:09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