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D5C-9275-4455-AFEE-A9715071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5C7-1AE9-48E8-BD5D-FFA4C96D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E1B-88A2-4839-9FC8-D3029AFC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84D-8FB7-4106-AF8B-B82E11BB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92C-8336-4F95-B1C0-5C9DBFCA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60B-9CBD-4BFE-A29E-64FE457D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9A5-1C8E-41D9-91E0-3951C788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03F-AB88-4389-A803-69863419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E56-091E-4118-BCA1-65316AE9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0DA-FCBF-42DD-A4FC-B8AFFC7D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314-65FF-42C4-83A8-74DE70D9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D76-44FA-4997-8AF1-922C9620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5EEB-C5C7-4E50-BEB8-2CBC0466CF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4C24-014D-4B0C-B33D-0DD822073B39}" type="slidenum">
              <a:rPr b="0" lang="ar-SA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Lecture 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ssist Le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Heba .A. Raheem (U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6B47-23C4-4DA7-8AF2-68F7B74C11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Goals for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ucture, nested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1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.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Structures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22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ctures are typically used to group several data items together to form a single entity. It is a collection of variables used to group variables into a single record. Keyword struct is a data-type, like the following C data-types ( int, float, char, etc... ). This is unlike the array, which all the variables must be the same type. The data items in a structure are called the members of the structure.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General Form of Structure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uct-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{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};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عنصر نائب لرقم الشريحة 3"/>
          <p:cNvSpPr/>
          <p:nvPr/>
        </p:nvSpPr>
        <p:spPr>
          <a:xfrm>
            <a:off x="5791320" y="624528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Example1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 a student structure that contain(name, degree ,age, stage).  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 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nam[8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degree, age, st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Example2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 a book structure that contain(price, author name, publishing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price, ye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author[8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E52E-645F-4851-9048-4AE4FE46E6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Note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can define an array in the structure as following examp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rtl="1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3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 a student structure that contain(name, 10 degre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uct 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 nam[8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 degree[10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{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uct student 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s(s.nam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(i=0;i&lt;10;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f(“%d”,&amp;s.degree[i]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ts(s.nam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(i=0;i&lt;10;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ntf(“%d”,s. degree[i]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A418-201B-472E-8424-132BC26FB2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4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 a structure that contain(name, 5 degrees) for  ten stud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uct 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 nam[8]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 degree[5]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{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uct student s[10]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or(i=0;i&lt;10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ts(s[i].nam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or(j=0;j&lt;5;j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canf(“%d”,&amp;s[i].degree[j]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or(i=0;i&lt;10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uts(s[i].nam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or(j=0;j&lt;5;j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intf(“%d”,s[i]. degree[j]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90D2-996E-4AF4-8997-4F354E475A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Example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rite  structure that contain(book title, publishing year, copies numbers) for 30 books.then display the books that publishing year of it after 2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 boo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 title[20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  copy, ye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  book b[30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 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(i=0;i&lt;30;i++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s(b[i].titl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nf(“%d %d”,&amp;b[i].copy, &amp;b[i].year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(i=0;i&lt;30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(b[i].year&gt;=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ts(b[i].titl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f(“%d”,b[i].cop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 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D9E9-C34E-466A-999E-3DC2D8CFF9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2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-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nested structure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AF50-C121-4078-AA83-F054286A1E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can nest structures within other structure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ellow program we want to create a structure contain (name, student stage). And another structure contain three degrees for the same 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c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uct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 nam[10]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 stag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uct degree d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uct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 x,y,z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uct student 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ts(s.nam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canf(“%d”, &amp;s.stage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canf(“%d %d %d”,&amp;s.d.x, &amp;s.d.y, &amp;s.d.z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uts(s.nam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intf(“%d”, s.stage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intf(“%d %d %d”,s.d.x, s.d.y, s.d.z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2EF0-7A5F-4E25-A170-8B6CB5F8D1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iba</cp:lastModifiedBy>
  <dcterms:modified xsi:type="dcterms:W3CDTF">2015-05-16T22:10:09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