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6A3-8AFE-442B-B870-A3522C41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4D6-60D9-49C9-AB60-BA2772A4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D86-C269-44B0-9AFC-530E0429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01F-7298-49AE-8B26-099FCE41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A6B-C3DB-4A10-8AD0-733E240E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9BA-A72C-4C17-AEDA-B5D46193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C5D-7218-4640-8253-6E1EBC0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BC4-6F97-4104-914E-C6FBA418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A65-7515-46C6-B5B7-A365B876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8F4-7CB9-4689-A3DD-95352E5D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E19-08A6-4141-A67F-2411561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C7C-8244-45B5-84AC-A4BD4DEE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DB24-4780-41E1-AE61-392CBE922B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FA9-42A0-404D-AC85-DC11EDA8A90E}" type="slidenum">
              <a:rPr b="0" lang="ar-SA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Lecture 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ssist 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Heba .A. Raheem (U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5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 C program to read array of char 4*10 and find the string that start with symbol z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EA35-E420-4939-A560-546071907E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&lt;stdio.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 st[4][10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(i=0;i&lt;4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[i]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(i=0;i&lt;4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(st[i][0]==‘z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s(st[i]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5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ember Function of String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ring library has many member functions of string li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280" y="1600200"/>
          <a:ext cx="8839440" cy="5289480"/>
        </p:xfrm>
        <a:graphic>
          <a:graphicData uri="http://schemas.openxmlformats.org/drawingml/2006/table">
            <a:tbl>
              <a:tblPr/>
              <a:tblGrid>
                <a:gridCol w="4378320"/>
                <a:gridCol w="4461120"/>
              </a:tblGrid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 Fun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al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len ( string 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the length of th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cpy ( string2, string1 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the content of th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string into the 1st st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cat ( string1, string2 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nd the content o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2nd string into the en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the 1st st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cmp ( string1, string2 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0 if the 1st string 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to the 2nd string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a Positive numb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the 1st string is great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 the 2nd string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a Neg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if the 1st string 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 than the 2n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6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 C program that return the number of character of any input strin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&lt;stdio.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 st[50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=strlen(st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f(“%d”,i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C614-3625-42BC-986D-07A71DD4AE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7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 C program that copy the content of the string st2 to st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&lt;stdio.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 st1[50] , st2[50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1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2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cpy(st1,st2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s(st1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125D-6B8C-4F1A-88A4-EA02376BF0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8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 C program that add the content of the string st2 to st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&lt;stdio.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 st1[50] , st2[50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1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2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cat(st1,st2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s(st1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4814-242E-4C9D-B404-02200E0FB5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9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 C program that compare between two string st1 and st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&lt;stdio.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 st1[50] , st2[50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1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(st2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=strcmp(st1,st2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(i=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f(“equal”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f(“not equal”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853B-B162-42E7-983E-23A57633F3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Home work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type.h&gt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le contain must common building fun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 can be use easily to solve a problems in C. for 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o upper()     // to convert the small letters into capital letter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or(i=0;st[i]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[i]=to upper(st[i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uts(st)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 about the other functions in this header file with given example for each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9A4A-B540-4002-994D-230770891A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A65C-8B80-4309-92D9-BF23816D2F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Goals for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ssing Parameters, Recursiv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1</a:t>
            </a:r>
            <a:r>
              <a:rPr b="1" i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. </a:t>
            </a:r>
            <a:r>
              <a:rPr b="1" i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String</a:t>
            </a:r>
            <a:r>
              <a:rPr b="1" i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 strings of characters are implemented as an array of characters. In addition a special null character, represented by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\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appended to the  end of string to indicate the end of the 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eneral Form of String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 String-name [ size ]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xamples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name [10] = “Ahmed Ala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’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’ , ’h’ , ’m’ , ’e’ , ’d’ , ’ ’ , ’A’ , ’l’ , ’a’ , ’a’ , ’\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str [ ] = “AB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’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’ , ’B’ , ’C’ , ’D’ , ’\0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 [0]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 [1]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 [2]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 [3]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 [4]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\0’ → null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رقم الشريحة 3"/>
          <p:cNvSpPr/>
          <p:nvPr/>
        </p:nvSpPr>
        <p:spPr>
          <a:xfrm>
            <a:off x="5791320" y="62452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-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Read / Write array elements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ading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scanf(“%s”,&amp; string_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gets (string_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splay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-  printf(“%s”,string_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- puts(string_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  </a:t>
            </a:r>
            <a:r>
              <a:rPr b="0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ifference betwee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put two names and there is a space between them 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will print the both names, whi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int the first n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’s will be stopped at  the first blank(spa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how example3 and example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9793-67B1-474B-B727-EAD24233D2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.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Process Array Elements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re are many approaches for process char of string using array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a size to an array of  char type, such that it’s size must       be the maximum limit of the number of character which can        be inpu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#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&lt;stdio.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 text[14]= “hello,  wor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f(“%s\n”, text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6EC1-4CFF-4DB9-B9D7-CB4BA0E7C8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c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can segment the char of string as follow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#include&lt;stdio.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{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r text[14]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0]=‘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1]=‘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2]=‘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3]=‘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4]=‘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5]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‘,’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6]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‘  ‘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7]=‘ 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8]=‘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9]=‘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10]=‘ 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11]=‘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12]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‘!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xt[13]=‘\0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ntf(“%s\n”, text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9B8F-8C3B-45F1-A27B-3B49CD13E6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3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e C program that require to input the user name and then display the character number of his nam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lude &lt;stdio.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{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r  nam[255]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 i=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intf(“your name:”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anf(“%s”,&amp;nam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le( nam[i] !=‘\0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+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intf(“%s = %d character\n”,nam,i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68C4-F00E-46F0-9EB2-968672DB1E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4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 write example3 by using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et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ut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function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CF83-BD90-4838-A32D-DACBD8CD81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lude &lt;stdio.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clude&lt;conio.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{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r  nam[255]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 i=0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intf("your name:"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//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canf("%s",&amp;nam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ts(nam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ile( nam[i] !='\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++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ts(nam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intf("%d\n",i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tc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4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- 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2D Array of String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ading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scanf(“%c”,&amp; string_name[i][j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gets (string_name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splay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-  printf(“%c”,string_name[i][j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- puts(string_name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ba</cp:lastModifiedBy>
  <dcterms:modified xsi:type="dcterms:W3CDTF">2015-03-30T17:18:29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