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E037D-1C39-462B-B549-1844B7669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BC104-12A4-49ED-9529-0BF90BB30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1B178-D8F6-41AE-A89D-86820B8AF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BE4B5-81DC-4C21-B26B-E5E97C9A2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08417-186B-418D-ACA1-1F349DFDD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FDBD8-1BB4-4390-AD51-18DCC7574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86B51-E527-40AC-B97E-4443EDFB5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8694D-DF1D-4640-B1FF-DD5515D66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7262C-892F-427C-AFE0-FF074D367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258CF-F33C-4922-87D7-BADD2FA0B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73B96-8B55-4DE9-B0FF-BA1F617F2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54C6B-CFC7-4A5B-934E-4032E2BCB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AB474-7CD8-4256-B812-9BB954B81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D1494-F843-47C7-8339-F77D9D5F0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37C18-C34B-4DBF-B2AD-9BC19C4F8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171AE-21F4-4C63-8DC3-61FE269D9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2F242-F6B3-4A59-93DC-56B12F4BA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4FE0-A2E0-409F-B7FE-756381AA4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2A608-CEF0-4219-BF8D-464531450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64AE9-2FC2-49FE-895B-CB3EDDC7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79DC5-6F3E-43B4-952C-5CA04034B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B24C-20A5-420E-BE49-8C5B724D6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90AC-59BD-48F3-9A47-C00EC7ADA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008B-F5B7-4FDE-88D1-03A5AE866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bcbcbc"/>
                </a:solidFill>
                <a:latin typeface="Book Antiqua"/>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bcbcbc"/>
                </a:solidFill>
                <a:latin typeface="Book Antiqua"/>
                <a:ea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bcbcbc"/>
                </a:solidFill>
                <a:latin typeface="Book Antiq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0F5C-BBA1-4B4F-99ED-E7ECF6054B7B}" type="slidenum">
              <a:rPr b="0" lang="ar-JO" sz="1200" spc="-1" strike="noStrike">
                <a:solidFill>
                  <a:srgbClr val="bcbcbc"/>
                </a:solidFill>
                <a:latin typeface="Book Antiqua"/>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bcbcbc"/>
                </a:solidFill>
                <a:latin typeface="Book Antiqua"/>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bcbcbc"/>
                </a:solidFill>
                <a:latin typeface="Book Antiqua"/>
                <a:ea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bcbcbc"/>
                </a:solidFill>
                <a:latin typeface="Book Antiq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5B70-DC3E-4AA4-85C5-C9581E036FD0}" type="slidenum">
              <a:rPr b="0" lang="ar-JO" sz="1200" spc="-1" strike="noStrike">
                <a:solidFill>
                  <a:srgbClr val="bcbcbc"/>
                </a:solidFill>
                <a:latin typeface="Book Antiqua"/>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1" descr=""/>
          <p:cNvPicPr/>
          <p:nvPr/>
        </p:nvPicPr>
        <p:blipFill>
          <a:blip r:embed="rId1">
            <a:grayscl/>
          </a:blip>
          <a:stretch/>
        </p:blipFill>
        <p:spPr>
          <a:xfrm>
            <a:off x="3929040" y="571680"/>
            <a:ext cx="1542960" cy="1454040"/>
          </a:xfrm>
          <a:prstGeom prst="rect">
            <a:avLst/>
          </a:prstGeom>
          <a:ln w="0">
            <a:noFill/>
          </a:ln>
        </p:spPr>
      </p:pic>
      <p:sp>
        <p:nvSpPr>
          <p:cNvPr id="84" name="Rectangle 3"/>
          <p:cNvSpPr/>
          <p:nvPr/>
        </p:nvSpPr>
        <p:spPr>
          <a:xfrm>
            <a:off x="0" y="486360"/>
            <a:ext cx="9144000" cy="6066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جامعة فيلادلفي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كلية العلوم الأدارية والمالي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قسم الأدارة الفندقية والسياحي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حث تخرج بعنوان:</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نمية السياحية في أقليم الشمال في الأردن</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عداد الطالب</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عتمد يحيى التهتموني</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00620267</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شراف الدكتور</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وفق الحميري</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دراسي الثاني</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009-20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142920" y="-945360"/>
            <a:ext cx="8572320" cy="789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Calibri"/>
              </a:rPr>
              <a:t>أصناف الأقاليم السياحية   </a:t>
            </a:r>
            <a:r>
              <a:rPr b="1" lang="en-US" sz="3200" spc="-1" strike="noStrike">
                <a:solidFill>
                  <a:srgbClr val="ffffff"/>
                </a:solidFill>
                <a:latin typeface="Arial"/>
                <a:ea typeface="Calibri"/>
              </a:rPr>
              <a:t>The Classification Of Tourism  Regions</a:t>
            </a:r>
            <a:r>
              <a:rPr b="1" lang="ar-JO" sz="3200" spc="-1" strike="noStrike">
                <a:solidFill>
                  <a:srgbClr val="ffffff"/>
                </a:solidFill>
                <a:latin typeface="Arial"/>
                <a:ea typeface="Calibri"/>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قسيم الاقاليم السياحية إلى نوعين رئيسيين هما:</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أقاليم السياحية المتجانسة </a:t>
            </a:r>
            <a:r>
              <a:rPr b="1" lang="en-US" sz="3200" spc="-1" strike="noStrike">
                <a:solidFill>
                  <a:srgbClr val="ffffff"/>
                </a:solidFill>
                <a:latin typeface="Arial"/>
              </a:rPr>
              <a:t>Homogenous Regions</a:t>
            </a:r>
            <a:r>
              <a:rPr b="1" lang="ar-JO" sz="3200" spc="-1" strike="noStrike">
                <a:solidFill>
                  <a:srgbClr val="ffffff"/>
                </a:solidFill>
                <a:latin typeface="Arial"/>
              </a:rPr>
              <a:t>:</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متاز الأقاليم السياحية المتجانسة بوجود عنصر جذب سياحي مميز واحد او عدة منتجات سياحية ذات خصائص جذب متجانسة ويمتاز بكونه من أكثر الأقاليم شهرة وشعبية لدى غالبية السياحوله موقع وتاريخ محدد مثل المنتجعات الجبيلة فهي من الأقاليم المتجانسة حيث يسود فيها صفة التجانس في ظروفها الطبيعية والمناخية وهذا النوع من الأقاليم هو من يتصل بإقليم الشمال في الأردن حيث أن كلاً من اربد,عجلون,جرش ذات مناخ متقارب جداً ومتقاربة جغرافي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0" y="-1034640"/>
            <a:ext cx="9144000" cy="8625960"/>
          </a:xfrm>
          <a:prstGeom prst="rect">
            <a:avLst/>
          </a:prstGeom>
          <a:noFill/>
          <a:ln w="0">
            <a:noFill/>
          </a:ln>
        </p:spPr>
        <p:style>
          <a:lnRef idx="0"/>
          <a:fillRef idx="0"/>
          <a:effectRef idx="0"/>
          <a:fontRef idx="minor"/>
        </p:style>
        <p:txBody>
          <a:bodyPr lIns="90000" rIns="90000" tIns="46800" bIns="46800" anchor="ctr">
            <a:sp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Calibri"/>
              </a:rPr>
              <a:t>الأقاليم السياحية المعقدة (الغير متجانسة) </a:t>
            </a:r>
            <a:r>
              <a:rPr b="1" lang="en-US" sz="2800" spc="-1" strike="noStrike">
                <a:solidFill>
                  <a:srgbClr val="ffffff"/>
                </a:solidFill>
                <a:latin typeface="Arial"/>
                <a:ea typeface="Calibri"/>
              </a:rPr>
              <a:t>Heterogeneous Region</a:t>
            </a:r>
            <a:r>
              <a:rPr b="1" lang="ar-JO" sz="2800" spc="-1" strike="noStrike">
                <a:solidFill>
                  <a:srgbClr val="ffffff"/>
                </a:solidFill>
                <a:latin typeface="Arial"/>
                <a:ea typeface="Calibri"/>
              </a:rPr>
              <a:t>:</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متاز الأقاليم السياحية الغير المتجانسة بوجود مجموعة من المنتجات السياحية لها خصائص وصفات ومستويات متوافقه تشكل بمجموعها منتجاً سياحياً متكاملاً وقد تكونهذه المنتجات مختلفة من حيث الوظيفة لكنها تشكل بمجموعها اقليماً غير متجانس. يتصف مثل هذا الأقليم بجذب عدد كبير من السياح لهم خصائص وصفات ديموغرافيه وأجتماعية متباينة ويمكن اعتبار سياحه العواصم مثالاً واضحا لهاذا النوع من الأقاليم سيما إنها تمتلك عناصر جذب سياحي متنوعه ومختلفه تنافس بعضها الأخر فالمغريات قد تكون حضاريه وتاريخيه او تجارية وتسويقيه او ترفيهيه.....ألخ.</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تعريف  أقليم الشمال في الاردن:</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يتكون من ثلاثة مدن هي اربد ، عجلون وجرش حيث كان يطلق على هذا الأقليم بأسم أقليم عجلون (أقليم اليرموك) عند تأسيس شرق الأردن في عهد الملك عبدلله الأول رحمه الله . حيث تمتاز بمناخ معتدل وذات تضاريس متشابهة وتتصف هذه المدن بعددمن المواقع السياحية المتميزة والفريدة منها التاريخية والعلاجية والطبيعية والبيئية وسوف أتحدث عن هذه المدن بتفصيل وبمواقعها السياح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642960" y="-127440"/>
            <a:ext cx="8358120" cy="5887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Calibri"/>
              </a:rPr>
              <a:t>أحصائيات عدد الفنادق والمطاعم السياحية في الأقليم:</a:t>
            </a: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Calibri"/>
              </a:rPr>
              <a:t>اربد</a:t>
            </a: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ea typeface="Calibri"/>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جميع هذه الفنادق داخل المدينة ولايوجد بجانب المناطق السياحية اي فندق وكما في الجدول السابق ويوجد فندق علاجي ذات تصنيف النجمتين  نستنتج أن لاوجود لأستثمارت في الفنادق العالمية الخمس نجوم وأربع نجوم وخصوصاً بالأماكن العلاج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جميع المناطق السياحية في مدينة اربد لايوجد إلى استراحتين فقط وباقي المطاعم داخل المدينة بعيدة عن الأماكن السياحية .</a:t>
            </a:r>
            <a:endParaRPr b="0" lang="en-US" sz="2000" spc="-1" strike="noStrike">
              <a:solidFill>
                <a:srgbClr val="ffffff"/>
              </a:solidFill>
              <a:latin typeface="Arial"/>
            </a:endParaRPr>
          </a:p>
        </p:txBody>
      </p:sp>
      <p:graphicFrame>
        <p:nvGraphicFramePr>
          <p:cNvPr id="96" name=""/>
          <p:cNvGraphicFramePr/>
          <p:nvPr/>
        </p:nvGraphicFramePr>
        <p:xfrm>
          <a:off x="714240" y="528480"/>
          <a:ext cx="7643880" cy="3257640"/>
        </p:xfrm>
        <a:graphic>
          <a:graphicData uri="http://schemas.openxmlformats.org/drawingml/2006/table">
            <a:tbl>
              <a:tblPr/>
              <a:tblGrid>
                <a:gridCol w="2532240"/>
                <a:gridCol w="2538360"/>
                <a:gridCol w="2573280"/>
              </a:tblGrid>
              <a:tr h="51228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شقق فندقية</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عدد الفنادق</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تصنيف الفنادق</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خمسة نجوم</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أربع نجوم</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1</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1</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ثلاثة نجوم</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1</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نجمتان</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4</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نجمة</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gridSpan="3">
                  <a:txBody>
                    <a:bodyPr lIns="29880" rIns="2988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جدول رقم (</a:t>
                      </a:r>
                      <a:r>
                        <a:rPr b="0" lang="ar-JO" sz="2000" spc="-1" strike="noStrike">
                          <a:solidFill>
                            <a:srgbClr val="ffffff"/>
                          </a:solidFill>
                          <a:latin typeface="Calibri"/>
                          <a:ea typeface="Calibri"/>
                        </a:rPr>
                        <a:t>1</a:t>
                      </a:r>
                      <a:r>
                        <a:rPr b="0" lang="ar-JO" sz="2000" spc="-1" strike="noStrike">
                          <a:solidFill>
                            <a:srgbClr val="ffffff"/>
                          </a:solidFill>
                          <a:latin typeface="Calibri"/>
                          <a:ea typeface="Calibri"/>
                        </a:rPr>
                        <a:t>-أ)</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357120" y="524880"/>
            <a:ext cx="8501040" cy="5582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Times New Roman"/>
              </a:rPr>
              <a:t>المطاع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Times New Roman"/>
              </a:rPr>
              <a:t>*جميع المطاعم السياحية في مدينة اربد لايوجد إلى استراحتين فقط وباقي المطاعم داخل المدينة وبعيدة عن الأماكن السياحية .</a:t>
            </a:r>
            <a:endParaRPr b="0" lang="en-US" sz="2000" spc="-1" strike="noStrike">
              <a:solidFill>
                <a:srgbClr val="ffffff"/>
              </a:solidFill>
              <a:latin typeface="Arial"/>
            </a:endParaRPr>
          </a:p>
        </p:txBody>
      </p:sp>
      <p:graphicFrame>
        <p:nvGraphicFramePr>
          <p:cNvPr id="98" name=""/>
          <p:cNvGraphicFramePr/>
          <p:nvPr/>
        </p:nvGraphicFramePr>
        <p:xfrm>
          <a:off x="3143160" y="1643040"/>
          <a:ext cx="4357800" cy="1920960"/>
        </p:xfrm>
        <a:graphic>
          <a:graphicData uri="http://schemas.openxmlformats.org/drawingml/2006/table">
            <a:tbl>
              <a:tblPr/>
              <a:tblGrid>
                <a:gridCol w="2162160"/>
                <a:gridCol w="2195640"/>
              </a:tblGrid>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عدد المطاعم</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تصنيف المطاعم</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1</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عالمية</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وجبات سريعة</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2</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الاستراحات</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10</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العربية</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gridSpan="2">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جدول رقم (</a:t>
                      </a:r>
                      <a:r>
                        <a:rPr b="0" lang="ar-JO" sz="1400" spc="-1" strike="noStrike">
                          <a:solidFill>
                            <a:srgbClr val="ffffff"/>
                          </a:solidFill>
                          <a:latin typeface="Calibri"/>
                          <a:ea typeface="Calibri"/>
                        </a:rPr>
                        <a:t>2</a:t>
                      </a:r>
                      <a:r>
                        <a:rPr b="0" lang="ar-JO" sz="1400" spc="-1" strike="noStrike">
                          <a:solidFill>
                            <a:srgbClr val="ffffff"/>
                          </a:solidFill>
                          <a:latin typeface="Calibri"/>
                          <a:ea typeface="Calibri"/>
                        </a:rPr>
                        <a:t>- ب)</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2000160" y="1214280"/>
          <a:ext cx="6429600" cy="3448080"/>
        </p:xfrm>
        <a:graphic>
          <a:graphicData uri="http://schemas.openxmlformats.org/drawingml/2006/table">
            <a:tbl>
              <a:tblPr/>
              <a:tblGrid>
                <a:gridCol w="2129040"/>
                <a:gridCol w="2135160"/>
                <a:gridCol w="2165400"/>
              </a:tblGrid>
              <a:tr h="82332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شقق فندقية</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عدد الفنادق</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تصنيف الفنادق</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خمسة نجوم</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أربع نجوم</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2</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ثلاثة نجوم</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نجمتان</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نجمة</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لايوجد تصنيف</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gridSpan="3">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جدول رقم (</a:t>
                      </a:r>
                      <a:r>
                        <a:rPr b="0" lang="ar-JO" sz="1800" spc="-1" strike="noStrike">
                          <a:solidFill>
                            <a:srgbClr val="ffffff"/>
                          </a:solidFill>
                          <a:latin typeface="Calibri"/>
                          <a:ea typeface="Calibri"/>
                        </a:rPr>
                        <a:t>2</a:t>
                      </a:r>
                      <a:r>
                        <a:rPr b="0" lang="ar-JO" sz="1800" spc="-1" strike="noStrike">
                          <a:solidFill>
                            <a:srgbClr val="ffffff"/>
                          </a:solidFill>
                          <a:latin typeface="Calibri"/>
                          <a:ea typeface="Calibri"/>
                        </a:rPr>
                        <a:t>-أ)</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0" name="Rectangle 1"/>
          <p:cNvSpPr/>
          <p:nvPr/>
        </p:nvSpPr>
        <p:spPr>
          <a:xfrm>
            <a:off x="571680" y="357120"/>
            <a:ext cx="8358120" cy="5456520"/>
          </a:xfrm>
          <a:prstGeom prst="rect">
            <a:avLst/>
          </a:prstGeom>
          <a:noFill/>
          <a:ln w="0">
            <a:noFill/>
          </a:ln>
        </p:spPr>
        <p:style>
          <a:lnRef idx="0"/>
          <a:fillRef idx="0"/>
          <a:effectRef idx="0"/>
          <a:fontRef idx="minor"/>
        </p:style>
        <p:txBody>
          <a:bodyPr lIns="90000" rIns="90000" tIns="46800" bIns="46800" anchor="ctr">
            <a:spAutoFit/>
          </a:bodyPr>
          <a:p>
            <a:pPr indent="32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Times New Roman"/>
              </a:rPr>
              <a:t>جرش </a:t>
            </a:r>
            <a:r>
              <a:rPr b="1" lang="ar-SA" sz="2200" spc="-1" strike="noStrike">
                <a:solidFill>
                  <a:srgbClr val="ffffff"/>
                </a:solidFill>
                <a:latin typeface="Arial"/>
                <a:ea typeface="Calibri"/>
              </a:rPr>
              <a:t>   </a:t>
            </a: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Arial"/>
              </a:rPr>
              <a:t>*جميع هذه الفنادق داخل المدينة ومن الجدول السابق نستنتج أن لاوجود لأستثمارت في الفنادق العالمية الخمس نجوم وأربع نجوم ولاوجود إلى لفندقين مصنفان بثلاث نجوم.</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2000160" y="1000080"/>
          <a:ext cx="5072040" cy="2411280"/>
        </p:xfrm>
        <a:graphic>
          <a:graphicData uri="http://schemas.openxmlformats.org/drawingml/2006/table">
            <a:tbl>
              <a:tblPr/>
              <a:tblGrid>
                <a:gridCol w="2529000"/>
                <a:gridCol w="2543040"/>
              </a:tblGrid>
              <a:tr h="58248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عدد المطاعم</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تصنيف المطاعم</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ea typeface="Calibri"/>
                        </a:rPr>
                        <a:t>1</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Calibri"/>
                          <a:ea typeface="Calibri"/>
                        </a:rPr>
                        <a:t>     </a:t>
                      </a:r>
                      <a:r>
                        <a:rPr b="0" lang="ar-JO" sz="1600" spc="-1" strike="noStrike">
                          <a:solidFill>
                            <a:srgbClr val="ffffff"/>
                          </a:solidFill>
                          <a:latin typeface="Calibri"/>
                          <a:cs typeface="Calibri"/>
                        </a:rPr>
                        <a:t>عالمية</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ea typeface="Calibri"/>
                        </a:rPr>
                        <a:t>-</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وجبات سريعة</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ea typeface="Calibri"/>
                        </a:rPr>
                        <a:t>2</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الاستراحات</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ea typeface="Calibri"/>
                        </a:rPr>
                        <a:t>10</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العربية</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5760">
                <a:tc gridSpan="2">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جدول رقم (</a:t>
                      </a:r>
                      <a:r>
                        <a:rPr b="0" lang="ar-JO" sz="1600" spc="-1" strike="noStrike">
                          <a:solidFill>
                            <a:srgbClr val="ffffff"/>
                          </a:solidFill>
                          <a:latin typeface="Calibri"/>
                          <a:ea typeface="Calibri"/>
                        </a:rPr>
                        <a:t>2</a:t>
                      </a:r>
                      <a:r>
                        <a:rPr b="0" lang="ar-JO" sz="1600" spc="-1" strike="noStrike">
                          <a:solidFill>
                            <a:srgbClr val="ffffff"/>
                          </a:solidFill>
                          <a:latin typeface="Calibri"/>
                          <a:ea typeface="Calibri"/>
                        </a:rPr>
                        <a:t>- ب)</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2" name="Rectangle 2"/>
          <p:cNvSpPr/>
          <p:nvPr/>
        </p:nvSpPr>
        <p:spPr>
          <a:xfrm>
            <a:off x="571680" y="-132120"/>
            <a:ext cx="8572320" cy="4972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Calibri"/>
              </a:rPr>
              <a:t>*لايوجد مطاعم وجبات سريعة داخل جرش ويوجد مطعم عالمي واحد واستراحتين وذلك قليل بحجم جرش على المستوى السياحي التي يتواجد بها محمية دبين وعدد من المناطق الطبيعة والاثرية الخلاب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1857240" y="1928880"/>
          <a:ext cx="6000840" cy="2679480"/>
        </p:xfrm>
        <a:graphic>
          <a:graphicData uri="http://schemas.openxmlformats.org/drawingml/2006/table">
            <a:tbl>
              <a:tblPr/>
              <a:tblGrid>
                <a:gridCol w="1967040"/>
                <a:gridCol w="1685880"/>
                <a:gridCol w="2347920"/>
              </a:tblGrid>
              <a:tr h="75780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شقق فندقية</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عدد الفنادق</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تصنيف الفنادق</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خمسة نجوم</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40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أربع نجوم</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ثلاثة نجوم</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2</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نجمتان</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نجمة</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gridSpan="3">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جدول رقم (</a:t>
                      </a:r>
                      <a:r>
                        <a:rPr b="0" lang="ar-JO" sz="1400" spc="-1" strike="noStrike">
                          <a:solidFill>
                            <a:srgbClr val="ffffff"/>
                          </a:solidFill>
                          <a:latin typeface="Calibri"/>
                          <a:ea typeface="Calibri"/>
                        </a:rPr>
                        <a:t>3</a:t>
                      </a:r>
                      <a:r>
                        <a:rPr b="0" lang="ar-JO" sz="1400" spc="-1" strike="noStrike">
                          <a:solidFill>
                            <a:srgbClr val="ffffff"/>
                          </a:solidFill>
                          <a:latin typeface="Calibri"/>
                          <a:ea typeface="Calibri"/>
                        </a:rPr>
                        <a:t>-أ)</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4" name="Rectangle 1"/>
          <p:cNvSpPr/>
          <p:nvPr/>
        </p:nvSpPr>
        <p:spPr>
          <a:xfrm>
            <a:off x="285840" y="1024560"/>
            <a:ext cx="8858160" cy="4736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Calibri"/>
              </a:rPr>
              <a:t>3</a:t>
            </a:r>
            <a:r>
              <a:rPr b="0" lang="ar-SA" sz="1400" spc="-1" strike="noStrike">
                <a:solidFill>
                  <a:srgbClr val="ffffff"/>
                </a:solidFill>
                <a:latin typeface="Arial"/>
                <a:ea typeface="Calibri"/>
              </a:rPr>
              <a:t>- </a:t>
            </a:r>
            <a:r>
              <a:rPr b="1" lang="ar-SA" sz="1400" spc="-1" strike="noStrike">
                <a:solidFill>
                  <a:srgbClr val="ffffff"/>
                </a:solidFill>
                <a:latin typeface="Arial"/>
                <a:cs typeface="Calibri"/>
              </a:rPr>
              <a:t>عجلون</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Arial"/>
                <a:ea typeface="Calibri"/>
              </a:rPr>
              <a:t>*جميع هذه الفنادق داخل المدينة ومن الجدول السابق نستنتج أن لاوجود لأستثمارت في الفنادق العالمية الخمس نجوم وأربع نجوم وثلاث نجوم ولاوجود إلى لفندقين مصنفان بنجمتان نجوم.</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1857240" y="1214280"/>
          <a:ext cx="6215040" cy="3540240"/>
        </p:xfrm>
        <a:graphic>
          <a:graphicData uri="http://schemas.openxmlformats.org/drawingml/2006/table">
            <a:tbl>
              <a:tblPr/>
              <a:tblGrid>
                <a:gridCol w="3084480"/>
                <a:gridCol w="3130560"/>
              </a:tblGrid>
              <a:tr h="7664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عدد المطاعم</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تصنيف المطاعم</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عالمية</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وجبات سريعة</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2</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الاستراحات</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العربية</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جدول رقم (</a:t>
                      </a:r>
                      <a:r>
                        <a:rPr b="0" lang="ar-JO" sz="2000" spc="-1" strike="noStrike">
                          <a:solidFill>
                            <a:srgbClr val="ffffff"/>
                          </a:solidFill>
                          <a:latin typeface="Calibri"/>
                          <a:ea typeface="Calibri"/>
                        </a:rPr>
                        <a:t>3</a:t>
                      </a:r>
                      <a:r>
                        <a:rPr b="0" lang="ar-JO" sz="2000" spc="-1" strike="noStrike">
                          <a:solidFill>
                            <a:srgbClr val="ffffff"/>
                          </a:solidFill>
                          <a:latin typeface="Calibri"/>
                          <a:ea typeface="Calibri"/>
                        </a:rPr>
                        <a:t>- ب)</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6" name="Rectangle 2"/>
          <p:cNvSpPr/>
          <p:nvPr/>
        </p:nvSpPr>
        <p:spPr>
          <a:xfrm>
            <a:off x="428760" y="-106200"/>
            <a:ext cx="8715240" cy="6769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Calibri"/>
              </a:rPr>
              <a:t>*لايوجد مطاعم وجبات سريعة  وعالمية وعربية داخل عجلون ويوجد مطعم عالمي واحد واستراحتين وذلك قليل بحجم عجلون على المستوى السياحي التي يتواجد بها محمية مثل محمية برقيش ومناطق طبيعية خلابة.</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Calibri"/>
              </a:rPr>
              <a:t>*جميع المعلومات في الجداول(</a:t>
            </a:r>
            <a:r>
              <a:rPr b="1" lang="ar-SA" sz="1800" spc="-1" strike="noStrike">
                <a:solidFill>
                  <a:srgbClr val="ffffff"/>
                </a:solidFill>
                <a:latin typeface="Arial"/>
                <a:ea typeface="Calibri"/>
              </a:rPr>
              <a:t>1</a:t>
            </a:r>
            <a:r>
              <a:rPr b="1" lang="ar-SA" sz="1800" spc="-1" strike="noStrike">
                <a:solidFill>
                  <a:srgbClr val="ffffff"/>
                </a:solidFill>
                <a:latin typeface="Arial"/>
                <a:ea typeface="Calibri"/>
              </a:rPr>
              <a:t>)،(</a:t>
            </a:r>
            <a:r>
              <a:rPr b="1" lang="ar-SA" sz="1800" spc="-1" strike="noStrike">
                <a:solidFill>
                  <a:srgbClr val="ffffff"/>
                </a:solidFill>
                <a:latin typeface="Arial"/>
                <a:ea typeface="Calibri"/>
              </a:rPr>
              <a:t>2</a:t>
            </a:r>
            <a:r>
              <a:rPr b="1" lang="ar-SA" sz="1800" spc="-1" strike="noStrike">
                <a:solidFill>
                  <a:srgbClr val="ffffff"/>
                </a:solidFill>
                <a:latin typeface="Arial"/>
                <a:ea typeface="Calibri"/>
              </a:rPr>
              <a:t>)(</a:t>
            </a:r>
            <a:r>
              <a:rPr b="1" lang="ar-SA" sz="1800" spc="-1" strike="noStrike">
                <a:solidFill>
                  <a:srgbClr val="ffffff"/>
                </a:solidFill>
                <a:latin typeface="Arial"/>
                <a:ea typeface="Calibri"/>
              </a:rPr>
              <a:t>3</a:t>
            </a:r>
            <a:r>
              <a:rPr b="1" lang="ar-SA" sz="1800" spc="-1" strike="noStrike">
                <a:solidFill>
                  <a:srgbClr val="ffffff"/>
                </a:solidFill>
                <a:latin typeface="Arial"/>
                <a:ea typeface="Calibri"/>
              </a:rPr>
              <a:t>) حسب هيئة تنشيط السياحة</a:t>
            </a:r>
            <a:r>
              <a:rPr b="1" lang="en-US" sz="1800" spc="-1" strike="noStrike">
                <a:solidFill>
                  <a:srgbClr val="ffffff"/>
                </a:solidFill>
                <a:latin typeface="Arial"/>
                <a:ea typeface="Calibri"/>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49320"/>
            <a:ext cx="8242560" cy="137772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fontScale="94000"/>
          </a:bodyPr>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السياحة المستدامة:</a:t>
            </a:r>
            <a:endParaRPr b="0" lang="en-US" sz="2400" spc="-1" strike="noStrike">
              <a:solidFill>
                <a:srgbClr val="ffffff"/>
              </a:solidFill>
              <a:latin typeface="Book Antiqua"/>
            </a:endParaRPr>
          </a:p>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Book Antiqua"/>
              </a:rPr>
              <a:t>      هي الاستثمار الأمثل المنتجات السياحية من حيث توزيعها ، وكثافة وجودها بأعداد متوازنة المنتجات السياحية على أن يكونوا على علم </a:t>
            </a:r>
            <a:r>
              <a:rPr b="0" lang="ar-EG" sz="2400" spc="-1" strike="noStrike">
                <a:solidFill>
                  <a:srgbClr val="ffffff"/>
                </a:solidFill>
                <a:latin typeface="Book Antiqua"/>
              </a:rPr>
              <a:t>مسبق </a:t>
            </a:r>
            <a:r>
              <a:rPr b="0" lang="ar-SA" sz="2400" spc="-1" strike="noStrike">
                <a:solidFill>
                  <a:srgbClr val="ffffff"/>
                </a:solidFill>
                <a:latin typeface="Book Antiqua"/>
              </a:rPr>
              <a:t>ومعرفة بأهمية المناطق السياحية والتعامل معها بشكل ودي، وذلك للحيلولة دون وقوع الأ</a:t>
            </a:r>
            <a:r>
              <a:rPr b="0" lang="ar-EG" sz="2400" spc="-1" strike="noStrike">
                <a:solidFill>
                  <a:srgbClr val="ffffff"/>
                </a:solidFill>
                <a:latin typeface="Book Antiqua"/>
              </a:rPr>
              <a:t>ضرار</a:t>
            </a:r>
            <a:r>
              <a:rPr b="0" lang="ar-SA" sz="2400" spc="-1" strike="noStrike">
                <a:solidFill>
                  <a:srgbClr val="ffffff"/>
                </a:solidFill>
                <a:latin typeface="Book Antiqua"/>
              </a:rPr>
              <a:t> على الطرفين.</a:t>
            </a:r>
            <a:endParaRPr b="0" lang="en-US" sz="2400" spc="-1" strike="noStrike">
              <a:solidFill>
                <a:srgbClr val="ffffff"/>
              </a:solidFill>
              <a:latin typeface="Book Antiqua"/>
            </a:endParaRPr>
          </a:p>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Book Antiqua"/>
              </a:rPr>
              <a:t>      </a:t>
            </a:r>
            <a:r>
              <a:rPr b="0" lang="ar-BH" sz="2400" spc="-1" strike="noStrike">
                <a:solidFill>
                  <a:srgbClr val="ffffff"/>
                </a:solidFill>
                <a:latin typeface="Book Antiqua"/>
              </a:rPr>
              <a:t>و</a:t>
            </a:r>
            <a:r>
              <a:rPr b="0" lang="ar-SA" sz="2400" spc="-1" strike="noStrike">
                <a:solidFill>
                  <a:srgbClr val="ffffff"/>
                </a:solidFill>
                <a:latin typeface="Book Antiqua"/>
              </a:rPr>
              <a:t>تلبي السياحة المستدامة احتياجات السياح مثلما تعمل على الحفاظ على المناطق السياحية وزيادة فرص العمل للمجتمع المحلي. </a:t>
            </a:r>
            <a:endParaRPr b="0" lang="en-US" sz="2400" spc="-1" strike="noStrike">
              <a:solidFill>
                <a:srgbClr val="ffffff"/>
              </a:solidFill>
              <a:latin typeface="Book Antiqua"/>
            </a:endParaRPr>
          </a:p>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Book Antiqua"/>
              </a:rPr>
              <a:t> وهي تعمل على إدارة كل الموارد المتاحة سواء كانت اقتصادية أو اجتماعية أو جمالية</a:t>
            </a:r>
            <a:r>
              <a:rPr b="0" lang="ar-EG" sz="2400" spc="-1" strike="noStrike">
                <a:solidFill>
                  <a:srgbClr val="ffffff"/>
                </a:solidFill>
                <a:latin typeface="Book Antiqua"/>
              </a:rPr>
              <a:t> أو طبيعية </a:t>
            </a:r>
            <a:r>
              <a:rPr b="0" lang="ar-SA" sz="2400" spc="-1" strike="noStrike">
                <a:solidFill>
                  <a:srgbClr val="ffffff"/>
                </a:solidFill>
                <a:latin typeface="Book Antiqua"/>
              </a:rPr>
              <a:t> في التعامل مع المعطيات التراثية والثقافية، بالإضافة إلى ضرورة المحافظة على التوازن البيئي والتنوع الحيوي.</a:t>
            </a:r>
            <a:endParaRPr b="0" lang="en-US" sz="2400" spc="-1" strike="noStrike">
              <a:solidFill>
                <a:srgbClr val="ffffff"/>
              </a:solidFill>
              <a:latin typeface="Book Antiqua"/>
            </a:endParaRPr>
          </a:p>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85680"/>
            <a:ext cx="8242560" cy="1165320"/>
          </a:xfrm>
          <a:prstGeom prst="rect">
            <a:avLst/>
          </a:prstGeom>
          <a:ln w="0">
            <a:noFill/>
          </a:ln>
        </p:spPr>
      </p:pic>
      <p:sp>
        <p:nvSpPr>
          <p:cNvPr id="110" name=""/>
          <p:cNvSpPr txBox="1"/>
          <p:nvPr/>
        </p:nvSpPr>
        <p:spPr>
          <a:xfrm>
            <a:off x="500040" y="785520"/>
            <a:ext cx="8229600" cy="4708440"/>
          </a:xfrm>
          <a:prstGeom prst="rect">
            <a:avLst/>
          </a:prstGeom>
          <a:noFill/>
          <a:ln w="0">
            <a:noFill/>
          </a:ln>
        </p:spPr>
        <p:txBody>
          <a:bodyPr anchor="t">
            <a:normAutofit fontScale="79000"/>
          </a:bodyPr>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ffffff"/>
                </a:solidFill>
                <a:latin typeface="Book Antiqua"/>
              </a:rPr>
              <a:t>عند </a:t>
            </a:r>
            <a:r>
              <a:rPr b="0" lang="ar-SA" sz="1800" spc="-1" strike="noStrike">
                <a:solidFill>
                  <a:srgbClr val="ffffff"/>
                </a:solidFill>
                <a:latin typeface="Book Antiqua"/>
              </a:rPr>
              <a:t>محاولة دمج الرؤى والقضايا سابقة الذكر والتي تتعلق بالسياسات والممارسات المحلية، يجب أن تؤخذ المبادئ التالية بعين الاعتبار مايلي:</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كون التخطيط للسياحة وتنميتها وإدارتها جزء من استراتيجيات الحماية أو التنمية المستدامة للإقليم  أو الدولة.  كما يجب أن يتم تخطيط وإدارة السياحة بشكل متداخل وموحد يتضمن إشراك وكالات حكومية مختلفة، ومؤسسات خاصة، ومواطنين سواء كانوا مجموعات أم أفراد لتوفير أكبر قدر من المنافع.</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تتبع هذه الوكالات، والمؤسسات، والجماعات، والأفراد المبادئ الأخلاقية والمبادئ الأخرى التي تحترم ثقافة وبيئة واقتصاد المنطقة المضيفة، والطريقة التقليدية لحياة المجتمع وسلوكه بما في ذلك الأنماط السياسية.</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تم تخطيط وإدارة السياحة بطريقة مستدامة وذلك من أجل الحماية والاستخدامات الاقتصادية المثلى للبيئة الطبيعية والبشرية في المنطقة المضيفة.</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تهتم السياحة بعدالة توزيع المكاسب بين مروجي السياحة وأفراد المجتمع المضيف والمنطقة.</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تتوفر الدراسات والمعلومات عن طبيعة السياحة  وتأثيراتها على السكان والبيئة الثقافية قبل وأثناء التنمية،   خاصة للمجتمع المحلي،  حتى يمكنهم المشاركة والتأثير على اتجاهات التنمية الشاملة. </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تم عمل تحليل متداخل للتخطيط البيئي والاجتماعي والاقتصادي قبل المباشرة بأي تنمية سياحية أو أي مشاريع أخرى بحيث يتم الأخذ بمتطلبات البيئة والمجتمع.</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تم تشجيع الأشخاص المحليين على القيام بأدوار قيادية في التخطيط والتنمية بمساعدة الحكومة، وقطاع الأعمال، والقطاع المالي، وغيرها من المصالح.</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تم تنفيذ برنامجاً للرقابة والتدقيق والتصحيح أثناء جميع مراحل تنمية وإدارة السياحة،  بما يسمح للسكان المحليين وغيرهم من الانتفاع من الفرص المتوفرة والتكيف مع التغييرات التي ستطرأ على حياتهم.</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0" y="-699840"/>
            <a:ext cx="9144000" cy="8140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Calibri"/>
              </a:rPr>
              <a:t>المقد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Calibri"/>
              </a:rPr>
              <a:t>تعتبر السياحية من أهم القطعات الأقتصادية وتساهم بشكل مباشر بلأقتصاد الوطني مما تتصف بلأهمية وخاصة في الدول النامية وبذلك يجب العمل على  تنمية المناطق السياحية في الأردن فقد قمت بأختيار هذا البحث الخاص بتنمية السياحية في أقليم الشمال في الأردن الذي يتصف بجمال المناطق السياحية وسوف أبين مستوى تقدم في مجال التنمية السياحية في الأقليم و مصادر تقدمه في المجال السياحي والدعم الحكومي لتشجيع الأستثمار في أقليم الشمال وترويجه ليصبح مقصد للسواح ومعرفة كيفية عمل خطط تنموية مستقبلية للأقليم من مشاريع حيث يضم الأقليم عدد من الأماكن الترويحية ومنها التارخية والأستجمامية ويتصف بجمال مناخه بشكل عام مما يعطيه طابع جمالي خاص وقرب المسافات بين مناطق السياحية في الأقليم مما يعمل على تشجيع في تنمية المشاريع السياحية داخل الأقليم بشكل عا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فيجب التعاون بين الحكومة ومكاتب السياحة والسفر والقطاع الخاص بشكل عام على ترويج المنتجات السياحية للأقليم والعمل على تصويره بشكل ايجابي مما يساعد في عميلية التنمية السياحية للأقليم ويؤدي إلى زيادة في المردود المادي لأبناء الأقليم بشكل خاص وللدولة بشكل عا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مشاريع المقترحة القيام بها هيا المنتجعات الأستجمامية في عجلون واربد وجرش التي تتصف بجمال الطبيعة المتوفرة بها و الأطلالة المميزة أيضا والمطاعم السياحية بجانب مناطق التاريخية وتوفير البنية التحتية لذلك و عمل فنادق ذات تصنيفات مختلفة لتلبية حجات ورغبات السائح القادم إلى الأقلي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20840" y="-19080"/>
            <a:ext cx="8242200" cy="824040"/>
          </a:xfrm>
          <a:prstGeom prst="rect">
            <a:avLst/>
          </a:prstGeom>
          <a:ln w="0">
            <a:noFill/>
          </a:ln>
        </p:spPr>
      </p:pic>
      <p:sp>
        <p:nvSpPr>
          <p:cNvPr id="112" name=""/>
          <p:cNvSpPr txBox="1"/>
          <p:nvPr/>
        </p:nvSpPr>
        <p:spPr>
          <a:xfrm>
            <a:off x="428760" y="785880"/>
            <a:ext cx="8286480" cy="5214960"/>
          </a:xfrm>
          <a:prstGeom prst="rect">
            <a:avLst/>
          </a:prstGeom>
          <a:noFill/>
          <a:ln w="0">
            <a:noFill/>
          </a:ln>
        </p:spPr>
        <p:txBody>
          <a:bodyPr anchor="t">
            <a:normAutofit fontScale="93000"/>
          </a:bodyPr>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Book Antiqua"/>
              </a:rPr>
              <a:t>	</a:t>
            </a:r>
            <a:r>
              <a:rPr b="0" lang="ar-SA" sz="1800" spc="-1" strike="noStrike">
                <a:solidFill>
                  <a:srgbClr val="ffffff"/>
                </a:solidFill>
                <a:latin typeface="Book Antiqua"/>
              </a:rPr>
              <a:t>تهدف تنمية الصناعة السياحية إلى تحقيق زيادة مستمرة ومتوازنة في الموارد السياحية. وإن أول محور في عملية التنمية هو الإنسان الذي يعد أداتها الرئيسية</a:t>
            </a:r>
            <a:r>
              <a:rPr b="0" lang="en-US" sz="1800" spc="-1" strike="noStrike">
                <a:solidFill>
                  <a:srgbClr val="ffffff"/>
                </a:solidFill>
                <a:latin typeface="Book Antiqua"/>
              </a:rPr>
              <a:t>.</a:t>
            </a:r>
            <a:r>
              <a:rPr b="0" lang="ar-SA" sz="1800" spc="-1" strike="noStrike">
                <a:solidFill>
                  <a:srgbClr val="ffffff"/>
                </a:solidFill>
                <a:latin typeface="Book Antiqua"/>
              </a:rPr>
              <a:t>لهذا فإن الدولة مطالبة بالسعي إلى توفير كل ما يحتاج إليه لتبقى القدرات البدنية والعقلية والنفسية لهذا الإنسان على أكمل وجه.</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إن عملية تنمية وتطوير السياحة تكون  بجرد المصادر التي يمكن استخدامها في الصناعة السياحية وتقويمها بشكل علمي بل وإيجاد مناطق جديدة قد تجذب إليها السائحين مثل القرى السياحية أو الأماكن المبنية خصوصاً للسياحة. والتقويم هنا ليس مجرد تخمين نظري، وإنما تقويم مقارن مع المنتجات السياحية للدول المنافسة واعتمادها على اتجاهات وخصائص الطلب السياحي العالمي والذي يعد الأساس في تحديد وإيجاد البنية التحتية والقومية للسياحة</a:t>
            </a:r>
            <a:r>
              <a:rPr b="1" lang="ar-SA" sz="1800" spc="-1" strike="noStrike">
                <a:solidFill>
                  <a:srgbClr val="ffffff"/>
                </a:solidFill>
                <a:latin typeface="Book Antiqua"/>
              </a:rPr>
              <a:t> </a:t>
            </a:r>
            <a:r>
              <a:rPr b="0" lang="ar-SA" sz="1800" spc="-1" strike="noStrike">
                <a:solidFill>
                  <a:srgbClr val="ffffff"/>
                </a:solidFill>
                <a:latin typeface="Book Antiqua"/>
              </a:rPr>
              <a:t>عبر تشجيع الاستثمار السياحي وتسهيل عمل شركات الاستثمار من خلال تخفيض الضرائب والإجراءات الجمركية على الأجهزة والمعدات اللازمة لمشاريعهم. </a:t>
            </a:r>
            <a:endParaRPr b="0" lang="en-US" sz="1800" spc="-1" strike="noStrike">
              <a:solidFill>
                <a:srgbClr val="ffffff"/>
              </a:solidFill>
              <a:latin typeface="Book Antiqua"/>
            </a:endParaRPr>
          </a:p>
          <a:p>
            <a:pPr marL="509040" indent="-3823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دمج السكان المحليين </a:t>
            </a:r>
            <a:r>
              <a:rPr b="0" lang="ar-EG" sz="1800" spc="-1" strike="noStrike">
                <a:solidFill>
                  <a:srgbClr val="ffffff"/>
                </a:solidFill>
                <a:latin typeface="Book Antiqua"/>
              </a:rPr>
              <a:t>وتوعيتهم وتثقيفهم بيئياً وسياحياً.</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Book Antiqua"/>
              </a:rPr>
              <a:t>  توفير مشاريع مدرة للدخل للسكان المحليين، مثل الصناعات الحرفية التقليدية ومرافقة الدواب لنقل السياح وتشجيع الزراعة العضوية فضلا عن العمل كمرشدين سياحين .</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Book Antiqua"/>
              </a:rPr>
              <a:t>  تضافر كل الجهود لنجاح السياحة البيئية من خلال تعاون كل القطاعات ذات العلاقة بالسياحة، مثل القطاع الخاص والحكومي والمؤسسات الرسمية والهيئات غير الحكومية والسكان لمحليين.</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28760" y="142560"/>
            <a:ext cx="8229600" cy="4708440"/>
          </a:xfrm>
          <a:prstGeom prst="rect">
            <a:avLst/>
          </a:prstGeom>
          <a:noFill/>
          <a:ln w="0">
            <a:noFill/>
          </a:ln>
        </p:spPr>
        <p:txBody>
          <a:bodyPr anchor="t">
            <a:normAutofit fontScale="72000"/>
          </a:bodyPr>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Book Antiqua"/>
              </a:rPr>
              <a:t>ولتحقيق التنمية السياحية المستدامة، سنورد بعض المبادئ والأنظمة التي لاقت نجاحاً في المواءمة بين رغبات ونشاطات السياح من جهة وحماية الموارد البيئية </a:t>
            </a:r>
            <a:r>
              <a:rPr b="1" lang="ar-BH" sz="1400" spc="-1" strike="noStrike">
                <a:solidFill>
                  <a:srgbClr val="ffffff"/>
                </a:solidFill>
                <a:latin typeface="Book Antiqua"/>
              </a:rPr>
              <a:t>والاجتماعية والاقتصادية </a:t>
            </a:r>
            <a:r>
              <a:rPr b="1" lang="ar-SA" sz="1400" spc="-1" strike="noStrike">
                <a:solidFill>
                  <a:srgbClr val="ffffff"/>
                </a:solidFill>
                <a:latin typeface="Book Antiqua"/>
              </a:rPr>
              <a:t>من جهة أخرى، </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1400" spc="-1" strike="noStrike">
                <a:solidFill>
                  <a:srgbClr val="ffffff"/>
                </a:solidFill>
                <a:latin typeface="Book Antiqua"/>
              </a:rPr>
              <a:t>وذلك بهدف تطبيقها </a:t>
            </a:r>
            <a:r>
              <a:rPr b="1" lang="ar-SA" sz="1400" spc="-1" strike="noStrike">
                <a:solidFill>
                  <a:srgbClr val="ffffff"/>
                </a:solidFill>
                <a:latin typeface="Book Antiqua"/>
              </a:rPr>
              <a:t>وهي:</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Book Antiqua"/>
              </a:rPr>
              <a:t>وجود مراكز دخول في المواقع السياحية لتنظيم </a:t>
            </a:r>
            <a:r>
              <a:rPr b="1" lang="ar-EG" sz="1400" spc="-1" strike="noStrike">
                <a:solidFill>
                  <a:srgbClr val="ffffff"/>
                </a:solidFill>
                <a:latin typeface="Book Antiqua"/>
              </a:rPr>
              <a:t>حركة</a:t>
            </a:r>
            <a:r>
              <a:rPr b="1" lang="ar-SA" sz="1400" spc="-1" strike="noStrike">
                <a:solidFill>
                  <a:srgbClr val="ffffff"/>
                </a:solidFill>
                <a:latin typeface="Book Antiqua"/>
              </a:rPr>
              <a:t> السياح </a:t>
            </a:r>
            <a:r>
              <a:rPr b="1" lang="ar-BH" sz="1400" spc="-1" strike="noStrike">
                <a:solidFill>
                  <a:srgbClr val="ffffff"/>
                </a:solidFill>
                <a:latin typeface="Book Antiqua"/>
              </a:rPr>
              <a:t>وتزويدهم </a:t>
            </a:r>
            <a:r>
              <a:rPr b="1" lang="ar-SA" sz="1400" spc="-1" strike="noStrike">
                <a:solidFill>
                  <a:srgbClr val="ffffff"/>
                </a:solidFill>
                <a:latin typeface="Book Antiqua"/>
              </a:rPr>
              <a:t>بالمعلومات  الضرورية. </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Book Antiqua"/>
              </a:rPr>
              <a:t> ضرورة توفر مراكز للزوار تقدم معلومات شاملة عن المواقع، وإعطاء بعض الإرشادات الضرورية </a:t>
            </a:r>
            <a:r>
              <a:rPr b="1" lang="ar-BH" sz="1400" spc="-1" strike="noStrike">
                <a:solidFill>
                  <a:srgbClr val="ffffff"/>
                </a:solidFill>
                <a:latin typeface="Book Antiqua"/>
              </a:rPr>
              <a:t>حول </a:t>
            </a:r>
            <a:r>
              <a:rPr b="1" lang="ar-SA" sz="1400" spc="-1" strike="noStrike">
                <a:solidFill>
                  <a:srgbClr val="ffffff"/>
                </a:solidFill>
                <a:latin typeface="Book Antiqua"/>
              </a:rPr>
              <a:t>كيفية التعامل مع الموقع، ويفضل أن يعمل في هذه المراكز السكان المحليون الذين يدربون على إدارة الموقع والتعامل مع المعطيات الطبيعية.</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r>
              <a:rPr b="1" lang="ar-SA" sz="1400" spc="-1" strike="noStrike">
                <a:solidFill>
                  <a:srgbClr val="ffffff"/>
                </a:solidFill>
                <a:latin typeface="Book Antiqua"/>
              </a:rPr>
              <a:t>ضرورة وجود قوانين وأنظمة تضمن السيطرة على أعداد السياح الوافدين وتأمينهم بالخدمات والمعلومات وتوفير الأمن والحماية بدون إحداث أي أضرار بالبيئة.</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Book Antiqua"/>
              </a:rPr>
              <a:t>ضرورة وجود إدارة سليمة للموارد الطبيعية والبشرية في المنطقة، يمكنها أن تحافظ على هذه المكتنزات للأجيال القادمة من خلال عناصر بشرية مدربة.</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a:t>
            </a:r>
            <a:r>
              <a:rPr b="1" lang="ar-SA" sz="1400" spc="-1" strike="noStrike">
                <a:solidFill>
                  <a:srgbClr val="ffffff"/>
                </a:solidFill>
                <a:latin typeface="Book Antiqua"/>
              </a:rPr>
              <a:t>التوعية والتثقيف البيئي من خلال توعية السكان المحليين أولاً بأهمية البيئة والمحافظة عليها، فكثيراً ما نلاحظ أن السكان المحليين هم الذين يسعون إلى تخريب وتدمير بيئتهم لأسباب مادية، ولكن هؤلاء لا ي</a:t>
            </a:r>
            <a:r>
              <a:rPr b="1" lang="ar-BH" sz="1400" spc="-1" strike="noStrike">
                <a:solidFill>
                  <a:srgbClr val="ffffff"/>
                </a:solidFill>
                <a:latin typeface="Book Antiqua"/>
              </a:rPr>
              <a:t>عر</a:t>
            </a:r>
            <a:r>
              <a:rPr b="1" lang="ar-SA" sz="1400" spc="-1" strike="noStrike">
                <a:solidFill>
                  <a:srgbClr val="ffffff"/>
                </a:solidFill>
                <a:latin typeface="Book Antiqua"/>
              </a:rPr>
              <a:t>فون أنهم يدمرون قوتهم ومستقبل أولادهم من خلال هذا التخريب،  ولذلك يجب التركيز على التوعية والتثقيف البيئي للسكان المحليين وللعاملين في الموقع، مع الحرص على وجود اللوحات الإرشادية التي تؤكد على أهمية ذلك.</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a:t>
            </a:r>
            <a:r>
              <a:rPr b="1" lang="ar-SA" sz="1400" spc="-1" strike="noStrike">
                <a:solidFill>
                  <a:srgbClr val="ffffff"/>
                </a:solidFill>
                <a:latin typeface="Book Antiqua"/>
              </a:rPr>
              <a:t>تحديد القدرة الاستيعابية للمكان السياحي،  بحيث يحدد أعداد السياح الوافدين للمنطقة السياحية بدون ازدحام واكتظاظ ، </a:t>
            </a:r>
            <a:r>
              <a:rPr b="1" lang="ar-EG" sz="1400" spc="-1" strike="noStrike">
                <a:solidFill>
                  <a:srgbClr val="ffffff"/>
                </a:solidFill>
                <a:latin typeface="Book Antiqua"/>
              </a:rPr>
              <a:t>حتى</a:t>
            </a:r>
            <a:r>
              <a:rPr b="1" lang="ar-SA" sz="1400" spc="-1" strike="noStrike">
                <a:solidFill>
                  <a:srgbClr val="ffffff"/>
                </a:solidFill>
                <a:latin typeface="Book Antiqua"/>
              </a:rPr>
              <a:t> لا يؤثر ذلك على البيئة الطبيعية والاجتماعية من جهة وعلى السياح من جهة أخرى </a:t>
            </a:r>
            <a:r>
              <a:rPr b="1" lang="ar-BH" sz="1400" spc="-1" strike="noStrike">
                <a:solidFill>
                  <a:srgbClr val="ffffff"/>
                </a:solidFill>
                <a:latin typeface="Book Antiqua"/>
              </a:rPr>
              <a:t>فيرون بيئة جاذبة توفر لهم </a:t>
            </a:r>
            <a:r>
              <a:rPr b="1" lang="ar-SA" sz="1400" spc="-1" strike="noStrike">
                <a:solidFill>
                  <a:srgbClr val="ffffff"/>
                </a:solidFill>
                <a:latin typeface="Book Antiqua"/>
              </a:rPr>
              <a:t>الخدمات والأنشطة .</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a:t>
            </a:r>
            <a:r>
              <a:rPr b="1" lang="ar-SA" sz="1400" spc="-1" strike="noStrike">
                <a:solidFill>
                  <a:srgbClr val="ffffff"/>
                </a:solidFill>
                <a:latin typeface="Book Antiqua"/>
              </a:rPr>
              <a:t>الطاقة الاحتمالية المكانية </a:t>
            </a:r>
            <a:r>
              <a:rPr b="1" lang="ar-BH" sz="1400" spc="-1" strike="noStrike">
                <a:solidFill>
                  <a:srgbClr val="ffffff"/>
                </a:solidFill>
                <a:latin typeface="Book Antiqua"/>
              </a:rPr>
              <a:t>- </a:t>
            </a:r>
            <a:r>
              <a:rPr b="1" lang="ar-SA" sz="1400" spc="-1" strike="noStrike">
                <a:solidFill>
                  <a:srgbClr val="ffffff"/>
                </a:solidFill>
                <a:latin typeface="Book Antiqua"/>
              </a:rPr>
              <a:t>والتي تعتمد على قدرة المكان في استيعاب الحد الأعلى من السياح – </a:t>
            </a:r>
            <a:r>
              <a:rPr b="1" lang="ar-EG" sz="1400" spc="-1" strike="noStrike">
                <a:solidFill>
                  <a:srgbClr val="ffffff"/>
                </a:solidFill>
                <a:latin typeface="Book Antiqua"/>
              </a:rPr>
              <a:t>حسب</a:t>
            </a:r>
            <a:r>
              <a:rPr b="1" lang="ar-SA" sz="1400" spc="-1" strike="noStrike">
                <a:solidFill>
                  <a:srgbClr val="ffffff"/>
                </a:solidFill>
                <a:latin typeface="Book Antiqua"/>
              </a:rPr>
              <a:t> الخدمات المتوفرة في الموقع.</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الطاقة الاحتمالية البيئية وهي تعتمد على الحد الأعلى من الزوار الذين يمكن استقبالهم بدون حدوث تأثيرات سلبية على البيئة والحياة الفطرية وعلى السكان المحليين.</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الطاقة الاحتمالية النباتية والحيوانية، وهي تعتمد على الحد الأعلى من السياح الذين يفترض وجودهم بدون التأثير على الحياة الفطرية، وهي تعتمد على جيولوجية المنطقة والحياة الفطرية وطبيعة الأنشطة السياحية.</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الطاقة الاحتمالية للسياحة البيئية، أي الحد الأعلى من السياح الذين يمكن استقبالهم في الموقع وتوفير كافة المتطلبات والخدمات لهم وبدون ازدحام، على أن لا يؤثر عددهم على الحياة الفطرية والبيئية والاجتماعية في الموقع.  ولا يوجد رقم محدد طوال العام لأعداد السياح،  وإنما يزداد وينقص حسب مواسم السنة من حيث موسم التزهير عند النباتات والتفقيس عند الطيور.</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20840" y="-176040"/>
            <a:ext cx="8242200" cy="1328400"/>
          </a:xfrm>
          <a:prstGeom prst="rect">
            <a:avLst/>
          </a:prstGeom>
          <a:ln w="0">
            <a:noFill/>
          </a:ln>
        </p:spPr>
      </p:pic>
      <p:sp>
        <p:nvSpPr>
          <p:cNvPr id="115" name=""/>
          <p:cNvSpPr txBox="1"/>
          <p:nvPr/>
        </p:nvSpPr>
        <p:spPr>
          <a:xfrm>
            <a:off x="357120" y="714240"/>
            <a:ext cx="8229600" cy="4708800"/>
          </a:xfrm>
          <a:prstGeom prst="rect">
            <a:avLst/>
          </a:prstGeom>
          <a:noFill/>
          <a:ln w="0">
            <a:noFill/>
          </a:ln>
        </p:spPr>
        <p:txBody>
          <a:bodyPr anchor="t">
            <a:normAutofit fontScale="80000"/>
          </a:bodyPr>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و تتكون من عناصر عدة أهمها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عناصر الجذب السياحي</a:t>
            </a:r>
            <a:r>
              <a:rPr b="1" lang="en-US" sz="2400" spc="-1" strike="noStrike">
                <a:solidFill>
                  <a:srgbClr val="ffffff"/>
                </a:solidFill>
                <a:latin typeface="Book Antiqua"/>
              </a:rPr>
              <a:t>Attraction</a:t>
            </a:r>
            <a:r>
              <a:rPr b="1" lang="ar-SA" sz="2400" spc="-1" strike="noStrike">
                <a:solidFill>
                  <a:srgbClr val="ffffff"/>
                </a:solidFill>
                <a:latin typeface="Book Antiqua"/>
              </a:rPr>
              <a:t> وتشمل العناصر الطبيعية</a:t>
            </a:r>
            <a:r>
              <a:rPr b="1" lang="en-US" sz="2400" spc="-1" strike="noStrike">
                <a:solidFill>
                  <a:srgbClr val="ffffff"/>
                </a:solidFill>
                <a:latin typeface="Book Antiqua"/>
              </a:rPr>
              <a:t>Natural Features</a:t>
            </a:r>
            <a:r>
              <a:rPr b="1" lang="ar-SA" sz="2400" spc="-1" strike="noStrike">
                <a:solidFill>
                  <a:srgbClr val="ffffff"/>
                </a:solidFill>
                <a:latin typeface="Book Antiqua"/>
              </a:rPr>
              <a:t> مثل : أشكال السطح والمناخ والحياة والغابات وعناصر من صنع الإنسان </a:t>
            </a:r>
            <a:r>
              <a:rPr b="1" lang="en-US" sz="2400" spc="-1" strike="noStrike">
                <a:solidFill>
                  <a:srgbClr val="ffffff"/>
                </a:solidFill>
                <a:latin typeface="Book Antiqua"/>
              </a:rPr>
              <a:t>man-made-objects</a:t>
            </a:r>
            <a:r>
              <a:rPr b="1" lang="ar-SA" sz="2400" spc="-1" strike="noStrike">
                <a:solidFill>
                  <a:srgbClr val="ffffff"/>
                </a:solidFill>
                <a:latin typeface="Book Antiqua"/>
              </a:rPr>
              <a:t> كالمتنزهات والمتاحف والمواقع الأثرية التاريخية.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النقل </a:t>
            </a:r>
            <a:r>
              <a:rPr b="1" lang="en-US" sz="2400" spc="-1" strike="noStrike">
                <a:solidFill>
                  <a:srgbClr val="ffffff"/>
                </a:solidFill>
                <a:latin typeface="Book Antiqua"/>
              </a:rPr>
              <a:t>Transport</a:t>
            </a:r>
            <a:r>
              <a:rPr b="1" lang="en-US" sz="2400" spc="-1" strike="noStrike">
                <a:solidFill>
                  <a:srgbClr val="ffffff"/>
                </a:solidFill>
                <a:latin typeface="Book Antiqua"/>
              </a:rPr>
              <a:t> </a:t>
            </a:r>
            <a:r>
              <a:rPr b="1" lang="ar-SA" sz="2400" spc="-1" strike="noStrike">
                <a:solidFill>
                  <a:srgbClr val="ffffff"/>
                </a:solidFill>
                <a:latin typeface="Book Antiqua"/>
              </a:rPr>
              <a:t> بأنواعه المختلفة البري، البحري والجوي.</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أماكن النوم </a:t>
            </a:r>
            <a:r>
              <a:rPr b="1" lang="en-US" sz="2400" spc="-1" strike="noStrike">
                <a:solidFill>
                  <a:srgbClr val="ffffff"/>
                </a:solidFill>
                <a:latin typeface="Book Antiqua"/>
              </a:rPr>
              <a:t>Accommodation</a:t>
            </a:r>
            <a:r>
              <a:rPr b="1" lang="ar-SA" sz="2400" spc="-1" strike="noStrike">
                <a:solidFill>
                  <a:srgbClr val="ffffff"/>
                </a:solidFill>
                <a:latin typeface="Book Antiqua"/>
              </a:rPr>
              <a:t>سواء التجاري منها </a:t>
            </a:r>
            <a:r>
              <a:rPr b="1" lang="en-US" sz="2400" spc="-1" strike="noStrike">
                <a:solidFill>
                  <a:srgbClr val="ffffff"/>
                </a:solidFill>
                <a:latin typeface="Book Antiqua"/>
              </a:rPr>
              <a:t>Commercial</a:t>
            </a:r>
            <a:r>
              <a:rPr b="1" lang="ar-SA" sz="2400" spc="-1" strike="noStrike">
                <a:solidFill>
                  <a:srgbClr val="ffffff"/>
                </a:solidFill>
                <a:latin typeface="Book Antiqua"/>
              </a:rPr>
              <a:t> كالفنادق والموتيلات وأماكن النوم الخاص مثل: بيوت الضيافة وشقق الإيجار.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التسهيلات المساندة </a:t>
            </a:r>
            <a:r>
              <a:rPr b="1" lang="en-US" sz="2400" spc="-1" strike="noStrike">
                <a:solidFill>
                  <a:srgbClr val="ffffff"/>
                </a:solidFill>
                <a:latin typeface="Book Antiqua"/>
              </a:rPr>
              <a:t>Supporting Facilities</a:t>
            </a:r>
            <a:r>
              <a:rPr b="1" lang="ar-SA" sz="2400" spc="-1" strike="noStrike">
                <a:solidFill>
                  <a:srgbClr val="ffffff"/>
                </a:solidFill>
                <a:latin typeface="Book Antiqua"/>
              </a:rPr>
              <a:t> بجميع أنواعها كالإعلان السياحي والإدارة السياحية والأشغال اليدوية والبنوك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خدمات البنية التحتية </a:t>
            </a:r>
            <a:r>
              <a:rPr b="1" lang="en-US" sz="2400" spc="-1" strike="noStrike">
                <a:solidFill>
                  <a:srgbClr val="ffffff"/>
                </a:solidFill>
                <a:latin typeface="Book Antiqua"/>
              </a:rPr>
              <a:t>Infrastructure</a:t>
            </a:r>
            <a:r>
              <a:rPr b="1" lang="ar-SA" sz="2400" spc="-1" strike="noStrike">
                <a:solidFill>
                  <a:srgbClr val="ffffff"/>
                </a:solidFill>
                <a:latin typeface="Book Antiqua"/>
              </a:rPr>
              <a:t> كالمياه والكهرباء والاتصالات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	</a:t>
            </a:r>
            <a:r>
              <a:rPr b="1" lang="ar-SA" sz="2400" spc="-1" strike="noStrike">
                <a:solidFill>
                  <a:srgbClr val="ffffff"/>
                </a:solidFill>
                <a:latin typeface="Book Antiqua"/>
              </a:rPr>
              <a:t>ويضاف إلى هذه العناصر جميعها الجهات المنفذة للتنمية، فالتنمية السياحية تنفذ عادة من قبل القطاع العام أو الخاص أو الاثنين معاً.</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109440"/>
            <a:ext cx="8242560" cy="1189080"/>
          </a:xfrm>
          <a:prstGeom prst="rect">
            <a:avLst/>
          </a:prstGeom>
          <a:ln w="0">
            <a:noFill/>
          </a:ln>
        </p:spPr>
      </p:pic>
      <p:sp>
        <p:nvSpPr>
          <p:cNvPr id="117" name=""/>
          <p:cNvSpPr txBox="1"/>
          <p:nvPr/>
        </p:nvSpPr>
        <p:spPr>
          <a:xfrm>
            <a:off x="428760" y="856800"/>
            <a:ext cx="8229600" cy="4708440"/>
          </a:xfrm>
          <a:prstGeom prst="rect">
            <a:avLst/>
          </a:prstGeom>
          <a:noFill/>
          <a:ln w="0">
            <a:noFill/>
          </a:ln>
        </p:spPr>
        <p:txBody>
          <a:bodyPr anchor="t">
            <a:normAutofit fontScale="92000"/>
          </a:bodyPr>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Book Antiqua"/>
              </a:rPr>
              <a:t>تطوير المنتجعات السياحية:</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     وهذا النوع من التنمية يركز على سياحة الإجازات والعطل، وتعرف المنتجعات على أنها المواقع التي توفر الاكتفاء الذاتي وتتوفر فيها أنشطة سياحية مختلفة وخدمات متعددة لأغراض الترفيه والاستراحة والاستجمام.</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Book Antiqua"/>
              </a:rPr>
              <a:t>ب – القرى السياحية:</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وهي  شكل من أشكال السياحة المنتشرة جداً في أوروبا كما بدأت تنتشر في العديد من دول العالم. الحياة في القرية نموذج يختلف عن الحياة في المدن، وتستهوي سكان المدن حباً في التغيير والبساطة.</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ويعتمد قيام القرى السياحية على وجود عنصر الماء ( الشاطئ )، مناطق الموانئ، أنشطة التزلج، الجبال، الحدائق العامة، مواقع طبيعية، مواقع تاريخية أثرية، مواقع علاجية، ملاعب جولف، أنشطة رياضية وترفيهية أخرى.</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تختلف مساحات هذا النوع من المواقع وتتعدد فيها أنواع مرافق الإقامة ومنشآت النوم والمرافق التكميلية مثل: الأسواق والمناطق التجارية، خدمات ترفيهية وثقافية، مراكز للمؤثرات ومرافق سكنية خاصة مختلفة الأحجام.</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يتم التخطيط لإنشاء القرى السياحية عادة في وقت واحد أي ضمن خطة سياحية واحدة ويأخذ التنفيذ مراحل متعددة وعلى فترات زمنية طويلة تحددها عناصر الطلب السياحي والطاقة الاستيعابية.</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00040" y="-360"/>
            <a:ext cx="8229600" cy="4708440"/>
          </a:xfrm>
          <a:prstGeom prst="rect">
            <a:avLst/>
          </a:prstGeom>
          <a:noFill/>
          <a:ln w="0">
            <a:noFill/>
          </a:ln>
        </p:spPr>
        <p:txBody>
          <a:bodyPr anchor="t">
            <a:normAutofit fontScale="74000"/>
          </a:bodyPr>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ج- منتجعات المدن: </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يتطلب هذا النوع من المنتجعات دمج برامج استعمالات الأراضي والتنمية الاجتماعية، مع عدم إهمال البعد الاقتصادي الذي يوفر فرص الجذب الاستثماري للمشاريع( فنادق، استراحات،......الخ) في المنطقة، وتحتاج إقامة هذا النوع من المنتجعات وجود نشاط سياحي مميز أو رئيسي في المواقع مثل: التزلج على الجليد، وجود شاطئ، أنشطة سياحية علاجية، مواقع أثرية أو دينية.</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د- منتجعات العزلة </a:t>
            </a:r>
            <a:r>
              <a:rPr b="1" lang="en-US" sz="1600" spc="-1" strike="noStrike">
                <a:solidFill>
                  <a:srgbClr val="ffffff"/>
                </a:solidFill>
                <a:latin typeface="Book Antiqua"/>
              </a:rPr>
              <a:t>Retreat Resorts</a:t>
            </a:r>
            <a:r>
              <a:rPr b="1" lang="ar-SA" sz="1600" spc="-1" strike="noStrike">
                <a:solidFill>
                  <a:srgbClr val="ffffff"/>
                </a:solidFill>
                <a:latin typeface="Book Antiqua"/>
              </a:rPr>
              <a:t>:</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أصبح هذا النوع من المنتجعات من المناطق السياحية المفضلة في جميع أنحاء العالم، وتتميز هذه المنتجعات بصغر حجمها ودقة تخطيطها وشموله. وعادة يتم اختيار مواقعها في مناطق بعيدة عن المناطق المأهولة مثل: الجزر الصغيرة أو الجبال، والوصول إليها يتم بواسطة القوارب, المطارات الصغيرة أو الطرق البرية الضيقة.</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هـ - السياحة الحضرية: </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وهي نوع من السياحة الدارجة والمعروفة، وتوجد في الأماكن الحضرية الكبيرة، حيث يكون للسياحة أهمية بالغة، لكنها لا تكون النشاط الاقتصادي الوحيدة في المنطقة. وتشكل مرافق الإقامة والسياحة جزءاً لا يتجزأ من الإطار الحضري العام للمدينة وتخدم سكان المدينة أو المنطقة وكذلك السياح القادمين إليها. وقد أخذت كثير من الحكومات حالياً على عاتقها تطوير وتنمية السياحة في المناطق الحضرية التي تتوفر فيها الموارد والمعطيات السياحية والتي يمكن تطويرها مثل: المواقع التاريخية والأثرية وذلك من أجل إشباع رغبات السكان المحليين من ناحية وجلب الزوار والسياح إلى المدينة من ناحية أخرى.</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و- سياحة المغامرة:</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وهذا النوع من السياحة موجه للمجموعات السياحية التي تهدف إلى ممارسة ومعايشة خصائص معينة، وهي تعتمد على طول فترة إقامة السائح بحيث تسمح له هذه الإقامة بالترفيه والاستجمام وفي نفس الوقت التعايش مع العادات والتقاليد الاجتماعية والثقافية والمناظر الطبيعية المتوفرة في المنطقة.</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ولا يتطلب هذا النوع من السياحة تنمية كبيرة أو استثمارات ضخمة أو خدمات ومرافق عديدة، لكنه يتطلب إدارة جيدة وتوفر عناصر لدلالة سياحية مؤهلة وخبيرة، خدمات نقل، مرافق إقامة أولية وأساسية وكذلك خدمات ومرافق لاستقبال المجموعات السياحية عالية النوعية وبحالة مؤكدة السلامة </a:t>
            </a:r>
            <a:r>
              <a:rPr b="1" lang="en-US" sz="1600" spc="-1" strike="noStrike">
                <a:solidFill>
                  <a:srgbClr val="ffffff"/>
                </a:solidFill>
                <a:latin typeface="Book Antiqua"/>
              </a:rPr>
              <a:t>.</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334800" y="-109440"/>
            <a:ext cx="8571240" cy="1116000"/>
          </a:xfrm>
          <a:prstGeom prst="rect">
            <a:avLst/>
          </a:prstGeom>
          <a:ln w="0">
            <a:noFill/>
          </a:ln>
        </p:spPr>
      </p:pic>
      <p:sp>
        <p:nvSpPr>
          <p:cNvPr id="120" name=""/>
          <p:cNvSpPr txBox="1"/>
          <p:nvPr/>
        </p:nvSpPr>
        <p:spPr>
          <a:xfrm>
            <a:off x="428760" y="785520"/>
            <a:ext cx="8229600" cy="4708440"/>
          </a:xfrm>
          <a:prstGeom prst="rect">
            <a:avLst/>
          </a:prstGeom>
          <a:noFill/>
          <a:ln w="0">
            <a:noFill/>
          </a:ln>
        </p:spPr>
        <p:txBody>
          <a:bodyPr anchor="t">
            <a:normAutofit fontScale="78000"/>
          </a:bodyPr>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شمل عملية إعداد خطة التنمية السياحية على عدد من الخطوات المتسلسلة والمترابطة كالتالي:</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إعداد الدراسات الأولي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حديد أهداف التخطيط بشكل أولي بحيث يمكن تعديلها من خلال التغذية الراجعة خلال عملية إعداد الخطة ومرحلة تقييم الآثار.</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جمع المعلومات وإجراء المسوحات وتقييم الوضع الراهن للمنطقة السياحي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حليل البيانات (المسوحات): وتشمل هذه المرحلة على تحليل وتفسير البيانات التي تم جمعها من خلال المسوحات وتوليفها والخروج بحقائق وتعميمات تساعد في إعداد الخطة، ورسم خطواتها العامة والتفصيلي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 إعداد الخطة: وهنا يتم وضع السياسات السياحية المناسبة ويتم تقييم هذه السياسات  </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    (البدائل) لاختيار ما هو ملائم ومناسب لتنفيذ الخطة، وكذلك يتم تحديد البرامج والمشاريع التي يجب تنفيذها لتحقيق أهداف الخط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نفيذ الخطة بتوصياتها وبالوسائل التي يتم تحديدها في المرحلة السابق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قييم ومتابعة الخطة السياحية وتعديلها وفق التغذية الراجعة إذا تطلب الأمر ذلك.</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0720" y="96840"/>
            <a:ext cx="8242560" cy="1330200"/>
          </a:xfrm>
          <a:prstGeom prst="rect">
            <a:avLst/>
          </a:prstGeom>
          <a:ln w="0">
            <a:noFill/>
          </a:ln>
        </p:spPr>
      </p:pic>
      <p:sp>
        <p:nvSpPr>
          <p:cNvPr id="122" name=""/>
          <p:cNvSpPr txBox="1"/>
          <p:nvPr/>
        </p:nvSpPr>
        <p:spPr>
          <a:xfrm>
            <a:off x="500040" y="999720"/>
            <a:ext cx="8229600" cy="4708440"/>
          </a:xfrm>
          <a:prstGeom prst="rect">
            <a:avLst/>
          </a:prstGeom>
          <a:noFill/>
          <a:ln w="0">
            <a:noFill/>
          </a:ln>
        </p:spPr>
        <p:txBody>
          <a:bodyPr anchor="t">
            <a:normAutofit fontScale="81000"/>
          </a:bodyPr>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Book Antiqua"/>
              </a:rPr>
              <a:t>تعريف التخطيط السياحي: </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Book Antiqua"/>
              </a:rPr>
              <a:t>يعرف التخطيط السياحي بأنه رسم صورة تقديرية مستقبلية للنشاط السياحي في دولة معينة وفي فترة زمنية محددة. ويقتضي ذلك حصر الموارد السياحية في الدولة من أجل تحديد أهداف الخطة السياحية وتحقيق تنمية سياحية سريعة ومنتظمة من خلال إعداد وتنفيذ برنامج متناسق يتصف بشمول فروع النشاط السياحي ومناطق الدولة السياحية .</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Book Antiqua"/>
              </a:rPr>
              <a:t>	</a:t>
            </a:r>
            <a:r>
              <a:rPr b="0" lang="ar-SA" sz="2500" spc="-1" strike="noStrike">
                <a:solidFill>
                  <a:srgbClr val="ffffff"/>
                </a:solidFill>
                <a:latin typeface="Book Antiqua"/>
              </a:rPr>
              <a:t>وينبغي ألا ينظر إلى التخطيط السياحي على أنه ميدان مقصور على الجهات الرسمية، وإنما يجب أن ينظر إليه على أنه برنامج عمل مشترك بين الجهات الحكومية والقطاع الخاص والأفراد. لذا يجب أن يكون التخطيط السياحي عملية مشتركة بين جميع الجهات المنظمة للقطاع السياحي ـ بين الجهات الحكومية المشرفة على هذا القطاع، ومقدمي الخدمات السياحية (المؤسسات ورجال الأعمال)، والمستهلكين لهذه الخدمات ( السياح )، والمجتمع المضيف للسياحةـ بدءاً من مرحلة صياغة الأهداف المراد تحقيقها وانتهاء بمرحلة التنفيذ والتطبيق لبرامج الخطة السياحة.</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353880" y="-6480"/>
            <a:ext cx="8240760" cy="878040"/>
          </a:xfrm>
          <a:prstGeom prst="rect">
            <a:avLst/>
          </a:prstGeom>
          <a:ln w="0">
            <a:noFill/>
          </a:ln>
        </p:spPr>
      </p:pic>
      <p:sp>
        <p:nvSpPr>
          <p:cNvPr id="124" name=""/>
          <p:cNvSpPr txBox="1"/>
          <p:nvPr/>
        </p:nvSpPr>
        <p:spPr>
          <a:xfrm>
            <a:off x="500040" y="642600"/>
            <a:ext cx="8229600" cy="4708440"/>
          </a:xfrm>
          <a:prstGeom prst="rect">
            <a:avLst/>
          </a:prstGeom>
          <a:noFill/>
          <a:ln w="0">
            <a:noFill/>
          </a:ln>
        </p:spPr>
        <p:txBody>
          <a:bodyPr anchor="t">
            <a:normAutofit fontScale="80000"/>
          </a:bodyPr>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أن تكون خطة التنمية السياحية جزءاً لا يتجزأ من الخطة القومية الشاملة للتنمية الاقتصادية والاجتماعي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وأن يتم تحقيق التوازن بين القطاعات الاقتصادية المختلف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وأن يتم اعتبار تنمية  القطاع السياحي كأحد الخيارات الاستراتيجية للتنمية الاقتصادي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وعلى أن تكون هذه الصناعة جزءاً من قطاعات الإنتاج في الهيكل الاقتصادي للدول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قيام الدولة بتحديد مستوى النمو المطلوب وحجم التدفق السياحي.</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وعلى أن يتم تحديد دور كل من القطاعين الخاص والعام في عملية التنمي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التركيز على علاقة التنمية السياحية بالنشاط الاقتصادي العام وتحديد علاقة ذلك بالمحافظة على البيئ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450720" y="133200"/>
            <a:ext cx="8242560" cy="873360"/>
          </a:xfrm>
          <a:prstGeom prst="rect">
            <a:avLst/>
          </a:prstGeom>
          <a:ln w="0">
            <a:noFill/>
          </a:ln>
        </p:spPr>
      </p:pic>
      <p:sp>
        <p:nvSpPr>
          <p:cNvPr id="126" name=""/>
          <p:cNvSpPr txBox="1"/>
          <p:nvPr/>
        </p:nvSpPr>
        <p:spPr>
          <a:xfrm>
            <a:off x="428760" y="785520"/>
            <a:ext cx="8229600" cy="4708440"/>
          </a:xfrm>
          <a:prstGeom prst="rect">
            <a:avLst/>
          </a:prstGeom>
          <a:noFill/>
          <a:ln w="0">
            <a:noFill/>
          </a:ln>
        </p:spPr>
        <p:txBody>
          <a:bodyPr anchor="t">
            <a:normAutofit fontScale="80000"/>
          </a:bodyPr>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يلعب التخطيط السياحي دوراً بالغ الأهمية في تطوير النشاط السياحي، وذلك لكونه منهجا علميا لتنظيم وإدارة النشاط السياحي بجميع عناصره وأنماطه، فهو يوفر إطار عمل مشترك لاتخاذ القرارات في إدارة الموارد السياحية ويزود الجهات المسؤولة بالأساليب والاتجاهات التي يجب أن تسلكها، مما يسهل عملها ويوفر كثيراً من الجهد الضائع.</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التخطيط السياحي يساعد على توحيد جهود جميع الوحدات المسؤولة عن تنمية القطاع السياحي وتنسيق عملها، ويقلل من ازدواجية القرارات والأنشطة المختلفة، مما يساعد على إنجاز الأهداف العامة والمحددة لهذا النشاط.</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لهذا فإن التخطيط السياحي يتأثر بالتقلبات السياسية والاجتماعية والطبيعية أكثر من تأثره بعوامل الإنتاج والقوى الاقتصادية المختلفة. </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0720" y="-73080"/>
            <a:ext cx="8242560" cy="811440"/>
          </a:xfrm>
          <a:prstGeom prst="rect">
            <a:avLst/>
          </a:prstGeom>
          <a:ln w="0">
            <a:noFill/>
          </a:ln>
        </p:spPr>
      </p:pic>
      <p:sp>
        <p:nvSpPr>
          <p:cNvPr id="128" name=""/>
          <p:cNvSpPr txBox="1"/>
          <p:nvPr/>
        </p:nvSpPr>
        <p:spPr>
          <a:xfrm>
            <a:off x="428760" y="785520"/>
            <a:ext cx="8229600" cy="4708440"/>
          </a:xfrm>
          <a:prstGeom prst="rect">
            <a:avLst/>
          </a:prstGeom>
          <a:noFill/>
          <a:ln w="0">
            <a:noFill/>
          </a:ln>
        </p:spPr>
        <p:txBody>
          <a:bodyPr anchor="t">
            <a:normAutofit fontScale="81000"/>
          </a:bodyPr>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عد التخطيط للتنمية السياحية على تحديد وصيانة الموارد السياحية والاستفادة منها بشكل مناسب في الوقت الحاضر والمستقبل.</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 يساعد التخطيط السياحي على تكاملية وربط القطاع السياحي مع القطاعات الأخرى وعلى تحقيق أهداف السياسات العامة للتنمية الاقتصادية والاجتماعية على كل مستوياتها.</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وفر أرضية مناسبة لأسلوب اتخاذ القرار لتنمية السياحة في القطاعين العام والخاص، من خلال دراسة الواقع الحالي والمستقبلي مع الأخذ بعين الاعتبار الأمور السياسية والاقتصادية التي تقررها الدولة لتطوير السياحة وتنشيطها.</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وفر المعلومات والبيانات والإحصائيات والخرائط والمخططات والتقارير والاستبيانات، ويضعها تحت يد طالبيها. </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عد على زيادة الفوائد الاقتصادية والاجتماعية والبيئية من خلال تطوير القطاع السياحي، وتوزيع ثمار تنميته على أفراد المجتمع. كما يقلل من سلبيات السياحة.</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عد على وضع الخطط التفصيلية لرفع المستوى السياحي لبعض المناطق المتميزة، والمتخلفة سياحيا.</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عد على وضع الأسس المناسبة لتنفيذ الخطط والسياسات والبرامج التنموية المستمرة عن طريق إنشاء الأجهزة والمؤسسات لإدارة النشاط.</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هم في استمرارية تقويم التنمية السياحية ومواصلة التقدم في تطوير هذا النشاط. والتأكيد على الإيجابيات وتجاوز السلبيات في الأعوام اللاحقة.</a:t>
            </a:r>
            <a:endParaRPr b="0" lang="en-US" sz="1900" spc="-1" strike="noStrike">
              <a:solidFill>
                <a:srgbClr val="ffffff"/>
              </a:solidFill>
              <a:latin typeface="Book Antiqua"/>
            </a:endParaRPr>
          </a:p>
          <a:p>
            <a:pPr marL="443520" indent="-3330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 </a:t>
            </a:r>
            <a:endParaRPr b="0" lang="en-US" sz="1900" spc="-1" strike="noStrike">
              <a:solidFill>
                <a:srgbClr val="ffffff"/>
              </a:solidFill>
              <a:latin typeface="Book Antiqua"/>
            </a:endParaRPr>
          </a:p>
          <a:p>
            <a:pPr marL="443520" indent="-333000" algn="r" rtl="1">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311760"/>
            <a:ext cx="9001080" cy="8625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مشكلة البح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Calibri"/>
              </a:rPr>
              <a:t>        تظهر مشكلة البحث</a:t>
            </a:r>
            <a:r>
              <a:rPr b="1" lang="ar-SA" sz="2800" spc="-1" strike="noStrike">
                <a:solidFill>
                  <a:srgbClr val="ffffff"/>
                </a:solidFill>
                <a:latin typeface="Arial"/>
                <a:ea typeface="Calibri"/>
              </a:rPr>
              <a:t> </a:t>
            </a:r>
            <a:r>
              <a:rPr b="0" lang="ar-SA" sz="2800" spc="-1" strike="noStrike">
                <a:solidFill>
                  <a:srgbClr val="ffffff"/>
                </a:solidFill>
                <a:latin typeface="Arial"/>
                <a:cs typeface="Calibri"/>
              </a:rPr>
              <a:t>في ضعف  التنمية السياحية والتخطيط السياحي  في المناطق السياحية داخل أقليم الشمال، علما</a:t>
            </a:r>
            <a:r>
              <a:rPr b="0" lang="ar-SY" sz="2800" spc="-1" strike="noStrike">
                <a:solidFill>
                  <a:srgbClr val="ffffff"/>
                </a:solidFill>
                <a:latin typeface="Arial"/>
                <a:cs typeface="Calibri"/>
              </a:rPr>
              <a:t>ً</a:t>
            </a:r>
            <a:r>
              <a:rPr b="0" lang="ar-SA" sz="2800" spc="-1" strike="noStrike">
                <a:solidFill>
                  <a:srgbClr val="ffffff"/>
                </a:solidFill>
                <a:latin typeface="Arial"/>
                <a:ea typeface="Calibri"/>
              </a:rPr>
              <a:t> أن أي استثمار في القطاع السياحي هو أسرع طريق لتحقيق الأهداف المرجوة من خطط التنموية السياحية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Calibri"/>
              </a:rPr>
              <a:t>فالتنمية السياحية ليست مهمة أحادية الجانب بمعنى أنها وزارة السياحة فقط، وإنما مهمة وطنية لمجموعة الوزارات والمؤسسات التي تشكل حلقات متكامل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Calibri"/>
              </a:rPr>
              <a:t>تعمل جميعاً في إطار التنمية السياحة وتسويقها لزيادة ريعيتها واستثمارات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71680" y="142560"/>
            <a:ext cx="8229600" cy="4708440"/>
          </a:xfrm>
          <a:prstGeom prst="rect">
            <a:avLst/>
          </a:prstGeom>
          <a:noFill/>
          <a:ln w="0">
            <a:noFill/>
          </a:ln>
        </p:spPr>
        <p:txBody>
          <a:bodyPr anchor="t">
            <a:normAutofit fontScale="72000"/>
          </a:bodyPr>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وقد أثبتت التجارب في العديد من دول العالم أنه يمكن تحقيق عائدات سياحية دائمة من خلال اعتماد التخطيط السليم والمناسب، ويمكن لهذه العائدات أن تتضاعف في حال استمرار التخطيط الواعي والناضج الذي يسعى </a:t>
            </a:r>
            <a:r>
              <a:rPr b="1" lang="ar-SA" sz="2300" spc="-1" strike="noStrike" u="sng">
                <a:solidFill>
                  <a:srgbClr val="ffffff"/>
                </a:solidFill>
                <a:uFillTx/>
                <a:latin typeface="Book Antiqua"/>
              </a:rPr>
              <a:t>لتحقيق الأهداف أهمها</a:t>
            </a:r>
            <a:r>
              <a:rPr b="1" lang="ar-SA" sz="2300" spc="-1" strike="noStrike">
                <a:solidFill>
                  <a:srgbClr val="ffffff"/>
                </a:solidFill>
                <a:latin typeface="Book Antiqua"/>
              </a:rPr>
              <a:t>:</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حديد أهداف التنمية السياحية القصيرة والبعيدة المدى، وكذلك رسم السياسات السياحية ووضع إجراءات تنفيذها.</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ضبط وتنسيق التنمية السياحية التلقائية والعشوائي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شجيع القطاعين العام والخاص على الاستثمار في مجال التسهيلات السياحية أينما كان ذلك ضرورياً.</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مضاعفة الفوائد الاقتصادية والاجتماعية للنشاطات السياحية لأقصى حد ممكن وتقليل كلفة الاستثمار والإدارة لأقل حد ممكن.</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الحيلولة دون تدهور الموارد السياحية وحماية النادر منها.</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صنع القرارات المناسبة وتطبيق الاستخدامات المناسبة في المواقع السياحي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نظيم الخدمات العامة وتوفيرها بالشكل المطلوب في المناطق السياحي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المحافظة على البيئة من خلال وضع وتنفيذ الإجراءات العلمية المناسب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وفير التمويل من الداخل والخارج اللازم لعمليات التنمية السياحي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نسيق النشاطات السياحية مع الأنشطة الاقتصادية الأخرى بشكل تكاملي.</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93560" y="-12600"/>
            <a:ext cx="8242560" cy="957240"/>
          </a:xfrm>
          <a:prstGeom prst="rect">
            <a:avLst/>
          </a:prstGeom>
          <a:ln w="0">
            <a:noFill/>
          </a:ln>
        </p:spPr>
      </p:pic>
      <p:sp>
        <p:nvSpPr>
          <p:cNvPr id="131" name=""/>
          <p:cNvSpPr txBox="1"/>
          <p:nvPr/>
        </p:nvSpPr>
        <p:spPr>
          <a:xfrm>
            <a:off x="500040" y="856800"/>
            <a:ext cx="8229600" cy="4708440"/>
          </a:xfrm>
          <a:prstGeom prst="rect">
            <a:avLst/>
          </a:prstGeom>
          <a:noFill/>
          <a:ln w="0">
            <a:noFill/>
          </a:ln>
        </p:spPr>
        <p:txBody>
          <a:bodyPr anchor="t">
            <a:normAutofit fontScale="95000"/>
          </a:bodyPr>
          <a:p>
            <a:pPr lvl="3" marL="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ffffff"/>
                </a:solidFill>
                <a:latin typeface="Book Antiqua"/>
              </a:rPr>
              <a:t>1</a:t>
            </a:r>
            <a:r>
              <a:rPr b="1" lang="ar-JO" sz="2600" spc="-1" strike="noStrike">
                <a:solidFill>
                  <a:srgbClr val="ffffff"/>
                </a:solidFill>
                <a:latin typeface="Book Antiqua"/>
              </a:rPr>
              <a:t>. </a:t>
            </a:r>
            <a:r>
              <a:rPr b="1" lang="ar-SA" sz="2600" spc="-1" strike="noStrike">
                <a:solidFill>
                  <a:srgbClr val="ffffff"/>
                </a:solidFill>
                <a:latin typeface="Book Antiqua"/>
              </a:rPr>
              <a:t>الموقع الإستراتيجي والفريد من نوعه</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2</a:t>
            </a:r>
            <a:r>
              <a:rPr b="1" lang="ar-SA" sz="2600" spc="-1" strike="noStrike">
                <a:solidFill>
                  <a:srgbClr val="ffffff"/>
                </a:solidFill>
                <a:latin typeface="Book Antiqua"/>
              </a:rPr>
              <a:t>.   البيئة السياسية المستقرة</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3</a:t>
            </a:r>
            <a:r>
              <a:rPr b="1" lang="ar-SA" sz="2600" spc="-1" strike="noStrike">
                <a:solidFill>
                  <a:srgbClr val="ffffff"/>
                </a:solidFill>
                <a:latin typeface="Book Antiqua"/>
              </a:rPr>
              <a:t>.   اقتصاد موجه نحو السوق الحر</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4</a:t>
            </a:r>
            <a:r>
              <a:rPr b="1" lang="ar-SA" sz="2600" spc="-1" strike="noStrike">
                <a:solidFill>
                  <a:srgbClr val="ffffff"/>
                </a:solidFill>
                <a:latin typeface="Book Antiqua"/>
              </a:rPr>
              <a:t>.   رزمة من الحوافز والإعفاءات لتشجيع الاستثمار</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5</a:t>
            </a:r>
            <a:r>
              <a:rPr b="1" lang="ar-SA" sz="2600" spc="-1" strike="noStrike">
                <a:solidFill>
                  <a:srgbClr val="ffffff"/>
                </a:solidFill>
                <a:latin typeface="Book Antiqua"/>
              </a:rPr>
              <a:t>.   الوصول إلى الأسواق العالمية</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6</a:t>
            </a:r>
            <a:r>
              <a:rPr b="1" lang="ar-SA" sz="2600" spc="-1" strike="noStrike">
                <a:solidFill>
                  <a:srgbClr val="ffffff"/>
                </a:solidFill>
                <a:latin typeface="Book Antiqua"/>
              </a:rPr>
              <a:t>.   المناطق الحرة والمدن الصناعية</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7</a:t>
            </a:r>
            <a:r>
              <a:rPr b="1" lang="ar-SA" sz="2600" spc="-1" strike="noStrike">
                <a:solidFill>
                  <a:srgbClr val="ffffff"/>
                </a:solidFill>
                <a:latin typeface="Book Antiqua"/>
              </a:rPr>
              <a:t>.   الموارد البشرية المؤهلة والمنافسة</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8</a:t>
            </a:r>
            <a:r>
              <a:rPr b="1" lang="ar-SA" sz="2600" spc="-1" strike="noStrike">
                <a:solidFill>
                  <a:srgbClr val="ffffff"/>
                </a:solidFill>
                <a:latin typeface="Book Antiqua"/>
              </a:rPr>
              <a:t>.   بنية تحتية ونظام اتصالات على مستوى عالٍ</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9</a:t>
            </a:r>
            <a:r>
              <a:rPr b="1" lang="ar-SA" sz="2600" spc="-1" strike="noStrike">
                <a:solidFill>
                  <a:srgbClr val="ffffff"/>
                </a:solidFill>
                <a:latin typeface="Book Antiqua"/>
              </a:rPr>
              <a:t>.   مناخ استثماري جذاب</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10</a:t>
            </a:r>
            <a:r>
              <a:rPr b="1" lang="ar-SA" sz="2600" spc="-1" strike="noStrike">
                <a:solidFill>
                  <a:srgbClr val="ffffff"/>
                </a:solidFill>
                <a:latin typeface="Book Antiqua"/>
              </a:rPr>
              <a:t>. حياة ذات نوعية راقية</a:t>
            </a:r>
            <a:endParaRPr b="0" lang="en-US" sz="2600" spc="-1" strike="noStrike">
              <a:solidFill>
                <a:srgbClr val="ffffff"/>
              </a:solidFill>
              <a:latin typeface="Book Antiqua"/>
            </a:endParaRPr>
          </a:p>
          <a:p>
            <a:pPr lvl="3" marL="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93560" y="-49320"/>
            <a:ext cx="8242560" cy="982800"/>
          </a:xfrm>
          <a:prstGeom prst="rect">
            <a:avLst/>
          </a:prstGeom>
          <a:ln w="0">
            <a:noFill/>
          </a:ln>
        </p:spPr>
      </p:pic>
      <p:sp>
        <p:nvSpPr>
          <p:cNvPr id="133" name=""/>
          <p:cNvSpPr txBox="1"/>
          <p:nvPr/>
        </p:nvSpPr>
        <p:spPr>
          <a:xfrm>
            <a:off x="428760" y="428400"/>
            <a:ext cx="8229600" cy="4708440"/>
          </a:xfrm>
          <a:prstGeom prst="rect">
            <a:avLst/>
          </a:prstGeom>
          <a:noFill/>
          <a:ln w="0">
            <a:noFill/>
          </a:ln>
        </p:spPr>
        <p:txBody>
          <a:bodyPr anchor="t">
            <a:normAutofit fontScale="69000"/>
          </a:bodyPr>
          <a:p>
            <a:pPr marL="377640" indent="-2833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يوجد عدد من العوامل المؤثرة في تشجيع الافراد أو الشركات للاستثمارات في القطاع السياحي من هذه العوامل التالية:</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مدى أتساع السوق السياحية وذلك من خلال معرفة رغبات الضيف والزيادة المرتقبة للطلب الكامن على الخدمات السياحية.</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مدى توفر الخدمات العامة والبنية التحتية وتطورها.</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حجم السوق المنافسة وتحديد أتجاهات المنافسة وتكاليف المطلوبة لتنفيذ السياسات التنافسية.</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عدد وجنسية الشركات الطيران العاملة للمناطق المراد الأستثمار فيها وذلك كلما زاده عدد الشركات والمطارت زاده تشجيع المستثمرين في الأستثمار في المجال السياحي.</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توفر أيدي عاملة كفوئة ومعدلات الأجور والرواتب.</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سياسات تشجيع الدولة للمستثمرين عن طريق المنح والقروض.</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امكانيات الأحلال والأبدال للابنية حسب القوانين والتشريعات المعمول بها في ذلك البلد.</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نوعية القروض البنكية والتمويل المتوفر.</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معدل التضغم السنوي لاسعار السلع والخدمات.</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معدل سعر الفائدة في البنوك.</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معدل مصاريف السياح المحليين ، الأقلميين و الدوليين.</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معدلات التضغم للمناطق المصدرة للسياحة وذلك مما يؤثر على القدرة الشرائية للسائح.</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اسعار الوقود.</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معدل سعر تصريف العملات وذلك من خلال فرق العملة لبلد السائح والأردن.</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334800" y="30240"/>
            <a:ext cx="8375760" cy="1474560"/>
          </a:xfrm>
          <a:prstGeom prst="rect">
            <a:avLst/>
          </a:prstGeom>
          <a:ln w="0">
            <a:noFill/>
          </a:ln>
        </p:spPr>
      </p:pic>
      <p:sp>
        <p:nvSpPr>
          <p:cNvPr id="135" name=""/>
          <p:cNvSpPr txBox="1"/>
          <p:nvPr/>
        </p:nvSpPr>
        <p:spPr>
          <a:xfrm>
            <a:off x="500040" y="1571400"/>
            <a:ext cx="8229600" cy="4708440"/>
          </a:xfrm>
          <a:prstGeom prst="rect">
            <a:avLst/>
          </a:prstGeom>
          <a:noFill/>
          <a:ln w="0">
            <a:noFill/>
          </a:ln>
        </p:spPr>
        <p:txBody>
          <a:bodyPr anchor="t">
            <a:normAutofit fontScale="84000"/>
          </a:bodyPr>
          <a:p>
            <a:pPr marL="459720" indent="-34524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Book Antiqua"/>
              </a:rPr>
              <a:t>نظراً لعدم إمكانية الاعتماد على الأنفاق الحكومي وحده في إقامة مشروعات الخدمات العامة والبنية الأساسية فلقد شهد العقد الأخير دعماً وتشجيعاً من الدول النامية والصناعية وخصوصاً الأردن لمشاركة الأستثمار الخاص في تمويل والأستثمار أقامة وتشغيل المشاريع الترويحية والسياحية من خلال تنمية وتطوير مرافق وخدمات البنيةالأساسية بكفاءة أكبر وتكلفة أقل والنهوض بالتنمية الاجتماعية بما يساعد في النهاية على رفع مستويات المعيشة وتحقيق معدلات التنمية المنشودة.</a:t>
            </a:r>
            <a:endParaRPr b="0" lang="en-US" sz="3200" spc="-1" strike="noStrike">
              <a:solidFill>
                <a:srgbClr val="ffffff"/>
              </a:solidFill>
              <a:latin typeface="Book Antiqua"/>
            </a:endParaRPr>
          </a:p>
          <a:p>
            <a:pPr marL="459720" indent="-345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 </a:t>
            </a:r>
            <a:endParaRPr b="0" lang="en-US" sz="2800" spc="-1" strike="noStrike">
              <a:solidFill>
                <a:srgbClr val="ffffff"/>
              </a:solidFill>
              <a:latin typeface="Book Antiqua"/>
            </a:endParaRPr>
          </a:p>
          <a:p>
            <a:pPr marL="459720" indent="-345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459720" indent="-34524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28760" y="-360"/>
            <a:ext cx="8229600" cy="4708440"/>
          </a:xfrm>
          <a:prstGeom prst="rect">
            <a:avLst/>
          </a:prstGeom>
          <a:noFill/>
          <a:ln w="0">
            <a:noFill/>
          </a:ln>
        </p:spPr>
        <p:txBody>
          <a:bodyPr anchor="t">
            <a:normAutofit fontScale="72000"/>
          </a:bodyPr>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تأخذ مشاركة الاستثمار الخاص أشكالاً مختلفة ودرجات متباينة وكلأتي:</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عقود الخدمة:  حيث تحتفظ الجهة الحكومية بمسؤليتها الكاملة عن تشخيل وإدارة المحمية الطبيعية أو المنتزه الوطني ولكنها تتعاقد مع القطاع الخاص لتقديم الخدمات الأخرى مثل تقديم خدمات الطعام والشراب أو توفيرالنقل والصيانة.وتتراوح مدة هذه العقود بين سنة وثلاث سنوات.</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عقود الإدارة: تقوم الجهة الحكومية بنقل مسؤلية إدارة مجموعة من الأنشطة في المشروع السياحي (موقع اثري أو قرية سياحية مثلاً) إلى القطاع الخاص عن طريق إبرام عقود تسمى بعقود الإدارة. وفي هذه الحاله تقوم الجهة الحكومية بتمويل رأس المال العامل والأستثماري كما تقوم بتحديد سياسة رد التكاليف. وتتراوح مدة هذه العقود بين ثلاثة سنوات إلى خمسة سنوات.</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عقود التأجير:  تقوم الشركات الخاصة بتأجير الشركة السياحية بالكامل من جهة الحكومية وتتحمل المسؤلية بتشغيل وإدارة الشركة. ويقوم المستأجر بشراء الحق في الإيرادات وبتالي يتحمل قدراً كبيراً من المخاطر التجارية. وتتراوح مدة هذه العقود بين خمسة سنوات إلى خمسة عشرة سنة ويمكن تمديدها.</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عقود الأنتفاع طويل الأجل: تستخدم عقود الأنتفاع طويل الأجل لشراء أراضي تقع في مناطق متطوره ولها بنية أساسية ضخمة مثل السواحل والبلاجات. ويطلب من الشركة الخاصة تمويل وبناء وتشغيل المشروع السياحي لفترة معينة من عشرين سنة إلى ثلاثون سنة ينتقل بعدها المشروع إلى القطاع العام.</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نقل الملكية: وهنا يصبح القطاع الخاص مالكاً ومسؤلاً عن المرافق المشترا من القطاع الحكومي ويخضع لهيئة رقابية. وتسمح كافة أشكال المشاركة الخاصة للمستثمر بإسترداد التكاليف رأسمالية وتحقيق هامش ربح معقول ، كما تتفق معظم هذه الأشكال مع تغير دور الدولة من دور المقدم المباشر للخدمة أو قيامها بدور المنتج إلى قيامها بدور المراقب والمنظم للنشاط المقام به.</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1" descr=""/>
          <p:cNvPicPr/>
          <p:nvPr/>
        </p:nvPicPr>
        <p:blipFill>
          <a:blip r:embed="rId1"/>
          <a:stretch/>
        </p:blipFill>
        <p:spPr>
          <a:xfrm>
            <a:off x="493560" y="-42840"/>
            <a:ext cx="8242560" cy="987480"/>
          </a:xfrm>
          <a:prstGeom prst="rect">
            <a:avLst/>
          </a:prstGeom>
          <a:ln w="0">
            <a:noFill/>
          </a:ln>
        </p:spPr>
      </p:pic>
      <p:sp>
        <p:nvSpPr>
          <p:cNvPr id="138" name=""/>
          <p:cNvSpPr txBox="1"/>
          <p:nvPr/>
        </p:nvSpPr>
        <p:spPr>
          <a:xfrm>
            <a:off x="500040" y="714240"/>
            <a:ext cx="8229600" cy="4708800"/>
          </a:xfrm>
          <a:prstGeom prst="rect">
            <a:avLst/>
          </a:prstGeom>
          <a:noFill/>
          <a:ln w="0">
            <a:noFill/>
          </a:ln>
        </p:spPr>
        <p:txBody>
          <a:bodyPr anchor="t">
            <a:normAutofit fontScale="78000"/>
          </a:bodyPr>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المقصود بتشجيع الاستثمار هو عبارة الإعفاءات الجمركية والحوافز والتسهيلات والضمانات والمزايا الأخرى التي تمنح للمشاريع المنشأة حديثاً أو القائمة وضمن قطاعات منصوص عليها بقانون تشجيع الأستثمار وبموجب أعتبارات يقرها مجلس الوزراء وتقتضيها المصلحة الوطنية ، ولسنوات مناسبة وفقاً لطبيعة النشاط والموقع الجغرافي للمشروع ومدى مساهمته في زيادة الصادرات وتشغيل الأيدي العاملة ودفع عجلة التنمية.</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     نشأت مؤسسة تشجيع الأستثمار الأردنية بموجب قانون تشجيع الأستثمار رقم (</a:t>
            </a:r>
            <a:r>
              <a:rPr b="0" lang="ar-JO" sz="2000" spc="-1" strike="noStrike">
                <a:solidFill>
                  <a:srgbClr val="ffffff"/>
                </a:solidFill>
                <a:latin typeface="Book Antiqua"/>
              </a:rPr>
              <a:t>6</a:t>
            </a:r>
            <a:r>
              <a:rPr b="0" lang="ar-JO" sz="2000" spc="-1" strike="noStrike">
                <a:solidFill>
                  <a:srgbClr val="ffffff"/>
                </a:solidFill>
                <a:latin typeface="Book Antiqua"/>
              </a:rPr>
              <a:t>) لسنة </a:t>
            </a:r>
            <a:r>
              <a:rPr b="0" lang="ar-JO" sz="2000" spc="-1" strike="noStrike">
                <a:solidFill>
                  <a:srgbClr val="ffffff"/>
                </a:solidFill>
                <a:latin typeface="Book Antiqua"/>
              </a:rPr>
              <a:t>1995</a:t>
            </a:r>
            <a:r>
              <a:rPr b="0" lang="ar-JO" sz="2000" spc="-1" strike="noStrike">
                <a:solidFill>
                  <a:srgbClr val="ffffff"/>
                </a:solidFill>
                <a:latin typeface="Book Antiqua"/>
              </a:rPr>
              <a:t> بهدف تعزيز الثقه بالبيئة الأستثمارية والتعريف بالفرص الأستثمارية وتحفيز الستثمار فيها والترويج لها وتبسيط اجراءات التسجيل والترخيص للمنتجعات الأستثمارية ومتابعة المنتجعات القائمة وإعطاء الأولوية لها في الأنجاز لدى الجهات الرسمية ، اضافة إلى تقديم المشوره وتوفير المعلومات والبينات للمستثمرين وأصدار الأدلة الخاصه بذلك ، كما تهدف المؤسسة إلى وضع برامج لترويج الأستثمار في المملكة لجذب المستثمرين ، وتقديم الأعفاءات والتسهيلات المنصوص عليها والمتمثلة بالأعفاءات الجمركية على الموجودات الثابته أضافة إلى الأعفاءات الضريبية بنسب تتراوح ما بين (</a:t>
            </a:r>
            <a:r>
              <a:rPr b="0" lang="ar-JO" sz="2000" spc="-1" strike="noStrike">
                <a:solidFill>
                  <a:srgbClr val="ffffff"/>
                </a:solidFill>
                <a:latin typeface="Book Antiqua"/>
              </a:rPr>
              <a:t>25</a:t>
            </a:r>
            <a:r>
              <a:rPr b="0" lang="ar-JO" sz="2000" spc="-1" strike="noStrike">
                <a:solidFill>
                  <a:srgbClr val="ffffff"/>
                </a:solidFill>
                <a:latin typeface="Book Antiqua"/>
              </a:rPr>
              <a:t>-</a:t>
            </a:r>
            <a:r>
              <a:rPr b="0" lang="ar-JO" sz="2000" spc="-1" strike="noStrike">
                <a:solidFill>
                  <a:srgbClr val="ffffff"/>
                </a:solidFill>
                <a:latin typeface="Book Antiqua"/>
              </a:rPr>
              <a:t>75</a:t>
            </a:r>
            <a:r>
              <a:rPr b="0" lang="ar-JO" sz="2000" spc="-1" strike="noStrike">
                <a:solidFill>
                  <a:srgbClr val="ffffff"/>
                </a:solidFill>
                <a:latin typeface="Book Antiqua"/>
              </a:rPr>
              <a:t>%) حسب موقع المنتجع في المنطقة التنموية. لقد أعطى قانون تشجيع الأستثمار الأردني مجمعة ضمانات كبيرة للمستثمرين غير الأردنيين حيث منحهم الحق بتملك المنتجعات السياحية بالكامل أو بالمشاركة أو بالمساهمة وأعطى المستثمر الحق بأخراج رأس المال الذي أدخله وعوائده أو بيع المنشأة السياحية(منتجعه) دون تأخير وبعملة قابلة للتحويل ، وعدم جواز تأميم أو أستملاك منتجعه إلا لمتقضيات المصلحة العامة شريطة دفع التعويض العادل وبعملة قابلة لتحويل وضمان حقه في اللجوء إلى القضاء المحلي أو المركز الدولي لتسوية النزاعات الأستثمارية.</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450720" y="-109440"/>
            <a:ext cx="8242560" cy="1116000"/>
          </a:xfrm>
          <a:prstGeom prst="rect">
            <a:avLst/>
          </a:prstGeom>
          <a:ln w="0">
            <a:noFill/>
          </a:ln>
        </p:spPr>
      </p:pic>
      <p:sp>
        <p:nvSpPr>
          <p:cNvPr id="140" name=""/>
          <p:cNvSpPr txBox="1"/>
          <p:nvPr/>
        </p:nvSpPr>
        <p:spPr>
          <a:xfrm>
            <a:off x="428760" y="785520"/>
            <a:ext cx="8229600" cy="4708440"/>
          </a:xfrm>
          <a:prstGeom prst="rect">
            <a:avLst/>
          </a:prstGeom>
          <a:noFill/>
          <a:ln w="0">
            <a:noFill/>
          </a:ln>
        </p:spPr>
        <p:txBody>
          <a:bodyPr anchor="t">
            <a:normAutofit fontScale="82000"/>
          </a:bodyPr>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تلعب السياحة دورا حيويا في الاقتصاد الأردني حيث تساهم بنسبة</a:t>
            </a:r>
            <a:r>
              <a:rPr b="0" lang="en-US" sz="2000" spc="-1" strike="noStrike">
                <a:solidFill>
                  <a:srgbClr val="ffffff"/>
                </a:solidFill>
                <a:latin typeface="Book Antiqua"/>
              </a:rPr>
              <a:t> ( </a:t>
            </a:r>
            <a:r>
              <a:rPr b="0" lang="en-US" sz="2000" spc="-1" strike="noStrike">
                <a:solidFill>
                  <a:srgbClr val="ffffff"/>
                </a:solidFill>
                <a:latin typeface="Book Antiqua"/>
              </a:rPr>
              <a:t>11</a:t>
            </a:r>
            <a:r>
              <a:rPr b="0" lang="en-US" sz="2000" spc="-1" strike="noStrike">
                <a:solidFill>
                  <a:srgbClr val="ffffff"/>
                </a:solidFill>
                <a:latin typeface="Book Antiqua"/>
              </a:rPr>
              <a:t> %) </a:t>
            </a:r>
            <a:r>
              <a:rPr b="0" lang="ar-SA" sz="2000" spc="-1" strike="noStrike">
                <a:solidFill>
                  <a:srgbClr val="ffffff"/>
                </a:solidFill>
                <a:latin typeface="Book Antiqua"/>
              </a:rPr>
              <a:t>من إجمالي الناتج المحلي للمملكة ، وذلك من خلال تعظيم الميزة النسبية والتنافسية للأردن كمنطقة جذب سياحي، وإبراز مكتنزات الأردن الدينية والثقافية والتراثية والحضارية والتاريخية عبر العصور</a:t>
            </a:r>
            <a:r>
              <a:rPr b="0" lang="en-US" sz="2000" spc="-1" strike="noStrike">
                <a:solidFill>
                  <a:srgbClr val="ffffff"/>
                </a:solidFill>
                <a:latin typeface="Book Antiqua"/>
              </a:rPr>
              <a:t>. </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كما وتعد السياحة قاطرة الاقتصاد الوطني من خلال توفير العملات الصعبة وفرص العمل وتعد عاملا من عوامل التنمية المستدامة</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Book Antiqua"/>
              </a:rPr>
              <a:t>وتتحقق هذه المساهمة عن طريق البرامج التالية</a:t>
            </a:r>
            <a:r>
              <a:rPr b="1"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زيادة العوائد الاقتصادية للسياحة عن طريق زيادة المقبوضات السياحية من خلال زيادة إعداد القادمين(السياح) معدل إنفاق السائح في كل ليلة، ومعدل إقامة السائح في الأردن .</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زيادة مساهمة السياحة في الناتج القومي الإجمالي وذلك من خلال التشجيع على استخدام عوامل الإنتاج المحلية عند إنشاء المؤسسات السياحية، تشجيع استخدام الموارد والمواد المحلية في تشغيل المؤسسات السياحية</a:t>
            </a:r>
            <a:r>
              <a:rPr b="0" lang="en-US" sz="2000" spc="-1" strike="noStrike">
                <a:solidFill>
                  <a:srgbClr val="ffffff"/>
                </a:solidFill>
                <a:latin typeface="Book Antiqua"/>
              </a:rPr>
              <a:t> , </a:t>
            </a:r>
            <a:r>
              <a:rPr b="0" lang="ar-SA" sz="2000" spc="-1" strike="noStrike">
                <a:solidFill>
                  <a:srgbClr val="ffffff"/>
                </a:solidFill>
                <a:latin typeface="Book Antiqua"/>
              </a:rPr>
              <a:t>وتشجيعاً للأيدي العاملة المحلية في إشغال الوظائف المتاحة في قطاع السياحة</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خلق بيئة استثمارية حاضنة للمشاريع السياحية وتعديل التشريعات لتسهيل دخول رأس مال جيد إضافية للاستثمار في المهن السياحية وتوسيع قاعدة المشاريع والمهن السياحية التي تحصل على حوافز تشجيع الاستثمار</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ar-SA" sz="2000" spc="-1" strike="noStrike">
                <a:solidFill>
                  <a:srgbClr val="ffffff"/>
                </a:solidFill>
                <a:latin typeface="Book Antiqua"/>
              </a:rPr>
              <a:t>تشجيع إقامة المشاريع السياحية التي تعزز الميزة التنافسية والنسبية في الأردن</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71680" y="356760"/>
            <a:ext cx="8229600" cy="4708440"/>
          </a:xfrm>
          <a:prstGeom prst="rect">
            <a:avLst/>
          </a:prstGeom>
          <a:noFill/>
          <a:ln w="0">
            <a:noFill/>
          </a:ln>
        </p:spPr>
        <p:txBody>
          <a:bodyPr anchor="t">
            <a:normAutofit fontScale="78000"/>
          </a:bodyPr>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Book Antiqua"/>
              </a:rPr>
              <a:t>وتبلغ قيمة الاستثمار في القطاع السياحي حوالي</a:t>
            </a:r>
            <a:r>
              <a:rPr b="1" lang="en-US" sz="2000" spc="-1" strike="noStrike">
                <a:solidFill>
                  <a:srgbClr val="ffffff"/>
                </a:solidFill>
                <a:latin typeface="Book Antiqua"/>
              </a:rPr>
              <a:t> ( </a:t>
            </a:r>
            <a:r>
              <a:rPr b="1" lang="en-US" sz="2000" spc="-1" strike="noStrike">
                <a:solidFill>
                  <a:srgbClr val="ffffff"/>
                </a:solidFill>
                <a:latin typeface="Book Antiqua"/>
              </a:rPr>
              <a:t>1,267</a:t>
            </a:r>
            <a:r>
              <a:rPr b="1" lang="en-US" sz="2000" spc="-1" strike="noStrike">
                <a:solidFill>
                  <a:srgbClr val="ffffff"/>
                </a:solidFill>
                <a:latin typeface="Book Antiqua"/>
              </a:rPr>
              <a:t> ) </a:t>
            </a:r>
            <a:r>
              <a:rPr b="1" lang="ar-SA" sz="2000" spc="-1" strike="noStrike">
                <a:solidFill>
                  <a:srgbClr val="ffffff"/>
                </a:solidFill>
                <a:latin typeface="Book Antiqua"/>
              </a:rPr>
              <a:t>مليون دينار أردني موزعة</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Book Antiqua"/>
              </a:rPr>
              <a:t>ضمن المجالات التالية</a:t>
            </a:r>
            <a:r>
              <a:rPr b="1" lang="en-US" sz="2000" spc="-1" strike="noStrike">
                <a:solidFill>
                  <a:srgbClr val="ffffff"/>
                </a:solidFill>
                <a:latin typeface="Book Antiqua"/>
              </a:rPr>
              <a:t>:</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مؤسسات الإيواء الفندقي، مكاتب السياحة والسفر، متاجر التحف الشرقية، المطاعم</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والكفتيريات والأندية السياحية، شركات النقل البري المتخصص، السيارات السياحية، شركات</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لنقل الجوي</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Book Antiqua"/>
              </a:rPr>
              <a:t>ويمكن الاستدلال على حيوية القطاع السياحي من خلال المؤشرات التالية</a:t>
            </a:r>
            <a:r>
              <a:rPr b="1" lang="en-US" sz="2000" spc="-1" strike="noStrike">
                <a:solidFill>
                  <a:srgbClr val="ffffff"/>
                </a:solidFill>
                <a:latin typeface="Book Antiqua"/>
              </a:rPr>
              <a:t> :</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زدادت أعداد السياح والقادمين إلى الأردن من</a:t>
            </a:r>
            <a:r>
              <a:rPr b="0" lang="en-US" sz="2000" spc="-1" strike="noStrike">
                <a:solidFill>
                  <a:srgbClr val="ffffff"/>
                </a:solidFill>
                <a:latin typeface="Book Antiqua"/>
              </a:rPr>
              <a:t> </a:t>
            </a:r>
            <a:r>
              <a:rPr b="0" lang="en-US" sz="2000" spc="-1" strike="noStrike">
                <a:solidFill>
                  <a:srgbClr val="ffffff"/>
                </a:solidFill>
                <a:latin typeface="Book Antiqua"/>
              </a:rPr>
              <a:t>4.677</a:t>
            </a:r>
            <a:r>
              <a:rPr b="0" lang="en-US" sz="2000" spc="-1" strike="noStrike">
                <a:solidFill>
                  <a:srgbClr val="ffffff"/>
                </a:solidFill>
                <a:latin typeface="Book Antiqua"/>
              </a:rPr>
              <a:t> </a:t>
            </a:r>
            <a:r>
              <a:rPr b="0" lang="ar-SA" sz="2000" spc="-1" strike="noStrike">
                <a:solidFill>
                  <a:srgbClr val="ffffff"/>
                </a:solidFill>
                <a:latin typeface="Book Antiqua"/>
              </a:rPr>
              <a:t>مليون سائح لعام</a:t>
            </a:r>
            <a:r>
              <a:rPr b="0" lang="en-US" sz="2000" spc="-1" strike="noStrike">
                <a:solidFill>
                  <a:srgbClr val="ffffff"/>
                </a:solidFill>
                <a:latin typeface="Book Antiqua"/>
              </a:rPr>
              <a:t> </a:t>
            </a:r>
            <a:r>
              <a:rPr b="0" lang="en-US" sz="2000" spc="-1" strike="noStrike">
                <a:solidFill>
                  <a:srgbClr val="ffffff"/>
                </a:solidFill>
                <a:latin typeface="Book Antiqua"/>
              </a:rPr>
              <a:t>2002</a:t>
            </a:r>
            <a:r>
              <a:rPr b="0" lang="ar-SA" sz="2000" spc="-1" strike="noStrike">
                <a:solidFill>
                  <a:srgbClr val="ffffff"/>
                </a:solidFill>
                <a:latin typeface="Book Antiqua"/>
              </a:rPr>
              <a:t>ليصل إلى</a:t>
            </a:r>
            <a:r>
              <a:rPr b="0" lang="en-US" sz="2000" spc="-1" strike="noStrike">
                <a:solidFill>
                  <a:srgbClr val="ffffff"/>
                </a:solidFill>
                <a:latin typeface="Book Antiqua"/>
              </a:rPr>
              <a:t> </a:t>
            </a:r>
            <a:r>
              <a:rPr b="0" lang="en-US" sz="2000" spc="-1" strike="noStrike">
                <a:solidFill>
                  <a:srgbClr val="ffffff"/>
                </a:solidFill>
                <a:latin typeface="Book Antiqua"/>
              </a:rPr>
              <a:t>6.574</a:t>
            </a:r>
            <a:r>
              <a:rPr b="0" lang="en-US" sz="2000" spc="-1" strike="noStrike">
                <a:solidFill>
                  <a:srgbClr val="ffffff"/>
                </a:solidFill>
                <a:latin typeface="Book Antiqua"/>
              </a:rPr>
              <a:t> </a:t>
            </a:r>
            <a:r>
              <a:rPr b="0" lang="ar-SA" sz="2000" spc="-1" strike="noStrike">
                <a:solidFill>
                  <a:srgbClr val="ffffff"/>
                </a:solidFill>
                <a:latin typeface="Book Antiqua"/>
              </a:rPr>
              <a:t>مليون سائح في عام</a:t>
            </a:r>
            <a:r>
              <a:rPr b="0" lang="en-US" sz="2000" spc="-1" strike="noStrike">
                <a:solidFill>
                  <a:srgbClr val="ffffff"/>
                </a:solidFill>
                <a:latin typeface="Book Antiqua"/>
              </a:rPr>
              <a:t> </a:t>
            </a:r>
            <a:r>
              <a:rPr b="0" lang="en-US" sz="2000" spc="-1" strike="noStrike">
                <a:solidFill>
                  <a:srgbClr val="ffffff"/>
                </a:solidFill>
                <a:latin typeface="Book Antiqua"/>
              </a:rPr>
              <a:t>2006</a:t>
            </a:r>
            <a:r>
              <a:rPr b="0" lang="en-US" sz="2000" spc="-1" strike="noStrike">
                <a:solidFill>
                  <a:srgbClr val="ffffff"/>
                </a:solidFill>
                <a:latin typeface="Book Antiqua"/>
              </a:rPr>
              <a:t>  </a:t>
            </a:r>
            <a:r>
              <a:rPr b="0" lang="ar-SA" sz="2000" spc="-1" strike="noStrike">
                <a:solidFill>
                  <a:srgbClr val="ffffff"/>
                </a:solidFill>
                <a:latin typeface="Book Antiqua"/>
              </a:rPr>
              <a:t>كما وقد بلغت أعدادهم مع نهاية شهر آذار من العام الحالي</a:t>
            </a:r>
            <a:r>
              <a:rPr b="0" lang="en-US" sz="2000" spc="-1" strike="noStrike">
                <a:solidFill>
                  <a:srgbClr val="ffffff"/>
                </a:solidFill>
                <a:latin typeface="Book Antiqua"/>
              </a:rPr>
              <a:t> </a:t>
            </a:r>
            <a:r>
              <a:rPr b="0" lang="en-US" sz="2000" spc="-1" strike="noStrike">
                <a:solidFill>
                  <a:srgbClr val="ffffff"/>
                </a:solidFill>
                <a:latin typeface="Book Antiqua"/>
              </a:rPr>
              <a:t>2007</a:t>
            </a:r>
            <a:r>
              <a:rPr b="0" lang="en-US" sz="2000" spc="-1" strike="noStrike">
                <a:solidFill>
                  <a:srgbClr val="ffffff"/>
                </a:solidFill>
                <a:latin typeface="Book Antiqua"/>
              </a:rPr>
              <a:t> </a:t>
            </a:r>
            <a:r>
              <a:rPr b="0" lang="ar-SA" sz="2000" spc="-1" strike="noStrike">
                <a:solidFill>
                  <a:srgbClr val="ffffff"/>
                </a:solidFill>
                <a:latin typeface="Book Antiqua"/>
              </a:rPr>
              <a:t>حوالي</a:t>
            </a:r>
            <a:r>
              <a:rPr b="0" lang="en-US" sz="2000" spc="-1" strike="noStrike">
                <a:solidFill>
                  <a:srgbClr val="ffffff"/>
                </a:solidFill>
                <a:latin typeface="Book Antiqua"/>
              </a:rPr>
              <a:t> </a:t>
            </a:r>
            <a:r>
              <a:rPr b="0" lang="en-US" sz="2000" spc="-1" strike="noStrike">
                <a:solidFill>
                  <a:srgbClr val="ffffff"/>
                </a:solidFill>
                <a:latin typeface="Book Antiqua"/>
              </a:rPr>
              <a:t>1.388</a:t>
            </a:r>
            <a:r>
              <a:rPr b="0" lang="en-US" sz="2000" spc="-1" strike="noStrike">
                <a:solidFill>
                  <a:srgbClr val="ffffff"/>
                </a:solidFill>
                <a:latin typeface="Book Antiqua"/>
              </a:rPr>
              <a:t> </a:t>
            </a:r>
            <a:r>
              <a:rPr b="0" lang="ar-SA" sz="2000" spc="-1" strike="noStrike">
                <a:solidFill>
                  <a:srgbClr val="ffffff"/>
                </a:solidFill>
                <a:latin typeface="Book Antiqua"/>
              </a:rPr>
              <a:t>مليون سائح</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رتفع الدخل السياحي من</a:t>
            </a:r>
            <a:r>
              <a:rPr b="0" lang="en-US" sz="2000" spc="-1" strike="noStrike">
                <a:solidFill>
                  <a:srgbClr val="ffffff"/>
                </a:solidFill>
                <a:latin typeface="Book Antiqua"/>
              </a:rPr>
              <a:t> </a:t>
            </a:r>
            <a:r>
              <a:rPr b="0" lang="en-US" sz="2000" spc="-1" strike="noStrike">
                <a:solidFill>
                  <a:srgbClr val="ffffff"/>
                </a:solidFill>
                <a:latin typeface="Book Antiqua"/>
              </a:rPr>
              <a:t>743.2</a:t>
            </a:r>
            <a:r>
              <a:rPr b="0" lang="en-US" sz="2000" spc="-1" strike="noStrike">
                <a:solidFill>
                  <a:srgbClr val="ffffff"/>
                </a:solidFill>
                <a:latin typeface="Book Antiqua"/>
              </a:rPr>
              <a:t> </a:t>
            </a:r>
            <a:r>
              <a:rPr b="0" lang="ar-SA" sz="2000" spc="-1" strike="noStrike">
                <a:solidFill>
                  <a:srgbClr val="ffffff"/>
                </a:solidFill>
                <a:latin typeface="Book Antiqua"/>
              </a:rPr>
              <a:t>مليون دينار في عام</a:t>
            </a:r>
            <a:r>
              <a:rPr b="0" lang="en-US" sz="2000" spc="-1" strike="noStrike">
                <a:solidFill>
                  <a:srgbClr val="ffffff"/>
                </a:solidFill>
                <a:latin typeface="Book Antiqua"/>
              </a:rPr>
              <a:t> </a:t>
            </a:r>
            <a:r>
              <a:rPr b="0" lang="en-US" sz="2000" spc="-1" strike="noStrike">
                <a:solidFill>
                  <a:srgbClr val="ffffff"/>
                </a:solidFill>
                <a:latin typeface="Book Antiqua"/>
              </a:rPr>
              <a:t>2002</a:t>
            </a:r>
            <a:r>
              <a:rPr b="0" lang="en-US" sz="2000" spc="-1" strike="noStrike">
                <a:solidFill>
                  <a:srgbClr val="ffffff"/>
                </a:solidFill>
                <a:latin typeface="Book Antiqua"/>
              </a:rPr>
              <a:t> </a:t>
            </a:r>
            <a:r>
              <a:rPr b="0" lang="ar-SA" sz="2000" spc="-1" strike="noStrike">
                <a:solidFill>
                  <a:srgbClr val="ffffff"/>
                </a:solidFill>
                <a:latin typeface="Book Antiqua"/>
              </a:rPr>
              <a:t>إلى</a:t>
            </a:r>
            <a:r>
              <a:rPr b="0" lang="en-US" sz="2000" spc="-1" strike="noStrike">
                <a:solidFill>
                  <a:srgbClr val="ffffff"/>
                </a:solidFill>
                <a:latin typeface="Book Antiqua"/>
              </a:rPr>
              <a:t>1.164.100</a:t>
            </a:r>
            <a:r>
              <a:rPr b="0" lang="en-US" sz="2000" spc="-1" strike="noStrike">
                <a:solidFill>
                  <a:srgbClr val="ffffff"/>
                </a:solidFill>
                <a:latin typeface="Book Antiqua"/>
              </a:rPr>
              <a:t>  </a:t>
            </a:r>
            <a:r>
              <a:rPr b="0" lang="ar-SA" sz="2000" spc="-1" strike="noStrike">
                <a:solidFill>
                  <a:srgbClr val="ffffff"/>
                </a:solidFill>
                <a:latin typeface="Book Antiqua"/>
              </a:rPr>
              <a:t>مليون دينار في عام</a:t>
            </a:r>
            <a:r>
              <a:rPr b="0" lang="en-US" sz="2000" spc="-1" strike="noStrike">
                <a:solidFill>
                  <a:srgbClr val="ffffff"/>
                </a:solidFill>
                <a:latin typeface="Book Antiqua"/>
              </a:rPr>
              <a:t> </a:t>
            </a:r>
            <a:r>
              <a:rPr b="0" lang="en-US" sz="2000" spc="-1" strike="noStrike">
                <a:solidFill>
                  <a:srgbClr val="ffffff"/>
                </a:solidFill>
                <a:latin typeface="Book Antiqua"/>
              </a:rPr>
              <a:t>2006</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زادت أعداد الفنادق المصنفة وغير المصنفة من</a:t>
            </a:r>
            <a:r>
              <a:rPr b="0" lang="en-US" sz="2000" spc="-1" strike="noStrike">
                <a:solidFill>
                  <a:srgbClr val="ffffff"/>
                </a:solidFill>
                <a:latin typeface="Book Antiqua"/>
              </a:rPr>
              <a:t> </a:t>
            </a:r>
            <a:r>
              <a:rPr b="0" lang="en-US" sz="2000" spc="-1" strike="noStrike">
                <a:solidFill>
                  <a:srgbClr val="ffffff"/>
                </a:solidFill>
                <a:latin typeface="Book Antiqua"/>
              </a:rPr>
              <a:t>461</a:t>
            </a:r>
            <a:r>
              <a:rPr b="0" lang="en-US" sz="2000" spc="-1" strike="noStrike">
                <a:solidFill>
                  <a:srgbClr val="ffffff"/>
                </a:solidFill>
                <a:latin typeface="Book Antiqua"/>
              </a:rPr>
              <a:t> </a:t>
            </a:r>
            <a:r>
              <a:rPr b="0" lang="ar-SA" sz="2000" spc="-1" strike="noStrike">
                <a:solidFill>
                  <a:srgbClr val="ffffff"/>
                </a:solidFill>
                <a:latin typeface="Book Antiqua"/>
              </a:rPr>
              <a:t>في عام</a:t>
            </a:r>
            <a:r>
              <a:rPr b="0" lang="en-US" sz="2000" spc="-1" strike="noStrike">
                <a:solidFill>
                  <a:srgbClr val="ffffff"/>
                </a:solidFill>
                <a:latin typeface="Book Antiqua"/>
              </a:rPr>
              <a:t> </a:t>
            </a:r>
            <a:r>
              <a:rPr b="0" lang="en-US" sz="2000" spc="-1" strike="noStrike">
                <a:solidFill>
                  <a:srgbClr val="ffffff"/>
                </a:solidFill>
                <a:latin typeface="Book Antiqua"/>
              </a:rPr>
              <a:t>2002</a:t>
            </a:r>
            <a:r>
              <a:rPr b="0" lang="en-US" sz="2000" spc="-1" strike="noStrike">
                <a:solidFill>
                  <a:srgbClr val="ffffff"/>
                </a:solidFill>
                <a:latin typeface="Book Antiqua"/>
              </a:rPr>
              <a:t> </a:t>
            </a:r>
            <a:r>
              <a:rPr b="0" lang="ar-SA" sz="2000" spc="-1" strike="noStrike">
                <a:solidFill>
                  <a:srgbClr val="ffffff"/>
                </a:solidFill>
                <a:latin typeface="Book Antiqua"/>
              </a:rPr>
              <a:t>إلى</a:t>
            </a:r>
            <a:r>
              <a:rPr b="0" lang="en-US" sz="2000" spc="-1" strike="noStrike">
                <a:solidFill>
                  <a:srgbClr val="ffffff"/>
                </a:solidFill>
                <a:latin typeface="Book Antiqua"/>
              </a:rPr>
              <a:t> </a:t>
            </a:r>
            <a:r>
              <a:rPr b="0" lang="en-US" sz="2000" spc="-1" strike="noStrike">
                <a:solidFill>
                  <a:srgbClr val="ffffff"/>
                </a:solidFill>
                <a:latin typeface="Book Antiqua"/>
              </a:rPr>
              <a:t>478</a:t>
            </a:r>
            <a:r>
              <a:rPr b="0" lang="en-US" sz="2000" spc="-1" strike="noStrike">
                <a:solidFill>
                  <a:srgbClr val="ffffff"/>
                </a:solidFill>
                <a:latin typeface="Book Antiqua"/>
              </a:rPr>
              <a:t> </a:t>
            </a:r>
            <a:r>
              <a:rPr b="0" lang="ar-SA" sz="2000" spc="-1" strike="noStrike">
                <a:solidFill>
                  <a:srgbClr val="ffffff"/>
                </a:solidFill>
                <a:latin typeface="Book Antiqua"/>
              </a:rPr>
              <a:t>في </a:t>
            </a:r>
            <a:r>
              <a:rPr b="0" lang="en-US" sz="2000" spc="-1" strike="noStrike">
                <a:solidFill>
                  <a:srgbClr val="ffffff"/>
                </a:solidFill>
                <a:latin typeface="Book Antiqua"/>
              </a:rPr>
              <a:t>. </a:t>
            </a:r>
            <a:r>
              <a:rPr b="0" lang="ar-SA" sz="2000" spc="-1" strike="noStrike">
                <a:solidFill>
                  <a:srgbClr val="ffffff"/>
                </a:solidFill>
                <a:latin typeface="Book Antiqua"/>
              </a:rPr>
              <a:t>نهاية شهر آذار من عام</a:t>
            </a:r>
            <a:r>
              <a:rPr b="0" lang="en-US" sz="2000" spc="-1" strike="noStrike">
                <a:solidFill>
                  <a:srgbClr val="ffffff"/>
                </a:solidFill>
                <a:latin typeface="Book Antiqua"/>
              </a:rPr>
              <a:t> </a:t>
            </a:r>
            <a:r>
              <a:rPr b="0" lang="en-US" sz="2000" spc="-1" strike="noStrike">
                <a:solidFill>
                  <a:srgbClr val="ffffff"/>
                </a:solidFill>
                <a:latin typeface="Book Antiqua"/>
              </a:rPr>
              <a:t>2007</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زدادت مكاتب السياحة حيث بلغت</a:t>
            </a:r>
            <a:r>
              <a:rPr b="0" lang="en-US" sz="2000" spc="-1" strike="noStrike">
                <a:solidFill>
                  <a:srgbClr val="ffffff"/>
                </a:solidFill>
                <a:latin typeface="Book Antiqua"/>
              </a:rPr>
              <a:t> </a:t>
            </a:r>
            <a:r>
              <a:rPr b="0" lang="en-US" sz="2000" spc="-1" strike="noStrike">
                <a:solidFill>
                  <a:srgbClr val="ffffff"/>
                </a:solidFill>
                <a:latin typeface="Book Antiqua"/>
              </a:rPr>
              <a:t>481</a:t>
            </a:r>
            <a:r>
              <a:rPr b="0" lang="en-US" sz="2000" spc="-1" strike="noStrike">
                <a:solidFill>
                  <a:srgbClr val="ffffff"/>
                </a:solidFill>
                <a:latin typeface="Book Antiqua"/>
              </a:rPr>
              <a:t> </a:t>
            </a:r>
            <a:r>
              <a:rPr b="0" lang="ar-SA" sz="2000" spc="-1" strike="noStrike">
                <a:solidFill>
                  <a:srgbClr val="ffffff"/>
                </a:solidFill>
                <a:latin typeface="Book Antiqua"/>
              </a:rPr>
              <a:t>مكتبًا مع نهاية شهر آذار من عام</a:t>
            </a:r>
            <a:r>
              <a:rPr b="0" lang="en-US" sz="2000" spc="-1" strike="noStrike">
                <a:solidFill>
                  <a:srgbClr val="ffffff"/>
                </a:solidFill>
                <a:latin typeface="Book Antiqua"/>
              </a:rPr>
              <a:t> </a:t>
            </a:r>
            <a:r>
              <a:rPr b="0" lang="en-US" sz="2000" spc="-1" strike="noStrike">
                <a:solidFill>
                  <a:srgbClr val="ffffff"/>
                </a:solidFill>
                <a:latin typeface="Book Antiqua"/>
              </a:rPr>
              <a:t>2007</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زدادت أعداد العاملين في القطاع السياحي حيث بلغت</a:t>
            </a:r>
            <a:r>
              <a:rPr b="0" lang="en-US" sz="2000" spc="-1" strike="noStrike">
                <a:solidFill>
                  <a:srgbClr val="ffffff"/>
                </a:solidFill>
                <a:latin typeface="Book Antiqua"/>
              </a:rPr>
              <a:t> </a:t>
            </a:r>
            <a:r>
              <a:rPr b="0" lang="en-US" sz="2000" spc="-1" strike="noStrike">
                <a:solidFill>
                  <a:srgbClr val="ffffff"/>
                </a:solidFill>
                <a:latin typeface="Book Antiqua"/>
              </a:rPr>
              <a:t>32,228</a:t>
            </a:r>
            <a:r>
              <a:rPr b="0" lang="en-US" sz="2000" spc="-1" strike="noStrike">
                <a:solidFill>
                  <a:srgbClr val="ffffff"/>
                </a:solidFill>
                <a:latin typeface="Book Antiqua"/>
              </a:rPr>
              <a:t> </a:t>
            </a:r>
            <a:r>
              <a:rPr b="0" lang="ar-SA" sz="2000" spc="-1" strike="noStrike">
                <a:solidFill>
                  <a:srgbClr val="ffffff"/>
                </a:solidFill>
                <a:latin typeface="Book Antiqua"/>
              </a:rPr>
              <a:t>عامل في نهاية شهر</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آذار من عام</a:t>
            </a:r>
            <a:r>
              <a:rPr b="0" lang="en-US" sz="2000" spc="-1" strike="noStrike">
                <a:solidFill>
                  <a:srgbClr val="ffffff"/>
                </a:solidFill>
                <a:latin typeface="Book Antiqua"/>
              </a:rPr>
              <a:t> </a:t>
            </a:r>
            <a:r>
              <a:rPr b="0" lang="en-US" sz="2000" spc="-1" strike="noStrike">
                <a:solidFill>
                  <a:srgbClr val="ffffff"/>
                </a:solidFill>
                <a:latin typeface="Book Antiqua"/>
              </a:rPr>
              <a:t>2007</a:t>
            </a:r>
            <a:endParaRPr b="0" lang="en-US" sz="2000" spc="-1" strike="noStrike">
              <a:solidFill>
                <a:srgbClr val="ffffff"/>
              </a:solidFill>
              <a:latin typeface="Book Antiqua"/>
            </a:endParaRPr>
          </a:p>
          <a:p>
            <a:pPr marL="426960" indent="-320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401760" y="-176040"/>
            <a:ext cx="8297640" cy="1603080"/>
          </a:xfrm>
          <a:prstGeom prst="rect">
            <a:avLst/>
          </a:prstGeom>
          <a:ln w="0">
            <a:noFill/>
          </a:ln>
        </p:spPr>
      </p:pic>
      <p:sp>
        <p:nvSpPr>
          <p:cNvPr id="143" name=""/>
          <p:cNvSpPr txBox="1"/>
          <p:nvPr/>
        </p:nvSpPr>
        <p:spPr>
          <a:xfrm>
            <a:off x="428760" y="1214280"/>
            <a:ext cx="8229600" cy="4708800"/>
          </a:xfrm>
          <a:prstGeom prst="rect">
            <a:avLst/>
          </a:prstGeom>
          <a:noFill/>
          <a:ln w="0">
            <a:noFill/>
          </a:ln>
        </p:spPr>
        <p:txBody>
          <a:bodyPr anchor="t">
            <a:normAutofit fontScale="81000"/>
          </a:bodyPr>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مشروع تطوير السياحة الثالث الذي تقدر كلفته بحوالي</a:t>
            </a:r>
            <a:r>
              <a:rPr b="0" lang="en-US" sz="2200" spc="-1" strike="noStrike">
                <a:solidFill>
                  <a:srgbClr val="ffffff"/>
                </a:solidFill>
                <a:latin typeface="Book Antiqua"/>
              </a:rPr>
              <a:t> </a:t>
            </a:r>
            <a:r>
              <a:rPr b="0" lang="en-US" sz="2200" spc="-1" strike="noStrike">
                <a:solidFill>
                  <a:srgbClr val="ffffff"/>
                </a:solidFill>
                <a:latin typeface="Book Antiqua"/>
              </a:rPr>
              <a:t>70</a:t>
            </a:r>
            <a:r>
              <a:rPr b="0" lang="en-US" sz="2200" spc="-1" strike="noStrike">
                <a:solidFill>
                  <a:srgbClr val="ffffff"/>
                </a:solidFill>
                <a:latin typeface="Book Antiqua"/>
              </a:rPr>
              <a:t> </a:t>
            </a:r>
            <a:r>
              <a:rPr b="0" lang="ar-SA" sz="2200" spc="-1" strike="noStrike">
                <a:solidFill>
                  <a:srgbClr val="ffffff"/>
                </a:solidFill>
                <a:latin typeface="Book Antiqua"/>
              </a:rPr>
              <a:t>مليون دولار وبتمويل مشترك من الحكومة الأردنية والبنك الدولي</a:t>
            </a:r>
            <a:r>
              <a:rPr b="0" lang="en-US" sz="2200" spc="-1" strike="noStrike">
                <a:solidFill>
                  <a:srgbClr val="ffffff"/>
                </a:solidFill>
                <a:latin typeface="Book Antiqua"/>
              </a:rPr>
              <a:t>.</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مشروع تطوير القطاع السياحي الذي تقدر كلفته بحوالي</a:t>
            </a:r>
            <a:r>
              <a:rPr b="0" lang="en-US" sz="2200" spc="-1" strike="noStrike">
                <a:solidFill>
                  <a:srgbClr val="ffffff"/>
                </a:solidFill>
                <a:latin typeface="Book Antiqua"/>
              </a:rPr>
              <a:t> </a:t>
            </a:r>
            <a:r>
              <a:rPr b="0" lang="en-US" sz="2200" spc="-1" strike="noStrike">
                <a:solidFill>
                  <a:srgbClr val="ffffff"/>
                </a:solidFill>
                <a:latin typeface="Book Antiqua"/>
              </a:rPr>
              <a:t>53.339</a:t>
            </a:r>
            <a:r>
              <a:rPr b="0" lang="en-US" sz="2200" spc="-1" strike="noStrike">
                <a:solidFill>
                  <a:srgbClr val="ffffff"/>
                </a:solidFill>
                <a:latin typeface="Book Antiqua"/>
              </a:rPr>
              <a:t> </a:t>
            </a:r>
            <a:r>
              <a:rPr b="0" lang="ar-SA" sz="2200" spc="-1" strike="noStrike">
                <a:solidFill>
                  <a:srgbClr val="ffffff"/>
                </a:solidFill>
                <a:latin typeface="Book Antiqua"/>
              </a:rPr>
              <a:t>مليون دولار وتمويله مشترك بين الحكومة الأردنية والبنك الياباني</a:t>
            </a:r>
            <a:r>
              <a:rPr b="0" lang="en-US" sz="2200" spc="-1" strike="noStrike">
                <a:solidFill>
                  <a:srgbClr val="ffffff"/>
                </a:solidFill>
                <a:latin typeface="Book Antiqua"/>
              </a:rPr>
              <a:t>.</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مشروع أم الرصاص واللاهون الذي تبلغ كلفته حوالي</a:t>
            </a:r>
            <a:r>
              <a:rPr b="0" lang="en-US" sz="2200" spc="-1" strike="noStrike">
                <a:solidFill>
                  <a:srgbClr val="ffffff"/>
                </a:solidFill>
                <a:latin typeface="Book Antiqua"/>
              </a:rPr>
              <a:t> </a:t>
            </a:r>
            <a:r>
              <a:rPr b="0" lang="en-US" sz="2200" spc="-1" strike="noStrike">
                <a:solidFill>
                  <a:srgbClr val="ffffff"/>
                </a:solidFill>
                <a:latin typeface="Book Antiqua"/>
              </a:rPr>
              <a:t>4</a:t>
            </a:r>
            <a:r>
              <a:rPr b="0" lang="en-US" sz="2200" spc="-1" strike="noStrike">
                <a:solidFill>
                  <a:srgbClr val="ffffff"/>
                </a:solidFill>
                <a:latin typeface="Book Antiqua"/>
              </a:rPr>
              <a:t> </a:t>
            </a:r>
            <a:r>
              <a:rPr b="0" lang="ar-SA" sz="2200" spc="-1" strike="noStrike">
                <a:solidFill>
                  <a:srgbClr val="ffffff"/>
                </a:solidFill>
                <a:latin typeface="Book Antiqua"/>
              </a:rPr>
              <a:t>مليون يورو وتمويله من الاتحاد الأوروبي</a:t>
            </a:r>
            <a:r>
              <a:rPr b="0" lang="en-US" sz="2200" spc="-1" strike="noStrike">
                <a:solidFill>
                  <a:srgbClr val="ffffff"/>
                </a:solidFill>
                <a:latin typeface="Book Antiqua"/>
              </a:rPr>
              <a:t>.</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مشروع "منية السياحي" وسط غابات دبين ليصبح منتجعا سياحيا متكاملا صديقا للبيئة وهوأول مشروع سياحي استثماري يقام شمالي المملكة.</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Book Antiqua"/>
              </a:rPr>
              <a:t>نلاحظ أن عدد السياح يزداد داخل الاردن حيث  بعد مرور سنة يزداد عدد السياح بشكل مستمر ويزداد الدخل السياحي وهذا يعطي مؤشراً على أن المؤسسة تشجيع الأستثمار يجب عليها من زيادة تشجيع الأستثمار داخل الأردن وذلك تماشياً مع عدد السائحيين داخل الأردن وتوزيعه على أقاليم الأردن وذلك لتحقيق التنمية السياحية داخل الأردن بشكل عام وأقليم الشمال داخل الأردن وذلك يأتي إلى زيادة عدد المنتجات السياحية داخل الأردن وذلك يعطي السائح عدة خيارات مما يعمل على تحفيزه إلى زيادة عدد أيام الأقامة داخل الأردن مما ينتج عن ذلك من زيادة الدخل السياحي السنوي.  </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Title 1" descr=""/>
          <p:cNvPicPr/>
          <p:nvPr/>
        </p:nvPicPr>
        <p:blipFill>
          <a:blip r:embed="rId1"/>
          <a:stretch/>
        </p:blipFill>
        <p:spPr>
          <a:xfrm>
            <a:off x="420840" y="-189000"/>
            <a:ext cx="8242200" cy="1133640"/>
          </a:xfrm>
          <a:prstGeom prst="rect">
            <a:avLst/>
          </a:prstGeom>
          <a:ln w="0">
            <a:noFill/>
          </a:ln>
        </p:spPr>
      </p:pic>
      <p:sp>
        <p:nvSpPr>
          <p:cNvPr id="145" name=""/>
          <p:cNvSpPr txBox="1"/>
          <p:nvPr/>
        </p:nvSpPr>
        <p:spPr>
          <a:xfrm>
            <a:off x="357120" y="714240"/>
            <a:ext cx="8229600" cy="4708800"/>
          </a:xfrm>
          <a:prstGeom prst="rect">
            <a:avLst/>
          </a:prstGeom>
          <a:noFill/>
          <a:ln w="0">
            <a:noFill/>
          </a:ln>
        </p:spPr>
        <p:txBody>
          <a:bodyPr anchor="t">
            <a:normAutofit fontScale="70000"/>
          </a:bodyPr>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عفى الموجودات الثابتة للمشروع (وهي آلات والأ جهزة والمعدات والآليات و اللوازم والعدد المخصصة لاستخدامها حصراً للمشروع وأثاث ومفروشات ولوازم الفنادق).</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 حيث أن هذه الموجودات تعفى من الرسوم والضرائب على أن يتم إدخالها إلى المملكة خلال ثلاث سنوات من تاريخ صدور قرار الجنة (لجنة تشجيع الأستثمار) بالموافقة على قوائم الموجودات الثابتة للمشروع وللجنة أن تمدد هذه المدة إذا تبين لها أن طبيعة المشروع وحجم العمل فيه يتقضيان ذلك.</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عفى قطع الغيار المستوردة للمشروع من الرسوم والضرائب على أن لاتزيد قيمة هذه القطع على </a:t>
            </a:r>
            <a:r>
              <a:rPr b="1" lang="ar-JO" sz="1800" spc="-1" strike="noStrike">
                <a:solidFill>
                  <a:srgbClr val="ffffff"/>
                </a:solidFill>
                <a:latin typeface="Book Antiqua"/>
              </a:rPr>
              <a:t>15</a:t>
            </a:r>
            <a:r>
              <a:rPr b="1" lang="ar-JO" sz="1800" spc="-1" strike="noStrike">
                <a:solidFill>
                  <a:srgbClr val="ffffff"/>
                </a:solidFill>
                <a:latin typeface="Book Antiqua"/>
              </a:rPr>
              <a:t>% من قيمة الموجودات الثابتة على أن يتم إدخالها إلى المملكة أو أستعمالها في المشروع خلال عشر سنوات من تاريخ بدء الإنتاج أو العمل وذلك بقرار من اللجنة بالموافقة على قوائم قطع الغيار وكمياتها.</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عفى الموجودات الثابتة الازمة لتوسيع المشروع أو تطويره أو تحديثه من الرسوم والضرائب إذا ما أدى ذلك إلى زيادة لاتقل عن </a:t>
            </a:r>
            <a:r>
              <a:rPr b="1" lang="ar-JO" sz="1800" spc="-1" strike="noStrike">
                <a:solidFill>
                  <a:srgbClr val="ffffff"/>
                </a:solidFill>
                <a:latin typeface="Book Antiqua"/>
              </a:rPr>
              <a:t>25</a:t>
            </a:r>
            <a:r>
              <a:rPr b="1" lang="ar-JO" sz="1800" spc="-1" strike="noStrike">
                <a:solidFill>
                  <a:srgbClr val="ffffff"/>
                </a:solidFill>
                <a:latin typeface="Book Antiqua"/>
              </a:rPr>
              <a:t>% من الطاقة الإنتاجية للمشروع.</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عفى الزيادة التي تطرأ على قيمة الموجودات الثابتة المستوردة لحساب المشروع من الرسوم والضرائب إذا كانت الزيادة ناتجة عن ارتفاع أسعار تلك الموجودات في بلد المنشأ أو عن أرتفاع أجور شحنها او تغير في سعر التحويل.</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يفي القانون المشروع الأستثماري من ضربتي الدخل والخدمات الاجتماعية لمدة عشر سنوات بنسب تتراوح ما بين (</a:t>
            </a:r>
            <a:r>
              <a:rPr b="1" lang="ar-JO" sz="1800" spc="-1" strike="noStrike">
                <a:solidFill>
                  <a:srgbClr val="ffffff"/>
                </a:solidFill>
                <a:latin typeface="Book Antiqua"/>
              </a:rPr>
              <a:t>25</a:t>
            </a:r>
            <a:r>
              <a:rPr b="1" lang="ar-JO" sz="1800" spc="-1" strike="noStrike">
                <a:solidFill>
                  <a:srgbClr val="ffffff"/>
                </a:solidFill>
                <a:latin typeface="Book Antiqua"/>
              </a:rPr>
              <a:t>%و</a:t>
            </a:r>
            <a:r>
              <a:rPr b="1" lang="ar-JO" sz="1800" spc="-1" strike="noStrike">
                <a:solidFill>
                  <a:srgbClr val="ffffff"/>
                </a:solidFill>
                <a:latin typeface="Book Antiqua"/>
              </a:rPr>
              <a:t>75</a:t>
            </a:r>
            <a:r>
              <a:rPr b="1" lang="ar-JO" sz="1800" spc="-1" strike="noStrike">
                <a:solidFill>
                  <a:srgbClr val="ffffff"/>
                </a:solidFill>
                <a:latin typeface="Book Antiqua"/>
              </a:rPr>
              <a:t>%)وذلك حسب درجة التطور الأقتصادي للمنطقة التي يقع فيها المشروع.</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منح مشاريع الفنادق إعفاءات إضافية من الرسوم والضرائب لمشتراياتها من الأثاث والمفروشات واللوازم لغايات التحديث والتجديد مرة كل سبع سنوات على الأقل على أن يتم إدخالها إلى المملكة أو استعمالها في المشروع خلال أربع سنوات من تاريخ صدور قرار اللجنة بالموافقة على قوائم المشتريات وكمياتها.</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أما في حالة البيع فلابد من إعلام دائرة الجمارك مسبقاً عن الموجودات المنوي بيعها ، وذلك لاتخاذ الإجراء اللازم وفق أحكام القوانيون النافذة.   </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190800"/>
            <a:ext cx="9001080" cy="8260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Calibri"/>
              </a:rPr>
              <a:t>أهداف البحث:</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Calibri"/>
              </a:rPr>
              <a:t>انطلاقاً من أهمية البحث والإطار النظري والفكري الذي وضع فيه فهو يهدف إلى التوصل إلى إجابات على النقاط  الآتية:</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Calibri"/>
              </a:rPr>
              <a:t>مفهوم الأقليم السياحي وتعريف أقليم الشمال.</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فهوم التنمية السياحية وعناصرها وكيفية التغلب على مشاكلها.</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همية وأهداف التخطيط السياحي.</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راحل إعداد خطة التنمية السياحية.</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شكال التنمية السياحية.</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جربة مؤسسة تشجيع الأستثمار.</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نون تشجيع الأستثمار.</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شراكة بين القطاع العام والخاص.</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420840" y="-255600"/>
            <a:ext cx="8242200" cy="1189080"/>
          </a:xfrm>
          <a:prstGeom prst="rect">
            <a:avLst/>
          </a:prstGeom>
          <a:ln w="0">
            <a:noFill/>
          </a:ln>
        </p:spPr>
      </p:pic>
      <p:sp>
        <p:nvSpPr>
          <p:cNvPr id="147" name=""/>
          <p:cNvSpPr txBox="1"/>
          <p:nvPr/>
        </p:nvSpPr>
        <p:spPr>
          <a:xfrm>
            <a:off x="428760" y="499680"/>
            <a:ext cx="8229600" cy="4708440"/>
          </a:xfrm>
          <a:prstGeom prst="rect">
            <a:avLst/>
          </a:prstGeom>
          <a:noFill/>
          <a:ln w="0">
            <a:noFill/>
          </a:ln>
        </p:spPr>
        <p:txBody>
          <a:bodyPr anchor="t">
            <a:normAutofit fontScale="70000"/>
          </a:bodyPr>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وكالة السفر والسياحة: </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هي المكان الذي يقدم خدمات ومعلومات أستشارية وفنية ويعمل التريبات اللازمة للسفر براً أو بحراً أو جواً إلى أي مكان في العالم وكل هذه الخدمات والاستشارات تقدم إلى المواطنين مجاناً بدون مقابل . وخالباً تكون وكالة السياحة والسفر صغيرة وعدد العاملين فيها محدود.</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يمثل وكيل السفر العديد من موردي خدمان السياحية:</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مثل منظمي الرحلات السياحية ، وشركات الطياران ، شركات النقل البحري منشآت الإيواء ، فنادق ،موتيلات ، منتجعات وشركات تنظيم الرحلات والزيارات المحلية وكذلك وكالات إيجار السيارات والمطاعم والأماكن الترفيهية.</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يجب أن يكون وكيل السفر خبيراً في السفر والرحلات المحلية والعالمية ، وأن يتقدم وكيل السفر خدمة مجانية إلى الجمهور فيجب أن يكون على درجة عالية من الكفاءة في مجال عمله وإذا توفر لدى وكيل السفر المختصين أة المستشارين الفنين في مسائل السفر والسياحة فإن العميل يستطيع أن يعتمد على وكيل السفر في المعلومات التي يقدمها له الوكيل ليخطط له الرحلة التي يرغب بها الضيف والتي تتضمن كل شيء ابتداء من وسائل النقل إلى منشآت الإقامة إلى الرحلات الترفيهية إلى الحجوزات الأخرى إلى الملابس التي يأخذها معه وأيضاً الأموال التي تكلفه وكذلك يعطيه معلومات عن درجات الحرارة والعادات والتقليد..ألخ للبلد الذي ينوي الضيف زيارته.</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وفي الدول المتقدمة يكون أعتماد الناس </a:t>
            </a:r>
            <a:r>
              <a:rPr b="1" lang="ar-JO" sz="2100" spc="-1" strike="noStrike">
                <a:solidFill>
                  <a:srgbClr val="ffffff"/>
                </a:solidFill>
                <a:latin typeface="Book Antiqua"/>
              </a:rPr>
              <a:t>90</a:t>
            </a:r>
            <a:r>
              <a:rPr b="1" lang="ar-JO" sz="2100" spc="-1" strike="noStrike">
                <a:solidFill>
                  <a:srgbClr val="ffffff"/>
                </a:solidFill>
                <a:latin typeface="Book Antiqua"/>
              </a:rPr>
              <a:t>% في تنظيم رحلاتهم السياحية أو رحلات الأعمال على وكيل السفر.</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450720" y="30240"/>
            <a:ext cx="8560080" cy="1262160"/>
          </a:xfrm>
          <a:prstGeom prst="rect">
            <a:avLst/>
          </a:prstGeom>
          <a:ln w="0">
            <a:noFill/>
          </a:ln>
        </p:spPr>
      </p:pic>
      <p:sp>
        <p:nvSpPr>
          <p:cNvPr id="149" name=""/>
          <p:cNvSpPr txBox="1"/>
          <p:nvPr/>
        </p:nvSpPr>
        <p:spPr>
          <a:xfrm>
            <a:off x="500040" y="999720"/>
            <a:ext cx="8229600" cy="4708440"/>
          </a:xfrm>
          <a:prstGeom prst="rect">
            <a:avLst/>
          </a:prstGeom>
          <a:noFill/>
          <a:ln w="0">
            <a:noFill/>
          </a:ln>
        </p:spPr>
        <p:txBody>
          <a:bodyPr anchor="t">
            <a:normAutofit fontScale="83000"/>
          </a:bodyPr>
          <a:p>
            <a:pPr marL="454320" indent="-34092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1</a:t>
            </a:r>
            <a:r>
              <a:rPr b="0" lang="ar-JO" sz="2500" spc="-1" strike="noStrike">
                <a:solidFill>
                  <a:srgbClr val="ffffff"/>
                </a:solidFill>
                <a:latin typeface="Book Antiqua"/>
              </a:rPr>
              <a:t>- القدرة على إعداد وترتيب رحلات سياحية منظمة من خلال علاقته بموردي الخدمات السياحية.</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الحصول على الأسعار المناسبة بكافة المستويات لنفس المكان.</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القدرة على الحصول على المعلومات واستخدام المطبوعات والمنشورات السياحية.</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تقديم الاستشارة والنصح بطريقة مخلصة للسائح.</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القدرة على تدبير كافة الخدمات المتعلقة بالبرنامج السياحي في كل أوقات العام.</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أكتساب ثقة العملاء وتحفيزهم على القيام بالرحلات السياحية.</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الوصول إلى شرائح جديدة يمكن أن تكون عملاء محتملين في المستقبل.</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فتح قنوات اتصال متعددة ومتنوعة مع عدة أسواق سياحية ومع موردين متعددين حتى لاتحدث أي مشكلات قد تؤثر على نشاطها.</a:t>
            </a:r>
            <a:endParaRPr b="0" lang="en-US" sz="2500" spc="-1" strike="noStrike">
              <a:solidFill>
                <a:srgbClr val="ffffff"/>
              </a:solidFill>
              <a:latin typeface="Book Antiqua"/>
            </a:endParaRPr>
          </a:p>
          <a:p>
            <a:pPr marL="454320" indent="-34092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0720" y="201600"/>
            <a:ext cx="8242560" cy="1090800"/>
          </a:xfrm>
          <a:prstGeom prst="rect">
            <a:avLst/>
          </a:prstGeom>
          <a:ln w="0">
            <a:noFill/>
          </a:ln>
        </p:spPr>
      </p:pic>
      <p:sp>
        <p:nvSpPr>
          <p:cNvPr id="151" name=""/>
          <p:cNvSpPr txBox="1"/>
          <p:nvPr/>
        </p:nvSpPr>
        <p:spPr>
          <a:xfrm>
            <a:off x="428760" y="999720"/>
            <a:ext cx="8229600" cy="4708440"/>
          </a:xfrm>
          <a:prstGeom prst="rect">
            <a:avLst/>
          </a:prstGeom>
          <a:noFill/>
          <a:ln w="0">
            <a:noFill/>
          </a:ln>
        </p:spPr>
        <p:txBody>
          <a:bodyPr anchor="t">
            <a:normAutofit fontScale="78000"/>
          </a:bodyPr>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كالة السياحة أو شركات السياحة هي عبارة عن منشآت تقوم بتنظيم وتسويق وتنفيذ الرحلات الشاملة كما تقوم بتنفيذ كافة الخدمات الخاصة بالرحلات وهناك شركات ذات تعملات ضخمة </a:t>
            </a:r>
            <a:r>
              <a:rPr b="0" lang="en-US" sz="1700" spc="-1" strike="noStrike">
                <a:solidFill>
                  <a:srgbClr val="ffffff"/>
                </a:solidFill>
                <a:latin typeface="Book Antiqua"/>
              </a:rPr>
              <a:t>Tour Operator</a:t>
            </a:r>
            <a:r>
              <a:rPr b="0" lang="en-US" sz="1700" spc="-1" strike="noStrike">
                <a:solidFill>
                  <a:srgbClr val="ffffff"/>
                </a:solidFill>
                <a:latin typeface="Book Antiqua"/>
              </a:rPr>
              <a:t> </a:t>
            </a:r>
            <a:r>
              <a:rPr b="0" lang="ar-JO" sz="1700" spc="-1" strike="noStrike">
                <a:solidFill>
                  <a:srgbClr val="ffffff"/>
                </a:solidFill>
                <a:latin typeface="Book Antiqua"/>
              </a:rPr>
              <a:t>تصدر كذلك التذاكر السياحية.</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تحتمل الشركات السياحية مسؤلية طبع المنشورات والإعلانات وتوزيع المنشورات الخاصة بالرحلات.</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البرامج السياحية وكذلك تقوم بعمل الحجوزات المتعلقة بالبرامج.</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تقوم أغلب وكلات السياحة أو شركات السياحية إما ببيع البرامج السياحية عن طريق وكالات السفر وفق نسبة محدود من العمولة أو أن تقوم الشركة بنفسها بيع البرامج للجمهور (السائحين المتوقعين) بنفسها وكذلك تقوم بدور وكيل السفر.</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الأعمال التي يقوم بها قسم التسويق والمبيعات:</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    يقوم قسم التسويق والمبيعات بالقيام بدراسة السوق السياحي الموجه إليه هذا البرنامج ويحدد الشرائح التسويقية المستهدفة ويتعرف عل خصائص هذه الشرائح وتحديد الوسائل الدعائية والإعلانية المناسبة (سمعية مرئية ..ألخ) التي يمكن من خلالها الوصول إلى أكبرعدد من الشرائح المستهدفة.</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بعد القيام بالتسويق يبدء نفس القسم بتلقي رغبات الحجز من الأفراد والمجموعات الذين يناسبهم البرنامج السياحي المعد ويبدء قسم المبيعات بعمل الإحصاءات المتعلقة بمبيعات البرنامج السياحي وتقديم الأعداد الفعلية التي قامت بالحجز.</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كما يقوم بتطوير البرامج السياحية الموجودة فعلياً التي لا تواجه نجاح مناسب أو أنها لا تحقق الأهداف التي تم تخطيط لها ويكون ذلك من خلال دراسة البرامج السياحية والتعرف على نقاط القصور الموجودة بالبرنامج وتوجيه المسؤولية عنها وتعديلها.</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القيام بالبحوث لأسواق سياحية جديدة يمكن أن تكون أسواق مستهدفة لغرض فتح أسواق جديدة لتنويع الأسواق السياحية وعدم الأعتماد على سوق محدد قد يؤثر على نشاط الشركة في حالة حدوث أي مشكلات به ويقوم كذلك بإقتراح برامج سياحية جديدة بشرائح مختلفة للأسواق الموجودة فعلياً.</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401760" y="-176040"/>
            <a:ext cx="8291520" cy="1603080"/>
          </a:xfrm>
          <a:prstGeom prst="rect">
            <a:avLst/>
          </a:prstGeom>
          <a:ln w="0">
            <a:noFill/>
          </a:ln>
        </p:spPr>
      </p:pic>
      <p:sp>
        <p:nvSpPr>
          <p:cNvPr id="153" name=""/>
          <p:cNvSpPr txBox="1"/>
          <p:nvPr/>
        </p:nvSpPr>
        <p:spPr>
          <a:xfrm>
            <a:off x="457200" y="1599840"/>
            <a:ext cx="8229600" cy="4708440"/>
          </a:xfrm>
          <a:prstGeom prst="rect">
            <a:avLst/>
          </a:prstGeom>
          <a:noFill/>
          <a:ln w="0">
            <a:noFill/>
          </a:ln>
        </p:spPr>
        <p:txBody>
          <a:bodyPr anchor="t">
            <a:normAutofit fontScale="86000"/>
          </a:bodyPr>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إعداد وتنظيم البرامج السياحية والرحلات الشاملة.</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تسويق البرامج السياحية وإعدادها.</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بيع البرامج والرحلات السياحية.</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تنظيم عملية الحجوزات للخدمات السياحية للبرنامج السياحي.</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تنظيم النقل السياحي بأنواعه.</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تنفيذ البرنامج السياحي من خلال منفذي البرامج السياحية.</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إصدار وثائق التأمين على الرحلة السياحية بكافة أنواعها من خلال وجود وتعاقدات مع شركات التأمين المختلفة.</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إصدار التذاكر السياحية للمسافرين والسائحين.</a:t>
            </a:r>
            <a:endParaRPr b="0" lang="en-US" sz="2800" spc="-1" strike="noStrike">
              <a:solidFill>
                <a:srgbClr val="ffffff"/>
              </a:solidFill>
              <a:latin typeface="Book Antiqua"/>
            </a:endParaRPr>
          </a:p>
          <a:p>
            <a:pPr marL="470880" indent="-3535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493560" y="-19080"/>
            <a:ext cx="8242560" cy="1171440"/>
          </a:xfrm>
          <a:prstGeom prst="rect">
            <a:avLst/>
          </a:prstGeom>
          <a:ln w="0">
            <a:noFill/>
          </a:ln>
        </p:spPr>
      </p:pic>
      <p:sp>
        <p:nvSpPr>
          <p:cNvPr id="155" name=""/>
          <p:cNvSpPr txBox="1"/>
          <p:nvPr/>
        </p:nvSpPr>
        <p:spPr>
          <a:xfrm>
            <a:off x="428760" y="714240"/>
            <a:ext cx="8229600" cy="4708800"/>
          </a:xfrm>
          <a:prstGeom prst="rect">
            <a:avLst/>
          </a:prstGeom>
          <a:noFill/>
          <a:ln w="0">
            <a:noFill/>
          </a:ln>
        </p:spPr>
        <p:txBody>
          <a:bodyPr anchor="t">
            <a:normAutofit fontScale="79000"/>
          </a:bodyPr>
          <a:p>
            <a:pPr marL="432360" indent="-32472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البرنامج السياحي</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عند دراسة لبرنامج السياحي يجب مراعاة تطبيق الأمور المتعلقة بأنواع السياحة وأنماطها حتى يمكن إعداد برنامج سياحي متوافق مع الخصائص والرغبات السابقة استعراضها لشرائح السائحين المستهدفين.</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المراحل التي يمر بها البرنامج السياحي</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      هناك عدة مراحل يمر بها البرنامج السياحي وهي كالآتي:</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وجود برنامج كفكرة.</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الأعداد.</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التسويق.</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تحديد موعد البرنامج السياحي.</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حجز الخدمات السياحية المشتمل عليها البرنامج.</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تنفيذ البرنامج السياحي.</a:t>
            </a:r>
            <a:endParaRPr b="0" lang="en-US" sz="2600" spc="-1" strike="noStrike">
              <a:solidFill>
                <a:srgbClr val="ffffff"/>
              </a:solidFill>
              <a:latin typeface="Book Antiqua"/>
            </a:endParaRPr>
          </a:p>
          <a:p>
            <a:pPr marL="432360" indent="-324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57120" y="214200"/>
            <a:ext cx="8229600" cy="4708800"/>
          </a:xfrm>
          <a:prstGeom prst="rect">
            <a:avLst/>
          </a:prstGeom>
          <a:noFill/>
          <a:ln w="0">
            <a:noFill/>
          </a:ln>
        </p:spPr>
        <p:txBody>
          <a:bodyPr anchor="t">
            <a:normAutofit fontScale="69000"/>
          </a:bodyPr>
          <a:p>
            <a:pPr marL="409320" indent="-315360" algn="r" rtl="1">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جود البرنامج كفكرة:</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جود البرنامج كفكرة هي أولى المراحل التي يمر عليها البرنامج السياحي ولا يعني وجود البرنامج كفكرة أنها فكرة عشوائية وإنما هي فكرة مخطط لها وتم دراستها من قبل قسم التسويق والمبيعات دراسة جيدة والتي تهتم بتطوير البرنامج السياحي وكذلك فتح أسواق سياحية جديدة تمثل رفداً جديداً للطلب السياحي للشركة السياحية.</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كما يتم تقيم البرنامج كفكرة بناءاً على ما يتوفر من معلومات والأهداف المراد تحقيقها من وجود هذا البرنامج.</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إعداد البرنامج:</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   بعد انتقال البرنامج من مرحلة الفكرة يتم في هذه المرحلة العمل على إعداد البرنامج المقترح من قبل معدي البرامج السياحية , فيقوم معدي البرنامج السياحي بإعداد شكل مبدئي للبرنامج السياحي يتم فيه تحديد نقاط أهمها:</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 مدة البرنامج المقترح(عدد الأيام والليالي وتقسيمها على البرنامج ككل).</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سائل الانتقالات المستخدمة في تنفيذ البرنامج.</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سائل الإقامة المستخدمة في تنفيذ البرنامج السياحي وتوزيعها على المناطق التي سيتم زيارتها إن كانت في أكثر من منطقة سياحية داخل الدولة أو البلد.</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تحديد المزارات التي سيتم زيارتها أثناء الرحلة السياحية مع الأخذ بالاعتبار توفر وقت فراغ لتنفيذ زيارات خاصة قد يطلبها السائحون عند شرائهم البرنامج السياحي.</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تحديد سعر البرنامج بشكل مبدئي طبقاً لما تم إعداده سابقاً وأن يكون قابلاً للتعديل وفقاً لما قد يتغير في الأعداد السابق.</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ضع مواعيد مقترحة للبرنامج السياحي.</a:t>
            </a:r>
            <a:endParaRPr b="0" lang="en-US" sz="2000" spc="-1" strike="noStrike">
              <a:solidFill>
                <a:srgbClr val="ffffff"/>
              </a:solidFill>
              <a:latin typeface="Book Antiqua"/>
            </a:endParaRPr>
          </a:p>
          <a:p>
            <a:pPr marL="409320" indent="-315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00040" y="-360"/>
            <a:ext cx="8229600" cy="4708440"/>
          </a:xfrm>
          <a:prstGeom prst="rect">
            <a:avLst/>
          </a:prstGeom>
          <a:noFill/>
          <a:ln w="0">
            <a:noFill/>
          </a:ln>
        </p:spPr>
        <p:txBody>
          <a:bodyPr anchor="t">
            <a:normAutofit fontScale="69000"/>
          </a:bodyPr>
          <a:p>
            <a:pPr marL="409320" indent="-315360" algn="r" rtl="1">
              <a:spcBef>
                <a:spcPts val="425"/>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التسويق:</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وهو من أهم المراحل التي يمر بها البرنامج السياحي حيث يعتبر نقطة فاصلة فإن نجاح التسويق للبرنامج السياحي بشكل عنصراً هاماً بل أساسياً في نجاح البرنامج السياحي.</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فإن نجاح التسويق يعتبر بوابة البرنامج لتحقيق معدل مبيعات جيد يترتب عليه إتخاذ الخطوات الفعلية لتنفيذ البرنامج.</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تحديد موعد البرنامج السياحي:</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بعد نجاح التسويق للبرنامج السياحي فبدء معدي البرنامج السياحي القيام بأولى الخطوات الفعلية لتنفيذ البرنامج وهي تحديد موعد البرنامج السياحي من المواعيد السابق اقتراحها عند إعداد البرنامج السياحي.</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 وبعد تحديد موعد البرنامج من المواعيد السابق اقتراحها يتم الحصول على الموافقة النهائية لموعد تنفيذ البرنامج السياحي من الوكيل السياحي الخارجي أو فرع الشركة في الخارج.</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حجز الخدمات السياحية المشتمل عليها البرنامج:</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بعد مرور البرنامج بالمراحل السابق ذكرها وبعد الموافقة النهائية على الموعد الذي تم تحديده من المواعيد السابق اقتراحها الوكيل الخارجي(</a:t>
            </a:r>
            <a:r>
              <a:rPr b="1" lang="en-US" sz="1700" spc="-1" strike="noStrike">
                <a:solidFill>
                  <a:srgbClr val="ffffff"/>
                </a:solidFill>
                <a:latin typeface="Book Antiqua"/>
              </a:rPr>
              <a:t>Overseas</a:t>
            </a:r>
            <a:r>
              <a:rPr b="1" lang="ar-SA" sz="1700" spc="-1" strike="noStrike">
                <a:solidFill>
                  <a:srgbClr val="ffffff"/>
                </a:solidFill>
                <a:latin typeface="Book Antiqua"/>
              </a:rPr>
              <a:t>) يتم البدء في حجز الخدمات السياحية المشتملة عليها البرنامج.</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يقوم معدي البرامج السياحية </a:t>
            </a:r>
            <a:r>
              <a:rPr b="1" lang="en-US" sz="1700" spc="-1" strike="noStrike">
                <a:solidFill>
                  <a:srgbClr val="ffffff"/>
                </a:solidFill>
                <a:latin typeface="Book Antiqua"/>
              </a:rPr>
              <a:t>Tour Operators</a:t>
            </a:r>
            <a:r>
              <a:rPr b="1" lang="en-US" sz="1700" spc="-1" strike="noStrike">
                <a:solidFill>
                  <a:srgbClr val="ffffff"/>
                </a:solidFill>
                <a:latin typeface="Book Antiqua"/>
              </a:rPr>
              <a:t> </a:t>
            </a:r>
            <a:r>
              <a:rPr b="1" lang="ar-SA" sz="1700" spc="-1" strike="noStrike">
                <a:solidFill>
                  <a:srgbClr val="ffffff"/>
                </a:solidFill>
                <a:latin typeface="Book Antiqua"/>
              </a:rPr>
              <a:t> بعمل الحجوزات المتعلقة بالخدمات السياحية وبذلك يصبح البرنامج جاهز للتنفيذ قبل فترة كافية من موعده تبلغ عدة شهور لأن المراحل السابق شرحها قد تبدأ قبل عام كامل وتستغرق مرحلة حجز الخدمات فترة من الوقت ويصبح البرنامج جاهز قبل حوالي شهرين من موعد التنفيذ.</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تنفيذ البرنامج السياحي:</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تعتبر تلك المرحلة هي المرحلة النهائية للبرنامج السياحي وهي تتويج لكل الخطوات السابق شرحها.</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يقوم منفذي البرنامج السياحي بتنفيذ البرامج السياحية وهم يعتبروا الواجهة الحقيقية للشركة السياحية من خلال تعاملهم مع السائحين أثناء تنفيذ البرنامج السياحي , مع نجاح منفذي البرنامج السياحي في القيام بأعمالهم ورضاء السائحون عن مستوى البرنامج بصفة عامة ومستوى الخدمات المتقدمة أثناء تنفيذ البرنامج بصفة خاصة يكون البرنامج قد انتهى بنجاح.</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20840" y="85680"/>
            <a:ext cx="8265960" cy="1346400"/>
          </a:xfrm>
          <a:prstGeom prst="rect">
            <a:avLst/>
          </a:prstGeom>
          <a:ln w="0">
            <a:noFill/>
          </a:ln>
        </p:spPr>
      </p:pic>
      <p:sp>
        <p:nvSpPr>
          <p:cNvPr id="159" name=""/>
          <p:cNvSpPr txBox="1"/>
          <p:nvPr/>
        </p:nvSpPr>
        <p:spPr>
          <a:xfrm>
            <a:off x="500040" y="1714320"/>
            <a:ext cx="8229600" cy="4708440"/>
          </a:xfrm>
          <a:prstGeom prst="rect">
            <a:avLst/>
          </a:prstGeom>
          <a:noFill/>
          <a:ln w="0">
            <a:noFill/>
          </a:ln>
        </p:spPr>
        <p:txBody>
          <a:bodyPr anchor="t">
            <a:normAutofit fontScale="93000"/>
          </a:bodyPr>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Book Antiqua"/>
              </a:rPr>
              <a:t>هناك العديد من العناصر المكونة للبرنامج السياحي وهي كالآتي:</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ffffff"/>
                </a:solidFill>
                <a:latin typeface="Book Antiqua"/>
              </a:rPr>
              <a:t>الانتقالات </a:t>
            </a:r>
            <a:r>
              <a:rPr b="1" lang="en-US" sz="3500" spc="-1" strike="noStrike">
                <a:solidFill>
                  <a:srgbClr val="ffffff"/>
                </a:solidFill>
                <a:latin typeface="Book Antiqua"/>
              </a:rPr>
              <a:t>Transfers</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 </a:t>
            </a:r>
            <a:r>
              <a:rPr b="1" lang="ar-SA" sz="3500" spc="-1" strike="noStrike">
                <a:solidFill>
                  <a:srgbClr val="ffffff"/>
                </a:solidFill>
                <a:latin typeface="Book Antiqua"/>
              </a:rPr>
              <a:t>الإقامة </a:t>
            </a:r>
            <a:r>
              <a:rPr b="1" lang="en-US" sz="3500" spc="-1" strike="noStrike">
                <a:solidFill>
                  <a:srgbClr val="ffffff"/>
                </a:solidFill>
                <a:latin typeface="Book Antiqua"/>
              </a:rPr>
              <a:t>Accommodation</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ffffff"/>
                </a:solidFill>
                <a:latin typeface="Book Antiqua"/>
              </a:rPr>
              <a:t>المزارات </a:t>
            </a:r>
            <a:r>
              <a:rPr b="1" lang="en-US" sz="3500" spc="-1" strike="noStrike">
                <a:solidFill>
                  <a:srgbClr val="ffffff"/>
                </a:solidFill>
                <a:latin typeface="Book Antiqua"/>
              </a:rPr>
              <a:t>Sight Seeing</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ffffff"/>
                </a:solidFill>
                <a:latin typeface="Book Antiqua"/>
              </a:rPr>
              <a:t>متنوعات </a:t>
            </a:r>
            <a:r>
              <a:rPr b="1" lang="en-US" sz="3500" spc="-1" strike="noStrike">
                <a:solidFill>
                  <a:srgbClr val="ffffff"/>
                </a:solidFill>
                <a:latin typeface="Book Antiqua"/>
              </a:rPr>
              <a:t> </a:t>
            </a:r>
            <a:r>
              <a:rPr b="1" lang="en-US" sz="3500" spc="-1" strike="noStrike">
                <a:solidFill>
                  <a:srgbClr val="ffffff"/>
                </a:solidFill>
                <a:latin typeface="Book Antiqua"/>
              </a:rPr>
              <a:t>Other Items</a:t>
            </a:r>
            <a:endParaRPr b="0" lang="en-US" sz="3500" spc="-1" strike="noStrike">
              <a:solidFill>
                <a:srgbClr val="ffffff"/>
              </a:solidFill>
              <a:latin typeface="Book Antiqua"/>
            </a:endParaRPr>
          </a:p>
          <a:p>
            <a:pPr marL="509040" indent="-38232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Book Antiqua"/>
              </a:rPr>
              <a:t> </a:t>
            </a:r>
            <a:endParaRPr b="0" lang="en-US" sz="3500" spc="-1" strike="noStrike">
              <a:solidFill>
                <a:srgbClr val="ffffff"/>
              </a:solidFill>
              <a:latin typeface="Book Antiqua"/>
            </a:endParaRPr>
          </a:p>
          <a:p>
            <a:pPr marL="509040" indent="-38232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Book Antiqua"/>
              </a:rPr>
              <a:t> </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28760" y="-360"/>
            <a:ext cx="8229600" cy="4708440"/>
          </a:xfrm>
          <a:prstGeom prst="rect">
            <a:avLst/>
          </a:prstGeom>
          <a:noFill/>
          <a:ln w="0">
            <a:noFill/>
          </a:ln>
        </p:spPr>
        <p:txBody>
          <a:bodyPr anchor="t">
            <a:normAutofit fontScale="70000"/>
          </a:bodyPr>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لانتقالات </a:t>
            </a:r>
            <a:r>
              <a:rPr b="1" lang="en-US" sz="1700" spc="-1" strike="noStrike">
                <a:solidFill>
                  <a:srgbClr val="ffffff"/>
                </a:solidFill>
                <a:latin typeface="Book Antiqua"/>
              </a:rPr>
              <a:t>Transfers</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 يقوم بتنفيذها مندوب الشركة ويقوم بالأتي:</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ستقبال السائحين من وسائل النقل السياحي المختلفة وعمل التسكين لهم في الفنادق المختلفة التصنيف وتوديعهم عند انتهاء لبرنامج السياحي وانتقالهم إلى المطار.</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مابين المرحلتين السابقتين يكون دور المرشد السياحي بتنفيذ وتنظيم جميع بنود البرنامج السياحي من المزارات وكل ما يحتوي عليه البرنامج السياحي.</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لإقامة </a:t>
            </a:r>
            <a:r>
              <a:rPr b="1" lang="en-US" sz="1700" spc="-1" strike="noStrike">
                <a:solidFill>
                  <a:srgbClr val="ffffff"/>
                </a:solidFill>
                <a:latin typeface="Book Antiqua"/>
              </a:rPr>
              <a:t>Accommodation</a:t>
            </a:r>
            <a:r>
              <a:rPr b="1" lang="en-US" sz="1700" spc="-1" strike="noStrike">
                <a:solidFill>
                  <a:srgbClr val="ffffff"/>
                </a:solidFill>
                <a:latin typeface="Book Antiqua"/>
              </a:rPr>
              <a:t>  </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تشمل الأقامة كافة وسائل الإقامة المستخدمة منذ بداية البرنامج السياحي وحتى انتهاء سواءً فنادق ، موتيلات ، فنادق عائمة ، شقق مفروشة....ألخ.</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يقوم بعمل الحجز الخاص بالإقامة معدي البرنامج السياحي.</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لمزارات السياحية </a:t>
            </a:r>
            <a:r>
              <a:rPr b="1" lang="en-US" sz="1700" spc="-1" strike="noStrike">
                <a:solidFill>
                  <a:srgbClr val="ffffff"/>
                </a:solidFill>
                <a:latin typeface="Book Antiqua"/>
              </a:rPr>
              <a:t>Sight Seeing</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لمزارات السياحية هي كل المواقع السياحية التي يتم الإنفاق عليها على زيارتها داخل البرنامج يقوم بعمل الحجز الخاص بالمزارات المرشد السياحي حيث عادة يكون الحجز في وقت تنفيذ الزيارات في حالة أن تكون الزيارات ذات طبيعة خاصة يستلزم ذلك الحجز المسبق ويقوم بالحاجز معدي البرامج                    </a:t>
            </a:r>
            <a:r>
              <a:rPr b="1" lang="en-US" sz="1700" spc="-1" strike="noStrike">
                <a:solidFill>
                  <a:srgbClr val="ffffff"/>
                </a:solidFill>
                <a:latin typeface="Book Antiqua"/>
              </a:rPr>
              <a:t>Tour Operator</a:t>
            </a:r>
            <a:r>
              <a:rPr b="1" lang="ar-SA" sz="1700" spc="-1" strike="noStrike">
                <a:solidFill>
                  <a:srgbClr val="ffffff"/>
                </a:solidFill>
                <a:latin typeface="Book Antiqua"/>
              </a:rPr>
              <a:t>.</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متنوعات </a:t>
            </a:r>
            <a:r>
              <a:rPr b="1" lang="en-US" sz="1700" spc="-1" strike="noStrike">
                <a:solidFill>
                  <a:srgbClr val="ffffff"/>
                </a:solidFill>
                <a:latin typeface="Book Antiqua"/>
              </a:rPr>
              <a:t>Other Items</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 تشمل المتنوعات كل ما قد يتم إضافته إلى البرنامج السياحي سواء قبل تنفيذه مباشرة أو ما قد يستجد داخل البرنامج السياحي في أثناء التنفيذ البرنامج السياحي حتى يمكن تدارك ما قد يستجد من مصروفات متنوعة أثناء تنفيذ البرنامج السياحي يمكن تحصيله فيما بعد.</a:t>
            </a:r>
            <a:endParaRPr b="0" lang="en-US" sz="1700" spc="-1" strike="noStrike">
              <a:solidFill>
                <a:srgbClr val="ffffff"/>
              </a:solidFill>
              <a:latin typeface="Book Antiqua"/>
            </a:endParaRPr>
          </a:p>
          <a:p>
            <a:pPr lvl="2" marL="693360" indent="61920" algn="r" rtl="1">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ويمكن الحديث  أن نشاط مكاتب السياحية (وكيل السياحة) في تسويق المنتجات السياحية يؤدي إلى الزيادة بالتنمية السياحية في أقليم الشمال ويعتمد ذلك على قدرة مكاتب السياحة والسفر على ترويج المنتجات والمواقع السياحية داخل الأقليم مما يعطي ذلك إلى لفت أنظار المسثمرين الأردنيين وغير الأردنيين مما يساعد تشجيعهم على الأستثمار دالخل الأقليم بشكل خاص وداخل الأردن بشكل عام.</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Title 1" descr=""/>
          <p:cNvPicPr/>
          <p:nvPr/>
        </p:nvPicPr>
        <p:blipFill>
          <a:blip r:embed="rId1"/>
          <a:stretch/>
        </p:blipFill>
        <p:spPr>
          <a:xfrm>
            <a:off x="420840" y="-176040"/>
            <a:ext cx="8242200" cy="1328400"/>
          </a:xfrm>
          <a:prstGeom prst="rect">
            <a:avLst/>
          </a:prstGeom>
          <a:ln w="0">
            <a:noFill/>
          </a:ln>
        </p:spPr>
      </p:pic>
      <p:sp>
        <p:nvSpPr>
          <p:cNvPr id="162" name=""/>
          <p:cNvSpPr txBox="1"/>
          <p:nvPr/>
        </p:nvSpPr>
        <p:spPr>
          <a:xfrm>
            <a:off x="428760" y="856800"/>
            <a:ext cx="8229600" cy="4708440"/>
          </a:xfrm>
          <a:prstGeom prst="rect">
            <a:avLst/>
          </a:prstGeom>
          <a:noFill/>
          <a:ln w="0">
            <a:noFill/>
          </a:ln>
        </p:spPr>
        <p:txBody>
          <a:bodyPr anchor="t">
            <a:normAutofit fontScale="77000"/>
          </a:bodyPr>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Book Antiqua"/>
              </a:rPr>
              <a:t>من خلال استعراض الدراسة السابقة يتوصل الباحث الى الاستنتاجات التالية:</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Book Antiqua"/>
              </a:rPr>
              <a:t>- </a:t>
            </a:r>
            <a:r>
              <a:rPr b="0" lang="ar-SA" sz="2200" spc="-1" strike="noStrike">
                <a:solidFill>
                  <a:srgbClr val="ffffff"/>
                </a:solidFill>
                <a:latin typeface="Book Antiqua"/>
              </a:rPr>
              <a:t>تبين الدراسة ان السياحة التاريخية الأثرية هي التي تجذب السائح، حيث تنتشر مدينة جرش الأثرية وأم قيس وطبقة فحل وقلعة عجلون، وهي تشكل عامل جذب لهؤلاء السياح الى اقليم الشمال من خلال المكاتب السياحية.</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 </a:t>
            </a:r>
            <a:r>
              <a:rPr b="0" lang="ar-JO" sz="2200" spc="-1" strike="noStrike">
                <a:solidFill>
                  <a:srgbClr val="ffffff"/>
                </a:solidFill>
                <a:latin typeface="Book Antiqua"/>
              </a:rPr>
              <a:t>تشير الدراسة الى مدى الاهتمام بواقع السياحة في إقليم الشمال، واهتمام المكاتب السياحية بوضع هذا الاقليم على جدوله السياحي، نظراً لتزايد الطلب عليه من قبل السياح.</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Book Antiqua"/>
              </a:rPr>
              <a:t>- </a:t>
            </a:r>
            <a:r>
              <a:rPr b="0" lang="ar-SA" sz="2200" spc="-1" strike="noStrike">
                <a:solidFill>
                  <a:srgbClr val="ffffff"/>
                </a:solidFill>
                <a:latin typeface="Book Antiqua"/>
              </a:rPr>
              <a:t>بينت الدراسة أن توفر بنية تحتية متطورة يساعد على تشجيع الجذب السياحي داخل اقليم الشمال.</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 -  لا يوجد اهتمام كافٍ بالسياحة الداخلية في إقليم الشمال، ولكن على الجانب الآخر يوجد في الأقاليم الأخرى كإقليم الوسط وإقليم الجنوب خدمات سياحية أفضل من الخدمات الموجودة في إقليم الشمال، مما يستعدي القيام بإيلاء هذا الاقليم نصيبه من الاهتمام الحكومي.</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 هناك نقص في توافر الخدمات الفندقية المناسبة في إقليم الشمال، وكذلك توافر خدمات سياحية بجودة عالية وذات أسعار منافسة داخل الأقليم، بالاضافة الى ضعف خدمات البنية التحتية في المواقع السياحية في إقليم الشمال.</a:t>
            </a:r>
            <a:endParaRPr b="0" lang="en-US" sz="2200" spc="-1" strike="noStrike">
              <a:solidFill>
                <a:srgbClr val="ffffff"/>
              </a:solidFill>
              <a:latin typeface="Book Antiqua"/>
            </a:endParaRPr>
          </a:p>
          <a:p>
            <a:pPr marL="421560" indent="-3164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Book Antiqua"/>
              </a:rPr>
              <a:t> </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714240" y="-705240"/>
            <a:ext cx="8001000" cy="704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Calibri"/>
              </a:rPr>
              <a:t>أهمية البحث:</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Calibri"/>
              </a:rPr>
              <a:t>       تكمن أهمية البحث في تزايد الاهتمام العالمي بالتنمية السياحية بكافة مستويته وأشكاله ويعتمد أيضا بالتقدم السياحي في المنطقة وتماشيه  مع التطور السياحي في العالم وتقدمه في الأردن ويأتي أهميته أيضا بقلة  المنشئات السياحية (المطاعم والفنادق)  وبذلك تتصف التنمية السياحية بتدعيم التقدم في مجال تقديم المنتجات السياحية المتنوعة داخل  الأقليم ، مما يحتم علينا من تطوير في أشكال تشجيع الاستثمار في السياحي  للمنتجات السياحية الموجودة داخل الاقليم الذي يتناسب مع التنمية بشكل ايجابي ، ويؤدي ذلك إلى الزيادة في التقدم من قبل الحكومة بتشجيع الأستثمار في الأقليم لزيادة في الدخل القومي الاردني وذلك من خلال توفر أيدي عاملة كفوءة في مجال السياحة داخل الأردن  ، ويكمن أيضا أهمية التنمية بتقسي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Calibri"/>
              </a:rPr>
              <a:t>الأردن إلى أقاليم سياحية وتقديم الخدمات وتطويرها بشكل مركز لتقدم بمجال  السياحة في الأقاليم مما يؤدي للوصول الى صيغة تهدف إلى تطوير السياح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Title 1" descr=""/>
          <p:cNvPicPr/>
          <p:nvPr/>
        </p:nvPicPr>
        <p:blipFill>
          <a:blip r:embed="rId1"/>
          <a:stretch/>
        </p:blipFill>
        <p:spPr>
          <a:xfrm>
            <a:off x="493560" y="-6480"/>
            <a:ext cx="8242560" cy="1158840"/>
          </a:xfrm>
          <a:prstGeom prst="rect">
            <a:avLst/>
          </a:prstGeom>
          <a:ln w="0">
            <a:noFill/>
          </a:ln>
        </p:spPr>
      </p:pic>
      <p:sp>
        <p:nvSpPr>
          <p:cNvPr id="164" name=""/>
          <p:cNvSpPr txBox="1"/>
          <p:nvPr/>
        </p:nvSpPr>
        <p:spPr>
          <a:xfrm>
            <a:off x="428760" y="999720"/>
            <a:ext cx="8229600" cy="4708440"/>
          </a:xfrm>
          <a:prstGeom prst="rect">
            <a:avLst/>
          </a:prstGeom>
          <a:noFill/>
          <a:ln w="0">
            <a:noFill/>
          </a:ln>
        </p:spPr>
        <p:txBody>
          <a:bodyPr anchor="t">
            <a:normAutofit fontScale="81000"/>
          </a:bodyPr>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من خلال الاستنتاجات السابقة يوصي الباحث بالتالي:</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 ضرورة الاهتمام بالمواقع الاثرية والتاريخية من خلال الترويج السياحي لها عبر مختلف وسائل الاعلام ، بما يشجع السياحة الداخلية وأستقطاب السياح القادمة ، وذلك جنباً الى جنب مع الاهتمام بالمواقع الدينية والعلاجية في إقليم الشمال مثل المساجد القديمة والكنائس والحمة الأردنية.</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 زيادة الاهتمام بادراج اقليم الشمال ومختلف مواقعه الاثرية والتاريخية والدينية والعلاجية على جدول رحلات المكاتب السياحية الى اقليم الشمال، وذلك بما يوفر تغطية لمثل هذه المواقع، ويعود بالنفع على السياحة الداخلية وزيادة العوائد المتحققة.</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 العمل على توفير الخدمات الفندقية المناسبة في إقليم الشمال من خلال زيادة عدد الغرف الفندقية، وتوفير مستلزمات السياح واحتياجاتهم بما يضمن لهم الاقامة في اقليم الشمال والانتقال الى مختلف المواقع الاثرية والسياحية بيسر وسهولة، مع ضرورة الاهتمام بتحسين جودة الخدمات السياحية ، ليتم العمل على النهوض بالتنمية السياحية في إقليم الشمال. </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0" y="-197640"/>
            <a:ext cx="9144000" cy="6489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Calibri"/>
              </a:rPr>
              <a:t>محددات البحث:</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ea typeface="Calibri"/>
              </a:rPr>
              <a:t>         يشتمل البحث على التنمية السياحية في أقليم الشمال في المدن التالية(اربد,عجلون,جرش).</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فرضيات البحث</a:t>
            </a:r>
            <a:r>
              <a:rPr b="0" lang="ar-SA" sz="3000" spc="-1" strike="noStrike">
                <a:solidFill>
                  <a:srgbClr val="ffffff"/>
                </a:solidFill>
                <a:latin typeface="Arial"/>
              </a:rPr>
              <a:t>:</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1</a:t>
            </a:r>
            <a:r>
              <a:rPr b="0" lang="ar-SA" sz="3000" spc="-1" strike="noStrike">
                <a:solidFill>
                  <a:srgbClr val="ffffff"/>
                </a:solidFill>
                <a:latin typeface="Arial"/>
              </a:rPr>
              <a:t>- هناك علاقة ذات دلالة ايجابية بين نشاط الذي يقدمه مكاتب السياحة والسفر وبين التنمية السياحية داخل أقليم الشمال.</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2</a:t>
            </a:r>
            <a:r>
              <a:rPr b="0" lang="ar-SA" sz="3000" spc="-1" strike="noStrike">
                <a:solidFill>
                  <a:srgbClr val="ffffff"/>
                </a:solidFill>
                <a:latin typeface="Arial"/>
              </a:rPr>
              <a:t>- هناك علاقة ذات دلالة ايجابية بين الدور الذي يقدمه القطاع العام ومؤسسة تشجيع الاستثمار الاردنية من تطوير السياحة  وبين التنمية السياحية.</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0" y="-18504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منهج البح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Calibri"/>
              </a:rPr>
              <a:t>               توضيحاً لتحقيق أهداف البحث فقد اعتمدنا على المنهج الوصفي التحليلي لأهم ما ورد في الكتب والمراجع العربية والأجنبية والدوريات  والتقارير الرسمية المتعلقة بالبحث وسوف نقوم بجمع البينات من المكاتب السياحية المختصة بترويج المنتاجات السياحية لأقليم الشمال  وذلك لمعرفة كيفية توجيه حركة السياح القاديمين من داخل و خارج الاردن إلى أقليم الشمال من خلال مسح ميداني يشتمل على عينة عددها (</a:t>
            </a:r>
            <a:r>
              <a:rPr b="0" lang="ar-SA" sz="2800" spc="-1" strike="noStrike">
                <a:solidFill>
                  <a:srgbClr val="ffffff"/>
                </a:solidFill>
                <a:latin typeface="Arial"/>
                <a:ea typeface="Calibri"/>
              </a:rPr>
              <a:t>56</a:t>
            </a:r>
            <a:r>
              <a:rPr b="0" lang="ar-SA" sz="2800" spc="-1" strike="noStrike">
                <a:solidFill>
                  <a:srgbClr val="ffffff"/>
                </a:solidFill>
                <a:latin typeface="Arial"/>
                <a:ea typeface="Calibri"/>
              </a:rPr>
              <a:t>) وبأستخدام برنامج </a:t>
            </a:r>
            <a:r>
              <a:rPr b="0" lang="en-US" sz="2800" spc="-1" strike="noStrike">
                <a:solidFill>
                  <a:srgbClr val="ffffff"/>
                </a:solidFill>
                <a:latin typeface="Arial"/>
                <a:ea typeface="Calibri"/>
              </a:rPr>
              <a:t>             (</a:t>
            </a:r>
            <a:r>
              <a:rPr b="0" lang="en-US" sz="2800" spc="-1" strike="noStrike">
                <a:solidFill>
                  <a:srgbClr val="ffffff"/>
                </a:solidFill>
                <a:latin typeface="Arial"/>
                <a:ea typeface="Calibri"/>
              </a:rPr>
              <a:t>Statistical Package For Social sciences</a:t>
            </a:r>
            <a:r>
              <a:rPr b="0" lang="en-US" sz="2800" spc="-1" strike="noStrike">
                <a:solidFill>
                  <a:srgbClr val="ffffff"/>
                </a:solidFill>
                <a:latin typeface="Arial"/>
                <a:ea typeface="Calibri"/>
              </a:rPr>
              <a:t>) </a:t>
            </a:r>
            <a:r>
              <a:rPr b="0" lang="ar-SA" sz="2800" spc="-1" strike="noStrike">
                <a:solidFill>
                  <a:srgbClr val="ffffff"/>
                </a:solidFill>
                <a:latin typeface="Arial"/>
                <a:cs typeface="Calibri"/>
              </a:rPr>
              <a:t>وذلك لتعزيز النتائج المستخلص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تم الرجوع لتعزيز معلومات هذه الدراسة إلى مصادر رئيسية  وثانوية , بالإضافة إلى شبكات  الانترنت , كذلك من خلال توزيع استبانه على عينة من مكاتب السياحة والسفر المحلية للتعرف من خلالهم على واقع الحال بالنسبة للسياحة المحلية والخارجية في الأرد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142920" y="-886320"/>
            <a:ext cx="9001080" cy="7774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Calibri"/>
              </a:rPr>
              <a:t>   </a:t>
            </a:r>
            <a:r>
              <a:rPr b="1" lang="ar-JO" sz="2400" spc="-1" strike="noStrike">
                <a:solidFill>
                  <a:srgbClr val="ffffff"/>
                </a:solidFill>
                <a:latin typeface="Arial"/>
                <a:cs typeface="Calibri"/>
              </a:rPr>
              <a:t>مفهوم الأقليم السياحي </a:t>
            </a:r>
            <a:r>
              <a:rPr b="1" lang="en-US" sz="2400" spc="-1" strike="noStrike">
                <a:solidFill>
                  <a:srgbClr val="ffffff"/>
                </a:solidFill>
                <a:latin typeface="Arial"/>
                <a:ea typeface="Calibri"/>
              </a:rPr>
              <a:t>The Concept Region</a:t>
            </a:r>
            <a:r>
              <a:rPr b="1" lang="ar-JO" sz="2400" spc="-1" strike="noStrike">
                <a:solidFill>
                  <a:srgbClr val="ffffff"/>
                </a:solidFill>
                <a:latin typeface="Arial"/>
                <a:ea typeface="Calibri"/>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يتصف المفهوم الأقليم السياحي بخصائص تميزه عن الأقليم الأخرى ومن هنا يمكن تعريف الأقليم السياحي بأن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رقعة الجغرافية التي يتواجد فيها منتج سياحي مميز أو خليط معقد من المنتجات السياحية لاشباع رغبات وحاجات السياح".</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ويمكن الأستفادة من هذا التعريف للتنمية والتطوير السياحي من خلال الأمور الآتية:</a:t>
            </a:r>
            <a:endParaRPr b="0" lang="en-US" sz="24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حديد مفهوم الأقلمة السياحية يفيد الباحث بتصور الشمولي لرقعة الجغرافية الذي يتواجد بها عالمياً.فالأقليم يمكن أن ينظر اليه بمثابة علامة تجارية يدلل على نوع المنطقة الجغرافية الذي يتواجد فيها مما يساعد المسوقين والمخططين في رسم المعالم الأساسية له.</a:t>
            </a:r>
            <a:endParaRPr b="0" lang="en-US" sz="24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رفة طبيعة الأقليم يسهل على شخص رسم التصور والمعرفة للمنطقة التي يقوم بزيرتها.</a:t>
            </a:r>
            <a:endParaRPr b="0" lang="en-US" sz="24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عملية التوقع المستقبلي أكثر صعوبة اذا ما أذنا أجزاء المنطقة للتعريف بأهميتها وخصائصها من وجهة نظر المستقبل السياح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و أن مفهوم الأقلمة يساعد على رسم الخطوط العامة لأهمية المظاهر الجغرافية وتطبيقاتها ضمن مفهوم الأقلمة السياحية وذلك بوجود بعض المظاهر والصفات التي تعكس بعض منتجات السياحية فإن جميع المناطق التي لها منتج سياحي مميز يمكن ان يشكل بمجموعها أقليم سياحي. الا ان هذه الفكرة قد انتقدت من قبل العديد من كتاب علم السياح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142920" y="-209160"/>
            <a:ext cx="9001080" cy="740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ffffff"/>
                </a:solidFill>
                <a:latin typeface="Arial"/>
                <a:ea typeface="Calibri"/>
              </a:rPr>
              <a:t> فمثلاً يشير </a:t>
            </a:r>
            <a:r>
              <a:rPr b="1" lang="en-US" sz="3000" spc="-1" strike="noStrike">
                <a:solidFill>
                  <a:srgbClr val="ffffff"/>
                </a:solidFill>
                <a:latin typeface="Arial"/>
                <a:ea typeface="Calibri"/>
              </a:rPr>
              <a:t>Gunn</a:t>
            </a:r>
            <a:r>
              <a:rPr b="1" lang="ar-JO" sz="3000" spc="-1" strike="noStrike">
                <a:solidFill>
                  <a:srgbClr val="ffffff"/>
                </a:solidFill>
                <a:latin typeface="Arial"/>
                <a:ea typeface="Calibri"/>
              </a:rPr>
              <a:t> بأن للاقليم السياحي مميزات وعوامل لابد من توفرها وهي كالآتي:</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الموقع حيث لابد من ان يكون الاقليم السياحي قريباً بعض الشيء عن مناطق وجود الطلب السياحي الكامن والحقيقي.</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لابد من وجود درجة كافية من الانفتاح للسوق السياحي لذلك البلد.</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لابد من ان ينظر إليه بشكل يؤمن احتيجات ورغبات الطلب السياحي الحقيقي والكامن.</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أن يكون له حصائص وصفات اقتصادية وأجتماعية ملائمة ويمتاز بتوفر بنية تحتية كافية للتطور السياحي المتوفر ضمن الخطة السياحية الشاملة للبلد.</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يمتاز بمساحة كافية لاحتواء الطلب السياحي المتزايد لنوع المنتاجات المتوفرة فيه و بذلك قد لايستطيع احتواء العديد من الاقاليم العدد الكبير من السياح وذلك لاتستطيع من توفير الخدمات والتسهيلات لعدد كبير من السياح.</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16:23:50Z</dcterms:created>
  <dc:creator>Dell</dc:creator>
  <dc:description/>
  <dc:language>en-US</dc:language>
  <cp:lastModifiedBy>Dell</cp:lastModifiedBy>
  <dcterms:modified xsi:type="dcterms:W3CDTF">2010-05-29T13:31:53Z</dcterms:modified>
  <cp:revision>19</cp:revision>
  <dc:subject/>
  <dc:title>Slide 1</dc:title>
</cp:coreProperties>
</file>