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4F32-2F3A-44E5-8D56-517B6B01D169}" type="slidenum">
              <a:rPr b="0" i="1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A483-FB78-4C5B-BB8D-FD99A9302F45}" type="slidenum">
              <a:rPr b="0" i="1" lang="en-CA" sz="1000" spc="-1" strike="noStrike">
                <a:solidFill>
                  <a:srgbClr val="cc00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395F-178E-4783-A3D3-0CF6650E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1C1-A6CC-4FF5-BD47-B3BE1752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5A6-A259-4C03-A6F6-4A9C168E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A23-4A25-4801-8F58-A5147C8F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C4DC-2033-41DD-90FD-2BFB1488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5A41-1EF3-410A-8FBF-CEB186E1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B663-2471-4208-A273-A50B7E48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DADC-4C44-49C0-83C0-3C144939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41CF-74C8-4EAE-A986-DE42214E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8BF7-4FEF-45A7-80AA-9FDBDC13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C173-4A09-4CF3-9282-F1A50BB7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39E-536F-41B0-AFC5-20FBE478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8912-C7E9-4212-8B01-FD7B53BD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343D-4CBE-408B-8097-89815781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D32A-BC20-4318-A301-E8641DF1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671D-AB53-4393-AA7E-B0C86467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3A10-B90F-4B89-9AB9-1BA21DA2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2E8-6642-451F-A32C-85DF534D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85F-243B-456A-AD45-B6944842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F4C-158C-4B9C-8FBC-350AC54D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78A-2AC9-49E7-8F41-B73BC884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C23-182D-48B3-B594-3B9A3957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70C1-68B9-4C63-BA2A-74B63AA5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EA0-E4D3-4B7B-9F14-370AFC0F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353680" y="2743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A318-4D91-44BA-945A-34177B9958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73C0-B915-48A9-B4D3-6181DD27B7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opyright © 1999 Harcourt Brace &amp; Company Canada, Ltd.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Chapter 4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Human Resource Plann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Fourth Edi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عنصر نائب للتذييل 4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9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Forecasting Future Human Resource Nee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1993680"/>
            <a:ext cx="7747200" cy="408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Planning for the status quo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Rules of thumb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Unit forecasting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The Delphi method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Scenario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Computer simulation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0" y="1447920"/>
            <a:ext cx="9142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عنصر نائب للتذييل 4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10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Five Steps in the Delphi Method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432640" cy="51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CA" sz="2600" spc="-1" strike="noStrike">
                <a:solidFill>
                  <a:srgbClr val="ffffff"/>
                </a:solidFill>
                <a:latin typeface="Tahoma"/>
              </a:rPr>
              <a:t>An issue, question, or problem is identified.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ahoma"/>
              </a:rPr>
              <a:t>2. A small group or panel of ten or fewer experts is identified.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ahoma"/>
              </a:rPr>
              <a:t>3. Independent judgements about the issue are obtained from each expert through a questionnaire or structured interview.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ahoma"/>
              </a:rPr>
              <a:t>4. An intermediary or facilitator collects, analyzes, and feeds back information from the first questionnaire or interview to each expert.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ahoma"/>
              </a:rPr>
              <a:t>5. Steps 3 and 4 are repeated until there is a consensus on the issue or problem.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39600" y="1066680"/>
            <a:ext cx="9066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عنصر نائب للتذييل 4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11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Sample Questions from a Unit Forecasting Questionnair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7840" y="1777680"/>
            <a:ext cx="8966160" cy="50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ahoma"/>
              </a:rPr>
              <a:t>List any jobs that have changed since the last forecasting period and any that will change in the next forecasting period.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ahoma"/>
              </a:rPr>
              <a:t>If vacancy can be filled with present employees, note whether training will be required.  Specify nature of training needs.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ahoma"/>
              </a:rPr>
              <a:t>What percentage of  employees are performing jobs up to standard?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ahoma"/>
              </a:rPr>
              <a:t>How many employees will be absent in the next forecasting period because of disability, educational, or other leaves?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0" y="1676520"/>
            <a:ext cx="922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عنصر نائب للتذييل 4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12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Planning for Anticipated Shortag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8400" y="1993680"/>
            <a:ext cx="7747200" cy="408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Transfer employees to jobs in which shortages exis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Train employees to move up to jobs in which shortages exis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Have employees work overtim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Increase employee productiv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Hire part-time employe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0" y="1600200"/>
            <a:ext cx="9142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عنصر نائب للتذييل 4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13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Planning for Anticipated Shortages 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(cont’d.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98400" y="1993680"/>
            <a:ext cx="7747200" cy="408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Tahoma"/>
              </a:rPr>
              <a:t>Hire temporary full-time employees</a:t>
            </a: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Tahoma"/>
              </a:rPr>
              <a:t>Hire permanent full-time employees</a:t>
            </a: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Tahoma"/>
              </a:rPr>
              <a:t>Subcontract work to other firms</a:t>
            </a: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Tahoma"/>
              </a:rPr>
              <a:t>Forgo increases in production</a:t>
            </a: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Tahoma"/>
              </a:rPr>
              <a:t>Install equipment to perform some of the tasks that would be done by workers (capital substitution)</a:t>
            </a: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0" y="1600200"/>
            <a:ext cx="9142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ذييل 4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14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25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Ways to Increase Employee Productivity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432640" cy="44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Offer monetary incentives, e.g. bonuses, for higher productivity or performance leve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Improve employees’ job skills to produce more in less time or at lower cos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Re-design work processes and methods so greater outputs are achiev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Use more efficient equipment so greater outputs are achiev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76320" y="1447920"/>
            <a:ext cx="9142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عنصر نائب للتذييل 4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15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7040" y="304920"/>
            <a:ext cx="58294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Planning for Anticipated Labour Surplus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2576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ahoma"/>
              </a:rPr>
              <a:t>Close plants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ahoma"/>
              </a:rPr>
              <a:t>Lay off some workers permanently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ahoma"/>
              </a:rPr>
              <a:t>Give incentives for early retirement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ahoma"/>
              </a:rPr>
              <a:t>Let the workforce shrink by attrition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ahoma"/>
              </a:rPr>
              <a:t>Retrain and transfer workers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ahoma"/>
              </a:rPr>
              <a:t>Shut down plants (or parts of them) temporarily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ahoma"/>
              </a:rPr>
              <a:t>Lay off workers temporarily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ahoma"/>
              </a:rPr>
              <a:t>Reduce the work week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ahoma"/>
              </a:rPr>
              <a:t>Use work sharing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ahoma"/>
              </a:rPr>
              <a:t>Cut or freeze pay and/or benefits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77760" y="914400"/>
            <a:ext cx="9142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عنصر نائب للتذييل 4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16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0662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Evaluating Alternatives to the Problem of Labour Shortages</a:t>
            </a:r>
            <a:br>
              <a:rPr sz="3600"/>
            </a:b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or Surplus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98400" y="1765440"/>
            <a:ext cx="774720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Determine size of the anticipated shortages or surplus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Determine the expected duration of the change in the demand for human resour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Determine the amount of lead time before shortages or surpluses occu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76320" y="1447920"/>
            <a:ext cx="9142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عنصر نائب للتذييل 4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17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Information Needed to Identify Appropriate Ways to Deal with Labour Surplus/Shortag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7520" y="1765440"/>
            <a:ext cx="882648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Financial and human costs and benefi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Effects on other organizational compone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Length of time to implement the alternatives and generate desired resul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robability of success in reducing the shortage or surpl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58680" y="1523880"/>
            <a:ext cx="918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عنصر نائب للتذييل 4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18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Programs for Human Resource Planning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2006280"/>
            <a:ext cx="9144000" cy="41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Tahoma"/>
              </a:rPr>
              <a:t>Linear programming, e.g. to minimize total labour costs within certain constraints</a:t>
            </a: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Tahoma"/>
              </a:rPr>
              <a:t>Goal programming, e.g. setting multiple goals such as increasing profits by 10% and hiring bilingual salespeople  </a:t>
            </a: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Tahoma"/>
              </a:rPr>
              <a:t>Computer simulation, e.g. to examine the effects of various programs to reduce surpluses or shortages</a:t>
            </a: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95400" y="1219320"/>
            <a:ext cx="910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عنصر نائب للتذييل 4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1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96" name="عنصر نائب لرقم الشريحة 5"/>
          <p:cNvSpPr/>
          <p:nvPr/>
        </p:nvSpPr>
        <p:spPr>
          <a:xfrm>
            <a:off x="11353680" y="2743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6E52-C7F5-4795-B4BC-E2CAE2F3DA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Chapter Overview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08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The need for human resource plann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urposes of human resource plann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Relation to other human resource fun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The human resource planning proc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rojecting human resource supp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عنصر نائب للتذييل 4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19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HRM Auditing Model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2006640"/>
            <a:ext cx="914400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Strategic-Level HRM — determines the effectiveness of HRM functions in the overall strategic plan of the organiz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Managerial-Level HRM — determines effectiveness of HRM functions within departments and unit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Operational-Level HRM — determines the effectiveness of HRM functions throughout the organiz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76320" y="990720"/>
            <a:ext cx="9142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لتذييل 4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20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Reasons for Conducting HRM Audi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When labour costs are  large or the largest component of total product or service cost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The personnel audit is used to justify the existence of budgets of staff and program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The personnel audit provides valuable feedback from employees and line manag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The personnel audit may uncover problems such as unqualified HRM staff, lack of HRM  policy compliance, or low employee satisfac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0" y="990720"/>
            <a:ext cx="9182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عنصر نائب للتذييل 4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2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25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Chapter Overview 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(cont’d.)</a:t>
            </a:r>
            <a:br>
              <a:rPr sz="3600"/>
            </a:b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4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Forecasting future human resource nee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Comparing forecast needs with projected supp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lanning policies and program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Evaluating human resource planning effectiven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The HRM audit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صر نائب للتذييل 4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3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58676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Purposes of Human Resource Planning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720" y="2450880"/>
            <a:ext cx="7670880" cy="271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Setting goals and objective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Examining the effects of alternative human resource policies and program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0" y="1676520"/>
            <a:ext cx="9142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عنصر نائب للتذييل 4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4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Examples of Organizational Goal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993680"/>
            <a:ext cx="9144000" cy="408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To increase company profits by 10% in the next fiscal year (profitability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To close 25 retail outlets in the next four years (downsizing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To bottle 10% more diet pop in the next year (production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To guarantee one-day delivery of all first-class mail within the province by 2001 (service level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0" y="1676520"/>
            <a:ext cx="9142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عنصر نائب للتذييل 4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5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The Human Resource Planning Proces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765440"/>
            <a:ext cx="9144000" cy="4394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roject future human resource supp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Forecast future human resource nee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Compare forecast needs with projected supp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lan policies and programs to meet human resource nee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Evaluate human resource planning effectiven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39600" y="1447920"/>
            <a:ext cx="9066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عنصر نائب للتذييل 4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6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5715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Projecting Human Resource Supply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917360"/>
            <a:ext cx="7925040" cy="378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Assessment of current supply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Skills inventorie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Analysis of human resource flow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Stochastic model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0" y="1447920"/>
            <a:ext cx="9142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صر نائب للتذييل 3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7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Examples of Human Resource Flow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0" y="1447920"/>
            <a:ext cx="910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1828800"/>
            <a:ext cx="8559720" cy="42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Times New Roman"/>
              </a:rPr>
              <a:t>Employees may</a:t>
            </a:r>
            <a:endParaRPr b="0" lang="en-US" sz="30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Times New Roman"/>
              </a:rPr>
              <a:t>- stay </a:t>
            </a:r>
            <a:r>
              <a:rPr b="1" i="1" lang="en-CA" sz="30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1" lang="en-CA" sz="3000" spc="-1" strike="noStrike">
                <a:solidFill>
                  <a:srgbClr val="ffffff"/>
                </a:solidFill>
                <a:latin typeface="Times New Roman"/>
              </a:rPr>
              <a:t> the same job</a:t>
            </a:r>
            <a:endParaRPr b="0" lang="en-US" sz="30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Times New Roman"/>
              </a:rPr>
              <a:t>- move </a:t>
            </a:r>
            <a:r>
              <a:rPr b="1" i="1" lang="en-CA" sz="3000" spc="-1" strike="noStrike">
                <a:solidFill>
                  <a:srgbClr val="ffffff"/>
                </a:solidFill>
                <a:latin typeface="Times New Roman"/>
              </a:rPr>
              <a:t>across</a:t>
            </a:r>
            <a:r>
              <a:rPr b="1" lang="en-CA" sz="3000" spc="-1" strike="noStrike">
                <a:solidFill>
                  <a:srgbClr val="ffffff"/>
                </a:solidFill>
                <a:latin typeface="Times New Roman"/>
              </a:rPr>
              <a:t> to another, but not a higher-level job</a:t>
            </a:r>
            <a:endParaRPr b="0" lang="en-US" sz="30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CA" sz="3000" spc="-1" strike="noStrike">
                <a:solidFill>
                  <a:srgbClr val="ffffff"/>
                </a:solidFill>
                <a:latin typeface="Times New Roman"/>
              </a:rPr>
              <a:t>(transfer or lateral move)</a:t>
            </a:r>
            <a:endParaRPr b="0" lang="en-US" sz="30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Times New Roman"/>
              </a:rPr>
              <a:t>- move </a:t>
            </a:r>
            <a:r>
              <a:rPr b="1" i="1" lang="en-CA" sz="3000" spc="-1" strike="noStrike">
                <a:solidFill>
                  <a:srgbClr val="ffffff"/>
                </a:solidFill>
                <a:latin typeface="Times New Roman"/>
              </a:rPr>
              <a:t>up</a:t>
            </a:r>
            <a:r>
              <a:rPr b="1" lang="en-CA" sz="3000" spc="-1" strike="noStrike">
                <a:solidFill>
                  <a:srgbClr val="ffffff"/>
                </a:solidFill>
                <a:latin typeface="Times New Roman"/>
              </a:rPr>
              <a:t> to a higher-level job (promotion)</a:t>
            </a:r>
            <a:endParaRPr b="0" lang="en-US" sz="30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Times New Roman"/>
              </a:rPr>
              <a:t>- move </a:t>
            </a:r>
            <a:r>
              <a:rPr b="1" i="1" lang="en-CA" sz="30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1" lang="en-CA" sz="3000" spc="-1" strike="noStrike">
                <a:solidFill>
                  <a:srgbClr val="ffffff"/>
                </a:solidFill>
                <a:latin typeface="Times New Roman"/>
              </a:rPr>
              <a:t> of the organization through voluntary </a:t>
            </a:r>
            <a:endParaRPr b="0" lang="en-US" sz="30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CA" sz="3000" spc="-1" strike="noStrike">
                <a:solidFill>
                  <a:srgbClr val="ffffff"/>
                </a:solidFill>
                <a:latin typeface="Times New Roman"/>
              </a:rPr>
              <a:t>termination (resignation) or involuntary </a:t>
            </a:r>
            <a:endParaRPr b="0" lang="en-US" sz="30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CA" sz="3000" spc="-1" strike="noStrike">
                <a:solidFill>
                  <a:srgbClr val="ffffff"/>
                </a:solidFill>
                <a:latin typeface="Times New Roman"/>
              </a:rPr>
              <a:t>termination   (lay-off, dismissal)</a:t>
            </a:r>
            <a:endParaRPr b="0" lang="en-US" sz="30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Times New Roman"/>
              </a:rPr>
              <a:t>- move </a:t>
            </a:r>
            <a:r>
              <a:rPr b="1" i="1" lang="en-CA" sz="3000" spc="-1" strike="noStrike">
                <a:solidFill>
                  <a:srgbClr val="ffffff"/>
                </a:solidFill>
                <a:latin typeface="Times New Roman"/>
              </a:rPr>
              <a:t>down</a:t>
            </a:r>
            <a:r>
              <a:rPr b="1" lang="en-CA" sz="3000" spc="-1" strike="noStrike">
                <a:solidFill>
                  <a:srgbClr val="ffffff"/>
                </a:solidFill>
                <a:latin typeface="Times New Roman"/>
              </a:rPr>
              <a:t> (demotion)</a:t>
            </a:r>
            <a:endParaRPr b="0" lang="en-US" sz="3000" spc="-1" strike="noStrike">
              <a:solidFill>
                <a:srgbClr val="cc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لتذييل 3"/>
          <p:cNvSpPr/>
          <p:nvPr/>
        </p:nvSpPr>
        <p:spPr>
          <a:xfrm>
            <a:off x="556272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4.8</a:t>
            </a:r>
            <a:endParaRPr b="0" lang="en-US" sz="1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200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Typical Data Elements in a Human Resources Information System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0" y="1295280"/>
            <a:ext cx="9182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79360" y="1536840"/>
            <a:ext cx="862344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04920" y="1828800"/>
            <a:ext cx="883908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imes New Roman"/>
              </a:rPr>
              <a:t>Employee personal data</a:t>
            </a:r>
            <a:r>
              <a:rPr b="1" lang="en-CA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600" spc="-1" strike="noStrike">
                <a:solidFill>
                  <a:srgbClr val="ffffff"/>
                </a:solidFill>
                <a:latin typeface="Times New Roman"/>
              </a:rPr>
              <a:t>Salary administration</a:t>
            </a:r>
            <a:endParaRPr b="0" lang="en-US" sz="26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Times New Roman"/>
              </a:rPr>
              <a:t>Benefits information</a:t>
            </a:r>
            <a:r>
              <a:rPr b="1" lang="en-CA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600" spc="-1" strike="noStrike">
                <a:solidFill>
                  <a:srgbClr val="ffffff"/>
                </a:solidFill>
                <a:latin typeface="Times New Roman"/>
              </a:rPr>
              <a:t>Skills</a:t>
            </a:r>
            <a:endParaRPr b="0" lang="en-US" sz="26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Benefits plans</a:t>
            </a: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600" spc="-1" strike="noStrike">
                <a:solidFill>
                  <a:srgbClr val="ffffff"/>
                </a:solidFill>
                <a:latin typeface="Times New Roman"/>
              </a:rPr>
              <a:t>Attendance</a:t>
            </a:r>
            <a:endParaRPr b="0" lang="en-US" sz="26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Employee benefits information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600" spc="-1" strike="noStrike">
                <a:solidFill>
                  <a:srgbClr val="ffffff"/>
                </a:solidFill>
                <a:latin typeface="Times New Roman"/>
              </a:rPr>
              <a:t>Performance/Discipline</a:t>
            </a:r>
            <a:endParaRPr b="0" lang="en-US" sz="26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Dependents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600" spc="-1" strike="noStrike">
                <a:solidFill>
                  <a:srgbClr val="ffffff"/>
                </a:solidFill>
                <a:latin typeface="Times New Roman"/>
              </a:rPr>
              <a:t>Health and Safety</a:t>
            </a:r>
            <a:endParaRPr b="0" lang="en-US" sz="26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Training and development</a:t>
            </a: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600" spc="-1" strike="noStrike">
                <a:solidFill>
                  <a:srgbClr val="ffffff"/>
                </a:solidFill>
                <a:latin typeface="Times New Roman"/>
              </a:rPr>
              <a:t>Payroll</a:t>
            </a:r>
            <a:endParaRPr b="0" lang="en-US" sz="26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Employee work data</a:t>
            </a:r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Salary</a:t>
            </a:r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Performance review</a:t>
            </a:r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Job information</a:t>
            </a:r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Employment status information</a:t>
            </a:r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Hire/Termination information</a:t>
            </a:r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Work information</a:t>
            </a:r>
            <a:endParaRPr b="0" lang="en-US" sz="2400" spc="-1" strike="noStrike">
              <a:solidFill>
                <a:srgbClr val="cc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19:49:34Z</dcterms:created>
  <dc:creator>Tom Forrest</dc:creator>
  <dc:description/>
  <dc:language>en-US</dc:language>
  <cp:lastModifiedBy>na</cp:lastModifiedBy>
  <cp:lastPrinted>1999-01-27T18:53:17Z</cp:lastPrinted>
  <dcterms:modified xsi:type="dcterms:W3CDTF">2015-06-28T18:02:55Z</dcterms:modified>
  <cp:revision>21</cp:revision>
  <dc:subject/>
  <dc:title>CHAPTER FOUR HUMAN RESOURCE PLANNING</dc:title>
</cp:coreProperties>
</file>