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6BAD8-07F5-4C01-A64D-671BA2CCB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083D5-41FC-4E64-829A-0EDB91893CD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039306-40D0-4DCA-9401-1C520D09F6E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C523EE-B6A9-4658-85F4-16C3FBFDF7F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CC5DCA-1F61-4C34-B51C-6383777E4E7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F0F97D-4BCD-46F2-9D49-8DDD569B891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6AFFFA-6B15-4A35-AB21-EEFC3AE8DC7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06A742-0848-4CAF-BF33-785C69ED5B5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5D6554-D965-42BC-9418-CBA74AC8893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DAFFA9-8CA1-44D6-BDAE-891E83907F3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113FFD-D876-43E7-B382-1086A3A2336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7EC2A-D882-40E6-AA60-43C910485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752D2-4BC9-4C5F-BDCB-4CACCCCF101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E8B27-8619-4619-A5CF-D9636726DF6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83BBF-C72A-4B09-939D-3BB42D0F690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DC197-3FD2-4729-91FC-541BE8ABDD5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02DE5-6146-43FF-9BEC-75FFF17FAF1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DB665-B7D8-453B-A815-E4AD9CFD9DD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07458-7F4F-4922-A1C7-C290FBA5E73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D80EC-323F-4F4D-A62F-2A8D58C8B54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2A804-A546-440E-BADC-7C7785DE811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C3018-C526-45B9-B4EC-D190E26DABF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CD523-E53F-4619-A614-67BE6242F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8C21B-3FAA-4B52-B01C-B8E45CD6439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37D4F-01A8-44D3-A775-C10929E8571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27CBF6-2316-4E05-94E7-E030EE211D5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8981E4-B164-476C-9AE4-05A91458FBC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591810-711D-4D93-9FF7-60C8258E183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89C8CA-A083-4890-A8A7-062EAD322AB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6AEACF-F8DC-430B-865D-CC9A964B20B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861B36-4065-4581-9066-B47B65A8345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8D96CE-606F-4B3A-A32E-7BE54844822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F428BE-E888-4722-B1B1-AB5D30C3D55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1C841E-86FE-4856-ACFC-E34350B72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3ACDEF-D257-4DA2-B295-ED8326BB298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E7DEC2-3F09-4CD1-8B8C-F83883A20D1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997FDE-4D0C-4D29-BF39-78834E3086F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137D01-35A6-4A32-B8F0-922A1C4019F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804089-0876-41D2-A69B-623ABED266B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73C7D8-B567-475F-BBB9-E49545C90CA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77C960-45E1-49A4-B35D-A7B4D05FC94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414467-C4EF-4C2E-8161-FB66E51D58A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7EC7B4-5005-4465-8F01-9C4D0C010EA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A1DCA8-F899-40D3-9EA1-29E1157966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4D34C9-9357-4CF2-BE0E-C76BB86D419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C47D1D-42C6-455B-B4E3-31589D71ACD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1E9B89-2F9B-4F7D-9A71-1E27147054F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184C97-9B2F-4B51-8B3D-A5EE7B3DA5E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AA1208-EC3C-407D-BF33-2B7A921B027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BD3AF-7C30-4C42-923E-087F03C3737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566D2-8E48-45E1-B2A3-35C657C2EE3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7DD62-16A8-4F9F-AA27-7A4D717D024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BDED9-FC63-45C2-A3E9-27696C0C1EE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F4215-ADED-4F9D-BFEC-65E3A65984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49048-6116-4702-BE96-CAB549BBA59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1806C-B48C-49F6-9642-99F43FAFABF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EF399-FCEE-48A9-A8DA-8913DBE1555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F2615-1E94-46BB-89BF-CFF67D04E6C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88AFA-5752-4E54-B977-BB475D9E3A3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CC740-76A8-40E3-91D3-567366EC217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642FC-7139-4F17-BE20-063D9DB2460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48992F-088D-4BB9-A274-F86AB797250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95DABE-3253-4E43-BFE5-E8A804F3E95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A2BA33-3B42-43DC-A711-86DCD3E4B7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E0C6D1-12F2-4738-B20B-2E1AA6A4593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9FC6A2-A2D7-479F-8A10-3DD7DECB190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9B30C7-D926-4244-AF4D-8D71D410724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C0D533-911D-4C86-AD04-E7B0A5121C4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DDC362-CE32-450B-AB60-1364C7AF974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923AB7-C6DD-4A62-BFCA-3ADBC609248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CF5E9F-84E9-4135-8A1F-6D447AF11E1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368D3A-FE8D-46DF-B98E-331A7479740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139F1A-B233-4FEC-BEF2-91FD8A6008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CCBFE-8213-48CC-8441-B4257E2AA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80F71-288D-48CB-98AD-38FEC0F060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5C95F-881B-4967-A12C-DCA1225F28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0DA3D-92AB-4636-ABA0-111486ABD6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EAF04-309E-4495-A9F0-3D0C82547E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4CB14-7C5A-4F04-AE66-D6474D66C7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E3144-24F5-4707-B9FD-18162CF158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B9DD1-FAEA-423D-BAAA-F439AE348C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C3B07-C8C9-4E65-A2EB-CB00FB0BA9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81236-049E-42DE-A87D-0632ECD4EF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5482B-F086-44EA-9AFB-5D8DE58A11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558CD-815F-462A-AC25-1B8AC8559F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97742-4568-4793-A511-6A92D84E62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AA90B-7249-446D-A523-E0964404521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FAFE-5AE9-4334-808C-83583E98A53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69A7-F6FA-417D-86EB-F67FF31708F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7C16-17FD-464D-AA4D-FADC7A7EA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D23A6-61BD-41C9-998F-35C3507B8D1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07CF-3A22-490E-8225-2022148C6E8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4C2C-DD20-4FB1-B3DF-57E386203FA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3D86-9669-44B9-B60F-8095F5A4D50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6BE3-0993-4295-93AF-A9EC608F36B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AC13-A7A7-441C-B482-268A7BE1086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2AEA-67DF-434F-976D-F194FD4AAE1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341C-87F9-4C25-9942-A27EB29B8B5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3107-0334-4F30-BDF1-47199BF48F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AB55-BA34-4803-B687-A37C1642052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79016-546B-4C3F-8C9F-F470114C3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82ABD-F8B2-4C6E-9B98-83D992A591C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9EB353-417C-4249-A4A7-7F7907C8960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B87450-178F-40F8-910F-36106C4AAC0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DC9EF2-2D97-45E1-AE83-B1E7A64785A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454BEA-7A76-4A10-ACFE-DD08AE5EB39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B32DA-4A62-4949-8D0A-F5DB2FC5719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36F06-7C48-4BA5-975A-90B1279011A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075DB-02A2-4C46-BA60-478F829F2C1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88B15-E709-434E-BD1A-2CDA25AD659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12022-3263-46F3-91A6-97B614115F4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66CE67-7180-4200-AECC-14D7CE9A8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F28A9-DDC1-4B21-B42A-24A156A4DF7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4BE60-0E5B-4728-B97B-262F6A06A4F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87EDC6-D955-45DC-A701-A431D1EBFD5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FE06D3-749C-4746-AD7F-79CB004948D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82C803-2B9F-451C-86EC-A970FC301E3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AEFB77-8AE6-459A-9DCD-5AE229C94E5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0AC5D5-4452-432A-9239-1C3ECAA6C62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641490-8959-4F9E-B0AB-A6D483EFF13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A46B3A-500C-4D65-B21C-F9539B0A36C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E4236D-349A-4392-AB50-549F43BD4B6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E24D63-DBC7-4425-B051-1B106C5DA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9BEFE-B9EB-4246-87DD-DE856E7E8D6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AA9EA1-F7D4-4780-8CAB-E78A99BF9D5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C9261C-CAD6-4E51-8AA9-D7DF166BB32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65160D-A398-45C5-B2A8-9E46D9420E9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5F916-7234-4F5C-891D-CD568662C09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97A73-2C20-43CB-8884-B40912CC052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06735-6C5D-4671-B04D-B75EB3BD780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C6C4B-A20B-43B6-B809-E7190051586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35912-C268-466E-9628-8BD675B38CE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C939B-DDC6-412A-9441-B12717ECE8C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9911A-5A1F-4590-8611-F2FDA8A59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1E94A-54C5-4527-9C88-4F1A09F0F45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9300F-B8F7-434E-95A1-D17165DE604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C7CCB-8B39-4247-805E-7E47C925DA0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DE7DD-46D1-4067-855C-C6A62C97742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30F2B-6619-4197-A3B1-F4D1FCC952D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29CE5-0621-486C-A2F6-3B7BCB3EDBC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E1DB4E-880B-4F64-A022-CA0F79F56C2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878D30-7BB9-48B7-8E69-37F59C5DAEC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445D6F-0DF1-4247-924F-DB8D9392FEE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4B5C1C-1C1F-4C64-946F-5A53224A179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92F77D-21AD-4C29-A5F4-77C49ABE3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E4EE6-D6F8-484F-AAA9-1B8A2C876DB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80520" y="152280"/>
            <a:ext cx="72392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933DE2-F3D6-4279-AA16-D3F7F52F7BE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9C9A76-7B27-42A8-9A56-77E4AF5A129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39C7D6-5525-4367-A677-34055241D68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B10DB2-2D37-4163-98FC-52852D6854E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6840" y="2834280"/>
            <a:ext cx="716292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26F312-ED28-4EA9-89F9-4ADF43546AC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127400" y="160020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127400" y="2834280"/>
            <a:ext cx="349524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718D1A-7DF0-441B-9680-0292D2148F8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287856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00640" y="160020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68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287856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300640" y="2834280"/>
            <a:ext cx="23061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0F584D-09D1-4BEE-991D-FB571B85859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F6EDF8-0149-40D3-9F6F-CF8F49B398E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BBB0C4-FE61-4849-94F8-30F99AB4AA7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D41B2B-5899-4C51-A274-7C172F64F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A78736C8-0FFC-4837-B40D-BCA9ACF4002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17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18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B0FD4DD6-E978-46EF-B6A4-4A90B23F498B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9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0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8AA9CAA8-BD6C-4742-843B-08ADF18A96B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21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22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74FC46D2-3A29-423F-8439-76A546C4655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ftr" idx="23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sldNum" idx="24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F76DA24F-E295-4F9F-AC7F-CDB40565511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ftr" idx="25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sldNum" idx="26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6758232F-BF9B-4F33-9C75-13F9F280BCD6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EDA2EB26-0263-4FF1-8A33-950507259C7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6804001E-A01C-46FC-AB55-1A69BD7798C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7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8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5555A6A4-6C17-44C8-9D90-B2D70974D306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9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0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34BD0136-2151-4425-90D4-DB09751D608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11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2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D9210BA1-D77A-4D26-BB33-6406E7731AE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ftr" idx="13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4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0ACA6C31-17DF-4FB4-85C9-AD6BA9D59BA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1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7" descr="coverbar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763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9" descr="coverbar"/>
          <p:cNvPicPr/>
          <p:nvPr/>
        </p:nvPicPr>
        <p:blipFill>
          <a:blip r:embed="rId3"/>
          <a:stretch/>
        </p:blipFill>
        <p:spPr>
          <a:xfrm>
            <a:off x="0" y="685800"/>
            <a:ext cx="8153280" cy="81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coveredge"/>
          <p:cNvPicPr/>
          <p:nvPr/>
        </p:nvPicPr>
        <p:blipFill>
          <a:blip r:embed="rId4"/>
          <a:stretch/>
        </p:blipFill>
        <p:spPr>
          <a:xfrm>
            <a:off x="8153280" y="76320"/>
            <a:ext cx="927360" cy="17524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262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16520" indent="-1461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15"/>
          </p:nvPr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amentals of Human Resource Management, 10/e, DeCenzo/Robb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16"/>
          </p:nvPr>
        </p:nvSpPr>
        <p:spPr>
          <a:xfrm>
            <a:off x="739116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pter 5, slide </a:t>
            </a:r>
            <a:fld id="{32640CBD-FBFF-43E9-A57A-268EBE467C56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taffing-and-recruiting-essentials.com/Sample-Job-Analysis.html" TargetMode="External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online.onetcenter.org/" TargetMode="External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F8160D1B-0505-4E05-9442-295407299B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6" descr="covertitle"/>
          <p:cNvPicPr/>
          <p:nvPr/>
        </p:nvPicPr>
        <p:blipFill>
          <a:blip r:embed="rId1"/>
          <a:stretch/>
        </p:blipFill>
        <p:spPr>
          <a:xfrm>
            <a:off x="76320" y="76320"/>
            <a:ext cx="8991360" cy="674352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4"/>
          <p:cNvSpPr/>
          <p:nvPr/>
        </p:nvSpPr>
        <p:spPr>
          <a:xfrm>
            <a:off x="838080" y="1905120"/>
            <a:ext cx="571500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6c2"/>
                </a:solidFill>
                <a:latin typeface="Arial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c2"/>
                </a:solidFill>
                <a:latin typeface="Arial"/>
              </a:rPr>
              <a:t>Human Resource Plan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c2"/>
                </a:solidFill>
                <a:latin typeface="Arial"/>
              </a:rPr>
              <a:t>and Job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ECD59C28-1FE7-4A7F-B17D-201D18603E2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uman Resource Planning</a:t>
            </a:r>
            <a:endParaRPr b="0" lang="en-US" sz="20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36560" y="1066320"/>
            <a:ext cx="7493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  <a:ea typeface="Times New Roman"/>
              </a:rPr>
              <a:t>H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redicts the future labor suppl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unit’s supply of human resources comes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w h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gent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ers-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s returning from le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dicting these can range from simple to comple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ers are more difficult to predict since they depend on actions in other un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AF02E5D6-AC55-4427-AAE4-4D091B0654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657000" y="979560"/>
            <a:ext cx="684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creases in internal supply come about throug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R Planning</a:t>
            </a:r>
            <a:endParaRPr b="0" lang="en-US" sz="24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666" name="Text Box 9"/>
          <p:cNvSpPr/>
          <p:nvPr/>
        </p:nvSpPr>
        <p:spPr>
          <a:xfrm>
            <a:off x="1832040" y="1546200"/>
            <a:ext cx="5530680" cy="4667760"/>
          </a:xfrm>
          <a:prstGeom prst="rect">
            <a:avLst/>
          </a:prstGeom>
          <a:gradFill rotWithShape="0">
            <a:gsLst>
              <a:gs pos="0">
                <a:srgbClr val="e6e6c2">
                  <a:alpha val="21176"/>
                </a:srgbClr>
              </a:gs>
              <a:gs pos="100000">
                <a:srgbClr val="a30d09"/>
              </a:gs>
            </a:gsLst>
            <a:lin ang="5400000"/>
          </a:gradFill>
          <a:ln w="5724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ir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st to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miss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off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bbatic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ntary qu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longed illnes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est to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878C158E-B2B9-4071-9812-2A91BF8FB5C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711360" y="1036800"/>
            <a:ext cx="723888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didates come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gration into a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ent gradu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s returning from military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in the number of unemployed and employed individuals seeking other opportunities, either part-time or full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R Planning</a:t>
            </a:r>
            <a:endParaRPr b="0" lang="en-US" sz="24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57200" y="552924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22626"/>
                </a:solidFill>
                <a:latin typeface="Arial"/>
              </a:rPr>
              <a:t>The potential labor supply can be expanded by formal or</a:t>
            </a:r>
            <a:br>
              <a:rPr sz="2000"/>
            </a:br>
            <a:r>
              <a:rPr b="1" i="1" lang="en-US" sz="2000" spc="-1" strike="noStrike">
                <a:solidFill>
                  <a:srgbClr val="b22626"/>
                </a:solidFill>
                <a:latin typeface="Arial"/>
              </a:rPr>
              <a:t> on-the-job trai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47876608-63BE-42ED-9105-919723F508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929880" y="1293480"/>
            <a:ext cx="716292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o match labor demand and supply, 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  <a:ea typeface="Times New Roman"/>
              </a:rPr>
              <a:t>H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es forecasts for demand and supply of wo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s current and future shortages, and overstaffing. Sometimes, strategic goals must change as a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s downsizing to reduce supply and balance de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R Planning</a:t>
            </a:r>
            <a:endParaRPr b="0" lang="en-US" sz="24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F14184B8-C439-400C-B343-0E901ED0BC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1447920" y="1276200"/>
            <a:ext cx="6324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loyment Planning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trategic Plann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R Planning</a:t>
            </a:r>
            <a:endParaRPr b="0" lang="en-US" sz="2400" spc="-1" strike="noStrike">
              <a:solidFill>
                <a:srgbClr val="b22626"/>
              </a:solidFill>
              <a:latin typeface="Arial"/>
            </a:endParaRPr>
          </a:p>
        </p:txBody>
      </p:sp>
      <p:grpSp>
        <p:nvGrpSpPr>
          <p:cNvPr id="680" name="Group 56"/>
          <p:cNvGrpSpPr/>
          <p:nvPr/>
        </p:nvGrpSpPr>
        <p:grpSpPr>
          <a:xfrm>
            <a:off x="4626000" y="2984400"/>
            <a:ext cx="1241280" cy="690840"/>
            <a:chOff x="4626000" y="2984400"/>
            <a:chExt cx="1241280" cy="690840"/>
          </a:xfrm>
        </p:grpSpPr>
        <p:sp>
          <p:nvSpPr>
            <p:cNvPr id="681" name="Line 44"/>
            <p:cNvSpPr/>
            <p:nvPr/>
          </p:nvSpPr>
          <p:spPr>
            <a:xfrm>
              <a:off x="5251320" y="3138480"/>
              <a:ext cx="1800" cy="53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30"/>
            <p:cNvSpPr/>
            <p:nvPr/>
          </p:nvSpPr>
          <p:spPr>
            <a:xfrm>
              <a:off x="4626000" y="2984400"/>
              <a:ext cx="1241280" cy="26136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mand for lab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Group 59"/>
          <p:cNvGrpSpPr/>
          <p:nvPr/>
        </p:nvGrpSpPr>
        <p:grpSpPr>
          <a:xfrm>
            <a:off x="4570920" y="3745080"/>
            <a:ext cx="1476000" cy="596160"/>
            <a:chOff x="4570920" y="3745080"/>
            <a:chExt cx="1476000" cy="596160"/>
          </a:xfrm>
        </p:grpSpPr>
        <p:sp>
          <p:nvSpPr>
            <p:cNvPr id="684" name="Line 50"/>
            <p:cNvSpPr/>
            <p:nvPr/>
          </p:nvSpPr>
          <p:spPr>
            <a:xfrm>
              <a:off x="5248440" y="4322880"/>
              <a:ext cx="79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51"/>
            <p:cNvSpPr/>
            <p:nvPr/>
          </p:nvSpPr>
          <p:spPr>
            <a:xfrm>
              <a:off x="5243400" y="3817800"/>
              <a:ext cx="79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31"/>
            <p:cNvSpPr/>
            <p:nvPr/>
          </p:nvSpPr>
          <p:spPr>
            <a:xfrm>
              <a:off x="4570920" y="3745080"/>
              <a:ext cx="1271880" cy="59616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mpare dema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or and supply of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uman resour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Text Box 35"/>
          <p:cNvSpPr/>
          <p:nvPr/>
        </p:nvSpPr>
        <p:spPr>
          <a:xfrm>
            <a:off x="7572240" y="3368520"/>
            <a:ext cx="1127160" cy="611640"/>
          </a:xfrm>
          <a:prstGeom prst="rect">
            <a:avLst/>
          </a:prstGeom>
          <a:solidFill>
            <a:srgbClr val="b22626"/>
          </a:solidFill>
          <a:ln w="381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cruit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6"/>
          <p:cNvSpPr/>
          <p:nvPr/>
        </p:nvSpPr>
        <p:spPr>
          <a:xfrm>
            <a:off x="7561440" y="4264200"/>
            <a:ext cx="1122120" cy="611640"/>
          </a:xfrm>
          <a:prstGeom prst="rect">
            <a:avLst/>
          </a:prstGeom>
          <a:solidFill>
            <a:srgbClr val="b22626"/>
          </a:solidFill>
          <a:ln w="381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cruit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53"/>
          <p:cNvGrpSpPr/>
          <p:nvPr/>
        </p:nvGrpSpPr>
        <p:grpSpPr>
          <a:xfrm>
            <a:off x="415800" y="3689280"/>
            <a:ext cx="1098720" cy="596160"/>
            <a:chOff x="415800" y="3689280"/>
            <a:chExt cx="1098720" cy="596160"/>
          </a:xfrm>
        </p:grpSpPr>
        <p:sp>
          <p:nvSpPr>
            <p:cNvPr id="690" name="Text Box 27"/>
            <p:cNvSpPr/>
            <p:nvPr/>
          </p:nvSpPr>
          <p:spPr>
            <a:xfrm>
              <a:off x="415800" y="3689280"/>
              <a:ext cx="942840" cy="59616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f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rganiz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37"/>
            <p:cNvSpPr/>
            <p:nvPr/>
          </p:nvSpPr>
          <p:spPr>
            <a:xfrm>
              <a:off x="1413000" y="4002120"/>
              <a:ext cx="10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Group 54"/>
          <p:cNvGrpSpPr/>
          <p:nvPr/>
        </p:nvGrpSpPr>
        <p:grpSpPr>
          <a:xfrm>
            <a:off x="1569600" y="3683160"/>
            <a:ext cx="1300680" cy="596160"/>
            <a:chOff x="1569600" y="3683160"/>
            <a:chExt cx="1300680" cy="596160"/>
          </a:xfrm>
        </p:grpSpPr>
        <p:sp>
          <p:nvSpPr>
            <p:cNvPr id="693" name="Text Box 28"/>
            <p:cNvSpPr/>
            <p:nvPr/>
          </p:nvSpPr>
          <p:spPr>
            <a:xfrm>
              <a:off x="1569600" y="3683160"/>
              <a:ext cx="1146960" cy="59616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stablis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rporate goa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nd objectiv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38"/>
            <p:cNvSpPr/>
            <p:nvPr/>
          </p:nvSpPr>
          <p:spPr>
            <a:xfrm>
              <a:off x="2768760" y="4022640"/>
              <a:ext cx="10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67"/>
          <p:cNvGrpSpPr/>
          <p:nvPr/>
        </p:nvGrpSpPr>
        <p:grpSpPr>
          <a:xfrm>
            <a:off x="6066000" y="3463920"/>
            <a:ext cx="1455480" cy="428760"/>
            <a:chOff x="6066000" y="3463920"/>
            <a:chExt cx="1455480" cy="428760"/>
          </a:xfrm>
        </p:grpSpPr>
        <p:sp>
          <p:nvSpPr>
            <p:cNvPr id="696" name="Text Box 34"/>
            <p:cNvSpPr/>
            <p:nvPr/>
          </p:nvSpPr>
          <p:spPr>
            <a:xfrm>
              <a:off x="6066000" y="3463920"/>
              <a:ext cx="1293480" cy="42876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mand exceed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uppl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40"/>
            <p:cNvSpPr/>
            <p:nvPr/>
          </p:nvSpPr>
          <p:spPr>
            <a:xfrm>
              <a:off x="7419960" y="3660840"/>
              <a:ext cx="10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68"/>
          <p:cNvGrpSpPr/>
          <p:nvPr/>
        </p:nvGrpSpPr>
        <p:grpSpPr>
          <a:xfrm>
            <a:off x="6097680" y="4210200"/>
            <a:ext cx="1423800" cy="459000"/>
            <a:chOff x="6097680" y="4210200"/>
            <a:chExt cx="1423800" cy="459000"/>
          </a:xfrm>
        </p:grpSpPr>
        <p:sp>
          <p:nvSpPr>
            <p:cNvPr id="699" name="Text Box 33"/>
            <p:cNvSpPr/>
            <p:nvPr/>
          </p:nvSpPr>
          <p:spPr>
            <a:xfrm>
              <a:off x="6097680" y="4210200"/>
              <a:ext cx="1274760" cy="45900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pply excee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m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41"/>
            <p:cNvSpPr/>
            <p:nvPr/>
          </p:nvSpPr>
          <p:spPr>
            <a:xfrm>
              <a:off x="7419960" y="4432320"/>
              <a:ext cx="10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55"/>
          <p:cNvGrpSpPr/>
          <p:nvPr/>
        </p:nvGrpSpPr>
        <p:grpSpPr>
          <a:xfrm>
            <a:off x="2963880" y="3102120"/>
            <a:ext cx="1547640" cy="1944720"/>
            <a:chOff x="2963880" y="3102120"/>
            <a:chExt cx="1547640" cy="1944720"/>
          </a:xfrm>
        </p:grpSpPr>
        <p:sp>
          <p:nvSpPr>
            <p:cNvPr id="702" name="Text Box 29"/>
            <p:cNvSpPr/>
            <p:nvPr/>
          </p:nvSpPr>
          <p:spPr>
            <a:xfrm>
              <a:off x="2963880" y="3565440"/>
              <a:ext cx="1317240" cy="93096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ssess current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uman resour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 - - - - - - - - - - - 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RMS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job analys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42"/>
            <p:cNvSpPr/>
            <p:nvPr/>
          </p:nvSpPr>
          <p:spPr>
            <a:xfrm>
              <a:off x="3714840" y="5032440"/>
              <a:ext cx="750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43"/>
            <p:cNvSpPr/>
            <p:nvPr/>
          </p:nvSpPr>
          <p:spPr>
            <a:xfrm>
              <a:off x="3713040" y="3108240"/>
              <a:ext cx="79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46"/>
            <p:cNvSpPr/>
            <p:nvPr/>
          </p:nvSpPr>
          <p:spPr>
            <a:xfrm flipV="1">
              <a:off x="3728880" y="4684680"/>
              <a:ext cx="0" cy="36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47"/>
            <p:cNvSpPr/>
            <p:nvPr/>
          </p:nvSpPr>
          <p:spPr>
            <a:xfrm>
              <a:off x="3733920" y="31021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49"/>
            <p:cNvSpPr/>
            <p:nvPr/>
          </p:nvSpPr>
          <p:spPr>
            <a:xfrm>
              <a:off x="3719520" y="5032440"/>
              <a:ext cx="7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Text Box 62"/>
          <p:cNvSpPr/>
          <p:nvPr/>
        </p:nvSpPr>
        <p:spPr>
          <a:xfrm>
            <a:off x="7680960" y="302436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69"/>
          <p:cNvGrpSpPr/>
          <p:nvPr/>
        </p:nvGrpSpPr>
        <p:grpSpPr>
          <a:xfrm>
            <a:off x="4658040" y="4437000"/>
            <a:ext cx="1264320" cy="798840"/>
            <a:chOff x="4658040" y="4437000"/>
            <a:chExt cx="1264320" cy="798840"/>
          </a:xfrm>
        </p:grpSpPr>
        <p:sp>
          <p:nvSpPr>
            <p:cNvPr id="710" name="Line 45"/>
            <p:cNvSpPr/>
            <p:nvPr/>
          </p:nvSpPr>
          <p:spPr>
            <a:xfrm>
              <a:off x="5245200" y="4437000"/>
              <a:ext cx="0" cy="5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66"/>
            <p:cNvSpPr/>
            <p:nvPr/>
          </p:nvSpPr>
          <p:spPr>
            <a:xfrm>
              <a:off x="4658040" y="4807080"/>
              <a:ext cx="1264320" cy="42876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upply of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uman resour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C590CEFD-8324-4EEF-AA03-10FB994E3D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630000" y="159552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Job analysis is a systematic exploration of the activities within a jo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defines and documents the duties, responsibilities, and accountabilities of a job and the conditions under which a job is perform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Job Analysis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716" name="Text Box 6"/>
          <p:cNvSpPr/>
          <p:nvPr/>
        </p:nvSpPr>
        <p:spPr>
          <a:xfrm>
            <a:off x="682560" y="5167440"/>
            <a:ext cx="782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000" spc="-1" strike="noStrike" u="sng">
                <a:solidFill>
                  <a:srgbClr val="804dff"/>
                </a:solidFill>
                <a:uFillTx/>
                <a:latin typeface="Arial"/>
                <a:hlinkClick r:id="rId1"/>
              </a:rPr>
              <a:t>http://www.staffing-and-recruiting-essentials.com/Sample-Job-Analysis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a sample job 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39CC9A8B-9945-4EAE-B8D4-3413AA2BF55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Job analysis metho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bserv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job analyst watches employees directly or reviews film of workers on the jo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dividual inter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a team of job incumbents is selected and extensively interview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group inter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a number of job incumbents are interviewed simultaneous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tructured questionna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workers complete a specifically designed questionnai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echnical con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uses supervisors with an extensive knowledge of the jo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i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job incumbents record their daily activ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532440" y="5867280"/>
            <a:ext cx="82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22626"/>
                </a:solidFill>
                <a:latin typeface="Arial"/>
              </a:rPr>
              <a:t>The best results are usually achieved with some combination of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Job Analysis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7D8E7B64-8725-40CF-B1CE-FFB4FD3F1C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Job Analysis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725" name="Text Box 18"/>
          <p:cNvSpPr/>
          <p:nvPr/>
        </p:nvSpPr>
        <p:spPr>
          <a:xfrm>
            <a:off x="961200" y="1447920"/>
            <a:ext cx="2872080" cy="703800"/>
          </a:xfrm>
          <a:prstGeom prst="rect">
            <a:avLst/>
          </a:prstGeom>
          <a:solidFill>
            <a:srgbClr val="b22626"/>
          </a:solidFill>
          <a:ln w="5724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understand the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of the job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9"/>
          <p:cNvSpPr/>
          <p:nvPr/>
        </p:nvSpPr>
        <p:spPr>
          <a:xfrm>
            <a:off x="929520" y="2971800"/>
            <a:ext cx="2925720" cy="703800"/>
          </a:xfrm>
          <a:prstGeom prst="rect">
            <a:avLst/>
          </a:prstGeom>
          <a:solidFill>
            <a:srgbClr val="b22626"/>
          </a:solidFill>
          <a:ln w="381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understand the rol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jobs in the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22"/>
          <p:cNvSpPr/>
          <p:nvPr/>
        </p:nvSpPr>
        <p:spPr>
          <a:xfrm>
            <a:off x="6248520" y="4419720"/>
            <a:ext cx="2143080" cy="886320"/>
          </a:xfrm>
          <a:prstGeom prst="rect">
            <a:avLst/>
          </a:prstGeom>
          <a:solidFill>
            <a:srgbClr val="b22626"/>
          </a:solidFill>
          <a:ln w="381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seek cla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23"/>
          <p:cNvSpPr/>
          <p:nvPr/>
        </p:nvSpPr>
        <p:spPr>
          <a:xfrm>
            <a:off x="5791320" y="2971800"/>
            <a:ext cx="2151000" cy="856080"/>
          </a:xfrm>
          <a:prstGeom prst="rect">
            <a:avLst/>
          </a:prstGeom>
          <a:solidFill>
            <a:srgbClr val="b22626"/>
          </a:solidFill>
          <a:ln w="381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develop draf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4"/>
          <p:cNvSpPr/>
          <p:nvPr/>
        </p:nvSpPr>
        <p:spPr>
          <a:xfrm>
            <a:off x="5231880" y="1523880"/>
            <a:ext cx="2021760" cy="703800"/>
          </a:xfrm>
          <a:prstGeom prst="rect">
            <a:avLst/>
          </a:prstGeom>
          <a:solidFill>
            <a:srgbClr val="b22626"/>
          </a:solidFill>
          <a:ln w="381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review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6e6c2"/>
                </a:solidFill>
                <a:latin typeface="Arial"/>
              </a:rPr>
              <a:t>with supervis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26"/>
          <p:cNvSpPr/>
          <p:nvPr/>
        </p:nvSpPr>
        <p:spPr>
          <a:xfrm>
            <a:off x="2438280" y="2209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27"/>
          <p:cNvSpPr/>
          <p:nvPr/>
        </p:nvSpPr>
        <p:spPr>
          <a:xfrm>
            <a:off x="2438280" y="3733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42"/>
          <p:cNvGrpSpPr/>
          <p:nvPr/>
        </p:nvGrpSpPr>
        <p:grpSpPr>
          <a:xfrm>
            <a:off x="944280" y="4495680"/>
            <a:ext cx="2939040" cy="1219320"/>
            <a:chOff x="944280" y="4495680"/>
            <a:chExt cx="2939040" cy="1219320"/>
          </a:xfrm>
        </p:grpSpPr>
        <p:sp>
          <p:nvSpPr>
            <p:cNvPr id="733" name="Text Box 20"/>
            <p:cNvSpPr/>
            <p:nvPr/>
          </p:nvSpPr>
          <p:spPr>
            <a:xfrm>
              <a:off x="944280" y="4495680"/>
              <a:ext cx="2939040" cy="85608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e6c2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e6e6c2"/>
                  </a:solidFill>
                  <a:latin typeface="Arial"/>
                </a:rPr>
                <a:t>benchmark positions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Group 40"/>
            <p:cNvGrpSpPr/>
            <p:nvPr/>
          </p:nvGrpSpPr>
          <p:grpSpPr>
            <a:xfrm>
              <a:off x="2438280" y="5334120"/>
              <a:ext cx="1143000" cy="380880"/>
              <a:chOff x="2438280" y="5334120"/>
              <a:chExt cx="1143000" cy="380880"/>
            </a:xfrm>
          </p:grpSpPr>
          <p:sp>
            <p:nvSpPr>
              <p:cNvPr id="735" name="Line 28"/>
              <p:cNvSpPr/>
              <p:nvPr/>
            </p:nvSpPr>
            <p:spPr>
              <a:xfrm>
                <a:off x="2467080" y="5334120"/>
                <a:ext cx="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Line 29"/>
              <p:cNvSpPr/>
              <p:nvPr/>
            </p:nvSpPr>
            <p:spPr>
              <a:xfrm>
                <a:off x="2438280" y="5715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30"/>
              <p:cNvSpPr/>
              <p:nvPr/>
            </p:nvSpPr>
            <p:spPr>
              <a:xfrm>
                <a:off x="2438280" y="5715000"/>
                <a:ext cx="1143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8" name="Group 43"/>
          <p:cNvGrpSpPr/>
          <p:nvPr/>
        </p:nvGrpSpPr>
        <p:grpSpPr>
          <a:xfrm>
            <a:off x="3618720" y="5257800"/>
            <a:ext cx="3724920" cy="932400"/>
            <a:chOff x="3618720" y="5257800"/>
            <a:chExt cx="3724920" cy="932400"/>
          </a:xfrm>
        </p:grpSpPr>
        <p:sp>
          <p:nvSpPr>
            <p:cNvPr id="739" name="Text Box 21"/>
            <p:cNvSpPr/>
            <p:nvPr/>
          </p:nvSpPr>
          <p:spPr>
            <a:xfrm>
              <a:off x="3618720" y="5486400"/>
              <a:ext cx="2925360" cy="703800"/>
            </a:xfrm>
            <a:prstGeom prst="rect">
              <a:avLst/>
            </a:prstGeom>
            <a:solidFill>
              <a:srgbClr val="b22626"/>
            </a:solidFill>
            <a:ln w="381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e6c2"/>
                  </a:solidFill>
                  <a:latin typeface="Arial"/>
                </a:rPr>
                <a:t>determine how to coll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e6c2"/>
                  </a:solidFill>
                  <a:latin typeface="Arial"/>
                </a:rPr>
                <a:t>job analysis in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0" name="Group 41"/>
            <p:cNvGrpSpPr/>
            <p:nvPr/>
          </p:nvGrpSpPr>
          <p:grpSpPr>
            <a:xfrm>
              <a:off x="6705720" y="5257800"/>
              <a:ext cx="637920" cy="457200"/>
              <a:chOff x="6705720" y="5257800"/>
              <a:chExt cx="637920" cy="457200"/>
            </a:xfrm>
          </p:grpSpPr>
          <p:sp>
            <p:nvSpPr>
              <p:cNvPr id="741" name="Line 34"/>
              <p:cNvSpPr/>
              <p:nvPr/>
            </p:nvSpPr>
            <p:spPr>
              <a:xfrm>
                <a:off x="6705720" y="5715000"/>
                <a:ext cx="637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35"/>
              <p:cNvSpPr/>
              <p:nvPr/>
            </p:nvSpPr>
            <p:spPr>
              <a:xfrm flipV="1">
                <a:off x="7315200" y="525780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3" name="Line 38"/>
          <p:cNvSpPr/>
          <p:nvPr/>
        </p:nvSpPr>
        <p:spPr>
          <a:xfrm>
            <a:off x="6846840" y="38098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39"/>
          <p:cNvSpPr/>
          <p:nvPr/>
        </p:nvSpPr>
        <p:spPr>
          <a:xfrm>
            <a:off x="6400800" y="23623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E5907B44-0C9B-456A-AD01-D69F066B88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838080" y="1218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e Occupational Information Network (O*NET) content model includ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Job Analysis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1754280" y="5261040"/>
            <a:ext cx="49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 </a:t>
            </a:r>
            <a:r>
              <a:rPr b="0" lang="en-US" sz="2400" spc="-1" strike="noStrike" u="sng">
                <a:solidFill>
                  <a:srgbClr val="804dff"/>
                </a:solidFill>
                <a:uFillTx/>
                <a:latin typeface="Arial"/>
                <a:ea typeface="Arial"/>
                <a:hlinkClick r:id="rId1"/>
              </a:rPr>
              <a:t>http://online.onetcenter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8"/>
          <p:cNvSpPr/>
          <p:nvPr/>
        </p:nvSpPr>
        <p:spPr>
          <a:xfrm>
            <a:off x="1808640" y="2517840"/>
            <a:ext cx="536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er character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cupation-specif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for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cupa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D3F042EB-4D95-4149-BE73-8A5A773148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/>
          </p:nvPr>
        </p:nvSpPr>
        <p:spPr>
          <a:xfrm>
            <a:off x="1295280" y="1371600"/>
            <a:ext cx="6477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nalysis questionnaire (PAQ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obs are rated on 194 elements, grouped in six major divisions and 28 s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elements represent requirements applicable to all types of job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s quantitative structure allows many job comparisons, however, it appears to apply to only higher-level job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Job Analysis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F2B9B140-C74E-4C09-8790-719245058E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844560" y="1555920"/>
            <a:ext cx="68976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Human resource plan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process by which an organization ensures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has the right number and kinds of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 the right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 the righ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pable of effectively and efficiently completing those tasks that will help the organization achieve its overall strategic object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1218BB49-B9AC-4999-A7D4-4D21AA7B31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1219320" y="1218960"/>
            <a:ext cx="71625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ob descriptions lis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ob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ob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ob duties/essential functions in order of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ob specifications - minimal qualifications for jo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4"/>
          <p:cNvSpPr/>
          <p:nvPr/>
        </p:nvSpPr>
        <p:spPr>
          <a:xfrm>
            <a:off x="1219320" y="3505320"/>
            <a:ext cx="670536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re critical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bing job to 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uiding new-h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performance evalu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luating job’s compensation wo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Job Analysis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عنصر نائب للتذييل 4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عنصر نائب لرقم الشريحة 5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263E5652-AE93-43CD-8634-126E05C762F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120"/>
          <p:cNvGrpSpPr/>
          <p:nvPr/>
        </p:nvGrpSpPr>
        <p:grpSpPr>
          <a:xfrm>
            <a:off x="914400" y="1295280"/>
            <a:ext cx="7467480" cy="5032440"/>
            <a:chOff x="914400" y="1295280"/>
            <a:chExt cx="7467480" cy="5032440"/>
          </a:xfrm>
        </p:grpSpPr>
        <p:sp>
          <p:nvSpPr>
            <p:cNvPr id="763" name="AutoShape 89"/>
            <p:cNvSpPr/>
            <p:nvPr/>
          </p:nvSpPr>
          <p:spPr>
            <a:xfrm>
              <a:off x="914400" y="1295280"/>
              <a:ext cx="7467480" cy="50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90"/>
            <p:cNvSpPr/>
            <p:nvPr/>
          </p:nvSpPr>
          <p:spPr>
            <a:xfrm flipH="1" flipV="1">
              <a:off x="3809880" y="2654280"/>
              <a:ext cx="557280" cy="77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91"/>
            <p:cNvSpPr/>
            <p:nvPr/>
          </p:nvSpPr>
          <p:spPr>
            <a:xfrm>
              <a:off x="3048120" y="1785960"/>
              <a:ext cx="960480" cy="96048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6e6c2"/>
                  </a:solidFill>
                  <a:latin typeface="Arial"/>
                </a:rPr>
                <a:t>lab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6e6c2"/>
                  </a:solidFill>
                  <a:latin typeface="Arial"/>
                </a:rPr>
                <a:t>rel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92"/>
            <p:cNvSpPr/>
            <p:nvPr/>
          </p:nvSpPr>
          <p:spPr>
            <a:xfrm flipH="1" flipV="1">
              <a:off x="3292560" y="3368160"/>
              <a:ext cx="906480" cy="2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93"/>
            <p:cNvSpPr/>
            <p:nvPr/>
          </p:nvSpPr>
          <p:spPr>
            <a:xfrm>
              <a:off x="2355840" y="2739960"/>
              <a:ext cx="960480" cy="96048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6e6c2"/>
                  </a:solidFill>
                  <a:latin typeface="Arial"/>
                </a:rPr>
                <a:t>safety 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6e6c2"/>
                  </a:solidFill>
                  <a:latin typeface="Arial"/>
                </a:rPr>
                <a:t>heal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94"/>
            <p:cNvSpPr/>
            <p:nvPr/>
          </p:nvSpPr>
          <p:spPr>
            <a:xfrm flipH="1">
              <a:off x="3292200" y="3957480"/>
              <a:ext cx="909720" cy="29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95"/>
            <p:cNvSpPr/>
            <p:nvPr/>
          </p:nvSpPr>
          <p:spPr>
            <a:xfrm>
              <a:off x="2355840" y="3919680"/>
              <a:ext cx="960480" cy="96012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96"/>
            <p:cNvSpPr/>
            <p:nvPr/>
          </p:nvSpPr>
          <p:spPr>
            <a:xfrm flipH="1">
              <a:off x="3812760" y="4194000"/>
              <a:ext cx="560520" cy="77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7"/>
            <p:cNvSpPr/>
            <p:nvPr/>
          </p:nvSpPr>
          <p:spPr>
            <a:xfrm>
              <a:off x="3048120" y="4873680"/>
              <a:ext cx="960480" cy="96048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98"/>
            <p:cNvSpPr/>
            <p:nvPr/>
          </p:nvSpPr>
          <p:spPr>
            <a:xfrm>
              <a:off x="4651200" y="4281480"/>
              <a:ext cx="0" cy="95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99"/>
            <p:cNvSpPr/>
            <p:nvPr/>
          </p:nvSpPr>
          <p:spPr>
            <a:xfrm>
              <a:off x="4172040" y="5235480"/>
              <a:ext cx="960480" cy="96048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00"/>
            <p:cNvSpPr/>
            <p:nvPr/>
          </p:nvSpPr>
          <p:spPr>
            <a:xfrm>
              <a:off x="4929120" y="4191120"/>
              <a:ext cx="560520" cy="76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01"/>
            <p:cNvSpPr/>
            <p:nvPr/>
          </p:nvSpPr>
          <p:spPr>
            <a:xfrm>
              <a:off x="5291280" y="4870440"/>
              <a:ext cx="960120" cy="96048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02"/>
            <p:cNvSpPr/>
            <p:nvPr/>
          </p:nvSpPr>
          <p:spPr>
            <a:xfrm>
              <a:off x="5100480" y="3952800"/>
              <a:ext cx="906480" cy="29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03"/>
            <p:cNvSpPr/>
            <p:nvPr/>
          </p:nvSpPr>
          <p:spPr>
            <a:xfrm>
              <a:off x="5943600" y="3886200"/>
              <a:ext cx="960480" cy="96048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04"/>
            <p:cNvSpPr/>
            <p:nvPr/>
          </p:nvSpPr>
          <p:spPr>
            <a:xfrm flipV="1">
              <a:off x="5100480" y="3365280"/>
              <a:ext cx="906480" cy="29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05"/>
            <p:cNvSpPr/>
            <p:nvPr/>
          </p:nvSpPr>
          <p:spPr>
            <a:xfrm>
              <a:off x="5985000" y="2736720"/>
              <a:ext cx="960480" cy="96048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6e6c2"/>
                  </a:solidFill>
                  <a:latin typeface="Arial"/>
                </a:rPr>
                <a:t>H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6e6c2"/>
                  </a:solidFill>
                  <a:latin typeface="Arial"/>
                </a:rPr>
                <a:t>plan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06"/>
            <p:cNvSpPr/>
            <p:nvPr/>
          </p:nvSpPr>
          <p:spPr>
            <a:xfrm flipV="1">
              <a:off x="4929120" y="2650680"/>
              <a:ext cx="557280" cy="77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07"/>
            <p:cNvSpPr/>
            <p:nvPr/>
          </p:nvSpPr>
          <p:spPr>
            <a:xfrm>
              <a:off x="5257800" y="1752480"/>
              <a:ext cx="960480" cy="96048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108"/>
            <p:cNvSpPr/>
            <p:nvPr/>
          </p:nvSpPr>
          <p:spPr>
            <a:xfrm flipV="1">
              <a:off x="4648320" y="2381040"/>
              <a:ext cx="0" cy="9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09"/>
            <p:cNvSpPr/>
            <p:nvPr/>
          </p:nvSpPr>
          <p:spPr>
            <a:xfrm>
              <a:off x="4191120" y="1447920"/>
              <a:ext cx="961920" cy="960480"/>
            </a:xfrm>
            <a:prstGeom prst="ellipse">
              <a:avLst/>
            </a:prstGeom>
            <a:solidFill>
              <a:srgbClr val="b22626"/>
            </a:solidFill>
            <a:ln w="9360">
              <a:solidFill>
                <a:srgbClr val="e6e6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10"/>
            <p:cNvSpPr/>
            <p:nvPr/>
          </p:nvSpPr>
          <p:spPr>
            <a:xfrm>
              <a:off x="4167360" y="3330720"/>
              <a:ext cx="961920" cy="9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Job Analysis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-360" y="964800"/>
            <a:ext cx="241308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most all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  <a:ea typeface="Times New Roman"/>
              </a:rPr>
              <a:t>H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ctivities are tied to job analysis; it is the starting point for sound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  <a:ea typeface="Times New Roman"/>
              </a:rPr>
              <a:t>H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87"/>
          <p:cNvSpPr/>
          <p:nvPr/>
        </p:nvSpPr>
        <p:spPr>
          <a:xfrm>
            <a:off x="3886200" y="3124080"/>
            <a:ext cx="1523880" cy="1447920"/>
          </a:xfrm>
          <a:prstGeom prst="octagon">
            <a:avLst>
              <a:gd name="adj" fmla="val 29287"/>
            </a:avLst>
          </a:prstGeom>
          <a:solidFill>
            <a:srgbClr val="b22626"/>
          </a:solidFill>
          <a:ln w="93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6e6c2"/>
                </a:solidFill>
                <a:latin typeface="Arial"/>
              </a:rPr>
              <a:t>job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6e6c2"/>
                </a:solidFill>
                <a:latin typeface="Arial"/>
              </a:rPr>
              <a:t>job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6e6c2"/>
                </a:solidFill>
                <a:latin typeface="Arial"/>
              </a:rPr>
              <a:t>job specif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13"/>
          <p:cNvSpPr/>
          <p:nvPr/>
        </p:nvSpPr>
        <p:spPr>
          <a:xfrm>
            <a:off x="3047040" y="5168880"/>
            <a:ext cx="955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6e6c2"/>
                </a:solidFill>
                <a:latin typeface="Arial"/>
              </a:rPr>
              <a:t>performan</a:t>
            </a:r>
            <a:r>
              <a:rPr b="0" lang="en-US" sz="1000" spc="-1" strike="noStrike">
                <a:solidFill>
                  <a:srgbClr val="e6e6c2"/>
                </a:solidFill>
                <a:latin typeface="Arial"/>
              </a:rPr>
              <a:t>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6e6c2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14"/>
          <p:cNvSpPr/>
          <p:nvPr/>
        </p:nvSpPr>
        <p:spPr>
          <a:xfrm>
            <a:off x="2363760" y="426708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6e6c2"/>
                </a:solidFill>
                <a:latin typeface="Arial"/>
              </a:rPr>
              <a:t>compen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15"/>
          <p:cNvSpPr/>
          <p:nvPr/>
        </p:nvSpPr>
        <p:spPr>
          <a:xfrm>
            <a:off x="5362920" y="51055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e6c2"/>
                </a:solidFill>
                <a:latin typeface="Arial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e6c2"/>
                </a:solidFill>
                <a:latin typeface="Arial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16"/>
          <p:cNvSpPr/>
          <p:nvPr/>
        </p:nvSpPr>
        <p:spPr>
          <a:xfrm>
            <a:off x="5939640" y="4067280"/>
            <a:ext cx="982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6e6c2"/>
                </a:solidFill>
                <a:latin typeface="Arial"/>
              </a:rPr>
              <a:t>employ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6e6c2"/>
                </a:solidFill>
                <a:latin typeface="Arial"/>
              </a:rPr>
              <a:t>develop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17"/>
          <p:cNvSpPr/>
          <p:nvPr/>
        </p:nvSpPr>
        <p:spPr>
          <a:xfrm>
            <a:off x="4203720" y="5486400"/>
            <a:ext cx="90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6e6c2"/>
                </a:solidFill>
                <a:latin typeface="Arial"/>
              </a:rPr>
              <a:t>car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6e6c2"/>
                </a:solidFill>
                <a:latin typeface="Arial"/>
              </a:rPr>
              <a:t>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18"/>
          <p:cNvSpPr/>
          <p:nvPr/>
        </p:nvSpPr>
        <p:spPr>
          <a:xfrm>
            <a:off x="4238640" y="178272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e6c2"/>
                </a:solidFill>
                <a:latin typeface="Arial"/>
              </a:rPr>
              <a:t>recru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19"/>
          <p:cNvSpPr/>
          <p:nvPr/>
        </p:nvSpPr>
        <p:spPr>
          <a:xfrm>
            <a:off x="5376240" y="20574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e6c2"/>
                </a:solidFill>
                <a:latin typeface="Arial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0BF028AD-42EE-4CF5-9580-2E8B569FA00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28" descr="The Coverimage"/>
          <p:cNvPicPr/>
          <p:nvPr/>
        </p:nvPicPr>
        <p:blipFill>
          <a:blip r:embed="rId1"/>
          <a:stretch/>
        </p:blipFill>
        <p:spPr>
          <a:xfrm>
            <a:off x="380880" y="5257800"/>
            <a:ext cx="933480" cy="1009800"/>
          </a:xfrm>
          <a:prstGeom prst="rect">
            <a:avLst/>
          </a:prstGeom>
          <a:ln w="0">
            <a:noFill/>
          </a:ln>
        </p:spPr>
      </p:pic>
      <p:sp>
        <p:nvSpPr>
          <p:cNvPr id="798" name="Text Box 29"/>
          <p:cNvSpPr/>
          <p:nvPr/>
        </p:nvSpPr>
        <p:spPr>
          <a:xfrm>
            <a:off x="1371600" y="571500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abe16"/>
                </a:solidFill>
                <a:latin typeface="Arial"/>
              </a:rPr>
              <a:t>Video: Jim Harris, Three Keys to Maximize Produ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Job Analysis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800" name="Rectangle 31"/>
          <p:cNvSpPr/>
          <p:nvPr/>
        </p:nvSpPr>
        <p:spPr>
          <a:xfrm>
            <a:off x="234720" y="1066680"/>
            <a:ext cx="77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design is how a position and its tasks are organ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2"/>
          <p:cNvSpPr/>
          <p:nvPr/>
        </p:nvSpPr>
        <p:spPr>
          <a:xfrm>
            <a:off x="1371600" y="1676520"/>
            <a:ext cx="5943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job design enriches and motivates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skill variety      task identity      task significa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autonomy      feedback from job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3"/>
          <p:cNvSpPr/>
          <p:nvPr/>
        </p:nvSpPr>
        <p:spPr>
          <a:xfrm>
            <a:off x="1371600" y="2819520"/>
            <a:ext cx="64692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work schedules keep employees motivated and loy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flex time   job sharing   telecomm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4"/>
          <p:cNvSpPr/>
          <p:nvPr/>
        </p:nvSpPr>
        <p:spPr>
          <a:xfrm>
            <a:off x="1389240" y="4038480"/>
            <a:ext cx="69339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f </a:t>
            </a:r>
            <a:r>
              <a:rPr b="0" lang="en-US" sz="2000" spc="-1" strike="noStrike">
                <a:solidFill>
                  <a:srgbClr val="b22626"/>
                </a:solidFill>
                <a:latin typeface="Arial"/>
              </a:rPr>
              <a:t>H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nning and job analysis is finding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technical and interpersonal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4940458E-2713-4BAF-ABC7-3D81B3EAE3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True or False?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807" name="Text Box 10"/>
          <p:cNvSpPr/>
          <p:nvPr/>
        </p:nvSpPr>
        <p:spPr>
          <a:xfrm>
            <a:off x="333360" y="841320"/>
            <a:ext cx="770904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HR planning must be separate from the organization’s overall strate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Fal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mission statement defines what business the organization is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Tru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o forecast staff requirements, HR creates an inventory of future staffing needs for job level and type, broken down by dec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Fal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Job analysis is a systematic exploration of the activities within a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Tru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A position analysis questionnaire is more qualitative than quantitative in n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Fal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Job design is how a position and its tasks are organiz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2626"/>
                </a:solidFill>
                <a:latin typeface="Arial"/>
              </a:rPr>
              <a:t>Tru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8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8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8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FF82DBE5-AEDF-4744-A06C-8103D1DD17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892080" y="154908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  <a:ea typeface="Times New Roman"/>
              </a:rPr>
              <a:t>H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lanning must 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nked to the organization’s overall strategy to compete domestically and glob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lated into the number and types of workers need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1258920" y="5419800"/>
            <a:ext cx="56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22626"/>
                </a:solidFill>
                <a:latin typeface="Arial"/>
              </a:rPr>
              <a:t>Senior HRM staff need to lead top management in planning for HRM issues</a:t>
            </a:r>
            <a:r>
              <a:rPr b="1" lang="en-US" sz="2000" spc="-1" strike="noStrike">
                <a:solidFill>
                  <a:srgbClr val="b2262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F1522C81-98F3-420A-BDBB-A2B319FBFA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609480" y="148392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ission state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defines what business the organization is in, inclu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y it ex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o its customer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goals set by senior management to establish targets for the organization to achie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2626"/>
                </a:solidFill>
                <a:latin typeface="Arial"/>
                <a:ea typeface="Times New Roman"/>
              </a:rPr>
              <a:t>An Organizational Framework</a:t>
            </a:r>
            <a:endParaRPr b="0" lang="en-US" sz="2800" spc="-1" strike="noStrike">
              <a:solidFill>
                <a:srgbClr val="b22626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1150200" y="5616720"/>
            <a:ext cx="68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  <a:ea typeface="Arial"/>
              </a:rPr>
              <a:t>Goals are generally defined for the next 5-2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7C0538B1-E33A-4977-A8A5-314AED9E346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96600" y="1574280"/>
            <a:ext cx="6659640" cy="23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uring a corporate assessment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WOT (Strengths-Weaknesses-Opportunities-Threats) analysis determines what is needed to meet object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rengths and weaknesses and core competencies are identif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80880" y="5181480"/>
            <a:ext cx="851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22626"/>
                </a:solidFill>
                <a:latin typeface="Arial"/>
              </a:rPr>
              <a:t>HRM determines what knowledge, skills, and abilities are needed by the organization’s human resources through a job 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R Planning</a:t>
            </a:r>
            <a:endParaRPr b="0" lang="en-US" sz="24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91830E04-944B-4B09-8181-6C35A163616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1066680" y="1828800"/>
            <a:ext cx="3124440" cy="731880"/>
          </a:xfrm>
          <a:prstGeom prst="rect">
            <a:avLst/>
          </a:prstGeom>
          <a:solidFill>
            <a:srgbClr val="b22626"/>
          </a:solidFill>
          <a:ln w="93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c2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1066680" y="2762280"/>
            <a:ext cx="3124440" cy="730080"/>
          </a:xfrm>
          <a:prstGeom prst="rect">
            <a:avLst/>
          </a:prstGeom>
          <a:solidFill>
            <a:srgbClr val="b22626"/>
          </a:solidFill>
          <a:ln w="93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c2"/>
                </a:solidFill>
                <a:latin typeface="Arial"/>
              </a:rPr>
              <a:t>objectives and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1066680" y="3654360"/>
            <a:ext cx="3124440" cy="731880"/>
          </a:xfrm>
          <a:prstGeom prst="rect">
            <a:avLst/>
          </a:prstGeom>
          <a:solidFill>
            <a:srgbClr val="b22626"/>
          </a:solidFill>
          <a:ln w="93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c2"/>
                </a:solidFill>
                <a:latin typeface="Arial"/>
              </a:rPr>
              <a:t>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9"/>
          <p:cNvSpPr/>
          <p:nvPr/>
        </p:nvSpPr>
        <p:spPr>
          <a:xfrm>
            <a:off x="1066680" y="4548240"/>
            <a:ext cx="3124440" cy="730080"/>
          </a:xfrm>
          <a:prstGeom prst="rect">
            <a:avLst/>
          </a:prstGeom>
          <a:solidFill>
            <a:srgbClr val="b22626"/>
          </a:solidFill>
          <a:ln w="93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c2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0"/>
          <p:cNvSpPr/>
          <p:nvPr/>
        </p:nvSpPr>
        <p:spPr>
          <a:xfrm>
            <a:off x="1066680" y="5442120"/>
            <a:ext cx="3124440" cy="730080"/>
          </a:xfrm>
          <a:prstGeom prst="rect">
            <a:avLst/>
          </a:prstGeom>
          <a:solidFill>
            <a:srgbClr val="b22626"/>
          </a:solidFill>
          <a:ln w="9360">
            <a:solidFill>
              <a:srgbClr val="e6e6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c2"/>
                </a:solidFill>
                <a:latin typeface="Arial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5"/>
          <p:cNvSpPr/>
          <p:nvPr/>
        </p:nvSpPr>
        <p:spPr>
          <a:xfrm>
            <a:off x="1143000" y="1295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EGIC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6"/>
          <p:cNvSpPr/>
          <p:nvPr/>
        </p:nvSpPr>
        <p:spPr>
          <a:xfrm>
            <a:off x="4724280" y="1295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H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8"/>
          <p:cNvSpPr/>
          <p:nvPr/>
        </p:nvSpPr>
        <p:spPr>
          <a:xfrm>
            <a:off x="838080" y="1868400"/>
            <a:ext cx="0" cy="422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28"/>
          <p:cNvGrpSpPr/>
          <p:nvPr/>
        </p:nvGrpSpPr>
        <p:grpSpPr>
          <a:xfrm>
            <a:off x="4267080" y="1905120"/>
            <a:ext cx="3962520" cy="642600"/>
            <a:chOff x="4267080" y="1905120"/>
            <a:chExt cx="3962520" cy="642600"/>
          </a:xfrm>
        </p:grpSpPr>
        <p:sp>
          <p:nvSpPr>
            <p:cNvPr id="631" name="Text Box 11"/>
            <p:cNvSpPr/>
            <p:nvPr/>
          </p:nvSpPr>
          <p:spPr>
            <a:xfrm>
              <a:off x="4800600" y="19051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termining organization’s 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22"/>
            <p:cNvSpPr/>
            <p:nvPr/>
          </p:nvSpPr>
          <p:spPr>
            <a:xfrm>
              <a:off x="4267080" y="21938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29"/>
          <p:cNvGrpSpPr/>
          <p:nvPr/>
        </p:nvGrpSpPr>
        <p:grpSpPr>
          <a:xfrm>
            <a:off x="4267080" y="2819520"/>
            <a:ext cx="3353040" cy="642600"/>
            <a:chOff x="4267080" y="2819520"/>
            <a:chExt cx="3353040" cy="642600"/>
          </a:xfrm>
        </p:grpSpPr>
        <p:sp>
          <p:nvSpPr>
            <p:cNvPr id="634" name="Text Box 12"/>
            <p:cNvSpPr/>
            <p:nvPr/>
          </p:nvSpPr>
          <p:spPr>
            <a:xfrm>
              <a:off x="4800600" y="2819520"/>
              <a:ext cx="281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ting goals and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3"/>
            <p:cNvSpPr/>
            <p:nvPr/>
          </p:nvSpPr>
          <p:spPr>
            <a:xfrm>
              <a:off x="4267080" y="316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Group 30"/>
          <p:cNvGrpSpPr/>
          <p:nvPr/>
        </p:nvGrpSpPr>
        <p:grpSpPr>
          <a:xfrm>
            <a:off x="4267080" y="3733920"/>
            <a:ext cx="3657600" cy="642600"/>
            <a:chOff x="4267080" y="3733920"/>
            <a:chExt cx="3657600" cy="642600"/>
          </a:xfrm>
        </p:grpSpPr>
        <p:sp>
          <p:nvSpPr>
            <p:cNvPr id="637" name="Text Box 13"/>
            <p:cNvSpPr/>
            <p:nvPr/>
          </p:nvSpPr>
          <p:spPr>
            <a:xfrm>
              <a:off x="4800600" y="373392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termining how to attain goals and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24"/>
            <p:cNvSpPr/>
            <p:nvPr/>
          </p:nvSpPr>
          <p:spPr>
            <a:xfrm>
              <a:off x="4267080" y="4060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31"/>
          <p:cNvGrpSpPr/>
          <p:nvPr/>
        </p:nvGrpSpPr>
        <p:grpSpPr>
          <a:xfrm>
            <a:off x="4267080" y="4572000"/>
            <a:ext cx="4114800" cy="642600"/>
            <a:chOff x="4267080" y="4572000"/>
            <a:chExt cx="4114800" cy="642600"/>
          </a:xfrm>
        </p:grpSpPr>
        <p:sp>
          <p:nvSpPr>
            <p:cNvPr id="640" name="Text Box 14"/>
            <p:cNvSpPr/>
            <p:nvPr/>
          </p:nvSpPr>
          <p:spPr>
            <a:xfrm>
              <a:off x="4800600" y="4572000"/>
              <a:ext cx="35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termining what jobs need to be done and by wh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25"/>
            <p:cNvSpPr/>
            <p:nvPr/>
          </p:nvSpPr>
          <p:spPr>
            <a:xfrm>
              <a:off x="4267080" y="487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32"/>
          <p:cNvGrpSpPr/>
          <p:nvPr/>
        </p:nvGrpSpPr>
        <p:grpSpPr>
          <a:xfrm>
            <a:off x="4267080" y="5442120"/>
            <a:ext cx="3733920" cy="642600"/>
            <a:chOff x="4267080" y="5442120"/>
            <a:chExt cx="3733920" cy="642600"/>
          </a:xfrm>
        </p:grpSpPr>
        <p:sp>
          <p:nvSpPr>
            <p:cNvPr id="643" name="Text Box 5"/>
            <p:cNvSpPr/>
            <p:nvPr/>
          </p:nvSpPr>
          <p:spPr>
            <a:xfrm>
              <a:off x="4800600" y="544212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ching skills, knowledge, and abilities to required jo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26"/>
            <p:cNvSpPr/>
            <p:nvPr/>
          </p:nvSpPr>
          <p:spPr>
            <a:xfrm>
              <a:off x="4267080" y="5765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R Planning</a:t>
            </a:r>
            <a:endParaRPr b="0" lang="en-US" sz="24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9F9929A5-65FF-45A4-9DC9-AA6D7586226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894960" y="1553760"/>
            <a:ext cx="717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  <a:ea typeface="Times New Roman"/>
              </a:rPr>
              <a:t>H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must ensure staff levels meet strategi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lanning goal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Times New Roman"/>
              </a:rPr>
              <a:t>H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ventory report summarizes information on current workers and their ski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Times New Roman"/>
              </a:rPr>
              <a:t>H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formation systems (HR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 employee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ickly generate analyses and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compensation/benefits sup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R Planning</a:t>
            </a:r>
            <a:endParaRPr b="0" lang="en-US" sz="24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8C87C144-B2BB-4413-9DBC-6653CE5358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2500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uccession planning includes the development of replacement charts t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rtray middle- to upper-level management positions that may become vacant in the near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st information about individuals who might qualify to fill the pos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R Planning</a:t>
            </a:r>
            <a:endParaRPr b="0" lang="en-US" sz="24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عنصر نائب للتذييل 3"/>
          <p:cNvSpPr/>
          <p:nvPr/>
        </p:nvSpPr>
        <p:spPr>
          <a:xfrm>
            <a:off x="380880" y="64771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damentals of Human Resource Management, 10/e, DeCenzo/Rob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عنصر نائب لرقم الشريحة 4"/>
          <p:cNvSpPr/>
          <p:nvPr/>
        </p:nvSpPr>
        <p:spPr>
          <a:xfrm>
            <a:off x="7391520" y="6534000"/>
            <a:ext cx="15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pter 5, slide </a:t>
            </a:r>
            <a:fld id="{D5E0696B-75DB-4400-8DB8-AD9C37BE7F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238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  <a:ea typeface="Times New Roman"/>
              </a:rPr>
              <a:t>H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must forecast staff require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Times New Roman"/>
              </a:rPr>
              <a:t>H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reates an inventory of future staffing needs for job level and type, broken down by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ecasts must detail the specific knowledge, skills, and abilities needed, not just “we need 25 new employees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2626"/>
                </a:solidFill>
                <a:latin typeface="Arial"/>
                <a:ea typeface="Times New Roman"/>
              </a:rPr>
              <a:t>Linking Organizational Strategy to HR Planning</a:t>
            </a:r>
            <a:endParaRPr b="0" lang="en-US" sz="2400" spc="-1" strike="noStrike">
              <a:solidFill>
                <a:srgbClr val="b2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14:46:00Z</dcterms:created>
  <dc:creator>dkear</dc:creator>
  <dc:description/>
  <dc:language>en-US</dc:language>
  <cp:lastModifiedBy>na</cp:lastModifiedBy>
  <dcterms:modified xsi:type="dcterms:W3CDTF">2015-06-28T18:00:08Z</dcterms:modified>
  <cp:revision>149</cp:revision>
  <dc:subject/>
  <dc:title>Introduction</dc:title>
</cp:coreProperties>
</file>