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25E5-1CBF-4FF1-86BA-2DD9E0AC9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E90E-CDD8-49B6-8010-6EE3EAA4F0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D2BF0-79F1-4417-949E-9066EFB3C09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C980E9-2D27-43BF-B5F4-5D89B110D2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0D5AB1-9C37-4B2B-BFCF-297C752E1A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04F1E3-0ED6-496B-81F0-9D089D6E12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BA1B1-2979-4911-A6A1-0E6A544E4A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0D469A-AB1D-4611-8B17-480704E4F0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3966C-F69C-4762-89CF-C3F14F5AE0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89C485-D0CA-44CA-84CC-12CE255021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31698-18CA-4FC4-9D19-BF637C41480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45F9-40F0-4055-BCE5-11A52E00B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B512-A39D-4D65-B6EF-A29719BBF4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359E-EA76-4727-B5D2-4A21B569FB9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A72F0-11CA-4704-BF35-F648B4CE9E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D06AD-0594-44F8-82AF-ECEAED3DFFF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E8C9-9AD4-45BD-B721-E8B8EE0488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DBC6-50BB-474D-9109-A1C897437D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F1F2-AF13-4796-9C42-0EB20EFBAA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F675-DB5D-4C27-98E0-10C58257AF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C312-7EFF-495F-BC9E-972406CED0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B918-519A-48B7-8FD7-AA2EE0C86F2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D8C25-C4F7-45DD-AF12-C2ECB86FC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7355-4F77-453B-B838-4B6A98174D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ABD5-EC38-4608-8105-A7B0B02E02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0E7C1-CF66-43D0-BFBC-1FA9A07B2A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DB867-F946-43E9-925F-97026FDA924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FB52B-C075-4B30-9A57-B85F775D77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2D47F-99D5-4C49-BD95-C110A76BFC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3004A-ECC9-40BA-B124-C76E45F2AE2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7B965-5A66-4A04-9B95-CD3B39932C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88825-DB5C-44A4-92B3-A2A7CF7B15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C639D-B0F1-4820-80F9-FB48FE431E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C8659-F348-4A22-8A5B-0C4EE5F02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D1614-0398-41B3-82DB-4972F430AAB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49A23-A936-40F3-BC7F-F1FE96BB6E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53BA8-C1F5-4B1B-868B-6E3BD36F3B3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B3FE96-5B43-4AF4-BF4F-B1EF379DB5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B3BE0D-60FD-4CCA-95EB-E2C5A5C315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CD927-7BFE-4314-AF2E-0557508334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A2D094-DE41-4D57-8377-EA4745B3B2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3D76D-1881-4009-9C31-7FF6541F6DD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97A59-DE82-4678-BB8A-AC46A3C7AC7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93A0F-8C72-491D-896A-7533A0E30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F7033-F758-4122-99B6-47FF5ADAAA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26889-4515-4F31-867E-D097C2B947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D4DCBA-AF15-4574-A69F-548A11B4A9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66046F-05E1-4A61-A650-A69FA46610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BB5546-3777-4733-83BC-E396065AF9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73C33-D1E3-4B98-B6D3-FF167F86A5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43BAE-1772-445E-AB58-5BEDCC7F12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CB8F1-B419-4373-8EF7-6E17E14AEC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BCCCD-9672-4420-81BF-F7C783B989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BA0B-3679-430A-AFA9-C7F9A6FCD7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84E91-A152-4D2A-8692-DDF48D646A7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E03B-129F-4003-A05A-23300A799F3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52641-5141-4B2D-81E8-8EB9576F3A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AD20A-78A6-4E36-A515-F1B0410CEC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E6C1B-CE7C-4F5C-92CD-96B7285008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A359-D1A7-489E-BF9B-E7072D5254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97014-F4CF-4402-A78B-7668807D8D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0B37F-4557-4A7C-A205-3ABFB53608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FC4C9-0A19-4A7A-8F91-BBD5F6243D6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39F89D-2111-4C4D-89EF-754563DC6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A6D07-51B0-4362-A8B1-311E53ACEC8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4F5191-9EE5-402C-9959-798233B4E5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5E066-7C48-45F3-A85D-B5CA47EA0FD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C6ED0-C8A2-4451-89E2-B626E3ABF4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413D0-8F71-44E9-B747-B32FEC17D1D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ACF4B-19C7-46F5-9AAB-95013CAF1E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5C7EFA-DD15-4593-9E95-D1F590CF14A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8F60DF-398A-42FC-85A3-7E10CB0716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189BA-48D2-489E-80F5-A939E010DF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8DB2-94BC-41A3-8E12-47B1E1D05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6A20-C8C2-43B5-8546-C67B406AAE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E036E-787A-4EE4-8D1E-590371B499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6A6FD-E1F4-44D0-923D-D5B490C78C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3A341-E569-4E52-8258-75A0E2B8F8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3D952-1E4B-45DF-A88D-A53385D04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AFDA-48A5-4947-B6C7-2E30835AD3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34525-7D6A-4E72-AEAC-C8C5488AC2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1BDD8-750B-418E-813F-78FD48D8ED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7601B-107A-4FE6-9C67-C3A9528361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BFDCB-7BE9-486E-A911-86CFC19705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0C598-3AC8-4D3F-BAC2-F736C9220E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F673-756F-4203-9692-5A385E13F3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2A43A-70EE-42B8-B0B7-3F265619B4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152-5119-42DF-B51D-2C112B4784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9DEC-A532-4DA7-86B8-2748685533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F424-11DE-4264-9D04-A5A871DF1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1603-B5CB-4E2C-B7E5-07C2BC7EDF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D0CF-5EFE-4D9E-B48F-0636951C97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2F39-3B52-47A0-96FD-EB225B3164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5D4F-AE64-4B93-9733-1BD5D043E7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40B-7915-47B5-957A-3929E4C57E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B6B1-6582-4EC9-BC9D-4FEBDEE21B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E399-AD9B-4F97-A818-BD07CF61AB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BAB-6EC6-493D-882D-70AC20463C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761D-2C21-48B8-BE5B-22ABC59173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7547-C415-4EF3-B2F3-0712B862F1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E741E-2AA3-44E9-8C73-E52A54337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1E04-AE21-48B2-9B6D-C2C104F5E7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60802-21E2-4706-A5CC-44B40D1188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18425-1B35-4CA9-A976-46CABD8F32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1A881-4745-45FF-9C6C-7A2F7A26B3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C0418-8F7E-43F0-BE0F-B9D13B9DE0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EE461-2062-497A-864C-581F02B7C7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3AB7B-9125-4F97-AF18-B631A2E0B1D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3D253-EB69-4136-81CF-1660A648D3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746FA-7968-43B4-964D-596EB8744C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2E75C-D687-4D2C-B0E0-00A953D255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1C224-68F2-4C97-95B7-7B4726F3B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8DE7-6486-4E55-93EF-6F265A5889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986AE-FB8E-48C7-A120-DA03406EE6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77A36-D6D4-49A6-B2AA-F28F1067F1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A6CF8-FDCE-4FA7-9651-AF09968DA7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80E17D-1425-449B-A905-6848DA4DE9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C824B-B67F-4B84-B1EE-86E19808B4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DDA76-7224-4BDD-98E4-99CCBADDF37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812D3-48BC-4CFD-AB13-25A1160170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8BFB5-D29A-4EE3-9313-3B56D9B0B4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BB425-AE35-4DB4-964A-EC1EFA8BF5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56EA0-B78B-4861-8A00-5175F3B78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489E-5286-4889-B33C-92EB0CF42C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6EBEA-F49C-4206-BFB8-B572EDDF24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00CA5-2A0A-4F35-AD79-5D22D1DD6A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275CF-A28B-4958-8ABC-31B2D24FFC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3658-0714-486E-9EAA-A3F796D898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98E3-A5E8-41DA-9FA0-8245E617DF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9017-1538-4827-9A89-62B6ACB753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8A32E-A5F7-477C-A029-1962E94381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1010-0C53-4560-AD4B-BCA44A0A9D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3BCC-C751-447A-96A9-913C3FC703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2985-FECC-4BE6-9226-B62D18EE1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5B55-FE2D-43A3-9DB7-97133901F3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98AC-504D-4695-8807-AC25006BE3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8F1A-8CF2-4AAF-811B-3183D0BF4A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4265-8EC0-49D1-A95A-91C5060A4F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A102-3AD0-4A8B-8C93-5AF75423A1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C443D-6F5D-4319-A72B-1512B9C06F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E9289-DDF5-46B7-BFBC-FD0D7917A3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38DFF-4BC2-4F02-B9C7-A29C2629DD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7E08B-7B15-4617-AABC-DD2102E06D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50922-8AEF-43C2-9FD4-822B80268A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F7013-4203-40D8-8E25-468A0907A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5BC4-6C67-4A1F-AC0A-8FB3CD299E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EB68E-B4FE-4A68-879B-827EF95E5C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24E67-72A4-4B28-9556-ADB3AA41AD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4C98B-A743-4A75-9542-34532B465B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DB440-D1CB-4DD3-99A8-ACB6C97CB3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24E30-F073-4A1C-B57A-A5D5BEC656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768FB-83B5-437D-8181-573C4AD9C5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6EB4E-0283-4443-9E07-EB7C7A329D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6ABDF-4CFB-439D-8B6D-5C604199E2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01C9F-FAD0-407B-84B6-2C3797EAD3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1FD42-96E1-4F12-BB61-450697F4B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3A9F06A4-C6C7-481D-8E1C-06C6F38CAD3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D37F117E-4D1E-453D-9A13-2BE116FA731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965138B2-3B1F-4D15-845E-C3C06222D95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2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16DBE99A-E2B8-4AFB-A3ED-414AF255FDA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2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2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3750F91E-9395-4955-8879-FFB2F78338F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2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2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40A103AA-C919-40C2-8609-D76B20CB4F3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803BBFEA-1418-45DD-8CD9-0A1CF3DB97E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42427C71-D590-46F7-A16F-3C93370B8F6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B9AB7EEC-156F-4BD0-99DB-F5E05DEA176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5F22C02C-EA4A-4B43-B446-932A0C4362A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72B3D7B3-EDD5-42BB-9A11-0D06AA72E54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67F0E0E6-084B-4B63-97F9-0EACBDCA2AE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77E2CC34-BF9F-4D10-9400-D1A5AAC7D98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affing-and-recruiting-essentials.com/Sample-Job-Analysis.html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nline.onetcenter.org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9344E81A-30DA-48DA-ABB5-53AE43AC0D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6" descr="covertitle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838080" y="1905120"/>
            <a:ext cx="57150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c2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c2"/>
                </a:solidFill>
                <a:latin typeface="Arial"/>
              </a:rPr>
              <a:t>Human Resourc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c2"/>
                </a:solidFill>
                <a:latin typeface="Arial"/>
              </a:rPr>
              <a:t>and Job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2B3A1DE-22F8-4E28-9750-858FCB7471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uman Resource Planning</a:t>
            </a:r>
            <a:endParaRPr b="0" lang="en-US" sz="20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36560" y="1066320"/>
            <a:ext cx="7493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edicts the future labor supp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unit’s supply of human resources com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g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s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returning from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dicting these can range from simple to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s are more difficult to predict since they depend on actions in othe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5E0B1011-D07C-4C31-88FE-3BDA3B4335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657000" y="979560"/>
            <a:ext cx="68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reases in internal supply come about throug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832040" y="1546200"/>
            <a:ext cx="5530680" cy="4667760"/>
          </a:xfrm>
          <a:prstGeom prst="rect">
            <a:avLst/>
          </a:prstGeom>
          <a:gradFill rotWithShape="0">
            <a:gsLst>
              <a:gs pos="0">
                <a:srgbClr val="e6e6c2">
                  <a:alpha val="21176"/>
                </a:srgbClr>
              </a:gs>
              <a:gs pos="100000">
                <a:srgbClr val="a30d09"/>
              </a:gs>
            </a:gsLst>
            <a:lin ang="5400000"/>
          </a:gradFill>
          <a:ln w="5724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s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f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bbatic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qu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onged illn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s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E7FDD01A-D441-4A86-9E69-ADCDA76EBE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711360" y="1036800"/>
            <a:ext cx="72388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didates come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into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 gradu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returning from milita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in the number of unemployed and employed individuals seeking other opportunities, either part-time or ful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57200" y="55292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The potential labor supply can be expanded by formal or</a:t>
            </a:r>
            <a:br>
              <a:rPr sz="2000"/>
            </a:b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 on-the-job 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C624CD63-D185-4819-A126-506B940BAD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929880" y="1293480"/>
            <a:ext cx="716292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o match labor demand and supply,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forecasts for demand and supply of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s current and future shortages, and overstaffing. Sometimes, strategic goals must change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downsizing to reduce supply and balance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AD013877-4415-4762-B84F-33A5FFD120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447920" y="12762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ment Plan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grpSp>
        <p:nvGrpSpPr>
          <p:cNvPr id="680" name="Group 56"/>
          <p:cNvGrpSpPr/>
          <p:nvPr/>
        </p:nvGrpSpPr>
        <p:grpSpPr>
          <a:xfrm>
            <a:off x="4626000" y="2984400"/>
            <a:ext cx="1241280" cy="690840"/>
            <a:chOff x="4626000" y="2984400"/>
            <a:chExt cx="1241280" cy="690840"/>
          </a:xfrm>
        </p:grpSpPr>
        <p:sp>
          <p:nvSpPr>
            <p:cNvPr id="681" name="Line 44"/>
            <p:cNvSpPr/>
            <p:nvPr/>
          </p:nvSpPr>
          <p:spPr>
            <a:xfrm>
              <a:off x="5251320" y="3138480"/>
              <a:ext cx="18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0"/>
            <p:cNvSpPr/>
            <p:nvPr/>
          </p:nvSpPr>
          <p:spPr>
            <a:xfrm>
              <a:off x="4626000" y="2984400"/>
              <a:ext cx="1241280" cy="2613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mand for lab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4570920" y="3745080"/>
            <a:ext cx="1476000" cy="596160"/>
            <a:chOff x="4570920" y="3745080"/>
            <a:chExt cx="1476000" cy="596160"/>
          </a:xfrm>
        </p:grpSpPr>
        <p:sp>
          <p:nvSpPr>
            <p:cNvPr id="684" name="Line 50"/>
            <p:cNvSpPr/>
            <p:nvPr/>
          </p:nvSpPr>
          <p:spPr>
            <a:xfrm>
              <a:off x="5248440" y="4322880"/>
              <a:ext cx="79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1"/>
            <p:cNvSpPr/>
            <p:nvPr/>
          </p:nvSpPr>
          <p:spPr>
            <a:xfrm>
              <a:off x="5243400" y="3817800"/>
              <a:ext cx="79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1"/>
            <p:cNvSpPr/>
            <p:nvPr/>
          </p:nvSpPr>
          <p:spPr>
            <a:xfrm>
              <a:off x="4570920" y="3745080"/>
              <a:ext cx="127188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are dem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 and supply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35"/>
          <p:cNvSpPr/>
          <p:nvPr/>
        </p:nvSpPr>
        <p:spPr>
          <a:xfrm>
            <a:off x="7572240" y="3368520"/>
            <a:ext cx="1127160" cy="61164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6"/>
          <p:cNvSpPr/>
          <p:nvPr/>
        </p:nvSpPr>
        <p:spPr>
          <a:xfrm>
            <a:off x="7561440" y="4264200"/>
            <a:ext cx="1122120" cy="61164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53"/>
          <p:cNvGrpSpPr/>
          <p:nvPr/>
        </p:nvGrpSpPr>
        <p:grpSpPr>
          <a:xfrm>
            <a:off x="415800" y="3689280"/>
            <a:ext cx="1098720" cy="596160"/>
            <a:chOff x="415800" y="3689280"/>
            <a:chExt cx="1098720" cy="596160"/>
          </a:xfrm>
        </p:grpSpPr>
        <p:sp>
          <p:nvSpPr>
            <p:cNvPr id="690" name="Text Box 27"/>
            <p:cNvSpPr/>
            <p:nvPr/>
          </p:nvSpPr>
          <p:spPr>
            <a:xfrm>
              <a:off x="415800" y="3689280"/>
              <a:ext cx="94284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7"/>
            <p:cNvSpPr/>
            <p:nvPr/>
          </p:nvSpPr>
          <p:spPr>
            <a:xfrm>
              <a:off x="1413000" y="400212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54"/>
          <p:cNvGrpSpPr/>
          <p:nvPr/>
        </p:nvGrpSpPr>
        <p:grpSpPr>
          <a:xfrm>
            <a:off x="1569600" y="3683160"/>
            <a:ext cx="1300680" cy="596160"/>
            <a:chOff x="1569600" y="3683160"/>
            <a:chExt cx="1300680" cy="596160"/>
          </a:xfrm>
        </p:grpSpPr>
        <p:sp>
          <p:nvSpPr>
            <p:cNvPr id="693" name="Text Box 28"/>
            <p:cNvSpPr/>
            <p:nvPr/>
          </p:nvSpPr>
          <p:spPr>
            <a:xfrm>
              <a:off x="1569600" y="3683160"/>
              <a:ext cx="114696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rporate go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objectiv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8"/>
            <p:cNvSpPr/>
            <p:nvPr/>
          </p:nvSpPr>
          <p:spPr>
            <a:xfrm>
              <a:off x="2768760" y="402264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7"/>
          <p:cNvGrpSpPr/>
          <p:nvPr/>
        </p:nvGrpSpPr>
        <p:grpSpPr>
          <a:xfrm>
            <a:off x="6066000" y="3463920"/>
            <a:ext cx="1455480" cy="428760"/>
            <a:chOff x="6066000" y="3463920"/>
            <a:chExt cx="1455480" cy="428760"/>
          </a:xfrm>
        </p:grpSpPr>
        <p:sp>
          <p:nvSpPr>
            <p:cNvPr id="696" name="Text Box 34"/>
            <p:cNvSpPr/>
            <p:nvPr/>
          </p:nvSpPr>
          <p:spPr>
            <a:xfrm>
              <a:off x="6066000" y="3463920"/>
              <a:ext cx="1293480" cy="4287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mand excee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7419960" y="366084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8"/>
          <p:cNvGrpSpPr/>
          <p:nvPr/>
        </p:nvGrpSpPr>
        <p:grpSpPr>
          <a:xfrm>
            <a:off x="6097680" y="4210200"/>
            <a:ext cx="1423800" cy="459000"/>
            <a:chOff x="6097680" y="4210200"/>
            <a:chExt cx="1423800" cy="459000"/>
          </a:xfrm>
        </p:grpSpPr>
        <p:sp>
          <p:nvSpPr>
            <p:cNvPr id="699" name="Text Box 33"/>
            <p:cNvSpPr/>
            <p:nvPr/>
          </p:nvSpPr>
          <p:spPr>
            <a:xfrm>
              <a:off x="6097680" y="4210200"/>
              <a:ext cx="1274760" cy="45900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exc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1"/>
            <p:cNvSpPr/>
            <p:nvPr/>
          </p:nvSpPr>
          <p:spPr>
            <a:xfrm>
              <a:off x="7419960" y="443232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55"/>
          <p:cNvGrpSpPr/>
          <p:nvPr/>
        </p:nvGrpSpPr>
        <p:grpSpPr>
          <a:xfrm>
            <a:off x="2963880" y="3102120"/>
            <a:ext cx="1547640" cy="1944720"/>
            <a:chOff x="2963880" y="3102120"/>
            <a:chExt cx="1547640" cy="1944720"/>
          </a:xfrm>
        </p:grpSpPr>
        <p:sp>
          <p:nvSpPr>
            <p:cNvPr id="702" name="Text Box 29"/>
            <p:cNvSpPr/>
            <p:nvPr/>
          </p:nvSpPr>
          <p:spPr>
            <a:xfrm>
              <a:off x="2963880" y="3565440"/>
              <a:ext cx="1317240" cy="9309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ssess curren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- - - - - - - - - - - 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M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ob analy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2"/>
            <p:cNvSpPr/>
            <p:nvPr/>
          </p:nvSpPr>
          <p:spPr>
            <a:xfrm>
              <a:off x="3714840" y="503244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3"/>
            <p:cNvSpPr/>
            <p:nvPr/>
          </p:nvSpPr>
          <p:spPr>
            <a:xfrm>
              <a:off x="3713040" y="3108240"/>
              <a:ext cx="79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6"/>
            <p:cNvSpPr/>
            <p:nvPr/>
          </p:nvSpPr>
          <p:spPr>
            <a:xfrm flipV="1">
              <a:off x="3728880" y="46846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7"/>
            <p:cNvSpPr/>
            <p:nvPr/>
          </p:nvSpPr>
          <p:spPr>
            <a:xfrm>
              <a:off x="3733920" y="3102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49"/>
            <p:cNvSpPr/>
            <p:nvPr/>
          </p:nvSpPr>
          <p:spPr>
            <a:xfrm>
              <a:off x="3719520" y="503244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62"/>
          <p:cNvSpPr/>
          <p:nvPr/>
        </p:nvSpPr>
        <p:spPr>
          <a:xfrm>
            <a:off x="7680960" y="30243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69"/>
          <p:cNvGrpSpPr/>
          <p:nvPr/>
        </p:nvGrpSpPr>
        <p:grpSpPr>
          <a:xfrm>
            <a:off x="4658040" y="4437000"/>
            <a:ext cx="1264320" cy="798840"/>
            <a:chOff x="4658040" y="4437000"/>
            <a:chExt cx="1264320" cy="798840"/>
          </a:xfrm>
        </p:grpSpPr>
        <p:sp>
          <p:nvSpPr>
            <p:cNvPr id="710" name="Line 45"/>
            <p:cNvSpPr/>
            <p:nvPr/>
          </p:nvSpPr>
          <p:spPr>
            <a:xfrm>
              <a:off x="5245200" y="443700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6"/>
            <p:cNvSpPr/>
            <p:nvPr/>
          </p:nvSpPr>
          <p:spPr>
            <a:xfrm>
              <a:off x="4658040" y="4807080"/>
              <a:ext cx="1264320" cy="4287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ply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BDF9D4FB-0A63-4978-A93B-4906B4C479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630000" y="1595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ob analysis is a systematic exploration of the activities within a j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defines and documents the duties, responsibilities, and accountabilities of a job and the conditions under which a job is per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82560" y="5167440"/>
            <a:ext cx="78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804dff"/>
                </a:solidFill>
                <a:uFillTx/>
                <a:latin typeface="Arial"/>
                <a:hlinkClick r:id="rId1"/>
              </a:rPr>
              <a:t>http://www.staffing-and-recruiting-essentials.com/Sample-Job-Analysi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 sample job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D0F5083C-990C-4067-8062-A38C3B877A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ob analysis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bse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job analyst watches employees directly or reviews film of workers on the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dividual int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a team of job incumbents is selected and extensively intervie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oup int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a number of job incumbents are interviewed simultaneou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ructured questionn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rkers complete a specifically designed questionn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chnical co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uses supervisors with an extensive knowledge of the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job incumbents record their daily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2440" y="5867280"/>
            <a:ext cx="82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22626"/>
                </a:solidFill>
                <a:latin typeface="Arial"/>
              </a:rPr>
              <a:t>The best results are usually achieved with some combination of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C7FF062D-3C28-43C6-96AA-E15819089D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25" name="Text Box 18"/>
          <p:cNvSpPr/>
          <p:nvPr/>
        </p:nvSpPr>
        <p:spPr>
          <a:xfrm>
            <a:off x="961200" y="1447920"/>
            <a:ext cx="2872080" cy="703800"/>
          </a:xfrm>
          <a:prstGeom prst="rect">
            <a:avLst/>
          </a:prstGeom>
          <a:solidFill>
            <a:srgbClr val="b22626"/>
          </a:solidFill>
          <a:ln w="5724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understand the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of the job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9"/>
          <p:cNvSpPr/>
          <p:nvPr/>
        </p:nvSpPr>
        <p:spPr>
          <a:xfrm>
            <a:off x="929520" y="2971800"/>
            <a:ext cx="2925720" cy="70380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understand the ro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jobs in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6248520" y="4419720"/>
            <a:ext cx="2143080" cy="88632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seek cla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5791320" y="2971800"/>
            <a:ext cx="2151000" cy="85608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develop draf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5231880" y="1523880"/>
            <a:ext cx="2021760" cy="70380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review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with supervi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6"/>
          <p:cNvSpPr/>
          <p:nvPr/>
        </p:nvSpPr>
        <p:spPr>
          <a:xfrm>
            <a:off x="243828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7"/>
          <p:cNvSpPr/>
          <p:nvPr/>
        </p:nvSpPr>
        <p:spPr>
          <a:xfrm>
            <a:off x="2438280" y="3733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42"/>
          <p:cNvGrpSpPr/>
          <p:nvPr/>
        </p:nvGrpSpPr>
        <p:grpSpPr>
          <a:xfrm>
            <a:off x="944280" y="4495680"/>
            <a:ext cx="2939040" cy="1219320"/>
            <a:chOff x="944280" y="4495680"/>
            <a:chExt cx="2939040" cy="1219320"/>
          </a:xfrm>
        </p:grpSpPr>
        <p:sp>
          <p:nvSpPr>
            <p:cNvPr id="733" name="Text Box 20"/>
            <p:cNvSpPr/>
            <p:nvPr/>
          </p:nvSpPr>
          <p:spPr>
            <a:xfrm>
              <a:off x="944280" y="4495680"/>
              <a:ext cx="2939040" cy="85608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benchmark positions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40"/>
            <p:cNvGrpSpPr/>
            <p:nvPr/>
          </p:nvGrpSpPr>
          <p:grpSpPr>
            <a:xfrm>
              <a:off x="2438280" y="5334120"/>
              <a:ext cx="1143000" cy="380880"/>
              <a:chOff x="2438280" y="5334120"/>
              <a:chExt cx="1143000" cy="380880"/>
            </a:xfrm>
          </p:grpSpPr>
          <p:sp>
            <p:nvSpPr>
              <p:cNvPr id="735" name="Line 28"/>
              <p:cNvSpPr/>
              <p:nvPr/>
            </p:nvSpPr>
            <p:spPr>
              <a:xfrm>
                <a:off x="2467080" y="53341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9"/>
              <p:cNvSpPr/>
              <p:nvPr/>
            </p:nvSpPr>
            <p:spPr>
              <a:xfrm>
                <a:off x="2438280" y="5715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0"/>
              <p:cNvSpPr/>
              <p:nvPr/>
            </p:nvSpPr>
            <p:spPr>
              <a:xfrm>
                <a:off x="2438280" y="571500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43"/>
          <p:cNvGrpSpPr/>
          <p:nvPr/>
        </p:nvGrpSpPr>
        <p:grpSpPr>
          <a:xfrm>
            <a:off x="3618720" y="5257800"/>
            <a:ext cx="3724920" cy="932400"/>
            <a:chOff x="3618720" y="5257800"/>
            <a:chExt cx="3724920" cy="932400"/>
          </a:xfrm>
        </p:grpSpPr>
        <p:sp>
          <p:nvSpPr>
            <p:cNvPr id="739" name="Text Box 21"/>
            <p:cNvSpPr/>
            <p:nvPr/>
          </p:nvSpPr>
          <p:spPr>
            <a:xfrm>
              <a:off x="3618720" y="5486400"/>
              <a:ext cx="2925360" cy="70380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determine how to col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job analysi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41"/>
            <p:cNvGrpSpPr/>
            <p:nvPr/>
          </p:nvGrpSpPr>
          <p:grpSpPr>
            <a:xfrm>
              <a:off x="6705720" y="5257800"/>
              <a:ext cx="637920" cy="457200"/>
              <a:chOff x="6705720" y="5257800"/>
              <a:chExt cx="637920" cy="457200"/>
            </a:xfrm>
          </p:grpSpPr>
          <p:sp>
            <p:nvSpPr>
              <p:cNvPr id="741" name="Line 34"/>
              <p:cNvSpPr/>
              <p:nvPr/>
            </p:nvSpPr>
            <p:spPr>
              <a:xfrm>
                <a:off x="6705720" y="5715000"/>
                <a:ext cx="637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5"/>
              <p:cNvSpPr/>
              <p:nvPr/>
            </p:nvSpPr>
            <p:spPr>
              <a:xfrm flipV="1">
                <a:off x="7315200" y="52578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Line 38"/>
          <p:cNvSpPr/>
          <p:nvPr/>
        </p:nvSpPr>
        <p:spPr>
          <a:xfrm>
            <a:off x="6846840" y="38098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9"/>
          <p:cNvSpPr/>
          <p:nvPr/>
        </p:nvSpPr>
        <p:spPr>
          <a:xfrm>
            <a:off x="6400800" y="23623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2C210807-F2E8-4C7D-857C-E68516735A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Occupational Information Network (O*NET) content model inclu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1754280" y="52610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</a:t>
            </a:r>
            <a:r>
              <a:rPr b="0" lang="en-US" sz="2400" spc="-1" strike="noStrike" u="sng">
                <a:solidFill>
                  <a:srgbClr val="804dff"/>
                </a:solidFill>
                <a:uFillTx/>
                <a:latin typeface="Arial"/>
                <a:ea typeface="Arial"/>
                <a:hlinkClick r:id="rId1"/>
              </a:rPr>
              <a:t>http://online.onetcente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808640" y="2517840"/>
            <a:ext cx="536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for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D29671D6-A4FE-40EF-A978-C6EDB64CBB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nalysis questionnaire (P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bs are rated on 194 elements, grouped in six major divisions and 28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lements represent requirements applicable to all types of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s quantitative structure allows many job comparisons, however, it appears to apply to only higher-level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493EBC95-BD87-4FB8-BF16-D89AF1ED9F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44560" y="1555920"/>
            <a:ext cx="6897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resource pl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process by which an organization ensures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the right number and kind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righ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righ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ble of effectively and efficiently completing those tasks that will help the organization achieve its overall strategic objec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577106C-6E66-48CA-A8CE-4AD7495A69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219320" y="1218960"/>
            <a:ext cx="7162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b descriptions li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duties/essential functions in order of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specifications - minimal qualifications for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219320" y="3505320"/>
            <a:ext cx="67053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critic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job to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ing new-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performance evalu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ng job’s compensation w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عنصر نائب للتذييل 4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عنصر نائب لرقم الشريحة 5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E5DBDC02-F66D-4297-96D8-801DFED6A1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20"/>
          <p:cNvGrpSpPr/>
          <p:nvPr/>
        </p:nvGrpSpPr>
        <p:grpSpPr>
          <a:xfrm>
            <a:off x="914400" y="1295280"/>
            <a:ext cx="7467480" cy="5032440"/>
            <a:chOff x="914400" y="1295280"/>
            <a:chExt cx="7467480" cy="5032440"/>
          </a:xfrm>
        </p:grpSpPr>
        <p:sp>
          <p:nvSpPr>
            <p:cNvPr id="763" name="AutoShape 89"/>
            <p:cNvSpPr/>
            <p:nvPr/>
          </p:nvSpPr>
          <p:spPr>
            <a:xfrm>
              <a:off x="914400" y="1295280"/>
              <a:ext cx="7467480" cy="50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0"/>
            <p:cNvSpPr/>
            <p:nvPr/>
          </p:nvSpPr>
          <p:spPr>
            <a:xfrm flipH="1" flipV="1">
              <a:off x="3809880" y="2654280"/>
              <a:ext cx="557280" cy="77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1"/>
            <p:cNvSpPr/>
            <p:nvPr/>
          </p:nvSpPr>
          <p:spPr>
            <a:xfrm>
              <a:off x="3048120" y="178596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lab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rel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2"/>
            <p:cNvSpPr/>
            <p:nvPr/>
          </p:nvSpPr>
          <p:spPr>
            <a:xfrm flipH="1" flipV="1">
              <a:off x="3292560" y="3368160"/>
              <a:ext cx="90648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3"/>
            <p:cNvSpPr/>
            <p:nvPr/>
          </p:nvSpPr>
          <p:spPr>
            <a:xfrm>
              <a:off x="2355840" y="273996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safety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94"/>
            <p:cNvSpPr/>
            <p:nvPr/>
          </p:nvSpPr>
          <p:spPr>
            <a:xfrm flipH="1">
              <a:off x="3292200" y="3957480"/>
              <a:ext cx="90972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95"/>
            <p:cNvSpPr/>
            <p:nvPr/>
          </p:nvSpPr>
          <p:spPr>
            <a:xfrm>
              <a:off x="2355840" y="3919680"/>
              <a:ext cx="960480" cy="96012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96"/>
            <p:cNvSpPr/>
            <p:nvPr/>
          </p:nvSpPr>
          <p:spPr>
            <a:xfrm flipH="1">
              <a:off x="3812760" y="4194000"/>
              <a:ext cx="56052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7"/>
            <p:cNvSpPr/>
            <p:nvPr/>
          </p:nvSpPr>
          <p:spPr>
            <a:xfrm>
              <a:off x="3048120" y="48736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98"/>
            <p:cNvSpPr/>
            <p:nvPr/>
          </p:nvSpPr>
          <p:spPr>
            <a:xfrm>
              <a:off x="4651200" y="4281480"/>
              <a:ext cx="0" cy="9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9"/>
            <p:cNvSpPr/>
            <p:nvPr/>
          </p:nvSpPr>
          <p:spPr>
            <a:xfrm>
              <a:off x="4172040" y="52354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00"/>
            <p:cNvSpPr/>
            <p:nvPr/>
          </p:nvSpPr>
          <p:spPr>
            <a:xfrm>
              <a:off x="4929120" y="4191120"/>
              <a:ext cx="560520" cy="76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1"/>
            <p:cNvSpPr/>
            <p:nvPr/>
          </p:nvSpPr>
          <p:spPr>
            <a:xfrm>
              <a:off x="5291280" y="4870440"/>
              <a:ext cx="96012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02"/>
            <p:cNvSpPr/>
            <p:nvPr/>
          </p:nvSpPr>
          <p:spPr>
            <a:xfrm>
              <a:off x="5100480" y="3952800"/>
              <a:ext cx="9064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03"/>
            <p:cNvSpPr/>
            <p:nvPr/>
          </p:nvSpPr>
          <p:spPr>
            <a:xfrm>
              <a:off x="5943600" y="388620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04"/>
            <p:cNvSpPr/>
            <p:nvPr/>
          </p:nvSpPr>
          <p:spPr>
            <a:xfrm flipV="1">
              <a:off x="5100480" y="3365280"/>
              <a:ext cx="90648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5"/>
            <p:cNvSpPr/>
            <p:nvPr/>
          </p:nvSpPr>
          <p:spPr>
            <a:xfrm>
              <a:off x="5985000" y="273672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H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06"/>
            <p:cNvSpPr/>
            <p:nvPr/>
          </p:nvSpPr>
          <p:spPr>
            <a:xfrm flipV="1">
              <a:off x="4929120" y="2650680"/>
              <a:ext cx="557280" cy="7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7"/>
            <p:cNvSpPr/>
            <p:nvPr/>
          </p:nvSpPr>
          <p:spPr>
            <a:xfrm>
              <a:off x="5257800" y="17524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08"/>
            <p:cNvSpPr/>
            <p:nvPr/>
          </p:nvSpPr>
          <p:spPr>
            <a:xfrm flipV="1">
              <a:off x="4648320" y="23810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9"/>
            <p:cNvSpPr/>
            <p:nvPr/>
          </p:nvSpPr>
          <p:spPr>
            <a:xfrm>
              <a:off x="4191120" y="1447920"/>
              <a:ext cx="96192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0"/>
            <p:cNvSpPr/>
            <p:nvPr/>
          </p:nvSpPr>
          <p:spPr>
            <a:xfrm>
              <a:off x="4167360" y="3330720"/>
              <a:ext cx="961920" cy="9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64800"/>
            <a:ext cx="241308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most all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H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ctivities are tied to job analysis; it is the starting point for sound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H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87"/>
          <p:cNvSpPr/>
          <p:nvPr/>
        </p:nvSpPr>
        <p:spPr>
          <a:xfrm>
            <a:off x="3886200" y="3124080"/>
            <a:ext cx="1523880" cy="1447920"/>
          </a:xfrm>
          <a:prstGeom prst="octagon">
            <a:avLst>
              <a:gd name="adj" fmla="val 29287"/>
            </a:avLst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3"/>
          <p:cNvSpPr/>
          <p:nvPr/>
        </p:nvSpPr>
        <p:spPr>
          <a:xfrm>
            <a:off x="3047040" y="5168880"/>
            <a:ext cx="95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performan</a:t>
            </a: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14"/>
          <p:cNvSpPr/>
          <p:nvPr/>
        </p:nvSpPr>
        <p:spPr>
          <a:xfrm>
            <a:off x="2363760" y="4267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ompen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5"/>
          <p:cNvSpPr/>
          <p:nvPr/>
        </p:nvSpPr>
        <p:spPr>
          <a:xfrm>
            <a:off x="5362920" y="51055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6"/>
          <p:cNvSpPr/>
          <p:nvPr/>
        </p:nvSpPr>
        <p:spPr>
          <a:xfrm>
            <a:off x="5939640" y="4067280"/>
            <a:ext cx="982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employ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7"/>
          <p:cNvSpPr/>
          <p:nvPr/>
        </p:nvSpPr>
        <p:spPr>
          <a:xfrm>
            <a:off x="4203720" y="5486400"/>
            <a:ext cx="90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8"/>
          <p:cNvSpPr/>
          <p:nvPr/>
        </p:nvSpPr>
        <p:spPr>
          <a:xfrm>
            <a:off x="4238640" y="17827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recru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19"/>
          <p:cNvSpPr/>
          <p:nvPr/>
        </p:nvSpPr>
        <p:spPr>
          <a:xfrm>
            <a:off x="5376240" y="20574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11D31EE2-4E10-4AB8-9846-388BC13724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8" descr="The Coverimage"/>
          <p:cNvPicPr/>
          <p:nvPr/>
        </p:nvPicPr>
        <p:blipFill>
          <a:blip r:embed="rId1"/>
          <a:stretch/>
        </p:blipFill>
        <p:spPr>
          <a:xfrm>
            <a:off x="380880" y="5257800"/>
            <a:ext cx="933480" cy="10098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9"/>
          <p:cNvSpPr/>
          <p:nvPr/>
        </p:nvSpPr>
        <p:spPr>
          <a:xfrm>
            <a:off x="1371600" y="571500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be16"/>
                </a:solidFill>
                <a:latin typeface="Arial"/>
              </a:rPr>
              <a:t>Video: Jim Harris, Three Keys to Maximize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234720" y="106668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ign is how a position and its tasks are orga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1371600" y="1676520"/>
            <a:ext cx="594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job design enriches and motivat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skill variety      task identity      task signific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autonomy      feedback from job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1371600" y="2819520"/>
            <a:ext cx="6469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work schedules keep employees motivated and lo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lex time   job sharing   telecomm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1389240" y="4038480"/>
            <a:ext cx="6933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0" lang="en-US" sz="2000" spc="-1" strike="noStrike">
                <a:solidFill>
                  <a:srgbClr val="b22626"/>
                </a:solidFill>
                <a:latin typeface="Arial"/>
              </a:rPr>
              <a:t>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nning and job analysis is find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echnical and interperson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2A6E30BC-552E-4B0D-8E68-CBDE4C5874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True or False?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333360" y="841320"/>
            <a:ext cx="770904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R planning must be separate from the organization’s overall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mission statement defines what business the organization i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 forecast staff requirements, HR creates an inventory of future staffing needs for job level and type, broken down by dec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Job analysis is a systematic exploration of the activities within a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 position analysis questionnaire is more qualitative than quantitative in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Job design is how a position and its tasks are orga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A6714569-E5F6-4CB4-A6F5-29B4F38604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92080" y="154908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must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ed to the organization’s overall strategy to compete domestically and glob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ed into the number and types of workers need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1258920" y="5419800"/>
            <a:ext cx="56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Senior HRM staff need to lead top management in planning for HRM issues</a:t>
            </a:r>
            <a:r>
              <a:rPr b="1" lang="en-US" sz="2000" spc="-1" strike="noStrike">
                <a:solidFill>
                  <a:srgbClr val="b226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A9F4CF09-F276-4D38-9CA4-E827AF68B0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0948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 stat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defines what business the organization is in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ex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o its custom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goals set by senior management to establish targets for the organization to achie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An Organizational Framework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1150200" y="56167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Goals are generally defined for the next 5-2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A6BBF83C-2663-48F3-9F26-80C4252EA3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96600" y="1574280"/>
            <a:ext cx="6659640" cy="23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a corporate assess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WOT (Strengths-Weaknesses-Opportunities-Threats) analysis determines what is needed to meet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engths and weaknesses and core competencies are ident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0880" y="5181480"/>
            <a:ext cx="85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HRM determines what knowledge, skills, and abilities are needed by the organization’s human resources through a job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70E7296D-4204-4FA3-A338-06813B07C5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1828800"/>
            <a:ext cx="3124440" cy="7318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1066680" y="276228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objectives an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1066680" y="3654360"/>
            <a:ext cx="3124440" cy="7318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1066680" y="454824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1066680" y="544212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1143000" y="1295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IC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4724280" y="1295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838080" y="1868400"/>
            <a:ext cx="0" cy="422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28"/>
          <p:cNvGrpSpPr/>
          <p:nvPr/>
        </p:nvGrpSpPr>
        <p:grpSpPr>
          <a:xfrm>
            <a:off x="4267080" y="1905120"/>
            <a:ext cx="3962520" cy="642600"/>
            <a:chOff x="4267080" y="1905120"/>
            <a:chExt cx="3962520" cy="642600"/>
          </a:xfrm>
        </p:grpSpPr>
        <p:sp>
          <p:nvSpPr>
            <p:cNvPr id="631" name="Text Box 11"/>
            <p:cNvSpPr/>
            <p:nvPr/>
          </p:nvSpPr>
          <p:spPr>
            <a:xfrm>
              <a:off x="4800600" y="19051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organization’s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>
              <a:off x="4267080" y="2193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9"/>
          <p:cNvGrpSpPr/>
          <p:nvPr/>
        </p:nvGrpSpPr>
        <p:grpSpPr>
          <a:xfrm>
            <a:off x="4267080" y="2819520"/>
            <a:ext cx="3353040" cy="642600"/>
            <a:chOff x="4267080" y="2819520"/>
            <a:chExt cx="3353040" cy="642600"/>
          </a:xfrm>
        </p:grpSpPr>
        <p:sp>
          <p:nvSpPr>
            <p:cNvPr id="634" name="Text Box 12"/>
            <p:cNvSpPr/>
            <p:nvPr/>
          </p:nvSpPr>
          <p:spPr>
            <a:xfrm>
              <a:off x="4800600" y="281952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ing goals and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3"/>
            <p:cNvSpPr/>
            <p:nvPr/>
          </p:nvSpPr>
          <p:spPr>
            <a:xfrm>
              <a:off x="4267080" y="316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0"/>
          <p:cNvGrpSpPr/>
          <p:nvPr/>
        </p:nvGrpSpPr>
        <p:grpSpPr>
          <a:xfrm>
            <a:off x="4267080" y="3733920"/>
            <a:ext cx="3657600" cy="642600"/>
            <a:chOff x="4267080" y="3733920"/>
            <a:chExt cx="3657600" cy="642600"/>
          </a:xfrm>
        </p:grpSpPr>
        <p:sp>
          <p:nvSpPr>
            <p:cNvPr id="637" name="Text Box 13"/>
            <p:cNvSpPr/>
            <p:nvPr/>
          </p:nvSpPr>
          <p:spPr>
            <a:xfrm>
              <a:off x="4800600" y="373392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how to attain goals and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4"/>
            <p:cNvSpPr/>
            <p:nvPr/>
          </p:nvSpPr>
          <p:spPr>
            <a:xfrm>
              <a:off x="4267080" y="40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31"/>
          <p:cNvGrpSpPr/>
          <p:nvPr/>
        </p:nvGrpSpPr>
        <p:grpSpPr>
          <a:xfrm>
            <a:off x="4267080" y="4572000"/>
            <a:ext cx="4114800" cy="642600"/>
            <a:chOff x="4267080" y="4572000"/>
            <a:chExt cx="4114800" cy="642600"/>
          </a:xfrm>
        </p:grpSpPr>
        <p:sp>
          <p:nvSpPr>
            <p:cNvPr id="640" name="Text Box 14"/>
            <p:cNvSpPr/>
            <p:nvPr/>
          </p:nvSpPr>
          <p:spPr>
            <a:xfrm>
              <a:off x="4800600" y="45720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what jobs need to be done and by wh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5"/>
            <p:cNvSpPr/>
            <p:nvPr/>
          </p:nvSpPr>
          <p:spPr>
            <a:xfrm>
              <a:off x="4267080" y="48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32"/>
          <p:cNvGrpSpPr/>
          <p:nvPr/>
        </p:nvGrpSpPr>
        <p:grpSpPr>
          <a:xfrm>
            <a:off x="4267080" y="5442120"/>
            <a:ext cx="3733920" cy="642600"/>
            <a:chOff x="4267080" y="5442120"/>
            <a:chExt cx="3733920" cy="642600"/>
          </a:xfrm>
        </p:grpSpPr>
        <p:sp>
          <p:nvSpPr>
            <p:cNvPr id="643" name="Text Box 5"/>
            <p:cNvSpPr/>
            <p:nvPr/>
          </p:nvSpPr>
          <p:spPr>
            <a:xfrm>
              <a:off x="4800600" y="54421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ching skills, knowledge, and abilities to required jo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6"/>
            <p:cNvSpPr/>
            <p:nvPr/>
          </p:nvSpPr>
          <p:spPr>
            <a:xfrm>
              <a:off x="4267080" y="576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CD93C8C1-C4B4-4AC4-9225-F05468A9C9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894960" y="1553760"/>
            <a:ext cx="717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must ensure staff levels meet strateg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goa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ntory report summarizes information on current workers and their sk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formation systems (HR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employee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ickly generate analyse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compensation/benefits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1174780E-4595-4A3C-B739-7621426B07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25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ion planning includes the development of replacement charts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ray middle- to upper-level management positions that may become vacant in the near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 information about individuals who might qualify to fill the pos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BC9662AC-B198-4E8B-B98C-8FE6109BBD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must forecast staff require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reates an inventory of future staffing needs for job level and type, broken down by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s must detail the specific knowledge, skills, and abilities needed, not just “we need 25 new employee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4:46:00Z</dcterms:created>
  <dc:creator>dkear</dc:creator>
  <dc:description/>
  <dc:language>en-US</dc:language>
  <cp:lastModifiedBy>na</cp:lastModifiedBy>
  <dcterms:modified xsi:type="dcterms:W3CDTF">2015-06-28T18:00:08Z</dcterms:modified>
  <cp:revision>149</cp:revision>
  <dc:subject/>
  <dc:title>Introduction</dc:title>
</cp:coreProperties>
</file>