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1A03-0F0B-4A40-B64D-7A8E6F85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C4CF-F61C-4759-9109-F833BC6A3CDA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5320" y="4346640"/>
            <a:ext cx="506736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at 9:15—10 minutes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ish at 9: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3DDD-8895-40E1-8D0F-431AE5DCF656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76A7-2564-4788-A823-6D88930E28BD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6D9-F106-4CD9-83CD-00DA07775232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mentioned—add re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 Wagner at Dynex Institute does have a good training on how to do a strategic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 Rhinhart also has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010C-00AB-464C-BF7E-58E766D6DC16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9475-6216-4E74-99DB-AA3B44A53C4B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9CD-3FC7-4E1A-A43B-A84C7883C1C1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8A44-8DEA-4E04-BB43-FB24098B0193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B10A-B98C-4F82-B237-AD6EB9A2991E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87C-C8CC-410C-8792-4C656272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4DE-68CA-4158-8D97-9E592B5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7BA-9AAF-4572-908D-353EA567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E57-8EC7-4C66-9886-D3DC4978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DC7-778E-4214-B1FE-A46CB13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8D6-5007-46D8-9F9C-CCE99157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F2E-A029-4FED-A093-58325734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ABA-54A7-4AA5-BC06-5B350973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56D-E85C-4D56-AC50-1CFC62A8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F5C-12DB-4E1D-84DD-5B9B6D39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5AB-EBCF-4040-A8D1-4D0849E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B25-0B0D-49DF-A4C2-AEB4488C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A3AA-01EF-4B47-AE7F-C79B1A4F7C4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la.org/ala/pla/plaevents/elearningpla/elearningpla.htm" TargetMode="External"/><Relationship Id="rId2" Type="http://schemas.openxmlformats.org/officeDocument/2006/relationships/hyperlink" Target="http://www.imls.gov/grants/current/crnt_log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62120" y="26668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6a215"/>
                </a:solidFill>
                <a:latin typeface="Arial"/>
              </a:rPr>
              <a:t>What is Planning?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Initiatives Cover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vocacy and government re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unity outreach and partnership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echnology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rvices to ethnic popu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rketing and public re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ministration and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uccessful Planning Proces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eryone participates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educated about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explore new idea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takes advantages of opportun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ecessary resources availab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A Plan “Litmus” Test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pport mission and vision of library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atisfy identified community need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lp market and brand the library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sider library resource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dress multiple goal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vide favorable return on investmen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09480" y="19051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Does it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Five Phases of Planning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rganiz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nd delegate rol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itiat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information gather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alyz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data, identify goals &amp; objectiv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rit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the new strategic pl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rke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nd disseminate the pl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gress needs to be evaluat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bjectives determine progr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comes need to be assess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cide if plan is still vali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nges can be mad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e at least once a y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Measures for Evalua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6172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put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sources used by a progra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llections, materials, equipment, suppl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aff, volunteer time and expertise, community part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eds assessment find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cilities, computers, online acc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straints - law, regulation, fundi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put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swer “How many?” (extensivenes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duct volume or evidence of delive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sults of inputs and activ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rom staff perspecti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Quantified by neutral observ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come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swer “So what?” (effectivenes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mpact or benefit to end us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sults of inputs and activ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rom customer’s perspecti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ten quantified by percep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easured by professional assessmen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come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stor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ticipated and planned fo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ke project expectations explici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ssumptions of contributions towards meeting the goal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895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the use of running if you’re not on the right road?”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48120" y="48006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German Proverb</a:t>
            </a:r>
            <a:endParaRPr b="0" i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ther Type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easures (circulation, visits, etc…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enchmarking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ustomer satisfaction survey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bsite user survey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of quality of progra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  <a:ea typeface="Times New Roman"/>
              </a:rPr>
              <a:t>Group Exercis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pic>
        <p:nvPicPr>
          <p:cNvPr id="95" name="Picture 4" descr="bd06995_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00400" y="3048120"/>
            <a:ext cx="2863800" cy="203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New Planning for Result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 online cour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pla.org/ala/pla/plaevents/elearningpla/elearningpla.ht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LS Outcome Based Evalu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mls.gov/grants/current/crnt_log.ht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 list of books is at the end of this section in your toolki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  <a:ea typeface="Times New Roman"/>
              </a:rPr>
              <a:t>REVIEW 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6668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ement of pla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ow to apply a “litmus test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is necessa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ypes of measures need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4" descr="bd05537_"/>
          <p:cNvPicPr/>
          <p:nvPr/>
        </p:nvPicPr>
        <p:blipFill>
          <a:blip r:embed="rId1"/>
          <a:stretch/>
        </p:blipFill>
        <p:spPr>
          <a:xfrm>
            <a:off x="7238880" y="4724280"/>
            <a:ext cx="1284480" cy="167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28954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very library – large or small – needs a strategic plan.  It is the blueprint that sets the direction for where your organization is going.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quirements for suc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ements of pla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lanning process and what it cov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and output measur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ypes of evaluat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540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Lesson Objectiv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scribe a successful planning pro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st the five phases of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xplain the importance of evaluation, measur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y the end of this lesson you will be able to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What is a Plan?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verview of current library statu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ssessment of trends in the communi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ission and vision statemen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trategies and ac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2120" y="2057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elements in plans are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What is a Plan?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3123720"/>
            <a:ext cx="9372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ationale for strategie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nticipated cos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ime line and implementation pla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uidelines for measurement and evalu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pporting data gathered in planning proc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2133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elements in plans are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Plans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firm and articulate purpo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vide decision mak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stablish priorities and measure suc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gnal good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dentify efficienc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nsure services are customer dri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dentify opportunities and proble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Initiatives Cover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development/trai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unding/financial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acilities planning and maintenan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llection develop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gram develop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ult and children’s servic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14:40:21Z</dcterms:created>
  <dc:creator>na</dc:creator>
  <dc:description/>
  <dc:language>en-US</dc:language>
  <cp:lastModifiedBy>na</cp:lastModifiedBy>
  <cp:lastPrinted>2009-04-22T19:24:48Z</cp:lastPrinted>
  <dcterms:modified xsi:type="dcterms:W3CDTF">2015-06-28T17:19:15Z</dcterms:modified>
  <cp:revision>35</cp:revision>
  <dc:subject/>
  <dc:title>PowerPoint Presentation</dc:title>
</cp:coreProperties>
</file>