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9.png" ContentType="image/png"/>
  <Override PartName="/ppt/media/image9.wmf" ContentType="image/x-wmf"/>
  <Override PartName="/ppt/media/image34.wmf" ContentType="image/x-wmf"/>
  <Override PartName="/ppt/media/image10.jpeg" ContentType="image/jpeg"/>
  <Override PartName="/ppt/media/image13.wmf" ContentType="image/x-wmf"/>
  <Override PartName="/ppt/media/image8.wmf" ContentType="image/x-wmf"/>
  <Override PartName="/ppt/media/image33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31.wmf" ContentType="image/x-wmf"/>
  <Override PartName="/ppt/media/image12.wmf" ContentType="image/x-wmf"/>
  <Override PartName="/ppt/media/image4.png" ContentType="image/png"/>
  <Override PartName="/ppt/media/image36.wmf" ContentType="image/x-wmf"/>
  <Override PartName="/ppt/media/image37.png" ContentType="image/png"/>
  <Override PartName="/ppt/media/image7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35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15.wmf" ContentType="image/x-wmf"/>
  <Override PartName="/ppt/media/image32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6.wmf" ContentType="image/x-wm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842B-A0E7-4D56-8227-14A31362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5E66-3B93-4430-924F-E98A31D2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4EF0-7423-4A10-8943-9F99F014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D427-7448-410D-B7BB-FCABF309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C3E4-EF23-4330-AF33-BD372DD8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2345-119C-4DC4-A692-F0223A35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DFF2-314C-4376-8637-2F8CE26E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8473-EAE8-4DDC-8158-6EEFC666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94E8-FFC9-44E1-A593-65EB4A0A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7B7E-D79D-4A06-9861-442A42AA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ED84-EA3C-47F8-96B3-C7F238C1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ECB8E-DF95-4BAF-93F4-2A5947CE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9250-836C-4C9E-AB98-B6E530F0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7761-BD0F-4F47-AF73-BD134069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64A8-49E6-42B5-9C65-7F498FA3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8C2E-7166-404D-8BF2-ACB24299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B60B-E13D-45C1-9F9F-E94373A9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57ED8-B5B7-4F97-8413-4AA8F801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624F6-9401-41B5-B791-DE75F217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74FF-C367-4EE8-AD13-BCFC9C6C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6D7C-BCDD-459F-B71F-EA076177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B0A6-6D0E-48E1-94C7-84746197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D38D-FA2E-4432-8BD6-7D63B1C2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3A45-317F-451F-903C-D7C57475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05E7-BEA8-4B90-904A-3C4B1A304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80DB-698E-4A22-9D9C-EFDDFA31A2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Planning:  Processes and Technique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GMT 3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Types of Managerial Pla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hort-range vs. long-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rateg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per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ocedures or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Zero-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2" descr="C:\Users\mullenhouse\AppData\Local\Microsoft\Windows\Temporary Internet Files\Content.IE5\I1SKLLRO\MC900233172[1].wmf"/>
          <p:cNvPicPr/>
          <p:nvPr/>
        </p:nvPicPr>
        <p:blipFill>
          <a:blip r:embed="rId8"/>
          <a:stretch/>
        </p:blipFill>
        <p:spPr>
          <a:xfrm>
            <a:off x="5791320" y="2819520"/>
            <a:ext cx="222228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rs and employees must </a:t>
            </a:r>
            <a:r>
              <a:rPr b="0" lang="en-US" sz="3200" spc="-1" strike="noStrike">
                <a:solidFill>
                  <a:srgbClr val="0b0a25"/>
                </a:solidFill>
                <a:latin typeface="Arial"/>
              </a:rPr>
              <a:t>underst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plan, have the </a:t>
            </a:r>
            <a:r>
              <a:rPr b="0" lang="en-US" sz="3200" spc="-1" strike="noStrike">
                <a:solidFill>
                  <a:srgbClr val="0b0a25"/>
                </a:solidFill>
                <a:latin typeface="Arial"/>
              </a:rPr>
              <a:t>resour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implement it, and be motivated to do 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cessful implementation requires a plan to be </a:t>
            </a:r>
            <a:r>
              <a:rPr b="0" lang="en-US" sz="3200" spc="-1" strike="noStrike">
                <a:solidFill>
                  <a:srgbClr val="0b0a25"/>
                </a:solidFill>
                <a:latin typeface="Arial"/>
              </a:rPr>
              <a:t>link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other systems in the organization, particularly the budget and reward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2" descr="C:\Users\mullenhouse\AppData\Local\Microsoft\Windows\Temporary Internet Files\Content.IE5\FSXG25N2\MC900287264[1].wmf"/>
          <p:cNvPicPr/>
          <p:nvPr/>
        </p:nvPicPr>
        <p:blipFill>
          <a:blip r:embed="rId4"/>
          <a:stretch/>
        </p:blipFill>
        <p:spPr>
          <a:xfrm>
            <a:off x="4114800" y="4724280"/>
            <a:ext cx="177624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Monitor and Contro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rs must </a:t>
            </a:r>
            <a:r>
              <a:rPr b="0" lang="en-US" sz="3200" spc="-1" strike="noStrike">
                <a:solidFill>
                  <a:srgbClr val="0b0a25"/>
                </a:solidFill>
                <a:latin typeface="Arial"/>
              </a:rPr>
              <a:t>continual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nitor the actual performance of their work units against the unit’s goals and pla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r’s also need to develop </a:t>
            </a:r>
            <a:r>
              <a:rPr b="0" lang="en-US" sz="3200" spc="-1" strike="noStrike">
                <a:solidFill>
                  <a:srgbClr val="0b0a25"/>
                </a:solidFill>
                <a:latin typeface="Arial"/>
              </a:rPr>
              <a:t>control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a25"/>
                </a:solidFill>
                <a:latin typeface="Arial"/>
              </a:rPr>
              <a:t>systems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easure that performance and allow them to take corrective action when the plans are implemented improperly or when the situation </a:t>
            </a:r>
            <a:r>
              <a:rPr b="0" lang="en-US" sz="3200" spc="-1" strike="noStrike">
                <a:solidFill>
                  <a:srgbClr val="0b0a25"/>
                </a:solidFill>
                <a:latin typeface="Arial"/>
              </a:rPr>
              <a:t>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C:\Users\mullenhouse\AppData\Local\Microsoft\Windows\Temporary Internet Files\Content.IE5\FSXG25N2\MC900250051[1].wmf"/>
          <p:cNvPicPr/>
          <p:nvPr/>
        </p:nvPicPr>
        <p:blipFill>
          <a:blip r:embed="rId4"/>
          <a:stretch/>
        </p:blipFill>
        <p:spPr>
          <a:xfrm>
            <a:off x="6629400" y="5181480"/>
            <a:ext cx="128592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rategic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t of procedures for making decisions about the organization’s long-term goals and strate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rategic goa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targets or end results that relate to the long-term survival, value, and growth of the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2" descr="C:\Users\mullenhouse\AppData\Local\Microsoft\Windows\Temporary Internet Files\Content.IE5\VVNJ0P75\MC900055285[1].wmf"/>
          <p:cNvPicPr/>
          <p:nvPr/>
        </p:nvPicPr>
        <p:blipFill>
          <a:blip r:embed="rId6"/>
          <a:stretch/>
        </p:blipFill>
        <p:spPr>
          <a:xfrm>
            <a:off x="3962520" y="5075280"/>
            <a:ext cx="17222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ttern of actions and resource allocations designed to achieve the organization’s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Content Placeholder 9" descr=""/>
          <p:cNvPicPr/>
          <p:nvPr/>
        </p:nvPicPr>
        <p:blipFill>
          <a:blip r:embed="rId3"/>
          <a:stretch/>
        </p:blipFill>
        <p:spPr>
          <a:xfrm>
            <a:off x="3200400" y="3429000"/>
            <a:ext cx="27716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will we be activ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ill we get t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ill we win in the marketplac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fast will we move and in what sequence will we make chang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ill we obtain financial retu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3" descr="C:\Users\mullenhouse\AppData\Local\Microsoft\Windows\Temporary Internet Files\Content.IE5\FSXG25N2\MC900055559[1].wmf"/>
          <p:cNvPicPr/>
          <p:nvPr/>
        </p:nvPicPr>
        <p:blipFill>
          <a:blip r:embed="rId2"/>
          <a:stretch/>
        </p:blipFill>
        <p:spPr>
          <a:xfrm>
            <a:off x="3919680" y="5029200"/>
            <a:ext cx="1681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Hierarchy of Goals and Pla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7" name="Picture 4" descr="ch04HierarchyGoalsPlans"/>
          <p:cNvPicPr/>
          <p:nvPr/>
        </p:nvPicPr>
        <p:blipFill>
          <a:blip r:embed="rId1"/>
          <a:stretch/>
        </p:blipFill>
        <p:spPr>
          <a:xfrm>
            <a:off x="465120" y="1828800"/>
            <a:ext cx="8240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dfdef6"/>
                </a:solidFill>
                <a:latin typeface="Arial"/>
              </a:rPr>
              <a:t>Tactical and Operational Planning</a:t>
            </a:r>
            <a:endParaRPr b="0" lang="en-US" sz="4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228600" y="14479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Tactical plann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 set of procedures for translating broad strategic goals and plans into specific goals and plans that are relevant to a distinct portion of the organization, such as a functional area like market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2" descr="C:\Users\mullenhouse\AppData\Local\Microsoft\Windows\Temporary Internet Files\Content.IE5\FSXG25N2\MC900078732[1].wmf"/>
          <p:cNvPicPr/>
          <p:nvPr/>
        </p:nvPicPr>
        <p:blipFill>
          <a:blip r:embed="rId3"/>
          <a:stretch/>
        </p:blipFill>
        <p:spPr>
          <a:xfrm>
            <a:off x="7086600" y="4343400"/>
            <a:ext cx="16416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dfdef6"/>
                </a:solidFill>
                <a:latin typeface="Arial"/>
              </a:rPr>
              <a:t>Tactical and Operational Planning</a:t>
            </a:r>
            <a:endParaRPr b="0" lang="en-US" sz="4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perational plan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rocess of identifying the specific procedures and processes required at lower levels of the organ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5" descr="C:\Users\mullenhouse\AppData\Local\Microsoft\Windows\Temporary Internet Files\Content.IE5\FSXG25N2\MC900071111[1].wmf"/>
          <p:cNvPicPr/>
          <p:nvPr/>
        </p:nvPicPr>
        <p:blipFill>
          <a:blip r:embed="rId3"/>
          <a:stretch/>
        </p:blipFill>
        <p:spPr>
          <a:xfrm>
            <a:off x="5410080" y="3946680"/>
            <a:ext cx="290988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The Strategy Map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5" name="Picture 6" descr="ch04StrategyMap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Managers Plann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 pla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tep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ituational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tep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lternative Goals and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tep 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al and Plan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tep 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al and Pla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tep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tep 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nitor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4" descr="MCj04061340000[1]"/>
          <p:cNvPicPr/>
          <p:nvPr/>
        </p:nvPicPr>
        <p:blipFill>
          <a:blip r:embed="rId3"/>
          <a:stretch/>
        </p:blipFill>
        <p:spPr>
          <a:xfrm>
            <a:off x="6248520" y="1143000"/>
            <a:ext cx="208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dfdef6"/>
                </a:solidFill>
                <a:latin typeface="Arial"/>
              </a:rPr>
              <a:t>Stategic Planning</a:t>
            </a:r>
            <a:endParaRPr b="0" lang="en-US" sz="4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trategic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rocess that involves managers from all parts of the organization in the formulation and implementation of strategic goals and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C:\Users\mullenhouse\AppData\Local\Microsoft\Windows\Temporary Internet Files\Content.IE5\I1SKLLRO\MC900056110[1].wmf"/>
          <p:cNvPicPr/>
          <p:nvPr/>
        </p:nvPicPr>
        <p:blipFill>
          <a:blip r:embed="rId2"/>
          <a:stretch/>
        </p:blipFill>
        <p:spPr>
          <a:xfrm>
            <a:off x="3125880" y="4572000"/>
            <a:ext cx="251136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Strategic Management Proces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0" name="Picture 8" descr="ch04StratMgtProcess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dfdef6"/>
                </a:solidFill>
                <a:uFillTx/>
                <a:latin typeface="Arial"/>
              </a:rPr>
              <a:t>Establishment of Mission, Vision, and Goals</a:t>
            </a:r>
            <a:endParaRPr b="0" lang="en-US" sz="4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rganization’s basic purpose and scope of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Picture 7" descr="C:\Program Files\Microsoft Office\MEDIA\CAGCAT10\j0233018.wmf"/>
          <p:cNvPicPr/>
          <p:nvPr/>
        </p:nvPicPr>
        <p:blipFill>
          <a:blip r:embed="rId2"/>
          <a:stretch/>
        </p:blipFill>
        <p:spPr>
          <a:xfrm>
            <a:off x="3200400" y="3657600"/>
            <a:ext cx="25750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vironmental Analysi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dfdef6"/>
                </a:solidFill>
                <a:uFillTx/>
                <a:latin typeface="Arial"/>
              </a:rPr>
              <a:t>Analysis of External Opportunities and Threats</a:t>
            </a:r>
            <a:endParaRPr b="0" lang="en-US" sz="4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8288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takehol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 and individuals who affect and are affected by the achievement of the organization’s mission, goals, and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8" name="Picture 3" descr="C:\Users\mullenhouse\AppData\Local\Microsoft\Windows\Temporary Internet Files\Content.IE5\FSXG25N2\MC900289953[1].wmf"/>
          <p:cNvPicPr/>
          <p:nvPr/>
        </p:nvPicPr>
        <p:blipFill>
          <a:blip r:embed="rId3"/>
          <a:stretch/>
        </p:blipFill>
        <p:spPr>
          <a:xfrm>
            <a:off x="3200400" y="4191120"/>
            <a:ext cx="29653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dfdef6"/>
                </a:solidFill>
                <a:latin typeface="Arial"/>
              </a:rPr>
              <a:t>Analysis of Internal Strengths and Weaknesses</a:t>
            </a:r>
            <a:endParaRPr b="0" lang="en-US" sz="4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04920" y="16765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Resour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puts to a system that can enhance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ngible, intangible as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Picture 3" descr="C:\Users\mullenhouse\AppData\Local\Microsoft\Windows\Temporary Internet Files\Content.IE5\P0FM3MHR\MC900233087[1].wmf"/>
          <p:cNvPicPr/>
          <p:nvPr/>
        </p:nvPicPr>
        <p:blipFill>
          <a:blip r:embed="rId3"/>
          <a:stretch/>
        </p:blipFill>
        <p:spPr>
          <a:xfrm>
            <a:off x="6553080" y="3352680"/>
            <a:ext cx="2016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Internal Resource Analysi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1620720" y="1600200"/>
            <a:ext cx="5902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dfdef6"/>
                </a:solidFill>
                <a:uFillTx/>
                <a:latin typeface="Arial"/>
              </a:rPr>
              <a:t>Resources and Core Competencies</a:t>
            </a:r>
            <a:endParaRPr b="0" lang="en-US" sz="4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5" name="Picture 4" descr="ch04RBV"/>
          <p:cNvPicPr/>
          <p:nvPr/>
        </p:nvPicPr>
        <p:blipFill>
          <a:blip r:embed="rId1"/>
          <a:stretch/>
        </p:blipFill>
        <p:spPr>
          <a:xfrm>
            <a:off x="2438280" y="1981080"/>
            <a:ext cx="45151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Analysis of Internal Strengths and Weakness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8288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Benchmar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 of assessing how well one company’s basic functions and skills compare with those of another company or set of compan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al of benchmarking is to thoroughly understand the “best practices” of other firms and to undertake actions to achieve both better performance and lower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SWOT Analysis and Strategy Formulat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9807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WOT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omparison of strengths, weaknesses, opportunities, and threats that helps executives formulate strate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3"/>
          <a:stretch/>
        </p:blipFill>
        <p:spPr>
          <a:xfrm>
            <a:off x="5029200" y="4267080"/>
            <a:ext cx="351000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cision Making Stages and </a:t>
            </a:r>
            <a:br>
              <a:rPr sz="4400"/>
            </a:b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ormal Planning Step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0" name="Picture 8" descr="ch04DecisionStages"/>
          <p:cNvPicPr/>
          <p:nvPr/>
        </p:nvPicPr>
        <p:blipFill>
          <a:blip r:embed="rId1"/>
          <a:stretch/>
        </p:blipFill>
        <p:spPr>
          <a:xfrm>
            <a:off x="609480" y="1773360"/>
            <a:ext cx="777240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SWOT Analysis and Strategy Formul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18288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rporate strate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t of businesses, markets, or industries in which an organization competes and the distribution of resources among those ent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rategy employed for an organization that operates a single business and competes in a single indust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dfdef6"/>
                </a:solidFill>
                <a:uFillTx/>
                <a:latin typeface="Arial"/>
              </a:rPr>
              <a:t>Summary of Corporate Strategies</a:t>
            </a:r>
            <a:endParaRPr b="0" lang="en-US" sz="4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4" name="Picture 9" descr="ch04CorpStrat"/>
          <p:cNvPicPr/>
          <p:nvPr/>
        </p:nvPicPr>
        <p:blipFill>
          <a:blip r:embed="rId1"/>
          <a:stretch/>
        </p:blipFill>
        <p:spPr>
          <a:xfrm>
            <a:off x="609480" y="1905120"/>
            <a:ext cx="7848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dfdef6"/>
                </a:solidFill>
                <a:uFillTx/>
                <a:latin typeface="Arial"/>
              </a:rPr>
              <a:t>SWOT Analysis and Strategy Formulation</a:t>
            </a:r>
            <a:endParaRPr b="0" lang="en-US" sz="4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80880" y="21337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Vertical integ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cquisition or development of new businesses that produce parts or components of the organization’s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centric diversific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trategy used to add new businesses that produce related products or are involved in related markets and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7" name="Picture 2" descr="C:\Users\mullenhouse\AppData\Local\Microsoft\Windows\Temporary Internet Files\Content.IE5\I1SKLLRO\MC900285460[1].wmf"/>
          <p:cNvPicPr/>
          <p:nvPr/>
        </p:nvPicPr>
        <p:blipFill>
          <a:blip r:embed="rId4"/>
          <a:stretch/>
        </p:blipFill>
        <p:spPr>
          <a:xfrm>
            <a:off x="6629400" y="1219320"/>
            <a:ext cx="13636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SWOT Analysis and Strategy Formulat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80880" y="19807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-cost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rategy an organization uses to build competitive advantage by being efficient and offering a standard, no-frills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erentiation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rategy an organization uses to build competitive advantage by being unique in its industry or market segment along one or more dimen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2" descr="C:\Users\mullenhouse\AppData\Local\Microsoft\Windows\Temporary Internet Files\Content.IE5\VVNJ0P75\MC900198609[1].wmf"/>
          <p:cNvPicPr/>
          <p:nvPr/>
        </p:nvPicPr>
        <p:blipFill>
          <a:blip r:embed="rId5"/>
          <a:stretch/>
        </p:blipFill>
        <p:spPr>
          <a:xfrm>
            <a:off x="6934320" y="990720"/>
            <a:ext cx="1530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Strategy Implement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0" lang="en-US" sz="3600" spc="-1" strike="noStrike">
                <a:solidFill>
                  <a:srgbClr val="0b0a25"/>
                </a:solidFill>
                <a:latin typeface="Arial"/>
              </a:rPr>
              <a:t>strategic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ris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sess organization capabil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velop an implementation </a:t>
            </a:r>
            <a:r>
              <a:rPr b="0" lang="en-US" sz="3600" spc="-1" strike="noStrike">
                <a:solidFill>
                  <a:srgbClr val="0b0a25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eate an </a:t>
            </a:r>
            <a:r>
              <a:rPr b="0" lang="en-US" sz="3600" spc="-1" strike="noStrike">
                <a:solidFill>
                  <a:srgbClr val="0b0a25"/>
                </a:solidFill>
                <a:latin typeface="Arial"/>
              </a:rPr>
              <a:t>implementa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3" name="Picture 2" descr="C:\Users\mullenhouse\AppData\Local\Microsoft\Windows\Temporary Internet Files\Content.IE5\P0FM3MHR\MC900410501[1].wmf"/>
          <p:cNvPicPr/>
          <p:nvPr/>
        </p:nvPicPr>
        <p:blipFill>
          <a:blip r:embed="rId3"/>
          <a:stretch/>
        </p:blipFill>
        <p:spPr>
          <a:xfrm>
            <a:off x="3429000" y="4495680"/>
            <a:ext cx="22669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dfdef6"/>
                </a:solidFill>
                <a:uFillTx/>
                <a:latin typeface="Arial"/>
              </a:rPr>
              <a:t>Strategic Control</a:t>
            </a:r>
            <a:endParaRPr b="0" lang="en-US" sz="4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trategic control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ystem designed to support managers in evaluating the organization’s progress regarding its strategy and, when discrepancies exist, taking corrective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Picture 3" descr="C:\Users\mullenhouse\AppData\Local\Microsoft\Windows\Temporary Internet Files\Content.IE5\I1SKLLRO\MC900150403[1].wmf"/>
          <p:cNvPicPr/>
          <p:nvPr/>
        </p:nvPicPr>
        <p:blipFill>
          <a:blip r:embed="rId3"/>
          <a:stretch/>
        </p:blipFill>
        <p:spPr>
          <a:xfrm>
            <a:off x="3733920" y="4800600"/>
            <a:ext cx="17334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dfdef6"/>
                </a:solidFill>
                <a:uFillTx/>
                <a:latin typeface="Arial"/>
              </a:rPr>
              <a:t>BCG Matrix</a:t>
            </a:r>
            <a:endParaRPr b="0" lang="en-US" sz="4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8" name="Picture 7" descr="ch04BcgMatrix"/>
          <p:cNvPicPr/>
          <p:nvPr/>
        </p:nvPicPr>
        <p:blipFill>
          <a:blip r:embed="rId1"/>
          <a:stretch/>
        </p:blipFill>
        <p:spPr>
          <a:xfrm>
            <a:off x="1447920" y="1828800"/>
            <a:ext cx="6183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Situational Analysi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process planners use, within time and resource constraints, to gather, interpret, and summarize all information relevant to the planning issue under consider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2" descr="C:\Users\mullenhouse\AppData\Local\Microsoft\Windows\Temporary Internet Files\Content.IE5\I1SKLLRO\MC900078753[1].wmf"/>
          <p:cNvPicPr/>
          <p:nvPr/>
        </p:nvPicPr>
        <p:blipFill>
          <a:blip r:embed="rId3"/>
          <a:stretch/>
        </p:blipFill>
        <p:spPr>
          <a:xfrm>
            <a:off x="6019920" y="3962520"/>
            <a:ext cx="24098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Alternative Goals and Pla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ss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reativ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encourage managers and employees to think in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bro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erms about their jo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target or end that management desires to r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, measurable, attainable, relevant, time-bound - SM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2" descr="C:\Users\mullenhouse\AppData\Local\Microsoft\Windows\Temporary Internet Files\Content.IE5\FSXG25N2\MC900230443[1].wmf"/>
          <p:cNvPicPr/>
          <p:nvPr/>
        </p:nvPicPr>
        <p:blipFill>
          <a:blip r:embed="rId6"/>
          <a:stretch/>
        </p:blipFill>
        <p:spPr>
          <a:xfrm>
            <a:off x="7010280" y="5257800"/>
            <a:ext cx="128772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Alternative Goals and Pla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l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ctions or means managers intend to use to achieve organizational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tingency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of actions to be taken when a company’s initial plans have not worked well or if events in the external environment require a sudden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4" descr="C:\Users\mullenhouse\AppData\Local\Microsoft\Windows\Temporary Internet Files\Content.IE5\VVNJ0P75\MC900234089[1].wmf"/>
          <p:cNvPicPr/>
          <p:nvPr/>
        </p:nvPicPr>
        <p:blipFill>
          <a:blip r:embed="rId6"/>
          <a:stretch/>
        </p:blipFill>
        <p:spPr>
          <a:xfrm>
            <a:off x="3581280" y="5105520"/>
            <a:ext cx="232272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Benefits of Plann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88620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cus and flex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ction ori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oord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ime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5" descr="MCj03418510000[1]"/>
          <p:cNvPicPr/>
          <p:nvPr/>
        </p:nvPicPr>
        <p:blipFill>
          <a:blip r:embed="rId6"/>
          <a:stretch/>
        </p:blipFill>
        <p:spPr>
          <a:xfrm>
            <a:off x="457200" y="1981080"/>
            <a:ext cx="2895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Goal and Plan Evaluation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rs will evaluat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vanta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sadvanta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otential effe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each </a:t>
            </a:r>
            <a:r>
              <a:rPr b="0" lang="en-US" sz="3200" spc="-1" strike="noStrike">
                <a:solidFill>
                  <a:srgbClr val="ecebfa"/>
                </a:solidFill>
                <a:latin typeface="Arial"/>
              </a:rPr>
              <a:t>alterna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al and pl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prioritize those goals and even </a:t>
            </a:r>
            <a:r>
              <a:rPr b="0" lang="en-US" sz="3200" spc="-1" strike="noStrike">
                <a:solidFill>
                  <a:srgbClr val="ecebfa"/>
                </a:solidFill>
                <a:latin typeface="Arial"/>
              </a:rPr>
              <a:t>elimin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me of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rs must consider carefully the </a:t>
            </a:r>
            <a:r>
              <a:rPr b="0" lang="en-US" sz="3200" spc="-1" strike="noStrike">
                <a:solidFill>
                  <a:srgbClr val="ecebfa"/>
                </a:solidFill>
                <a:latin typeface="Arial"/>
              </a:rPr>
              <a:t>implic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alternative plans for meeting high priority go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Goal and Plan Selec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rs will select the option that is most </a:t>
            </a:r>
            <a:r>
              <a:rPr b="0" lang="en-US" sz="3200" spc="-1" strike="noStrike">
                <a:solidFill>
                  <a:srgbClr val="0b0a25"/>
                </a:solidFill>
                <a:latin typeface="Arial"/>
              </a:rPr>
              <a:t>appropri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b0a25"/>
                </a:solidFill>
                <a:latin typeface="Arial"/>
              </a:rPr>
              <a:t>feasi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valuation process will identify the priorities and trade-offs among the goals and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enar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arrative that describes a particular set of future condi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2" descr="C:\Users\mullenhouse\AppData\Local\Microsoft\Windows\Temporary Internet Files\Content.IE5\I1SKLLRO\MC900056989[1].wmf"/>
          <p:cNvPicPr/>
          <p:nvPr/>
        </p:nvPicPr>
        <p:blipFill>
          <a:blip r:embed="rId5"/>
          <a:stretch/>
        </p:blipFill>
        <p:spPr>
          <a:xfrm>
            <a:off x="7543800" y="4800600"/>
            <a:ext cx="11890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17:41Z</dcterms:created>
  <dc:creator>Ellen Mullen</dc:creator>
  <dc:description/>
  <dc:language>en-US</dc:language>
  <cp:lastModifiedBy>na</cp:lastModifiedBy>
  <dcterms:modified xsi:type="dcterms:W3CDTF">2015-06-28T17:18:22Z</dcterms:modified>
  <cp:revision>11</cp:revision>
  <dc:subject/>
  <dc:title>Planning:  Processes and Techniques</dc:title>
</cp:coreProperties>
</file>