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A5D-9A18-442D-B76B-DB621C0B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230-2B71-4104-B35B-626FD216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652-A393-40CC-8831-FA80DC38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DC2-16E3-4935-9410-47F6810C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96B-FA95-4792-AEA8-58F57125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AE2-EBA7-43A9-8AC9-590EAA7C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01E-D2F3-4377-BA4A-C5E862E4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080A-5F76-471F-8749-A58DA43D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C31-F560-4F48-8559-7DA1CB82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D4C-FB0C-4AF2-8BF9-B9A467C2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FB3-E760-4849-AE7D-E6CCF9E3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1CE-C2CD-4CDA-B66B-881741C5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4A41-3B6B-481B-BDF3-BC86D8FB156C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3.jpe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22400" y="1968480"/>
            <a:ext cx="2743200" cy="40417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Subtitle 2" descr=""/>
          <p:cNvPicPr/>
          <p:nvPr/>
        </p:nvPicPr>
        <p:blipFill>
          <a:blip r:embed="rId13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" descr=""/>
          <p:cNvPicPr/>
          <p:nvPr/>
        </p:nvPicPr>
        <p:blipFill>
          <a:blip r:embed="rId14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6" descr=""/>
          <p:cNvPicPr/>
          <p:nvPr/>
        </p:nvPicPr>
        <p:blipFill>
          <a:blip r:embed="rId16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5" descr=""/>
          <p:cNvPicPr/>
          <p:nvPr/>
        </p:nvPicPr>
        <p:blipFill>
          <a:blip r:embed="rId17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6" descr=""/>
          <p:cNvPicPr/>
          <p:nvPr/>
        </p:nvPicPr>
        <p:blipFill>
          <a:blip r:embed="rId18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9" name="Subtitle 2"/>
          <p:cNvGrpSpPr/>
          <p:nvPr/>
        </p:nvGrpSpPr>
        <p:grpSpPr>
          <a:xfrm>
            <a:off x="-109440" y="1859040"/>
            <a:ext cx="2724120" cy="4151160"/>
            <a:chOff x="-109440" y="1859040"/>
            <a:chExt cx="2724120" cy="4151160"/>
          </a:xfrm>
        </p:grpSpPr>
        <p:pic>
          <p:nvPicPr>
            <p:cNvPr id="60" name="Subtitle 2" descr=""/>
            <p:cNvPicPr/>
            <p:nvPr/>
          </p:nvPicPr>
          <p:blipFill>
            <a:blip r:embed="rId19"/>
            <a:stretch/>
          </p:blipFill>
          <p:spPr>
            <a:xfrm>
              <a:off x="-109440" y="1859040"/>
              <a:ext cx="272412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الآثار الناتجة عن السياحة في الإقتصاد القوم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" name="Rectangle 1" descr=""/>
          <p:cNvPicPr/>
          <p:nvPr/>
        </p:nvPicPr>
        <p:blipFill>
          <a:blip r:embed="rId20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alhourriah.org/user_files/news/photo/european-imperialism.jpg"/>
          <p:cNvPicPr/>
          <p:nvPr/>
        </p:nvPicPr>
        <p:blipFill>
          <a:blip r:embed="rId21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11" descr=""/>
          <p:cNvPicPr/>
          <p:nvPr/>
        </p:nvPicPr>
        <p:blipFill>
          <a:blip r:embed="rId22"/>
          <a:stretch/>
        </p:blipFill>
        <p:spPr>
          <a:xfrm>
            <a:off x="2646360" y="5291280"/>
            <a:ext cx="57117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Title 1"/>
          <p:cNvGrpSpPr/>
          <p:nvPr/>
        </p:nvGrpSpPr>
        <p:grpSpPr>
          <a:xfrm>
            <a:off x="401760" y="244440"/>
            <a:ext cx="8340480" cy="1292400"/>
            <a:chOff x="401760" y="244440"/>
            <a:chExt cx="8340480" cy="1292400"/>
          </a:xfrm>
        </p:grpSpPr>
        <p:pic>
          <p:nvPicPr>
            <p:cNvPr id="66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الآثار الناتجة عن السياحة في الإقتصاد القوم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58"/>
          <p:cNvGrpSpPr/>
          <p:nvPr/>
        </p:nvGrpSpPr>
        <p:grpSpPr>
          <a:xfrm>
            <a:off x="1928520" y="1714680"/>
            <a:ext cx="5215320" cy="4143240"/>
            <a:chOff x="1928520" y="1714680"/>
            <a:chExt cx="5215320" cy="4143240"/>
          </a:xfrm>
        </p:grpSpPr>
        <p:grpSp>
          <p:nvGrpSpPr>
            <p:cNvPr id="69" name="Group 57"/>
            <p:cNvGrpSpPr/>
            <p:nvPr/>
          </p:nvGrpSpPr>
          <p:grpSpPr>
            <a:xfrm>
              <a:off x="1928520" y="2042640"/>
              <a:ext cx="5215320" cy="3815280"/>
              <a:chOff x="1928520" y="2042640"/>
              <a:chExt cx="5215320" cy="3815280"/>
            </a:xfrm>
          </p:grpSpPr>
          <p:sp>
            <p:nvSpPr>
              <p:cNvPr id="70" name="Oval 38"/>
              <p:cNvSpPr/>
              <p:nvPr/>
            </p:nvSpPr>
            <p:spPr>
              <a:xfrm>
                <a:off x="1928880" y="2042640"/>
                <a:ext cx="5214960" cy="38152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1" name="Straight Arrow Connector 40"/>
              <p:cNvCxnSpPr/>
              <p:nvPr/>
            </p:nvCxnSpPr>
            <p:spPr>
              <a:xfrm>
                <a:off x="6928560" y="3222000"/>
                <a:ext cx="214920" cy="27792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  <p:cxnSp>
            <p:nvCxnSpPr>
              <p:cNvPr id="72" name="Straight Arrow Connector 44"/>
              <p:cNvCxnSpPr/>
              <p:nvPr/>
            </p:nvCxnSpPr>
            <p:spPr>
              <a:xfrm flipH="1">
                <a:off x="5643360" y="5511240"/>
                <a:ext cx="357840" cy="20880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  <p:cxnSp>
            <p:nvCxnSpPr>
              <p:cNvPr id="73" name="Straight Arrow Connector 47"/>
              <p:cNvCxnSpPr/>
              <p:nvPr/>
            </p:nvCxnSpPr>
            <p:spPr>
              <a:xfrm flipV="1">
                <a:off x="2856960" y="2250360"/>
                <a:ext cx="286200" cy="20880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  <p:cxnSp>
            <p:nvCxnSpPr>
              <p:cNvPr id="74" name="Straight Arrow Connector 52"/>
              <p:cNvCxnSpPr/>
              <p:nvPr/>
            </p:nvCxnSpPr>
            <p:spPr>
              <a:xfrm flipH="1" flipV="1">
                <a:off x="1928520" y="4262040"/>
                <a:ext cx="143280" cy="27792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</p:grpSp>
        <p:grpSp>
          <p:nvGrpSpPr>
            <p:cNvPr id="75" name="Rectangle 3"/>
            <p:cNvGrpSpPr/>
            <p:nvPr/>
          </p:nvGrpSpPr>
          <p:grpSpPr>
            <a:xfrm>
              <a:off x="2458080" y="1714680"/>
              <a:ext cx="3879360" cy="1041840"/>
              <a:chOff x="2458080" y="1714680"/>
              <a:chExt cx="3879360" cy="1041840"/>
            </a:xfrm>
          </p:grpSpPr>
          <p:pic>
            <p:nvPicPr>
              <p:cNvPr id="76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9960" y="1714680"/>
                <a:ext cx="2962800" cy="104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458080" y="1834560"/>
                <a:ext cx="387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النشاط السياحي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" name="Rectangle 4"/>
          <p:cNvGrpSpPr/>
          <p:nvPr/>
        </p:nvGrpSpPr>
        <p:grpSpPr>
          <a:xfrm>
            <a:off x="-301680" y="2951280"/>
            <a:ext cx="4815360" cy="1614240"/>
            <a:chOff x="-301680" y="2951280"/>
            <a:chExt cx="4815360" cy="1614240"/>
          </a:xfrm>
        </p:grpSpPr>
        <p:pic>
          <p:nvPicPr>
            <p:cNvPr id="79" name="Rectangle 4" descr=""/>
            <p:cNvPicPr/>
            <p:nvPr/>
          </p:nvPicPr>
          <p:blipFill>
            <a:blip r:embed="rId3"/>
            <a:stretch/>
          </p:blipFill>
          <p:spPr>
            <a:xfrm>
              <a:off x="281160" y="2951280"/>
              <a:ext cx="3651120" cy="16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-301680" y="3071880"/>
              <a:ext cx="481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قطاعات الإقتصادي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أخر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ctangle 6"/>
          <p:cNvGrpSpPr/>
          <p:nvPr/>
        </p:nvGrpSpPr>
        <p:grpSpPr>
          <a:xfrm>
            <a:off x="3517920" y="5162400"/>
            <a:ext cx="2254320" cy="1073160"/>
            <a:chOff x="3517920" y="5162400"/>
            <a:chExt cx="2254320" cy="1073160"/>
          </a:xfrm>
        </p:grpSpPr>
        <p:pic>
          <p:nvPicPr>
            <p:cNvPr id="82" name="Rectangle 6" descr=""/>
            <p:cNvPicPr/>
            <p:nvPr/>
          </p:nvPicPr>
          <p:blipFill>
            <a:blip r:embed="rId4"/>
            <a:stretch/>
          </p:blipFill>
          <p:spPr>
            <a:xfrm>
              <a:off x="3517920" y="5162400"/>
              <a:ext cx="22543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571920" y="5286240"/>
              <a:ext cx="21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إقتصاد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Rectangle 59"/>
          <p:cNvSpPr/>
          <p:nvPr/>
        </p:nvSpPr>
        <p:spPr>
          <a:xfrm rot="2845800">
            <a:off x="1641600" y="5199480"/>
            <a:ext cx="13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طو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0"/>
          <p:cNvSpPr/>
          <p:nvPr/>
        </p:nvSpPr>
        <p:spPr>
          <a:xfrm rot="18514800">
            <a:off x="6332400" y="494244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ن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61"/>
          <p:cNvSpPr/>
          <p:nvPr/>
        </p:nvSpPr>
        <p:spPr>
          <a:xfrm rot="18431400">
            <a:off x="1492560" y="213516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طو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63"/>
          <p:cNvGrpSpPr/>
          <p:nvPr/>
        </p:nvGrpSpPr>
        <p:grpSpPr>
          <a:xfrm>
            <a:off x="5352840" y="1817640"/>
            <a:ext cx="3980160" cy="2257560"/>
            <a:chOff x="5352840" y="1817640"/>
            <a:chExt cx="3980160" cy="2257560"/>
          </a:xfrm>
        </p:grpSpPr>
        <p:grpSp>
          <p:nvGrpSpPr>
            <p:cNvPr id="88" name="Rectangle 5"/>
            <p:cNvGrpSpPr/>
            <p:nvPr/>
          </p:nvGrpSpPr>
          <p:grpSpPr>
            <a:xfrm>
              <a:off x="5352840" y="3154320"/>
              <a:ext cx="3980160" cy="920880"/>
              <a:chOff x="5352840" y="3154320"/>
              <a:chExt cx="3980160" cy="920880"/>
            </a:xfrm>
          </p:grpSpPr>
          <p:pic>
            <p:nvPicPr>
              <p:cNvPr id="89" name="Rectangl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5929200" y="3154320"/>
                <a:ext cx="28353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5352840" y="3256920"/>
                <a:ext cx="398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الصناعة السياحي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Rectangle 62"/>
            <p:cNvSpPr/>
            <p:nvPr/>
          </p:nvSpPr>
          <p:spPr>
            <a:xfrm rot="2085600">
              <a:off x="6212160" y="2161440"/>
              <a:ext cx="138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تطوير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masrfx.net/wp-content/uploads/2012/01/%D9%85%D8%A4%D8%B4%D8%B1%D8%A7%D8%AA-%D8%AA%D8%AC%D8%A7%D8%B1%D8%A9-%D8%A7%D9%84%D9%81%D9%88%D8%B1%D9%83%D8%B3.jpg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4286160"/>
          </a:xfrm>
          <a:prstGeom prst="rect">
            <a:avLst/>
          </a:prstGeom>
          <a:ln w="0">
            <a:noFill/>
          </a:ln>
        </p:spPr>
      </p:pic>
      <p:grpSp>
        <p:nvGrpSpPr>
          <p:cNvPr id="93" name="Title 1"/>
          <p:cNvGrpSpPr/>
          <p:nvPr/>
        </p:nvGrpSpPr>
        <p:grpSpPr>
          <a:xfrm>
            <a:off x="401760" y="244440"/>
            <a:ext cx="8340480" cy="1292400"/>
            <a:chOff x="401760" y="244440"/>
            <a:chExt cx="8340480" cy="1292400"/>
          </a:xfrm>
        </p:grpSpPr>
        <p:pic>
          <p:nvPicPr>
            <p:cNvPr id="94" name="Title 1" descr=""/>
            <p:cNvPicPr/>
            <p:nvPr/>
          </p:nvPicPr>
          <p:blipFill>
            <a:blip r:embed="rId2"/>
            <a:stretch/>
          </p:blipFill>
          <p:spPr>
            <a:xfrm>
              <a:off x="401760" y="244440"/>
              <a:ext cx="83404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الآثار الناتجة عن السياحة في الإقتصاد القوم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1"/>
          <p:cNvGrpSpPr/>
          <p:nvPr/>
        </p:nvGrpSpPr>
        <p:grpSpPr>
          <a:xfrm>
            <a:off x="-193680" y="1643040"/>
            <a:ext cx="8766360" cy="1191240"/>
            <a:chOff x="-193680" y="1643040"/>
            <a:chExt cx="8766360" cy="1191240"/>
          </a:xfrm>
        </p:grpSpPr>
        <p:sp>
          <p:nvSpPr>
            <p:cNvPr id="97" name="Rectangle 4"/>
            <p:cNvSpPr/>
            <p:nvPr/>
          </p:nvSpPr>
          <p:spPr>
            <a:xfrm>
              <a:off x="5700960" y="1643040"/>
              <a:ext cx="2871720" cy="119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آثار المباشر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5"/>
            <p:cNvSpPr/>
            <p:nvPr/>
          </p:nvSpPr>
          <p:spPr>
            <a:xfrm>
              <a:off x="-193680" y="1643040"/>
              <a:ext cx="4320000" cy="642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آثار غير المباشر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Rectangle 6"/>
          <p:cNvGrpSpPr/>
          <p:nvPr/>
        </p:nvGrpSpPr>
        <p:grpSpPr>
          <a:xfrm>
            <a:off x="5623560" y="2535120"/>
            <a:ext cx="2978640" cy="963720"/>
            <a:chOff x="5623560" y="2535120"/>
            <a:chExt cx="2978640" cy="963720"/>
          </a:xfrm>
        </p:grpSpPr>
        <p:pic>
          <p:nvPicPr>
            <p:cNvPr id="100" name="Rectangle 6" descr=""/>
            <p:cNvPicPr/>
            <p:nvPr/>
          </p:nvPicPr>
          <p:blipFill>
            <a:blip r:embed="rId3"/>
            <a:stretch/>
          </p:blipFill>
          <p:spPr>
            <a:xfrm>
              <a:off x="5943600" y="2535120"/>
              <a:ext cx="234648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623560" y="2643120"/>
              <a:ext cx="297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الدخل القوم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7"/>
          <p:cNvGrpSpPr/>
          <p:nvPr/>
        </p:nvGrpSpPr>
        <p:grpSpPr>
          <a:xfrm>
            <a:off x="5069880" y="3322800"/>
            <a:ext cx="3611160" cy="963360"/>
            <a:chOff x="5069880" y="3322800"/>
            <a:chExt cx="3611160" cy="963360"/>
          </a:xfrm>
        </p:grpSpPr>
        <p:pic>
          <p:nvPicPr>
            <p:cNvPr id="103" name="Rectangle 7" descr=""/>
            <p:cNvPicPr/>
            <p:nvPr/>
          </p:nvPicPr>
          <p:blipFill>
            <a:blip r:embed="rId4"/>
            <a:stretch/>
          </p:blipFill>
          <p:spPr>
            <a:xfrm>
              <a:off x="5443560" y="3322800"/>
              <a:ext cx="28652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069880" y="3429000"/>
              <a:ext cx="36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ميزان المدفوعات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8"/>
          <p:cNvGrpSpPr/>
          <p:nvPr/>
        </p:nvGrpSpPr>
        <p:grpSpPr>
          <a:xfrm>
            <a:off x="2945160" y="4108320"/>
            <a:ext cx="6135120" cy="963720"/>
            <a:chOff x="2945160" y="4108320"/>
            <a:chExt cx="6135120" cy="963720"/>
          </a:xfrm>
        </p:grpSpPr>
        <p:pic>
          <p:nvPicPr>
            <p:cNvPr id="106" name="Rectangle 8" descr=""/>
            <p:cNvPicPr/>
            <p:nvPr/>
          </p:nvPicPr>
          <p:blipFill>
            <a:blip r:embed="rId5"/>
            <a:stretch/>
          </p:blipFill>
          <p:spPr>
            <a:xfrm>
              <a:off x="3743280" y="4108320"/>
              <a:ext cx="45468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945160" y="4214880"/>
              <a:ext cx="61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الإستخدام وتكوين فرص العمل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Rectangle 9"/>
          <p:cNvGrpSpPr/>
          <p:nvPr/>
        </p:nvGrpSpPr>
        <p:grpSpPr>
          <a:xfrm>
            <a:off x="1561680" y="4876920"/>
            <a:ext cx="7765560" cy="963360"/>
            <a:chOff x="1561680" y="4876920"/>
            <a:chExt cx="7765560" cy="963360"/>
          </a:xfrm>
        </p:grpSpPr>
        <p:pic>
          <p:nvPicPr>
            <p:cNvPr id="109" name="Rectangle 9" descr=""/>
            <p:cNvPicPr/>
            <p:nvPr/>
          </p:nvPicPr>
          <p:blipFill>
            <a:blip r:embed="rId6"/>
            <a:stretch/>
          </p:blipFill>
          <p:spPr>
            <a:xfrm>
              <a:off x="2603520" y="4876920"/>
              <a:ext cx="568656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561680" y="4987800"/>
              <a:ext cx="776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إعادة توزيع الدخل والتنمية بين الأقاليم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8:52Z</dcterms:modified>
  <cp:revision>31</cp:revision>
  <dc:subject/>
  <dc:title>Slide 1</dc:title>
</cp:coreProperties>
</file>