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2FD-9F6A-4C80-8E97-EA6315F7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639-6B91-4D08-9E01-F65B091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258-B7E6-47F0-9170-528A9DBE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B9D-96B6-4B1E-B1A4-2D8EC32E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BBD-79D5-404C-82C6-5EAE5104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AAA-EC22-48D1-BBD9-2F969191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2E5-AFE8-48E6-95DD-008503F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AB0-937B-43DC-84D4-5405A5D6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29B-0F58-4E05-A321-E746416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BF4-6F2F-4845-99D7-EAA2A49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5A9-B8AE-4D97-8020-FA2F82F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BA3-47A8-4E7A-8478-9A2653C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E6E-8640-4B66-8E88-5300F44527C5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9680" y="1859040"/>
            <a:ext cx="2274840" cy="4151160"/>
            <a:chOff x="139680" y="1859040"/>
            <a:chExt cx="2274840" cy="415116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9680" y="1859040"/>
              <a:ext cx="22748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ناقشة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ف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 ا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968560" y="5284800"/>
            <a:ext cx="57182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encrypted-tbn2.gstatic.com/images?q=tbn:ANd9GcR2vrTUAFaUOLldHqVGTnknJdXF0vVRPbwze3OcGaz0X3EJ_aVMPw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3214440"/>
          </a:xfrm>
          <a:prstGeom prst="rect">
            <a:avLst/>
          </a:prstGeom>
          <a:ln w="0">
            <a:noFill/>
          </a:ln>
        </p:spPr>
      </p:pic>
      <p:grpSp>
        <p:nvGrpSpPr>
          <p:cNvPr id="60" name="Title 1"/>
          <p:cNvGrpSpPr/>
          <p:nvPr/>
        </p:nvGrpSpPr>
        <p:grpSpPr>
          <a:xfrm>
            <a:off x="401760" y="109440"/>
            <a:ext cx="8340480" cy="1347840"/>
            <a:chOff x="401760" y="109440"/>
            <a:chExt cx="8340480" cy="1347840"/>
          </a:xfrm>
        </p:grpSpPr>
        <p:pic>
          <p:nvPicPr>
            <p:cNvPr id="61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109440"/>
              <a:ext cx="83404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مقدم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Rectangle 4"/>
          <p:cNvGrpSpPr/>
          <p:nvPr/>
        </p:nvGrpSpPr>
        <p:grpSpPr>
          <a:xfrm>
            <a:off x="5646240" y="1285920"/>
            <a:ext cx="3457440" cy="1103400"/>
            <a:chOff x="5646240" y="1285920"/>
            <a:chExt cx="3457440" cy="1103400"/>
          </a:xfrm>
        </p:grpSpPr>
        <p:pic>
          <p:nvPicPr>
            <p:cNvPr id="64" name="Rectangle 4" descr=""/>
            <p:cNvPicPr/>
            <p:nvPr/>
          </p:nvPicPr>
          <p:blipFill>
            <a:blip r:embed="rId3"/>
            <a:stretch/>
          </p:blipFill>
          <p:spPr>
            <a:xfrm>
              <a:off x="5931000" y="1285920"/>
              <a:ext cx="28890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646240" y="135720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سياح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تكاد أن تكون ضرور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5"/>
          <p:cNvGrpSpPr/>
          <p:nvPr/>
        </p:nvGrpSpPr>
        <p:grpSpPr>
          <a:xfrm>
            <a:off x="241200" y="1285920"/>
            <a:ext cx="2646720" cy="1103400"/>
            <a:chOff x="241200" y="1285920"/>
            <a:chExt cx="2646720" cy="1103400"/>
          </a:xfrm>
        </p:grpSpPr>
        <p:pic>
          <p:nvPicPr>
            <p:cNvPr id="67" name="Rectangle 5" descr=""/>
            <p:cNvPicPr/>
            <p:nvPr/>
          </p:nvPicPr>
          <p:blipFill>
            <a:blip r:embed="rId4"/>
            <a:stretch/>
          </p:blipFill>
          <p:spPr>
            <a:xfrm>
              <a:off x="500040" y="1285920"/>
              <a:ext cx="21272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1200" y="1357200"/>
              <a:ext cx="264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توج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مواصفات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6119280" y="2143080"/>
            <a:ext cx="2527560" cy="1187640"/>
            <a:chOff x="6119280" y="2143080"/>
            <a:chExt cx="2527560" cy="1187640"/>
          </a:xfrm>
        </p:grpSpPr>
        <p:grpSp>
          <p:nvGrpSpPr>
            <p:cNvPr id="70" name="Down Arrow 6"/>
            <p:cNvGrpSpPr/>
            <p:nvPr/>
          </p:nvGrpSpPr>
          <p:grpSpPr>
            <a:xfrm>
              <a:off x="6792840" y="2143080"/>
              <a:ext cx="1122840" cy="387360"/>
              <a:chOff x="6792840" y="2143080"/>
              <a:chExt cx="1122840" cy="387360"/>
            </a:xfrm>
          </p:grpSpPr>
          <p:pic>
            <p:nvPicPr>
              <p:cNvPr id="71" name="Down Arrow 6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2840" y="2143080"/>
                <a:ext cx="112284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7098840" y="2166120"/>
                <a:ext cx="51084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6119280" y="2403000"/>
              <a:ext cx="2527560" cy="927720"/>
              <a:chOff x="6119280" y="2403000"/>
              <a:chExt cx="2527560" cy="92772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3000"/>
                <a:ext cx="234936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6119280" y="2464560"/>
                <a:ext cx="252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طلب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Deman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" name="Group 33"/>
          <p:cNvGrpSpPr/>
          <p:nvPr/>
        </p:nvGrpSpPr>
        <p:grpSpPr>
          <a:xfrm>
            <a:off x="6858000" y="3357720"/>
            <a:ext cx="1143000" cy="832680"/>
            <a:chOff x="6858000" y="3357720"/>
            <a:chExt cx="1143000" cy="832680"/>
          </a:xfrm>
        </p:grpSpPr>
        <p:sp>
          <p:nvSpPr>
            <p:cNvPr id="77" name="Rectangle 12"/>
            <p:cNvSpPr/>
            <p:nvPr/>
          </p:nvSpPr>
          <p:spPr>
            <a:xfrm>
              <a:off x="7037280" y="3730680"/>
              <a:ext cx="81936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Down Arrow 16"/>
            <p:cNvGrpSpPr/>
            <p:nvPr/>
          </p:nvGrpSpPr>
          <p:grpSpPr>
            <a:xfrm>
              <a:off x="6858000" y="3357720"/>
              <a:ext cx="1143000" cy="447480"/>
              <a:chOff x="6858000" y="3357720"/>
              <a:chExt cx="1143000" cy="447480"/>
            </a:xfrm>
          </p:grpSpPr>
          <p:pic>
            <p:nvPicPr>
              <p:cNvPr id="79" name="Down Arrow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716796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Group 35"/>
          <p:cNvGrpSpPr/>
          <p:nvPr/>
        </p:nvGrpSpPr>
        <p:grpSpPr>
          <a:xfrm>
            <a:off x="284760" y="2143080"/>
            <a:ext cx="2553480" cy="1187640"/>
            <a:chOff x="284760" y="2143080"/>
            <a:chExt cx="2553480" cy="1187640"/>
          </a:xfrm>
        </p:grpSpPr>
        <p:grpSp>
          <p:nvGrpSpPr>
            <p:cNvPr id="82" name="Rectangle 10"/>
            <p:cNvGrpSpPr/>
            <p:nvPr/>
          </p:nvGrpSpPr>
          <p:grpSpPr>
            <a:xfrm>
              <a:off x="284760" y="2403000"/>
              <a:ext cx="2553480" cy="927720"/>
              <a:chOff x="284760" y="2403000"/>
              <a:chExt cx="2553480" cy="927720"/>
            </a:xfrm>
          </p:grpSpPr>
          <p:pic>
            <p:nvPicPr>
              <p:cNvPr id="83" name="Rectangl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500040" y="2403000"/>
                <a:ext cx="213048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84760" y="2464560"/>
                <a:ext cx="2553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عرض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Supply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Down Arrow 17"/>
            <p:cNvGrpSpPr/>
            <p:nvPr/>
          </p:nvGrpSpPr>
          <p:grpSpPr>
            <a:xfrm>
              <a:off x="947520" y="2143080"/>
              <a:ext cx="1110960" cy="387360"/>
              <a:chOff x="947520" y="2143080"/>
              <a:chExt cx="1110960" cy="387360"/>
            </a:xfrm>
          </p:grpSpPr>
          <p:pic>
            <p:nvPicPr>
              <p:cNvPr id="86" name="Down Arrow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947520" y="2143080"/>
                <a:ext cx="11109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251000" y="2166120"/>
                <a:ext cx="5058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36"/>
          <p:cNvGrpSpPr/>
          <p:nvPr/>
        </p:nvGrpSpPr>
        <p:grpSpPr>
          <a:xfrm>
            <a:off x="828720" y="3357720"/>
            <a:ext cx="1427400" cy="832680"/>
            <a:chOff x="828720" y="3357720"/>
            <a:chExt cx="1427400" cy="832680"/>
          </a:xfrm>
        </p:grpSpPr>
        <p:sp>
          <p:nvSpPr>
            <p:cNvPr id="89" name="Rectangle 13"/>
            <p:cNvSpPr/>
            <p:nvPr/>
          </p:nvSpPr>
          <p:spPr>
            <a:xfrm>
              <a:off x="828720" y="3730680"/>
              <a:ext cx="142740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غير 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Down Arrow 18"/>
            <p:cNvGrpSpPr/>
            <p:nvPr/>
          </p:nvGrpSpPr>
          <p:grpSpPr>
            <a:xfrm>
              <a:off x="1000080" y="3357720"/>
              <a:ext cx="1143000" cy="447480"/>
              <a:chOff x="1000080" y="3357720"/>
              <a:chExt cx="1143000" cy="447480"/>
            </a:xfrm>
          </p:grpSpPr>
          <p:pic>
            <p:nvPicPr>
              <p:cNvPr id="91" name="Down Arrow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008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31040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Group 34"/>
          <p:cNvGrpSpPr/>
          <p:nvPr/>
        </p:nvGrpSpPr>
        <p:grpSpPr>
          <a:xfrm>
            <a:off x="6401160" y="4214880"/>
            <a:ext cx="2139120" cy="819000"/>
            <a:chOff x="6401160" y="4214880"/>
            <a:chExt cx="2139120" cy="819000"/>
          </a:xfrm>
        </p:grpSpPr>
        <p:grpSp>
          <p:nvGrpSpPr>
            <p:cNvPr id="94" name="Down Arrow 19"/>
            <p:cNvGrpSpPr/>
            <p:nvPr/>
          </p:nvGrpSpPr>
          <p:grpSpPr>
            <a:xfrm>
              <a:off x="6910200" y="4214880"/>
              <a:ext cx="1054080" cy="360360"/>
              <a:chOff x="6910200" y="4214880"/>
              <a:chExt cx="1054080" cy="360360"/>
            </a:xfrm>
          </p:grpSpPr>
          <p:pic>
            <p:nvPicPr>
              <p:cNvPr id="95" name="Down Arrow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10200" y="4214880"/>
                <a:ext cx="105408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196400" y="4240080"/>
                <a:ext cx="47952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ectangle 21"/>
            <p:cNvGrpSpPr/>
            <p:nvPr/>
          </p:nvGrpSpPr>
          <p:grpSpPr>
            <a:xfrm>
              <a:off x="6401160" y="4458240"/>
              <a:ext cx="2139120" cy="575640"/>
              <a:chOff x="6401160" y="4458240"/>
              <a:chExt cx="2139120" cy="575640"/>
            </a:xfrm>
          </p:grpSpPr>
          <p:pic>
            <p:nvPicPr>
              <p:cNvPr id="98" name="Rectangl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6240" y="4458240"/>
                <a:ext cx="148896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6401160" y="4514400"/>
                <a:ext cx="21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سائح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Group 37"/>
          <p:cNvGrpSpPr/>
          <p:nvPr/>
        </p:nvGrpSpPr>
        <p:grpSpPr>
          <a:xfrm>
            <a:off x="-121320" y="4214880"/>
            <a:ext cx="3435840" cy="819000"/>
            <a:chOff x="-121320" y="4214880"/>
            <a:chExt cx="3435840" cy="819000"/>
          </a:xfrm>
        </p:grpSpPr>
        <p:grpSp>
          <p:nvGrpSpPr>
            <p:cNvPr id="101" name="Down Arrow 20"/>
            <p:cNvGrpSpPr/>
            <p:nvPr/>
          </p:nvGrpSpPr>
          <p:grpSpPr>
            <a:xfrm>
              <a:off x="1007280" y="4214880"/>
              <a:ext cx="1119240" cy="360360"/>
              <a:chOff x="1007280" y="4214880"/>
              <a:chExt cx="1119240" cy="360360"/>
            </a:xfrm>
          </p:grpSpPr>
          <p:pic>
            <p:nvPicPr>
              <p:cNvPr id="102" name="Down Arrow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7280" y="4214880"/>
                <a:ext cx="11192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312200" y="4240080"/>
                <a:ext cx="51156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Rectangle 22"/>
            <p:cNvGrpSpPr/>
            <p:nvPr/>
          </p:nvGrpSpPr>
          <p:grpSpPr>
            <a:xfrm>
              <a:off x="-121320" y="4458240"/>
              <a:ext cx="3435840" cy="575640"/>
              <a:chOff x="-121320" y="4458240"/>
              <a:chExt cx="3435840" cy="575640"/>
            </a:xfrm>
          </p:grpSpPr>
          <p:pic>
            <p:nvPicPr>
              <p:cNvPr id="105" name="Rectangle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760" y="4458240"/>
                <a:ext cx="234792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-121320" y="4514400"/>
                <a:ext cx="343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منتج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Group 38"/>
          <p:cNvGrpSpPr/>
          <p:nvPr/>
        </p:nvGrpSpPr>
        <p:grpSpPr>
          <a:xfrm>
            <a:off x="2614320" y="4286160"/>
            <a:ext cx="4281840" cy="1282320"/>
            <a:chOff x="2614320" y="4286160"/>
            <a:chExt cx="4281840" cy="1282320"/>
          </a:xfrm>
        </p:grpSpPr>
        <p:grpSp>
          <p:nvGrpSpPr>
            <p:cNvPr id="108" name="Rectangle 23"/>
            <p:cNvGrpSpPr/>
            <p:nvPr/>
          </p:nvGrpSpPr>
          <p:grpSpPr>
            <a:xfrm>
              <a:off x="2614320" y="4286160"/>
              <a:ext cx="4281840" cy="1282320"/>
              <a:chOff x="2614320" y="4286160"/>
              <a:chExt cx="4281840" cy="1282320"/>
            </a:xfrm>
          </p:grpSpPr>
          <p:pic>
            <p:nvPicPr>
              <p:cNvPr id="109" name="Rectangle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86920" y="4286160"/>
                <a:ext cx="3529800" cy="12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14320" y="4377240"/>
                <a:ext cx="4281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تناقض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بالمصالح والرغبات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Left Arrow 25"/>
            <p:cNvSpPr/>
            <p:nvPr/>
          </p:nvSpPr>
          <p:spPr>
            <a:xfrm>
              <a:off x="6286680" y="4589640"/>
              <a:ext cx="428400" cy="371520"/>
            </a:xfrm>
            <a:prstGeom prst="lef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ight Arrow 26"/>
            <p:cNvSpPr/>
            <p:nvPr/>
          </p:nvSpPr>
          <p:spPr>
            <a:xfrm>
              <a:off x="2786040" y="4589640"/>
              <a:ext cx="428400" cy="371520"/>
            </a:xfrm>
            <a:prstGeom prst="righ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Rectangle 29"/>
          <p:cNvGrpSpPr/>
          <p:nvPr/>
        </p:nvGrpSpPr>
        <p:grpSpPr>
          <a:xfrm>
            <a:off x="-615960" y="5913360"/>
            <a:ext cx="6185160" cy="852480"/>
            <a:chOff x="-615960" y="5913360"/>
            <a:chExt cx="6185160" cy="852480"/>
          </a:xfrm>
        </p:grpSpPr>
        <p:pic>
          <p:nvPicPr>
            <p:cNvPr id="114" name="Rectangle 29" descr=""/>
            <p:cNvPicPr/>
            <p:nvPr/>
          </p:nvPicPr>
          <p:blipFill>
            <a:blip r:embed="rId16"/>
            <a:stretch/>
          </p:blipFill>
          <p:spPr>
            <a:xfrm>
              <a:off x="244440" y="5913360"/>
              <a:ext cx="45036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-615960" y="6000840"/>
              <a:ext cx="618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4572000" y="5286240"/>
            <a:ext cx="2641320" cy="1235160"/>
            <a:chOff x="4572000" y="5286240"/>
            <a:chExt cx="2641320" cy="1235160"/>
          </a:xfrm>
        </p:grpSpPr>
        <p:sp>
          <p:nvSpPr>
            <p:cNvPr id="117" name="Circular Arrow 27"/>
            <p:cNvSpPr/>
            <p:nvPr/>
          </p:nvSpPr>
          <p:spPr>
            <a:xfrm rot="5400000">
              <a:off x="5777280" y="4937760"/>
              <a:ext cx="1087560" cy="1784520"/>
            </a:xfrm>
            <a:custGeom>
              <a:avLst/>
              <a:gdLst/>
              <a:ahLst/>
              <a:rect l="l" t="t" r="r" b="b"/>
              <a:pathLst>
                <a:path w="1086867" h="1784558">
                  <a:moveTo>
                    <a:pt x="67929" y="892279"/>
                  </a:moveTo>
                  <a:cubicBezTo>
                    <a:pt x="67929" y="514116"/>
                    <a:pt x="216347" y="184453"/>
                    <a:pt x="427950" y="92610"/>
                  </a:cubicBezTo>
                  <a:cubicBezTo>
                    <a:pt x="696645" y="-24013"/>
                    <a:pt x="965738" y="280611"/>
                    <a:pt x="1012200" y="754002"/>
                  </a:cubicBezTo>
                  <a:lnTo>
                    <a:pt x="1079999" y="754002"/>
                  </a:lnTo>
                  <a:lnTo>
                    <a:pt x="951009" y="892279"/>
                  </a:lnTo>
                  <a:lnTo>
                    <a:pt x="808282" y="754002"/>
                  </a:lnTo>
                  <a:lnTo>
                    <a:pt x="876159" y="754002"/>
                  </a:lnTo>
                  <a:cubicBezTo>
                    <a:pt x="833537" y="332581"/>
                    <a:pt x="612823" y="92719"/>
                    <a:pt x="416086" y="254015"/>
                  </a:cubicBezTo>
                  <a:cubicBezTo>
                    <a:pt x="287775" y="359211"/>
                    <a:pt x="203788" y="611713"/>
                    <a:pt x="203788" y="892279"/>
                  </a:cubicBezTo>
                  <a:lnTo>
                    <a:pt x="67929" y="892279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5079240" y="6000840"/>
              <a:ext cx="141660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شاك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eft Arrow 30"/>
            <p:cNvSpPr/>
            <p:nvPr/>
          </p:nvSpPr>
          <p:spPr>
            <a:xfrm>
              <a:off x="4572000" y="6000840"/>
              <a:ext cx="714240" cy="500040"/>
            </a:xfrm>
            <a:prstGeom prst="leftArrow">
              <a:avLst>
                <a:gd name="adj1" fmla="val 50000"/>
                <a:gd name="adj2" fmla="val 4996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encrypted-tbn0.gstatic.com/images?q=tbn:ANd9GcQS33KdHlpiXZujShINHWHFil5fQbCJ-VH_M4f5aW0OuLj3MZ_2iQ"/>
          <p:cNvPicPr/>
          <p:nvPr/>
        </p:nvPicPr>
        <p:blipFill>
          <a:blip r:embed="rId1"/>
          <a:stretch/>
        </p:blipFill>
        <p:spPr>
          <a:xfrm>
            <a:off x="0" y="0"/>
            <a:ext cx="442908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21" name="Rectangle 3"/>
          <p:cNvGrpSpPr/>
          <p:nvPr/>
        </p:nvGrpSpPr>
        <p:grpSpPr>
          <a:xfrm>
            <a:off x="2283120" y="237960"/>
            <a:ext cx="7910280" cy="1067040"/>
            <a:chOff x="2283120" y="237960"/>
            <a:chExt cx="7910280" cy="1067040"/>
          </a:xfrm>
        </p:grpSpPr>
        <p:pic>
          <p:nvPicPr>
            <p:cNvPr id="122" name="Rectangle 3" descr=""/>
            <p:cNvPicPr/>
            <p:nvPr/>
          </p:nvPicPr>
          <p:blipFill>
            <a:blip r:embed="rId2"/>
            <a:stretch/>
          </p:blipFill>
          <p:spPr>
            <a:xfrm>
              <a:off x="3389400" y="237960"/>
              <a:ext cx="57546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283120" y="357120"/>
              <a:ext cx="79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Rectangle 5"/>
          <p:cNvGrpSpPr/>
          <p:nvPr/>
        </p:nvGrpSpPr>
        <p:grpSpPr>
          <a:xfrm>
            <a:off x="5563800" y="1285920"/>
            <a:ext cx="3507480" cy="1109520"/>
            <a:chOff x="5563800" y="1285920"/>
            <a:chExt cx="3507480" cy="1109520"/>
          </a:xfrm>
        </p:grpSpPr>
        <p:pic>
          <p:nvPicPr>
            <p:cNvPr id="125" name="Rectangle 5" descr=""/>
            <p:cNvPicPr/>
            <p:nvPr/>
          </p:nvPicPr>
          <p:blipFill>
            <a:blip r:embed="rId3"/>
            <a:stretch/>
          </p:blipFill>
          <p:spPr>
            <a:xfrm>
              <a:off x="5999040" y="1285920"/>
              <a:ext cx="2638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563800" y="1357200"/>
              <a:ext cx="350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ذروة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High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Rectangle 6"/>
          <p:cNvGrpSpPr/>
          <p:nvPr/>
        </p:nvGrpSpPr>
        <p:grpSpPr>
          <a:xfrm>
            <a:off x="-307440" y="1285920"/>
            <a:ext cx="3545640" cy="1109520"/>
            <a:chOff x="-307440" y="1285920"/>
            <a:chExt cx="3545640" cy="1109520"/>
          </a:xfrm>
        </p:grpSpPr>
        <p:pic>
          <p:nvPicPr>
            <p:cNvPr id="128" name="Rectangle 6" descr=""/>
            <p:cNvPicPr/>
            <p:nvPr/>
          </p:nvPicPr>
          <p:blipFill>
            <a:blip r:embed="rId4"/>
            <a:stretch/>
          </p:blipFill>
          <p:spPr>
            <a:xfrm>
              <a:off x="152280" y="1285920"/>
              <a:ext cx="26337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-307440" y="1357200"/>
              <a:ext cx="354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كساد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Low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5622120" y="2143080"/>
            <a:ext cx="3550680" cy="1187640"/>
            <a:chOff x="5622120" y="2143080"/>
            <a:chExt cx="3550680" cy="1187640"/>
          </a:xfrm>
        </p:grpSpPr>
        <p:grpSp>
          <p:nvGrpSpPr>
            <p:cNvPr id="131" name="Down Arrow 7"/>
            <p:cNvGrpSpPr/>
            <p:nvPr/>
          </p:nvGrpSpPr>
          <p:grpSpPr>
            <a:xfrm>
              <a:off x="6794640" y="2143080"/>
              <a:ext cx="1126440" cy="385560"/>
              <a:chOff x="6794640" y="2143080"/>
              <a:chExt cx="1126440" cy="385560"/>
            </a:xfrm>
          </p:grpSpPr>
          <p:pic>
            <p:nvPicPr>
              <p:cNvPr id="132" name="Down Arrow 7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4640" y="2143080"/>
                <a:ext cx="112644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101720" y="2166120"/>
                <a:ext cx="51264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Rectangle 8"/>
            <p:cNvGrpSpPr/>
            <p:nvPr/>
          </p:nvGrpSpPr>
          <p:grpSpPr>
            <a:xfrm>
              <a:off x="5622120" y="2401920"/>
              <a:ext cx="3550680" cy="928800"/>
              <a:chOff x="5622120" y="2401920"/>
              <a:chExt cx="3550680" cy="928800"/>
            </a:xfrm>
          </p:grpSpPr>
          <p:pic>
            <p:nvPicPr>
              <p:cNvPr id="135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1920"/>
                <a:ext cx="2373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5622120" y="2463120"/>
                <a:ext cx="355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رتفاع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طلب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2060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Group 37"/>
          <p:cNvGrpSpPr/>
          <p:nvPr/>
        </p:nvGrpSpPr>
        <p:grpSpPr>
          <a:xfrm>
            <a:off x="5248800" y="3357720"/>
            <a:ext cx="4345920" cy="1202400"/>
            <a:chOff x="5248800" y="3357720"/>
            <a:chExt cx="4345920" cy="1202400"/>
          </a:xfrm>
        </p:grpSpPr>
        <p:sp>
          <p:nvSpPr>
            <p:cNvPr id="138" name="Rectangle 10"/>
            <p:cNvSpPr/>
            <p:nvPr/>
          </p:nvSpPr>
          <p:spPr>
            <a:xfrm>
              <a:off x="5248800" y="3734640"/>
              <a:ext cx="434592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طلب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الطاقة الإستيعاب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Down Arrow 12"/>
            <p:cNvGrpSpPr/>
            <p:nvPr/>
          </p:nvGrpSpPr>
          <p:grpSpPr>
            <a:xfrm>
              <a:off x="6802920" y="3357720"/>
              <a:ext cx="1249560" cy="452160"/>
              <a:chOff x="6802920" y="3357720"/>
              <a:chExt cx="1249560" cy="452160"/>
            </a:xfrm>
          </p:grpSpPr>
          <p:pic>
            <p:nvPicPr>
              <p:cNvPr id="140" name="Down Arrow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292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143120" y="3386160"/>
                <a:ext cx="571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Group 42"/>
          <p:cNvGrpSpPr/>
          <p:nvPr/>
        </p:nvGrpSpPr>
        <p:grpSpPr>
          <a:xfrm>
            <a:off x="-341640" y="2143080"/>
            <a:ext cx="3821760" cy="1187640"/>
            <a:chOff x="-341640" y="2143080"/>
            <a:chExt cx="3821760" cy="1187640"/>
          </a:xfrm>
        </p:grpSpPr>
        <p:grpSp>
          <p:nvGrpSpPr>
            <p:cNvPr id="143" name="Rectangle 9"/>
            <p:cNvGrpSpPr/>
            <p:nvPr/>
          </p:nvGrpSpPr>
          <p:grpSpPr>
            <a:xfrm>
              <a:off x="-341640" y="2401920"/>
              <a:ext cx="3821760" cy="928800"/>
              <a:chOff x="-341640" y="2401920"/>
              <a:chExt cx="3821760" cy="928800"/>
            </a:xfrm>
          </p:grpSpPr>
          <p:pic>
            <p:nvPicPr>
              <p:cNvPr id="144" name="Rectangle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4200" y="2401920"/>
                <a:ext cx="269892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-341640" y="2463120"/>
                <a:ext cx="3821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نخفاض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عرض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Down Arrow 13"/>
            <p:cNvGrpSpPr/>
            <p:nvPr/>
          </p:nvGrpSpPr>
          <p:grpSpPr>
            <a:xfrm>
              <a:off x="939960" y="2143080"/>
              <a:ext cx="1141560" cy="385560"/>
              <a:chOff x="939960" y="2143080"/>
              <a:chExt cx="1141560" cy="385560"/>
            </a:xfrm>
          </p:grpSpPr>
          <p:pic>
            <p:nvPicPr>
              <p:cNvPr id="147" name="Down Arrow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9960" y="2143080"/>
                <a:ext cx="1141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251720" y="2166120"/>
                <a:ext cx="51948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Down Arrow 16"/>
          <p:cNvGrpSpPr/>
          <p:nvPr/>
        </p:nvGrpSpPr>
        <p:grpSpPr>
          <a:xfrm>
            <a:off x="944640" y="4541760"/>
            <a:ext cx="1255680" cy="468360"/>
            <a:chOff x="944640" y="4541760"/>
            <a:chExt cx="1255680" cy="468360"/>
          </a:xfrm>
        </p:grpSpPr>
        <p:pic>
          <p:nvPicPr>
            <p:cNvPr id="150" name="Down Arrow 16" descr=""/>
            <p:cNvPicPr/>
            <p:nvPr/>
          </p:nvPicPr>
          <p:blipFill>
            <a:blip r:embed="rId10"/>
            <a:stretch/>
          </p:blipFill>
          <p:spPr>
            <a:xfrm>
              <a:off x="944640" y="4541760"/>
              <a:ext cx="12556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85920" y="4572000"/>
              <a:ext cx="571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41"/>
          <p:cNvGrpSpPr/>
          <p:nvPr/>
        </p:nvGrpSpPr>
        <p:grpSpPr>
          <a:xfrm>
            <a:off x="5560920" y="4572000"/>
            <a:ext cx="3867120" cy="1557360"/>
            <a:chOff x="5560920" y="4572000"/>
            <a:chExt cx="3867120" cy="1557360"/>
          </a:xfrm>
        </p:grpSpPr>
        <p:grpSp>
          <p:nvGrpSpPr>
            <p:cNvPr id="153" name="Down Arrow 15"/>
            <p:cNvGrpSpPr/>
            <p:nvPr/>
          </p:nvGrpSpPr>
          <p:grpSpPr>
            <a:xfrm>
              <a:off x="6854040" y="4572000"/>
              <a:ext cx="1137960" cy="406440"/>
              <a:chOff x="6854040" y="4572000"/>
              <a:chExt cx="1137960" cy="406440"/>
            </a:xfrm>
          </p:grpSpPr>
          <p:pic>
            <p:nvPicPr>
              <p:cNvPr id="154" name="Down Arrow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040" y="4572000"/>
                <a:ext cx="113796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164000" y="4598280"/>
                <a:ext cx="52056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Rectangle 17"/>
            <p:cNvGrpSpPr/>
            <p:nvPr/>
          </p:nvGrpSpPr>
          <p:grpSpPr>
            <a:xfrm>
              <a:off x="5560920" y="4846320"/>
              <a:ext cx="3867120" cy="1283040"/>
              <a:chOff x="5560920" y="4846320"/>
              <a:chExt cx="3867120" cy="1283040"/>
            </a:xfrm>
          </p:grpSpPr>
          <p:pic>
            <p:nvPicPr>
              <p:cNvPr id="157" name="Rectangl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54560" y="4846320"/>
                <a:ext cx="2703600" cy="12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560920" y="4907160"/>
                <a:ext cx="3867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مشكلة على مدار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الطلب الترويحي يرتفع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في نهاية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" name="Group 46"/>
          <p:cNvGrpSpPr/>
          <p:nvPr/>
        </p:nvGrpSpPr>
        <p:grpSpPr>
          <a:xfrm>
            <a:off x="2928960" y="4286160"/>
            <a:ext cx="3214800" cy="3585240"/>
            <a:chOff x="2928960" y="4286160"/>
            <a:chExt cx="3214800" cy="3585240"/>
          </a:xfrm>
        </p:grpSpPr>
        <p:grpSp>
          <p:nvGrpSpPr>
            <p:cNvPr id="160" name="Rectangle 19"/>
            <p:cNvGrpSpPr/>
            <p:nvPr/>
          </p:nvGrpSpPr>
          <p:grpSpPr>
            <a:xfrm>
              <a:off x="3212640" y="4286160"/>
              <a:ext cx="2609280" cy="3585240"/>
              <a:chOff x="3212640" y="4286160"/>
              <a:chExt cx="2609280" cy="3585240"/>
            </a:xfrm>
          </p:grpSpPr>
          <p:pic>
            <p:nvPicPr>
              <p:cNvPr id="161" name="Rectangle 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12640" y="4286160"/>
                <a:ext cx="2609280" cy="181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57360" y="4364640"/>
                <a:ext cx="2357640" cy="35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يحدث خاصة في المنشآت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من المدن الكبيرة الكثيفة السكا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Left Arrow 20"/>
            <p:cNvSpPr/>
            <p:nvPr/>
          </p:nvSpPr>
          <p:spPr>
            <a:xfrm>
              <a:off x="5715360" y="4911840"/>
              <a:ext cx="428400" cy="425520"/>
            </a:xfrm>
            <a:prstGeom prst="lef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ight Arrow 21"/>
            <p:cNvSpPr/>
            <p:nvPr/>
          </p:nvSpPr>
          <p:spPr>
            <a:xfrm>
              <a:off x="2928960" y="4911840"/>
              <a:ext cx="428400" cy="425520"/>
            </a:xfrm>
            <a:prstGeom prst="righ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45"/>
          <p:cNvGrpSpPr/>
          <p:nvPr/>
        </p:nvGrpSpPr>
        <p:grpSpPr>
          <a:xfrm>
            <a:off x="-413280" y="3357720"/>
            <a:ext cx="4076280" cy="1202400"/>
            <a:chOff x="-413280" y="3357720"/>
            <a:chExt cx="4076280" cy="1202400"/>
          </a:xfrm>
        </p:grpSpPr>
        <p:grpSp>
          <p:nvGrpSpPr>
            <p:cNvPr id="166" name="Down Arrow 14"/>
            <p:cNvGrpSpPr/>
            <p:nvPr/>
          </p:nvGrpSpPr>
          <p:grpSpPr>
            <a:xfrm>
              <a:off x="944640" y="3357720"/>
              <a:ext cx="1249560" cy="452160"/>
              <a:chOff x="944640" y="3357720"/>
              <a:chExt cx="1249560" cy="452160"/>
            </a:xfrm>
          </p:grpSpPr>
          <p:pic>
            <p:nvPicPr>
              <p:cNvPr id="167" name="Down Arrow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94464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285200" y="3386160"/>
                <a:ext cx="571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Rectangle 24"/>
            <p:cNvSpPr/>
            <p:nvPr/>
          </p:nvSpPr>
          <p:spPr>
            <a:xfrm>
              <a:off x="-413280" y="3734640"/>
              <a:ext cx="407628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عرض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نسبة الإشغال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Rectangle 25"/>
          <p:cNvGrpSpPr/>
          <p:nvPr/>
        </p:nvGrpSpPr>
        <p:grpSpPr>
          <a:xfrm>
            <a:off x="-361080" y="4857840"/>
            <a:ext cx="3876480" cy="1482480"/>
            <a:chOff x="-361080" y="4857840"/>
            <a:chExt cx="3876480" cy="1482480"/>
          </a:xfrm>
        </p:grpSpPr>
        <p:pic>
          <p:nvPicPr>
            <p:cNvPr id="171" name="Rectangle 25" descr=""/>
            <p:cNvPicPr/>
            <p:nvPr/>
          </p:nvPicPr>
          <p:blipFill>
            <a:blip r:embed="rId15"/>
            <a:stretch/>
          </p:blipFill>
          <p:spPr>
            <a:xfrm>
              <a:off x="96840" y="4857840"/>
              <a:ext cx="297504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-361080" y="4929120"/>
              <a:ext cx="387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شكلة على مدار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الطلب الترويحي ينخف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ي بقية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3528720" y="2428920"/>
            <a:ext cx="2686320" cy="1102680"/>
            <a:chOff x="3528720" y="2428920"/>
            <a:chExt cx="2686320" cy="1102680"/>
          </a:xfrm>
        </p:grpSpPr>
        <p:sp>
          <p:nvSpPr>
            <p:cNvPr id="174" name="Rectangle 22"/>
            <p:cNvSpPr/>
            <p:nvPr/>
          </p:nvSpPr>
          <p:spPr>
            <a:xfrm>
              <a:off x="3902760" y="2428920"/>
              <a:ext cx="106308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ا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3528720" y="3071880"/>
              <a:ext cx="191952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وقت الفرا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6" name="Straight Arrow Connector 27"/>
            <p:cNvCxnSpPr>
              <a:endCxn id="174" idx="3"/>
            </p:cNvCxnSpPr>
            <p:nvPr/>
          </p:nvCxnSpPr>
          <p:spPr>
            <a:xfrm flipH="1" flipV="1">
              <a:off x="4827240" y="2658240"/>
              <a:ext cx="1388160" cy="199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" name="Straight Arrow Connector 29"/>
            <p:cNvCxnSpPr>
              <a:endCxn id="175" idx="3"/>
            </p:cNvCxnSpPr>
            <p:nvPr/>
          </p:nvCxnSpPr>
          <p:spPr>
            <a:xfrm flipH="1">
              <a:off x="5142600" y="2916360"/>
              <a:ext cx="107244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8" name="Group 44"/>
          <p:cNvGrpSpPr/>
          <p:nvPr/>
        </p:nvGrpSpPr>
        <p:grpSpPr>
          <a:xfrm>
            <a:off x="2912760" y="2658960"/>
            <a:ext cx="1128960" cy="643320"/>
            <a:chOff x="2912760" y="2658960"/>
            <a:chExt cx="1128960" cy="643320"/>
          </a:xfrm>
        </p:grpSpPr>
        <p:cxnSp>
          <p:nvCxnSpPr>
            <p:cNvPr id="179" name="Straight Arrow Connector 31"/>
            <p:cNvCxnSpPr>
              <a:endCxn id="174" idx="1"/>
            </p:cNvCxnSpPr>
            <p:nvPr/>
          </p:nvCxnSpPr>
          <p:spPr>
            <a:xfrm flipV="1">
              <a:off x="2912760" y="2658960"/>
              <a:ext cx="1129320" cy="2559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0" name="Straight Arrow Connector 33"/>
            <p:cNvCxnSpPr>
              <a:endCxn id="175" idx="1"/>
            </p:cNvCxnSpPr>
            <p:nvPr/>
          </p:nvCxnSpPr>
          <p:spPr>
            <a:xfrm>
              <a:off x="2913120" y="2914560"/>
              <a:ext cx="92160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s://encrypted-tbn2.gstatic.com/images?q=tbn:ANd9GcQTGKzmevEBiAtTyjWwS0FAPA9llkpm0gMB_5zCiVlqUKTJsLEV"/>
          <p:cNvPicPr/>
          <p:nvPr/>
        </p:nvPicPr>
        <p:blipFill>
          <a:blip r:embed="rId1"/>
          <a:stretch/>
        </p:blipFill>
        <p:spPr>
          <a:xfrm>
            <a:off x="285840" y="92160"/>
            <a:ext cx="1414440" cy="1479600"/>
          </a:xfrm>
          <a:prstGeom prst="rect">
            <a:avLst/>
          </a:prstGeom>
          <a:ln w="0">
            <a:noFill/>
          </a:ln>
        </p:spPr>
      </p:pic>
      <p:grpSp>
        <p:nvGrpSpPr>
          <p:cNvPr id="182" name="Title 1"/>
          <p:cNvGrpSpPr/>
          <p:nvPr/>
        </p:nvGrpSpPr>
        <p:grpSpPr>
          <a:xfrm>
            <a:off x="1500120" y="639720"/>
            <a:ext cx="7047000" cy="725040"/>
            <a:chOff x="1500120" y="639720"/>
            <a:chExt cx="7047000" cy="725040"/>
          </a:xfrm>
        </p:grpSpPr>
        <p:pic>
          <p:nvPicPr>
            <p:cNvPr id="183" name="Title 1" descr=""/>
            <p:cNvPicPr/>
            <p:nvPr/>
          </p:nvPicPr>
          <p:blipFill>
            <a:blip r:embed="rId2"/>
            <a:stretch/>
          </p:blipFill>
          <p:spPr>
            <a:xfrm>
              <a:off x="1500120" y="639720"/>
              <a:ext cx="704700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500120" y="642600"/>
              <a:ext cx="70437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  <a:cs typeface="Times New Roman"/>
                </a:rPr>
                <a:t>هل عدم التوازن مستديم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285840" y="2951280"/>
            <a:ext cx="8329680" cy="1477800"/>
            <a:chOff x="285840" y="2951280"/>
            <a:chExt cx="8329680" cy="1477800"/>
          </a:xfrm>
        </p:grpSpPr>
        <p:pic>
          <p:nvPicPr>
            <p:cNvPr id="186" name="Picture 2" descr="https://encrypted-tbn2.gstatic.com/images?q=tbn:ANd9GcQTGKzmevEBiAtTyjWwS0FAPA9llkpm0gMB_5zCiVlqUKTJsLEV"/>
            <p:cNvPicPr/>
            <p:nvPr/>
          </p:nvPicPr>
          <p:blipFill>
            <a:blip r:embed="rId3"/>
            <a:stretch/>
          </p:blipFill>
          <p:spPr>
            <a:xfrm flipH="1">
              <a:off x="285840" y="2951280"/>
              <a:ext cx="1414800" cy="147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Title 1"/>
            <p:cNvGrpSpPr/>
            <p:nvPr/>
          </p:nvGrpSpPr>
          <p:grpSpPr>
            <a:xfrm>
              <a:off x="1572840" y="3237120"/>
              <a:ext cx="7042680" cy="999720"/>
              <a:chOff x="1572840" y="3237120"/>
              <a:chExt cx="7042680" cy="999720"/>
            </a:xfrm>
          </p:grpSpPr>
          <p:pic>
            <p:nvPicPr>
              <p:cNvPr id="188" name="Title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920" y="3237120"/>
                <a:ext cx="704016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572840" y="3237120"/>
                <a:ext cx="7042680" cy="99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  <a:cs typeface="Times New Roman"/>
                  </a:rPr>
                  <a:t>هل سياسة تغيير الأثمان مجدية في القضاء على عدم التوازن في السوق السياح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0" name="Rectangle 5"/>
          <p:cNvSpPr/>
          <p:nvPr/>
        </p:nvSpPr>
        <p:spPr>
          <a:xfrm>
            <a:off x="7152120" y="1928880"/>
            <a:ext cx="881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نع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560" y="1928880"/>
            <a:ext cx="7543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على مدار السنة ... وعلى مدار الإسبو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003160" y="4857840"/>
            <a:ext cx="7264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ك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-496440" y="4857840"/>
            <a:ext cx="99054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بحاجة الى سياسات واستراتيجيات متنوعة ومتعد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عموما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غير مج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51Z</dcterms:modified>
  <cp:revision>27</cp:revision>
  <dc:subject/>
  <dc:title>Slide 1</dc:title>
</cp:coreProperties>
</file>