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7AB-6B55-4023-9B1A-EC8AAF7B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78B-A174-4515-8AC3-0C890BB1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E23-AD82-4A72-99C3-EB7CD66F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DD4-51C9-46B5-98AE-FEFBB714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B95-9339-4699-9E8C-426EF095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EAF-57A5-42BE-A042-15928F2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9B7-843C-40F4-A231-A1586C1E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112-551A-48CC-BA82-4AAD94DD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1F1-977E-447E-A11F-71F75BDF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75C-CFC7-4D95-BBFC-7743FE2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AF5-D606-407F-B5E5-836F63C9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500-3165-457D-855B-F00A38C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744-6BB3-4D0E-9EB7-5CE68488AD17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133200" y="1968480"/>
            <a:ext cx="2384640" cy="4041720"/>
            <a:chOff x="133200" y="1968480"/>
            <a:chExt cx="2384640" cy="404172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133200" y="1968480"/>
              <a:ext cx="238464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فهوم الموسيمية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895480" y="5400720"/>
            <a:ext cx="57121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50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216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7" name="AutoShape 7"/>
            <p:cNvCxnSpPr/>
            <p:nvPr/>
          </p:nvCxnSpPr>
          <p:spPr>
            <a:xfrm flipH="1">
              <a:off x="927720" y="1499760"/>
              <a:ext cx="13320" cy="442980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cxnSp>
          <p:nvCxnSpPr>
            <p:cNvPr id="218" name="AutoShape 8"/>
            <p:cNvCxnSpPr/>
            <p:nvPr/>
          </p:nvCxnSpPr>
          <p:spPr>
            <a:xfrm>
              <a:off x="928440" y="5929200"/>
              <a:ext cx="7073280" cy="1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219" name="Rectangle 10"/>
            <p:cNvSpPr/>
            <p:nvPr/>
          </p:nvSpPr>
          <p:spPr>
            <a:xfrm>
              <a:off x="268560" y="10000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23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221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222" name="Rectangle 25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225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226" name="Rectangle 32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80"/>
          <p:cNvGrpSpPr/>
          <p:nvPr/>
        </p:nvGrpSpPr>
        <p:grpSpPr>
          <a:xfrm>
            <a:off x="5857560" y="4643280"/>
            <a:ext cx="1229760" cy="856080"/>
            <a:chOff x="5857560" y="4643280"/>
            <a:chExt cx="1229760" cy="856080"/>
          </a:xfrm>
        </p:grpSpPr>
        <p:sp>
          <p:nvSpPr>
            <p:cNvPr id="229" name="Line 4"/>
            <p:cNvSpPr/>
            <p:nvPr/>
          </p:nvSpPr>
          <p:spPr>
            <a:xfrm flipH="1">
              <a:off x="5857560" y="4643280"/>
              <a:ext cx="437400" cy="45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36"/>
            <p:cNvSpPr/>
            <p:nvPr/>
          </p:nvSpPr>
          <p:spPr>
            <a:xfrm rot="1518000">
              <a:off x="6094080" y="486072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كسا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81"/>
          <p:cNvGrpSpPr/>
          <p:nvPr/>
        </p:nvGrpSpPr>
        <p:grpSpPr>
          <a:xfrm>
            <a:off x="5786280" y="3786120"/>
            <a:ext cx="1276920" cy="889560"/>
            <a:chOff x="5786280" y="3786120"/>
            <a:chExt cx="1276920" cy="889560"/>
          </a:xfrm>
        </p:grpSpPr>
        <p:sp>
          <p:nvSpPr>
            <p:cNvPr id="232" name="Line 3"/>
            <p:cNvSpPr/>
            <p:nvPr/>
          </p:nvSpPr>
          <p:spPr>
            <a:xfrm flipV="1">
              <a:off x="5786280" y="3786120"/>
              <a:ext cx="47520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 rot="1518000">
              <a:off x="6125400" y="40496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319320" y="3571920"/>
            <a:ext cx="4628880" cy="2817720"/>
            <a:chOff x="319320" y="3571920"/>
            <a:chExt cx="4628880" cy="2817720"/>
          </a:xfrm>
        </p:grpSpPr>
        <p:cxnSp>
          <p:nvCxnSpPr>
            <p:cNvPr id="235" name="AutoShape 15"/>
            <p:cNvCxnSpPr/>
            <p:nvPr/>
          </p:nvCxnSpPr>
          <p:spPr>
            <a:xfrm>
              <a:off x="4714560" y="3914640"/>
              <a:ext cx="1080" cy="201528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cxnSp>
          <p:nvCxnSpPr>
            <p:cNvPr id="236" name="AutoShape 15"/>
            <p:cNvCxnSpPr/>
            <p:nvPr/>
          </p:nvCxnSpPr>
          <p:spPr>
            <a:xfrm flipH="1" flipV="1">
              <a:off x="928080" y="3785760"/>
              <a:ext cx="3787200" cy="7200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sp>
          <p:nvSpPr>
            <p:cNvPr id="237" name="Rectangle 47"/>
            <p:cNvSpPr/>
            <p:nvPr/>
          </p:nvSpPr>
          <p:spPr>
            <a:xfrm>
              <a:off x="319320" y="3571920"/>
              <a:ext cx="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4558680" y="59299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Rectangle 51"/>
          <p:cNvSpPr/>
          <p:nvPr/>
        </p:nvSpPr>
        <p:spPr>
          <a:xfrm>
            <a:off x="6642360" y="500040"/>
            <a:ext cx="26269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تغيّر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1712520" y="2286000"/>
            <a:ext cx="5997960" cy="3103200"/>
            <a:chOff x="1712520" y="2286000"/>
            <a:chExt cx="5997960" cy="3103200"/>
          </a:xfrm>
        </p:grpSpPr>
        <p:grpSp>
          <p:nvGrpSpPr>
            <p:cNvPr id="241" name="Group 13"/>
            <p:cNvGrpSpPr/>
            <p:nvPr/>
          </p:nvGrpSpPr>
          <p:grpSpPr>
            <a:xfrm>
              <a:off x="3632040" y="2357280"/>
              <a:ext cx="2697120" cy="2714760"/>
              <a:chOff x="3632040" y="2357280"/>
              <a:chExt cx="2697120" cy="2714760"/>
            </a:xfrm>
          </p:grpSpPr>
          <p:cxnSp>
            <p:nvCxnSpPr>
              <p:cNvPr id="242" name="AutoShape 5"/>
              <p:cNvCxnSpPr/>
              <p:nvPr/>
            </p:nvCxnSpPr>
            <p:spPr>
              <a:xfrm flipH="1">
                <a:off x="3632040" y="2606040"/>
                <a:ext cx="2297520" cy="2466360"/>
              </a:xfrm>
              <a:prstGeom prst="straightConnector1">
                <a:avLst/>
              </a:prstGeom>
              <a:ln w="57240">
                <a:solidFill>
                  <a:srgbClr val="be4b48"/>
                </a:solidFill>
                <a:miter/>
              </a:ln>
            </p:spPr>
          </p:cxnSp>
          <p:sp>
            <p:nvSpPr>
              <p:cNvPr id="243" name="Rectangle 15"/>
              <p:cNvSpPr/>
              <p:nvPr/>
            </p:nvSpPr>
            <p:spPr>
              <a:xfrm>
                <a:off x="5939640" y="23572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4" name="Group 52"/>
            <p:cNvGrpSpPr/>
            <p:nvPr/>
          </p:nvGrpSpPr>
          <p:grpSpPr>
            <a:xfrm>
              <a:off x="1712520" y="2286000"/>
              <a:ext cx="5997960" cy="3103200"/>
              <a:chOff x="1712520" y="2286000"/>
              <a:chExt cx="5997960" cy="3103200"/>
            </a:xfrm>
          </p:grpSpPr>
          <p:cxnSp>
            <p:nvCxnSpPr>
              <p:cNvPr id="245" name="AutoShape 10"/>
              <p:cNvCxnSpPr/>
              <p:nvPr/>
            </p:nvCxnSpPr>
            <p:spPr>
              <a:xfrm>
                <a:off x="2214000" y="2678040"/>
                <a:ext cx="5056560" cy="2394720"/>
              </a:xfrm>
              <a:prstGeom prst="straightConnector1">
                <a:avLst/>
              </a:prstGeom>
              <a:ln w="57240">
                <a:solidFill>
                  <a:srgbClr val="4a7ebb"/>
                </a:solidFill>
                <a:miter/>
              </a:ln>
            </p:spPr>
          </p:cxnSp>
          <p:sp>
            <p:nvSpPr>
              <p:cNvPr id="246" name="Rectangle 54"/>
              <p:cNvSpPr/>
              <p:nvPr/>
            </p:nvSpPr>
            <p:spPr>
              <a:xfrm>
                <a:off x="1712520" y="228600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Rectangle 55"/>
              <p:cNvSpPr/>
              <p:nvPr/>
            </p:nvSpPr>
            <p:spPr>
              <a:xfrm>
                <a:off x="7212600" y="492948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8" name="Group 78"/>
          <p:cNvGrpSpPr/>
          <p:nvPr/>
        </p:nvGrpSpPr>
        <p:grpSpPr>
          <a:xfrm>
            <a:off x="116640" y="4143240"/>
            <a:ext cx="4291560" cy="2317680"/>
            <a:chOff x="116640" y="4143240"/>
            <a:chExt cx="4291560" cy="2317680"/>
          </a:xfrm>
        </p:grpSpPr>
        <p:cxnSp>
          <p:nvCxnSpPr>
            <p:cNvPr id="249" name="AutoShape 14"/>
            <p:cNvCxnSpPr/>
            <p:nvPr/>
          </p:nvCxnSpPr>
          <p:spPr>
            <a:xfrm flipH="1">
              <a:off x="4213800" y="4429800"/>
              <a:ext cx="2160" cy="15012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cxnSp>
          <p:nvCxnSpPr>
            <p:cNvPr id="250" name="AutoShape 13"/>
            <p:cNvCxnSpPr/>
            <p:nvPr/>
          </p:nvCxnSpPr>
          <p:spPr>
            <a:xfrm>
              <a:off x="928800" y="4429080"/>
              <a:ext cx="3286800" cy="216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sp>
          <p:nvSpPr>
            <p:cNvPr id="251" name="Rectangle 75"/>
            <p:cNvSpPr/>
            <p:nvPr/>
          </p:nvSpPr>
          <p:spPr>
            <a:xfrm>
              <a:off x="116640" y="414324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76"/>
            <p:cNvSpPr/>
            <p:nvPr/>
          </p:nvSpPr>
          <p:spPr>
            <a:xfrm>
              <a:off x="3849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Group 79"/>
          <p:cNvGrpSpPr/>
          <p:nvPr/>
        </p:nvGrpSpPr>
        <p:grpSpPr>
          <a:xfrm>
            <a:off x="187920" y="2857680"/>
            <a:ext cx="5363280" cy="3603240"/>
            <a:chOff x="187920" y="2857680"/>
            <a:chExt cx="5363280" cy="3603240"/>
          </a:xfrm>
        </p:grpSpPr>
        <p:cxnSp>
          <p:nvCxnSpPr>
            <p:cNvPr id="254" name="AutoShape 13"/>
            <p:cNvCxnSpPr/>
            <p:nvPr/>
          </p:nvCxnSpPr>
          <p:spPr>
            <a:xfrm flipH="1">
              <a:off x="5286240" y="3286800"/>
              <a:ext cx="1440" cy="264312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255" name="AutoShape 13"/>
            <p:cNvCxnSpPr/>
            <p:nvPr/>
          </p:nvCxnSpPr>
          <p:spPr>
            <a:xfrm>
              <a:off x="928800" y="3143160"/>
              <a:ext cx="4358160" cy="14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sp>
          <p:nvSpPr>
            <p:cNvPr id="256" name="Rectangle 74"/>
            <p:cNvSpPr/>
            <p:nvPr/>
          </p:nvSpPr>
          <p:spPr>
            <a:xfrm>
              <a:off x="187920" y="285768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77"/>
            <p:cNvSpPr/>
            <p:nvPr/>
          </p:nvSpPr>
          <p:spPr>
            <a:xfrm>
              <a:off x="4992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259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262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4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265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1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272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277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278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279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282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4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286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289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290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2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294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297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0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301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5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306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310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311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9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320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324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25" name="Straight Arrow Connector 45"/>
            <p:cNvCxnSpPr>
              <a:stCxn id="324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327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330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334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7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338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2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343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344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9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350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2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353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4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355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  <p:grpSp>
        <p:nvGrpSpPr>
          <p:cNvPr id="356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357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360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1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362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365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366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370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373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378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383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388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391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394" name="AutoShape 29"/>
            <p:cNvCxnSpPr>
              <a:stCxn id="395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397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9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400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403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406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409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412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417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420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423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4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426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مفهوم 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Rectangle 3"/>
          <p:cNvSpPr/>
          <p:nvPr/>
        </p:nvSpPr>
        <p:spPr>
          <a:xfrm>
            <a:off x="2980800" y="1643040"/>
            <a:ext cx="64321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طلب السياحي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m Dema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161600" y="2500200"/>
            <a:ext cx="474840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لب موسمي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sona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Rectangle 5"/>
          <p:cNvGrpSpPr/>
          <p:nvPr/>
        </p:nvGrpSpPr>
        <p:grpSpPr>
          <a:xfrm>
            <a:off x="689040" y="5321160"/>
            <a:ext cx="7881840" cy="1664280"/>
            <a:chOff x="689040" y="5321160"/>
            <a:chExt cx="7881840" cy="1664280"/>
          </a:xfrm>
        </p:grpSpPr>
        <p:pic>
          <p:nvPicPr>
            <p:cNvPr id="65" name="Rectangle 5" descr=""/>
            <p:cNvPicPr/>
            <p:nvPr/>
          </p:nvPicPr>
          <p:blipFill>
            <a:blip r:embed="rId2"/>
            <a:stretch/>
          </p:blipFill>
          <p:spPr>
            <a:xfrm>
              <a:off x="689040" y="5321160"/>
              <a:ext cx="78818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7160" y="5429160"/>
              <a:ext cx="7643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مستوى الطلب على المنتوج السياحي ليس بنفس الفترة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5707800" y="3500280"/>
            <a:ext cx="2833920" cy="1367280"/>
            <a:chOff x="5707800" y="3500280"/>
            <a:chExt cx="2833920" cy="1367280"/>
          </a:xfrm>
        </p:grpSpPr>
        <p:sp>
          <p:nvSpPr>
            <p:cNvPr id="68" name="Rectangle 7"/>
            <p:cNvSpPr/>
            <p:nvPr/>
          </p:nvSpPr>
          <p:spPr>
            <a:xfrm>
              <a:off x="6708600" y="3500280"/>
              <a:ext cx="69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أ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5707800" y="4286160"/>
              <a:ext cx="2833920" cy="5814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طلب متذبذ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388800" y="2428920"/>
            <a:ext cx="4699440" cy="3000240"/>
            <a:chOff x="388800" y="2428920"/>
            <a:chExt cx="4699440" cy="3000240"/>
          </a:xfrm>
        </p:grpSpPr>
        <p:grpSp>
          <p:nvGrpSpPr>
            <p:cNvPr id="71" name="Group 16"/>
            <p:cNvGrpSpPr/>
            <p:nvPr/>
          </p:nvGrpSpPr>
          <p:grpSpPr>
            <a:xfrm>
              <a:off x="388800" y="2428920"/>
              <a:ext cx="4699440" cy="1227600"/>
              <a:chOff x="388800" y="2428920"/>
              <a:chExt cx="4699440" cy="1227600"/>
            </a:xfrm>
          </p:grpSpPr>
          <p:sp>
            <p:nvSpPr>
              <p:cNvPr id="72" name="Rectangle 11"/>
              <p:cNvSpPr/>
              <p:nvPr/>
            </p:nvSpPr>
            <p:spPr>
              <a:xfrm>
                <a:off x="388800" y="2428920"/>
                <a:ext cx="469944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رتفع في فصل الصيف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(تموز/ آب/ أيلول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3" name="Rectangle 13"/>
              <p:cNvGrpSpPr/>
              <p:nvPr/>
            </p:nvGrpSpPr>
            <p:grpSpPr>
              <a:xfrm>
                <a:off x="500040" y="2866680"/>
                <a:ext cx="1174320" cy="789840"/>
                <a:chOff x="500040" y="2866680"/>
                <a:chExt cx="1174320" cy="789840"/>
              </a:xfrm>
            </p:grpSpPr>
            <p:pic>
              <p:nvPicPr>
                <p:cNvPr id="74" name="Rectangl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0040" y="2866680"/>
                  <a:ext cx="1174320" cy="78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>
                  <a:off x="525960" y="2955960"/>
                  <a:ext cx="1118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ذروة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76" name="Straight Arrow Connector 18"/>
            <p:cNvCxnSpPr/>
            <p:nvPr/>
          </p:nvCxnSpPr>
          <p:spPr>
            <a:xfrm flipH="1" flipV="1">
              <a:off x="4214520" y="3499920"/>
              <a:ext cx="465840" cy="192960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  <p:grpSp>
        <p:nvGrpSpPr>
          <p:cNvPr id="77" name="Group 23"/>
          <p:cNvGrpSpPr/>
          <p:nvPr/>
        </p:nvGrpSpPr>
        <p:grpSpPr>
          <a:xfrm>
            <a:off x="-73440" y="3786120"/>
            <a:ext cx="4753440" cy="1642680"/>
            <a:chOff x="-73440" y="3786120"/>
            <a:chExt cx="4753440" cy="1642680"/>
          </a:xfrm>
        </p:grpSpPr>
        <p:grpSp>
          <p:nvGrpSpPr>
            <p:cNvPr id="78" name="Group 15"/>
            <p:cNvGrpSpPr/>
            <p:nvPr/>
          </p:nvGrpSpPr>
          <p:grpSpPr>
            <a:xfrm>
              <a:off x="-73440" y="3786120"/>
              <a:ext cx="3772800" cy="1513440"/>
              <a:chOff x="-73440" y="3786120"/>
              <a:chExt cx="3772800" cy="1513440"/>
            </a:xfrm>
          </p:grpSpPr>
          <p:sp>
            <p:nvSpPr>
              <p:cNvPr id="79" name="Rectangle 12"/>
              <p:cNvSpPr/>
              <p:nvPr/>
            </p:nvSpPr>
            <p:spPr>
              <a:xfrm>
                <a:off x="-73440" y="3786120"/>
                <a:ext cx="377280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نخفض ف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 بقية فصول السن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0" name="Rectangle 14"/>
              <p:cNvGrpSpPr/>
              <p:nvPr/>
            </p:nvGrpSpPr>
            <p:grpSpPr>
              <a:xfrm>
                <a:off x="262440" y="4483080"/>
                <a:ext cx="1192680" cy="816480"/>
                <a:chOff x="262440" y="4483080"/>
                <a:chExt cx="1192680" cy="816480"/>
              </a:xfrm>
            </p:grpSpPr>
            <p:pic>
              <p:nvPicPr>
                <p:cNvPr id="81" name="Rectangl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5840" y="4483080"/>
                  <a:ext cx="1144800" cy="81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>
                  <a:off x="262440" y="4573080"/>
                  <a:ext cx="1192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كساد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83" name="Straight Arrow Connector 20"/>
            <p:cNvCxnSpPr/>
            <p:nvPr/>
          </p:nvCxnSpPr>
          <p:spPr>
            <a:xfrm flipH="1" flipV="1">
              <a:off x="2928600" y="4857120"/>
              <a:ext cx="1751760" cy="57204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785880" y="1357200"/>
            <a:ext cx="7858440" cy="3650040"/>
            <a:chOff x="785880" y="1357200"/>
            <a:chExt cx="7858440" cy="3650040"/>
          </a:xfrm>
        </p:grpSpPr>
        <p:cxnSp>
          <p:nvCxnSpPr>
            <p:cNvPr id="85" name="AutoShape 5"/>
            <p:cNvCxnSpPr/>
            <p:nvPr/>
          </p:nvCxnSpPr>
          <p:spPr>
            <a:xfrm>
              <a:off x="786600" y="1357200"/>
              <a:ext cx="1080" cy="3650400"/>
            </a:xfrm>
            <a:prstGeom prst="straightConnector1">
              <a:avLst/>
            </a:prstGeom>
            <a:ln w="76320">
              <a:solidFill>
                <a:srgbClr val="4f81bd"/>
              </a:solidFill>
              <a:miter/>
            </a:ln>
          </p:spPr>
        </p:cxnSp>
        <p:cxnSp>
          <p:nvCxnSpPr>
            <p:cNvPr id="86" name="AutoShape 6"/>
            <p:cNvCxnSpPr/>
            <p:nvPr/>
          </p:nvCxnSpPr>
          <p:spPr>
            <a:xfrm>
              <a:off x="785880" y="5006520"/>
              <a:ext cx="7858800" cy="1080"/>
            </a:xfrm>
            <a:prstGeom prst="straightConnector1">
              <a:avLst/>
            </a:prstGeom>
            <a:ln w="76320">
              <a:solidFill>
                <a:srgbClr val="4f81bd"/>
              </a:solidFill>
              <a:miter/>
            </a:ln>
          </p:spPr>
        </p:cxnSp>
      </p:grpSp>
      <p:cxnSp>
        <p:nvCxnSpPr>
          <p:cNvPr id="87" name="AutoShape 13"/>
          <p:cNvCxnSpPr/>
          <p:nvPr/>
        </p:nvCxnSpPr>
        <p:spPr>
          <a:xfrm flipH="1">
            <a:off x="786600" y="4632120"/>
            <a:ext cx="3515400" cy="1080"/>
          </a:xfrm>
          <a:prstGeom prst="straightConnector1">
            <a:avLst/>
          </a:prstGeom>
          <a:ln w="57240">
            <a:solidFill>
              <a:srgbClr val="be4b48"/>
            </a:solidFill>
            <a:miter/>
          </a:ln>
        </p:spPr>
      </p:cxnSp>
      <p:cxnSp>
        <p:nvCxnSpPr>
          <p:cNvPr id="88" name="AutoShape 14"/>
          <p:cNvCxnSpPr/>
          <p:nvPr/>
        </p:nvCxnSpPr>
        <p:spPr>
          <a:xfrm>
            <a:off x="5997240" y="4570200"/>
            <a:ext cx="1972440" cy="1080"/>
          </a:xfrm>
          <a:prstGeom prst="straightConnector1">
            <a:avLst/>
          </a:prstGeom>
          <a:ln w="57240">
            <a:solidFill>
              <a:srgbClr val="be4b48"/>
            </a:solidFill>
            <a:miter/>
          </a:ln>
        </p:spPr>
      </p:cxnSp>
      <p:grpSp>
        <p:nvGrpSpPr>
          <p:cNvPr id="89" name="Group 29"/>
          <p:cNvGrpSpPr/>
          <p:nvPr/>
        </p:nvGrpSpPr>
        <p:grpSpPr>
          <a:xfrm>
            <a:off x="1071720" y="3143160"/>
            <a:ext cx="7381080" cy="1214640"/>
            <a:chOff x="1071720" y="3143160"/>
            <a:chExt cx="7381080" cy="1214640"/>
          </a:xfrm>
        </p:grpSpPr>
        <p:sp>
          <p:nvSpPr>
            <p:cNvPr id="90" name="Line 9"/>
            <p:cNvSpPr/>
            <p:nvPr/>
          </p:nvSpPr>
          <p:spPr>
            <a:xfrm flipV="1">
              <a:off x="1071720" y="4334040"/>
              <a:ext cx="3067200" cy="2376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6113880" y="4272120"/>
              <a:ext cx="1533600" cy="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1294560" y="3188880"/>
              <a:ext cx="25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موسم الكساد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(</a:t>
              </a: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Low Season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5867280" y="3143160"/>
              <a:ext cx="25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موسم الكساد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(</a:t>
              </a: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Low Season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30"/>
          <p:cNvGrpSpPr/>
          <p:nvPr/>
        </p:nvGrpSpPr>
        <p:grpSpPr>
          <a:xfrm>
            <a:off x="285840" y="223200"/>
            <a:ext cx="8822880" cy="5717880"/>
            <a:chOff x="285840" y="223200"/>
            <a:chExt cx="8822880" cy="5717880"/>
          </a:xfrm>
        </p:grpSpPr>
        <p:sp>
          <p:nvSpPr>
            <p:cNvPr id="95" name="Rectangle 15"/>
            <p:cNvSpPr/>
            <p:nvPr/>
          </p:nvSpPr>
          <p:spPr>
            <a:xfrm>
              <a:off x="428400" y="5144760"/>
              <a:ext cx="79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24"/>
            <p:cNvSpPr/>
            <p:nvPr/>
          </p:nvSpPr>
          <p:spPr>
            <a:xfrm>
              <a:off x="7576200" y="55728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أشهر السنة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285840" y="223200"/>
              <a:ext cx="142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سياح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أعداد السياح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3933720" y="1500120"/>
            <a:ext cx="2407320" cy="4704480"/>
            <a:chOff x="3933720" y="1500120"/>
            <a:chExt cx="2407320" cy="4704480"/>
          </a:xfrm>
        </p:grpSpPr>
        <p:sp>
          <p:nvSpPr>
            <p:cNvPr id="99" name="Line 11"/>
            <p:cNvSpPr/>
            <p:nvPr/>
          </p:nvSpPr>
          <p:spPr>
            <a:xfrm>
              <a:off x="4446360" y="4333680"/>
              <a:ext cx="1389240" cy="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27"/>
            <p:cNvGrpSpPr/>
            <p:nvPr/>
          </p:nvGrpSpPr>
          <p:grpSpPr>
            <a:xfrm>
              <a:off x="3933720" y="1500120"/>
              <a:ext cx="2407320" cy="4704480"/>
              <a:chOff x="3933720" y="1500120"/>
              <a:chExt cx="2407320" cy="470448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4286160" y="1500120"/>
                <a:ext cx="1711080" cy="3571920"/>
                <a:chOff x="4286160" y="1500120"/>
                <a:chExt cx="1711080" cy="3571920"/>
              </a:xfrm>
            </p:grpSpPr>
            <p:sp>
              <p:nvSpPr>
                <p:cNvPr id="102" name="Freeform 2"/>
                <p:cNvSpPr/>
                <p:nvPr/>
              </p:nvSpPr>
              <p:spPr>
                <a:xfrm>
                  <a:off x="4286160" y="1500120"/>
                  <a:ext cx="1694160" cy="3127320"/>
                </a:xfrm>
                <a:custGeom>
                  <a:avLst/>
                  <a:gdLst/>
                  <a:ahLst/>
                  <a:rect l="l" t="t" r="r" b="b"/>
                  <a:pathLst>
                    <a:path w="1393" h="2455">
                      <a:moveTo>
                        <a:pt x="0" y="2455"/>
                      </a:moveTo>
                      <a:cubicBezTo>
                        <a:pt x="52" y="1649"/>
                        <a:pt x="104" y="843"/>
                        <a:pt x="269" y="487"/>
                      </a:cubicBezTo>
                      <a:cubicBezTo>
                        <a:pt x="434" y="131"/>
                        <a:pt x="806" y="0"/>
                        <a:pt x="993" y="320"/>
                      </a:cubicBezTo>
                      <a:cubicBezTo>
                        <a:pt x="1180" y="640"/>
                        <a:pt x="1286" y="1523"/>
                        <a:pt x="1393" y="2407"/>
                      </a:cubicBezTo>
                    </a:path>
                  </a:pathLst>
                </a:custGeom>
                <a:noFill/>
                <a:ln w="76320">
                  <a:solidFill>
                    <a:srgbClr val="9bbb59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5997240" y="4636440"/>
                  <a:ext cx="0" cy="435600"/>
                </a:xfrm>
                <a:prstGeom prst="line">
                  <a:avLst/>
                </a:prstGeom>
                <a:ln w="38160">
                  <a:solidFill>
                    <a:srgbClr val="92d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4302000" y="4632480"/>
                  <a:ext cx="0" cy="374400"/>
                </a:xfrm>
                <a:prstGeom prst="line">
                  <a:avLst/>
                </a:prstGeom>
                <a:ln w="38160">
                  <a:solidFill>
                    <a:srgbClr val="92d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5" name="Rectangle 20"/>
              <p:cNvSpPr/>
              <p:nvPr/>
            </p:nvSpPr>
            <p:spPr>
              <a:xfrm>
                <a:off x="4176360" y="3429000"/>
                <a:ext cx="187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موسم الذروة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(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Calibri"/>
                  </a:rPr>
                  <a:t>High Season</a:t>
                </a: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3933720" y="5500800"/>
                <a:ext cx="2407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موسم الصيف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(تموز ، آب ، ايلول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Rectangle 32"/>
          <p:cNvGrpSpPr/>
          <p:nvPr/>
        </p:nvGrpSpPr>
        <p:grpSpPr>
          <a:xfrm>
            <a:off x="1311480" y="324000"/>
            <a:ext cx="9059400" cy="961920"/>
            <a:chOff x="1311480" y="324000"/>
            <a:chExt cx="9059400" cy="961920"/>
          </a:xfrm>
        </p:grpSpPr>
        <p:pic>
          <p:nvPicPr>
            <p:cNvPr id="108" name="Rectangle 32" descr=""/>
            <p:cNvPicPr/>
            <p:nvPr/>
          </p:nvPicPr>
          <p:blipFill>
            <a:blip r:embed="rId1"/>
            <a:stretch/>
          </p:blipFill>
          <p:spPr>
            <a:xfrm>
              <a:off x="2627280" y="324000"/>
              <a:ext cx="6473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11480" y="428760"/>
              <a:ext cx="905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ff"/>
                  </a:solidFill>
                  <a:latin typeface="Calibri"/>
                </a:rPr>
                <a:t>منحنى الطلب السياحي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111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أسباب </a:t>
              </a: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1729800" y="1928880"/>
            <a:ext cx="7651080" cy="714240"/>
            <a:chOff x="1729800" y="1928880"/>
            <a:chExt cx="7651080" cy="714240"/>
          </a:xfrm>
        </p:grpSpPr>
        <p:grpSp>
          <p:nvGrpSpPr>
            <p:cNvPr id="114" name="Rectangle 4"/>
            <p:cNvGrpSpPr/>
            <p:nvPr/>
          </p:nvGrpSpPr>
          <p:grpSpPr>
            <a:xfrm>
              <a:off x="8021520" y="1928880"/>
              <a:ext cx="852480" cy="714240"/>
              <a:chOff x="8021520" y="1928880"/>
              <a:chExt cx="852480" cy="714240"/>
            </a:xfrm>
          </p:grpSpPr>
          <p:pic>
            <p:nvPicPr>
              <p:cNvPr id="115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21520" y="1928880"/>
                <a:ext cx="85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220240" y="200052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Rectangle 5"/>
            <p:cNvGrpSpPr/>
            <p:nvPr/>
          </p:nvGrpSpPr>
          <p:grpSpPr>
            <a:xfrm>
              <a:off x="1729800" y="1928880"/>
              <a:ext cx="7651080" cy="714240"/>
              <a:chOff x="1729800" y="1928880"/>
              <a:chExt cx="7651080" cy="714240"/>
            </a:xfrm>
          </p:grpSpPr>
          <p:pic>
            <p:nvPicPr>
              <p:cNvPr id="118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9360" y="1928880"/>
                <a:ext cx="53766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729800" y="2000520"/>
                <a:ext cx="765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بعض العوامل المناخية والجغرافية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Group 12"/>
          <p:cNvGrpSpPr/>
          <p:nvPr/>
        </p:nvGrpSpPr>
        <p:grpSpPr>
          <a:xfrm>
            <a:off x="-755280" y="3071880"/>
            <a:ext cx="7680240" cy="1000080"/>
            <a:chOff x="-755280" y="3071880"/>
            <a:chExt cx="7680240" cy="1000080"/>
          </a:xfrm>
        </p:grpSpPr>
        <p:sp>
          <p:nvSpPr>
            <p:cNvPr id="121" name="Rectangle 8"/>
            <p:cNvSpPr/>
            <p:nvPr/>
          </p:nvSpPr>
          <p:spPr>
            <a:xfrm>
              <a:off x="-755280" y="3286080"/>
              <a:ext cx="7680240" cy="581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(معتدل الحرارة ، مشمس ، نقي ، جاف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eft Arrow 10"/>
            <p:cNvSpPr/>
            <p:nvPr/>
          </p:nvSpPr>
          <p:spPr>
            <a:xfrm>
              <a:off x="5858280" y="3071880"/>
              <a:ext cx="428400" cy="10000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468720" y="3929040"/>
            <a:ext cx="5757120" cy="1425960"/>
            <a:chOff x="468720" y="3929040"/>
            <a:chExt cx="5757120" cy="1425960"/>
          </a:xfrm>
        </p:grpSpPr>
        <p:sp>
          <p:nvSpPr>
            <p:cNvPr id="124" name="Rectangle 9"/>
            <p:cNvSpPr/>
            <p:nvPr/>
          </p:nvSpPr>
          <p:spPr>
            <a:xfrm>
              <a:off x="468720" y="4286160"/>
              <a:ext cx="575712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يقع في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حوض البحر الابيض المتوس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Down Arrow 11"/>
            <p:cNvSpPr/>
            <p:nvPr/>
          </p:nvSpPr>
          <p:spPr>
            <a:xfrm>
              <a:off x="2500200" y="3929040"/>
              <a:ext cx="1285920" cy="357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6215040" y="3000240"/>
            <a:ext cx="2467080" cy="3062520"/>
            <a:chOff x="6215040" y="3000240"/>
            <a:chExt cx="2467080" cy="3062520"/>
          </a:xfrm>
        </p:grpSpPr>
        <p:sp>
          <p:nvSpPr>
            <p:cNvPr id="127" name="Rectangle 7"/>
            <p:cNvSpPr/>
            <p:nvPr/>
          </p:nvSpPr>
          <p:spPr>
            <a:xfrm>
              <a:off x="6286320" y="3000240"/>
              <a:ext cx="2357640" cy="2043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المناخ المفضل لدى السياح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Picture 4" descr="https://encrypted-tbn1.gstatic.com/images?q=tbn:ANd9GcRjrkqJshriknJmRyELDbMFGN6AETgR5dakTwzEWgRHjtX52MnC"/>
            <p:cNvPicPr/>
            <p:nvPr/>
          </p:nvPicPr>
          <p:blipFill>
            <a:blip r:embed="rId4"/>
            <a:stretch/>
          </p:blipFill>
          <p:spPr>
            <a:xfrm>
              <a:off x="6215040" y="4214880"/>
              <a:ext cx="2467080" cy="18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9"/>
          <p:cNvGrpSpPr/>
          <p:nvPr/>
        </p:nvGrpSpPr>
        <p:grpSpPr>
          <a:xfrm>
            <a:off x="2397960" y="428760"/>
            <a:ext cx="6963840" cy="713880"/>
            <a:chOff x="2397960" y="428760"/>
            <a:chExt cx="6963840" cy="713880"/>
          </a:xfrm>
        </p:grpSpPr>
        <p:grpSp>
          <p:nvGrpSpPr>
            <p:cNvPr id="130" name="Rectangle 3"/>
            <p:cNvGrpSpPr/>
            <p:nvPr/>
          </p:nvGrpSpPr>
          <p:grpSpPr>
            <a:xfrm>
              <a:off x="7998480" y="428760"/>
              <a:ext cx="843840" cy="713880"/>
              <a:chOff x="7998480" y="428760"/>
              <a:chExt cx="843840" cy="713880"/>
            </a:xfrm>
          </p:grpSpPr>
          <p:pic>
            <p:nvPicPr>
              <p:cNvPr id="131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998480" y="428760"/>
                <a:ext cx="8438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8191800" y="50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Rectangle 4"/>
            <p:cNvGrpSpPr/>
            <p:nvPr/>
          </p:nvGrpSpPr>
          <p:grpSpPr>
            <a:xfrm>
              <a:off x="2397960" y="428760"/>
              <a:ext cx="6963840" cy="713880"/>
              <a:chOff x="2397960" y="428760"/>
              <a:chExt cx="6963840" cy="713880"/>
            </a:xfrm>
          </p:grpSpPr>
          <p:pic>
            <p:nvPicPr>
              <p:cNvPr id="134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9320" y="428760"/>
                <a:ext cx="4681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397960" y="500040"/>
                <a:ext cx="696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العطل المدفوعة ووقت الفراغ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6" name="Rectangle 5"/>
          <p:cNvSpPr/>
          <p:nvPr/>
        </p:nvSpPr>
        <p:spPr>
          <a:xfrm>
            <a:off x="1285920" y="1500120"/>
            <a:ext cx="707220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ن الإجازات المدفوعة الأجر عن العمل ووقت الفرا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1965960" y="2143080"/>
            <a:ext cx="5168880" cy="4514760"/>
            <a:chOff x="1965960" y="2143080"/>
            <a:chExt cx="5168880" cy="4514760"/>
          </a:xfrm>
        </p:grpSpPr>
        <p:grpSp>
          <p:nvGrpSpPr>
            <p:cNvPr id="138" name="Group 8"/>
            <p:cNvGrpSpPr/>
            <p:nvPr/>
          </p:nvGrpSpPr>
          <p:grpSpPr>
            <a:xfrm>
              <a:off x="1965960" y="2143080"/>
              <a:ext cx="5168880" cy="1425600"/>
              <a:chOff x="1965960" y="2143080"/>
              <a:chExt cx="5168880" cy="142560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1965960" y="3048120"/>
                <a:ext cx="5168880" cy="52056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000000"/>
                    </a:solidFill>
                    <a:latin typeface="Calibri"/>
                  </a:rPr>
                  <a:t>شروع الفرد بالرحلة السياحي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Down Arrow 7"/>
              <p:cNvSpPr/>
              <p:nvPr/>
            </p:nvSpPr>
            <p:spPr>
              <a:xfrm>
                <a:off x="3785760" y="2143080"/>
                <a:ext cx="1571760" cy="8571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1" name="Picture 2" descr="http://www.ikhwanonline.net/Data/2006/7/8/uuupppo.jpg"/>
            <p:cNvPicPr/>
            <p:nvPr/>
          </p:nvPicPr>
          <p:blipFill>
            <a:blip r:embed="rId3"/>
            <a:stretch/>
          </p:blipFill>
          <p:spPr>
            <a:xfrm>
              <a:off x="2428920" y="3714840"/>
              <a:ext cx="4286160" cy="29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6"/>
          <p:cNvGrpSpPr/>
          <p:nvPr/>
        </p:nvGrpSpPr>
        <p:grpSpPr>
          <a:xfrm>
            <a:off x="4404960" y="428760"/>
            <a:ext cx="4492080" cy="713880"/>
            <a:chOff x="4404960" y="428760"/>
            <a:chExt cx="4492080" cy="713880"/>
          </a:xfrm>
        </p:grpSpPr>
        <p:grpSp>
          <p:nvGrpSpPr>
            <p:cNvPr id="143" name="Rectangle 3"/>
            <p:cNvGrpSpPr/>
            <p:nvPr/>
          </p:nvGrpSpPr>
          <p:grpSpPr>
            <a:xfrm>
              <a:off x="8026200" y="428760"/>
              <a:ext cx="816120" cy="713880"/>
              <a:chOff x="8026200" y="428760"/>
              <a:chExt cx="816120" cy="713880"/>
            </a:xfrm>
          </p:grpSpPr>
          <p:pic>
            <p:nvPicPr>
              <p:cNvPr id="14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026200" y="428760"/>
                <a:ext cx="81612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206200" y="50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Rectangle 4"/>
            <p:cNvGrpSpPr/>
            <p:nvPr/>
          </p:nvGrpSpPr>
          <p:grpSpPr>
            <a:xfrm>
              <a:off x="4404960" y="428760"/>
              <a:ext cx="4492080" cy="713880"/>
              <a:chOff x="4404960" y="428760"/>
              <a:chExt cx="4492080" cy="713880"/>
            </a:xfrm>
          </p:grpSpPr>
          <p:pic>
            <p:nvPicPr>
              <p:cNvPr id="147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0600" y="428760"/>
                <a:ext cx="31896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404960" y="500040"/>
                <a:ext cx="4492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طول ساعات النهار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Group 17"/>
          <p:cNvGrpSpPr/>
          <p:nvPr/>
        </p:nvGrpSpPr>
        <p:grpSpPr>
          <a:xfrm>
            <a:off x="214200" y="1428840"/>
            <a:ext cx="8643960" cy="3929040"/>
            <a:chOff x="214200" y="1428840"/>
            <a:chExt cx="8643960" cy="3929040"/>
          </a:xfrm>
        </p:grpSpPr>
        <p:sp>
          <p:nvSpPr>
            <p:cNvPr id="150" name="Rectangle 5"/>
            <p:cNvSpPr/>
            <p:nvPr/>
          </p:nvSpPr>
          <p:spPr>
            <a:xfrm>
              <a:off x="214200" y="1428840"/>
              <a:ext cx="8643960" cy="947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فصل الصيف تكون الشمس ساقطة بزاوية عمودية على مدار السرطان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Picture 2" descr="http://www.infpe.edu.dz/COURS/Enseignants/Secondaire/geographie/chabakafalakia/images/inside38.gif"/>
            <p:cNvPicPr/>
            <p:nvPr/>
          </p:nvPicPr>
          <p:blipFill>
            <a:blip r:embed="rId3"/>
            <a:srcRect l="0" t="15486" r="0" b="0"/>
            <a:stretch/>
          </p:blipFill>
          <p:spPr>
            <a:xfrm>
              <a:off x="4357440" y="2238480"/>
              <a:ext cx="4500720" cy="3119400"/>
            </a:xfrm>
            <a:prstGeom prst="rect">
              <a:avLst/>
            </a:prstGeom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</p:grpSp>
      <p:grpSp>
        <p:nvGrpSpPr>
          <p:cNvPr id="152" name="Group 9"/>
          <p:cNvGrpSpPr/>
          <p:nvPr/>
        </p:nvGrpSpPr>
        <p:grpSpPr>
          <a:xfrm>
            <a:off x="-539280" y="1928880"/>
            <a:ext cx="6633360" cy="888480"/>
            <a:chOff x="-539280" y="1928880"/>
            <a:chExt cx="6633360" cy="888480"/>
          </a:xfrm>
        </p:grpSpPr>
        <p:sp>
          <p:nvSpPr>
            <p:cNvPr id="153" name="Rectangle 7"/>
            <p:cNvSpPr/>
            <p:nvPr/>
          </p:nvSpPr>
          <p:spPr>
            <a:xfrm>
              <a:off x="-539280" y="2357640"/>
              <a:ext cx="6633360" cy="45972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7030a0"/>
                  </a:solidFill>
                  <a:latin typeface="Calibri"/>
                </a:rPr>
                <a:t>زيادة ساعات النهار في نصف الكرة الشما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Down Arrow 8"/>
            <p:cNvSpPr/>
            <p:nvPr/>
          </p:nvSpPr>
          <p:spPr>
            <a:xfrm>
              <a:off x="1571400" y="1928880"/>
              <a:ext cx="1500120" cy="42876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830160" y="3000240"/>
            <a:ext cx="7255440" cy="3506760"/>
            <a:chOff x="830160" y="3000240"/>
            <a:chExt cx="7255440" cy="3506760"/>
          </a:xfrm>
        </p:grpSpPr>
        <p:sp>
          <p:nvSpPr>
            <p:cNvPr id="156" name="Rectangle 10"/>
            <p:cNvSpPr/>
            <p:nvPr/>
          </p:nvSpPr>
          <p:spPr>
            <a:xfrm>
              <a:off x="2071440" y="3000240"/>
              <a:ext cx="2071800" cy="35067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وتصل في بلدان اوربا المطلة على البحر المتوسط بحدود 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16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 ساعة في الصيف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830160" y="5786640"/>
              <a:ext cx="7255440" cy="520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تطول في 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فصل الشتاء 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في البحر الكاريب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285840" y="4357800"/>
            <a:ext cx="1785960" cy="3933360"/>
            <a:chOff x="285840" y="4357800"/>
            <a:chExt cx="1785960" cy="3933360"/>
          </a:xfrm>
        </p:grpSpPr>
        <p:sp>
          <p:nvSpPr>
            <p:cNvPr id="159" name="Left Arrow 12"/>
            <p:cNvSpPr/>
            <p:nvPr/>
          </p:nvSpPr>
          <p:spPr>
            <a:xfrm>
              <a:off x="1571760" y="4429080"/>
              <a:ext cx="500040" cy="242892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285840" y="4357800"/>
              <a:ext cx="1214640" cy="393336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2060"/>
                  </a:solidFill>
                  <a:latin typeface="Calibri"/>
                </a:rPr>
                <a:t>يساعد على مزاولة الانشطة السياح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162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أثر الموسمية في السوق السياحي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4"/>
          <p:cNvSpPr/>
          <p:nvPr/>
        </p:nvSpPr>
        <p:spPr>
          <a:xfrm>
            <a:off x="5829480" y="2000160"/>
            <a:ext cx="36540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يزد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الطلب السياح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في موسم الصي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-805680" y="1928880"/>
            <a:ext cx="7451640" cy="1571400"/>
            <a:chOff x="-805680" y="1928880"/>
            <a:chExt cx="7451640" cy="1571400"/>
          </a:xfrm>
        </p:grpSpPr>
        <p:sp>
          <p:nvSpPr>
            <p:cNvPr id="166" name="Rectangle 5"/>
            <p:cNvSpPr/>
            <p:nvPr/>
          </p:nvSpPr>
          <p:spPr>
            <a:xfrm>
              <a:off x="-805680" y="2208240"/>
              <a:ext cx="745164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تزداد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المنفعة المرجوة من الرحلة السياح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eft Arrow 6"/>
            <p:cNvSpPr/>
            <p:nvPr/>
          </p:nvSpPr>
          <p:spPr>
            <a:xfrm>
              <a:off x="5572080" y="1928880"/>
              <a:ext cx="857160" cy="157140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357120" y="3676680"/>
            <a:ext cx="9871200" cy="2786040"/>
            <a:chOff x="357120" y="3676680"/>
            <a:chExt cx="9871200" cy="2786040"/>
          </a:xfrm>
        </p:grpSpPr>
        <p:sp>
          <p:nvSpPr>
            <p:cNvPr id="169" name="Rectangle 8"/>
            <p:cNvSpPr/>
            <p:nvPr/>
          </p:nvSpPr>
          <p:spPr>
            <a:xfrm>
              <a:off x="498240" y="4786560"/>
              <a:ext cx="973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بفرض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توازن السوق السياحي</a:t>
              </a: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 بثبوت الثم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0" name="Picture 2" descr="https://encrypted-tbn0.gstatic.com/images?q=tbn:ANd9GcT1m_XwFwqQQFVz_WoQobvcI8sVsGDUXpGJ_pLI6Ab1VaHwllX91Q"/>
            <p:cNvPicPr/>
            <p:nvPr/>
          </p:nvPicPr>
          <p:blipFill>
            <a:blip r:embed="rId2"/>
            <a:stretch/>
          </p:blipFill>
          <p:spPr>
            <a:xfrm flipH="1">
              <a:off x="357120" y="3676680"/>
              <a:ext cx="1643040" cy="278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0"/>
          <p:cNvGrpSpPr/>
          <p:nvPr/>
        </p:nvGrpSpPr>
        <p:grpSpPr>
          <a:xfrm>
            <a:off x="928440" y="3643200"/>
            <a:ext cx="8334720" cy="459720"/>
            <a:chOff x="928440" y="3643200"/>
            <a:chExt cx="8334720" cy="459720"/>
          </a:xfrm>
        </p:grpSpPr>
        <p:cxnSp>
          <p:nvCxnSpPr>
            <p:cNvPr id="172" name="AutoShape 9"/>
            <p:cNvCxnSpPr/>
            <p:nvPr/>
          </p:nvCxnSpPr>
          <p:spPr>
            <a:xfrm>
              <a:off x="928440" y="3915000"/>
              <a:ext cx="7072920" cy="1080"/>
            </a:xfrm>
            <a:prstGeom prst="straightConnector1">
              <a:avLst/>
            </a:prstGeom>
            <a:ln w="57240">
              <a:solidFill>
                <a:srgbClr val="92d050"/>
              </a:solidFill>
              <a:miter/>
            </a:ln>
          </p:spPr>
        </p:cxnSp>
        <p:sp>
          <p:nvSpPr>
            <p:cNvPr id="173" name="Rectangle 19"/>
            <p:cNvSpPr/>
            <p:nvPr/>
          </p:nvSpPr>
          <p:spPr>
            <a:xfrm>
              <a:off x="7628400" y="364320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خط 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31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175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25"/>
            <p:cNvGrpSpPr/>
            <p:nvPr/>
          </p:nvGrpSpPr>
          <p:grpSpPr>
            <a:xfrm>
              <a:off x="268560" y="1000080"/>
              <a:ext cx="7732800" cy="4929120"/>
              <a:chOff x="268560" y="1000080"/>
              <a:chExt cx="7732800" cy="4929120"/>
            </a:xfrm>
          </p:grpSpPr>
          <p:grpSp>
            <p:nvGrpSpPr>
              <p:cNvPr id="177" name="Group 18"/>
              <p:cNvGrpSpPr/>
              <p:nvPr/>
            </p:nvGrpSpPr>
            <p:grpSpPr>
              <a:xfrm>
                <a:off x="927720" y="1500120"/>
                <a:ext cx="7073640" cy="4429080"/>
                <a:chOff x="927720" y="1500120"/>
                <a:chExt cx="7073640" cy="4429080"/>
              </a:xfrm>
            </p:grpSpPr>
            <p:cxnSp>
              <p:nvCxnSpPr>
                <p:cNvPr id="178" name="AutoShape 7"/>
                <p:cNvCxnSpPr/>
                <p:nvPr/>
              </p:nvCxnSpPr>
              <p:spPr>
                <a:xfrm flipH="1">
                  <a:off x="927720" y="1500120"/>
                  <a:ext cx="13320" cy="442944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  <p:cxnSp>
              <p:nvCxnSpPr>
                <p:cNvPr id="179" name="AutoShape 8"/>
                <p:cNvCxnSpPr/>
                <p:nvPr/>
              </p:nvCxnSpPr>
              <p:spPr>
                <a:xfrm>
                  <a:off x="928440" y="5928480"/>
                  <a:ext cx="7073280" cy="108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</p:grpSp>
          <p:sp>
            <p:nvSpPr>
              <p:cNvPr id="180" name="Rectangle 24"/>
              <p:cNvSpPr/>
              <p:nvPr/>
            </p:nvSpPr>
            <p:spPr>
              <a:xfrm>
                <a:off x="268560" y="100008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الثمن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28"/>
          <p:cNvGrpSpPr/>
          <p:nvPr/>
        </p:nvGrpSpPr>
        <p:grpSpPr>
          <a:xfrm>
            <a:off x="3631680" y="2357280"/>
            <a:ext cx="2697840" cy="2714760"/>
            <a:chOff x="3631680" y="2357280"/>
            <a:chExt cx="2697840" cy="2714760"/>
          </a:xfrm>
        </p:grpSpPr>
        <p:cxnSp>
          <p:nvCxnSpPr>
            <p:cNvPr id="182" name="AutoShape 5"/>
            <p:cNvCxnSpPr/>
            <p:nvPr/>
          </p:nvCxnSpPr>
          <p:spPr>
            <a:xfrm flipH="1">
              <a:off x="3631680" y="2606040"/>
              <a:ext cx="2298240" cy="2466360"/>
            </a:xfrm>
            <a:prstGeom prst="straightConnector1">
              <a:avLst/>
            </a:prstGeom>
            <a:ln w="57240">
              <a:solidFill>
                <a:srgbClr val="be4b48"/>
              </a:solidFill>
              <a:miter/>
            </a:ln>
          </p:spPr>
        </p:cxnSp>
        <p:sp>
          <p:nvSpPr>
            <p:cNvPr id="183" name="Rectangle 26"/>
            <p:cNvSpPr/>
            <p:nvPr/>
          </p:nvSpPr>
          <p:spPr>
            <a:xfrm>
              <a:off x="5940000" y="235728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Group 35"/>
          <p:cNvGrpSpPr/>
          <p:nvPr/>
        </p:nvGrpSpPr>
        <p:grpSpPr>
          <a:xfrm>
            <a:off x="1641240" y="2286000"/>
            <a:ext cx="5997960" cy="3103200"/>
            <a:chOff x="1641240" y="2286000"/>
            <a:chExt cx="5997960" cy="3103200"/>
          </a:xfrm>
        </p:grpSpPr>
        <p:cxnSp>
          <p:nvCxnSpPr>
            <p:cNvPr id="185" name="AutoShape 10"/>
            <p:cNvCxnSpPr/>
            <p:nvPr/>
          </p:nvCxnSpPr>
          <p:spPr>
            <a:xfrm>
              <a:off x="2142720" y="2678040"/>
              <a:ext cx="5056560" cy="2394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186" name="Rectangle 32"/>
            <p:cNvSpPr/>
            <p:nvPr/>
          </p:nvSpPr>
          <p:spPr>
            <a:xfrm>
              <a:off x="1641240" y="228600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7141320" y="49294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37"/>
          <p:cNvGrpSpPr/>
          <p:nvPr/>
        </p:nvGrpSpPr>
        <p:grpSpPr>
          <a:xfrm>
            <a:off x="4185000" y="3914280"/>
            <a:ext cx="1055520" cy="2546640"/>
            <a:chOff x="4185000" y="3914280"/>
            <a:chExt cx="1055520" cy="2546640"/>
          </a:xfrm>
        </p:grpSpPr>
        <p:cxnSp>
          <p:nvCxnSpPr>
            <p:cNvPr id="189" name="AutoShape 15"/>
            <p:cNvCxnSpPr/>
            <p:nvPr/>
          </p:nvCxnSpPr>
          <p:spPr>
            <a:xfrm>
              <a:off x="4714560" y="3914280"/>
              <a:ext cx="1080" cy="2015640"/>
            </a:xfrm>
            <a:prstGeom prst="straightConnector1">
              <a:avLst/>
            </a:prstGeom>
            <a:ln w="57240">
              <a:solidFill>
                <a:srgbClr val="e46c0a"/>
              </a:solidFill>
              <a:miter/>
            </a:ln>
          </p:spPr>
        </p:cxnSp>
        <p:sp>
          <p:nvSpPr>
            <p:cNvPr id="190" name="Rectangle 36"/>
            <p:cNvSpPr/>
            <p:nvPr/>
          </p:nvSpPr>
          <p:spPr>
            <a:xfrm>
              <a:off x="4185000" y="600120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 = 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40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192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193" name="Rectangle 38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42"/>
          <p:cNvGrpSpPr/>
          <p:nvPr/>
        </p:nvGrpSpPr>
        <p:grpSpPr>
          <a:xfrm>
            <a:off x="2783520" y="3914280"/>
            <a:ext cx="667080" cy="2546640"/>
            <a:chOff x="2783520" y="3914280"/>
            <a:chExt cx="667080" cy="2546640"/>
          </a:xfrm>
        </p:grpSpPr>
        <p:cxnSp>
          <p:nvCxnSpPr>
            <p:cNvPr id="196" name="AutoShape 14"/>
            <p:cNvCxnSpPr/>
            <p:nvPr/>
          </p:nvCxnSpPr>
          <p:spPr>
            <a:xfrm>
              <a:off x="3127320" y="3914280"/>
              <a:ext cx="1080" cy="2015640"/>
            </a:xfrm>
            <a:prstGeom prst="straightConnector1">
              <a:avLst/>
            </a:prstGeom>
            <a:ln w="57240">
              <a:solidFill>
                <a:srgbClr val="006600"/>
              </a:solidFill>
              <a:miter/>
            </a:ln>
          </p:spPr>
        </p:cxnSp>
        <p:sp>
          <p:nvSpPr>
            <p:cNvPr id="197" name="Rectangle 41"/>
            <p:cNvSpPr/>
            <p:nvPr/>
          </p:nvSpPr>
          <p:spPr>
            <a:xfrm>
              <a:off x="278352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45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199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200" name="Rectangle 43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750600" y="2231280"/>
            <a:ext cx="2707920" cy="1559880"/>
            <a:chOff x="750600" y="2231280"/>
            <a:chExt cx="2707920" cy="1559880"/>
          </a:xfrm>
        </p:grpSpPr>
        <p:sp>
          <p:nvSpPr>
            <p:cNvPr id="203" name="Line 4"/>
            <p:cNvSpPr/>
            <p:nvPr/>
          </p:nvSpPr>
          <p:spPr>
            <a:xfrm flipH="1">
              <a:off x="2881800" y="3314880"/>
              <a:ext cx="43740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46"/>
            <p:cNvSpPr/>
            <p:nvPr/>
          </p:nvSpPr>
          <p:spPr>
            <a:xfrm rot="1518000">
              <a:off x="701280" y="2811600"/>
              <a:ext cx="28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فائض مقداره (ط ط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1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606960" y="1385280"/>
            <a:ext cx="3209760" cy="1797120"/>
            <a:chOff x="606960" y="1385280"/>
            <a:chExt cx="3209760" cy="1797120"/>
          </a:xfrm>
        </p:grpSpPr>
        <p:sp>
          <p:nvSpPr>
            <p:cNvPr id="206" name="Line 3"/>
            <p:cNvSpPr/>
            <p:nvPr/>
          </p:nvSpPr>
          <p:spPr>
            <a:xfrm flipV="1">
              <a:off x="3240360" y="2595240"/>
              <a:ext cx="47448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 rot="1518000">
              <a:off x="531000" y="2084400"/>
              <a:ext cx="336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عجز عرض 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مقداره (ط ط</a:t>
              </a: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50"/>
          <p:cNvGrpSpPr/>
          <p:nvPr/>
        </p:nvGrpSpPr>
        <p:grpSpPr>
          <a:xfrm>
            <a:off x="6284160" y="3914280"/>
            <a:ext cx="667080" cy="2546640"/>
            <a:chOff x="6284160" y="3914280"/>
            <a:chExt cx="667080" cy="2546640"/>
          </a:xfrm>
        </p:grpSpPr>
        <p:cxnSp>
          <p:nvCxnSpPr>
            <p:cNvPr id="209" name="AutoShape 13"/>
            <p:cNvCxnSpPr/>
            <p:nvPr/>
          </p:nvCxnSpPr>
          <p:spPr>
            <a:xfrm>
              <a:off x="6627240" y="3914280"/>
              <a:ext cx="1080" cy="201564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</a:ln>
          </p:spPr>
        </p:cxnSp>
        <p:sp>
          <p:nvSpPr>
            <p:cNvPr id="210" name="Rectangle 49"/>
            <p:cNvSpPr/>
            <p:nvPr/>
          </p:nvSpPr>
          <p:spPr>
            <a:xfrm>
              <a:off x="628416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52"/>
          <p:cNvSpPr/>
          <p:nvPr/>
        </p:nvSpPr>
        <p:spPr>
          <a:xfrm>
            <a:off x="4480920" y="3357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6470640" y="500040"/>
            <a:ext cx="28296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ثبوت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142920" y="285840"/>
            <a:ext cx="8858160" cy="1556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ماذا تزداد الكميات المعروضة السياحية صيفاً</a:t>
            </a:r>
            <a:r>
              <a:rPr b="1" lang="ar-IQ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ا تنخفض في المواسم الاخرى لكي تتلائم مع حجم الطلب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928880"/>
            <a:ext cx="8358120" cy="4786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العرض السياحي عرض جامد وغير مرن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 إذ إن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بعض الصناعات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لها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قابل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ي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ة السريعة على التكيف مع قوى الطل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، وبخلاف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صناعة السياح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ليس لها هذه الميزة في الأمد القصير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لا يمكن التصرف في العرض السياحي في الأمد القصير</a:t>
            </a:r>
            <a:r>
              <a:rPr b="1" lang="ar-IQ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لأنه جامد وغير مر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 u="sng">
                <a:solidFill>
                  <a:srgbClr val="0000ff"/>
                </a:solidFill>
                <a:uFillTx/>
                <a:latin typeface="Calibri"/>
              </a:rPr>
              <a:t>ومن هنا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فإن أ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 إجراء يستهدف معالجة العجز في العرض السياحي في موسم الذروة أو معالجة الفائض في موسم الكساد لا بدّ وأن ينصب بالدرجة الأساس على جانب (الطلب السياحي) الذي يمتاز 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رون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ا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26Z</dcterms:modified>
  <cp:revision>29</cp:revision>
  <dc:subject/>
  <dc:title>Slide 1</dc:title>
</cp:coreProperties>
</file>