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730-5573-45EC-A185-6A53D370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DE1-48AD-4460-BCD9-BC3CC9D9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DC3-4FEB-465E-A631-D890127E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47F-B123-4E0E-ADE6-559F6742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EA1-ECFD-40BF-8EF4-2ED1A701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FFA-DE55-4C17-BA72-E41A90E0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799-F9E8-4134-B692-3DE26434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240-6D4E-4EFB-A078-38B79D59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220-2C76-426D-A9EF-589CBC07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0C4-9CB4-4C4F-8BF0-41C5A8F9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EDF-4A97-4B08-BB00-78B4FF60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8FF-75DC-4EEF-A439-E0A25DF0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433C-E691-4DDB-8D74-5C603DADA2DF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47" name="Subtitle 2"/>
          <p:cNvGrpSpPr/>
          <p:nvPr/>
        </p:nvGrpSpPr>
        <p:grpSpPr>
          <a:xfrm>
            <a:off x="139680" y="1859040"/>
            <a:ext cx="2274840" cy="4151160"/>
            <a:chOff x="139680" y="1859040"/>
            <a:chExt cx="2274840" cy="4151160"/>
          </a:xfrm>
        </p:grpSpPr>
        <p:pic>
          <p:nvPicPr>
            <p:cNvPr id="48" name="Subtitle 2" descr=""/>
            <p:cNvPicPr/>
            <p:nvPr/>
          </p:nvPicPr>
          <p:blipFill>
            <a:blip r:embed="rId7"/>
            <a:stretch/>
          </p:blipFill>
          <p:spPr>
            <a:xfrm>
              <a:off x="139680" y="1859040"/>
              <a:ext cx="227484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مناقشة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ف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 ا</a:t>
              </a: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لعرض السياحي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Rectangle 1" descr=""/>
          <p:cNvPicPr/>
          <p:nvPr/>
        </p:nvPicPr>
        <p:blipFill>
          <a:blip r:embed="rId8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11" descr=""/>
          <p:cNvPicPr/>
          <p:nvPr/>
        </p:nvPicPr>
        <p:blipFill>
          <a:blip r:embed="rId10"/>
          <a:stretch/>
        </p:blipFill>
        <p:spPr>
          <a:xfrm>
            <a:off x="2871720" y="5346720"/>
            <a:ext cx="571824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Title 1"/>
          <p:cNvGrpSpPr/>
          <p:nvPr/>
        </p:nvGrpSpPr>
        <p:grpSpPr>
          <a:xfrm>
            <a:off x="49320" y="55440"/>
            <a:ext cx="8893080" cy="1785960"/>
            <a:chOff x="49320" y="55440"/>
            <a:chExt cx="8893080" cy="1785960"/>
          </a:xfrm>
        </p:grpSpPr>
        <p:pic>
          <p:nvPicPr>
            <p:cNvPr id="54" name="Title 1" descr=""/>
            <p:cNvPicPr/>
            <p:nvPr/>
          </p:nvPicPr>
          <p:blipFill>
            <a:blip r:embed="rId1"/>
            <a:stretch/>
          </p:blipFill>
          <p:spPr>
            <a:xfrm>
              <a:off x="49320" y="55440"/>
              <a:ext cx="88930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لو كان الطلب السياحي اكثر من العرض السياحي، </a:t>
              </a:r>
              <a:r>
                <a:rPr b="1" lang="ar-SA" sz="4000" spc="-1" strike="noStrike">
                  <a:solidFill>
                    <a:srgbClr val="ffff00"/>
                  </a:solidFill>
                  <a:latin typeface="Calibri"/>
                </a:rPr>
                <a:t>فما هي الاجراءات التي تتبع</a:t>
              </a: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؟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213840" y="1856880"/>
            <a:ext cx="8643960" cy="40719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 fontScale="77000"/>
          </a:bodyPr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مخيمات السياحية لتوسيع الطاقة الايوائ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كرفانات النقالة لتوسيع الطاقة الايوائ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فنادق النقالة (البواخر) لتوسيع الطاقة الايوائية في بعض المناسبات ، ويمكن استخدام هذا الإجراء فقط في الموان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تخصيص العوائل المقيمة في المصايف غرفة او اكثر لاستضافة السياح في موسم الذروة مما يزيد من كمية عرض الايوا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عمالة المؤقتة او الموسمية لزيادة عرض العم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مزيد من المواد الاولية لزيادة عرض ال</a:t>
            </a:r>
            <a:r>
              <a:rPr b="1" lang="ar-IQ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أ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طعمة والمشروب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09:56:44Z</dcterms:created>
  <dc:creator>Lenovo</dc:creator>
  <dc:description/>
  <dc:language>en-US</dc:language>
  <cp:lastModifiedBy>مرتضى الكربلائي</cp:lastModifiedBy>
  <dcterms:modified xsi:type="dcterms:W3CDTF">2015-06-09T22:06:00Z</dcterms:modified>
  <cp:revision>17</cp:revision>
  <dc:subject/>
  <dc:title>Slide 1</dc:title>
</cp:coreProperties>
</file>