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41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EE2-0DFC-4FAF-9126-54507CA8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A21-24C9-4792-8982-5FD62D3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6E7-6605-45BB-BD33-034A24A0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FB7-DAEA-4725-9985-D0DD2191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8B3-2BD0-4255-8731-5DA839A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AEE-EC6A-4E6A-B34B-F0AC653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634-F69C-4D32-B011-73D992C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79D-3B69-47DD-998A-E108C201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1B0-E807-4C6D-B615-9432408C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DE8-95DF-45AC-83CE-E4A2994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36A-C1D5-464F-9B30-4D36166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0BD-9349-4D32-B549-95782FB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0FA4-486E-4B01-908C-C0D53D737F7B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47" name="Subtitle 2"/>
          <p:cNvGrpSpPr/>
          <p:nvPr/>
        </p:nvGrpSpPr>
        <p:grpSpPr>
          <a:xfrm>
            <a:off x="42840" y="1968480"/>
            <a:ext cx="2414520" cy="4041720"/>
            <a:chOff x="42840" y="1968480"/>
            <a:chExt cx="2414520" cy="4041720"/>
          </a:xfrm>
        </p:grpSpPr>
        <p:pic>
          <p:nvPicPr>
            <p:cNvPr id="48" name="Subtitle 2" descr=""/>
            <p:cNvPicPr/>
            <p:nvPr/>
          </p:nvPicPr>
          <p:blipFill>
            <a:blip r:embed="rId7"/>
            <a:stretch/>
          </p:blipFill>
          <p:spPr>
            <a:xfrm>
              <a:off x="42840" y="1968480"/>
              <a:ext cx="241452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واصفات ا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1" descr=""/>
          <p:cNvPicPr/>
          <p:nvPr/>
        </p:nvPicPr>
        <p:blipFill>
          <a:blip r:embed="rId10"/>
          <a:stretch/>
        </p:blipFill>
        <p:spPr>
          <a:xfrm>
            <a:off x="2835360" y="5200560"/>
            <a:ext cx="571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TextBox 3"/>
          <p:cNvGrpSpPr/>
          <p:nvPr/>
        </p:nvGrpSpPr>
        <p:grpSpPr>
          <a:xfrm>
            <a:off x="1305000" y="255600"/>
            <a:ext cx="6821280" cy="1311120"/>
            <a:chOff x="1305000" y="255600"/>
            <a:chExt cx="6821280" cy="1311120"/>
          </a:xfrm>
        </p:grpSpPr>
        <p:pic>
          <p:nvPicPr>
            <p:cNvPr id="54" name="TextBox 3" descr=""/>
            <p:cNvPicPr/>
            <p:nvPr/>
          </p:nvPicPr>
          <p:blipFill>
            <a:blip r:embed="rId1"/>
            <a:stretch/>
          </p:blipFill>
          <p:spPr>
            <a:xfrm>
              <a:off x="1305000" y="255600"/>
              <a:ext cx="68212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357200" y="28584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Rectangle 4"/>
          <p:cNvGrpSpPr/>
          <p:nvPr/>
        </p:nvGrpSpPr>
        <p:grpSpPr>
          <a:xfrm>
            <a:off x="1646280" y="500040"/>
            <a:ext cx="6211800" cy="1434600"/>
            <a:chOff x="1646280" y="500040"/>
            <a:chExt cx="6211800" cy="1434600"/>
          </a:xfrm>
        </p:grpSpPr>
        <p:pic>
          <p:nvPicPr>
            <p:cNvPr id="57" name="Rectangle 4" descr=""/>
            <p:cNvPicPr/>
            <p:nvPr/>
          </p:nvPicPr>
          <p:blipFill>
            <a:blip r:embed="rId2"/>
            <a:stretch/>
          </p:blipFill>
          <p:spPr>
            <a:xfrm>
              <a:off x="1649160" y="500040"/>
              <a:ext cx="620856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646280" y="500040"/>
              <a:ext cx="621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مواصفات ا</a:t>
              </a:r>
              <a:r>
                <a:rPr b="1" lang="ar-SA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لعرض السياحي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0" y="2000160"/>
            <a:ext cx="9526320" cy="4857840"/>
            <a:chOff x="0" y="2000160"/>
            <a:chExt cx="9526320" cy="4857840"/>
          </a:xfrm>
        </p:grpSpPr>
        <p:grpSp>
          <p:nvGrpSpPr>
            <p:cNvPr id="60" name="Group 11"/>
            <p:cNvGrpSpPr/>
            <p:nvPr/>
          </p:nvGrpSpPr>
          <p:grpSpPr>
            <a:xfrm>
              <a:off x="818640" y="2000160"/>
              <a:ext cx="8707680" cy="792000"/>
              <a:chOff x="818640" y="2000160"/>
              <a:chExt cx="8707680" cy="792000"/>
            </a:xfrm>
          </p:grpSpPr>
          <p:grpSp>
            <p:nvGrpSpPr>
              <p:cNvPr id="61" name="Rectangle 5"/>
              <p:cNvGrpSpPr/>
              <p:nvPr/>
            </p:nvGrpSpPr>
            <p:grpSpPr>
              <a:xfrm>
                <a:off x="818640" y="2003760"/>
                <a:ext cx="8707680" cy="788400"/>
                <a:chOff x="818640" y="2003760"/>
                <a:chExt cx="8707680" cy="788400"/>
              </a:xfrm>
            </p:grpSpPr>
            <p:pic>
              <p:nvPicPr>
                <p:cNvPr id="62" name="Rectangl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65040" y="2003760"/>
                  <a:ext cx="6061320" cy="71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818640" y="2088720"/>
                  <a:ext cx="87076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Calibri"/>
                    </a:rPr>
                    <a:t>يعتمد بشكل كبير على عنصر العمل 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" name="Rectangle 6"/>
              <p:cNvGrpSpPr/>
              <p:nvPr/>
            </p:nvGrpSpPr>
            <p:grpSpPr>
              <a:xfrm>
                <a:off x="7964640" y="2000160"/>
                <a:ext cx="938160" cy="788040"/>
                <a:chOff x="7964640" y="2000160"/>
                <a:chExt cx="938160" cy="788040"/>
              </a:xfrm>
            </p:grpSpPr>
            <p:pic>
              <p:nvPicPr>
                <p:cNvPr id="65" name="Rectangle 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64640" y="2000160"/>
                  <a:ext cx="938160" cy="70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"/>
                <p:cNvSpPr/>
                <p:nvPr/>
              </p:nvSpPr>
              <p:spPr>
                <a:xfrm>
                  <a:off x="8197560" y="208476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4000" spc="-1" strike="noStrike">
                      <a:solidFill>
                        <a:srgbClr val="ffff00"/>
                      </a:solidFill>
                      <a:latin typeface="Calibri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67" name="Picture 2" descr="https://encrypted-tbn1.gstatic.com/images?q=tbn:ANd9GcS3RfUWU_AZYcAJaEy8cmareN8ORHExZg34b1ewjd6uRI2X_KLx"/>
            <p:cNvPicPr/>
            <p:nvPr/>
          </p:nvPicPr>
          <p:blipFill>
            <a:blip r:embed="rId5"/>
            <a:stretch/>
          </p:blipFill>
          <p:spPr>
            <a:xfrm>
              <a:off x="0" y="4238640"/>
              <a:ext cx="1743120" cy="26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https://encrypted-tbn0.gstatic.com/images?q=tbn:ANd9GcSv55GS76RAQCOOvds7_5M-36lZ5vLNKN9dWbtO-Q0vakVjL5yy"/>
            <p:cNvPicPr/>
            <p:nvPr/>
          </p:nvPicPr>
          <p:blipFill>
            <a:blip r:embed="rId6"/>
            <a:stretch/>
          </p:blipFill>
          <p:spPr>
            <a:xfrm>
              <a:off x="1785960" y="4182480"/>
              <a:ext cx="3571920" cy="267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https://encrypted-tbn1.gstatic.com/images?q=tbn:ANd9GcQOprarLxkz-FP9MZw9E2HSsGVU7Tqtu5W_d0iwyhorxq6eQY82"/>
            <p:cNvPicPr/>
            <p:nvPr/>
          </p:nvPicPr>
          <p:blipFill>
            <a:blip r:embed="rId7"/>
            <a:stretch/>
          </p:blipFill>
          <p:spPr>
            <a:xfrm>
              <a:off x="5329800" y="4714920"/>
              <a:ext cx="381420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Rectangle 10"/>
          <p:cNvSpPr/>
          <p:nvPr/>
        </p:nvSpPr>
        <p:spPr>
          <a:xfrm>
            <a:off x="1357200" y="3000240"/>
            <a:ext cx="735804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نشاط السياحي خدمي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كثيف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عوبة احلال الماكنة محل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إستخدام الماكنة محدداً جداً في عملية تقديم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7"/>
          <p:cNvGrpSpPr/>
          <p:nvPr/>
        </p:nvGrpSpPr>
        <p:grpSpPr>
          <a:xfrm>
            <a:off x="1364760" y="422280"/>
            <a:ext cx="7934760" cy="792360"/>
            <a:chOff x="1364760" y="422280"/>
            <a:chExt cx="7934760" cy="792360"/>
          </a:xfrm>
        </p:grpSpPr>
        <p:grpSp>
          <p:nvGrpSpPr>
            <p:cNvPr id="72" name="Rectangle 3"/>
            <p:cNvGrpSpPr/>
            <p:nvPr/>
          </p:nvGrpSpPr>
          <p:grpSpPr>
            <a:xfrm>
              <a:off x="1364760" y="429480"/>
              <a:ext cx="7934760" cy="785160"/>
              <a:chOff x="1364760" y="429480"/>
              <a:chExt cx="7934760" cy="785160"/>
            </a:xfrm>
          </p:grpSpPr>
          <p:pic>
            <p:nvPicPr>
              <p:cNvPr id="73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5520" y="429480"/>
                <a:ext cx="571140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364760" y="511200"/>
                <a:ext cx="7934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بالدرجة الاساس عرض للخدمات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Rectangle 4"/>
            <p:cNvGrpSpPr/>
            <p:nvPr/>
          </p:nvGrpSpPr>
          <p:grpSpPr>
            <a:xfrm>
              <a:off x="7946640" y="422280"/>
              <a:ext cx="933840" cy="788400"/>
              <a:chOff x="7946640" y="422280"/>
              <a:chExt cx="933840" cy="788400"/>
            </a:xfrm>
          </p:grpSpPr>
          <p:pic>
            <p:nvPicPr>
              <p:cNvPr id="76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946640" y="422280"/>
                <a:ext cx="933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179200" y="50724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Group 18"/>
          <p:cNvGrpSpPr/>
          <p:nvPr/>
        </p:nvGrpSpPr>
        <p:grpSpPr>
          <a:xfrm>
            <a:off x="4079520" y="4137120"/>
            <a:ext cx="4842720" cy="790560"/>
            <a:chOff x="4079520" y="4137120"/>
            <a:chExt cx="4842720" cy="790560"/>
          </a:xfrm>
        </p:grpSpPr>
        <p:grpSp>
          <p:nvGrpSpPr>
            <p:cNvPr id="79" name="Rectangle 9"/>
            <p:cNvGrpSpPr/>
            <p:nvPr/>
          </p:nvGrpSpPr>
          <p:grpSpPr>
            <a:xfrm>
              <a:off x="4079520" y="4140720"/>
              <a:ext cx="4842720" cy="786960"/>
              <a:chOff x="4079520" y="4140720"/>
              <a:chExt cx="4842720" cy="786960"/>
            </a:xfrm>
          </p:grpSpPr>
          <p:pic>
            <p:nvPicPr>
              <p:cNvPr id="80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4140720"/>
                <a:ext cx="345168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4079520" y="4224240"/>
                <a:ext cx="4842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خدمات آنية مباشرة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Rectangle 10"/>
            <p:cNvGrpSpPr/>
            <p:nvPr/>
          </p:nvGrpSpPr>
          <p:grpSpPr>
            <a:xfrm>
              <a:off x="7989840" y="4137120"/>
              <a:ext cx="895320" cy="786600"/>
              <a:chOff x="7989840" y="4137120"/>
              <a:chExt cx="895320" cy="786600"/>
            </a:xfrm>
          </p:grpSpPr>
          <p:pic>
            <p:nvPicPr>
              <p:cNvPr id="83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989840" y="4137120"/>
                <a:ext cx="89532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8202240" y="42202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Group 16"/>
          <p:cNvGrpSpPr/>
          <p:nvPr/>
        </p:nvGrpSpPr>
        <p:grpSpPr>
          <a:xfrm>
            <a:off x="0" y="1422360"/>
            <a:ext cx="9144000" cy="2697120"/>
            <a:chOff x="0" y="1422360"/>
            <a:chExt cx="9144000" cy="2697120"/>
          </a:xfrm>
        </p:grpSpPr>
        <p:sp>
          <p:nvSpPr>
            <p:cNvPr id="86" name="Rectangle 5"/>
            <p:cNvSpPr/>
            <p:nvPr/>
          </p:nvSpPr>
          <p:spPr>
            <a:xfrm>
              <a:off x="1334880" y="1422360"/>
              <a:ext cx="5237280" cy="947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76320">
              <a:solidFill>
                <a:srgbClr val="703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مزيج مركب من مجموعة السلع والخدمات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Picture 2" descr="http://www.almasalla.travel/upload/album/s1120084142945.jpg"/>
            <p:cNvPicPr/>
            <p:nvPr/>
          </p:nvPicPr>
          <p:blipFill>
            <a:blip r:embed="rId5"/>
            <a:stretch/>
          </p:blipFill>
          <p:spPr>
            <a:xfrm>
              <a:off x="0" y="2214720"/>
              <a:ext cx="3619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https://encrypted-tbn1.gstatic.com/images?q=tbn:ANd9GcQ-Ff9frJ194_WVukO7PR_h0QQDetZUSmIDNFH8earY3jpJQf7M"/>
            <p:cNvPicPr/>
            <p:nvPr/>
          </p:nvPicPr>
          <p:blipFill>
            <a:blip r:embed="rId6"/>
            <a:stretch/>
          </p:blipFill>
          <p:spPr>
            <a:xfrm>
              <a:off x="3643200" y="2214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https://encrypted-tbn2.gstatic.com/images?q=tbn:ANd9GcTi6uAASFssz7HlOj7EhXp_G6fW-pQQM-R-7tIewl6QD-o2u6HP"/>
            <p:cNvPicPr/>
            <p:nvPr/>
          </p:nvPicPr>
          <p:blipFill>
            <a:blip r:embed="rId7"/>
            <a:stretch/>
          </p:blipFill>
          <p:spPr>
            <a:xfrm>
              <a:off x="6143760" y="2214720"/>
              <a:ext cx="30002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5"/>
          <p:cNvSpPr/>
          <p:nvPr/>
        </p:nvSpPr>
        <p:spPr>
          <a:xfrm>
            <a:off x="428760" y="5072040"/>
            <a:ext cx="828648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صنيع هذه الخدمات على مدار اليوم أو حتى على مدار الس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ديم الخدمات السياحية أمام مرأى السياح او الضيو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دم إمكانية حجب المنتوج الردئ عن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4664520" y="493560"/>
            <a:ext cx="4219200" cy="792000"/>
            <a:chOff x="4664520" y="493560"/>
            <a:chExt cx="4219200" cy="792000"/>
          </a:xfrm>
        </p:grpSpPr>
        <p:grpSp>
          <p:nvGrpSpPr>
            <p:cNvPr id="92" name="Rectangle 3"/>
            <p:cNvGrpSpPr/>
            <p:nvPr/>
          </p:nvGrpSpPr>
          <p:grpSpPr>
            <a:xfrm>
              <a:off x="4664520" y="497160"/>
              <a:ext cx="4152240" cy="788400"/>
              <a:chOff x="4664520" y="497160"/>
              <a:chExt cx="4152240" cy="788400"/>
            </a:xfrm>
          </p:grpSpPr>
          <p:pic>
            <p:nvPicPr>
              <p:cNvPr id="93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9240" y="497160"/>
                <a:ext cx="29937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664520" y="582120"/>
                <a:ext cx="415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للخز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Rectangle 4"/>
            <p:cNvGrpSpPr/>
            <p:nvPr/>
          </p:nvGrpSpPr>
          <p:grpSpPr>
            <a:xfrm>
              <a:off x="8001720" y="493560"/>
              <a:ext cx="882000" cy="788040"/>
              <a:chOff x="8001720" y="493560"/>
              <a:chExt cx="882000" cy="788040"/>
            </a:xfrm>
          </p:grpSpPr>
          <p:pic>
            <p:nvPicPr>
              <p:cNvPr id="96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1720" y="493560"/>
                <a:ext cx="8820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82058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8" name="Rectangle 6"/>
          <p:cNvSpPr/>
          <p:nvPr/>
        </p:nvSpPr>
        <p:spPr>
          <a:xfrm>
            <a:off x="1335240" y="1422360"/>
            <a:ext cx="67370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رض خدمي فلا يمكن خزن الخدمات ،  وبذلك يكون عرض أني ومباشر ينتج على مدار الس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4927320" y="2857680"/>
            <a:ext cx="3922200" cy="790920"/>
            <a:chOff x="4927320" y="2857680"/>
            <a:chExt cx="3922200" cy="790920"/>
          </a:xfrm>
        </p:grpSpPr>
        <p:grpSp>
          <p:nvGrpSpPr>
            <p:cNvPr id="100" name="Rectangle 7"/>
            <p:cNvGrpSpPr/>
            <p:nvPr/>
          </p:nvGrpSpPr>
          <p:grpSpPr>
            <a:xfrm>
              <a:off x="4927320" y="2861280"/>
              <a:ext cx="3922200" cy="787320"/>
              <a:chOff x="4927320" y="2861280"/>
              <a:chExt cx="3922200" cy="787320"/>
            </a:xfrm>
          </p:grpSpPr>
          <p:pic>
            <p:nvPicPr>
              <p:cNvPr id="101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2861280"/>
                <a:ext cx="262836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4927320" y="2945160"/>
                <a:ext cx="392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</a:t>
                </a: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للنقل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Rectangle 8"/>
            <p:cNvGrpSpPr/>
            <p:nvPr/>
          </p:nvGrpSpPr>
          <p:grpSpPr>
            <a:xfrm>
              <a:off x="7968240" y="2857680"/>
              <a:ext cx="870840" cy="786960"/>
              <a:chOff x="7968240" y="2857680"/>
              <a:chExt cx="870840" cy="786960"/>
            </a:xfrm>
          </p:grpSpPr>
          <p:pic>
            <p:nvPicPr>
              <p:cNvPr id="10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968240" y="2857680"/>
                <a:ext cx="870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8170920" y="29412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" name="Rectangle 9"/>
          <p:cNvSpPr/>
          <p:nvPr/>
        </p:nvSpPr>
        <p:spPr>
          <a:xfrm>
            <a:off x="285840" y="4000680"/>
            <a:ext cx="857232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ستهلك ثابتاً والسلعة هي التي تتحرك ويتم نقلها الى الأسواق القريبة من إقامة المستهلكين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هناك بعض السلع تصل حتى الى منزل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عرض السياحي هو الثابت والمستهلك (السائح) هو الذي ينتقل لكي يستطيع ان يقتني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7"/>
          <p:cNvGrpSpPr/>
          <p:nvPr/>
        </p:nvGrpSpPr>
        <p:grpSpPr>
          <a:xfrm>
            <a:off x="4663080" y="493560"/>
            <a:ext cx="4220640" cy="792000"/>
            <a:chOff x="4663080" y="493560"/>
            <a:chExt cx="4220640" cy="792000"/>
          </a:xfrm>
        </p:grpSpPr>
        <p:grpSp>
          <p:nvGrpSpPr>
            <p:cNvPr id="109" name="Rectangle 3"/>
            <p:cNvGrpSpPr/>
            <p:nvPr/>
          </p:nvGrpSpPr>
          <p:grpSpPr>
            <a:xfrm>
              <a:off x="4663080" y="497160"/>
              <a:ext cx="4158360" cy="788400"/>
              <a:chOff x="4663080" y="497160"/>
              <a:chExt cx="4158360" cy="788400"/>
            </a:xfrm>
          </p:grpSpPr>
          <p:pic>
            <p:nvPicPr>
              <p:cNvPr id="110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4560" y="497160"/>
                <a:ext cx="2994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663080" y="582120"/>
                <a:ext cx="415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يخضع للمنافسة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Rectangle 4"/>
            <p:cNvGrpSpPr/>
            <p:nvPr/>
          </p:nvGrpSpPr>
          <p:grpSpPr>
            <a:xfrm>
              <a:off x="8003160" y="493560"/>
              <a:ext cx="880560" cy="788040"/>
              <a:chOff x="8003160" y="493560"/>
              <a:chExt cx="880560" cy="788040"/>
            </a:xfrm>
          </p:grpSpPr>
          <p:pic>
            <p:nvPicPr>
              <p:cNvPr id="113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03160" y="493560"/>
                <a:ext cx="8805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820656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5" name="Rectangle 5"/>
          <p:cNvSpPr/>
          <p:nvPr/>
        </p:nvSpPr>
        <p:spPr>
          <a:xfrm>
            <a:off x="214200" y="1857240"/>
            <a:ext cx="864396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هناك تنافس بين البلدان على تسويق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هناك تنافس على صعيد المواقع السياحية داخل البلد ال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هناك تنافس على صعيد المنشآت السياحية داخل الموقع السياحي الواح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-55440" y="493560"/>
            <a:ext cx="9399600" cy="792000"/>
            <a:chOff x="-55440" y="493560"/>
            <a:chExt cx="9399600" cy="792000"/>
          </a:xfrm>
        </p:grpSpPr>
        <p:grpSp>
          <p:nvGrpSpPr>
            <p:cNvPr id="118" name="Rectangle 3"/>
            <p:cNvGrpSpPr/>
            <p:nvPr/>
          </p:nvGrpSpPr>
          <p:grpSpPr>
            <a:xfrm>
              <a:off x="-55440" y="497160"/>
              <a:ext cx="9399600" cy="788400"/>
              <a:chOff x="-55440" y="497160"/>
              <a:chExt cx="9399600" cy="788400"/>
            </a:xfrm>
          </p:grpSpPr>
          <p:pic>
            <p:nvPicPr>
              <p:cNvPr id="119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7080" y="497160"/>
                <a:ext cx="68976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-55440" y="582120"/>
                <a:ext cx="939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وتنوع وتداخل العناصر المكونة له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Rectangle 4"/>
            <p:cNvGrpSpPr/>
            <p:nvPr/>
          </p:nvGrpSpPr>
          <p:grpSpPr>
            <a:xfrm>
              <a:off x="7920360" y="493560"/>
              <a:ext cx="963360" cy="788040"/>
              <a:chOff x="7920360" y="493560"/>
              <a:chExt cx="963360" cy="788040"/>
            </a:xfrm>
          </p:grpSpPr>
          <p:pic>
            <p:nvPicPr>
              <p:cNvPr id="122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920360" y="493560"/>
                <a:ext cx="963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16480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4" name="Rectangle 5"/>
          <p:cNvSpPr/>
          <p:nvPr/>
        </p:nvSpPr>
        <p:spPr>
          <a:xfrm>
            <a:off x="214200" y="1857240"/>
            <a:ext cx="86439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وامل الطبيعية تتشابك مع العوامل التأريخية والدينية والتراثية والحضارية ....الخ لتشكل بمجموعها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9"/>
          <p:cNvGrpSpPr/>
          <p:nvPr/>
        </p:nvGrpSpPr>
        <p:grpSpPr>
          <a:xfrm>
            <a:off x="0" y="3333600"/>
            <a:ext cx="9166320" cy="3524400"/>
            <a:chOff x="0" y="3333600"/>
            <a:chExt cx="9166320" cy="3524400"/>
          </a:xfrm>
        </p:grpSpPr>
        <p:pic>
          <p:nvPicPr>
            <p:cNvPr id="126" name="Picture 4" descr="https://encrypted-tbn0.gstatic.com/images?q=tbn:ANd9GcQ5bhFvcZAnFDNce_jMUhYKfxTOtqYF_taCDCOI1b5WCgpRhiHP"/>
            <p:cNvPicPr/>
            <p:nvPr/>
          </p:nvPicPr>
          <p:blipFill>
            <a:blip r:embed="rId1"/>
            <a:stretch/>
          </p:blipFill>
          <p:spPr>
            <a:xfrm>
              <a:off x="5715000" y="3357360"/>
              <a:ext cx="3451320" cy="35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http://images.akoam.com/files/1378250201.jpg"/>
            <p:cNvPicPr/>
            <p:nvPr/>
          </p:nvPicPr>
          <p:blipFill>
            <a:blip r:embed="rId2"/>
            <a:stretch/>
          </p:blipFill>
          <p:spPr>
            <a:xfrm>
              <a:off x="0" y="3333600"/>
              <a:ext cx="5715000" cy="352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7"/>
          <p:cNvGrpSpPr/>
          <p:nvPr/>
        </p:nvGrpSpPr>
        <p:grpSpPr>
          <a:xfrm>
            <a:off x="-1611360" y="493560"/>
            <a:ext cx="11766240" cy="792000"/>
            <a:chOff x="-1611360" y="493560"/>
            <a:chExt cx="11766240" cy="792000"/>
          </a:xfrm>
        </p:grpSpPr>
        <p:grpSp>
          <p:nvGrpSpPr>
            <p:cNvPr id="129" name="Rectangle 3"/>
            <p:cNvGrpSpPr/>
            <p:nvPr/>
          </p:nvGrpSpPr>
          <p:grpSpPr>
            <a:xfrm>
              <a:off x="-1611360" y="497160"/>
              <a:ext cx="11766240" cy="788400"/>
              <a:chOff x="-1611360" y="497160"/>
              <a:chExt cx="11766240" cy="788400"/>
            </a:xfrm>
          </p:grpSpPr>
          <p:pic>
            <p:nvPicPr>
              <p:cNvPr id="130" name="Rectangl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120" y="497160"/>
                <a:ext cx="81655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-1611360" y="582120"/>
                <a:ext cx="11766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المنتجين الذين يشاركون بالعرض السياحي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Rectangle 4"/>
            <p:cNvGrpSpPr/>
            <p:nvPr/>
          </p:nvGrpSpPr>
          <p:grpSpPr>
            <a:xfrm>
              <a:off x="8046360" y="493560"/>
              <a:ext cx="954720" cy="788040"/>
              <a:chOff x="8046360" y="493560"/>
              <a:chExt cx="954720" cy="788040"/>
            </a:xfrm>
          </p:grpSpPr>
          <p:pic>
            <p:nvPicPr>
              <p:cNvPr id="133" name="Rectangl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46360" y="493560"/>
                <a:ext cx="9547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828828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Rectangle 5"/>
          <p:cNvSpPr/>
          <p:nvPr/>
        </p:nvSpPr>
        <p:spPr>
          <a:xfrm>
            <a:off x="214200" y="1500120"/>
            <a:ext cx="8643960" cy="3506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ناك عدد كبير من المنتجين الذين يساهمون في تصنيع المنتوج السياح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داخل حدود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أصحاب الفنادق والمطاعم والكازينوهات ومكاتب السفر والسياحة ..الخ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خارج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محطة الكهرباء والوقود والغاز ومشاريع البنى التحتانية الاخرى والاسواق ...ال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4"/>
          <p:cNvGrpSpPr/>
          <p:nvPr/>
        </p:nvGrpSpPr>
        <p:grpSpPr>
          <a:xfrm>
            <a:off x="4940280" y="493560"/>
            <a:ext cx="4060800" cy="792000"/>
            <a:chOff x="4940280" y="493560"/>
            <a:chExt cx="4060800" cy="792000"/>
          </a:xfrm>
        </p:grpSpPr>
        <p:grpSp>
          <p:nvGrpSpPr>
            <p:cNvPr id="137" name="Rectangle 3"/>
            <p:cNvGrpSpPr/>
            <p:nvPr/>
          </p:nvGrpSpPr>
          <p:grpSpPr>
            <a:xfrm>
              <a:off x="4940280" y="497160"/>
              <a:ext cx="3881160" cy="788400"/>
              <a:chOff x="4940280" y="497160"/>
              <a:chExt cx="3881160" cy="788400"/>
            </a:xfrm>
          </p:grpSpPr>
          <p:pic>
            <p:nvPicPr>
              <p:cNvPr id="138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53200" y="497160"/>
                <a:ext cx="308088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4940280" y="582120"/>
                <a:ext cx="388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عرض غير مر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Rectangle 4"/>
            <p:cNvGrpSpPr/>
            <p:nvPr/>
          </p:nvGrpSpPr>
          <p:grpSpPr>
            <a:xfrm>
              <a:off x="8118720" y="493560"/>
              <a:ext cx="882360" cy="788040"/>
              <a:chOff x="8118720" y="493560"/>
              <a:chExt cx="882360" cy="788040"/>
            </a:xfrm>
          </p:grpSpPr>
          <p:pic>
            <p:nvPicPr>
              <p:cNvPr id="141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118720" y="493560"/>
                <a:ext cx="882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83246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3" name="Rectangle 6"/>
          <p:cNvSpPr/>
          <p:nvPr/>
        </p:nvSpPr>
        <p:spPr>
          <a:xfrm>
            <a:off x="285840" y="1500120"/>
            <a:ext cx="85723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إن درجة استجابة المنتج في النشاط السياحي للتغيرات في أسعار الخدمات السياحية تكون منخفضة جداً على الأقل بالأمد القصي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Rectangle 7"/>
          <p:cNvGrpSpPr/>
          <p:nvPr/>
        </p:nvGrpSpPr>
        <p:grpSpPr>
          <a:xfrm>
            <a:off x="6422400" y="2676600"/>
            <a:ext cx="2695320" cy="961920"/>
            <a:chOff x="6422400" y="2676600"/>
            <a:chExt cx="2695320" cy="961920"/>
          </a:xfrm>
        </p:grpSpPr>
        <p:pic>
          <p:nvPicPr>
            <p:cNvPr id="145" name="Rectangle 7" descr=""/>
            <p:cNvPicPr/>
            <p:nvPr/>
          </p:nvPicPr>
          <p:blipFill>
            <a:blip r:embed="rId3"/>
            <a:stretch/>
          </p:blipFill>
          <p:spPr>
            <a:xfrm>
              <a:off x="6649920" y="2676600"/>
              <a:ext cx="22496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422400" y="278604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عامل الوق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8"/>
          <p:cNvGrpSpPr/>
          <p:nvPr/>
        </p:nvGrpSpPr>
        <p:grpSpPr>
          <a:xfrm>
            <a:off x="2361600" y="2676600"/>
            <a:ext cx="4902120" cy="961920"/>
            <a:chOff x="2361600" y="2676600"/>
            <a:chExt cx="4902120" cy="961920"/>
          </a:xfrm>
        </p:grpSpPr>
        <p:pic>
          <p:nvPicPr>
            <p:cNvPr id="148" name="Rectangle 8" descr=""/>
            <p:cNvPicPr/>
            <p:nvPr/>
          </p:nvPicPr>
          <p:blipFill>
            <a:blip r:embed="rId4"/>
            <a:stretch/>
          </p:blipFill>
          <p:spPr>
            <a:xfrm>
              <a:off x="2968560" y="2676600"/>
              <a:ext cx="37180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361600" y="2786040"/>
              <a:ext cx="49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كثافة رأس المال الثاب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9"/>
          <p:cNvGrpSpPr/>
          <p:nvPr/>
        </p:nvGrpSpPr>
        <p:grpSpPr>
          <a:xfrm>
            <a:off x="-74880" y="2676600"/>
            <a:ext cx="3358080" cy="961920"/>
            <a:chOff x="-74880" y="2676600"/>
            <a:chExt cx="3358080" cy="961920"/>
          </a:xfrm>
        </p:grpSpPr>
        <p:pic>
          <p:nvPicPr>
            <p:cNvPr id="151" name="Rectangle 9" descr=""/>
            <p:cNvPicPr/>
            <p:nvPr/>
          </p:nvPicPr>
          <p:blipFill>
            <a:blip r:embed="rId5"/>
            <a:stretch/>
          </p:blipFill>
          <p:spPr>
            <a:xfrm>
              <a:off x="311040" y="2676600"/>
              <a:ext cx="26035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-74880" y="2786040"/>
              <a:ext cx="335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عامل الطبيع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10"/>
          <p:cNvGrpSpPr/>
          <p:nvPr/>
        </p:nvGrpSpPr>
        <p:grpSpPr>
          <a:xfrm>
            <a:off x="5447880" y="3889440"/>
            <a:ext cx="4028760" cy="968400"/>
            <a:chOff x="5447880" y="3889440"/>
            <a:chExt cx="4028760" cy="968400"/>
          </a:xfrm>
        </p:grpSpPr>
        <p:pic>
          <p:nvPicPr>
            <p:cNvPr id="154" name="Rectangle 10" descr=""/>
            <p:cNvPicPr/>
            <p:nvPr/>
          </p:nvPicPr>
          <p:blipFill>
            <a:blip r:embed="rId6"/>
            <a:stretch/>
          </p:blipFill>
          <p:spPr>
            <a:xfrm>
              <a:off x="5888160" y="3889440"/>
              <a:ext cx="31701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447880" y="4000680"/>
              <a:ext cx="40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خزن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11"/>
          <p:cNvGrpSpPr/>
          <p:nvPr/>
        </p:nvGrpSpPr>
        <p:grpSpPr>
          <a:xfrm>
            <a:off x="2676960" y="3889440"/>
            <a:ext cx="3957120" cy="968400"/>
            <a:chOff x="2676960" y="3889440"/>
            <a:chExt cx="3957120" cy="968400"/>
          </a:xfrm>
        </p:grpSpPr>
        <p:pic>
          <p:nvPicPr>
            <p:cNvPr id="157" name="Rectangle 11" descr=""/>
            <p:cNvPicPr/>
            <p:nvPr/>
          </p:nvPicPr>
          <p:blipFill>
            <a:blip r:embed="rId7"/>
            <a:stretch/>
          </p:blipFill>
          <p:spPr>
            <a:xfrm>
              <a:off x="3176640" y="3889440"/>
              <a:ext cx="2986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76960" y="4000680"/>
              <a:ext cx="39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نقل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12"/>
          <p:cNvGrpSpPr/>
          <p:nvPr/>
        </p:nvGrpSpPr>
        <p:grpSpPr>
          <a:xfrm>
            <a:off x="-357480" y="3889440"/>
            <a:ext cx="4254120" cy="968400"/>
            <a:chOff x="-357480" y="3889440"/>
            <a:chExt cx="4254120" cy="968400"/>
          </a:xfrm>
        </p:grpSpPr>
        <p:pic>
          <p:nvPicPr>
            <p:cNvPr id="160" name="Rectangle 12" descr=""/>
            <p:cNvPicPr/>
            <p:nvPr/>
          </p:nvPicPr>
          <p:blipFill>
            <a:blip r:embed="rId8"/>
            <a:stretch/>
          </p:blipFill>
          <p:spPr>
            <a:xfrm>
              <a:off x="109440" y="3889440"/>
              <a:ext cx="33530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-357480" y="4000680"/>
              <a:ext cx="42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تحوير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13"/>
          <p:cNvGrpSpPr/>
          <p:nvPr/>
        </p:nvGrpSpPr>
        <p:grpSpPr>
          <a:xfrm>
            <a:off x="886320" y="4821120"/>
            <a:ext cx="7398360" cy="963720"/>
            <a:chOff x="886320" y="4821120"/>
            <a:chExt cx="7398360" cy="963720"/>
          </a:xfrm>
        </p:grpSpPr>
        <p:pic>
          <p:nvPicPr>
            <p:cNvPr id="163" name="Rectangle 13" descr=""/>
            <p:cNvPicPr/>
            <p:nvPr/>
          </p:nvPicPr>
          <p:blipFill>
            <a:blip r:embed="rId9"/>
            <a:stretch/>
          </p:blipFill>
          <p:spPr>
            <a:xfrm>
              <a:off x="1914480" y="4821120"/>
              <a:ext cx="53942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86320" y="4929120"/>
              <a:ext cx="73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موسمية الطلب على المنتج السياح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itle 1"/>
          <p:cNvGrpSpPr/>
          <p:nvPr/>
        </p:nvGrpSpPr>
        <p:grpSpPr>
          <a:xfrm>
            <a:off x="49320" y="55440"/>
            <a:ext cx="8893080" cy="1785960"/>
            <a:chOff x="49320" y="55440"/>
            <a:chExt cx="8893080" cy="1785960"/>
          </a:xfrm>
        </p:grpSpPr>
        <p:pic>
          <p:nvPicPr>
            <p:cNvPr id="166" name="Title 1" descr=""/>
            <p:cNvPicPr/>
            <p:nvPr/>
          </p:nvPicPr>
          <p:blipFill>
            <a:blip r:embed="rId1"/>
            <a:stretch/>
          </p:blipFill>
          <p:spPr>
            <a:xfrm>
              <a:off x="49320" y="55440"/>
              <a:ext cx="889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و كان الطلب السياحي اكثر من العرض السياحي، </a:t>
              </a:r>
              <a:r>
                <a:rPr b="1" lang="ar-SA" sz="4000" spc="-1" strike="noStrike">
                  <a:solidFill>
                    <a:srgbClr val="ffff00"/>
                  </a:solidFill>
                  <a:latin typeface="Calibri"/>
                </a:rPr>
                <a:t>فما هي الاجراءات التي تتبع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213840" y="1856880"/>
            <a:ext cx="8643960" cy="4071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 fontScale="77000"/>
          </a:bodyPr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خيمات السياحي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كرفانات النقال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فنادق النقالة (البواخر) لتوسيع الطاقة الايوائية في بعض المناسبات ، ويمكن استخدام هذا الإجراء فقط في الموان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تخصيص العوائل المقيمة في المصايف غرفة او اكثر لاستضافة السياح في موسم الذروة مما يزيد من كمية عرض الايو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عمالة المؤقتة او الموسمية لزيادة عرض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زيد من المواد الاولية لزيادة عرض ال</a:t>
            </a:r>
            <a:r>
              <a:rPr b="1" lang="ar-IQ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أ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طعمة والمشرو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6:27Z</dcterms:modified>
  <cp:revision>16</cp:revision>
  <dc:subject/>
  <dc:title>Slide 1</dc:title>
</cp:coreProperties>
</file>