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6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1"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6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94"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5"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F6704-653B-44AF-BEA9-26BA82F6668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FB917-D483-4660-8F41-11B0CC0F044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8C96-34C6-46DE-BAD6-307A5BB8959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5EA26-4E5C-4F2F-9A9E-314688848694}"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0078E-F665-47E8-839A-D0A786D1E10A}"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CAC94-32BC-4852-A029-8755C1060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F183E-6E15-4894-A2EE-652C5C569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FAD63B-0AD9-482A-A2E0-8A1A249DD5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751DEC-A1D2-4C06-9FD2-59B858235E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DEE4F1-13EF-42D3-9DDE-99FBD75802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3D6E1E-CA3B-478A-BB86-51163FCEFA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16A818-97C0-4E40-9039-07DB6F66C2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28C51C-AD6C-474E-90D0-8D8AD64633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D1AA88-6A9C-4D9A-A558-0099B70F1D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13158B-C95D-48F5-ABCA-CFFDE0ADFC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EE5673-2F00-4E53-98CF-414C53890A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8E3FDE4-EDEB-4130-9153-32B6650DBF5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90FC4-8088-4CC4-B4AF-1773363F9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CB21BB-E3A8-467E-A468-8CC2C82DF0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E0C6DB-C1D4-433D-AD23-C34C2C33AA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328DEA-6759-4B72-AB8A-274A72DB83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F3B0713-3A58-4F1F-BFDE-73E8DFF740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C482AF-CE56-43C6-94E8-8AF8ECA93C2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2C2C11-C33F-4739-A824-CE76616EDB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A4C140-89A4-4D4D-B8F0-CBB7A1D08E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73167E-3A5E-4DAC-8020-22298E2ED5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C1E565-F994-4AA0-84A1-DAE93C959C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70EF7C0-7247-44E7-BD8F-9946CB6D12C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AA7B4-BEB4-4C94-8DB5-486D5D2BA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76B19C4-AF81-4EE6-87EA-523D45AEDFB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6812FC6-74DE-46B7-B3F4-DEFB1E060AD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58B1D1-A9C8-40E4-A961-30835391C5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6C74469-ACA3-4570-94A5-4E35C870A7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B6F524-A296-465D-960D-32218848E5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66DF03-12B3-4A4B-BFFF-D62ACD9F93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4375CD-A9D6-4E06-9975-595A2DADE1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3C0681-C360-47B4-AD03-D0E65C79E1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2006D5-0134-4C9D-89B8-16BAC9DED4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28C067-5E49-4A8F-BB54-C3C6991066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40F37E-E1BD-4BF7-8CC4-BE1B7C7CA4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BF90C4-4AFD-40C4-BC16-6CED67DEE5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5A00FDB-F2D5-467A-9667-4CCA5112345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7AB6D70-7731-47B9-8035-7403D7CEED1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3D6B81B-9683-4C11-B7BF-6E07895C914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73BB2F-7C37-4632-9FD1-ACEC3938DDF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438084B-E163-404B-9E40-6D058170F71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6E34E04-CEDF-40CE-82B1-7EED3BDBB0E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A57C78-DB45-4CA1-8AD9-05D7CE28326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98C58FD-FAAF-4518-B226-1392C68EEFA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0517B0-22F3-4CB7-8BAA-CEDE3E33BD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F3B35-2608-4BE5-80B6-A310EAE4C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ADE0B27-B9F2-4618-A6F8-F2494BCFAA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7CC1E4-4CD4-4D20-ACA0-D5FCA776D6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566A5B6-113E-44C5-A19F-1AEF87BDFD6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FC51513-8822-4A7F-8648-1B23E6CC69C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28678E7-D0DF-44CF-94A9-676EF48E47B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A595D3E-7B9A-4250-BDDE-FDE8B310A3C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D9976B1-2A0A-4CF6-B7D2-FA055EAFCC1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9F62FD9-E488-4426-8436-7EBC3EDE727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ABD5CAF-C8E7-443A-9BB7-39E18CB1900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E76A277-0662-4D64-B372-FD1D1222910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2CE79-B928-4B6B-8FF3-651A4FA8A6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B133D98-B143-4E0A-B6E8-EA5AD69CE7B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6E5E6FB-6067-46A7-B17C-BDE90F069D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122B57-F883-4513-829E-E808F686C4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FB57B3-DC14-49FE-B75A-F1DB2045A29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68F15BC-5CA4-4C43-B04B-FA105C8D042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F61678A-1713-49F4-9945-A8EC7E43F9B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59476EA-A5E9-43BF-842B-6026605090C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006F745-8216-4F0B-911C-8DC5AEDA7AB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6D8FE46-40C9-4D94-948F-9A23946D9E4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C1048B7-073E-48C9-BAB8-B67AD060541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1A449-300F-40C4-AC65-439FC709C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6D3A8E7-51B4-4F59-AB98-59B655E918B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1B0966A-6E17-47C8-AA45-3EAD786A68D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BD5D328-8BAA-46ED-BDDA-E5DCBE9D410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CBD2D55-2787-45EB-BA2C-283A3C2ADC4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77841CA-B09F-4ACF-B825-164537ACC1E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C05D920-9308-48CD-ABA6-B3C2E6D9F13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3105A89-802C-418D-8229-7BDFAB09DAB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AF5146E-D925-46FC-871C-FCD42C57C41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2F1ACE7-8F77-444F-97AF-727F0082DFD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E0AEFB4-32B5-46C2-BFC4-DEF9F953CE8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E2343-BB2F-4705-BE95-8709E410D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02170E0-5FC2-4AFA-A5A6-F1A84EB0B92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639A177-185D-4E6C-8C66-EC6AB23FEA8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4039A2C-C833-462A-9948-732DEF7044C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A790C5B-F8E1-4F58-82BA-E2B263007EC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D9E34DB-3AC0-4F18-8A63-D2D6DD78E86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0CBBA92-C2D1-4653-98E7-B24276BA818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D15D793-8CE7-418A-A683-792C6EC40D6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CF2F8F7-B186-44D3-9E2B-3F0591D64B7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AB245EB-484E-4276-B971-8B41A64A78D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3C22FF2-4894-449B-903B-58DE6957849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3DAC2-F33F-4DA9-A3A1-F7F038A22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2CADF5C-B843-4347-91BC-455A6086E31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7A573-988E-44A7-A3BC-E0B41AD4F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08DC6-72A5-4C84-A95E-002A3E87C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CD08F-3268-4824-8408-2B0183746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6B41E-3B42-4DF6-808E-1889836CE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A842B-AC97-471C-86FB-4B7FD36C1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833BF-08A8-41A7-8029-4D3175FB4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25F0B6-6DC8-42F3-ACA7-27FCE9DF53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2D7011-3111-4323-A482-6C6F84B28C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D37999-DDE6-4439-B744-DEA84D18EA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E7B97E-874B-47C2-BCBD-BA6C342CEF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E7CCB7-E5AF-48A0-8AEF-04248C38CE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28491C-8FF8-46FF-B975-4E59795D5C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32862-E0C9-4E15-94C9-AAD56B87D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A0DF32-EF93-466D-A71D-12EDA4FAA4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1E601B-6CEF-466B-BCC5-3B744D7103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6E9E66-F3E5-4B8E-99F7-AE40F4E165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E47ACD-5891-4203-AAB4-1DA2B39F43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E22D78-EB8D-4DFA-95A7-ACFEC8AA15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06AF7C-5A3E-4043-9111-2623516F1C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E7158F-8A58-44E3-84B4-6336467B6A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B7FE8D-A606-4D2D-A08F-16B0E7A313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5A3889-BE1B-417C-8BA6-8455FB0E63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5C3B96-E33F-40F0-A7D9-F40B9BE7B5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0C821-9092-4677-B624-AD387FDD2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D9687A-3522-4A46-99BE-D38EC180A1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CFCDD1-A12A-409C-815F-3122452E26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EF5CEE-BD40-4F96-A782-AC4026E0E7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DC48BD-F90A-4D4E-9E61-E0F7DFC462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822821-4317-45A2-9FB5-0969486343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A893D2-07D8-4D19-857C-19D660576B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F430DA-804B-48FB-944E-8B6D54655A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129F94-4CDF-403C-8FC0-D1EEFDAAAC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C9EF81-A779-48FC-9011-6C0D81F7D5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4A0E8D-C7A5-4CED-8339-08E5CFBF3E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24EC9-3C70-4A4E-B47E-967AF9163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B7B449-6D57-42BD-B8D4-E1228AA3EF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14BA09-6340-46C9-9ECE-AEE3E90C02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A6990F-E282-4DBB-9EA7-E49D755309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1988D5-910D-4FD9-B632-651F70BFAD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C08B75-D2DB-400B-A97D-7E5B30CC71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5B0AAF-06AB-491F-9D7A-607275D8A5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128750-97B1-41CA-8AD7-9005947AC0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B99997-D298-4BCB-87ED-83F19A7E84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E14044-1D9A-4A27-AAC1-FF4AD7494D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E298DF-A74F-42C8-91A4-B5BAF2DF3E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596D6-2A1F-4B12-83A4-866623826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625A31-AA68-4110-9372-113864A9B2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E3913C-A77E-4AEF-8D12-F491DA4DFA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94E6C0-A0C2-4C31-A451-004A9A55F1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30201C-7741-4451-B336-E70F134C7D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65AE03-DEA5-4E68-8461-4D11C50D7D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B636B8-1D97-46BA-ABA3-2010EB7C9D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7A3617-0193-40E6-83C5-46854C3ADC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782B79-DAC7-4487-93E6-80E7023E25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A68A1D-A81F-496C-B58F-CD84360D28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AAB6B2-3737-4965-A71B-A3A1969411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7D0A0-0D94-4E6F-856E-FFC430829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AB2936-3849-49ED-AA55-8E0293691D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0A86B5-1AF0-48AD-958E-2DB2258295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64CCD6-73FA-4F25-A110-6784337AF4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824972-554E-4975-ABF9-AA616D1BAC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701D28-4630-48E1-8440-27BC561675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E2FB97-26D4-4808-A95A-B18A77E109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C324DB-FF42-46DD-9FF9-AB8A67A145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93E50F-9398-48B8-9462-C85882A9BA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00ECF4-0288-424E-BAE7-EDC0D218CC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BD0EDD-2BC5-4A68-A07D-3EF0C930A8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7A6AE-CD28-4DA6-876D-8ED2CFF52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933EB7-E9F6-4968-9DA3-F0A5A73F1C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5319C7-E06E-4D38-9CA5-11E56BCF64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61AAAD-452B-4F37-803A-49B019014F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962E1A-DE64-4BB6-87BA-E2C8A7AD85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0713E8-8191-4545-AAEA-A7E8DCBD39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936B7C-B969-40F9-A64C-65CA783414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A02865-1D84-4067-A60B-3282AF320C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0FED91-E7A1-4FAF-9EFB-BFECCFA592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2E736F-8A54-4E3F-BB21-CC7F3046DE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A5CD7A-62B5-4E28-903C-5B7E18370F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B183F-774F-4C71-8FDD-EF4AF97E3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86B329-2775-4BB1-BD0B-E8FA86EC53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712920-1623-4D3B-81BE-095C165D32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E500DB-4788-4850-B87E-E16CFCAB27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0EEF8E-5D1D-4F26-9EE3-0F02481E9D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64E63C-2C21-4C10-8EEF-0F9433DCC5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BF9B4A-3070-491D-BCCC-5B31D47C9F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2CB33C-3FED-4950-9478-408DB34165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AB3658-B10F-419F-B8A6-3406FBE3D1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429C38-D7A8-4DC0-9031-A81DAB0413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AC8ED4-8173-4180-9E6C-2E95973F2C9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AB40A-ECB2-4649-83BE-6172EE028AEF}"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4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45"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3119-946E-424F-934D-653FB897864E}"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86"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A84BD-E0A8-4678-ADF4-77AE947160F1}"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2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27"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B319A-DDB9-45DA-9EBC-F40FFCA305C2}"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6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68"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16FBD-CCC2-4BC8-AD0A-D6D340D3D41A}"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0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609" name="PlaceHolder 3"/>
          <p:cNvSpPr>
            <a:spLocks noGrp="1"/>
          </p:cNvSpPr>
          <p:nvPr>
            <p:ph type="dt" idx="4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PlaceHolder 5"/>
          <p:cNvSpPr>
            <a:spLocks noGrp="1"/>
          </p:cNvSpPr>
          <p:nvPr>
            <p:ph type="sldNum" idx="42"/>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037E9-83F5-46FB-BE11-2C27055F1CDB}"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4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650" name="PlaceHolder 3"/>
          <p:cNvSpPr>
            <a:spLocks noGrp="1"/>
          </p:cNvSpPr>
          <p:nvPr>
            <p:ph type="dt" idx="4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1"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2" name="PlaceHolder 5"/>
          <p:cNvSpPr>
            <a:spLocks noGrp="1"/>
          </p:cNvSpPr>
          <p:nvPr>
            <p:ph type="sldNum" idx="45"/>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4C0E-D438-4FB7-A321-F37F1F8C44A9}" type="slidenum">
              <a:rPr b="0" lang="ar-SA"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C7AC4-ADF9-4ACC-8022-A662E41CDEE2}"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5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9F08D-5E68-4C68-B169-F6243B0CE5E8}"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99"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5F29A-1480-4887-82FD-D5C3938D8342}"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40"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E700E-6CF1-4C64-AB51-2A392544F9DA}"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81"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B9D2-76E4-45ED-B2BB-299971217084}"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22"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D7878-2F0E-41DE-8F99-38D2C672E436}"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6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63"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7BD74-01F9-418F-8961-A4455EF4F5E9}"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0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04"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4E6E8-A6FA-4553-BC2E-211E269A030B}"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5.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6" name="Rectangle 2"/>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7" name="Oval 3"/>
          <p:cNvSpPr/>
          <p:nvPr/>
        </p:nvSpPr>
        <p:spPr>
          <a:xfrm>
            <a:off x="1835280" y="692280"/>
            <a:ext cx="5486400" cy="1066680"/>
          </a:xfrm>
          <a:prstGeom prst="ellipse">
            <a:avLst/>
          </a:prstGeom>
          <a:solidFill>
            <a:srgbClr val="ffcc66">
              <a:alpha val="60000"/>
            </a:srgbClr>
          </a:solidFill>
          <a:ln w="44280">
            <a:solidFill>
              <a:srgbClr val="33cc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b76"/>
                </a:solidFill>
                <a:latin typeface="Times New Roman"/>
                <a:cs typeface="Simplified Arabic"/>
              </a:rPr>
              <a:t>فوائد التخطيط الإستراتيجي ومنافعه وأهميته</a:t>
            </a:r>
            <a:endParaRPr b="0" lang="en-US" sz="2800" spc="-1" strike="noStrike">
              <a:solidFill>
                <a:srgbClr val="ffffff"/>
              </a:solidFill>
              <a:latin typeface="Arial"/>
            </a:endParaRPr>
          </a:p>
        </p:txBody>
      </p:sp>
      <p:graphicFrame>
        <p:nvGraphicFramePr>
          <p:cNvPr id="698" name=""/>
          <p:cNvGraphicFramePr/>
          <p:nvPr/>
        </p:nvGraphicFramePr>
        <p:xfrm>
          <a:off x="3995640" y="2637000"/>
          <a:ext cx="4318200" cy="533160"/>
        </p:xfrm>
        <a:graphic>
          <a:graphicData uri="http://schemas.openxmlformats.org/drawingml/2006/table">
            <a:tbl>
              <a:tblPr/>
              <a:tblGrid>
                <a:gridCol w="3218040"/>
                <a:gridCol w="1100160"/>
              </a:tblGrid>
              <a:tr h="8924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Times New Roman"/>
                          <a:cs typeface="Simplified Arabic"/>
                        </a:rPr>
                        <a:t>الاستخدام الأمثل للموارد</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33cc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Verdana"/>
                          <a:cs typeface="Simplified Arabic"/>
                        </a:rPr>
                        <a:t>أولاً</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699" name="Rectangle 12"/>
          <p:cNvSpPr/>
          <p:nvPr/>
        </p:nvSpPr>
        <p:spPr>
          <a:xfrm>
            <a:off x="1042920" y="3513600"/>
            <a:ext cx="7315200" cy="17024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61616"/>
                </a:solidFill>
                <a:latin typeface="Arial"/>
                <a:cs typeface="Simplified Arabic"/>
              </a:rPr>
              <a:t>يعتبر التخطيط الإستراتيجي بمثابة الأداة التي يتم  من خلالها أو بواسطتها تحقيق التناغم التام بين مختلف الأنشطة في المؤسسة، ومن خلال هذا التناغم يتم إدارة الموارد البشرية والمالية والطبيعية بشكل فعال</a:t>
            </a:r>
            <a:r>
              <a:rPr b="0" lang="ar-SA" sz="2200" spc="-1" strike="noStrike">
                <a:solidFill>
                  <a:srgbClr val="161616"/>
                </a:solidFill>
                <a:latin typeface="Arial"/>
                <a:ea typeface="Simplified Arabic"/>
              </a:rPr>
              <a:t>.</a:t>
            </a:r>
            <a:endParaRPr b="0" lang="en-US" sz="2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0" name="Rectangle 2"/>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Rectangle 3"/>
          <p:cNvSpPr/>
          <p:nvPr/>
        </p:nvSpPr>
        <p:spPr>
          <a:xfrm>
            <a:off x="457200" y="2436840"/>
            <a:ext cx="8224920" cy="1300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Arial"/>
                <a:cs typeface="Simplified Arabic"/>
              </a:rPr>
              <a:t>يوفر التخطيط الإستراتيجي الأرضية المناسبة لقياس أداء المؤسسة، حيث يتم اعتماد معايير واضحة لقياس الأداء في ضوء الأهداف المحددة المرسومة في الخطة الإستراتيجية للمؤسسة</a:t>
            </a:r>
            <a:r>
              <a:rPr b="0" lang="ar-SA" sz="2200" spc="-1" strike="noStrike">
                <a:solidFill>
                  <a:srgbClr val="002060"/>
                </a:solidFill>
                <a:latin typeface="Arial"/>
                <a:ea typeface="Simplified Arabic"/>
              </a:rPr>
              <a:t>.</a:t>
            </a:r>
            <a:endParaRPr b="0" lang="en-US" sz="2200" spc="-1" strike="noStrike">
              <a:solidFill>
                <a:srgbClr val="ffffff"/>
              </a:solidFill>
              <a:latin typeface="Arial"/>
            </a:endParaRPr>
          </a:p>
        </p:txBody>
      </p:sp>
      <p:graphicFrame>
        <p:nvGraphicFramePr>
          <p:cNvPr id="702" name=""/>
          <p:cNvGraphicFramePr/>
          <p:nvPr/>
        </p:nvGraphicFramePr>
        <p:xfrm>
          <a:off x="4952880" y="1676520"/>
          <a:ext cx="3657600" cy="533160"/>
        </p:xfrm>
        <a:graphic>
          <a:graphicData uri="http://schemas.openxmlformats.org/drawingml/2006/table">
            <a:tbl>
              <a:tblPr/>
              <a:tblGrid>
                <a:gridCol w="2725920"/>
                <a:gridCol w="931680"/>
              </a:tblGrid>
              <a:tr h="533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Times New Roman"/>
                          <a:cs typeface="Simplified Arabic"/>
                        </a:rPr>
                        <a:t>قياس الأداء</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33cc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Verdana"/>
                          <a:cs typeface="Simplified Arabic"/>
                        </a:rPr>
                        <a:t>ثانياً</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33cccc"/>
                    </a:solidFill>
                  </a:tcPr>
                </a:tc>
              </a:tr>
            </a:tbl>
          </a:graphicData>
        </a:graphic>
      </p:graphicFrame>
      <p:graphicFrame>
        <p:nvGraphicFramePr>
          <p:cNvPr id="703" name=""/>
          <p:cNvGraphicFramePr/>
          <p:nvPr/>
        </p:nvGraphicFramePr>
        <p:xfrm>
          <a:off x="4067280" y="3819600"/>
          <a:ext cx="4543200" cy="761760"/>
        </p:xfrm>
        <a:graphic>
          <a:graphicData uri="http://schemas.openxmlformats.org/drawingml/2006/table">
            <a:tbl>
              <a:tblPr/>
              <a:tblGrid>
                <a:gridCol w="3417840"/>
                <a:gridCol w="1125360"/>
              </a:tblGrid>
              <a:tr h="1084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Times New Roman"/>
                          <a:cs typeface="Simplified Arabic"/>
                        </a:rPr>
                        <a:t>تحديد الأولويات الاستراتيجية</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33cc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Verdana"/>
                          <a:cs typeface="Simplified Arabic"/>
                        </a:rPr>
                        <a:t>ثالثاً</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33cccc"/>
                    </a:solidFill>
                  </a:tcPr>
                </a:tc>
              </a:tr>
            </a:tbl>
          </a:graphicData>
        </a:graphic>
      </p:graphicFrame>
      <p:sp>
        <p:nvSpPr>
          <p:cNvPr id="704" name="Rectangle 21"/>
          <p:cNvSpPr/>
          <p:nvPr/>
        </p:nvSpPr>
        <p:spPr>
          <a:xfrm>
            <a:off x="380880" y="4691160"/>
            <a:ext cx="8301240" cy="15685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Arial"/>
                <a:cs typeface="Simplified Arabic"/>
              </a:rPr>
              <a:t>من ضمن المهام الرئيسية للتخطيط الإستراتيجي تأتي مهمة وضع الأوليات العامة للمؤسسة، ومن ثم التركيز على هذه الأولويات، وتختلف أولويات المؤسسة من مرحلة إلى أخرى باختلاف الظروف السائدة في كل مرحلة</a:t>
            </a:r>
            <a:r>
              <a:rPr b="0" lang="ar-SA" sz="2200" spc="-1" strike="noStrike">
                <a:solidFill>
                  <a:srgbClr val="002060"/>
                </a:solidFill>
                <a:latin typeface="Arial"/>
                <a:ea typeface="Simplified Arabic"/>
              </a:rPr>
              <a:t>.</a:t>
            </a:r>
            <a:endParaRPr b="0" lang="en-US" sz="2200" spc="-1" strike="noStrike">
              <a:solidFill>
                <a:srgbClr val="ffffff"/>
              </a:solidFill>
              <a:latin typeface="Arial"/>
            </a:endParaRPr>
          </a:p>
        </p:txBody>
      </p:sp>
      <p:sp>
        <p:nvSpPr>
          <p:cNvPr id="705" name="Oval 3"/>
          <p:cNvSpPr/>
          <p:nvPr/>
        </p:nvSpPr>
        <p:spPr>
          <a:xfrm>
            <a:off x="1835280" y="333360"/>
            <a:ext cx="5486400" cy="1066680"/>
          </a:xfrm>
          <a:prstGeom prst="ellipse">
            <a:avLst/>
          </a:prstGeom>
          <a:solidFill>
            <a:srgbClr val="ffcc66">
              <a:alpha val="60000"/>
            </a:srgbClr>
          </a:solidFill>
          <a:ln w="44280">
            <a:solidFill>
              <a:srgbClr val="33cc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b76"/>
                </a:solidFill>
                <a:latin typeface="Times New Roman"/>
                <a:cs typeface="Simplified Arabic"/>
              </a:rPr>
              <a:t>فوائد التخطيط الإستراتيجي ومنافعه وأهميته</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6" name="Rectangle 2"/>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7" name="Rectangle 3"/>
          <p:cNvSpPr/>
          <p:nvPr/>
        </p:nvSpPr>
        <p:spPr>
          <a:xfrm>
            <a:off x="533520" y="2589480"/>
            <a:ext cx="8072280" cy="8312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Arial"/>
                <a:cs typeface="Simplified Arabic"/>
              </a:rPr>
              <a:t>يوفر التخطيط الإستراتيجي أرضية جيدة لبناء اتصالات متكاملة بين الوحدات المختلفة في المؤسسة</a:t>
            </a:r>
            <a:r>
              <a:rPr b="0" lang="ar-SA" sz="2200" spc="-1" strike="noStrike">
                <a:solidFill>
                  <a:srgbClr val="002060"/>
                </a:solidFill>
                <a:latin typeface="Arial"/>
                <a:ea typeface="Simplified Arabic"/>
              </a:rPr>
              <a:t>.</a:t>
            </a:r>
            <a:endParaRPr b="0" lang="en-US" sz="2200" spc="-1" strike="noStrike">
              <a:solidFill>
                <a:srgbClr val="ffffff"/>
              </a:solidFill>
              <a:latin typeface="Arial"/>
            </a:endParaRPr>
          </a:p>
        </p:txBody>
      </p:sp>
      <p:graphicFrame>
        <p:nvGraphicFramePr>
          <p:cNvPr id="708" name=""/>
          <p:cNvGraphicFramePr/>
          <p:nvPr/>
        </p:nvGraphicFramePr>
        <p:xfrm>
          <a:off x="4114800" y="1676520"/>
          <a:ext cx="4419720" cy="761760"/>
        </p:xfrm>
        <a:graphic>
          <a:graphicData uri="http://schemas.openxmlformats.org/drawingml/2006/table">
            <a:tbl>
              <a:tblPr/>
              <a:tblGrid>
                <a:gridCol w="3294000"/>
                <a:gridCol w="1125720"/>
              </a:tblGrid>
              <a:tr h="1084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Times New Roman"/>
                          <a:cs typeface="Simplified Arabic"/>
                        </a:rPr>
                        <a:t>توضيح قنوات الاتصال</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33cc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Verdana"/>
                          <a:cs typeface="Simplified Arabic"/>
                        </a:rPr>
                        <a:t>رابعاً</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33cccc"/>
                    </a:solidFill>
                  </a:tcPr>
                </a:tc>
              </a:tr>
            </a:tbl>
          </a:graphicData>
        </a:graphic>
      </p:graphicFrame>
      <p:graphicFrame>
        <p:nvGraphicFramePr>
          <p:cNvPr id="709" name=""/>
          <p:cNvGraphicFramePr/>
          <p:nvPr/>
        </p:nvGraphicFramePr>
        <p:xfrm>
          <a:off x="4114800" y="3505320"/>
          <a:ext cx="4419720" cy="761760"/>
        </p:xfrm>
        <a:graphic>
          <a:graphicData uri="http://schemas.openxmlformats.org/drawingml/2006/table">
            <a:tbl>
              <a:tblPr/>
              <a:tblGrid>
                <a:gridCol w="3409920"/>
                <a:gridCol w="1009800"/>
              </a:tblGrid>
              <a:tr h="1084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Verdana"/>
                          <a:cs typeface="Simplified Arabic"/>
                        </a:rPr>
                        <a:t>المــشــــاركـة</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33cc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Verdana"/>
                          <a:cs typeface="Simplified Arabic"/>
                        </a:rPr>
                        <a:t>خامساً</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33cccc"/>
                    </a:solidFill>
                  </a:tcPr>
                </a:tc>
              </a:tr>
            </a:tbl>
          </a:graphicData>
        </a:graphic>
      </p:graphicFrame>
      <p:sp>
        <p:nvSpPr>
          <p:cNvPr id="710" name="Rectangle 21"/>
          <p:cNvSpPr/>
          <p:nvPr/>
        </p:nvSpPr>
        <p:spPr>
          <a:xfrm>
            <a:off x="380880" y="3681000"/>
            <a:ext cx="8234640" cy="3043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Arial"/>
                <a:cs typeface="Simplified Arabic"/>
              </a:rPr>
              <a:t>يؤدي التخطيط الإستراتيجي إلى خلق شعور عام لدى العاملين في المؤسسة بالمشاركة في</a:t>
            </a:r>
            <a:r>
              <a:rPr b="0" lang="ar-SA" sz="2200" spc="-1" strike="noStrike">
                <a:solidFill>
                  <a:srgbClr val="002060"/>
                </a:solidFill>
                <a:latin typeface="Arial"/>
                <a:ea typeface="Simplified Arabic"/>
              </a:rPr>
              <a:t> </a:t>
            </a:r>
            <a:endParaRPr b="0" lang="en-US" sz="22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Arial"/>
                <a:cs typeface="Simplified Arabic"/>
              </a:rPr>
              <a:t>تحديد أهدافها وبالتالي يؤدي ذلك إلى تحسين ورفع الروح المعنوية للعاملين في المؤسسة</a:t>
            </a:r>
            <a:r>
              <a:rPr b="0" lang="ar-SA" sz="2200" spc="-1" strike="noStrike">
                <a:solidFill>
                  <a:srgbClr val="002060"/>
                </a:solidFill>
                <a:latin typeface="Arial"/>
                <a:cs typeface="Simplified Arabic"/>
              </a:rPr>
              <a:t>،</a:t>
            </a:r>
            <a:endParaRPr b="0" lang="en-US" sz="22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Arial"/>
                <a:cs typeface="Simplified Arabic"/>
              </a:rPr>
              <a:t>إذ عندما يشارك العاملون في المؤسسة إعداد الخطة الإستراتيجية لها فإن ذلك سيؤدي</a:t>
            </a:r>
            <a:endParaRPr b="0" lang="en-US" sz="22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Arial"/>
                <a:cs typeface="Simplified Arabic"/>
              </a:rPr>
              <a:t>إلى خلق شعور بالرضا لديهم ويدفعهم لبذل أقصى جهد لديهم لتحقيق الأهداف المرسومة</a:t>
            </a:r>
            <a:r>
              <a:rPr b="0" lang="en-US" sz="2200" spc="-1" strike="noStrike">
                <a:solidFill>
                  <a:srgbClr val="002060"/>
                </a:solidFill>
                <a:latin typeface="Arial"/>
                <a:ea typeface="Simplified Arabic"/>
              </a:rPr>
              <a:t> </a:t>
            </a:r>
            <a:endParaRPr b="0" lang="en-US" sz="2200" spc="-1" strike="noStrike">
              <a:solidFill>
                <a:srgbClr val="ffffff"/>
              </a:solidFill>
              <a:latin typeface="Arial"/>
            </a:endParaRPr>
          </a:p>
        </p:txBody>
      </p:sp>
      <p:sp>
        <p:nvSpPr>
          <p:cNvPr id="711" name="Oval 3"/>
          <p:cNvSpPr/>
          <p:nvPr/>
        </p:nvSpPr>
        <p:spPr>
          <a:xfrm>
            <a:off x="1835280" y="333360"/>
            <a:ext cx="5486400" cy="1066680"/>
          </a:xfrm>
          <a:prstGeom prst="ellipse">
            <a:avLst/>
          </a:prstGeom>
          <a:solidFill>
            <a:srgbClr val="ffcc66">
              <a:alpha val="60000"/>
            </a:srgbClr>
          </a:solidFill>
          <a:ln w="44280">
            <a:solidFill>
              <a:srgbClr val="33cc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b76"/>
                </a:solidFill>
                <a:latin typeface="Times New Roman"/>
                <a:cs typeface="Simplified Arabic"/>
              </a:rPr>
              <a:t>فوائد التخطيط الإستراتيجي ومنافعه وأهميته</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Rectangle 2"/>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3" name="Rectangle 3"/>
          <p:cNvSpPr/>
          <p:nvPr/>
        </p:nvSpPr>
        <p:spPr>
          <a:xfrm>
            <a:off x="609480" y="4951800"/>
            <a:ext cx="8072640" cy="109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Arial"/>
                <a:cs typeface="Simplified Arabic"/>
              </a:rPr>
              <a:t>تساعد عملية التحليل الشامل للبيئة الداخلية على معرفة نقاط القوة الضعف للمؤسسة، مما يمكن من تحليل أسباب القوة وتعزيزها وتعميمها، وكذلك تحليل أسباب الضعف وإيجاد الحلول الملائمة لها</a:t>
            </a:r>
            <a:r>
              <a:rPr b="0" lang="ar-SA" sz="2200" spc="-1" strike="noStrike">
                <a:solidFill>
                  <a:srgbClr val="002060"/>
                </a:solidFill>
                <a:latin typeface="Arial"/>
                <a:ea typeface="Simplified Arabic"/>
              </a:rPr>
              <a:t>.</a:t>
            </a:r>
            <a:endParaRPr b="0" lang="en-US" sz="2200" spc="-1" strike="noStrike">
              <a:solidFill>
                <a:srgbClr val="ffffff"/>
              </a:solidFill>
              <a:latin typeface="Arial"/>
            </a:endParaRPr>
          </a:p>
        </p:txBody>
      </p:sp>
      <p:graphicFrame>
        <p:nvGraphicFramePr>
          <p:cNvPr id="714" name=""/>
          <p:cNvGraphicFramePr/>
          <p:nvPr/>
        </p:nvGraphicFramePr>
        <p:xfrm>
          <a:off x="1763640" y="1676520"/>
          <a:ext cx="6846840" cy="761760"/>
        </p:xfrm>
        <a:graphic>
          <a:graphicData uri="http://schemas.openxmlformats.org/drawingml/2006/table">
            <a:tbl>
              <a:tblPr/>
              <a:tblGrid>
                <a:gridCol w="5110200"/>
                <a:gridCol w="1736640"/>
              </a:tblGrid>
              <a:tr h="1084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Verdana"/>
                          <a:cs typeface="Simplified Arabic"/>
                        </a:rPr>
                        <a:t>أخذ الحيطة للمشاكل والعقبات قبل وقوعها</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33cc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Verdana"/>
                          <a:cs typeface="Simplified Arabic"/>
                        </a:rPr>
                        <a:t>سادساً</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33cccc"/>
                    </a:solidFill>
                  </a:tcPr>
                </a:tc>
              </a:tr>
            </a:tbl>
          </a:graphicData>
        </a:graphic>
      </p:graphicFrame>
      <p:sp>
        <p:nvSpPr>
          <p:cNvPr id="715" name="Rectangle 12"/>
          <p:cNvSpPr/>
          <p:nvPr/>
        </p:nvSpPr>
        <p:spPr>
          <a:xfrm>
            <a:off x="533520" y="2481480"/>
            <a:ext cx="8224560" cy="15685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Arial"/>
                <a:cs typeface="Simplified Arabic"/>
              </a:rPr>
              <a:t>إن عملية تحليل البيئة الداخلية والخارجية للمؤسسة تساعدها على التنبؤ بالمتغيرات المتوقع حصولها في المستقبل، وبالتالي يتم اتخاذ الإجراءات الوقائية التي تساعد على تقليل درجة المخاطرة التي قد تنتج عند حصول هذه المتغيرات</a:t>
            </a:r>
            <a:endParaRPr b="0" lang="en-US" sz="2200" spc="-1" strike="noStrike">
              <a:solidFill>
                <a:srgbClr val="ffffff"/>
              </a:solidFill>
              <a:latin typeface="Arial"/>
            </a:endParaRPr>
          </a:p>
        </p:txBody>
      </p:sp>
      <p:graphicFrame>
        <p:nvGraphicFramePr>
          <p:cNvPr id="716" name=""/>
          <p:cNvGraphicFramePr/>
          <p:nvPr/>
        </p:nvGraphicFramePr>
        <p:xfrm>
          <a:off x="2987640" y="3962520"/>
          <a:ext cx="5699160" cy="914400"/>
        </p:xfrm>
        <a:graphic>
          <a:graphicData uri="http://schemas.openxmlformats.org/drawingml/2006/table">
            <a:tbl>
              <a:tblPr/>
              <a:tblGrid>
                <a:gridCol w="4248360"/>
                <a:gridCol w="1450800"/>
              </a:tblGrid>
              <a:tr h="13284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Verdana"/>
                          <a:cs typeface="Simplified Arabic"/>
                        </a:rPr>
                        <a:t>التعرف على نقاط الضعف والقوة</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33cc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Verdana"/>
                          <a:cs typeface="Simplified Arabic"/>
                        </a:rPr>
                        <a:t>سابعاً</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33cccc"/>
                    </a:solidFill>
                  </a:tcPr>
                </a:tc>
              </a:tr>
            </a:tbl>
          </a:graphicData>
        </a:graphic>
      </p:graphicFrame>
      <p:pic>
        <p:nvPicPr>
          <p:cNvPr id="717" name="Picture 22" descr=""/>
          <p:cNvPicPr/>
          <p:nvPr/>
        </p:nvPicPr>
        <p:blipFill>
          <a:blip r:embed="rId1"/>
          <a:stretch/>
        </p:blipFill>
        <p:spPr>
          <a:xfrm>
            <a:off x="1371600" y="3581280"/>
            <a:ext cx="1371600" cy="1371600"/>
          </a:xfrm>
          <a:prstGeom prst="rect">
            <a:avLst/>
          </a:prstGeom>
          <a:ln w="0">
            <a:noFill/>
          </a:ln>
        </p:spPr>
      </p:pic>
      <p:sp>
        <p:nvSpPr>
          <p:cNvPr id="718" name="Oval 3"/>
          <p:cNvSpPr/>
          <p:nvPr/>
        </p:nvSpPr>
        <p:spPr>
          <a:xfrm>
            <a:off x="1835280" y="333360"/>
            <a:ext cx="5486400" cy="1066680"/>
          </a:xfrm>
          <a:prstGeom prst="ellipse">
            <a:avLst/>
          </a:prstGeom>
          <a:solidFill>
            <a:srgbClr val="ffcc66">
              <a:alpha val="60000"/>
            </a:srgbClr>
          </a:solidFill>
          <a:ln w="44280">
            <a:solidFill>
              <a:srgbClr val="33cc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b76"/>
                </a:solidFill>
                <a:latin typeface="Times New Roman"/>
                <a:cs typeface="Simplified Arabic"/>
              </a:rPr>
              <a:t>فوائد التخطيط الإستراتيجي ومنافعه وأهميته</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5T09:52:09Z</dcterms:created>
  <dc:creator>Noor</dc:creator>
  <dc:description/>
  <dc:language>en-US</dc:language>
  <cp:lastModifiedBy>na</cp:lastModifiedBy>
  <dcterms:modified xsi:type="dcterms:W3CDTF">2015-06-23T18:41:30Z</dcterms:modified>
  <cp:revision>1</cp:revision>
  <dc:subject/>
  <dc:title>Slide 1</dc:title>
</cp:coreProperties>
</file>