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6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1"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6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4"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5"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95D9-8C84-483A-BCA2-46744184132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229E-65E5-4E27-A887-7FE8B874ADD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D4F8-0D95-48EA-90FC-3F1BB7FB484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FF59-B251-4EBC-B0C4-28CD866100F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7983-4667-4FD2-B25C-223247A50F0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0AE3A-D11C-407C-A29D-18ADF924D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08870-EC06-4C51-88B5-31521F3E5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11A118-758F-49AE-A2F0-BE151FCD43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9123E4-1AB9-45C7-80AD-8A198DED54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CD33D0-3008-414C-909B-D5B2D1B7A4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5AA7F3-6B73-4F60-B38A-3E4CCEBA8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798F7A-39DC-45D2-B684-54F19FBEC7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A11E0-CB3E-4792-8DB8-883066661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7172E-6758-49FC-AC9F-944C96E9D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95FF87-2CF1-4B5E-BAFA-F99BDEA69F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51BB7C-FE13-486B-8D4E-31642F79B2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54EE37-FEA9-4E47-8F4B-DEF1AC6842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83C3A-AF5E-4BAB-A3CD-8BAB9324F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11F020-99A7-41C1-B5B6-ECBBD01DAC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B830A9-13DB-4CA9-9008-9B06782B29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0EBE70-AC2F-4CBD-9DE2-B9F3BFD345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713BE6-D9FB-4DB0-9E07-56B91AE15A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4E8A1C-13E1-4855-A7DE-86461D7198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2CADEE-DECA-4302-81C3-7ABA65131A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0209AA-C302-4068-BF0E-B8D4BC7EE5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9907C1-C4DF-41D1-AC0E-1FA484FB35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2E2221-72DA-4672-81AF-304F3C007E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F1C3D6-45CE-4CF8-B3D3-42BA09A066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3A421-7F13-4911-95D2-1157CACE1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7C5B23-723E-43DD-8543-0B45225309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CC1544-1230-4CEE-B0B0-AC940B8739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95C3EB-6593-4B7C-9F44-596227085F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C875F2-3A5F-4FF2-8B09-26C3FD7125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AA826F-52AD-46C9-B7E5-807D13FB1A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ECA81D-7AD5-4A13-B998-6CEC722AFF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092F69-ED44-4126-88F7-0FA1F80F71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E8F45B-A342-41FA-9AD2-0A6EF0DAE8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328806-8B3A-4C38-93ED-121E243A5D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02B34E-8D52-4344-A978-C752E7C5D3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6B5FD-6AB6-46D8-91EC-BCCC8867B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5E9345-E2EA-41BA-8E3D-6B55D2CFC8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3C9B82-69C5-48D7-A02F-5C32DAD4C4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3365A5-7B08-4ED3-96FB-A5FD08AF7D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E61EBF-D30F-42FD-BF64-C4691F88919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535D15-ACDD-4CE8-9722-D17A43421D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D49DA9-D62D-4845-B7BC-AA6CBDD1AD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D14417-0E76-4A6A-89F9-17492DDA82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369EC1-15E5-4435-A565-4223B1C823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5867AE-847A-4D27-9409-AC43DF557D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22053A-339E-4533-8440-0C32E90C7F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8C19D-DF56-408A-AF73-E678A77A2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7D3752-7FA2-400E-9D12-DD1C84EE27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390A4C-B29E-4BCA-92A5-C9673C286F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BF3A53-80C6-4FF6-AC64-41E492D7CB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5EA594-D32F-4C57-998A-5B7728A21A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A301A8-304F-48C8-9F23-A9AD1417CD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2C506CA-DBDC-41E3-9AE2-23C9262261A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E5EC28-8479-4BDD-B152-4B8DF71331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47F9E3-12C2-4797-9EB2-982F4A28E3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0DF222-C7B5-4FC0-B721-61259F6E27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E140B0-EC6C-4B4A-8DE4-4F767D538E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E34B1-3F98-4B6E-B9D4-E9F57BBB6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FC0297-49C7-4B8B-A28D-F0B8F8798D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E28378-D839-41EE-B803-249A76C522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DEA1E0-A353-4194-A7A1-3FB844D58C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706D1F-AFE2-4C9D-91F7-BBB9CACABD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2CFC21-2DAE-4D82-8D4F-F75D353E2D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D05DAF-26A8-43CA-8D51-691154F5D9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9912F0-BFFD-40F6-BFA1-32AC30C4EB1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D559AF-920F-4559-A29D-669853FF42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18E483-00CE-497B-B837-88E2B250EE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F2D928-329E-4D8E-8F4D-CE7242D9B64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6A1BE-4241-48B8-89EC-FDA98C0FA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ADEAA1-071F-40DA-8963-B053D4DE9B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CCC0FC-D003-4B92-AE9D-2FBFC2E841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F5516B-E441-4FD7-B4AA-D3A209556F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0F61F5-2EAD-46F5-91F7-40C36C830C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65F7B0-BFBA-4A62-8341-B4BC6C4A85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02008E-3897-4FE5-B4E7-3D40091585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939FD1-4B74-4DF9-9139-C3242DEFDB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30A6F95-E128-46FC-B4AB-F59A5A516D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9FFD92-FE7B-4FB2-9CDE-3C77E1E4767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7F795F6-D9C4-4032-BCC1-2052E29161F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592C2-7B35-4FE2-BD5A-920EB83BA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268138-619A-425B-93CA-5BF726227F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F3723C5-2F82-48C4-98D8-D83F17817F0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C46F38-864E-4B88-AE7C-D48BB6B22D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D187F3-73E8-4903-A50B-0415B784CA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DEE136-0C6B-43F5-962D-8674DD4D98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1CB8F7-2B3A-4768-A0F0-08AFBAA1D5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893DA3D-B2A6-43E4-A65A-D146DBF84B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76EDC4-B00C-4533-AB71-05BE5BD539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F5980A-163B-4E17-8062-F7FF0C5903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C2C94E6-1AAB-4E4F-BCCD-7809F48AD3F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E0991-9658-483D-B1FF-095F60D15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03A2A34-664F-454C-80DD-017C580DF7B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2C405-1E81-4098-A1B5-41DD92940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CEEB6-ADC9-4316-8783-434848C13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DD3F1-52FD-4319-9BA6-6E2D3B5BA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B647E-561F-4DEF-8E43-993635450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75E4B-1B83-4EC8-A310-0B82E366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E58AE-ACA3-4B28-8113-94C30A090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9CBD6-337A-44E3-9963-2680AD953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25185-5BEB-46EB-9D24-FB937F7932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F3AC55-9887-4279-8404-09059F258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BB297-066F-4C05-9B25-9F03D5E2E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F89EC-100B-4096-973C-E9043EFAD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10A7D-EF24-4ED8-BFB8-1DB00C497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9AD60-7B1C-41F5-B67E-B639CC5B4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6CE21-2D25-4266-85BE-9200D4A9D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4D501-0381-408D-9713-CB0F0A401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6987C-3D1F-412E-931F-7A1E4558D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A571C-0F79-4231-8BC0-01065F47FD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F3893-10DF-430D-8601-414988B0F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F5D1F-EF71-4EE6-BFD0-27467F172B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853828-3A06-4E6F-863B-3EEE31A351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7F7D33-7A00-4C8E-823A-323DE9B4D9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0386A-4ED4-4394-875E-1D3EFD815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49600A-2CBB-4423-83CE-00A8918D3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FDB1-E40C-4408-97ED-52AB094EB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53005E-C088-4207-B724-37EE78CD2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74FC46-E94F-4249-9347-17A406E5E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5CC97-8504-47D3-A0BE-B4C4B5D27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EC6D9-BE7D-493E-981F-263EE634E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C6EE8-C1DC-42D9-901B-6F15074CD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0B0BD-4BD9-4E2E-B64E-0709EE116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9E84F3-8770-4249-8E2D-118F8901C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9262C8-909D-45B1-BC7D-44FCC0296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B55DC2-99AD-402B-8B48-234B29C0B7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697308-1EEE-4D54-9E99-E741C558B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8F35-17DE-4BB2-9F10-57ECD202E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318EA-DDEE-44A2-99E3-67969D0228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58FF3-3559-4163-A167-20C5D82115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56DCC-CD38-435E-AFE1-F0203A8698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06785-79B9-48E0-9C12-E71EFDD12B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D9521-46C1-42E8-8889-7BF61576B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CA1C2-C989-4B27-BDDF-661EBA66A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F6AF9-74A3-4A9E-ADDA-4D98ABF71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36F98-1591-4246-948A-DFEB582BA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96B4D-648A-41E0-AF69-94845668D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110B45-59A6-40F5-8CAF-536DD3C7A8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D6367-21C8-42A2-9BBD-24086D62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81EF0D-3BD6-4698-801E-EEF2B92F20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B540E3-A987-463F-B7A1-5D2E2752A3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9E752-B090-4EA4-947C-EC264539AB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69A03B-4E88-4B9E-A7E5-0A7C1E413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1BA6A7-6AE0-4A65-A4C6-8A31D6E92E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1887F4-5A27-4BB9-9E75-3E9B993174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F7279D-1923-43DC-A773-34C99762C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EBAFB-F182-4370-97D6-02728BE6E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D170F-0CD4-4EFB-9A1A-576622F2BA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2E48C-ECF4-4243-90D7-7BDB0E834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CBAD-D814-418A-9ACB-ED6A912F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4818C-5646-46D5-9329-13C33EDA4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5D5C7B-FD47-457C-85A7-35BC78055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21A893-7509-435E-B248-9F0CF90A4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C54AA1-6EB5-4FC8-885E-C7A3E2CF9C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BA2726-406D-45A9-914A-C967B9281A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1D20B8-59EA-4D76-B1A5-30A2A4CB67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59F7C0-C363-4611-81FB-21ED4690E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E222F-F08D-460C-98B7-FADDCC510D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98E1C0-39C5-4CC5-A2B9-7F0D4C97D4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CFCC8-AC74-4679-8622-0775C1684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6C94-EEF5-46F0-82C0-5663FB68D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DC95C-A5D8-48F2-974C-07C748EDCF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4CDB5-BF24-4ED5-84BC-6470575EE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A6D3ED-BDEE-4F6B-9E3F-F1B819F6A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1FC5CA-1F8B-41BF-B81E-BF8F6E7DA0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3BFB36-4E28-425D-831F-5CC0CA5F5C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2FDC3-98D9-4895-AD05-AB32DE5374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CB55B4-9FBF-4D2B-A7EF-2299BA2064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6B63D-67EE-43EF-9724-291F9BC92C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8C7DBF-7CE4-449B-B265-E748CEC8F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D1778-1A29-4DF9-83E2-B757A7AD69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CB96D-580C-4717-8D41-97DB1F230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76DC63-B434-41BC-840C-46CE7DC0AB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3F8A4-2D55-4495-AFE4-03E760337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9FCE0C-7B06-4CE2-B745-4F1B3C0DD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B84BC5-AB46-44C2-85F5-2574198F3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067B2-64C4-4A31-8BE8-85CC45675E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BC4D35-5291-4937-9884-F919DF7EC6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02188D-08C4-4D3A-B8D4-0AFEEB5328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29EFB7-36BE-4C16-8F75-CE6314E221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5271AB-5018-4C0D-A7A5-2FC7C65438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13137-BC84-440A-AE27-8FB636CB75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BD41-F28A-4311-8152-420B127F67D2}"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5"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2A89-415E-4527-AD70-767A672E9E9C}"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8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5E5F-0EAE-4961-A684-76500CEDD7B6}"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2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62C2-3EBB-4C94-A8B3-6D28BFD97566}"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68"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EF88-0673-451F-A784-7FD31090F531}"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09"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EED8-9673-4600-9D00-AEA3A6217DEA}"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50"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A490E-244A-437A-9F37-7D7EDE328629}" type="slidenum">
              <a:rPr b="0" lang="ar-SA"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1A20-1925-45E7-8FA2-4DD1E9773C2A}"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AA61-70E8-482E-8CB0-ACD9B9E637E5}"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5E06-CAF5-4C28-AA44-78BAABBE6F4D}"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4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4A12-266F-4295-819E-0F9DE9676835}"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8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490F-ED6C-480B-A056-0241637EB996}"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2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B071-41C4-4A9F-9E27-A08FA48DF163}"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63"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879F-D20C-4C3F-9D9E-ABAAF5C32393}"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A1D3-4C90-4433-A7E3-19D3B1DEAD02}" type="slidenum">
              <a:rPr b="0" lang="ar-SA"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6"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Oval 3"/>
          <p:cNvSpPr/>
          <p:nvPr/>
        </p:nvSpPr>
        <p:spPr>
          <a:xfrm>
            <a:off x="1835280" y="69228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graphicFrame>
        <p:nvGraphicFramePr>
          <p:cNvPr id="698" name=""/>
          <p:cNvGraphicFramePr/>
          <p:nvPr/>
        </p:nvGraphicFramePr>
        <p:xfrm>
          <a:off x="3995640" y="2637000"/>
          <a:ext cx="4318200" cy="533160"/>
        </p:xfrm>
        <a:graphic>
          <a:graphicData uri="http://schemas.openxmlformats.org/drawingml/2006/table">
            <a:tbl>
              <a:tblPr/>
              <a:tblGrid>
                <a:gridCol w="3218040"/>
                <a:gridCol w="1100160"/>
              </a:tblGrid>
              <a:tr h="8924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الاستخدام الأمثل للموارد</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أول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699" name="Rectangle 12"/>
          <p:cNvSpPr/>
          <p:nvPr/>
        </p:nvSpPr>
        <p:spPr>
          <a:xfrm>
            <a:off x="1042920" y="3513600"/>
            <a:ext cx="7315200" cy="17024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61616"/>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r>
              <a:rPr b="0" lang="ar-SA" sz="2200" spc="-1" strike="noStrike">
                <a:solidFill>
                  <a:srgbClr val="161616"/>
                </a:solidFill>
                <a:latin typeface="Arial"/>
                <a:ea typeface="Simplified Arabic"/>
              </a:rPr>
              <a:t>.</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3"/>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graphicFrame>
        <p:nvGraphicFramePr>
          <p:cNvPr id="702" name=""/>
          <p:cNvGraphicFramePr/>
          <p:nvPr/>
        </p:nvGraphicFramePr>
        <p:xfrm>
          <a:off x="4952880" y="1676520"/>
          <a:ext cx="3657600" cy="533160"/>
        </p:xfrm>
        <a:graphic>
          <a:graphicData uri="http://schemas.openxmlformats.org/drawingml/2006/table">
            <a:tbl>
              <a:tblPr/>
              <a:tblGrid>
                <a:gridCol w="2725920"/>
                <a:gridCol w="93168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قياس الأداء</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ثاني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graphicFrame>
        <p:nvGraphicFramePr>
          <p:cNvPr id="703" name=""/>
          <p:cNvGraphicFramePr/>
          <p:nvPr/>
        </p:nvGraphicFramePr>
        <p:xfrm>
          <a:off x="4067280" y="3819600"/>
          <a:ext cx="4543200" cy="761760"/>
        </p:xfrm>
        <a:graphic>
          <a:graphicData uri="http://schemas.openxmlformats.org/drawingml/2006/table">
            <a:tbl>
              <a:tblPr/>
              <a:tblGrid>
                <a:gridCol w="3417840"/>
                <a:gridCol w="112536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تحديد الأولويات الاستراتيجية</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ثالث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sp>
        <p:nvSpPr>
          <p:cNvPr id="704" name="Rectangle 21"/>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sp>
        <p:nvSpPr>
          <p:cNvPr id="705" name="Oval 3"/>
          <p:cNvSpPr/>
          <p:nvPr/>
        </p:nvSpPr>
        <p:spPr>
          <a:xfrm>
            <a:off x="1835280" y="33336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Rectangle 3"/>
          <p:cNvSpPr/>
          <p:nvPr/>
        </p:nvSpPr>
        <p:spPr>
          <a:xfrm>
            <a:off x="533520" y="2589480"/>
            <a:ext cx="8072280" cy="831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يوفر التخطيط الإستراتيجي أرضية جيدة لبناء اتصالات متكاملة بين الوحدات المختلفة في المؤسسة</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graphicFrame>
        <p:nvGraphicFramePr>
          <p:cNvPr id="708" name=""/>
          <p:cNvGraphicFramePr/>
          <p:nvPr/>
        </p:nvGraphicFramePr>
        <p:xfrm>
          <a:off x="4114800" y="1676520"/>
          <a:ext cx="4419720" cy="761760"/>
        </p:xfrm>
        <a:graphic>
          <a:graphicData uri="http://schemas.openxmlformats.org/drawingml/2006/table">
            <a:tbl>
              <a:tblPr/>
              <a:tblGrid>
                <a:gridCol w="3294000"/>
                <a:gridCol w="112572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Times New Roman"/>
                          <a:cs typeface="Simplified Arabic"/>
                        </a:rPr>
                        <a:t>توضيح قنوات الاتصال</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رابع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graphicFrame>
        <p:nvGraphicFramePr>
          <p:cNvPr id="709" name=""/>
          <p:cNvGraphicFramePr/>
          <p:nvPr/>
        </p:nvGraphicFramePr>
        <p:xfrm>
          <a:off x="4114800" y="3505320"/>
          <a:ext cx="4419720" cy="761760"/>
        </p:xfrm>
        <a:graphic>
          <a:graphicData uri="http://schemas.openxmlformats.org/drawingml/2006/table">
            <a:tbl>
              <a:tblPr/>
              <a:tblGrid>
                <a:gridCol w="3409920"/>
                <a:gridCol w="100980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المــشــــاركـة</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خامس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sp>
        <p:nvSpPr>
          <p:cNvPr id="710" name="Rectangle 21"/>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يؤدي التخطيط الإستراتيجي إلى خلق شعور عام لدى العاملين في المؤسسة بالمشاركة في</a:t>
            </a:r>
            <a:r>
              <a:rPr b="0" lang="ar-SA" sz="2200" spc="-1" strike="noStrike">
                <a:solidFill>
                  <a:srgbClr val="002060"/>
                </a:solidFill>
                <a:latin typeface="Arial"/>
                <a:ea typeface="Simplified Arabic"/>
              </a:rPr>
              <a:t> </a:t>
            </a:r>
            <a:endParaRPr b="0" lang="en-US" sz="2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تحديد أهدافها وبالتالي يؤدي ذلك إلى تحسين ورفع الروح المعنوية للعاملين في المؤسسة</a:t>
            </a:r>
            <a:r>
              <a:rPr b="0" lang="ar-SA" sz="2200" spc="-1" strike="noStrike">
                <a:solidFill>
                  <a:srgbClr val="002060"/>
                </a:solidFill>
                <a:latin typeface="Arial"/>
                <a:cs typeface="Simplified Arabic"/>
              </a:rPr>
              <a:t>،</a:t>
            </a:r>
            <a:endParaRPr b="0" lang="en-US" sz="2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إلى خلق شعور بالرضا لديهم ويدفعهم لبذل أقصى جهد لديهم لتحقيق الأهداف المرسومة</a:t>
            </a:r>
            <a:r>
              <a:rPr b="0" lang="en-US" sz="2200" spc="-1" strike="noStrike">
                <a:solidFill>
                  <a:srgbClr val="002060"/>
                </a:solidFill>
                <a:latin typeface="Arial"/>
                <a:ea typeface="Simplified Arabic"/>
              </a:rPr>
              <a:t> </a:t>
            </a:r>
            <a:endParaRPr b="0" lang="en-US" sz="2200" spc="-1" strike="noStrike">
              <a:solidFill>
                <a:srgbClr val="ffffff"/>
              </a:solidFill>
              <a:latin typeface="Arial"/>
            </a:endParaRPr>
          </a:p>
        </p:txBody>
      </p:sp>
      <p:sp>
        <p:nvSpPr>
          <p:cNvPr id="711" name="Oval 3"/>
          <p:cNvSpPr/>
          <p:nvPr/>
        </p:nvSpPr>
        <p:spPr>
          <a:xfrm>
            <a:off x="1835280" y="33336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Rectangle 2"/>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3" name="Rectangle 3"/>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r>
              <a:rPr b="0" lang="ar-SA" sz="2200" spc="-1" strike="noStrike">
                <a:solidFill>
                  <a:srgbClr val="002060"/>
                </a:solidFill>
                <a:latin typeface="Arial"/>
                <a:ea typeface="Simplified Arabic"/>
              </a:rPr>
              <a:t>.</a:t>
            </a:r>
            <a:endParaRPr b="0" lang="en-US" sz="2200" spc="-1" strike="noStrike">
              <a:solidFill>
                <a:srgbClr val="ffffff"/>
              </a:solidFill>
              <a:latin typeface="Arial"/>
            </a:endParaRPr>
          </a:p>
        </p:txBody>
      </p:sp>
      <p:graphicFrame>
        <p:nvGraphicFramePr>
          <p:cNvPr id="714" name=""/>
          <p:cNvGraphicFramePr/>
          <p:nvPr/>
        </p:nvGraphicFramePr>
        <p:xfrm>
          <a:off x="1763640" y="1676520"/>
          <a:ext cx="6846840" cy="761760"/>
        </p:xfrm>
        <a:graphic>
          <a:graphicData uri="http://schemas.openxmlformats.org/drawingml/2006/table">
            <a:tbl>
              <a:tblPr/>
              <a:tblGrid>
                <a:gridCol w="5110200"/>
                <a:gridCol w="1736640"/>
              </a:tblGrid>
              <a:tr h="1084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أخذ الحيطة للمشاكل والعقبات قبل وقوعه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سادس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sp>
        <p:nvSpPr>
          <p:cNvPr id="715" name="Rectangle 12"/>
          <p:cNvSpPr/>
          <p:nvPr/>
        </p:nvSpPr>
        <p:spPr>
          <a:xfrm>
            <a:off x="533520" y="2481480"/>
            <a:ext cx="8224560" cy="1568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206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ffffff"/>
              </a:solidFill>
              <a:latin typeface="Arial"/>
            </a:endParaRPr>
          </a:p>
        </p:txBody>
      </p:sp>
      <p:graphicFrame>
        <p:nvGraphicFramePr>
          <p:cNvPr id="716" name=""/>
          <p:cNvGraphicFramePr/>
          <p:nvPr/>
        </p:nvGraphicFramePr>
        <p:xfrm>
          <a:off x="2987640" y="3962520"/>
          <a:ext cx="5699160" cy="914400"/>
        </p:xfrm>
        <a:graphic>
          <a:graphicData uri="http://schemas.openxmlformats.org/drawingml/2006/table">
            <a:tbl>
              <a:tblPr/>
              <a:tblGrid>
                <a:gridCol w="4248360"/>
                <a:gridCol w="1450800"/>
              </a:tblGrid>
              <a:tr h="13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التعرف على نقاط الضعف والقوة</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b76"/>
                          </a:solidFill>
                          <a:latin typeface="Verdana"/>
                          <a:cs typeface="Simplified Arabic"/>
                        </a:rPr>
                        <a:t>سابعاً</a:t>
                      </a:r>
                      <a:endParaRPr b="0" lang="en-US" sz="27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33cccc"/>
                    </a:solidFill>
                  </a:tcPr>
                </a:tc>
              </a:tr>
            </a:tbl>
          </a:graphicData>
        </a:graphic>
      </p:graphicFrame>
      <p:pic>
        <p:nvPicPr>
          <p:cNvPr id="717" name="Picture 22" descr=""/>
          <p:cNvPicPr/>
          <p:nvPr/>
        </p:nvPicPr>
        <p:blipFill>
          <a:blip r:embed="rId1"/>
          <a:stretch/>
        </p:blipFill>
        <p:spPr>
          <a:xfrm>
            <a:off x="1371600" y="3581280"/>
            <a:ext cx="1371600" cy="1371600"/>
          </a:xfrm>
          <a:prstGeom prst="rect">
            <a:avLst/>
          </a:prstGeom>
          <a:ln w="0">
            <a:noFill/>
          </a:ln>
        </p:spPr>
      </p:pic>
      <p:sp>
        <p:nvSpPr>
          <p:cNvPr id="718" name="Oval 3"/>
          <p:cNvSpPr/>
          <p:nvPr/>
        </p:nvSpPr>
        <p:spPr>
          <a:xfrm>
            <a:off x="1835280" y="333360"/>
            <a:ext cx="5486400" cy="1066680"/>
          </a:xfrm>
          <a:prstGeom prst="ellipse">
            <a:avLst/>
          </a:prstGeom>
          <a:solidFill>
            <a:srgbClr val="ffcc66">
              <a:alpha val="60000"/>
            </a:srgbClr>
          </a:solidFill>
          <a:ln w="44280">
            <a:solidFill>
              <a:srgbClr val="33cc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b76"/>
                </a:solidFill>
                <a:latin typeface="Times New Roman"/>
                <a:cs typeface="Simplified Arabic"/>
              </a:rPr>
              <a:t>فوائد التخطيط الإستراتيجي ومنافعه وأهميته</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09:52:09Z</dcterms:created>
  <dc:creator>Noor</dc:creator>
  <dc:description/>
  <dc:language>en-US</dc:language>
  <cp:lastModifiedBy>na</cp:lastModifiedBy>
  <dcterms:modified xsi:type="dcterms:W3CDTF">2015-06-23T18:41:30Z</dcterms:modified>
  <cp:revision>1</cp:revision>
  <dc:subject/>
  <dc:title>Slide 1</dc:title>
</cp:coreProperties>
</file>