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png" ContentType="image/png"/>
  <Override PartName="/ppt/media/image47.jpeg" ContentType="image/jpeg"/>
  <Override PartName="/ppt/media/image46.jpeg" ContentType="image/jpeg"/>
  <Override PartName="/ppt/media/image58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57.png" ContentType="image/png"/>
  <Override PartName="/ppt/media/image36.jpeg" ContentType="image/jpeg"/>
  <Override PartName="/ppt/media/image32.jpeg" ContentType="image/jpeg"/>
  <Override PartName="/ppt/media/image31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93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2.jpeg" ContentType="image/jpe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59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30.png" ContentType="image/png"/>
  <Override PartName="/ppt/media/image99.png" ContentType="image/png"/>
  <Override PartName="/ppt/media/image98.png" ContentType="image/png"/>
  <Override PartName="/ppt/media/image61.png" ContentType="image/png"/>
  <Override PartName="/ppt/media/image77.jpeg" ContentType="image/jpeg"/>
  <Override PartName="/ppt/media/image74.png" ContentType="image/png"/>
  <Override PartName="/ppt/media/image16.jpeg" ContentType="image/jpeg"/>
  <Override PartName="/ppt/media/image97.png" ContentType="image/png"/>
  <Override PartName="/ppt/media/image60.png" ContentType="image/png"/>
  <Override PartName="/ppt/media/image73.png" ContentType="image/png"/>
  <Override PartName="/ppt/media/image79.png" ContentType="image/png"/>
  <Override PartName="/ppt/media/image68.jpeg" ContentType="image/jpeg"/>
  <Override PartName="/ppt/media/image96.png" ContentType="image/png"/>
  <Override PartName="/ppt/media/image70.jpeg" ContentType="image/jpeg"/>
  <Override PartName="/ppt/media/image72.png" ContentType="image/png"/>
  <Override PartName="/ppt/media/image23.png" ContentType="image/png"/>
  <Override PartName="/ppt/media/image95.png" ContentType="image/png"/>
  <Override PartName="/ppt/media/image89.png" ContentType="image/png"/>
  <Override PartName="/ppt/media/image69.jpeg" ContentType="image/jpeg"/>
  <Override PartName="/ppt/media/image78.png" ContentType="image/png"/>
  <Override PartName="/ppt/media/image71.png" ContentType="image/png"/>
  <Override PartName="/ppt/media/image25.png" ContentType="image/png"/>
  <Override PartName="/ppt/media/image90.png" ContentType="image/png"/>
  <Override PartName="/ppt/media/image88.png" ContentType="image/png"/>
  <Override PartName="/ppt/media/image18.jpeg" ContentType="image/jpeg"/>
  <Override PartName="/ppt/media/image63.jpeg" ContentType="image/jpeg"/>
  <Override PartName="/ppt/media/image29.png" ContentType="image/png"/>
  <Override PartName="/ppt/media/image94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17.jpeg" ContentType="image/jpeg"/>
  <Override PartName="/ppt/media/image86.jpeg" ContentType="image/jpeg"/>
  <Override PartName="/ppt/media/image10.jpeg" ContentType="image/jpeg"/>
  <Override PartName="/ppt/media/image24.png" ContentType="image/png"/>
  <Override PartName="/ppt/media/image11.jpeg" ContentType="image/jpeg"/>
  <Override PartName="/ppt/media/image87.jpeg" ContentType="image/jpeg"/>
  <Override PartName="/ppt/media/image14.png" ContentType="image/png"/>
  <Override PartName="/ppt/media/image2.png" ContentType="image/png"/>
  <Override PartName="/ppt/media/image92.png" ContentType="image/png"/>
  <Override PartName="/ppt/media/image27.png" ContentType="image/png"/>
  <Override PartName="/ppt/media/image33.jpeg" ContentType="image/jpeg"/>
  <Override PartName="/ppt/media/image81.png" ContentType="image/png"/>
  <Override PartName="/ppt/media/image4.png" ContentType="image/png"/>
  <Override PartName="/ppt/media/image42.jpeg" ContentType="image/jpeg"/>
  <Override PartName="/ppt/media/image83.png" ContentType="image/png"/>
  <Override PartName="/ppt/media/image6.png" ContentType="image/png"/>
  <Override PartName="/ppt/media/image84.png" ContentType="image/png"/>
  <Override PartName="/ppt/media/image62.jpeg" ContentType="image/jpeg"/>
  <Override PartName="/ppt/media/image7.png" ContentType="image/png"/>
  <Override PartName="/ppt/media/image3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68B-31D9-4864-BCB9-9E8CE04F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416-9E03-4744-A0FB-EBB77FB4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5BA-53BB-4D74-8519-06CE7F22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7DB-FE52-4839-9125-4B295FE2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311-CFAC-4254-8204-DB877893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CBC-3B0D-4FAA-BCE2-04EB69F2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6CE-BFC8-4244-A303-CDD64566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1A21-4680-490C-9B08-95A722BE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AFE-5256-4144-B690-566AC709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7C8-ECEB-49CE-A66A-4762F491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DC4-EA13-4FF9-9B83-8D6497AD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68F4-77E1-40BF-8A14-09F46919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2207-0D80-49B2-AF43-48E2A93DECD4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jpeg"/><Relationship Id="rId8" Type="http://schemas.openxmlformats.org/officeDocument/2006/relationships/image" Target="../media/image63.jpeg"/><Relationship Id="rId9" Type="http://schemas.openxmlformats.org/officeDocument/2006/relationships/image" Target="../media/image64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28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image" Target="../media/image70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jpeg"/><Relationship Id="rId6" Type="http://schemas.openxmlformats.org/officeDocument/2006/relationships/image" Target="../media/image76.jpeg"/><Relationship Id="rId7" Type="http://schemas.openxmlformats.org/officeDocument/2006/relationships/image" Target="../media/image77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png"/><Relationship Id="rId3" Type="http://schemas.openxmlformats.org/officeDocument/2006/relationships/image" Target="../media/image7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95.png"/><Relationship Id="rId7" Type="http://schemas.openxmlformats.org/officeDocument/2006/relationships/image" Target="../media/image96.png"/><Relationship Id="rId8" Type="http://schemas.openxmlformats.org/officeDocument/2006/relationships/image" Target="../media/image97.png"/><Relationship Id="rId9" Type="http://schemas.openxmlformats.org/officeDocument/2006/relationships/image" Target="../media/image98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7"/>
          <a:stretch/>
        </p:blipFill>
        <p:spPr>
          <a:xfrm>
            <a:off x="171360" y="1968480"/>
            <a:ext cx="2247840" cy="404172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8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11" descr=""/>
          <p:cNvPicPr/>
          <p:nvPr/>
        </p:nvPicPr>
        <p:blipFill>
          <a:blip r:embed="rId10"/>
          <a:stretch/>
        </p:blipFill>
        <p:spPr>
          <a:xfrm>
            <a:off x="2998800" y="5200560"/>
            <a:ext cx="571824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9"/>
          <p:cNvGrpSpPr/>
          <p:nvPr/>
        </p:nvGrpSpPr>
        <p:grpSpPr>
          <a:xfrm>
            <a:off x="0" y="0"/>
            <a:ext cx="9144000" cy="7500600"/>
            <a:chOff x="0" y="0"/>
            <a:chExt cx="9144000" cy="7500600"/>
          </a:xfrm>
        </p:grpSpPr>
        <p:sp>
          <p:nvSpPr>
            <p:cNvPr id="138" name="TextBox 4"/>
            <p:cNvSpPr/>
            <p:nvPr/>
          </p:nvSpPr>
          <p:spPr>
            <a:xfrm>
              <a:off x="0" y="0"/>
              <a:ext cx="9144000" cy="750060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Group 6"/>
            <p:cNvGrpSpPr/>
            <p:nvPr/>
          </p:nvGrpSpPr>
          <p:grpSpPr>
            <a:xfrm>
              <a:off x="1357200" y="285480"/>
              <a:ext cx="6715080" cy="1657800"/>
              <a:chOff x="1357200" y="285480"/>
              <a:chExt cx="6715080" cy="1657800"/>
            </a:xfrm>
          </p:grpSpPr>
          <p:grpSp>
            <p:nvGrpSpPr>
              <p:cNvPr id="140" name="TextBox 5"/>
              <p:cNvGrpSpPr/>
              <p:nvPr/>
            </p:nvGrpSpPr>
            <p:grpSpPr>
              <a:xfrm>
                <a:off x="1357200" y="285480"/>
                <a:ext cx="6715080" cy="1218240"/>
                <a:chOff x="1357200" y="285480"/>
                <a:chExt cx="6715080" cy="1218240"/>
              </a:xfrm>
            </p:grpSpPr>
            <p:pic>
              <p:nvPicPr>
                <p:cNvPr id="141" name="TextBox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57200" y="285480"/>
                  <a:ext cx="6715080" cy="1200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1409040" y="312480"/>
                  <a:ext cx="661068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3" name="Rectangle 3"/>
              <p:cNvGrpSpPr/>
              <p:nvPr/>
            </p:nvGrpSpPr>
            <p:grpSpPr>
              <a:xfrm>
                <a:off x="1693080" y="508680"/>
                <a:ext cx="6114960" cy="1434600"/>
                <a:chOff x="1693080" y="508680"/>
                <a:chExt cx="6114960" cy="1434600"/>
              </a:xfrm>
            </p:grpSpPr>
            <p:pic>
              <p:nvPicPr>
                <p:cNvPr id="144" name="Rectangl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95600" y="508680"/>
                  <a:ext cx="6112080" cy="70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>
                  <a:off x="1693080" y="508680"/>
                  <a:ext cx="6114960" cy="143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400" spc="-1" strike="noStrike">
                      <a:solidFill>
                        <a:srgbClr val="ffff00"/>
                      </a:solidFill>
                      <a:latin typeface="Calibri"/>
                      <a:cs typeface="Times New Roman"/>
                    </a:rPr>
                    <a:t>العوامل المحددة للعرض السياحي 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46" name="Group 10"/>
          <p:cNvGrpSpPr/>
          <p:nvPr/>
        </p:nvGrpSpPr>
        <p:grpSpPr>
          <a:xfrm>
            <a:off x="5029560" y="1785960"/>
            <a:ext cx="3751560" cy="716040"/>
            <a:chOff x="5029560" y="1785960"/>
            <a:chExt cx="3751560" cy="716040"/>
          </a:xfrm>
        </p:grpSpPr>
        <p:grpSp>
          <p:nvGrpSpPr>
            <p:cNvPr id="147" name="Rectangle 7"/>
            <p:cNvGrpSpPr/>
            <p:nvPr/>
          </p:nvGrpSpPr>
          <p:grpSpPr>
            <a:xfrm>
              <a:off x="5029560" y="1785960"/>
              <a:ext cx="3751560" cy="716040"/>
              <a:chOff x="5029560" y="1785960"/>
              <a:chExt cx="3751560" cy="716040"/>
            </a:xfrm>
          </p:grpSpPr>
          <p:pic>
            <p:nvPicPr>
              <p:cNvPr id="148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648400" y="1785960"/>
                <a:ext cx="25318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5029560" y="1859400"/>
                <a:ext cx="375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ffffff"/>
                    </a:solidFill>
                    <a:latin typeface="Calibri"/>
                  </a:rPr>
                  <a:t>العامل الطبيعي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Rectangle 8"/>
            <p:cNvGrpSpPr/>
            <p:nvPr/>
          </p:nvGrpSpPr>
          <p:grpSpPr>
            <a:xfrm>
              <a:off x="7920720" y="1785960"/>
              <a:ext cx="794520" cy="716040"/>
              <a:chOff x="7920720" y="1785960"/>
              <a:chExt cx="794520" cy="716040"/>
            </a:xfrm>
          </p:grpSpPr>
          <p:pic>
            <p:nvPicPr>
              <p:cNvPr id="151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720" y="1785960"/>
                <a:ext cx="794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8091000" y="185940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53" name="Picture 2" descr="http://www.chatal3nabi.com/vb/imgcache/2/23725chatal3nabi.jpg"/>
          <p:cNvPicPr/>
          <p:nvPr/>
        </p:nvPicPr>
        <p:blipFill>
          <a:blip r:embed="rId5"/>
          <a:stretch/>
        </p:blipFill>
        <p:spPr>
          <a:xfrm>
            <a:off x="0" y="1714680"/>
            <a:ext cx="3233880" cy="3643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https://encrypted-tbn2.gstatic.com/images?q=tbn:ANd9GcQiCT1VK6DDFNZpIdl2_nRHI16CeAQl_Pd6cXwULGyfmXYhcuKHsQ"/>
          <p:cNvPicPr/>
          <p:nvPr/>
        </p:nvPicPr>
        <p:blipFill>
          <a:blip r:embed="rId6"/>
          <a:stretch/>
        </p:blipFill>
        <p:spPr>
          <a:xfrm>
            <a:off x="2714760" y="4152960"/>
            <a:ext cx="3611520" cy="2705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http://www.girls-top.net/vb/img/girls-top.net_1362254209_514.jpg"/>
          <p:cNvPicPr/>
          <p:nvPr/>
        </p:nvPicPr>
        <p:blipFill>
          <a:blip r:embed="rId7"/>
          <a:stretch/>
        </p:blipFill>
        <p:spPr>
          <a:xfrm>
            <a:off x="5905440" y="5143680"/>
            <a:ext cx="3238560" cy="2428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https://encrypted-tbn3.gstatic.com/images?q=tbn:ANd9GcSpxidZGcYLNhFpNFdcEAqE3hbpsCxCECw9mwcqb0Os4MSf5YpB"/>
          <p:cNvPicPr/>
          <p:nvPr/>
        </p:nvPicPr>
        <p:blipFill>
          <a:blip r:embed="rId8"/>
          <a:srcRect l="0" t="0" r="0" b="14943"/>
          <a:stretch/>
        </p:blipFill>
        <p:spPr>
          <a:xfrm>
            <a:off x="0" y="5572080"/>
            <a:ext cx="3251160" cy="2071800"/>
          </a:xfrm>
          <a:prstGeom prst="rect">
            <a:avLst/>
          </a:prstGeom>
          <a:ln w="0">
            <a:noFill/>
          </a:ln>
        </p:spPr>
      </p:pic>
      <p:grpSp>
        <p:nvGrpSpPr>
          <p:cNvPr id="157" name="Rectangle 15"/>
          <p:cNvGrpSpPr/>
          <p:nvPr/>
        </p:nvGrpSpPr>
        <p:grpSpPr>
          <a:xfrm>
            <a:off x="5110200" y="4248000"/>
            <a:ext cx="2637360" cy="963720"/>
            <a:chOff x="5110200" y="4248000"/>
            <a:chExt cx="2637360" cy="963720"/>
          </a:xfrm>
        </p:grpSpPr>
        <p:pic>
          <p:nvPicPr>
            <p:cNvPr id="158" name="Rectangle 15" descr=""/>
            <p:cNvPicPr/>
            <p:nvPr/>
          </p:nvPicPr>
          <p:blipFill>
            <a:blip r:embed="rId9"/>
            <a:stretch/>
          </p:blipFill>
          <p:spPr>
            <a:xfrm>
              <a:off x="5303880" y="4248000"/>
              <a:ext cx="225576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110200" y="4357800"/>
              <a:ext cx="263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علاقة طرد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Rectangle 16"/>
          <p:cNvSpPr/>
          <p:nvPr/>
        </p:nvSpPr>
        <p:spPr>
          <a:xfrm>
            <a:off x="3071880" y="2714760"/>
            <a:ext cx="5715000" cy="180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منطقة الغنية بالمعالم السياحية الطبيعية تشكل عامل استقطاب لاستثمار رؤوس الأموال في الأنشطة السياح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0" y="0"/>
            <a:ext cx="9144000" cy="7500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http://media1.arabia.msn.com/medialib/2013/8/25/0_7038950.jpg"/>
          <p:cNvPicPr/>
          <p:nvPr/>
        </p:nvPicPr>
        <p:blipFill>
          <a:blip r:embed="rId1"/>
          <a:stretch/>
        </p:blipFill>
        <p:spPr>
          <a:xfrm>
            <a:off x="0" y="0"/>
            <a:ext cx="53308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7"/>
          <p:cNvGrpSpPr/>
          <p:nvPr/>
        </p:nvGrpSpPr>
        <p:grpSpPr>
          <a:xfrm>
            <a:off x="3648960" y="500040"/>
            <a:ext cx="5427720" cy="716400"/>
            <a:chOff x="3648960" y="500040"/>
            <a:chExt cx="5427720" cy="716400"/>
          </a:xfrm>
        </p:grpSpPr>
        <p:grpSp>
          <p:nvGrpSpPr>
            <p:cNvPr id="164" name="Rectangle 4"/>
            <p:cNvGrpSpPr/>
            <p:nvPr/>
          </p:nvGrpSpPr>
          <p:grpSpPr>
            <a:xfrm>
              <a:off x="3648960" y="500040"/>
              <a:ext cx="5427720" cy="716400"/>
              <a:chOff x="3648960" y="500040"/>
              <a:chExt cx="5427720" cy="716400"/>
            </a:xfrm>
          </p:grpSpPr>
          <p:pic>
            <p:nvPicPr>
              <p:cNvPr id="165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4464000" y="500040"/>
                <a:ext cx="38257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3648960" y="573840"/>
                <a:ext cx="5427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ffffff"/>
                    </a:solidFill>
                    <a:latin typeface="Calibri"/>
                  </a:rPr>
                  <a:t>أسعار المنتوج السياحي</a:t>
                </a:r>
                <a:r>
                  <a:rPr b="0" lang="ar-SA" sz="36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7" name="Rectangle 5"/>
            <p:cNvGrpSpPr/>
            <p:nvPr/>
          </p:nvGrpSpPr>
          <p:grpSpPr>
            <a:xfrm>
              <a:off x="7968960" y="500040"/>
              <a:ext cx="829080" cy="716400"/>
              <a:chOff x="7968960" y="500040"/>
              <a:chExt cx="829080" cy="716400"/>
            </a:xfrm>
          </p:grpSpPr>
          <p:pic>
            <p:nvPicPr>
              <p:cNvPr id="168" name="Rectangl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968960" y="500040"/>
                <a:ext cx="8290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8159040" y="5738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70" name="Rectangle 6"/>
          <p:cNvSpPr/>
          <p:nvPr/>
        </p:nvSpPr>
        <p:spPr>
          <a:xfrm>
            <a:off x="3357720" y="1571760"/>
            <a:ext cx="5357520" cy="222696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زيادة الأسعار تعني زيادة الأرباح والتي تعدّ من أهم العوامل لاستقطاب المستثمرين في صناعة السياح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Rectangle 9"/>
          <p:cNvGrpSpPr/>
          <p:nvPr/>
        </p:nvGrpSpPr>
        <p:grpSpPr>
          <a:xfrm>
            <a:off x="-34200" y="2822400"/>
            <a:ext cx="2637360" cy="963720"/>
            <a:chOff x="-34200" y="2822400"/>
            <a:chExt cx="2637360" cy="963720"/>
          </a:xfrm>
        </p:grpSpPr>
        <p:pic>
          <p:nvPicPr>
            <p:cNvPr id="172" name="Rectangle 9" descr=""/>
            <p:cNvPicPr/>
            <p:nvPr/>
          </p:nvPicPr>
          <p:blipFill>
            <a:blip r:embed="rId4"/>
            <a:stretch/>
          </p:blipFill>
          <p:spPr>
            <a:xfrm>
              <a:off x="165240" y="2822400"/>
              <a:ext cx="225396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-34200" y="2928960"/>
              <a:ext cx="263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علاقة طرد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12"/>
          <p:cNvGrpSpPr/>
          <p:nvPr/>
        </p:nvGrpSpPr>
        <p:grpSpPr>
          <a:xfrm>
            <a:off x="4086360" y="3643200"/>
            <a:ext cx="4876200" cy="714960"/>
            <a:chOff x="4086360" y="3643200"/>
            <a:chExt cx="4876200" cy="714960"/>
          </a:xfrm>
        </p:grpSpPr>
        <p:grpSp>
          <p:nvGrpSpPr>
            <p:cNvPr id="175" name="Rectangle 10"/>
            <p:cNvGrpSpPr/>
            <p:nvPr/>
          </p:nvGrpSpPr>
          <p:grpSpPr>
            <a:xfrm>
              <a:off x="4086360" y="3643200"/>
              <a:ext cx="4876200" cy="714960"/>
              <a:chOff x="4086360" y="3643200"/>
              <a:chExt cx="4876200" cy="714960"/>
            </a:xfrm>
          </p:grpSpPr>
          <p:pic>
            <p:nvPicPr>
              <p:cNvPr id="176" name="Rectangl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4786200" y="3643200"/>
                <a:ext cx="35089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4086360" y="3715560"/>
                <a:ext cx="4876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ffffff"/>
                    </a:solidFill>
                    <a:latin typeface="Calibri"/>
                  </a:rPr>
                  <a:t>تكاليف عوامل الانتاج</a:t>
                </a:r>
                <a:r>
                  <a:rPr b="0" lang="ar-SA" sz="36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8" name="Rectangle 11"/>
            <p:cNvGrpSpPr/>
            <p:nvPr/>
          </p:nvGrpSpPr>
          <p:grpSpPr>
            <a:xfrm>
              <a:off x="7977240" y="3643200"/>
              <a:ext cx="822240" cy="714960"/>
              <a:chOff x="7977240" y="3643200"/>
              <a:chExt cx="822240" cy="714960"/>
            </a:xfrm>
          </p:grpSpPr>
          <p:pic>
            <p:nvPicPr>
              <p:cNvPr id="179" name="Rectangl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7977240" y="3643200"/>
                <a:ext cx="82224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8160120" y="37155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1" name="Group 16"/>
          <p:cNvGrpSpPr/>
          <p:nvPr/>
        </p:nvGrpSpPr>
        <p:grpSpPr>
          <a:xfrm>
            <a:off x="0" y="4071960"/>
            <a:ext cx="8643960" cy="3419280"/>
            <a:chOff x="0" y="4071960"/>
            <a:chExt cx="8643960" cy="3419280"/>
          </a:xfrm>
        </p:grpSpPr>
        <p:pic>
          <p:nvPicPr>
            <p:cNvPr id="182" name="Picture 4" descr="https://encrypted-tbn2.gstatic.com/images?q=tbn:ANd9GcROKqeEvWmtoN_j2b7s9_2H4lOV_2JL-EIPT0ZNhhH23HfxzVyG"/>
            <p:cNvPicPr/>
            <p:nvPr/>
          </p:nvPicPr>
          <p:blipFill>
            <a:blip r:embed="rId7"/>
            <a:stretch/>
          </p:blipFill>
          <p:spPr>
            <a:xfrm>
              <a:off x="0" y="4071960"/>
              <a:ext cx="4565160" cy="34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13"/>
            <p:cNvSpPr/>
            <p:nvPr/>
          </p:nvSpPr>
          <p:spPr>
            <a:xfrm>
              <a:off x="3786120" y="4643280"/>
              <a:ext cx="4857840" cy="1373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إنخفاض التكاليف مع بقاء أثمان المنتوج السياحي ثابتة يعني زيادة الأرباح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Rectangle 15"/>
          <p:cNvGrpSpPr/>
          <p:nvPr/>
        </p:nvGrpSpPr>
        <p:grpSpPr>
          <a:xfrm>
            <a:off x="3889440" y="6162840"/>
            <a:ext cx="2734920" cy="963360"/>
            <a:chOff x="3889440" y="6162840"/>
            <a:chExt cx="2734920" cy="963360"/>
          </a:xfrm>
        </p:grpSpPr>
        <p:pic>
          <p:nvPicPr>
            <p:cNvPr id="185" name="Rectangle 15" descr=""/>
            <p:cNvPicPr/>
            <p:nvPr/>
          </p:nvPicPr>
          <p:blipFill>
            <a:blip r:embed="rId8"/>
            <a:stretch/>
          </p:blipFill>
          <p:spPr>
            <a:xfrm>
              <a:off x="4091040" y="6162840"/>
              <a:ext cx="234000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889440" y="6273720"/>
              <a:ext cx="27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علاقة عكس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3"/>
          <p:cNvSpPr/>
          <p:nvPr/>
        </p:nvSpPr>
        <p:spPr>
          <a:xfrm>
            <a:off x="0" y="0"/>
            <a:ext cx="9144000" cy="7500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721800" y="500040"/>
            <a:ext cx="8972640" cy="716400"/>
            <a:chOff x="721800" y="500040"/>
            <a:chExt cx="8972640" cy="716400"/>
          </a:xfrm>
        </p:grpSpPr>
        <p:grpSp>
          <p:nvGrpSpPr>
            <p:cNvPr id="189" name="Rectangle 4"/>
            <p:cNvGrpSpPr/>
            <p:nvPr/>
          </p:nvGrpSpPr>
          <p:grpSpPr>
            <a:xfrm>
              <a:off x="721800" y="500040"/>
              <a:ext cx="8972640" cy="716400"/>
              <a:chOff x="721800" y="500040"/>
              <a:chExt cx="8972640" cy="716400"/>
            </a:xfrm>
          </p:grpSpPr>
          <p:pic>
            <p:nvPicPr>
              <p:cNvPr id="190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190600" y="500040"/>
                <a:ext cx="60807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721800" y="573840"/>
                <a:ext cx="8972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إ</a:t>
                </a:r>
                <a:r>
                  <a:rPr b="1" lang="ar-SA" sz="3600" spc="-1" strike="noStrike">
                    <a:solidFill>
                      <a:srgbClr val="ffffff"/>
                    </a:solidFill>
                    <a:latin typeface="Calibri"/>
                  </a:rPr>
                  <a:t>ستخدام الوسائل التكنولوجية المتطورة</a:t>
                </a:r>
                <a:r>
                  <a:rPr b="0" lang="ar-SA" sz="36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2" name="Rectangle 5"/>
            <p:cNvGrpSpPr/>
            <p:nvPr/>
          </p:nvGrpSpPr>
          <p:grpSpPr>
            <a:xfrm>
              <a:off x="7939440" y="500040"/>
              <a:ext cx="858600" cy="716400"/>
              <a:chOff x="7939440" y="500040"/>
              <a:chExt cx="858600" cy="716400"/>
            </a:xfrm>
          </p:grpSpPr>
          <p:pic>
            <p:nvPicPr>
              <p:cNvPr id="193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7939440" y="500040"/>
                <a:ext cx="85860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8143920" y="5738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95" name="Picture 4" descr="http://s.alriyadh.com/2012/08/30/img/381737916497.jpg"/>
          <p:cNvPicPr/>
          <p:nvPr/>
        </p:nvPicPr>
        <p:blipFill>
          <a:blip r:embed="rId3"/>
          <a:stretch/>
        </p:blipFill>
        <p:spPr>
          <a:xfrm>
            <a:off x="4929120" y="3803760"/>
            <a:ext cx="4286160" cy="3768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store.a7lashe.com/upfile/images/3ed411db81c.jpg"/>
          <p:cNvPicPr/>
          <p:nvPr/>
        </p:nvPicPr>
        <p:blipFill>
          <a:blip r:embed="rId4"/>
          <a:stretch/>
        </p:blipFill>
        <p:spPr>
          <a:xfrm>
            <a:off x="0" y="3852720"/>
            <a:ext cx="5572080" cy="3724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428760" y="1571760"/>
            <a:ext cx="8286480" cy="308016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مجتمع الذي على درجة عالية من التطور ولديه الوسائل التكنولوجية ذات الكفاءة الانتاجية العالية، فمن الممكن أن يسخرها خدمة للنشاط السياحي، وبالتالي فإن هذا يعني أن التكنولوجيا تحقق (إقتصاد الوقت ، تحسين النوعية ، زيادة الطاقة الانتاجية ، إنخفاض التكاليف وزيادة الأربا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Rectangle 10"/>
          <p:cNvGrpSpPr/>
          <p:nvPr/>
        </p:nvGrpSpPr>
        <p:grpSpPr>
          <a:xfrm>
            <a:off x="2966040" y="3822840"/>
            <a:ext cx="2637360" cy="961920"/>
            <a:chOff x="2966040" y="3822840"/>
            <a:chExt cx="2637360" cy="961920"/>
          </a:xfrm>
        </p:grpSpPr>
        <p:pic>
          <p:nvPicPr>
            <p:cNvPr id="199" name="Rectangle 10" descr=""/>
            <p:cNvPicPr/>
            <p:nvPr/>
          </p:nvPicPr>
          <p:blipFill>
            <a:blip r:embed="rId5"/>
            <a:stretch/>
          </p:blipFill>
          <p:spPr>
            <a:xfrm>
              <a:off x="3164040" y="3822840"/>
              <a:ext cx="22557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966040" y="3929040"/>
              <a:ext cx="263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علاقة طرد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0" y="0"/>
            <a:ext cx="9144000" cy="7500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Group 7"/>
          <p:cNvGrpSpPr/>
          <p:nvPr/>
        </p:nvGrpSpPr>
        <p:grpSpPr>
          <a:xfrm>
            <a:off x="-1180080" y="500040"/>
            <a:ext cx="11327040" cy="716400"/>
            <a:chOff x="-1180080" y="500040"/>
            <a:chExt cx="11327040" cy="716400"/>
          </a:xfrm>
        </p:grpSpPr>
        <p:grpSp>
          <p:nvGrpSpPr>
            <p:cNvPr id="203" name="Rectangle 4"/>
            <p:cNvGrpSpPr/>
            <p:nvPr/>
          </p:nvGrpSpPr>
          <p:grpSpPr>
            <a:xfrm>
              <a:off x="-1180080" y="500040"/>
              <a:ext cx="11327040" cy="716400"/>
              <a:chOff x="-1180080" y="500040"/>
              <a:chExt cx="11327040" cy="716400"/>
            </a:xfrm>
          </p:grpSpPr>
          <p:pic>
            <p:nvPicPr>
              <p:cNvPr id="204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500040"/>
                <a:ext cx="75027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-1180080" y="573840"/>
                <a:ext cx="11327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ffffff"/>
                    </a:solidFill>
                    <a:latin typeface="Calibri"/>
                  </a:rPr>
                  <a:t>أهداف المؤسسات المشرفة على النشاط السياحي</a:t>
                </a:r>
                <a:r>
                  <a:rPr b="0" lang="ar-SA" sz="36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6" name="Rectangle 5"/>
            <p:cNvGrpSpPr/>
            <p:nvPr/>
          </p:nvGrpSpPr>
          <p:grpSpPr>
            <a:xfrm>
              <a:off x="7928640" y="500040"/>
              <a:ext cx="869400" cy="716400"/>
              <a:chOff x="7928640" y="500040"/>
              <a:chExt cx="869400" cy="716400"/>
            </a:xfrm>
          </p:grpSpPr>
          <p:pic>
            <p:nvPicPr>
              <p:cNvPr id="20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7928640" y="500040"/>
                <a:ext cx="86940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8138880" y="5738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9" name="Group 15"/>
          <p:cNvGrpSpPr/>
          <p:nvPr/>
        </p:nvGrpSpPr>
        <p:grpSpPr>
          <a:xfrm>
            <a:off x="389520" y="1213920"/>
            <a:ext cx="8323920" cy="1432440"/>
            <a:chOff x="389520" y="1213920"/>
            <a:chExt cx="8323920" cy="1432440"/>
          </a:xfrm>
        </p:grpSpPr>
        <p:sp>
          <p:nvSpPr>
            <p:cNvPr id="210" name="Right Brace 12"/>
            <p:cNvSpPr/>
            <p:nvPr/>
          </p:nvSpPr>
          <p:spPr>
            <a:xfrm rot="16200000">
              <a:off x="4198680" y="-511560"/>
              <a:ext cx="650520" cy="4101840"/>
            </a:xfrm>
            <a:custGeom>
              <a:avLst/>
              <a:gdLst>
                <a:gd name="textAreaLeft" fmla="*/ 0 w 650520"/>
                <a:gd name="textAreaRight" fmla="*/ 234720 w 650520"/>
                <a:gd name="textAreaTop" fmla="*/ 19080 h 4101840"/>
                <a:gd name="textAreaBottom" fmla="*/ 4082760 h 410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3"/>
                    <a:pt x="10800" y="325"/>
                  </a:cubicBezTo>
                  <a:lnTo>
                    <a:pt x="10800" y="10475"/>
                  </a:lnTo>
                  <a:cubicBezTo>
                    <a:pt x="10800" y="10638"/>
                    <a:pt x="16200" y="10800"/>
                    <a:pt x="21600" y="10800"/>
                  </a:cubicBezTo>
                  <a:cubicBezTo>
                    <a:pt x="16200" y="10800"/>
                    <a:pt x="10800" y="10963"/>
                    <a:pt x="10800" y="11125"/>
                  </a:cubicBezTo>
                  <a:lnTo>
                    <a:pt x="10800" y="21275"/>
                  </a:lnTo>
                  <a:cubicBezTo>
                    <a:pt x="10800" y="21438"/>
                    <a:pt x="5400" y="21600"/>
                    <a:pt x="0" y="21600"/>
                  </a:cubicBezTo>
                </a:path>
              </a:pathLst>
            </a:custGeom>
            <a:noFill/>
            <a:ln w="7632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1" name="Rectangle 13"/>
            <p:cNvGrpSpPr/>
            <p:nvPr/>
          </p:nvGrpSpPr>
          <p:grpSpPr>
            <a:xfrm>
              <a:off x="4477320" y="1763280"/>
              <a:ext cx="4236120" cy="883080"/>
              <a:chOff x="4477320" y="1763280"/>
              <a:chExt cx="4236120" cy="883080"/>
            </a:xfrm>
          </p:grpSpPr>
          <p:pic>
            <p:nvPicPr>
              <p:cNvPr id="212" name="Rectangl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5097240" y="1763280"/>
                <a:ext cx="3018240" cy="88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4477320" y="1864440"/>
                <a:ext cx="4236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ffff00"/>
                    </a:solidFill>
                    <a:latin typeface="Calibri"/>
                  </a:rPr>
                  <a:t>النظام الرأسمالي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4" name="Rectangle 14"/>
            <p:cNvGrpSpPr/>
            <p:nvPr/>
          </p:nvGrpSpPr>
          <p:grpSpPr>
            <a:xfrm>
              <a:off x="389520" y="1707840"/>
              <a:ext cx="4204080" cy="883080"/>
              <a:chOff x="389520" y="1707840"/>
              <a:chExt cx="4204080" cy="883080"/>
            </a:xfrm>
          </p:grpSpPr>
          <p:pic>
            <p:nvPicPr>
              <p:cNvPr id="215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0080" y="1707840"/>
                <a:ext cx="3012480" cy="88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389520" y="1805400"/>
                <a:ext cx="4204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ffff00"/>
                    </a:solidFill>
                    <a:latin typeface="Calibri"/>
                  </a:rPr>
                  <a:t>النظام الاشتراكي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7" name="Rectangle 16"/>
          <p:cNvSpPr/>
          <p:nvPr/>
        </p:nvSpPr>
        <p:spPr>
          <a:xfrm>
            <a:off x="5286240" y="2928960"/>
            <a:ext cx="2857680" cy="5943240"/>
          </a:xfrm>
          <a:prstGeom prst="rect">
            <a:avLst/>
          </a:prstGeom>
          <a:solidFill>
            <a:srgbClr val="ffffff"/>
          </a:solidFill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وافر الربح في القطاع السياحي فسوف يكون محط أنظار المستثمرين ويستقطب رأس المال لبناء المزيد من المنشآت والمشاريع السياح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1000080" y="2928960"/>
            <a:ext cx="2786040" cy="545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عرض السياحي يعتمد على الأهداف المرسومة له من قبل القيادة العليا في البلد، أي يكون مسيّس وواجهة اعلامية فق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8"/>
          <p:cNvGrpSpPr/>
          <p:nvPr/>
        </p:nvGrpSpPr>
        <p:grpSpPr>
          <a:xfrm>
            <a:off x="-203040" y="0"/>
            <a:ext cx="9989280" cy="7500600"/>
            <a:chOff x="-203040" y="0"/>
            <a:chExt cx="9989280" cy="7500600"/>
          </a:xfrm>
        </p:grpSpPr>
        <p:sp>
          <p:nvSpPr>
            <p:cNvPr id="220" name="TextBox 3"/>
            <p:cNvSpPr/>
            <p:nvPr/>
          </p:nvSpPr>
          <p:spPr>
            <a:xfrm>
              <a:off x="0" y="0"/>
              <a:ext cx="9144000" cy="750060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1" name="Rectangle 4"/>
            <p:cNvGrpSpPr/>
            <p:nvPr/>
          </p:nvGrpSpPr>
          <p:grpSpPr>
            <a:xfrm>
              <a:off x="-203040" y="377640"/>
              <a:ext cx="9989280" cy="1066680"/>
              <a:chOff x="-203040" y="377640"/>
              <a:chExt cx="9989280" cy="1066680"/>
            </a:xfrm>
          </p:grpSpPr>
          <p:pic>
            <p:nvPicPr>
              <p:cNvPr id="222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164240" y="377640"/>
                <a:ext cx="732132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-203040" y="499680"/>
                <a:ext cx="9989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ffffff"/>
                    </a:solidFill>
                    <a:latin typeface="Calibri"/>
                  </a:rPr>
                  <a:t>مدى توفر مقومات ومكونات العرض السياحي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4" name="Rectangle 5"/>
            <p:cNvGrpSpPr/>
            <p:nvPr/>
          </p:nvGrpSpPr>
          <p:grpSpPr>
            <a:xfrm>
              <a:off x="8126280" y="377640"/>
              <a:ext cx="914400" cy="1066680"/>
              <a:chOff x="8126280" y="377640"/>
              <a:chExt cx="914400" cy="1066680"/>
            </a:xfrm>
          </p:grpSpPr>
          <p:pic>
            <p:nvPicPr>
              <p:cNvPr id="225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8126280" y="377640"/>
                <a:ext cx="91440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8358120" y="4996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7" name="Content Placeholder 2"/>
          <p:cNvGrpSpPr/>
          <p:nvPr/>
        </p:nvGrpSpPr>
        <p:grpSpPr>
          <a:xfrm>
            <a:off x="407880" y="1511280"/>
            <a:ext cx="8328240" cy="4687920"/>
            <a:chOff x="407880" y="1511280"/>
            <a:chExt cx="8328240" cy="4687920"/>
          </a:xfrm>
        </p:grpSpPr>
        <p:pic>
          <p:nvPicPr>
            <p:cNvPr id="228" name="Content Placeholder 2" descr=""/>
            <p:cNvPicPr/>
            <p:nvPr/>
          </p:nvPicPr>
          <p:blipFill>
            <a:blip r:embed="rId3"/>
            <a:stretch/>
          </p:blipFill>
          <p:spPr>
            <a:xfrm>
              <a:off x="407880" y="1511280"/>
              <a:ext cx="8328240" cy="468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971640" indent="-514440" algn="r" rtl="1">
                <a:lnSpc>
                  <a:spcPct val="100000"/>
                </a:lnSpc>
                <a:spcBef>
                  <a:spcPts val="700"/>
                </a:spcBef>
                <a:buClr>
                  <a:srgbClr val="c00000"/>
                </a:buClr>
                <a:buFont typeface="Calibri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  <a:cs typeface="Arial"/>
                </a:rPr>
                <a:t>الموقع الجغرافي والقرب من البلدان المصدرة للسياح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971640" indent="-514440" algn="r" rtl="1">
                <a:lnSpc>
                  <a:spcPct val="100000"/>
                </a:lnSpc>
                <a:spcBef>
                  <a:spcPts val="700"/>
                </a:spcBef>
                <a:buClr>
                  <a:srgbClr val="c00000"/>
                </a:buClr>
                <a:buFont typeface="Calibri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  <a:cs typeface="Arial"/>
                </a:rPr>
                <a:t>البنى التحتية ومدى تطورها في البلد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971640" indent="-514440" algn="r" rtl="1">
                <a:lnSpc>
                  <a:spcPct val="100000"/>
                </a:lnSpc>
                <a:spcBef>
                  <a:spcPts val="700"/>
                </a:spcBef>
                <a:buClr>
                  <a:srgbClr val="c00000"/>
                </a:buClr>
                <a:buFont typeface="Calibri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  <a:cs typeface="Arial"/>
                </a:rPr>
                <a:t>مدى توافر مقومات الضيافة في البلد وعلى وجه الخصوص الكادر السياحي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971640" indent="-514440" algn="r" rtl="1">
                <a:lnSpc>
                  <a:spcPct val="100000"/>
                </a:lnSpc>
                <a:spcBef>
                  <a:spcPts val="700"/>
                </a:spcBef>
                <a:buClr>
                  <a:srgbClr val="c00000"/>
                </a:buClr>
                <a:buFont typeface="Calibri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  <a:cs typeface="Arial"/>
                </a:rPr>
                <a:t>امكانات البلد التأريخية والتراثية ، ومدى توافر الاماكن التأريخية والاثرية فيها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971640" indent="-514440" algn="r" rtl="1">
                <a:lnSpc>
                  <a:spcPct val="100000"/>
                </a:lnSpc>
                <a:spcBef>
                  <a:spcPts val="700"/>
                </a:spcBef>
                <a:buClr>
                  <a:srgbClr val="c00000"/>
                </a:buClr>
                <a:buFont typeface="Calibri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  <a:cs typeface="Arial"/>
                </a:rPr>
                <a:t>الاماكن المقدسة ومدى توافرها واهميتها لدى الاديان المختلفة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971640" indent="-514440" algn="r" rtl="1">
                <a:lnSpc>
                  <a:spcPct val="100000"/>
                </a:lnSpc>
                <a:spcBef>
                  <a:spcPts val="700"/>
                </a:spcBef>
                <a:buClr>
                  <a:srgbClr val="c00000"/>
                </a:buClr>
                <a:buFont typeface="Calibri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  <a:cs typeface="Arial"/>
                </a:rPr>
                <a:t>شبكة النقل والمواصلات ودرجة تطورها في البلد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0" y="0"/>
            <a:ext cx="9144000" cy="7500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Group 6"/>
          <p:cNvGrpSpPr/>
          <p:nvPr/>
        </p:nvGrpSpPr>
        <p:grpSpPr>
          <a:xfrm>
            <a:off x="1962720" y="500040"/>
            <a:ext cx="7281000" cy="716400"/>
            <a:chOff x="1962720" y="500040"/>
            <a:chExt cx="7281000" cy="716400"/>
          </a:xfrm>
        </p:grpSpPr>
        <p:grpSp>
          <p:nvGrpSpPr>
            <p:cNvPr id="232" name="Rectangle 4"/>
            <p:cNvGrpSpPr/>
            <p:nvPr/>
          </p:nvGrpSpPr>
          <p:grpSpPr>
            <a:xfrm>
              <a:off x="1962720" y="500040"/>
              <a:ext cx="7281000" cy="716400"/>
              <a:chOff x="1962720" y="500040"/>
              <a:chExt cx="7281000" cy="716400"/>
            </a:xfrm>
          </p:grpSpPr>
          <p:pic>
            <p:nvPicPr>
              <p:cNvPr id="233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973240" y="500040"/>
                <a:ext cx="530820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1962720" y="573840"/>
                <a:ext cx="7281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ffffff"/>
                    </a:solidFill>
                    <a:latin typeface="Calibri"/>
                  </a:rPr>
                  <a:t>سياسة الدولة بخصوص الضرائب</a:t>
                </a:r>
                <a:r>
                  <a:rPr b="0" lang="ar-SA" sz="36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Rectangle 5"/>
            <p:cNvGrpSpPr/>
            <p:nvPr/>
          </p:nvGrpSpPr>
          <p:grpSpPr>
            <a:xfrm>
              <a:off x="7946640" y="500040"/>
              <a:ext cx="851400" cy="716400"/>
              <a:chOff x="7946640" y="500040"/>
              <a:chExt cx="851400" cy="716400"/>
            </a:xfrm>
          </p:grpSpPr>
          <p:pic>
            <p:nvPicPr>
              <p:cNvPr id="236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7946640" y="500040"/>
                <a:ext cx="85140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8147520" y="5738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38" name="Rectangle 11"/>
          <p:cNvGrpSpPr/>
          <p:nvPr/>
        </p:nvGrpSpPr>
        <p:grpSpPr>
          <a:xfrm>
            <a:off x="5395680" y="2822400"/>
            <a:ext cx="2637360" cy="963720"/>
            <a:chOff x="5395680" y="2822400"/>
            <a:chExt cx="2637360" cy="963720"/>
          </a:xfrm>
        </p:grpSpPr>
        <p:pic>
          <p:nvPicPr>
            <p:cNvPr id="239" name="Rectangle 11" descr=""/>
            <p:cNvPicPr/>
            <p:nvPr/>
          </p:nvPicPr>
          <p:blipFill>
            <a:blip r:embed="rId3"/>
            <a:stretch/>
          </p:blipFill>
          <p:spPr>
            <a:xfrm>
              <a:off x="5589720" y="2822400"/>
              <a:ext cx="225576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395680" y="2928960"/>
              <a:ext cx="263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علاقة طرد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Rectangle 12"/>
          <p:cNvGrpSpPr/>
          <p:nvPr/>
        </p:nvGrpSpPr>
        <p:grpSpPr>
          <a:xfrm>
            <a:off x="960480" y="2822400"/>
            <a:ext cx="2734920" cy="963720"/>
            <a:chOff x="960480" y="2822400"/>
            <a:chExt cx="2734920" cy="963720"/>
          </a:xfrm>
        </p:grpSpPr>
        <p:pic>
          <p:nvPicPr>
            <p:cNvPr id="242" name="Rectangle 12" descr=""/>
            <p:cNvPicPr/>
            <p:nvPr/>
          </p:nvPicPr>
          <p:blipFill>
            <a:blip r:embed="rId4"/>
            <a:stretch/>
          </p:blipFill>
          <p:spPr>
            <a:xfrm>
              <a:off x="1163520" y="2822400"/>
              <a:ext cx="23418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960480" y="2928960"/>
              <a:ext cx="27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علاقة عكس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19"/>
          <p:cNvGrpSpPr/>
          <p:nvPr/>
        </p:nvGrpSpPr>
        <p:grpSpPr>
          <a:xfrm>
            <a:off x="285840" y="1213920"/>
            <a:ext cx="8858160" cy="6286680"/>
            <a:chOff x="285840" y="1213920"/>
            <a:chExt cx="8858160" cy="6286680"/>
          </a:xfrm>
        </p:grpSpPr>
        <p:grpSp>
          <p:nvGrpSpPr>
            <p:cNvPr id="245" name="Group 13"/>
            <p:cNvGrpSpPr/>
            <p:nvPr/>
          </p:nvGrpSpPr>
          <p:grpSpPr>
            <a:xfrm>
              <a:off x="1504440" y="1213920"/>
              <a:ext cx="5806800" cy="1432440"/>
              <a:chOff x="1504440" y="1213920"/>
              <a:chExt cx="5806800" cy="1432440"/>
            </a:xfrm>
          </p:grpSpPr>
          <p:sp>
            <p:nvSpPr>
              <p:cNvPr id="246" name="Right Brace 8"/>
              <p:cNvSpPr/>
              <p:nvPr/>
            </p:nvSpPr>
            <p:spPr>
              <a:xfrm rot="16200000">
                <a:off x="4200480" y="-472320"/>
                <a:ext cx="650520" cy="4023720"/>
              </a:xfrm>
              <a:custGeom>
                <a:avLst/>
                <a:gdLst>
                  <a:gd name="textAreaLeft" fmla="*/ 0 w 650520"/>
                  <a:gd name="textAreaRight" fmla="*/ 234720 w 650520"/>
                  <a:gd name="textAreaTop" fmla="*/ 18720 h 4023720"/>
                  <a:gd name="textAreaBottom" fmla="*/ 4005000 h 402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63"/>
                      <a:pt x="10800" y="325"/>
                    </a:cubicBezTo>
                    <a:lnTo>
                      <a:pt x="10800" y="10475"/>
                    </a:lnTo>
                    <a:cubicBezTo>
                      <a:pt x="10800" y="10638"/>
                      <a:pt x="16200" y="10800"/>
                      <a:pt x="21600" y="10800"/>
                    </a:cubicBezTo>
                    <a:cubicBezTo>
                      <a:pt x="16200" y="10800"/>
                      <a:pt x="10800" y="10963"/>
                      <a:pt x="10800" y="11125"/>
                    </a:cubicBezTo>
                    <a:lnTo>
                      <a:pt x="10800" y="21275"/>
                    </a:lnTo>
                    <a:cubicBezTo>
                      <a:pt x="10800" y="21438"/>
                      <a:pt x="5400" y="21600"/>
                      <a:pt x="0" y="21600"/>
                    </a:cubicBezTo>
                  </a:path>
                </a:pathLst>
              </a:custGeom>
              <a:noFill/>
              <a:ln w="7632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47" name="Rectangle 9"/>
              <p:cNvGrpSpPr/>
              <p:nvPr/>
            </p:nvGrpSpPr>
            <p:grpSpPr>
              <a:xfrm>
                <a:off x="5867280" y="1763280"/>
                <a:ext cx="1443960" cy="883080"/>
                <a:chOff x="5867280" y="1763280"/>
                <a:chExt cx="1443960" cy="883080"/>
              </a:xfrm>
            </p:grpSpPr>
            <p:pic>
              <p:nvPicPr>
                <p:cNvPr id="248" name="Rectangle 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926680" y="1763280"/>
                  <a:ext cx="1328400" cy="88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9" name=""/>
                <p:cNvSpPr/>
                <p:nvPr/>
              </p:nvSpPr>
              <p:spPr>
                <a:xfrm>
                  <a:off x="5867280" y="1864800"/>
                  <a:ext cx="1443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ffff00"/>
                      </a:solidFill>
                      <a:latin typeface="Calibri"/>
                    </a:rPr>
                    <a:t>ال</a:t>
                  </a:r>
                  <a:r>
                    <a:rPr b="1" lang="ar-IQ" sz="3600" spc="-1" strike="noStrike">
                      <a:solidFill>
                        <a:srgbClr val="ffff00"/>
                      </a:solidFill>
                      <a:latin typeface="Calibri"/>
                    </a:rPr>
                    <a:t>دعم</a:t>
                  </a:r>
                  <a:endParaRPr b="0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0" name="Rectangle 10"/>
              <p:cNvGrpSpPr/>
              <p:nvPr/>
            </p:nvGrpSpPr>
            <p:grpSpPr>
              <a:xfrm>
                <a:off x="1504440" y="1707840"/>
                <a:ext cx="2059920" cy="883080"/>
                <a:chOff x="1504440" y="1707840"/>
                <a:chExt cx="2059920" cy="883080"/>
              </a:xfrm>
            </p:grpSpPr>
            <p:pic>
              <p:nvPicPr>
                <p:cNvPr id="251" name="Rectangle 1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643040" y="1707840"/>
                  <a:ext cx="1789920" cy="88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2" name=""/>
                <p:cNvSpPr/>
                <p:nvPr/>
              </p:nvSpPr>
              <p:spPr>
                <a:xfrm>
                  <a:off x="1504440" y="1805760"/>
                  <a:ext cx="2059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600" spc="-1" strike="noStrike">
                      <a:solidFill>
                        <a:srgbClr val="ffff00"/>
                      </a:solidFill>
                      <a:latin typeface="Calibri"/>
                    </a:rPr>
                    <a:t>الضرائب</a:t>
                  </a:r>
                  <a:endParaRPr b="0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253" name="Picture 6" descr="http://www.imn.iq/upload/2012/05/20/78373345113.jpg"/>
            <p:cNvPicPr/>
            <p:nvPr/>
          </p:nvPicPr>
          <p:blipFill>
            <a:blip r:embed="rId7"/>
            <a:stretch/>
          </p:blipFill>
          <p:spPr>
            <a:xfrm>
              <a:off x="3197880" y="3571560"/>
              <a:ext cx="594612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2" descr="http://alhidaya.net/sites/default/files/field/image/tax.jpg"/>
            <p:cNvPicPr/>
            <p:nvPr/>
          </p:nvPicPr>
          <p:blipFill>
            <a:blip r:embed="rId8"/>
            <a:stretch/>
          </p:blipFill>
          <p:spPr>
            <a:xfrm>
              <a:off x="857160" y="3571560"/>
              <a:ext cx="3621960" cy="39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4" descr="http://www.alborsanews.com/beta/wp-content/uploads/2012/12/%D8%A7%D9%84%D8%B6%D8%B1%D8%A7%D8%A6%D8%A8-%D8%A7%D9%84%D9%85%D8%AA%D8%B2%D8%A7%D9%8A%D8%AF%D8%A9.jpg"/>
            <p:cNvPicPr/>
            <p:nvPr/>
          </p:nvPicPr>
          <p:blipFill>
            <a:blip r:embed="rId9"/>
            <a:stretch/>
          </p:blipFill>
          <p:spPr>
            <a:xfrm>
              <a:off x="285840" y="4929120"/>
              <a:ext cx="2571480" cy="2564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TextBox 3"/>
          <p:cNvGrpSpPr/>
          <p:nvPr/>
        </p:nvGrpSpPr>
        <p:grpSpPr>
          <a:xfrm>
            <a:off x="1305000" y="255600"/>
            <a:ext cx="6821280" cy="1311120"/>
            <a:chOff x="1305000" y="255600"/>
            <a:chExt cx="6821280" cy="1311120"/>
          </a:xfrm>
        </p:grpSpPr>
        <p:pic>
          <p:nvPicPr>
            <p:cNvPr id="257" name="TextBox 3" descr=""/>
            <p:cNvPicPr/>
            <p:nvPr/>
          </p:nvPicPr>
          <p:blipFill>
            <a:blip r:embed="rId1"/>
            <a:stretch/>
          </p:blipFill>
          <p:spPr>
            <a:xfrm>
              <a:off x="1305000" y="255600"/>
              <a:ext cx="68212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1357200" y="285840"/>
              <a:ext cx="671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Rectangle 4"/>
          <p:cNvGrpSpPr/>
          <p:nvPr/>
        </p:nvGrpSpPr>
        <p:grpSpPr>
          <a:xfrm>
            <a:off x="1646280" y="500040"/>
            <a:ext cx="6211800" cy="1434600"/>
            <a:chOff x="1646280" y="500040"/>
            <a:chExt cx="6211800" cy="1434600"/>
          </a:xfrm>
        </p:grpSpPr>
        <p:pic>
          <p:nvPicPr>
            <p:cNvPr id="260" name="Rectangle 4" descr=""/>
            <p:cNvPicPr/>
            <p:nvPr/>
          </p:nvPicPr>
          <p:blipFill>
            <a:blip r:embed="rId2"/>
            <a:stretch/>
          </p:blipFill>
          <p:spPr>
            <a:xfrm>
              <a:off x="1649160" y="500040"/>
              <a:ext cx="6208560" cy="76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646280" y="500040"/>
              <a:ext cx="621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400" spc="-1" strike="noStrike">
                  <a:solidFill>
                    <a:srgbClr val="ffff00"/>
                  </a:solidFill>
                  <a:latin typeface="Calibri"/>
                  <a:cs typeface="Times New Roman"/>
                </a:rPr>
                <a:t>مواصفات ا</a:t>
              </a:r>
              <a:r>
                <a:rPr b="1" lang="ar-SA" sz="4400" spc="-1" strike="noStrike">
                  <a:solidFill>
                    <a:srgbClr val="ffff00"/>
                  </a:solidFill>
                  <a:latin typeface="Calibri"/>
                  <a:cs typeface="Times New Roman"/>
                </a:rPr>
                <a:t>لعرض السياحي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Group 12"/>
          <p:cNvGrpSpPr/>
          <p:nvPr/>
        </p:nvGrpSpPr>
        <p:grpSpPr>
          <a:xfrm>
            <a:off x="0" y="2000160"/>
            <a:ext cx="9526320" cy="4857840"/>
            <a:chOff x="0" y="2000160"/>
            <a:chExt cx="9526320" cy="4857840"/>
          </a:xfrm>
        </p:grpSpPr>
        <p:grpSp>
          <p:nvGrpSpPr>
            <p:cNvPr id="263" name="Group 11"/>
            <p:cNvGrpSpPr/>
            <p:nvPr/>
          </p:nvGrpSpPr>
          <p:grpSpPr>
            <a:xfrm>
              <a:off x="818640" y="2000160"/>
              <a:ext cx="8707680" cy="792000"/>
              <a:chOff x="818640" y="2000160"/>
              <a:chExt cx="8707680" cy="792000"/>
            </a:xfrm>
          </p:grpSpPr>
          <p:grpSp>
            <p:nvGrpSpPr>
              <p:cNvPr id="264" name="Rectangle 5"/>
              <p:cNvGrpSpPr/>
              <p:nvPr/>
            </p:nvGrpSpPr>
            <p:grpSpPr>
              <a:xfrm>
                <a:off x="818640" y="2003760"/>
                <a:ext cx="8707680" cy="788400"/>
                <a:chOff x="818640" y="2003760"/>
                <a:chExt cx="8707680" cy="788400"/>
              </a:xfrm>
            </p:grpSpPr>
            <p:pic>
              <p:nvPicPr>
                <p:cNvPr id="265" name="Rectangl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165040" y="2003760"/>
                  <a:ext cx="6061320" cy="71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" name=""/>
                <p:cNvSpPr/>
                <p:nvPr/>
              </p:nvSpPr>
              <p:spPr>
                <a:xfrm>
                  <a:off x="818640" y="2088720"/>
                  <a:ext cx="87076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000" spc="-1" strike="noStrike">
                      <a:solidFill>
                        <a:srgbClr val="ffff00"/>
                      </a:solidFill>
                      <a:latin typeface="Calibri"/>
                    </a:rPr>
                    <a:t>يعتمد بشكل كبير على عنصر العمل </a:t>
                  </a:r>
                  <a:endParaRPr b="0" lang="en-US" sz="4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7" name="Rectangle 6"/>
              <p:cNvGrpSpPr/>
              <p:nvPr/>
            </p:nvGrpSpPr>
            <p:grpSpPr>
              <a:xfrm>
                <a:off x="7964640" y="2000160"/>
                <a:ext cx="938160" cy="788040"/>
                <a:chOff x="7964640" y="2000160"/>
                <a:chExt cx="938160" cy="788040"/>
              </a:xfrm>
            </p:grpSpPr>
            <p:pic>
              <p:nvPicPr>
                <p:cNvPr id="268" name="Rectangle 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964640" y="2000160"/>
                  <a:ext cx="938160" cy="707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9" name=""/>
                <p:cNvSpPr/>
                <p:nvPr/>
              </p:nvSpPr>
              <p:spPr>
                <a:xfrm>
                  <a:off x="8197560" y="2084760"/>
                  <a:ext cx="4626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4000" spc="-1" strike="noStrike">
                      <a:solidFill>
                        <a:srgbClr val="ffff00"/>
                      </a:solidFill>
                      <a:latin typeface="Calibri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270" name="Picture 2" descr="https://encrypted-tbn1.gstatic.com/images?q=tbn:ANd9GcS3RfUWU_AZYcAJaEy8cmareN8ORHExZg34b1ewjd6uRI2X_KLx"/>
            <p:cNvPicPr/>
            <p:nvPr/>
          </p:nvPicPr>
          <p:blipFill>
            <a:blip r:embed="rId5"/>
            <a:stretch/>
          </p:blipFill>
          <p:spPr>
            <a:xfrm>
              <a:off x="0" y="4238640"/>
              <a:ext cx="1743120" cy="26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" descr="https://encrypted-tbn0.gstatic.com/images?q=tbn:ANd9GcSv55GS76RAQCOOvds7_5M-36lZ5vLNKN9dWbtO-Q0vakVjL5yy"/>
            <p:cNvPicPr/>
            <p:nvPr/>
          </p:nvPicPr>
          <p:blipFill>
            <a:blip r:embed="rId6"/>
            <a:stretch/>
          </p:blipFill>
          <p:spPr>
            <a:xfrm>
              <a:off x="1785960" y="4182480"/>
              <a:ext cx="3571920" cy="267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6" descr="https://encrypted-tbn1.gstatic.com/images?q=tbn:ANd9GcQOprarLxkz-FP9MZw9E2HSsGVU7Tqtu5W_d0iwyhorxq6eQY82"/>
            <p:cNvPicPr/>
            <p:nvPr/>
          </p:nvPicPr>
          <p:blipFill>
            <a:blip r:embed="rId7"/>
            <a:stretch/>
          </p:blipFill>
          <p:spPr>
            <a:xfrm>
              <a:off x="5329800" y="4714920"/>
              <a:ext cx="3814200" cy="21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Rectangle 10"/>
          <p:cNvSpPr/>
          <p:nvPr/>
        </p:nvSpPr>
        <p:spPr>
          <a:xfrm>
            <a:off x="1357200" y="3000240"/>
            <a:ext cx="7358040" cy="2226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نشاط السياحي خدمي </a:t>
            </a: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...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كثيف عنصر العم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صعوبة احلال الماكنة محل عنصر العم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إستخدام الماكنة محدداً جداً في عملية تقديم الخدمات السياح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17"/>
          <p:cNvGrpSpPr/>
          <p:nvPr/>
        </p:nvGrpSpPr>
        <p:grpSpPr>
          <a:xfrm>
            <a:off x="1364760" y="422280"/>
            <a:ext cx="7934760" cy="792360"/>
            <a:chOff x="1364760" y="422280"/>
            <a:chExt cx="7934760" cy="792360"/>
          </a:xfrm>
        </p:grpSpPr>
        <p:grpSp>
          <p:nvGrpSpPr>
            <p:cNvPr id="275" name="Rectangle 3"/>
            <p:cNvGrpSpPr/>
            <p:nvPr/>
          </p:nvGrpSpPr>
          <p:grpSpPr>
            <a:xfrm>
              <a:off x="1364760" y="429480"/>
              <a:ext cx="7934760" cy="785160"/>
              <a:chOff x="1364760" y="429480"/>
              <a:chExt cx="7934760" cy="785160"/>
            </a:xfrm>
          </p:grpSpPr>
          <p:pic>
            <p:nvPicPr>
              <p:cNvPr id="276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495520" y="429480"/>
                <a:ext cx="5711400" cy="70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1364760" y="511200"/>
                <a:ext cx="7934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بالدرجة الاساس عرض للخدمات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8" name="Rectangle 4"/>
            <p:cNvGrpSpPr/>
            <p:nvPr/>
          </p:nvGrpSpPr>
          <p:grpSpPr>
            <a:xfrm>
              <a:off x="7946640" y="422280"/>
              <a:ext cx="933840" cy="788400"/>
              <a:chOff x="7946640" y="422280"/>
              <a:chExt cx="933840" cy="788400"/>
            </a:xfrm>
          </p:grpSpPr>
          <p:pic>
            <p:nvPicPr>
              <p:cNvPr id="279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946640" y="422280"/>
                <a:ext cx="933840" cy="71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8179200" y="50724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1" name="Group 18"/>
          <p:cNvGrpSpPr/>
          <p:nvPr/>
        </p:nvGrpSpPr>
        <p:grpSpPr>
          <a:xfrm>
            <a:off x="4079520" y="4137120"/>
            <a:ext cx="4842720" cy="790560"/>
            <a:chOff x="4079520" y="4137120"/>
            <a:chExt cx="4842720" cy="790560"/>
          </a:xfrm>
        </p:grpSpPr>
        <p:grpSp>
          <p:nvGrpSpPr>
            <p:cNvPr id="282" name="Rectangle 9"/>
            <p:cNvGrpSpPr/>
            <p:nvPr/>
          </p:nvGrpSpPr>
          <p:grpSpPr>
            <a:xfrm>
              <a:off x="4079520" y="4140720"/>
              <a:ext cx="4842720" cy="786960"/>
              <a:chOff x="4079520" y="4140720"/>
              <a:chExt cx="4842720" cy="786960"/>
            </a:xfrm>
          </p:grpSpPr>
          <p:pic>
            <p:nvPicPr>
              <p:cNvPr id="283" name="Rectangl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4788000" y="4140720"/>
                <a:ext cx="3451680" cy="71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4079520" y="4224240"/>
                <a:ext cx="4842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خدمات آنية مباشرة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5" name="Rectangle 10"/>
            <p:cNvGrpSpPr/>
            <p:nvPr/>
          </p:nvGrpSpPr>
          <p:grpSpPr>
            <a:xfrm>
              <a:off x="7989840" y="4137120"/>
              <a:ext cx="895320" cy="786600"/>
              <a:chOff x="7989840" y="4137120"/>
              <a:chExt cx="895320" cy="786600"/>
            </a:xfrm>
          </p:grpSpPr>
          <p:pic>
            <p:nvPicPr>
              <p:cNvPr id="286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7989840" y="4137120"/>
                <a:ext cx="895320" cy="71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>
                <a:off x="8202240" y="422028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8" name="Group 16"/>
          <p:cNvGrpSpPr/>
          <p:nvPr/>
        </p:nvGrpSpPr>
        <p:grpSpPr>
          <a:xfrm>
            <a:off x="0" y="1422360"/>
            <a:ext cx="9144000" cy="2697120"/>
            <a:chOff x="0" y="1422360"/>
            <a:chExt cx="9144000" cy="2697120"/>
          </a:xfrm>
        </p:grpSpPr>
        <p:sp>
          <p:nvSpPr>
            <p:cNvPr id="289" name="Rectangle 5"/>
            <p:cNvSpPr/>
            <p:nvPr/>
          </p:nvSpPr>
          <p:spPr>
            <a:xfrm>
              <a:off x="1334880" y="1422360"/>
              <a:ext cx="5237280" cy="9471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76320">
              <a:solidFill>
                <a:srgbClr val="703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مزيج مركب من مجموعة السلع والخدمات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0" name="Picture 2" descr="http://www.almasalla.travel/upload/album/s1120084142945.jpg"/>
            <p:cNvPicPr/>
            <p:nvPr/>
          </p:nvPicPr>
          <p:blipFill>
            <a:blip r:embed="rId5"/>
            <a:stretch/>
          </p:blipFill>
          <p:spPr>
            <a:xfrm>
              <a:off x="0" y="2214720"/>
              <a:ext cx="36194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4" descr="https://encrypted-tbn1.gstatic.com/images?q=tbn:ANd9GcQ-Ff9frJ194_WVukO7PR_h0QQDetZUSmIDNFH8earY3jpJQf7M"/>
            <p:cNvPicPr/>
            <p:nvPr/>
          </p:nvPicPr>
          <p:blipFill>
            <a:blip r:embed="rId6"/>
            <a:stretch/>
          </p:blipFill>
          <p:spPr>
            <a:xfrm>
              <a:off x="3643200" y="2214720"/>
              <a:ext cx="2466720" cy="18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6" descr="https://encrypted-tbn2.gstatic.com/images?q=tbn:ANd9GcTi6uAASFssz7HlOj7EhXp_G6fW-pQQM-R-7tIewl6QD-o2u6HP"/>
            <p:cNvPicPr/>
            <p:nvPr/>
          </p:nvPicPr>
          <p:blipFill>
            <a:blip r:embed="rId7"/>
            <a:stretch/>
          </p:blipFill>
          <p:spPr>
            <a:xfrm>
              <a:off x="6143760" y="2214720"/>
              <a:ext cx="3000240" cy="17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Rectangle 15"/>
          <p:cNvSpPr/>
          <p:nvPr/>
        </p:nvSpPr>
        <p:spPr>
          <a:xfrm>
            <a:off x="428760" y="5072040"/>
            <a:ext cx="8286480" cy="2226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تصنيع هذه الخدمات على مدار اليوم أو حتى على مدار الس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تقديم الخدمات السياحية أمام مرأى السياح او الضيو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عدم إمكانية حجب المنتوج الردئ عن المستهل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10"/>
          <p:cNvGrpSpPr/>
          <p:nvPr/>
        </p:nvGrpSpPr>
        <p:grpSpPr>
          <a:xfrm>
            <a:off x="4664520" y="493560"/>
            <a:ext cx="4219200" cy="792000"/>
            <a:chOff x="4664520" y="493560"/>
            <a:chExt cx="4219200" cy="792000"/>
          </a:xfrm>
        </p:grpSpPr>
        <p:grpSp>
          <p:nvGrpSpPr>
            <p:cNvPr id="295" name="Rectangle 3"/>
            <p:cNvGrpSpPr/>
            <p:nvPr/>
          </p:nvGrpSpPr>
          <p:grpSpPr>
            <a:xfrm>
              <a:off x="4664520" y="497160"/>
              <a:ext cx="4152240" cy="788400"/>
              <a:chOff x="4664520" y="497160"/>
              <a:chExt cx="4152240" cy="788400"/>
            </a:xfrm>
          </p:grpSpPr>
          <p:pic>
            <p:nvPicPr>
              <p:cNvPr id="296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259240" y="497160"/>
                <a:ext cx="299376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4664520" y="582120"/>
                <a:ext cx="4152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غير قابل للخزن</a:t>
                </a:r>
                <a:r>
                  <a:rPr b="0" lang="ar-SA" sz="4000" spc="-1" strike="noStrike">
                    <a:solidFill>
                      <a:srgbClr val="ffff00"/>
                    </a:solidFill>
                    <a:latin typeface="Calibri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8" name="Rectangle 4"/>
            <p:cNvGrpSpPr/>
            <p:nvPr/>
          </p:nvGrpSpPr>
          <p:grpSpPr>
            <a:xfrm>
              <a:off x="8001720" y="493560"/>
              <a:ext cx="882000" cy="788040"/>
              <a:chOff x="8001720" y="493560"/>
              <a:chExt cx="882000" cy="788040"/>
            </a:xfrm>
          </p:grpSpPr>
          <p:pic>
            <p:nvPicPr>
              <p:cNvPr id="299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8001720" y="493560"/>
                <a:ext cx="88200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8205840" y="57816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1" name="Rectangle 6"/>
          <p:cNvSpPr/>
          <p:nvPr/>
        </p:nvSpPr>
        <p:spPr>
          <a:xfrm>
            <a:off x="1335240" y="1422360"/>
            <a:ext cx="673704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عرض خدمي فلا يمكن خزن الخدمات ،  وبذلك يكون عرض أني ومباشر ينتج على مدار الس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Group 11"/>
          <p:cNvGrpSpPr/>
          <p:nvPr/>
        </p:nvGrpSpPr>
        <p:grpSpPr>
          <a:xfrm>
            <a:off x="4927320" y="2857680"/>
            <a:ext cx="3922200" cy="790920"/>
            <a:chOff x="4927320" y="2857680"/>
            <a:chExt cx="3922200" cy="790920"/>
          </a:xfrm>
        </p:grpSpPr>
        <p:grpSp>
          <p:nvGrpSpPr>
            <p:cNvPr id="303" name="Rectangle 7"/>
            <p:cNvGrpSpPr/>
            <p:nvPr/>
          </p:nvGrpSpPr>
          <p:grpSpPr>
            <a:xfrm>
              <a:off x="4927320" y="2861280"/>
              <a:ext cx="3922200" cy="787320"/>
              <a:chOff x="4927320" y="2861280"/>
              <a:chExt cx="3922200" cy="787320"/>
            </a:xfrm>
          </p:grpSpPr>
          <p:pic>
            <p:nvPicPr>
              <p:cNvPr id="304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587920" y="2861280"/>
                <a:ext cx="2628360" cy="71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4927320" y="2945160"/>
                <a:ext cx="3922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غير قابل </a:t>
                </a: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للنقل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6" name="Rectangle 8"/>
            <p:cNvGrpSpPr/>
            <p:nvPr/>
          </p:nvGrpSpPr>
          <p:grpSpPr>
            <a:xfrm>
              <a:off x="7968240" y="2857680"/>
              <a:ext cx="870840" cy="786960"/>
              <a:chOff x="7968240" y="2857680"/>
              <a:chExt cx="870840" cy="786960"/>
            </a:xfrm>
          </p:grpSpPr>
          <p:pic>
            <p:nvPicPr>
              <p:cNvPr id="30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7968240" y="2857680"/>
                <a:ext cx="870840" cy="71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>
                <a:off x="8170920" y="294120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9" name="Rectangle 9"/>
          <p:cNvSpPr/>
          <p:nvPr/>
        </p:nvSpPr>
        <p:spPr>
          <a:xfrm>
            <a:off x="285840" y="4000680"/>
            <a:ext cx="8572320" cy="2653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مستهلك ثابتاً والسلعة هي التي تتحرك ويتم نقلها الى الأسواق القريبة من إقامة المستهلكين</a:t>
            </a: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وهناك بعض السلع تصل حتى الى منزل المستهل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عرض السياحي هو الثابت والمستهلك (السائح) هو الذي ينتقل لكي يستطيع ان يقتني الخدمات السياح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ttp://164.138.217.134/arabyonline.com-b43c53dfaa825/images/2013/09/381-1-or-1380457958.jpg"/>
          <p:cNvPicPr/>
          <p:nvPr/>
        </p:nvPicPr>
        <p:blipFill>
          <a:blip r:embed="rId1"/>
          <a:stretch/>
        </p:blipFill>
        <p:spPr>
          <a:xfrm>
            <a:off x="0" y="0"/>
            <a:ext cx="6988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7"/>
          <p:cNvGrpSpPr/>
          <p:nvPr/>
        </p:nvGrpSpPr>
        <p:grpSpPr>
          <a:xfrm>
            <a:off x="4663080" y="493560"/>
            <a:ext cx="4220640" cy="792000"/>
            <a:chOff x="4663080" y="493560"/>
            <a:chExt cx="4220640" cy="792000"/>
          </a:xfrm>
        </p:grpSpPr>
        <p:grpSp>
          <p:nvGrpSpPr>
            <p:cNvPr id="312" name="Rectangle 3"/>
            <p:cNvGrpSpPr/>
            <p:nvPr/>
          </p:nvGrpSpPr>
          <p:grpSpPr>
            <a:xfrm>
              <a:off x="4663080" y="497160"/>
              <a:ext cx="4158360" cy="788400"/>
              <a:chOff x="4663080" y="497160"/>
              <a:chExt cx="4158360" cy="788400"/>
            </a:xfrm>
          </p:grpSpPr>
          <p:pic>
            <p:nvPicPr>
              <p:cNvPr id="313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5254560" y="497160"/>
                <a:ext cx="299412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4663080" y="582120"/>
                <a:ext cx="4158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يخضع للمنافسة</a:t>
                </a:r>
                <a:r>
                  <a:rPr b="0" lang="ar-SA" sz="4000" spc="-1" strike="noStrike">
                    <a:solidFill>
                      <a:srgbClr val="ffff00"/>
                    </a:solidFill>
                    <a:latin typeface="Calibri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5" name="Rectangle 4"/>
            <p:cNvGrpSpPr/>
            <p:nvPr/>
          </p:nvGrpSpPr>
          <p:grpSpPr>
            <a:xfrm>
              <a:off x="8003160" y="493560"/>
              <a:ext cx="880560" cy="788040"/>
              <a:chOff x="8003160" y="493560"/>
              <a:chExt cx="880560" cy="788040"/>
            </a:xfrm>
          </p:grpSpPr>
          <p:pic>
            <p:nvPicPr>
              <p:cNvPr id="316" name="Rectangl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03160" y="493560"/>
                <a:ext cx="88056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8206560" y="57816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8" name="Rectangle 5"/>
          <p:cNvSpPr/>
          <p:nvPr/>
        </p:nvSpPr>
        <p:spPr>
          <a:xfrm>
            <a:off x="214200" y="1857240"/>
            <a:ext cx="8643960" cy="2653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هناك تنافس بين البلدان على تسويق العرض السياح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هناك تنافس على صعيد المواقع السياحية داخل البلد الواح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Calibri"/>
              </a:rPr>
              <a:t>هناك تنافس على صعيد المنشآت السياحية داخل الموقع السياحي الواح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Calibri"/>
                <a:cs typeface="Arial"/>
              </a:rPr>
              <a:t>المصادر الطبيعية والبشرية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29120" y="1600200"/>
            <a:ext cx="3757680" cy="4757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المادة الأساسية التي تعكس الصورة السياحية للمنطقة (هي الميزة المسؤولة عن جمالية وجاذبية منطقة ما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هي المقياس الجوهري للعرض السياح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هما أساس وقاعدة التنمية السياح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سبب ومبرر الوجود لصناعة سياح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محاضرات 30 إسبوع اقتصاديات السياحة\صور درس الاقتصاد السياحي\23.jpg"/>
          <p:cNvPicPr/>
          <p:nvPr/>
        </p:nvPicPr>
        <p:blipFill>
          <a:blip r:embed="rId1"/>
          <a:stretch/>
        </p:blipFill>
        <p:spPr>
          <a:xfrm>
            <a:off x="214200" y="1857240"/>
            <a:ext cx="44625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http://164.138.217.134/arabyonline.com-b43c53dfaa825/images/2013/09/381-1-or-1380457958.jpg"/>
          <p:cNvPicPr/>
          <p:nvPr/>
        </p:nvPicPr>
        <p:blipFill>
          <a:blip r:embed="rId1"/>
          <a:stretch/>
        </p:blipFill>
        <p:spPr>
          <a:xfrm>
            <a:off x="0" y="0"/>
            <a:ext cx="6988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6"/>
          <p:cNvGrpSpPr/>
          <p:nvPr/>
        </p:nvGrpSpPr>
        <p:grpSpPr>
          <a:xfrm>
            <a:off x="-55440" y="493560"/>
            <a:ext cx="9399600" cy="792000"/>
            <a:chOff x="-55440" y="493560"/>
            <a:chExt cx="9399600" cy="792000"/>
          </a:xfrm>
        </p:grpSpPr>
        <p:grpSp>
          <p:nvGrpSpPr>
            <p:cNvPr id="321" name="Rectangle 3"/>
            <p:cNvGrpSpPr/>
            <p:nvPr/>
          </p:nvGrpSpPr>
          <p:grpSpPr>
            <a:xfrm>
              <a:off x="-55440" y="497160"/>
              <a:ext cx="9399600" cy="788400"/>
              <a:chOff x="-55440" y="497160"/>
              <a:chExt cx="9399600" cy="788400"/>
            </a:xfrm>
          </p:grpSpPr>
          <p:pic>
            <p:nvPicPr>
              <p:cNvPr id="322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97080" y="497160"/>
                <a:ext cx="689760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-55440" y="582120"/>
                <a:ext cx="9399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تعدد وتنوع وتداخل العناصر المكونة له</a:t>
                </a:r>
                <a:r>
                  <a:rPr b="0" lang="ar-SA" sz="4000" spc="-1" strike="noStrike">
                    <a:solidFill>
                      <a:srgbClr val="ffff00"/>
                    </a:solidFill>
                    <a:latin typeface="Calibri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4" name="Rectangle 4"/>
            <p:cNvGrpSpPr/>
            <p:nvPr/>
          </p:nvGrpSpPr>
          <p:grpSpPr>
            <a:xfrm>
              <a:off x="7920360" y="493560"/>
              <a:ext cx="963360" cy="788040"/>
              <a:chOff x="7920360" y="493560"/>
              <a:chExt cx="963360" cy="788040"/>
            </a:xfrm>
          </p:grpSpPr>
          <p:pic>
            <p:nvPicPr>
              <p:cNvPr id="325" name="Rectangl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7920360" y="493560"/>
                <a:ext cx="96336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8164800" y="57816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27" name="Rectangle 5"/>
          <p:cNvSpPr/>
          <p:nvPr/>
        </p:nvSpPr>
        <p:spPr>
          <a:xfrm>
            <a:off x="214200" y="1857240"/>
            <a:ext cx="864396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عوامل الطبيعية تتشابك مع العوامل التأريخية والدينية والتراثية والحضارية ....الخ لتشكل بمجموعها العرض السياح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9"/>
          <p:cNvGrpSpPr/>
          <p:nvPr/>
        </p:nvGrpSpPr>
        <p:grpSpPr>
          <a:xfrm>
            <a:off x="0" y="3333600"/>
            <a:ext cx="9166320" cy="3524400"/>
            <a:chOff x="0" y="3333600"/>
            <a:chExt cx="9166320" cy="3524400"/>
          </a:xfrm>
        </p:grpSpPr>
        <p:pic>
          <p:nvPicPr>
            <p:cNvPr id="329" name="Picture 4" descr="https://encrypted-tbn0.gstatic.com/images?q=tbn:ANd9GcQ5bhFvcZAnFDNce_jMUhYKfxTOtqYF_taCDCOI1b5WCgpRhiHP"/>
            <p:cNvPicPr/>
            <p:nvPr/>
          </p:nvPicPr>
          <p:blipFill>
            <a:blip r:embed="rId1"/>
            <a:stretch/>
          </p:blipFill>
          <p:spPr>
            <a:xfrm>
              <a:off x="5715000" y="3357360"/>
              <a:ext cx="3451320" cy="35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2" descr="http://images.akoam.com/files/1378250201.jpg"/>
            <p:cNvPicPr/>
            <p:nvPr/>
          </p:nvPicPr>
          <p:blipFill>
            <a:blip r:embed="rId2"/>
            <a:stretch/>
          </p:blipFill>
          <p:spPr>
            <a:xfrm>
              <a:off x="0" y="3333600"/>
              <a:ext cx="5715000" cy="352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-1611360" y="493560"/>
            <a:ext cx="11766240" cy="792000"/>
            <a:chOff x="-1611360" y="493560"/>
            <a:chExt cx="11766240" cy="792000"/>
          </a:xfrm>
        </p:grpSpPr>
        <p:grpSp>
          <p:nvGrpSpPr>
            <p:cNvPr id="332" name="Rectangle 3"/>
            <p:cNvGrpSpPr/>
            <p:nvPr/>
          </p:nvGrpSpPr>
          <p:grpSpPr>
            <a:xfrm>
              <a:off x="-1611360" y="497160"/>
              <a:ext cx="11766240" cy="788400"/>
              <a:chOff x="-1611360" y="497160"/>
              <a:chExt cx="11766240" cy="788400"/>
            </a:xfrm>
          </p:grpSpPr>
          <p:pic>
            <p:nvPicPr>
              <p:cNvPr id="333" name="Rectangl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22120" y="497160"/>
                <a:ext cx="816552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-1611360" y="582120"/>
                <a:ext cx="11766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تعدد المنتجين الذين يشاركون بالعرض السياحي</a:t>
                </a:r>
                <a:r>
                  <a:rPr b="0" lang="ar-SA" sz="4000" spc="-1" strike="noStrike">
                    <a:solidFill>
                      <a:srgbClr val="ffff00"/>
                    </a:solidFill>
                    <a:latin typeface="Calibri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5" name="Rectangle 4"/>
            <p:cNvGrpSpPr/>
            <p:nvPr/>
          </p:nvGrpSpPr>
          <p:grpSpPr>
            <a:xfrm>
              <a:off x="8046360" y="493560"/>
              <a:ext cx="954720" cy="788040"/>
              <a:chOff x="8046360" y="493560"/>
              <a:chExt cx="954720" cy="788040"/>
            </a:xfrm>
          </p:grpSpPr>
          <p:pic>
            <p:nvPicPr>
              <p:cNvPr id="336" name="Rectangle 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46360" y="493560"/>
                <a:ext cx="95472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8288280" y="57816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7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38" name="Rectangle 5"/>
          <p:cNvSpPr/>
          <p:nvPr/>
        </p:nvSpPr>
        <p:spPr>
          <a:xfrm>
            <a:off x="214200" y="1500120"/>
            <a:ext cx="8643960" cy="3506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هناك عدد كبير من المنتجين الذين يساهمون في تصنيع المنتوج السياحي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داخل حدود القطاع السياحي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مثل أصحاب الفنادق والمطاعم والكازينوهات ومكاتب السفر والسياحة ..الخ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خارج القطاع السياحي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مثل محطة الكهرباء والوقود والغاز ومشاريع البنى التحتانية الاخرى والاسواق ...ال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14"/>
          <p:cNvGrpSpPr/>
          <p:nvPr/>
        </p:nvGrpSpPr>
        <p:grpSpPr>
          <a:xfrm>
            <a:off x="4940280" y="493560"/>
            <a:ext cx="4060800" cy="792000"/>
            <a:chOff x="4940280" y="493560"/>
            <a:chExt cx="4060800" cy="792000"/>
          </a:xfrm>
        </p:grpSpPr>
        <p:grpSp>
          <p:nvGrpSpPr>
            <p:cNvPr id="340" name="Rectangle 3"/>
            <p:cNvGrpSpPr/>
            <p:nvPr/>
          </p:nvGrpSpPr>
          <p:grpSpPr>
            <a:xfrm>
              <a:off x="4940280" y="497160"/>
              <a:ext cx="3881160" cy="788400"/>
              <a:chOff x="4940280" y="497160"/>
              <a:chExt cx="3881160" cy="788400"/>
            </a:xfrm>
          </p:grpSpPr>
          <p:pic>
            <p:nvPicPr>
              <p:cNvPr id="341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353200" y="497160"/>
                <a:ext cx="308088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4940280" y="582120"/>
                <a:ext cx="3881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عرض غير مرن</a:t>
                </a:r>
                <a:r>
                  <a:rPr b="0" lang="ar-SA" sz="4000" spc="-1" strike="noStrike">
                    <a:solidFill>
                      <a:srgbClr val="ffff00"/>
                    </a:solidFill>
                    <a:latin typeface="Calibri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3" name="Rectangle 4"/>
            <p:cNvGrpSpPr/>
            <p:nvPr/>
          </p:nvGrpSpPr>
          <p:grpSpPr>
            <a:xfrm>
              <a:off x="8118720" y="493560"/>
              <a:ext cx="882360" cy="788040"/>
              <a:chOff x="8118720" y="493560"/>
              <a:chExt cx="882360" cy="788040"/>
            </a:xfrm>
          </p:grpSpPr>
          <p:pic>
            <p:nvPicPr>
              <p:cNvPr id="344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8118720" y="493560"/>
                <a:ext cx="88236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"/>
              <p:cNvSpPr/>
              <p:nvPr/>
            </p:nvSpPr>
            <p:spPr>
              <a:xfrm>
                <a:off x="8324640" y="57816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6" name="Rectangle 6"/>
          <p:cNvSpPr/>
          <p:nvPr/>
        </p:nvSpPr>
        <p:spPr>
          <a:xfrm>
            <a:off x="285840" y="1500120"/>
            <a:ext cx="857232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إن درجة استجابة المنتج في النشاط السياحي للتغيرات في أسعار الخدمات السياحية تكون منخفضة جداً على الأقل بالأمد القصي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7" name="Rectangle 7"/>
          <p:cNvGrpSpPr/>
          <p:nvPr/>
        </p:nvGrpSpPr>
        <p:grpSpPr>
          <a:xfrm>
            <a:off x="6422400" y="2676600"/>
            <a:ext cx="2695320" cy="961920"/>
            <a:chOff x="6422400" y="2676600"/>
            <a:chExt cx="2695320" cy="961920"/>
          </a:xfrm>
        </p:grpSpPr>
        <p:pic>
          <p:nvPicPr>
            <p:cNvPr id="348" name="Rectangle 7" descr=""/>
            <p:cNvPicPr/>
            <p:nvPr/>
          </p:nvPicPr>
          <p:blipFill>
            <a:blip r:embed="rId3"/>
            <a:stretch/>
          </p:blipFill>
          <p:spPr>
            <a:xfrm>
              <a:off x="6649920" y="2676600"/>
              <a:ext cx="22496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6422400" y="2786040"/>
              <a:ext cx="26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عامل الوقت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Rectangle 8"/>
          <p:cNvGrpSpPr/>
          <p:nvPr/>
        </p:nvGrpSpPr>
        <p:grpSpPr>
          <a:xfrm>
            <a:off x="2361600" y="2676600"/>
            <a:ext cx="4902120" cy="961920"/>
            <a:chOff x="2361600" y="2676600"/>
            <a:chExt cx="4902120" cy="961920"/>
          </a:xfrm>
        </p:grpSpPr>
        <p:pic>
          <p:nvPicPr>
            <p:cNvPr id="351" name="Rectangle 8" descr=""/>
            <p:cNvPicPr/>
            <p:nvPr/>
          </p:nvPicPr>
          <p:blipFill>
            <a:blip r:embed="rId4"/>
            <a:stretch/>
          </p:blipFill>
          <p:spPr>
            <a:xfrm>
              <a:off x="2968560" y="2676600"/>
              <a:ext cx="371808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361600" y="2786040"/>
              <a:ext cx="490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كثافة رأس المال الثابت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3" name="Rectangle 9"/>
          <p:cNvGrpSpPr/>
          <p:nvPr/>
        </p:nvGrpSpPr>
        <p:grpSpPr>
          <a:xfrm>
            <a:off x="-74880" y="2676600"/>
            <a:ext cx="3358080" cy="961920"/>
            <a:chOff x="-74880" y="2676600"/>
            <a:chExt cx="3358080" cy="961920"/>
          </a:xfrm>
        </p:grpSpPr>
        <p:pic>
          <p:nvPicPr>
            <p:cNvPr id="354" name="Rectangle 9" descr=""/>
            <p:cNvPicPr/>
            <p:nvPr/>
          </p:nvPicPr>
          <p:blipFill>
            <a:blip r:embed="rId5"/>
            <a:stretch/>
          </p:blipFill>
          <p:spPr>
            <a:xfrm>
              <a:off x="311040" y="2676600"/>
              <a:ext cx="260352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-74880" y="2786040"/>
              <a:ext cx="335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العامل الطبيعي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Rectangle 10"/>
          <p:cNvGrpSpPr/>
          <p:nvPr/>
        </p:nvGrpSpPr>
        <p:grpSpPr>
          <a:xfrm>
            <a:off x="5447880" y="3889440"/>
            <a:ext cx="4028760" cy="968400"/>
            <a:chOff x="5447880" y="3889440"/>
            <a:chExt cx="4028760" cy="968400"/>
          </a:xfrm>
        </p:grpSpPr>
        <p:pic>
          <p:nvPicPr>
            <p:cNvPr id="357" name="Rectangle 10" descr=""/>
            <p:cNvPicPr/>
            <p:nvPr/>
          </p:nvPicPr>
          <p:blipFill>
            <a:blip r:embed="rId6"/>
            <a:stretch/>
          </p:blipFill>
          <p:spPr>
            <a:xfrm>
              <a:off x="5888160" y="3889440"/>
              <a:ext cx="31701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5447880" y="4000680"/>
              <a:ext cx="402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القابلية على الخزن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9" name="Rectangle 11"/>
          <p:cNvGrpSpPr/>
          <p:nvPr/>
        </p:nvGrpSpPr>
        <p:grpSpPr>
          <a:xfrm>
            <a:off x="2676960" y="3889440"/>
            <a:ext cx="3957120" cy="968400"/>
            <a:chOff x="2676960" y="3889440"/>
            <a:chExt cx="3957120" cy="968400"/>
          </a:xfrm>
        </p:grpSpPr>
        <p:pic>
          <p:nvPicPr>
            <p:cNvPr id="360" name="Rectangle 11" descr=""/>
            <p:cNvPicPr/>
            <p:nvPr/>
          </p:nvPicPr>
          <p:blipFill>
            <a:blip r:embed="rId7"/>
            <a:stretch/>
          </p:blipFill>
          <p:spPr>
            <a:xfrm>
              <a:off x="3176640" y="3889440"/>
              <a:ext cx="29862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2676960" y="4000680"/>
              <a:ext cx="395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القابلية على النقل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2" name="Rectangle 12"/>
          <p:cNvGrpSpPr/>
          <p:nvPr/>
        </p:nvGrpSpPr>
        <p:grpSpPr>
          <a:xfrm>
            <a:off x="-357480" y="3889440"/>
            <a:ext cx="4254120" cy="968400"/>
            <a:chOff x="-357480" y="3889440"/>
            <a:chExt cx="4254120" cy="968400"/>
          </a:xfrm>
        </p:grpSpPr>
        <p:pic>
          <p:nvPicPr>
            <p:cNvPr id="363" name="Rectangle 12" descr=""/>
            <p:cNvPicPr/>
            <p:nvPr/>
          </p:nvPicPr>
          <p:blipFill>
            <a:blip r:embed="rId8"/>
            <a:stretch/>
          </p:blipFill>
          <p:spPr>
            <a:xfrm>
              <a:off x="109440" y="3889440"/>
              <a:ext cx="33530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-357480" y="4000680"/>
              <a:ext cx="42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القابلية على التحوير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Rectangle 13"/>
          <p:cNvGrpSpPr/>
          <p:nvPr/>
        </p:nvGrpSpPr>
        <p:grpSpPr>
          <a:xfrm>
            <a:off x="886320" y="4821120"/>
            <a:ext cx="7398360" cy="963720"/>
            <a:chOff x="886320" y="4821120"/>
            <a:chExt cx="7398360" cy="963720"/>
          </a:xfrm>
        </p:grpSpPr>
        <p:pic>
          <p:nvPicPr>
            <p:cNvPr id="366" name="Rectangle 13" descr=""/>
            <p:cNvPicPr/>
            <p:nvPr/>
          </p:nvPicPr>
          <p:blipFill>
            <a:blip r:embed="rId9"/>
            <a:stretch/>
          </p:blipFill>
          <p:spPr>
            <a:xfrm>
              <a:off x="1914480" y="4821120"/>
              <a:ext cx="53942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886320" y="4929120"/>
              <a:ext cx="739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موسمية الطلب على المنتج السياحي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Title 1"/>
          <p:cNvGrpSpPr/>
          <p:nvPr/>
        </p:nvGrpSpPr>
        <p:grpSpPr>
          <a:xfrm>
            <a:off x="49320" y="55440"/>
            <a:ext cx="8893080" cy="1785960"/>
            <a:chOff x="49320" y="55440"/>
            <a:chExt cx="8893080" cy="1785960"/>
          </a:xfrm>
        </p:grpSpPr>
        <p:pic>
          <p:nvPicPr>
            <p:cNvPr id="369" name="Title 1" descr=""/>
            <p:cNvPicPr/>
            <p:nvPr/>
          </p:nvPicPr>
          <p:blipFill>
            <a:blip r:embed="rId1"/>
            <a:stretch/>
          </p:blipFill>
          <p:spPr>
            <a:xfrm>
              <a:off x="49320" y="55440"/>
              <a:ext cx="889308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لو كان الطلب السياحي اكثر من العرض السياحي، </a:t>
              </a:r>
              <a:r>
                <a:rPr b="1" lang="ar-SA" sz="4000" spc="-1" strike="noStrike">
                  <a:solidFill>
                    <a:srgbClr val="ffff00"/>
                  </a:solidFill>
                  <a:latin typeface="Calibri"/>
                </a:rPr>
                <a:t>فما هي الاجراءات التي تتبع</a:t>
              </a: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؟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1" name=""/>
          <p:cNvSpPr txBox="1"/>
          <p:nvPr/>
        </p:nvSpPr>
        <p:spPr>
          <a:xfrm>
            <a:off x="213840" y="1856880"/>
            <a:ext cx="8643960" cy="40719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 fontScale="77000"/>
          </a:bodyPr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مخيمات السياحية لتوسيع الطاقة الايوائ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كرفانات النقالة لتوسيع الطاقة الايوائ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فنادق النقالة (البواخر) لتوسيع الطاقة الايوائية في بعض المناسبات ، ويمكن استخدام هذا الإجراء فقط في الموان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تخصيص العوائل المقيمة في المصايف غرفة او اكثر لاستضافة السياح في موسم الذروة مما يزيد من كمية عرض الايوا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عمالة المؤقتة او الموسمية لزيادة عرض العم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مزيد من المواد الاولية لزيادة عرض ال</a:t>
            </a:r>
            <a:r>
              <a:rPr b="1" lang="ar-IQ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أ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طعمة والمشروبا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158_13413958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3054240" y="571680"/>
            <a:ext cx="664560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المصادر الطبيعية والبشرية بحاجة الى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6"/>
          <p:cNvGrpSpPr/>
          <p:nvPr/>
        </p:nvGrpSpPr>
        <p:grpSpPr>
          <a:xfrm>
            <a:off x="-678960" y="2786040"/>
            <a:ext cx="5415840" cy="5442480"/>
            <a:chOff x="-678960" y="2786040"/>
            <a:chExt cx="5415840" cy="5442480"/>
          </a:xfrm>
        </p:grpSpPr>
        <p:sp>
          <p:nvSpPr>
            <p:cNvPr id="57" name="Rectangle 3"/>
            <p:cNvSpPr/>
            <p:nvPr/>
          </p:nvSpPr>
          <p:spPr>
            <a:xfrm>
              <a:off x="785520" y="3379680"/>
              <a:ext cx="2357640" cy="484884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هي الخدمات والتسهيلات التي تأتي أهميتها من كونها الوسائل والاساليب التي تسهل للسياح ان يتلمسوا العنصرين الرئيسيين (الطبيعية والبشرية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-678960" y="2786040"/>
              <a:ext cx="5415840" cy="52056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Calibri"/>
                </a:rPr>
                <a:t>المقومات المساعدة والتكميلي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" name="Picture 2" descr="D:\محاضرات 30 إسبوع اقتصاديات السياحة\صور درس الاقتصاد السياحي\27.jpg"/>
          <p:cNvPicPr/>
          <p:nvPr/>
        </p:nvPicPr>
        <p:blipFill>
          <a:blip r:embed="rId2"/>
          <a:stretch/>
        </p:blipFill>
        <p:spPr>
          <a:xfrm>
            <a:off x="5772240" y="1785960"/>
            <a:ext cx="305424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:\محاضرات 30 إسبوع اقتصاديات السياحة\صور درس الاقتصاد السياحي\34.jpg"/>
          <p:cNvPicPr/>
          <p:nvPr/>
        </p:nvPicPr>
        <p:blipFill>
          <a:blip r:embed="rId3"/>
          <a:stretch/>
        </p:blipFill>
        <p:spPr>
          <a:xfrm>
            <a:off x="5784840" y="4211640"/>
            <a:ext cx="3035160" cy="24336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2"/>
          <p:cNvSpPr/>
          <p:nvPr/>
        </p:nvSpPr>
        <p:spPr>
          <a:xfrm>
            <a:off x="89233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89233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3920" y="274680"/>
            <a:ext cx="8472600" cy="939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Calibri"/>
                <a:cs typeface="Arial"/>
              </a:rPr>
              <a:t>ثالثاً : مكونات أو مقومات العرض السياح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5573160" y="1714680"/>
            <a:ext cx="3909960" cy="3016440"/>
            <a:chOff x="5573160" y="1714680"/>
            <a:chExt cx="3909960" cy="3016440"/>
          </a:xfrm>
        </p:grpSpPr>
        <p:sp>
          <p:nvSpPr>
            <p:cNvPr id="65" name="Rectangle 2"/>
            <p:cNvSpPr/>
            <p:nvPr/>
          </p:nvSpPr>
          <p:spPr>
            <a:xfrm>
              <a:off x="5573160" y="1714680"/>
              <a:ext cx="3909960" cy="58140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مقومات الرئيس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5754960" y="3357360"/>
              <a:ext cx="3603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المقومات الطبيعي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المقومات البشري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المقومات المساعد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6157800" y="2500200"/>
              <a:ext cx="2765520" cy="581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ثلاثة مقومات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2594880" y="1714680"/>
            <a:ext cx="3746880" cy="1295640"/>
            <a:chOff x="2594880" y="1714680"/>
            <a:chExt cx="3746880" cy="1295640"/>
          </a:xfrm>
        </p:grpSpPr>
        <p:sp>
          <p:nvSpPr>
            <p:cNvPr id="69" name="Rectangle 3"/>
            <p:cNvSpPr/>
            <p:nvPr/>
          </p:nvSpPr>
          <p:spPr>
            <a:xfrm>
              <a:off x="2594880" y="1714680"/>
              <a:ext cx="3746880" cy="58140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مقومات الفرع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2894040" y="2428920"/>
              <a:ext cx="3175200" cy="581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14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 مقوماً فرعياً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-186840" y="1714680"/>
            <a:ext cx="3466440" cy="1367280"/>
            <a:chOff x="-186840" y="1714680"/>
            <a:chExt cx="3466440" cy="1367280"/>
          </a:xfrm>
        </p:grpSpPr>
        <p:sp>
          <p:nvSpPr>
            <p:cNvPr id="72" name="Rectangle 4"/>
            <p:cNvSpPr/>
            <p:nvPr/>
          </p:nvSpPr>
          <p:spPr>
            <a:xfrm>
              <a:off x="-186840" y="1714680"/>
              <a:ext cx="3466440" cy="58140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مكونات الجزئ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66600" y="2500560"/>
              <a:ext cx="2920680" cy="581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60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 مكوناً جزئياً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42960" y="4071960"/>
            <a:ext cx="5357880" cy="2428920"/>
            <a:chOff x="642960" y="4071960"/>
            <a:chExt cx="5357880" cy="2428920"/>
          </a:xfrm>
        </p:grpSpPr>
        <p:sp>
          <p:nvSpPr>
            <p:cNvPr id="75" name="Down Arrow 13"/>
            <p:cNvSpPr/>
            <p:nvPr/>
          </p:nvSpPr>
          <p:spPr>
            <a:xfrm>
              <a:off x="642960" y="4071960"/>
              <a:ext cx="5357880" cy="24289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14"/>
            <p:cNvSpPr/>
            <p:nvPr/>
          </p:nvSpPr>
          <p:spPr>
            <a:xfrm>
              <a:off x="1592280" y="4714920"/>
              <a:ext cx="323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00"/>
                  </a:solidFill>
                  <a:latin typeface="Calibri"/>
                </a:rPr>
                <a:t>الجدول التالي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85840" y="714240"/>
          <a:ext cx="8572320" cy="5013360"/>
        </p:xfrm>
        <a:graphic>
          <a:graphicData uri="http://schemas.openxmlformats.org/drawingml/2006/table">
            <a:tbl>
              <a:tblPr/>
              <a:tblGrid>
                <a:gridCol w="5275080"/>
                <a:gridCol w="2156040"/>
                <a:gridCol w="1141200"/>
              </a:tblGrid>
              <a:tr h="946440">
                <a:tc>
                  <a:txBody>
                    <a:bodyPr lIns="57960" rIns="579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800" spc="-1" strike="noStrike">
                          <a:solidFill>
                            <a:srgbClr val="ffff00"/>
                          </a:solidFill>
                          <a:latin typeface="Calibri"/>
                          <a:cs typeface="Calibri"/>
                        </a:rPr>
                        <a:t>المكونات الجزئية للمقومات الفرع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800" spc="-1" strike="noStrike">
                          <a:solidFill>
                            <a:srgbClr val="ffff00"/>
                          </a:solidFill>
                          <a:latin typeface="Calibri"/>
                          <a:cs typeface="Calibri"/>
                        </a:rPr>
                        <a:t>المقومات الفرع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800" spc="-1" strike="noStrike">
                          <a:solidFill>
                            <a:srgbClr val="ffff00"/>
                          </a:solidFill>
                          <a:latin typeface="Calibri"/>
                          <a:cs typeface="Calibri"/>
                        </a:rPr>
                        <a:t>المقومات الرئيس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224360">
                <a:tc>
                  <a:txBody>
                    <a:bodyPr lIns="57960" rIns="57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وقع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ساح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سمات السطحي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شكل العام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فروقات الحراري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أمطار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ثلوج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جوفي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أنهر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بحيرات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ساقط المائي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غابات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بساتين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حيوانات الصيد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طيور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أسماك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مطور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غير مطو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ارض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ناخ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ياه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غطاء النباتي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حياة البرية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مناطق الجمال الطبيعي الفريد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قومات الطبيع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224360">
                <a:tc>
                  <a:txBody>
                    <a:bodyPr lIns="57960" rIns="57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إعداد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سمات والملامح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رغب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أعداد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مستوى المهار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مراكز التعليم المتخصص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إستعداد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ود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إستغلال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أمان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9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آثار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تأريخ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فلكلور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راقد الديني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ناسبات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واسم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هرجانات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مراكز العلم والمعرف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سكان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عمالة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ضيافة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تراث والثروة الثقافية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سمات المعاصرة والحداث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قومات البشر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203560">
                <a:tc>
                  <a:txBody>
                    <a:bodyPr lIns="57960" rIns="57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إمكانية الوصول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سبل التنقل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مرافق الخدمات العام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إيواء الفردي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إيواء الجماعي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إطعام والشراب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تسلية واللهو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ترويح والرياض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رعاية الصحية – الإستشفائي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صحافة المتخصص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وكالات المتخصص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غرف التجار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9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هيئات السياحة الرسمي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وكالات السفر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1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منظمي الرحلات الشامل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2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نوادي السفر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3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جمعيات الشبابي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4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مراكز الإرشاد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5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عارف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6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سقفات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7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لوحات الدلال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8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محطات الإستراح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9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ماشي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أدلاء والمرشدين السياحيي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رافق والخدمات العامة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رافق والخدمات المتخصصة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رافق والخدمات الوسيطة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قومات المساعد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900" spc="-1" strike="noStrike">
                <a:solidFill>
                  <a:srgbClr val="c00000"/>
                </a:solidFill>
                <a:latin typeface="Calibri"/>
                <a:cs typeface="Arial"/>
              </a:rPr>
              <a:t>يوضح الجدول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700" spc="-1" strike="noStrike">
                <a:solidFill>
                  <a:srgbClr val="000000"/>
                </a:solidFill>
                <a:latin typeface="Calibri"/>
              </a:rPr>
              <a:t>لا تحتوي منطقة معينة على جميع المقومات الفرعية ... </a:t>
            </a:r>
            <a:r>
              <a:rPr b="1" lang="ar-IQ" sz="2700" spc="-1" strike="noStrike">
                <a:solidFill>
                  <a:srgbClr val="0000ff"/>
                </a:solidFill>
                <a:latin typeface="Calibri"/>
              </a:rPr>
              <a:t>كلما إزدادت المقومات الفرعية فيها إرتفع مستوى الجذب السياحي بها</a:t>
            </a:r>
            <a:r>
              <a:rPr b="1" lang="ar-IQ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700" spc="-1" strike="noStrike">
                <a:solidFill>
                  <a:srgbClr val="000000"/>
                </a:solidFill>
                <a:latin typeface="Calibri"/>
              </a:rPr>
              <a:t>لا تحتوي منطقة معينة على جميع المكونات الجزئية ... </a:t>
            </a:r>
            <a:r>
              <a:rPr b="1" lang="ar-IQ" sz="2700" spc="-1" strike="noStrike">
                <a:solidFill>
                  <a:srgbClr val="0000ff"/>
                </a:solidFill>
                <a:latin typeface="Calibri"/>
              </a:rPr>
              <a:t>كلما أحتوت على عدد أكبر من المكونات الجزئية كانت القاعدة أوسع وأكبر لنشوء ونمو السياحة فيها</a:t>
            </a:r>
            <a:r>
              <a:rPr b="1" lang="ar-IQ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700" spc="-1" strike="noStrike">
                <a:solidFill>
                  <a:srgbClr val="0000ff"/>
                </a:solidFill>
                <a:latin typeface="Calibri"/>
              </a:rPr>
              <a:t>يجب توافر المقومات الرئيسية </a:t>
            </a:r>
            <a:r>
              <a:rPr b="1" lang="ar-IQ" sz="2700" spc="-1" strike="noStrike">
                <a:solidFill>
                  <a:srgbClr val="000000"/>
                </a:solidFill>
                <a:latin typeface="Calibri"/>
              </a:rPr>
              <a:t>(الطبيعية والبشرية والمساعدة) </a:t>
            </a:r>
            <a:r>
              <a:rPr b="1" lang="ar-IQ" sz="2700" spc="-1" strike="noStrike">
                <a:solidFill>
                  <a:srgbClr val="0000ff"/>
                </a:solidFill>
                <a:latin typeface="Calibri"/>
              </a:rPr>
              <a:t>جميعاً قبل أن تظهر أي فرصة لنشوء ونمو السياحة في تلك المنطقة</a:t>
            </a:r>
            <a:r>
              <a:rPr b="1" lang="ar-IQ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ar-IQ" sz="2700" spc="-1" strike="noStrike">
                <a:solidFill>
                  <a:srgbClr val="c00000"/>
                </a:solidFill>
                <a:latin typeface="Calibri"/>
              </a:rPr>
              <a:t>عدا في بعض الحالات النادرة والضيقة الحدوث والحدود كما في البيئة البرية والطبيعية الأصلية كما في (سياحة البراري)</a:t>
            </a:r>
            <a:r>
              <a:rPr b="1" lang="ar-IQ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700" spc="-1" strike="noStrike">
                <a:solidFill>
                  <a:srgbClr val="0000ff"/>
                </a:solidFill>
                <a:latin typeface="Calibri"/>
              </a:rPr>
              <a:t>الأصالة والإبتكار </a:t>
            </a:r>
            <a:r>
              <a:rPr b="1" lang="ar-IQ" sz="2700" spc="-1" strike="noStrike">
                <a:solidFill>
                  <a:srgbClr val="000000"/>
                </a:solidFill>
                <a:latin typeface="Calibri"/>
              </a:rPr>
              <a:t>لهذه المكونات </a:t>
            </a:r>
            <a:r>
              <a:rPr b="1" lang="ar-IQ" sz="2700" spc="-1" strike="noStrike">
                <a:solidFill>
                  <a:srgbClr val="0000ff"/>
                </a:solidFill>
                <a:latin typeface="Calibri"/>
              </a:rPr>
              <a:t>تشكل إضافة نوعية متميزة </a:t>
            </a:r>
            <a:r>
              <a:rPr b="1" lang="ar-IQ" sz="2700" spc="-1" strike="noStrike">
                <a:solidFill>
                  <a:srgbClr val="000000"/>
                </a:solidFill>
                <a:latin typeface="Calibri"/>
              </a:rPr>
              <a:t>من خلال إيجاد وطرح معالم جديدة للعرض السياحي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3920" y="274680"/>
            <a:ext cx="8472600" cy="939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ffff"/>
                </a:solidFill>
                <a:latin typeface="Calibri"/>
                <a:cs typeface="Arial"/>
              </a:rPr>
              <a:t>رابعاً : </a:t>
            </a:r>
            <a:r>
              <a:rPr b="1" lang="ar-IQ" sz="3200" spc="-1" strike="noStrike">
                <a:solidFill>
                  <a:srgbClr val="ffffff"/>
                </a:solidFill>
                <a:latin typeface="Calibri"/>
                <a:cs typeface="Arial"/>
              </a:rPr>
              <a:t>أهمية العناصر الثلاثة (الطبيعة، البشرية، المساعدة) </a:t>
            </a:r>
            <a:r>
              <a:rPr b="1" lang="ar-IQ" sz="4000" spc="-1" strike="noStrike">
                <a:solidFill>
                  <a:srgbClr val="ffffff"/>
                </a:solidFill>
                <a:latin typeface="Calibri"/>
                <a:ea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oup 11"/>
          <p:cNvGrpSpPr/>
          <p:nvPr/>
        </p:nvGrpSpPr>
        <p:grpSpPr>
          <a:xfrm>
            <a:off x="2857680" y="1428840"/>
            <a:ext cx="5945040" cy="1262520"/>
            <a:chOff x="2857680" y="1428840"/>
            <a:chExt cx="5945040" cy="1262520"/>
          </a:xfrm>
        </p:grpSpPr>
        <p:grpSp>
          <p:nvGrpSpPr>
            <p:cNvPr id="82" name="Rectangle 2"/>
            <p:cNvGrpSpPr/>
            <p:nvPr/>
          </p:nvGrpSpPr>
          <p:grpSpPr>
            <a:xfrm>
              <a:off x="2857680" y="1428840"/>
              <a:ext cx="5329800" cy="1262520"/>
              <a:chOff x="2857680" y="1428840"/>
              <a:chExt cx="5329800" cy="1262520"/>
            </a:xfrm>
          </p:grpSpPr>
          <p:pic>
            <p:nvPicPr>
              <p:cNvPr id="83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2857680" y="1428840"/>
                <a:ext cx="532980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2908440" y="1500120"/>
                <a:ext cx="5051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السمات السطحية والشكل العام :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" name="Rectangle 4"/>
            <p:cNvGrpSpPr/>
            <p:nvPr/>
          </p:nvGrpSpPr>
          <p:grpSpPr>
            <a:xfrm>
              <a:off x="7931880" y="1428840"/>
              <a:ext cx="870840" cy="713880"/>
              <a:chOff x="7931880" y="1428840"/>
              <a:chExt cx="870840" cy="713880"/>
            </a:xfrm>
          </p:grpSpPr>
          <p:pic>
            <p:nvPicPr>
              <p:cNvPr id="86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931880" y="1428840"/>
                <a:ext cx="87084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8141400" y="150012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" name="Group 13"/>
          <p:cNvGrpSpPr/>
          <p:nvPr/>
        </p:nvGrpSpPr>
        <p:grpSpPr>
          <a:xfrm>
            <a:off x="0" y="1428840"/>
            <a:ext cx="4802040" cy="2857320"/>
            <a:chOff x="0" y="1428840"/>
            <a:chExt cx="4802040" cy="2857320"/>
          </a:xfrm>
        </p:grpSpPr>
        <p:pic>
          <p:nvPicPr>
            <p:cNvPr id="89" name="Picture 3" descr="D:\محاضرات 30 إسبوع اقتصاديات السياحة\صور درس الاقتصاد السياحي\24.jpg"/>
            <p:cNvPicPr/>
            <p:nvPr/>
          </p:nvPicPr>
          <p:blipFill>
            <a:blip r:embed="rId3"/>
            <a:stretch/>
          </p:blipFill>
          <p:spPr>
            <a:xfrm>
              <a:off x="0" y="1428840"/>
              <a:ext cx="2704680" cy="16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4" descr="D:\محاضرات 30 إسبوع اقتصاديات السياحة\صور درس الاقتصاد السياحي\26.jpg"/>
            <p:cNvPicPr/>
            <p:nvPr/>
          </p:nvPicPr>
          <p:blipFill>
            <a:blip r:embed="rId4"/>
            <a:stretch/>
          </p:blipFill>
          <p:spPr>
            <a:xfrm>
              <a:off x="2142720" y="2500200"/>
              <a:ext cx="2659320" cy="178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12"/>
          <p:cNvGrpSpPr/>
          <p:nvPr/>
        </p:nvGrpSpPr>
        <p:grpSpPr>
          <a:xfrm>
            <a:off x="4286160" y="2428920"/>
            <a:ext cx="3644280" cy="3457440"/>
            <a:chOff x="4286160" y="2428920"/>
            <a:chExt cx="3644280" cy="3457440"/>
          </a:xfrm>
        </p:grpSpPr>
        <p:sp>
          <p:nvSpPr>
            <p:cNvPr id="92" name="Rectangle 7"/>
            <p:cNvSpPr/>
            <p:nvPr/>
          </p:nvSpPr>
          <p:spPr>
            <a:xfrm>
              <a:off x="4744440" y="2428920"/>
              <a:ext cx="318600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تضاريس الأرض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Picture 5" descr="images.jpg"/>
            <p:cNvPicPr/>
            <p:nvPr/>
          </p:nvPicPr>
          <p:blipFill>
            <a:blip r:embed="rId5"/>
            <a:stretch/>
          </p:blipFill>
          <p:spPr>
            <a:xfrm>
              <a:off x="4286160" y="4071600"/>
              <a:ext cx="2423880" cy="181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14"/>
          <p:cNvGrpSpPr/>
          <p:nvPr/>
        </p:nvGrpSpPr>
        <p:grpSpPr>
          <a:xfrm>
            <a:off x="214200" y="3429000"/>
            <a:ext cx="8491680" cy="2482920"/>
            <a:chOff x="214200" y="3429000"/>
            <a:chExt cx="8491680" cy="2482920"/>
          </a:xfrm>
        </p:grpSpPr>
        <p:pic>
          <p:nvPicPr>
            <p:cNvPr id="95" name="Picture 6" descr="ima1ges.jpg"/>
            <p:cNvPicPr/>
            <p:nvPr/>
          </p:nvPicPr>
          <p:blipFill>
            <a:blip r:embed="rId6"/>
            <a:srcRect l="7196" t="0" r="0" b="6721"/>
            <a:stretch/>
          </p:blipFill>
          <p:spPr>
            <a:xfrm>
              <a:off x="214200" y="3929040"/>
              <a:ext cx="2642760" cy="19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5" descr="D:\محاضرات 30 إسبوع اقتصاديات السياحة\صور درس الاقتصاد السياحي\56.jpg"/>
            <p:cNvPicPr/>
            <p:nvPr/>
          </p:nvPicPr>
          <p:blipFill>
            <a:blip r:embed="rId7"/>
            <a:stretch/>
          </p:blipFill>
          <p:spPr>
            <a:xfrm>
              <a:off x="6428880" y="3429000"/>
              <a:ext cx="2277000" cy="171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5"/>
          <p:cNvGrpSpPr/>
          <p:nvPr/>
        </p:nvGrpSpPr>
        <p:grpSpPr>
          <a:xfrm>
            <a:off x="4000680" y="357120"/>
            <a:ext cx="4873320" cy="1263600"/>
            <a:chOff x="4000680" y="357120"/>
            <a:chExt cx="4873320" cy="1263600"/>
          </a:xfrm>
        </p:grpSpPr>
        <p:grpSp>
          <p:nvGrpSpPr>
            <p:cNvPr id="98" name="Rectangle 3"/>
            <p:cNvGrpSpPr/>
            <p:nvPr/>
          </p:nvGrpSpPr>
          <p:grpSpPr>
            <a:xfrm>
              <a:off x="4000680" y="357120"/>
              <a:ext cx="4230720" cy="1263600"/>
              <a:chOff x="4000680" y="357120"/>
              <a:chExt cx="4230720" cy="1263600"/>
            </a:xfrm>
          </p:grpSpPr>
          <p:pic>
            <p:nvPicPr>
              <p:cNvPr id="99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4000680" y="357120"/>
                <a:ext cx="42307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4053600" y="429480"/>
                <a:ext cx="39574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مناطق الجمال الطبيعي :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Rectangle 4"/>
            <p:cNvGrpSpPr/>
            <p:nvPr/>
          </p:nvGrpSpPr>
          <p:grpSpPr>
            <a:xfrm>
              <a:off x="8007480" y="357120"/>
              <a:ext cx="866520" cy="714960"/>
              <a:chOff x="8007480" y="357120"/>
              <a:chExt cx="866520" cy="714960"/>
            </a:xfrm>
          </p:grpSpPr>
          <p:pic>
            <p:nvPicPr>
              <p:cNvPr id="102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8007480" y="357120"/>
                <a:ext cx="866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8206200" y="4294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" name="Group 8"/>
          <p:cNvGrpSpPr/>
          <p:nvPr/>
        </p:nvGrpSpPr>
        <p:grpSpPr>
          <a:xfrm>
            <a:off x="285840" y="214200"/>
            <a:ext cx="4071960" cy="5074200"/>
            <a:chOff x="285840" y="214200"/>
            <a:chExt cx="4071960" cy="5074200"/>
          </a:xfrm>
        </p:grpSpPr>
        <p:sp>
          <p:nvSpPr>
            <p:cNvPr id="105" name="Left Arrow 6"/>
            <p:cNvSpPr/>
            <p:nvPr/>
          </p:nvSpPr>
          <p:spPr>
            <a:xfrm>
              <a:off x="3143520" y="214200"/>
              <a:ext cx="1214280" cy="42148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285840" y="928440"/>
              <a:ext cx="267768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قمم الجبال التي يكسوها الجليد في الصيف، المغارات الطبيعية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6600"/>
                  </a:solidFill>
                  <a:latin typeface="Calibri"/>
                </a:rPr>
                <a:t>المستنقعات والغابات الكثيفة وغيرها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4071960" y="1499760"/>
            <a:ext cx="4114800" cy="1257480"/>
          </a:xfrm>
          <a:prstGeom prst="rect">
            <a:avLst/>
          </a:prstGeom>
          <a:solidFill>
            <a:srgbClr val="ffffff"/>
          </a:solidFill>
          <a:ln w="57240">
            <a:solidFill>
              <a:srgbClr val="c0504d"/>
            </a:solidFill>
            <a:miter/>
          </a:ln>
        </p:spPr>
        <p:txBody>
          <a:bodyPr anchor="t">
            <a:normAutofit fontScale="78000"/>
          </a:bodyPr>
          <a:p>
            <a:pPr marL="267480" indent="-267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000000"/>
                </a:solidFill>
                <a:latin typeface="Calibri"/>
              </a:rPr>
              <a:t>طبيعة مميزة لمنطقة م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000000"/>
                </a:solidFill>
                <a:latin typeface="Calibri"/>
              </a:rPr>
              <a:t>فريدة في التكوين والس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Group 11"/>
          <p:cNvGrpSpPr/>
          <p:nvPr/>
        </p:nvGrpSpPr>
        <p:grpSpPr>
          <a:xfrm>
            <a:off x="214200" y="3214800"/>
            <a:ext cx="8543880" cy="3357360"/>
            <a:chOff x="214200" y="3214800"/>
            <a:chExt cx="8543880" cy="3357360"/>
          </a:xfrm>
        </p:grpSpPr>
        <p:sp>
          <p:nvSpPr>
            <p:cNvPr id="109" name="Down Arrow 9"/>
            <p:cNvSpPr/>
            <p:nvPr/>
          </p:nvSpPr>
          <p:spPr>
            <a:xfrm>
              <a:off x="4071960" y="3214800"/>
              <a:ext cx="4572000" cy="14284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tent Placeholder 2"/>
            <p:cNvSpPr/>
            <p:nvPr/>
          </p:nvSpPr>
          <p:spPr>
            <a:xfrm>
              <a:off x="214200" y="4714920"/>
              <a:ext cx="8543880" cy="18572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r" rtl="1">
                <a:lnSpc>
                  <a:spcPct val="90000"/>
                </a:lnSpc>
                <a:spcBef>
                  <a:spcPts val="751"/>
                </a:spcBef>
                <a:buClr>
                  <a:srgbClr val="00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000" spc="-1" strike="noStrike">
                  <a:solidFill>
                    <a:srgbClr val="006600"/>
                  </a:solidFill>
                  <a:latin typeface="Calibri"/>
                </a:rPr>
                <a:t>المستغلة من قبل الإنسان والمطورة </a:t>
              </a:r>
              <a:r>
                <a:rPr b="1" lang="ar-IQ" sz="3000" spc="-1" strike="noStrike">
                  <a:solidFill>
                    <a:srgbClr val="000000"/>
                  </a:solidFill>
                  <a:latin typeface="Calibri"/>
                </a:rPr>
                <a:t>... تستغل تجاراياً ... وشكلت عرضاً سياحياً متميزاً وأساساً لمشاريع تنموية كبيرة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r" rtl="1">
                <a:lnSpc>
                  <a:spcPct val="90000"/>
                </a:lnSpc>
                <a:spcBef>
                  <a:spcPts val="751"/>
                </a:spcBef>
                <a:buClr>
                  <a:srgbClr val="00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000" spc="-1" strike="noStrike">
                  <a:solidFill>
                    <a:srgbClr val="006600"/>
                  </a:solidFill>
                  <a:latin typeface="Calibri"/>
                </a:rPr>
                <a:t>غير المستغلة </a:t>
              </a:r>
              <a:r>
                <a:rPr b="1" lang="ar-IQ" sz="3000" spc="-1" strike="noStrike">
                  <a:solidFill>
                    <a:srgbClr val="000000"/>
                  </a:solidFill>
                  <a:latin typeface="Calibri"/>
                </a:rPr>
                <a:t>(هي الأخرى) موقع متميز وفريد للسياح الباحثين عن البيئة الطبيعية الأصلية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Rectangle 3"/>
          <p:cNvGrpSpPr/>
          <p:nvPr/>
        </p:nvGrpSpPr>
        <p:grpSpPr>
          <a:xfrm>
            <a:off x="4157640" y="237960"/>
            <a:ext cx="4309920" cy="1067040"/>
            <a:chOff x="4157640" y="237960"/>
            <a:chExt cx="4309920" cy="1067040"/>
          </a:xfrm>
        </p:grpSpPr>
        <p:pic>
          <p:nvPicPr>
            <p:cNvPr id="112" name="Rectangle 3" descr=""/>
            <p:cNvPicPr/>
            <p:nvPr/>
          </p:nvPicPr>
          <p:blipFill>
            <a:blip r:embed="rId1"/>
            <a:stretch/>
          </p:blipFill>
          <p:spPr>
            <a:xfrm>
              <a:off x="4157640" y="237960"/>
              <a:ext cx="430992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214880" y="357120"/>
              <a:ext cx="401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العمالة :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Rectangle 4"/>
          <p:cNvGrpSpPr/>
          <p:nvPr/>
        </p:nvGrpSpPr>
        <p:grpSpPr>
          <a:xfrm>
            <a:off x="8205840" y="237960"/>
            <a:ext cx="914400" cy="1067040"/>
            <a:chOff x="8205840" y="237960"/>
            <a:chExt cx="914400" cy="1067040"/>
          </a:xfrm>
        </p:grpSpPr>
        <p:pic>
          <p:nvPicPr>
            <p:cNvPr id="115" name="Rectangle 4" descr=""/>
            <p:cNvPicPr/>
            <p:nvPr/>
          </p:nvPicPr>
          <p:blipFill>
            <a:blip r:embed="rId2"/>
            <a:stretch/>
          </p:blipFill>
          <p:spPr>
            <a:xfrm>
              <a:off x="8205840" y="237960"/>
              <a:ext cx="914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434080" y="3571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Rectangle 5"/>
          <p:cNvSpPr/>
          <p:nvPr/>
        </p:nvSpPr>
        <p:spPr>
          <a:xfrm>
            <a:off x="857160" y="1428840"/>
            <a:ext cx="762012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6600"/>
                </a:solidFill>
                <a:latin typeface="Calibri"/>
              </a:rPr>
              <a:t>السياحة</a:t>
            </a: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  ...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خدمات وتسهيلات </a:t>
            </a: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لا يستطيع تقديمها غير الإنسان (العامل) لتحقيق رغبات إنسان آخر (السائح) وإشباع حاجات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Group 9"/>
          <p:cNvGrpSpPr/>
          <p:nvPr/>
        </p:nvGrpSpPr>
        <p:grpSpPr>
          <a:xfrm>
            <a:off x="4170240" y="2637000"/>
            <a:ext cx="3804120" cy="520560"/>
            <a:chOff x="4170240" y="2637000"/>
            <a:chExt cx="3804120" cy="520560"/>
          </a:xfrm>
        </p:grpSpPr>
        <p:sp>
          <p:nvSpPr>
            <p:cNvPr id="119" name="Rectangle 6"/>
            <p:cNvSpPr/>
            <p:nvPr/>
          </p:nvSpPr>
          <p:spPr>
            <a:xfrm>
              <a:off x="6742080" y="2637000"/>
              <a:ext cx="1232280" cy="5205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إنسا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7"/>
            <p:cNvSpPr/>
            <p:nvPr/>
          </p:nvSpPr>
          <p:spPr>
            <a:xfrm>
              <a:off x="4170240" y="2637000"/>
              <a:ext cx="1232280" cy="5205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إنسا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Left Arrow 8"/>
            <p:cNvSpPr/>
            <p:nvPr/>
          </p:nvSpPr>
          <p:spPr>
            <a:xfrm>
              <a:off x="5286240" y="2708280"/>
              <a:ext cx="1571760" cy="357120"/>
            </a:xfrm>
            <a:prstGeom prst="leftArrow">
              <a:avLst>
                <a:gd name="adj1" fmla="val 50000"/>
                <a:gd name="adj2" fmla="val 4994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19"/>
          <p:cNvGrpSpPr/>
          <p:nvPr/>
        </p:nvGrpSpPr>
        <p:grpSpPr>
          <a:xfrm>
            <a:off x="4225320" y="3429000"/>
            <a:ext cx="3720240" cy="520560"/>
            <a:chOff x="4225320" y="3429000"/>
            <a:chExt cx="3720240" cy="520560"/>
          </a:xfrm>
        </p:grpSpPr>
        <p:sp>
          <p:nvSpPr>
            <p:cNvPr id="123" name="Rectangle 10"/>
            <p:cNvSpPr/>
            <p:nvPr/>
          </p:nvSpPr>
          <p:spPr>
            <a:xfrm>
              <a:off x="6853320" y="3429000"/>
              <a:ext cx="1092240" cy="5205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عامل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11"/>
            <p:cNvSpPr/>
            <p:nvPr/>
          </p:nvSpPr>
          <p:spPr>
            <a:xfrm>
              <a:off x="4225320" y="3429000"/>
              <a:ext cx="1050840" cy="5205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سائح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eft Arrow 12"/>
            <p:cNvSpPr/>
            <p:nvPr/>
          </p:nvSpPr>
          <p:spPr>
            <a:xfrm>
              <a:off x="5213520" y="3500280"/>
              <a:ext cx="1571760" cy="357120"/>
            </a:xfrm>
            <a:prstGeom prst="leftArrow">
              <a:avLst>
                <a:gd name="adj1" fmla="val 50000"/>
                <a:gd name="adj2" fmla="val 4994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20"/>
          <p:cNvGrpSpPr/>
          <p:nvPr/>
        </p:nvGrpSpPr>
        <p:grpSpPr>
          <a:xfrm>
            <a:off x="2545920" y="4149720"/>
            <a:ext cx="6196320" cy="591840"/>
            <a:chOff x="2545920" y="4149720"/>
            <a:chExt cx="6196320" cy="591840"/>
          </a:xfrm>
        </p:grpSpPr>
        <p:sp>
          <p:nvSpPr>
            <p:cNvPr id="127" name="Rectangle 16"/>
            <p:cNvSpPr/>
            <p:nvPr/>
          </p:nvSpPr>
          <p:spPr>
            <a:xfrm>
              <a:off x="6455520" y="4221000"/>
              <a:ext cx="2286720" cy="5205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منتج سياحي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17"/>
            <p:cNvSpPr/>
            <p:nvPr/>
          </p:nvSpPr>
          <p:spPr>
            <a:xfrm>
              <a:off x="2545920" y="4149720"/>
              <a:ext cx="2975760" cy="5205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مستهلك المنتوج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eft Arrow 18"/>
            <p:cNvSpPr/>
            <p:nvPr/>
          </p:nvSpPr>
          <p:spPr>
            <a:xfrm>
              <a:off x="5143320" y="4292640"/>
              <a:ext cx="1571760" cy="357120"/>
            </a:xfrm>
            <a:prstGeom prst="leftArrow">
              <a:avLst>
                <a:gd name="adj1" fmla="val 50000"/>
                <a:gd name="adj2" fmla="val 50084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Rectangle 21"/>
          <p:cNvSpPr/>
          <p:nvPr/>
        </p:nvSpPr>
        <p:spPr>
          <a:xfrm>
            <a:off x="500040" y="4797360"/>
            <a:ext cx="7997760" cy="1373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نجاح المشاريع التنموية السياحية واستمرارها يعتمد الى حد كبير على النجاح في تكوين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القوى البشرية العاملة </a:t>
            </a: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في هذه المشاري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Rectangle 3"/>
          <p:cNvGrpSpPr/>
          <p:nvPr/>
        </p:nvGrpSpPr>
        <p:grpSpPr>
          <a:xfrm>
            <a:off x="3865680" y="5900760"/>
            <a:ext cx="4308480" cy="1066680"/>
            <a:chOff x="3865680" y="5900760"/>
            <a:chExt cx="4308480" cy="1066680"/>
          </a:xfrm>
        </p:grpSpPr>
        <p:pic>
          <p:nvPicPr>
            <p:cNvPr id="132" name="Rectangle 3" descr=""/>
            <p:cNvPicPr/>
            <p:nvPr/>
          </p:nvPicPr>
          <p:blipFill>
            <a:blip r:embed="rId3"/>
            <a:stretch/>
          </p:blipFill>
          <p:spPr>
            <a:xfrm>
              <a:off x="3865680" y="5900760"/>
              <a:ext cx="43084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921120" y="6021360"/>
              <a:ext cx="401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روح الضياف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Rectangle 4"/>
          <p:cNvGrpSpPr/>
          <p:nvPr/>
        </p:nvGrpSpPr>
        <p:grpSpPr>
          <a:xfrm>
            <a:off x="7905600" y="5900760"/>
            <a:ext cx="920880" cy="1066680"/>
            <a:chOff x="7905600" y="5900760"/>
            <a:chExt cx="920880" cy="1066680"/>
          </a:xfrm>
        </p:grpSpPr>
        <p:pic>
          <p:nvPicPr>
            <p:cNvPr id="135" name="Rectangle 4" descr=""/>
            <p:cNvPicPr/>
            <p:nvPr/>
          </p:nvPicPr>
          <p:blipFill>
            <a:blip r:embed="rId4"/>
            <a:stretch/>
          </p:blipFill>
          <p:spPr>
            <a:xfrm>
              <a:off x="7905600" y="5900760"/>
              <a:ext cx="9208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140680" y="60213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09:56:44Z</dcterms:created>
  <dc:creator>Lenovo</dc:creator>
  <dc:description/>
  <dc:language>en-US</dc:language>
  <cp:lastModifiedBy>مرتضى الكربلائي</cp:lastModifiedBy>
  <dcterms:modified xsi:type="dcterms:W3CDTF">2015-06-09T22:05:39Z</dcterms:modified>
  <cp:revision>13</cp:revision>
  <dc:subject/>
  <dc:title>Slide 1</dc:title>
</cp:coreProperties>
</file>